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28D5-8369-4000-9A71-CB5F27B66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C5F8-00B8-4F2A-8929-4F99A6E5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8DA0-CE47-4A06-A35E-06E9E99C7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5946-9EBF-4BB4-9BE3-E187E2A71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E8F89-3B56-4BA8-9BB0-0132E57BB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6E9DC-D07E-4512-A287-4AE1DD551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EE359-4709-4367-922A-748148F84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42155-23EB-48FA-B346-D1F5AA531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8136A-C514-42DA-B7D1-3B09F3C1C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D6A67-F0BC-4F4E-B0A0-9F90D84C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B37C4-CADC-46D2-95C9-AB129285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96FA-BE2C-49F1-AC53-92A8691EC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386AE-6F72-4D8E-9654-E151CC18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3CE28-C8AB-4CAC-BB6B-FDB16BE3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D6688-1AA8-4714-82D9-B7800EFBA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AB569-1157-4A11-BBCA-5C2B6DAD0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659CB-3506-45BE-959D-025B3A80A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1B2A-5427-4AFC-BABA-73C75737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34C7-F6C4-45D3-995F-169ED7909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8C50-9979-4653-9557-B874DD401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331E-FA50-42DE-8ED2-CE2846FA2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6596-9F76-46A6-BA67-B824EB9C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7345-640D-4917-AB76-D4AC43C4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AA31-0C02-4828-A156-A64F4961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9FFE5-1A9A-47C4-B4E0-2F176880E5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ff00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C86A6-64DB-4600-980C-6AEE9B96A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3"/>
          <p:cNvSpPr txBox="1"/>
          <p:nvPr/>
        </p:nvSpPr>
        <p:spPr>
          <a:xfrm>
            <a:off x="755640" y="1268280"/>
            <a:ext cx="4537080" cy="21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15840">
                  <a:solidFill>
                    <a:srgbClr val="00ff00"/>
                  </a:solidFill>
                  <a:round/>
                </a:ln>
                <a:solidFill>
                  <a:srgbClr val="ff0000"/>
                </a:solidFill>
                <a:latin typeface="华文行楷"/>
              </a:rPr>
              <a:t>老翁捕虎</a:t>
            </a:r>
            <a:endParaRPr b="1" lang="en-US" sz="3600" spc="1" strike="noStrike">
              <a:ln w="15840">
                <a:solidFill>
                  <a:srgbClr val="00ff00"/>
                </a:solidFill>
                <a:round/>
              </a:ln>
              <a:solidFill>
                <a:srgbClr val="ff0000"/>
              </a:solidFill>
              <a:latin typeface="华文行楷"/>
              <a:ea typeface="华文行楷"/>
            </a:endParaRPr>
          </a:p>
        </p:txBody>
      </p:sp>
      <p:sp>
        <p:nvSpPr>
          <p:cNvPr id="87" name="WordArt 4"/>
          <p:cNvSpPr txBox="1"/>
          <p:nvPr/>
        </p:nvSpPr>
        <p:spPr>
          <a:xfrm>
            <a:off x="2303640" y="3208320"/>
            <a:ext cx="1441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隶书"/>
              </a:rPr>
              <a:t>纪昀</a:t>
            </a:r>
            <a:endParaRPr b="1" lang="en-US" sz="3600" spc="-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88" name="Picture 6" descr="虎0"/>
          <p:cNvPicPr/>
          <p:nvPr/>
        </p:nvPicPr>
        <p:blipFill>
          <a:blip r:embed="rId1"/>
          <a:stretch/>
        </p:blipFill>
        <p:spPr>
          <a:xfrm>
            <a:off x="5556240" y="836640"/>
            <a:ext cx="3384720" cy="53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600" spc="-1" strike="noStrike">
                <a:solidFill>
                  <a:srgbClr val="006633"/>
                </a:solidFill>
                <a:latin typeface="Garamond"/>
              </a:rPr>
              <a:t>课下作业：</a:t>
            </a:r>
            <a:endParaRPr b="0" lang="en-US" sz="5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4" name="WordArt 4" descr=""/>
          <p:cNvPicPr/>
          <p:nvPr/>
        </p:nvPicPr>
        <p:blipFill>
          <a:blip r:embed="rId1"/>
          <a:stretch/>
        </p:blipFill>
        <p:spPr>
          <a:xfrm>
            <a:off x="1258920" y="1844640"/>
            <a:ext cx="7093080" cy="17542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1476360" y="4292640"/>
            <a:ext cx="138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事件</a:t>
            </a:r>
            <a:endParaRPr b="1" lang="en-US" sz="48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3203640" y="4365720"/>
            <a:ext cx="158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类似事件</a:t>
            </a:r>
            <a:endParaRPr b="1" lang="en-US" sz="48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867280" y="4292640"/>
            <a:ext cx="259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道理（感悟）</a:t>
            </a:r>
            <a:endParaRPr b="1" lang="en-US" sz="48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2556000" y="4869000"/>
            <a:ext cx="576000" cy="287280"/>
          </a:xfrm>
          <a:prstGeom prst="rightArrow">
            <a:avLst>
              <a:gd name="adj1" fmla="val 50000"/>
              <a:gd name="adj2" fmla="val 50116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4859280" y="5013360"/>
            <a:ext cx="576360" cy="287280"/>
          </a:xfrm>
          <a:prstGeom prst="rightArrow">
            <a:avLst>
              <a:gd name="adj1" fmla="val 50000"/>
              <a:gd name="adj2" fmla="val 5014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140" name="WordArt 10"/>
          <p:cNvSpPr txBox="1"/>
          <p:nvPr/>
        </p:nvSpPr>
        <p:spPr>
          <a:xfrm>
            <a:off x="684360" y="3429000"/>
            <a:ext cx="1008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提示：</a:t>
            </a:r>
            <a:endParaRPr b="1" lang="en-US" sz="20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800" spc="-1" strike="noStrike">
                <a:solidFill>
                  <a:srgbClr val="006633"/>
                </a:solidFill>
                <a:latin typeface="Garamond"/>
              </a:rPr>
              <a:t>学习目标：</a:t>
            </a:r>
            <a:endParaRPr b="0" lang="en-US" sz="6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学习目标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了解文学常识，积累文言字词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理解课文内容，体会文中所表达的思想感情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学习重点、难点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、体会文中所表达的思想感情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、领会一切技巧皆从“习“中来的道理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说明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老翁捕虎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是一篇精彩的笔记小说。课文通过记叙“唐打猎”祖孙俩不费太大力气就制服一只凶猛老虎的经过，反映了劳动人民的正直、淳朴和智慧，说明一切技艺皆从“习”中得来的道理。通过对它的学习，让学生逐步接触、了解我国古代的优秀文化，引起学生学习古代诗文的兴趣；同时也使学生感受到古代文学作品的美，初步了解我国古代文学取得的辉煌成就。针对初一学生学习文言文的特点，特将学习目标定位于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了解文学常识，积累文言字词，理解课文大意，明白一切技艺皆从“习”中得来的道理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8"/>
          <p:cNvSpPr/>
          <p:nvPr/>
        </p:nvSpPr>
        <p:spPr>
          <a:xfrm>
            <a:off x="1476360" y="342900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Garamond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Garamond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Garamond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Garamond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Garamond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Garamond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Garamond"/>
              </a:rPr>
              <a:t>www.1ppt.com/hangye/ </a:t>
            </a:r>
            <a:endParaRPr b="1" lang="en-US" sz="100" spc="-1" strike="noStrike">
              <a:solidFill>
                <a:srgbClr val="ff00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Garamond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Garamond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Garamond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Garamond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Garamond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Garamond"/>
              </a:rPr>
              <a:t>www.1ppt.com/sucai/</a:t>
            </a:r>
            <a:endParaRPr b="1" lang="en-US" sz="100" spc="-1" strike="noStrike">
              <a:solidFill>
                <a:srgbClr val="ff00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Garamond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Garamond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Garamond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Garamond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Garamond"/>
              </a:rPr>
              <a:t>www.1ppt.com/tubiao/      </a:t>
            </a:r>
            <a:endParaRPr b="1" lang="en-US" sz="100" spc="-1" strike="noStrike">
              <a:solidFill>
                <a:srgbClr val="ff00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Garamond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Garamond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Garamond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Garamond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Garamond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Garamond"/>
              </a:rPr>
              <a:t>www.1ppt.com/powerpoint/      </a:t>
            </a:r>
            <a:endParaRPr b="1" lang="en-US" sz="100" spc="-1" strike="noStrike">
              <a:solidFill>
                <a:srgbClr val="ff00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Garamond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Garamond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Garamond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Garamond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Garamond"/>
              </a:rPr>
              <a:t>www.1ppt.com/excel/  </a:t>
            </a:r>
            <a:endParaRPr b="1" lang="en-US" sz="100" spc="-1" strike="noStrike">
              <a:solidFill>
                <a:srgbClr val="ff00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Garamond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Garamond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Garamond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Garamond"/>
              </a:rPr>
              <a:t>www.1ppt.com/kejian/ </a:t>
            </a:r>
            <a:endParaRPr b="1" lang="en-US" sz="100" spc="-1" strike="noStrike">
              <a:solidFill>
                <a:srgbClr val="ff00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Garamond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Garamond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Garamond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Garamond"/>
              </a:rPr>
              <a:t>www.1ppt.com/shiti/  </a:t>
            </a:r>
            <a:endParaRPr b="1" lang="en-US" sz="100" spc="-1" strike="noStrike">
              <a:solidFill>
                <a:srgbClr val="ff00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Garamond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Garamond"/>
              </a:rPr>
              <a:t>www.1ppt.com/jiaoan/  </a:t>
            </a:r>
            <a:endParaRPr b="1" lang="en-US" sz="100" spc="-1" strike="noStrike">
              <a:solidFill>
                <a:srgbClr val="ff00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1" lang="en-US" sz="1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3635280" y="3984120"/>
            <a:ext cx="511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纪昀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724-180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，清代学者、文学家，字晓岚，一字春帆，乾隆年间进士，官到礼部尚书、协办大学士，谥文达。晚年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阅微草堂笔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全书着重宣传封建道德及因果报应，且议论说教过多，但文字质朴简明，涉猎面广，多方面表现了作者的学问和见解。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纪文达公遗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800" spc="-1" strike="noStrike">
              <a:solidFill>
                <a:srgbClr val="ff00ff"/>
              </a:solidFill>
              <a:latin typeface="Garamond"/>
            </a:endParaRPr>
          </a:p>
        </p:txBody>
      </p:sp>
      <p:pic>
        <p:nvPicPr>
          <p:cNvPr id="94" name="Picture 4" descr="纪晓岚（1724～1805年）"/>
          <p:cNvPicPr/>
          <p:nvPr/>
        </p:nvPicPr>
        <p:blipFill>
          <a:blip r:embed="rId1"/>
          <a:stretch/>
        </p:blipFill>
        <p:spPr>
          <a:xfrm>
            <a:off x="179280" y="2492280"/>
            <a:ext cx="3494160" cy="40323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611280" y="1773360"/>
            <a:ext cx="33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作者简介</a:t>
            </a:r>
            <a:endParaRPr b="1" lang="en-US" sz="48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2484360" y="262080"/>
            <a:ext cx="3024360" cy="934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2843280" y="404640"/>
            <a:ext cx="23032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学法点击</a:t>
            </a:r>
            <a:endParaRPr b="1" lang="en-US" sz="40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95280" y="1197000"/>
            <a:ext cx="8353440" cy="58140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认读课文：了解文学常识， 积累文言字词。</a:t>
            </a:r>
            <a:endParaRPr b="1" lang="en-US" sz="3200" spc="-1" strike="noStrike">
              <a:solidFill>
                <a:srgbClr val="ff00ff"/>
              </a:solidFill>
              <a:latin typeface="Garamond"/>
            </a:endParaRPr>
          </a:p>
        </p:txBody>
      </p:sp>
    </p:spTree>
  </p:cSld>
  <p:transition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5"/>
          <p:cNvSpPr/>
          <p:nvPr/>
        </p:nvSpPr>
        <p:spPr>
          <a:xfrm>
            <a:off x="539640" y="1293840"/>
            <a:ext cx="7921800" cy="28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旌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德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邑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人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徽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州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皓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然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咯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咯</a:t>
            </a:r>
            <a:endParaRPr b="1" lang="en-US" sz="2800" spc="-1" strike="noStrike">
              <a:solidFill>
                <a:srgbClr val="ff00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嗽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哂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此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畜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屹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立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颔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下</a:t>
            </a:r>
            <a:endParaRPr b="1" lang="en-US" sz="2800" spc="-1" strike="noStrike">
              <a:solidFill>
                <a:srgbClr val="ff00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闾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毛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缒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 　 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夫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 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嗣彪</a:t>
            </a:r>
            <a:endParaRPr b="1" lang="en-US" sz="2800" spc="-1" strike="noStrike">
              <a:solidFill>
                <a:srgbClr val="ff00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秉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烛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励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恪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公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谬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巧</a:t>
            </a:r>
            <a:endParaRPr b="1" lang="en-US" sz="2800" spc="-1" strike="noStrike">
              <a:solidFill>
                <a:srgbClr val="ff00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18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468360" y="9651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jīng</a:t>
            </a:r>
            <a:endParaRPr b="1" lang="en-US" sz="28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2340000" y="9651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yì</a:t>
            </a:r>
            <a:endParaRPr b="1" lang="en-US" sz="28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564000" y="94932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huī</a:t>
            </a:r>
            <a:endParaRPr b="1" lang="en-US" sz="28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5365800" y="89208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hào</a:t>
            </a:r>
            <a:endParaRPr b="1" lang="en-US" sz="28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7021440" y="89208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kǎ </a:t>
            </a:r>
            <a:endParaRPr b="1" lang="en-US" sz="28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541440" y="161460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sòu</a:t>
            </a:r>
            <a:endParaRPr b="1" lang="en-US" sz="28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2341440" y="161460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shěn</a:t>
            </a:r>
            <a:endParaRPr b="1" lang="en-US" sz="28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4067280" y="161460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chù</a:t>
            </a:r>
            <a:endParaRPr b="1" lang="en-US" sz="28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5581800" y="161460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yì</a:t>
            </a:r>
            <a:endParaRPr b="1" lang="en-US" sz="28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7093080" y="161460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hàn</a:t>
            </a:r>
            <a:endParaRPr b="1" lang="en-US" sz="28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110" name="Text Box 17"/>
          <p:cNvSpPr/>
          <p:nvPr/>
        </p:nvSpPr>
        <p:spPr>
          <a:xfrm>
            <a:off x="901800" y="2262240"/>
            <a:ext cx="93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l</a:t>
            </a:r>
            <a:r>
              <a:rPr b="0" lang="en-US" sz="3600" spc="-1" strike="noStrike">
                <a:solidFill>
                  <a:srgbClr val="ff0000"/>
                </a:solidFill>
                <a:latin typeface="Garamond"/>
              </a:rPr>
              <a:t>ǘ</a:t>
            </a:r>
            <a:endParaRPr b="1" lang="en-US" sz="36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111" name="Text Box 18"/>
          <p:cNvSpPr/>
          <p:nvPr/>
        </p:nvSpPr>
        <p:spPr>
          <a:xfrm>
            <a:off x="2629080" y="218916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zhǒu</a:t>
            </a:r>
            <a:endParaRPr b="1" lang="en-US" sz="28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112" name="Text Box 19"/>
          <p:cNvSpPr/>
          <p:nvPr/>
        </p:nvSpPr>
        <p:spPr>
          <a:xfrm>
            <a:off x="4067280" y="2262240"/>
            <a:ext cx="93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zhuì  </a:t>
            </a:r>
            <a:endParaRPr b="1" lang="en-US" sz="28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113" name="Text Box 20"/>
          <p:cNvSpPr/>
          <p:nvPr/>
        </p:nvSpPr>
        <p:spPr>
          <a:xfrm>
            <a:off x="5942160" y="226224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fú</a:t>
            </a:r>
            <a:endParaRPr b="1" lang="en-US" sz="28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114" name="Text Box 21"/>
          <p:cNvSpPr/>
          <p:nvPr/>
        </p:nvSpPr>
        <p:spPr>
          <a:xfrm>
            <a:off x="7164360" y="292572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sì biāo</a:t>
            </a:r>
            <a:endParaRPr b="1" lang="en-US" sz="28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115" name="Text Box 22"/>
          <p:cNvSpPr/>
          <p:nvPr/>
        </p:nvSpPr>
        <p:spPr>
          <a:xfrm>
            <a:off x="612720" y="290988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bǐng</a:t>
            </a:r>
            <a:endParaRPr b="1" lang="en-US" sz="28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116" name="Text Box 23"/>
          <p:cNvSpPr/>
          <p:nvPr/>
        </p:nvSpPr>
        <p:spPr>
          <a:xfrm>
            <a:off x="3133800" y="28386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kè</a:t>
            </a:r>
            <a:endParaRPr b="1" lang="en-US" sz="28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117" name="Text Box 24"/>
          <p:cNvSpPr/>
          <p:nvPr/>
        </p:nvSpPr>
        <p:spPr>
          <a:xfrm>
            <a:off x="5435640" y="290988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miù</a:t>
            </a:r>
            <a:endParaRPr b="1" lang="en-US" sz="28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118" name="Text Box 28"/>
          <p:cNvSpPr/>
          <p:nvPr/>
        </p:nvSpPr>
        <p:spPr>
          <a:xfrm>
            <a:off x="395280" y="26028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Arial"/>
              </a:rPr>
              <a:t>仔细阅读课文，读准生字字音</a:t>
            </a:r>
            <a:endParaRPr b="1" lang="en-US" sz="40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119" name="Rectangle 29"/>
          <p:cNvSpPr/>
          <p:nvPr/>
        </p:nvSpPr>
        <p:spPr>
          <a:xfrm>
            <a:off x="395280" y="3716280"/>
            <a:ext cx="7561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Garamond"/>
              </a:rPr>
              <a:t>结合课本注释，解释下列词语。</a:t>
            </a:r>
            <a:endParaRPr b="1" lang="en-US" sz="40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120" name="Rectangle 30"/>
          <p:cNvSpPr/>
          <p:nvPr/>
        </p:nvSpPr>
        <p:spPr>
          <a:xfrm>
            <a:off x="324000" y="448164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邑人：    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聘：  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患：           </a:t>
            </a:r>
            <a:endParaRPr b="1" lang="en-US" sz="3600" spc="-1" strike="noStrike">
              <a:solidFill>
                <a:srgbClr val="ff00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持币：    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哂 ： 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谬巧：</a:t>
            </a:r>
            <a:endParaRPr b="1" lang="en-US" sz="3600" spc="-1" strike="noStrike">
              <a:solidFill>
                <a:srgbClr val="ff00ff"/>
              </a:solidFill>
              <a:latin typeface="Garamond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6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Garamond"/>
              </a:rPr>
              <a:t>对照注释，翻译下列句子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88720" y="2421000"/>
            <a:ext cx="86756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）、非聘徽州唐打猎，不能除此患也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）、归报唐氏选艺至精者二人，行且至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）、大失望，姑命具食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）、视之，自颔下至尾闾，皆触斧裂矣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）、习伏众神，巧者不过习者之门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395280" y="1125360"/>
            <a:ext cx="8353440" cy="581400"/>
          </a:xfrm>
          <a:prstGeom prst="rect">
            <a:avLst/>
          </a:prstGeom>
          <a:noFill/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解读课文：翻译重点语句，疏通课文大意 。</a:t>
            </a:r>
            <a:endParaRPr b="1" lang="en-US" sz="32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2484360" y="189000"/>
            <a:ext cx="3024360" cy="934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2843280" y="333360"/>
            <a:ext cx="23032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学法点击</a:t>
            </a:r>
            <a:endParaRPr b="1" lang="en-US" sz="4000" spc="-1" strike="noStrike">
              <a:solidFill>
                <a:srgbClr val="ff00ff"/>
              </a:solidFill>
              <a:latin typeface="Garamond"/>
            </a:endParaRPr>
          </a:p>
        </p:txBody>
      </p:sp>
    </p:spTree>
  </p:cSld>
  <p:transition>
    <p:cover dir="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266400" y="1917360"/>
            <a:ext cx="86979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请从文中找出“设置悬念，为下文的发展埋下伏笔的语句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zh-CN" sz="2600" spc="-1" strike="noStrike">
                <a:solidFill>
                  <a:srgbClr val="0000ff"/>
                </a:solidFill>
                <a:latin typeface="Arial"/>
              </a:rPr>
              <a:t>、近城有虎暴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……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1" lang="zh-CN" sz="2600" spc="-1" strike="noStrike">
                <a:solidFill>
                  <a:srgbClr val="0000ff"/>
                </a:solidFill>
                <a:latin typeface="Arial"/>
              </a:rPr>
              <a:t>、至则一老翁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…… </a:t>
            </a:r>
            <a:r>
              <a:rPr b="1" lang="zh-CN" sz="2600" spc="-1" strike="noStrike">
                <a:solidFill>
                  <a:srgbClr val="0000ff"/>
                </a:solidFill>
                <a:latin typeface="Arial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文章中哪些地方表现出老翁对自己伏虎本领的自信？（用原文回答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zh-CN" sz="2600" spc="-1" strike="noStrike">
                <a:solidFill>
                  <a:srgbClr val="0000ff"/>
                </a:solidFill>
                <a:latin typeface="Arial"/>
              </a:rPr>
              <a:t>、老翁察中涵意不满，半跪启曰：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……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1" lang="zh-CN" sz="2600" spc="-1" strike="noStrike">
                <a:solidFill>
                  <a:srgbClr val="0000ff"/>
                </a:solidFill>
                <a:latin typeface="Arial"/>
              </a:rPr>
              <a:t>、老翁哂曰：“我在，尔尚畏耶？”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从文中找出老翁捕虎过程的语句，作者这样写的目的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“果自林中出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……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皆触斧列矣。”；目的是在于突出唐老翁的自信、从容和超群的捕虎绝技，与上文中的“大失望，姑命具食”形成对比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1196640"/>
            <a:ext cx="8785080" cy="576360"/>
          </a:xfrm>
          <a:prstGeom prst="rect">
            <a:avLst/>
          </a:prstGeom>
          <a:noFill/>
          <a:ln w="57240">
            <a:solidFill>
              <a:srgbClr val="339966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Garamond"/>
              </a:rPr>
              <a:t>精读课文：学会质疑释惑，探究课文主旨 。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2556000" y="262080"/>
            <a:ext cx="3024000" cy="934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2914560" y="351000"/>
            <a:ext cx="23036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学法点击</a:t>
            </a:r>
            <a:endParaRPr b="1" lang="en-US" sz="4000" spc="-1" strike="noStrike">
              <a:solidFill>
                <a:srgbClr val="ff00ff"/>
              </a:solidFill>
              <a:latin typeface="Garamond"/>
            </a:endParaRPr>
          </a:p>
        </p:txBody>
      </p:sp>
    </p:spTree>
  </p:cSld>
  <p:transition>
    <p:push dir="d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、捕虎老翁身怀绝技的原因是什么？作者为什么不惜笔墨引用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庄子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的话及史嗣彪、励文恪的事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（略，说明熟能生巧、练能生巧的道理。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这篇文章告诉我们一个什么道理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明确：告诉我们“熟能生巧”、“功到自然成”的道理。或者（一切技艺都是从“习”中来的道理。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33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339933"/>
                </a:solidFill>
                <a:latin typeface="Arial"/>
              </a:rPr>
              <a:t>拓展延伸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这篇文章给了我们哪些启示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</a:rPr>
              <a:t>（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</a:rPr>
              <a:t>、一个人的能力有高低，绝不能凭外表来判断；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</a:rPr>
              <a:t>2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</a:rPr>
              <a:t>、熟能生巧；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</a:rPr>
              <a:t>3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</a:rPr>
              <a:t>、天才出于勤奋。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6633"/>
                </a:solidFill>
                <a:latin typeface="Garamond"/>
              </a:rPr>
              <a:t>课堂小结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本文运用了巧设悬念、欲扬先抑、叙议结合的写作方法，通过记叙“唐打猎”祖孙俩不费太大力气就制服一只凶猛老虎的经过，反映了劳动人民的正直、淳朴和智慧，说明一切技艺皆从“习”中得来的道理。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6T06:52:33Z</dcterms:created>
  <dc:creator>第一PPT模板网-WWW.1PPT.COM</dc:creator>
  <dc:description/>
  <dc:language>en-US</dc:language>
  <cp:lastModifiedBy>Administrator</cp:lastModifiedBy>
  <dcterms:modified xsi:type="dcterms:W3CDTF">2017-05-08T01:12:36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393</vt:lpwstr>
  </property>
</Properties>
</file>