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A3D8-F7F4-4C1F-93D7-4EF53C6F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9D0-DC35-4DF8-882B-5500C6F9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517-70DB-4FF9-AF04-F0CA22D5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C29-7EE9-4C55-954E-56EABEE6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BE3-9982-463C-B43F-83F5D465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237-A9F7-4F68-BF0F-34CD4B45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985-D839-4EAD-A973-0A5CCFF4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DDF-C8FA-4DE7-B514-C1F0213D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BAA-9679-4415-9C54-078952FE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19A-678B-4660-865E-ACD25A42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915-6EC9-43DC-A05C-D65951B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AF5-490F-47A0-B7B0-9DCFBA2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9191-74B6-4620-B9E1-0A683B9AD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835280" y="1125360"/>
            <a:ext cx="5256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老翁捕虎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997440" y="441324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纪昀</a:t>
            </a:r>
            <a:endParaRPr b="1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179280" y="0"/>
            <a:ext cx="295272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"/>
          <p:cNvSpPr txBox="1"/>
          <p:nvPr/>
        </p:nvSpPr>
        <p:spPr>
          <a:xfrm>
            <a:off x="826920" y="1773360"/>
            <a:ext cx="734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人一组，就你完成的翻译，与其他三人进行比较，看看谁翻译的更准确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WordArt 4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比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0920" y="2492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其目以毛帚扫之，不瞬；其臂使壮夫攀之，悬身下缒不能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0920" y="2924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毛扫帚扫他的眼睛，眼珠子不转动；他的胳膊让壮汉当杠子攀，身体悬空往下坠，胳膊一动不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0920" y="41241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习伏众神，巧者不过习者之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68360" y="479916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技艺熟练能使技艺超群的人们佩服，能工巧匠也不敢在技艺熟练的人门前经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79280" y="0"/>
            <a:ext cx="302436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WordArt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345440" cy="22572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试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179280" y="0"/>
            <a:ext cx="309744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826920" y="1773360"/>
            <a:ext cx="504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下列问题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WordArt 4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思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68360" y="2708280"/>
            <a:ext cx="8207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文中写“至则一老翁，须发皓然，时咯咯作嗽；一童子十七八耳”的用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乃遣吏持币往”和“乃厚赠遣之”分别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这篇文章告诉我们一个什么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187280" y="357336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设置悬念，同时也为下文老翁打虎作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187280" y="4508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前者说明知县对唐打猎寄予厚望，后者说明知县对一老一少杀死老虎的由衷感谢和敬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042920" y="566100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告诉我们“熟能生巧”、“功到自然成”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179280" y="0"/>
            <a:ext cx="309744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堂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826920" y="1773360"/>
            <a:ext cx="6624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完成下列问题，比一比看谁做得又对又快！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WordArt 4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练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2565360"/>
            <a:ext cx="7921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给下列加点字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德县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 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州 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皓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然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咯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嗽        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此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畜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屹立           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         尾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闾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毛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帚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下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缒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信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嗣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烛　　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解释下列加点的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族兄中涵知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德县时。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老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搏老翁    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不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伏众神    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老翁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短柄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179280" y="0"/>
            <a:ext cx="309744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堂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3"/>
          <p:cNvSpPr txBox="1"/>
          <p:nvPr/>
        </p:nvSpPr>
        <p:spPr>
          <a:xfrm>
            <a:off x="826920" y="1773360"/>
            <a:ext cx="6624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完成下列问题，比一比看谁做得又对又快！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WordArt 4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练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11280" y="2637000"/>
            <a:ext cx="8207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翻译下列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归报唐氏选艺至精者二人，行且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视之，自颔下至尾闾，皆触斧裂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习伏众神，巧者不过习者之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ordArt 4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47000" cy="13226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179280" y="0"/>
            <a:ext cx="288000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课后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写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619280" y="4292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03640" y="429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类似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435640" y="4221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道理（感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2556000" y="4437000"/>
            <a:ext cx="576000" cy="287280"/>
          </a:xfrm>
          <a:prstGeom prst="rightArrow">
            <a:avLst>
              <a:gd name="adj1" fmla="val 50000"/>
              <a:gd name="adj2" fmla="val 501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4788000" y="4365720"/>
            <a:ext cx="576000" cy="287280"/>
          </a:xfrm>
          <a:prstGeom prst="rightArrow">
            <a:avLst>
              <a:gd name="adj1" fmla="val 50000"/>
              <a:gd name="adj2" fmla="val 501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684360" y="342900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提示：</a:t>
            </a:r>
            <a:endParaRPr b="1" lang="en-US" sz="2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179280" y="0"/>
            <a:ext cx="338472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0" y="2895120"/>
            <a:ext cx="42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24-18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清代学者、文学家，字晓岚，一字春帆，乾隆年间进士，官到礼部尚书、协办大学士，谥文达。能诗文，多宣扬封建伦理观念及歌功颂德。晚年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微草堂笔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全书着重宣传封建道德及因果报应，且议论说教过多，但文字质朴简明，涉猎面广，多方面表现了作者的学问和见解。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文达公遗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纪晓岚（1724～1805年）"/>
          <p:cNvPicPr/>
          <p:nvPr/>
        </p:nvPicPr>
        <p:blipFill>
          <a:blip r:embed="rId1"/>
          <a:stretch/>
        </p:blipFill>
        <p:spPr>
          <a:xfrm>
            <a:off x="250920" y="2060640"/>
            <a:ext cx="349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0" y="-171360"/>
            <a:ext cx="2771640" cy="1655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文体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50920" y="29487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笔记小说是一种带有散文化倾向的小说创作形式，它的特点就是兼有“笔记”和“小说”特征。“笔记”使其在记叙上获得了一种散文化的记叙空间，在这一空间里，作者可以叙述，也可以表达别人及自己的思考以及观点，而“小说”则是一种带有故事性的叙述和创作，由于“笔记”本身获得的自由空间，又可以使“小说”创作与散文化的“笔记”叙述相互交叉，使其优势十分明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起源于魏晋南北朝时期，它采用文言，篇幅短小，记叙社会上流传的奇异故事、人物的逸闻轶事或其只言片语。在故事的叙述、人物性格的描写等方面都已初具规模，作品的数量也相当可观，但就作者的主观意图而言，还只是当成真实的事情来写，而缺少艺术的虚构，它们还不是中国小说的成熟形态。在这一时期，文言小说的主要形式有志怪与志人小说。前者如干宝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搜神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后者如刘义庆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世说新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艺术上取得了较高的成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492360" y="4636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笔记小说</a:t>
            </a:r>
            <a:endParaRPr b="1" lang="en-US" sz="1800" spc="-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179280" y="0"/>
            <a:ext cx="338472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16000" y="1989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了解作者及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14560" y="2781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熟读课文、掌握文中字词及文章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468360" y="3645000"/>
            <a:ext cx="2735280" cy="57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rnd" w="936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法提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900000" y="44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自主阅读为主，兼以讨论、交流、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179280" y="0"/>
            <a:ext cx="316872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1116000" y="1989000"/>
            <a:ext cx="7058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读：仔细阅读课文，读准生字生词，了解课文大意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95280" y="263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意下列字词的读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11280" y="3284640"/>
            <a:ext cx="792144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德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徽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州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皓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咯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嗽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哂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畜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屹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　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嗣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秉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厉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恪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谬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 rot="5400000">
            <a:off x="3743280" y="367920"/>
            <a:ext cx="1440000" cy="165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读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1280" y="2997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j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82920" y="299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706920" y="29811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u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508720" y="2924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164360" y="29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39640" y="364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ò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340000" y="36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h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4067280" y="357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580000" y="357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7236000" y="3645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900000" y="429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2627280" y="42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zh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4140360" y="429264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zhu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5940360" y="4292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716436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ì bi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611280" y="4941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ǐ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3132000" y="486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580000" y="486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i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179280" y="0"/>
            <a:ext cx="316872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1187280" y="2276640"/>
            <a:ext cx="7058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读：仔细阅读课文，读准生字生词，了解课文大意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1187280" y="2995560"/>
            <a:ext cx="7058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读：高声、快速阅读课文，用笔画出拗口之处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187280" y="3789360"/>
            <a:ext cx="734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读：四人一组，一人高声、有感情的朗读，其他三人聆听，指出其错误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" name="WordArt 6"/>
          <p:cNvSpPr txBox="1"/>
          <p:nvPr/>
        </p:nvSpPr>
        <p:spPr>
          <a:xfrm rot="5400000">
            <a:off x="3743280" y="367920"/>
            <a:ext cx="1440000" cy="165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读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179280" y="0"/>
            <a:ext cx="316872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826920" y="1773360"/>
            <a:ext cx="734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结合课本注释，翻译下列句子，注意加点的词．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6"/>
          <p:cNvSpPr txBox="1"/>
          <p:nvPr/>
        </p:nvSpPr>
        <p:spPr>
          <a:xfrm rot="5400000">
            <a:off x="3743280" y="151920"/>
            <a:ext cx="1440000" cy="165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译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68360" y="2349360"/>
            <a:ext cx="8675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非聘徽州唐打猎，不能除此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乃遣吏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归报唐氏选艺至精者二人，行且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大失望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童子作虎啸声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林中出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搏老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视之，自颔下至尾闾，皆触斧裂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其目以毛帚扫之，不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其臂使壮夫攀之，悬身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下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伏众神，巧者不过习者之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179280" y="0"/>
            <a:ext cx="316872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826920" y="1773360"/>
            <a:ext cx="734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人一组，就你完成的翻译，与其他三人进行比较，看看谁翻译的更准确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8" name="WordArt 4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比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8360" y="2708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非聘徽州唐打猎，不能除此患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8360" y="321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不请来徽州的唐打猎，就无法铲除这个祸害（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68360" y="39337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乃遣吏持币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68360" y="4437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于是派了一个小官吏带着礼物前去（请唐打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68360" y="55897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使者）回来报告，唐打猎挑选了两个技艺精湛的人前来，而且快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68360" y="5084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归报唐氏选艺至精者二人，行且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179280" y="0"/>
            <a:ext cx="2880000" cy="187164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学习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826920" y="1773360"/>
            <a:ext cx="734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人一组，就你完成的翻译，与其他三人进行比较，看看谁翻译的更准确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4"/>
          <p:cNvSpPr txBox="1"/>
          <p:nvPr/>
        </p:nvSpPr>
        <p:spPr>
          <a:xfrm rot="5400000">
            <a:off x="3958920" y="225000"/>
            <a:ext cx="1297080" cy="13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比</a:t>
            </a:r>
            <a:endParaRPr b="0" lang="en-US" sz="4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68360" y="2492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大失望，姑命具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2924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中涵）非常失望，姑且吩咐（给他们）准备饭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3429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童子作虎啸声，果自林中出，径搏老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68360" y="38606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小伙子学做老虎的呼啸声，（老虎）果然从林子里出来，径直扑向老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68360" y="47973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视之，自颔下至尾闾，皆触斧裂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68360" y="522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译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看那老虎，从下巴到尾巴根部，都撞在斧头刃上被割裂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9:17:14Z</dcterms:created>
  <dc:creator>第一PPT模板网-WWW.1PPT.COM</dc:creator>
  <dc:description/>
  <dc:language>en-US</dc:language>
  <cp:lastModifiedBy>Administrator</cp:lastModifiedBy>
  <dcterms:modified xsi:type="dcterms:W3CDTF">2017-05-08T01:15:3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