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2C5-1887-459A-8A39-0BB061C4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FE5-C6BD-47CF-9CFA-DE8F889C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FB3-1F01-47E1-B136-85D7A2F2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5CA-E7F4-41D6-83E3-83285635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D6C-C1CC-409D-82EF-89E411CF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904-AE24-4E5E-B897-F0C436CD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2FE-38A1-489D-BF3F-1E4CDA19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94E-B5A7-412B-BBF2-ECC108A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947-4507-44B4-9D98-A7179E27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A67-8E91-46D2-AB40-FE34B753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282-E84F-4CCA-BD10-25450EE6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5D8-ED7F-4F2D-96D0-02F4C5EF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B5C2-D0A8-4525-9584-C53C21F4E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547640" y="1341360"/>
            <a:ext cx="568836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老 翁 捕 虎</a:t>
            </a:r>
            <a:endParaRPr b="1" lang="en-US" sz="7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3741840" y="3844800"/>
            <a:ext cx="13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纪   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5"/>
          <p:cNvSpPr txBox="1"/>
          <p:nvPr/>
        </p:nvSpPr>
        <p:spPr>
          <a:xfrm>
            <a:off x="2843280" y="2637000"/>
            <a:ext cx="24494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谢 谢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63" dur="2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000"/>
                            </p:stCondLst>
                            <p:childTnLst>
                              <p:par>
                                <p:cTn id="570" dur="indefinite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-4.56984E-006 L -1.66667E-006 0.66374 E">
                                      <p:cBhvr>
                                        <p:cTn id="571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dur="indefinite" nodeType="after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-0.38529 L -1.66667E-006 -0.05226 E">
                                      <p:cBhvr>
                                        <p:cTn id="57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纪晓岚（1724～1805年）"/>
          <p:cNvPicPr/>
          <p:nvPr/>
        </p:nvPicPr>
        <p:blipFill>
          <a:blip r:embed="rId2"/>
          <a:stretch/>
        </p:blipFill>
        <p:spPr>
          <a:xfrm>
            <a:off x="6659640" y="1557360"/>
            <a:ext cx="1834920" cy="266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755640" y="227664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纪昀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724-180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，清代学者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文学家，字晓岚，一字春帆，乾隆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间进士，官至礼部尚书、协办大学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谥文达。他诙谐幽默，博学多识。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主持编纂的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四库全书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被称为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史上的“万里长城”，晚年著笔记体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说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阅微草堂笔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3276720" y="620640"/>
            <a:ext cx="2663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走近作者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3112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族兄中涵知    德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县时，近城有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虎暴，伤猎户数人，不能捕。  人请曰：“非    徽州唐打猎，不能除此患也。”乃    吏持币往。归报唐氏选艺至精者二人，行且至。 至则一老翁，须发    然，时    咯作    ，一童子十六七耳。大失望，姑命具食。老翁察中涵意不满，半跪启曰：“闻此虎距城不五里，先往捕之，赐食未晚也。” 遂命役导往。 役至谷口，不敢行。老翁    曰：“我在，尔尚畏耶？” 入谷将半，老翁顾童子曰：“此    似尚睡，汝呼之醒！” 童子作虎啸声，果自林中出，径搏老翁。老翁手一短柄斧，纵八九寸，横半之，奋臂屹立。虎扑至。侧首让之；虎自顶上跃过，已血流仆地。视之，自    下至尾   ，皆触斧裂矣。乃厚赠遣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　老翁自言，炼臂十年，炼目十年。其目以毛帚扫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不瞬；其臂使壮夫攀之，悬身下    不能动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庄子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曰：“习伏众神，巧者不过习者之门。” 信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　尝见史舍人    彪，暗中捉笔书条幅，与    烛无异。又闻静海励文恪公，剪方寸纸一百片，书一字其上，片片向日叠映，无一笔丝毫出入。均习而已矣，非别有    巧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570840" y="11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翁捕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18664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852228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769040" y="126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506280" y="126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86664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09064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8664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41864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55500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386640" y="42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1610280" y="419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834280" y="49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2186640" y="566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5929920" y="566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058280" y="640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1258920" y="404640"/>
            <a:ext cx="1008360" cy="503280"/>
            <a:chOff x="1258920" y="404640"/>
            <a:chExt cx="1008360" cy="503280"/>
          </a:xfrm>
        </p:grpSpPr>
        <p:sp>
          <p:nvSpPr>
            <p:cNvPr id="64" name="AutoShape 20"/>
            <p:cNvSpPr/>
            <p:nvPr/>
          </p:nvSpPr>
          <p:spPr>
            <a:xfrm flipH="1">
              <a:off x="1258920" y="404640"/>
              <a:ext cx="1008000" cy="503280"/>
            </a:xfrm>
            <a:prstGeom prst="cloudCallout">
              <a:avLst>
                <a:gd name="adj1" fmla="val -66379"/>
                <a:gd name="adj2" fmla="val 68611"/>
              </a:avLst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1510560" y="4305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jī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37"/>
          <p:cNvGrpSpPr/>
          <p:nvPr/>
        </p:nvGrpSpPr>
        <p:grpSpPr>
          <a:xfrm>
            <a:off x="7092720" y="260280"/>
            <a:ext cx="1150920" cy="576360"/>
            <a:chOff x="7092720" y="260280"/>
            <a:chExt cx="1150920" cy="576360"/>
          </a:xfrm>
        </p:grpSpPr>
        <p:sp>
          <p:nvSpPr>
            <p:cNvPr id="67" name="AutoShape 23"/>
            <p:cNvSpPr/>
            <p:nvPr/>
          </p:nvSpPr>
          <p:spPr>
            <a:xfrm flipH="1">
              <a:off x="7092360" y="260280"/>
              <a:ext cx="1150920" cy="576360"/>
            </a:xfrm>
            <a:prstGeom prst="cloudCallout">
              <a:avLst>
                <a:gd name="adj1" fmla="val -88625"/>
                <a:gd name="adj2" fmla="val 80023"/>
              </a:avLst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4"/>
            <p:cNvSpPr/>
            <p:nvPr/>
          </p:nvSpPr>
          <p:spPr>
            <a:xfrm>
              <a:off x="7524000" y="288000"/>
              <a:ext cx="48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ì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AutoShape 38"/>
          <p:cNvSpPr/>
          <p:nvPr/>
        </p:nvSpPr>
        <p:spPr>
          <a:xfrm>
            <a:off x="5940360" y="476280"/>
            <a:ext cx="1224000" cy="649080"/>
          </a:xfrm>
          <a:prstGeom prst="cloudCallout">
            <a:avLst>
              <a:gd name="adj1" fmla="val 18351"/>
              <a:gd name="adj2" fmla="val 81296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iǎ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2411280" y="765000"/>
            <a:ext cx="936720" cy="649440"/>
          </a:xfrm>
          <a:prstGeom prst="cloudCallout">
            <a:avLst>
              <a:gd name="adj1" fmla="val -90000"/>
              <a:gd name="adj2" fmla="val 41199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ì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5"/>
          <p:cNvSpPr/>
          <p:nvPr/>
        </p:nvSpPr>
        <p:spPr>
          <a:xfrm>
            <a:off x="4427640" y="5516640"/>
            <a:ext cx="1079280" cy="722160"/>
          </a:xfrm>
          <a:prstGeom prst="cloudCallout">
            <a:avLst>
              <a:gd name="adj1" fmla="val -58087"/>
              <a:gd name="adj2" fmla="val 81870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6"/>
          <p:cNvSpPr/>
          <p:nvPr/>
        </p:nvSpPr>
        <p:spPr>
          <a:xfrm>
            <a:off x="1908000" y="3357720"/>
            <a:ext cx="936720" cy="649080"/>
          </a:xfrm>
          <a:prstGeom prst="cloudCallout">
            <a:avLst>
              <a:gd name="adj1" fmla="val -51694"/>
              <a:gd name="adj2" fmla="val 85699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7"/>
          <p:cNvSpPr/>
          <p:nvPr/>
        </p:nvSpPr>
        <p:spPr>
          <a:xfrm>
            <a:off x="324000" y="3213000"/>
            <a:ext cx="1152360" cy="792360"/>
          </a:xfrm>
          <a:prstGeom prst="cloudCallout">
            <a:avLst>
              <a:gd name="adj1" fmla="val -26310"/>
              <a:gd name="adj2" fmla="val 88277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à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8"/>
          <p:cNvSpPr/>
          <p:nvPr/>
        </p:nvSpPr>
        <p:spPr>
          <a:xfrm flipH="1">
            <a:off x="2987640" y="2349360"/>
            <a:ext cx="1008000" cy="649440"/>
          </a:xfrm>
          <a:prstGeom prst="cloudCallout">
            <a:avLst>
              <a:gd name="adj1" fmla="val -23074"/>
              <a:gd name="adj2" fmla="val 80314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9"/>
          <p:cNvSpPr/>
          <p:nvPr/>
        </p:nvSpPr>
        <p:spPr>
          <a:xfrm>
            <a:off x="5003640" y="2205000"/>
            <a:ext cx="1224000" cy="649440"/>
          </a:xfrm>
          <a:prstGeom prst="cloudCallout">
            <a:avLst>
              <a:gd name="adj1" fmla="val -80611"/>
              <a:gd name="adj2" fmla="val 41199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0"/>
          <p:cNvSpPr/>
          <p:nvPr/>
        </p:nvSpPr>
        <p:spPr>
          <a:xfrm flipH="1">
            <a:off x="5650920" y="1197000"/>
            <a:ext cx="1081080" cy="720720"/>
          </a:xfrm>
          <a:prstGeom prst="cloudCallout">
            <a:avLst>
              <a:gd name="adj1" fmla="val -81134"/>
              <a:gd name="adj2" fmla="val 29291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971640" y="1557360"/>
            <a:ext cx="936360" cy="649440"/>
          </a:xfrm>
          <a:prstGeom prst="cloudCallout">
            <a:avLst>
              <a:gd name="adj1" fmla="val -90000"/>
              <a:gd name="adj2" fmla="val 41199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ò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6588000" y="5084640"/>
            <a:ext cx="1224000" cy="649440"/>
          </a:xfrm>
          <a:prstGeom prst="cloudCallout">
            <a:avLst>
              <a:gd name="adj1" fmla="val -80611"/>
              <a:gd name="adj2" fmla="val 41199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1476360" y="4941720"/>
            <a:ext cx="936720" cy="649440"/>
          </a:xfrm>
          <a:prstGeom prst="cloudCallout">
            <a:avLst>
              <a:gd name="adj1" fmla="val 40675"/>
              <a:gd name="adj2" fmla="val 74449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4"/>
          <p:cNvSpPr/>
          <p:nvPr/>
        </p:nvSpPr>
        <p:spPr>
          <a:xfrm>
            <a:off x="3419640" y="4437000"/>
            <a:ext cx="936360" cy="649440"/>
          </a:xfrm>
          <a:prstGeom prst="cloudCallout">
            <a:avLst>
              <a:gd name="adj1" fmla="val -90000"/>
              <a:gd name="adj2" fmla="val 41199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hu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5"/>
          <p:cNvSpPr/>
          <p:nvPr/>
        </p:nvSpPr>
        <p:spPr>
          <a:xfrm>
            <a:off x="7164360" y="2133720"/>
            <a:ext cx="936720" cy="649080"/>
          </a:xfrm>
          <a:prstGeom prst="cloudCallout">
            <a:avLst>
              <a:gd name="adj1" fmla="val 71356"/>
              <a:gd name="adj2" fmla="val -92055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Next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Next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evt="onNext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Next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evt="onNext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" dur="1" fill="hold"/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evt="onNext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evt="onNext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7" dur="1" fill="hold"/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Next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evt="onNext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5" dur="1" fill="hold"/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Next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4" dur="1" fill="hold"/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evt="onNext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evt="onNext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Next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1" dur="1" fill="hold"/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evt="onNext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0" dur="1" fill="hold"/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Next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746720" y="3452760"/>
            <a:ext cx="11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须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皓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818000" y="438948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咯咯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4801680" y="2373480"/>
            <a:ext cx="16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下至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874760" y="3452760"/>
            <a:ext cx="166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秉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烛无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5118480" y="4389480"/>
            <a:ext cx="11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非别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谬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584000" y="244476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遣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吏持币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2556000" y="1268280"/>
            <a:ext cx="37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比一比 谁读的正确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1756800" y="206064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i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2557080" y="3141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1890720" y="407664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ǎ k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5149440" y="1989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6940800" y="19890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5263560" y="3141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ǐ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6085440" y="40766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6958440" y="234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evt="onNext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9" dur="1" fill="hold"/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evt="onNext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8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evt="onNext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7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evt="onNext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5" dur="1" fill="hold"/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evt="onNext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Next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3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Next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1" dur="1" fill="hold"/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0" y="2929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族兄中涵   旌德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县时，近城有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虎暴，伤猎户数人，不能捕。邑人请曰：“非聘徽州唐打猎，不能除此患也。”    遣吏持币    。归报唐氏选艺   精者二人，行   至。 至则一老翁，须发皓然，时咯咯嗽，一童子十六七耳。   失望，    命具食。老翁察中涵意不满，半跪启曰：“   此虎距城不五里，先往捕之，赐食未晚也。”    命役导往。 役至谷口，不敢行。老翁哂曰：“我在，   尚畏耶？” 入谷将半，老翁顾童子曰：“此畜似尚睡，   呼之醒！” 童子作虎啸声，果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林中出，径搏老翁。老翁手一短柄斧，纵八九寸，横半之，奋臂屹立。虎扑至。侧首让之；虎自顶上跃过，已血流仆地。视之，自颔下至尾闾，    触斧裂矣。乃厚赠遣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　老翁自言，炼臂十年，炼目十年。其   目毛帚扫之不瞬；其臂使壮夫攀之，悬身下缒不能动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庄子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曰：“习伏众神，巧者不过习者之门。” 信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　    见史舍人嗣彪，暗中    笔    条幅，与秉烛无异。又闻静海励文恪公，剪方寸纸一百片，书一字其上，片片向日叠映，无一笔丝毫出入。均习而已矣，非别有谬巧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3"/>
          <p:cNvSpPr/>
          <p:nvPr/>
        </p:nvSpPr>
        <p:spPr>
          <a:xfrm>
            <a:off x="1843560" y="90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570840" y="11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翁捕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145920" y="126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684360" y="260280"/>
            <a:ext cx="1081080" cy="503280"/>
          </a:xfrm>
          <a:prstGeom prst="wedgeRoundRectCallout">
            <a:avLst>
              <a:gd name="adj1" fmla="val 78782"/>
              <a:gd name="adj2" fmla="val 105518"/>
              <a:gd name="adj3" fmla="val 1666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728480" y="126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6588000" y="476280"/>
            <a:ext cx="1081080" cy="503280"/>
          </a:xfrm>
          <a:prstGeom prst="wedgeRoundRectCallout">
            <a:avLst>
              <a:gd name="adj1" fmla="val 65564"/>
              <a:gd name="adj2" fmla="val 131703"/>
              <a:gd name="adj3" fmla="val 16667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684360" y="1125360"/>
            <a:ext cx="718920" cy="503280"/>
          </a:xfrm>
          <a:prstGeom prst="wedgeRoundRectCallout">
            <a:avLst>
              <a:gd name="adj1" fmla="val 56180"/>
              <a:gd name="adj2" fmla="val 76814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1619280" y="1197000"/>
            <a:ext cx="1584360" cy="719280"/>
          </a:xfrm>
          <a:prstGeom prst="wedgeRoundRectCallout">
            <a:avLst>
              <a:gd name="adj1" fmla="val 47694"/>
              <a:gd name="adj2" fmla="val 71412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，非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3635280" y="907920"/>
            <a:ext cx="1008000" cy="503280"/>
          </a:xfrm>
          <a:prstGeom prst="wedgeRoundRectCallout">
            <a:avLst>
              <a:gd name="adj1" fmla="val -48583"/>
              <a:gd name="adj2" fmla="val 111513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124848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33756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593920" y="162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4643280" y="1413000"/>
            <a:ext cx="2160720" cy="503280"/>
          </a:xfrm>
          <a:prstGeom prst="wedgeRoundRectCallout">
            <a:avLst>
              <a:gd name="adj1" fmla="val -52643"/>
              <a:gd name="adj2" fmla="val 82805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姑且，暂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7956720" y="981000"/>
            <a:ext cx="1008000" cy="503280"/>
          </a:xfrm>
          <a:prstGeom prst="wedgeRoundRectCallout">
            <a:avLst>
              <a:gd name="adj1" fmla="val 32203"/>
              <a:gd name="adj2" fmla="val 103944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04848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4291560" y="198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410480" y="234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6012000" y="1773360"/>
            <a:ext cx="1511280" cy="503280"/>
          </a:xfrm>
          <a:prstGeom prst="wedgeRoundRectCallout">
            <a:avLst>
              <a:gd name="adj1" fmla="val 73527"/>
              <a:gd name="adj2" fmla="val 91009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是，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179280" y="1916280"/>
            <a:ext cx="1008000" cy="502920"/>
          </a:xfrm>
          <a:prstGeom prst="wedgeRoundRectCallout">
            <a:avLst>
              <a:gd name="adj1" fmla="val 87324"/>
              <a:gd name="adj2" fmla="val 58518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7657200" y="234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6001560" y="270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5292720" y="0"/>
            <a:ext cx="1008000" cy="503280"/>
          </a:xfrm>
          <a:prstGeom prst="wedgeRoundRectCallout">
            <a:avLst>
              <a:gd name="adj1" fmla="val 60865"/>
              <a:gd name="adj2" fmla="val 220032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8"/>
          <p:cNvSpPr/>
          <p:nvPr/>
        </p:nvSpPr>
        <p:spPr>
          <a:xfrm>
            <a:off x="6227640" y="2060640"/>
            <a:ext cx="865440" cy="503280"/>
          </a:xfrm>
          <a:prstGeom prst="wedgeRoundRectCallout">
            <a:avLst>
              <a:gd name="adj1" fmla="val -48532"/>
              <a:gd name="adj2" fmla="val 111199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470448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0"/>
          <p:cNvSpPr/>
          <p:nvPr/>
        </p:nvSpPr>
        <p:spPr>
          <a:xfrm>
            <a:off x="3851280" y="2565360"/>
            <a:ext cx="865080" cy="503280"/>
          </a:xfrm>
          <a:prstGeom prst="wedgeRoundRectCallout">
            <a:avLst>
              <a:gd name="adj1" fmla="val 69814"/>
              <a:gd name="adj2" fmla="val 79652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60840" y="34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0" y="2565360"/>
            <a:ext cx="865080" cy="503280"/>
          </a:xfrm>
          <a:prstGeom prst="wedgeRoundRectCallout">
            <a:avLst>
              <a:gd name="adj1" fmla="val -16240"/>
              <a:gd name="adj2" fmla="val 143689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1896120" y="419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1403280" y="3429000"/>
            <a:ext cx="865080" cy="503280"/>
          </a:xfrm>
          <a:prstGeom prst="wedgeRoundRectCallout">
            <a:avLst>
              <a:gd name="adj1" fmla="val 34402"/>
              <a:gd name="adj2" fmla="val 118138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5515560" y="455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6"/>
          <p:cNvSpPr/>
          <p:nvPr/>
        </p:nvSpPr>
        <p:spPr>
          <a:xfrm>
            <a:off x="4788000" y="3860640"/>
            <a:ext cx="863640" cy="503280"/>
          </a:xfrm>
          <a:prstGeom prst="wedgeRoundRectCallout">
            <a:avLst>
              <a:gd name="adj1" fmla="val 55148"/>
              <a:gd name="adj2" fmla="val 100787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691200" y="566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8"/>
          <p:cNvSpPr/>
          <p:nvPr/>
        </p:nvSpPr>
        <p:spPr>
          <a:xfrm>
            <a:off x="1116000" y="4941720"/>
            <a:ext cx="1008000" cy="503280"/>
          </a:xfrm>
          <a:prstGeom prst="wedgeRoundRectCallout">
            <a:avLst>
              <a:gd name="adj1" fmla="val -70157"/>
              <a:gd name="adj2" fmla="val 111199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769200" y="566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2843280" y="5084640"/>
            <a:ext cx="865080" cy="503280"/>
          </a:xfrm>
          <a:prstGeom prst="wedgeRoundRectCallout">
            <a:avLst>
              <a:gd name="adj1" fmla="val 84680"/>
              <a:gd name="adj2" fmla="val 82805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4417200" y="566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4788000" y="5157720"/>
            <a:ext cx="865080" cy="503280"/>
          </a:xfrm>
          <a:prstGeom prst="wedgeRoundRectCallout">
            <a:avLst>
              <a:gd name="adj1" fmla="val -73486"/>
              <a:gd name="adj2" fmla="val 68296"/>
              <a:gd name="adj3" fmla="val 16667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evt="onNext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1" dur="1" fill="hold"/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evt="onNext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0" dur="1" fill="hold"/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evt="onNext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9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evt="onNext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evt="onNext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7" dur="1" fill="hold"/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evt="onNext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6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evt="onNext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5" dur="1" fill="hold"/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evt="onNext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4" dur="1" fill="hold"/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evt="onNext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3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Next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2" dur="1" fill="hold"/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evt="onNext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1" dur="1" fill="hold"/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evt="onNext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0" dur="1" fill="hold"/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Next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9" dur="1" fill="hold"/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evt="onNext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8" dur="1" fill="hold"/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Next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7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Next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6" dur="1" fill="hold"/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evt="onNext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5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evt="onNext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4" dur="1" fill="hold"/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6"/>
          <p:cNvSpPr txBox="1"/>
          <p:nvPr/>
        </p:nvSpPr>
        <p:spPr>
          <a:xfrm>
            <a:off x="2268360" y="26028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比一比  谁理解准确 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1649520" y="110016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族兄中涵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旌德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5347080" y="1125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遣吏持币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167120" y="155736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行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047280" y="16286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大失望，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命具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397840" y="20606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见史舍人嗣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2316240" y="70632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理解句中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色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6198120" y="342900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、其目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毛帚扫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141560" y="19890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伏众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3665520" y="108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主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2728800" y="155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将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2881440" y="1989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熟悉，熟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7367760" y="1125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于是，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7913520" y="162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姑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7842240" y="20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曾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2421000" y="2349360"/>
            <a:ext cx="9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二、理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红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色字的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6299640" y="29242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、屠惧，投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1797480" y="342900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、老翁察中涵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意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不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6"/>
          <p:cNvSpPr/>
          <p:nvPr/>
        </p:nvSpPr>
        <p:spPr>
          <a:xfrm>
            <a:off x="1670400" y="292428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、目似瞑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意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暇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7"/>
          <p:cNvSpPr/>
          <p:nvPr/>
        </p:nvSpPr>
        <p:spPr>
          <a:xfrm>
            <a:off x="900000" y="3068640"/>
            <a:ext cx="216000" cy="647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5508720" y="3068640"/>
            <a:ext cx="215640" cy="64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3790800" y="2905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神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3768480" y="3392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心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7935840" y="3429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3"/>
          <p:cNvSpPr/>
          <p:nvPr/>
        </p:nvSpPr>
        <p:spPr>
          <a:xfrm>
            <a:off x="7863120" y="288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2720880" y="393372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三、用现代汉语理解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5"/>
          <p:cNvSpPr/>
          <p:nvPr/>
        </p:nvSpPr>
        <p:spPr>
          <a:xfrm>
            <a:off x="1765800" y="458136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乃遣吏持币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2877120" y="522936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视之，自颔下至尾闾，皆触斧裂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2654640" y="5877000"/>
            <a:ext cx="6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习伏众神，巧者不过习者之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2594160" y="491652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于是派了一个小官吏带着礼物前去（请唐打猎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4788000" y="55897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看那老虎，从下巴到尾巴根部，都撞在斧头刃上被割裂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0"/>
          <p:cNvSpPr/>
          <p:nvPr/>
        </p:nvSpPr>
        <p:spPr>
          <a:xfrm>
            <a:off x="4906800" y="63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技艺熟练能使技艺超群的人们佩服，能工巧匠也不敢在技艺熟练的人门前经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evt="onNext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84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evt="onNext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5" dur="1" fill="hold"/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evt="onNext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6" dur="1" fill="hold"/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Next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6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evt="onNext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6" dur="1" fill="hold"/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Next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7" dur="1" fill="hold"/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evt="onNext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7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evt="onNext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7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evt="onNext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67" dur="1" fill="hold"/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evt="onNext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7" dur="1" fill="hold"/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evt="onNext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7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evt="onNext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9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evt="onNext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8" dur="1" fill="hold"/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3112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族兄中涵知旌德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县时，近城有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虎暴，伤猎户数人，不能捕。邑人请曰：“非聘徽州唐打猎，不能除此患也。”乃遣吏持币往。归报唐氏选艺至精者二人，行且至。 至则一老翁，须发皓然，时咯咯作嗽，一童子十六七耳。大失望，姑命具食。老翁察中涵意不满，半跪启曰：“闻此虎距城不五里，先往捕之，赐食未晚也。” 遂命役导往。 役至谷口，不敢行。老翁哂曰：“我在，尔尚畏耶？” 入谷将半，老翁顾童子曰：“此畜似尚睡，汝呼之醒！” 童子作虎啸声，果自林中出，径搏老翁。老翁手一短柄斧，纵八九寸，横半之，奋臂屹立。虎扑至。侧首让之；虎自顶上跃过，已血流仆地。视之，自颔下至尾闾，皆触斧裂矣。乃厚赠遣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　老翁自言，炼臂十年，炼目十年。其目以毛帚扫之不瞬；其臂使壮夫攀之，悬身下缒不能动。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庄子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曰：“习伏众神，巧者不过习者之门。” 信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　尝见史舍人嗣彪，暗中捉笔书条幅，与秉烛无异。又闻静海励文恪公，剪方寸纸一百片，书一字其上，片片向日叠映，无一笔丝毫出入。均习而已矣，非别有谬巧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570840" y="11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翁捕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5"/>
          <p:cNvSpPr txBox="1"/>
          <p:nvPr/>
        </p:nvSpPr>
        <p:spPr>
          <a:xfrm>
            <a:off x="2556000" y="260280"/>
            <a:ext cx="43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比一比  谁探究的深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971640" y="981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文中写“至则一老翁，须发皓然，时咯咯作嗽；一童子十七八耳”的用意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476360" y="1844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设置悬念，同时也为下文老翁打虎作铺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71640" y="2349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“乃遣吏持币往”和“乃厚赠遣之”分别说明了什 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763640" y="285264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前者说明知县对唐打猎寄予厚望，后者说明知县对一老一少杀死老虎的由衷感谢和敬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71640" y="3860640"/>
            <a:ext cx="80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、从文中找出老翁捕虎过程的语句，作者这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写 的目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042920" y="4797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目的是在于突出老翁的自信、从容和超群的捕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绝技，与上文中的“大失望，姑命具食”形成对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evt="onNext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8" dur="1" fill="hold"/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evt="onNext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7" dur="1" fill="hold"/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evt="onNext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8" dur="1" fill="hold"/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5"/>
          <p:cNvSpPr txBox="1"/>
          <p:nvPr/>
        </p:nvSpPr>
        <p:spPr>
          <a:xfrm>
            <a:off x="2556000" y="692280"/>
            <a:ext cx="43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比一比  谁悟的深刻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876320" y="177336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这篇文章告诉我们一个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199400" y="3645000"/>
            <a:ext cx="8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学习本文你受到哪些启示哪些启示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24000" y="4581360"/>
            <a:ext cx="882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人的能力有高低，绝不能凭外表来判断；②熟能生巧；③天才出于勤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423720" y="2637000"/>
            <a:ext cx="8296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熟能生巧”、“功到自然成”的道理。或者（一切技艺都是从“习”中来的道理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4:14:40Z</dcterms:created>
  <dc:creator>第一PPT模板网-WWW.1PPT.COM</dc:creator>
  <dc:description/>
  <dc:language>en-US</dc:language>
  <cp:lastModifiedBy>Administrator</cp:lastModifiedBy>
  <dcterms:modified xsi:type="dcterms:W3CDTF">2017-05-08T01:18:00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