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FC37-2D8B-4F4A-B4AA-AA8E03033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77AC-709A-4B74-9C07-A97698AF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1B0B-BF32-4EAB-9505-20F043693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8660-D636-4FFB-9345-68A69EC68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F331-37CE-4B86-9344-366452B2A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FF8C-8DE6-416B-892A-CACF5B60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A5C2-E266-4971-BA89-86BA75FA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11C8-88FC-4E55-88B0-FD75D2FD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CEAF-B99A-411F-A9AB-98BFCAF0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1FC5-9F0A-4313-8EE1-6981E947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4FDA-4499-4DE4-A2A3-56B327BE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B2D5-C515-44DD-AD5F-723F7381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48BD-C950-42BD-A429-4AACC0E3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4360-13AE-4153-8B8C-0F4B0C74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BDAD-B13B-4E97-908D-F80C2117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4F25-286C-4D78-9E68-C75AC8411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B337-1260-40DB-828B-C71CC8DF1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164A-71BD-460E-ABD4-D74234C0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67DF-49B8-4578-85A6-0611FD4E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D1EF-CDD3-426C-9595-19530966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D5D4-8C8F-4167-8E5A-FF1C81BF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96CD-0A82-4096-8C46-D1153850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DA1D-1F0B-4283-B31F-E6536DEB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96CC-71D8-4CC6-A21C-039C880D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214B-625E-4B2F-B448-E3C82CA05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80EC-B549-4C6F-A278-F2182583185E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src.baidu.com/baike/pic/item/f99dcf009cc44406728b65d9.jpg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148360" y="404640"/>
            <a:ext cx="3995640" cy="5545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3"/>
          <a:stretch/>
        </p:blipFill>
        <p:spPr>
          <a:xfrm>
            <a:off x="7524720" y="836640"/>
            <a:ext cx="1003320" cy="4824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4"/>
          <a:stretch/>
        </p:blipFill>
        <p:spPr>
          <a:xfrm>
            <a:off x="6588000" y="3716280"/>
            <a:ext cx="712800" cy="2017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0" y="404640"/>
            <a:ext cx="5148360" cy="5545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908000" y="5877000"/>
            <a:ext cx="55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浠水县实验高级中学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柳培林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拓展探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9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820000"/>
                </a:solidFill>
                <a:latin typeface="楷体_GB2312"/>
                <a:ea typeface="楷体_GB2312"/>
              </a:rPr>
              <a:t>有人认为，王羲之很悲观，</a:t>
            </a:r>
            <a:r>
              <a:rPr b="1" lang="en-US" sz="3600" spc="-1" strike="noStrike">
                <a:solidFill>
                  <a:srgbClr val="8200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820000"/>
                </a:solidFill>
                <a:latin typeface="楷体_GB2312"/>
                <a:ea typeface="楷体_GB2312"/>
              </a:rPr>
              <a:t>兰亭集序</a:t>
            </a:r>
            <a:r>
              <a:rPr b="1" lang="en-US" sz="3600" spc="-1" strike="noStrike">
                <a:solidFill>
                  <a:srgbClr val="820000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820000"/>
                </a:solidFill>
                <a:latin typeface="楷体_GB2312"/>
                <a:ea typeface="楷体_GB2312"/>
              </a:rPr>
              <a:t>也写得也太伤感；有人认为，王羲之很旷达，</a:t>
            </a:r>
            <a:r>
              <a:rPr b="1" lang="en-US" sz="3600" spc="-1" strike="noStrike">
                <a:solidFill>
                  <a:srgbClr val="8200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820000"/>
                </a:solidFill>
                <a:latin typeface="楷体_GB2312"/>
                <a:ea typeface="楷体_GB2312"/>
              </a:rPr>
              <a:t>兰亭集序</a:t>
            </a:r>
            <a:r>
              <a:rPr b="1" lang="en-US" sz="3600" spc="-1" strike="noStrike">
                <a:solidFill>
                  <a:srgbClr val="820000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820000"/>
                </a:solidFill>
                <a:latin typeface="楷体_GB2312"/>
                <a:ea typeface="楷体_GB2312"/>
              </a:rPr>
              <a:t>虽苍凉悲怆却有不俗的情趣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20000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820000"/>
                </a:solidFill>
                <a:latin typeface="楷体_GB2312"/>
                <a:ea typeface="楷体_GB2312"/>
              </a:rPr>
              <a:t>你是怎么理解王羲之其人其文的呢？结合文章谈谈你的看法。</a:t>
            </a:r>
            <a:r>
              <a:rPr b="0" lang="zh-CN" sz="3600" spc="-1" strike="noStrike">
                <a:solidFill>
                  <a:srgbClr val="820000"/>
                </a:solidFill>
                <a:latin typeface="楷体_GB2312"/>
                <a:ea typeface="楷体_GB2312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78920" y="549360"/>
            <a:ext cx="867564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王羲之，我读出了你的痛切与无奈。良辰美景，转瞬即逝，怎能不令你痛由心生？抚今追昔，难解生死，只能发出一声穿越千古的悲叹，除此，你还能怎样？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王羲之，我又读出了你的乐观与旷达，没有高洁自由的心灵，怎能把春色写得如此清丽？没有对生命意义的执著与坚守，怎会不畏流俗，断然否定庄子的生死齐观？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想正是因为你真切的热爱生命，深刻的思考过死亡，才能正视死生，真诚的记载下自己的心路历程。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作业布置</a:t>
            </a:r>
            <a:br>
              <a:rPr sz="4400"/>
            </a:b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3640" y="2204640"/>
            <a:ext cx="8569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完成课后练习中的第二、第三题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652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永和九年，时在癸丑之年，暮春三月上旬的巳日，我们在会稽郡山阴县的兰亭集会，举行驱除不祥的礼俗之事。众多贤才都汇聚到这里，老少济济一堂。兰亭这地方有崇山峻岭环抱，林木繁茂，竹高茂密。又有清澈湍急的溪流，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如同青罗带一般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)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辉映围绕在亭子的四周，引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溪水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)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作为流觞用的曲水，排列坐在曲水旁边，虽然没有管弦合奏的盛况，只是饮酒赋诗，也足以令人畅叙胸怀。</a:t>
            </a:r>
            <a:br>
              <a:rPr sz="1800"/>
            </a:b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　这一天，晴明爽朗，和风习习，仰首可以观览浩大的宇宙，俯看可以考察地上万物的繁多，纵目游赏，胸襟大开，极尽耳目视听的欢娱，真可以说是人生的一大趣事。</a:t>
            </a:r>
            <a:br>
              <a:rPr sz="1800"/>
            </a:b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　　人们彼此亲近交往，很快便度过了一生。有的人喜欢将自己的胸怀抱负在屋子里与人交谈；有的人则寄托于外物，生活狂放不羁。虽然他们或内或外的取舍千差万别，好静好动的性格各不相同，但当他们遇到可喜的事情，得意于一时，感到欣然自足时，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竟然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)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都会忘记衰老即将要到来之事。等到对已获取的东西发生厌倦，感情随着事物的变化而变化，又不免会引发无限的感慨。以往所得到的欢欣，很快就成为历史的陈迹，人们尚且不能不为之感念伤怀，更何况人的一生长短取决于自然，而终究要归结于穷尽呢！古人说：“死生是件大事。”这怎么能不让人痛心啊！ </a:t>
            </a:r>
            <a:br>
              <a:rPr sz="1800"/>
            </a:b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　　每当看到前人所发感慨的原因，其缘由竟像一张符契那样一致，总难免要在前人的文章面前嗟叹一番，不过心里却弄不明白这是怎么回事。我当然知道把死和生混为一谈是虚诞的，把长寿与夭亡等量齐观是荒谬的，后人看待今人，也就像今人看待前人，这正是事情的可悲之处。所以我要列出到会者的姓名，录下他们所作的诗篇。即使时代变了，事情不同了，但触发人们情怀的原因，无疑会是相通的。后人阅读这些诗篇，也会由此引发同样的感慨吧。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26920" y="1413000"/>
            <a:ext cx="7199640" cy="32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谢谢大家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828360" cy="5112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9640" y="476280"/>
            <a:ext cx="80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王羲之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兰亭集序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br>
              <a:rPr sz="2800"/>
            </a:b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唐人</a:t>
            </a:r>
            <a:r>
              <a:rPr b="1" lang="zh-CN" sz="24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冯承素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摹本，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藏于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故宫博物院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51868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文言知识积累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221"/>
                </a:solidFill>
                <a:latin typeface="Arial"/>
              </a:rPr>
              <a:t>解释字义：</a:t>
            </a:r>
            <a:r>
              <a:rPr b="0" lang="zh-CN" sz="3200" spc="-1" strike="noStrike">
                <a:solidFill>
                  <a:srgbClr val="00222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221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清流</a:t>
            </a:r>
            <a:r>
              <a:rPr b="1" lang="zh-CN" sz="3200" spc="-1" strike="noStrike" u="sng">
                <a:solidFill>
                  <a:srgbClr val="ff1d1d"/>
                </a:solidFill>
                <a:uFillTx/>
                <a:latin typeface="黑体"/>
                <a:ea typeface="黑体"/>
              </a:rPr>
              <a:t>激湍</a:t>
            </a: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 u="sng">
                <a:solidFill>
                  <a:srgbClr val="ff1d1d"/>
                </a:solidFill>
                <a:uFillTx/>
                <a:latin typeface="黑体"/>
                <a:ea typeface="黑体"/>
              </a:rPr>
              <a:t>映带</a:t>
            </a: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左右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        ②</a:t>
            </a: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虽无</a:t>
            </a:r>
            <a:r>
              <a:rPr b="1" lang="zh-CN" sz="3200" spc="-1" strike="noStrike" u="sng">
                <a:solidFill>
                  <a:srgbClr val="ff1d1d"/>
                </a:solidFill>
                <a:uFillTx/>
                <a:latin typeface="黑体"/>
                <a:ea typeface="黑体"/>
              </a:rPr>
              <a:t>丝竹管弦</a:t>
            </a: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之</a:t>
            </a:r>
            <a:r>
              <a:rPr b="1" lang="zh-CN" sz="3200" spc="-1" strike="noStrike" u="sng">
                <a:solidFill>
                  <a:srgbClr val="ff1d1d"/>
                </a:solidFill>
                <a:uFillTx/>
                <a:latin typeface="黑体"/>
                <a:ea typeface="黑体"/>
              </a:rPr>
              <a:t>盛</a:t>
            </a: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        ③</a:t>
            </a: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亦足以畅叙</a:t>
            </a:r>
            <a:r>
              <a:rPr b="1" lang="zh-CN" sz="3200" spc="-1" strike="noStrike" u="sng">
                <a:solidFill>
                  <a:srgbClr val="ff1d1d"/>
                </a:solidFill>
                <a:uFillTx/>
                <a:latin typeface="黑体"/>
                <a:ea typeface="黑体"/>
              </a:rPr>
              <a:t>幽情</a:t>
            </a: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        ④</a:t>
            </a: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俯察</a:t>
            </a:r>
            <a:r>
              <a:rPr b="1" lang="zh-CN" sz="3200" spc="-1" strike="noStrike" u="sng">
                <a:solidFill>
                  <a:srgbClr val="ff1d1d"/>
                </a:solidFill>
                <a:uFillTx/>
                <a:latin typeface="黑体"/>
                <a:ea typeface="黑体"/>
              </a:rPr>
              <a:t>品类</a:t>
            </a: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之盛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        ⑤</a:t>
            </a: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所以</a:t>
            </a:r>
            <a:r>
              <a:rPr b="1" lang="zh-CN" sz="3200" spc="-1" strike="noStrike" u="sng">
                <a:solidFill>
                  <a:srgbClr val="ff1d1d"/>
                </a:solidFill>
                <a:uFillTx/>
                <a:latin typeface="黑体"/>
                <a:ea typeface="黑体"/>
              </a:rPr>
              <a:t>游目骋怀</a:t>
            </a: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        ⑥</a:t>
            </a: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足以</a:t>
            </a:r>
            <a:r>
              <a:rPr b="1" lang="zh-CN" sz="3200" spc="-1" strike="noStrike" u="sng">
                <a:solidFill>
                  <a:srgbClr val="ff1d1d"/>
                </a:solidFill>
                <a:uFillTx/>
                <a:latin typeface="黑体"/>
                <a:ea typeface="黑体"/>
              </a:rPr>
              <a:t>极</a:t>
            </a: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视听之</a:t>
            </a:r>
            <a:r>
              <a:rPr b="1" lang="zh-CN" sz="3200" spc="-1" strike="noStrike" u="sng">
                <a:solidFill>
                  <a:srgbClr val="ff1d1d"/>
                </a:solidFill>
                <a:uFillTx/>
                <a:latin typeface="黑体"/>
                <a:ea typeface="黑体"/>
              </a:rPr>
              <a:t>娱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9640" y="1484280"/>
            <a:ext cx="81360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221"/>
                </a:solidFill>
                <a:latin typeface="Arial"/>
              </a:rPr>
              <a:t>解释字义：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楷体_GB2312"/>
              </a:rPr>
              <a:t>自读课文，互问互答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221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俯仰一世      取诸怀抱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因寄所托      放浪形骸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欣于所遇      暂得于己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所之既倦      感慨系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以之兴怀      修短随化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终期于尽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250920" y="404640"/>
            <a:ext cx="851832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文言知识积累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4247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翻译句子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0000"/>
                </a:solidFill>
                <a:latin typeface="Arial"/>
                <a:ea typeface="黑体"/>
              </a:rPr>
              <a:t>①</a:t>
            </a:r>
            <a:r>
              <a:rPr b="1" lang="zh-CN" sz="3200" spc="-1" strike="noStrike">
                <a:solidFill>
                  <a:srgbClr val="220000"/>
                </a:solidFill>
                <a:latin typeface="Arial"/>
                <a:ea typeface="黑体"/>
              </a:rPr>
              <a:t>每览昔人兴感之由，若合一契，未尝不临文嗟悼，不能喻之于怀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0000"/>
                </a:solidFill>
                <a:latin typeface="Arial"/>
                <a:ea typeface="黑体"/>
              </a:rPr>
              <a:t>②</a:t>
            </a:r>
            <a:r>
              <a:rPr b="1" lang="zh-CN" sz="3200" spc="-1" strike="noStrike">
                <a:solidFill>
                  <a:srgbClr val="220000"/>
                </a:solidFill>
                <a:latin typeface="Arial"/>
                <a:ea typeface="黑体"/>
              </a:rPr>
              <a:t>固知一死生为虚诞，齐彭殇为妄作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0000"/>
                </a:solidFill>
                <a:latin typeface="Arial"/>
                <a:ea typeface="黑体"/>
              </a:rPr>
              <a:t>③</a:t>
            </a:r>
            <a:r>
              <a:rPr b="1" lang="zh-CN" sz="3200" spc="-1" strike="noStrike">
                <a:solidFill>
                  <a:srgbClr val="220000"/>
                </a:solidFill>
                <a:latin typeface="Arial"/>
                <a:ea typeface="黑体"/>
              </a:rPr>
              <a:t>虽世殊事异，所以兴怀，其致一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179280" y="476280"/>
            <a:ext cx="851868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文言知识积累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08000" y="476280"/>
            <a:ext cx="89280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388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研习课文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5596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221"/>
                </a:solidFill>
                <a:latin typeface="Arial"/>
              </a:rPr>
              <a:t>第一、二段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221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2221"/>
                </a:solidFill>
                <a:latin typeface="Arial"/>
              </a:rPr>
              <a:t>信可乐也”，作者参加兰亭修禊事，乐因何而生？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32000" y="3429000"/>
            <a:ext cx="66247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良辰、美景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乐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221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赏心、乐事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221"/>
                </a:solidFill>
                <a:latin typeface="宋体"/>
              </a:rPr>
              <a:t>第三段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221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2221"/>
                </a:solidFill>
                <a:latin typeface="宋体"/>
              </a:rPr>
              <a:t>王羲之参加兰亭雅集如此快乐，但他笔锋一转，呼出“痛哉”，痛由何而来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221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2221"/>
                </a:solidFill>
                <a:latin typeface="宋体"/>
              </a:rPr>
              <a:t>痛”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324000" y="333360"/>
            <a:ext cx="8388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研习课文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19280" y="3429000"/>
            <a:ext cx="5689440" cy="27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2221"/>
                </a:solidFill>
                <a:latin typeface="Arial"/>
                <a:ea typeface="黑体"/>
              </a:rPr>
              <a:t>人生短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221"/>
                </a:solidFill>
                <a:latin typeface="Arial"/>
                <a:ea typeface="黑体"/>
              </a:rPr>
              <a:t>痛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221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2221"/>
                </a:solidFill>
                <a:latin typeface="黑体"/>
                <a:ea typeface="黑体"/>
              </a:rPr>
              <a:t>世事无常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9640" y="1700280"/>
            <a:ext cx="8136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221"/>
                </a:solidFill>
                <a:latin typeface="宋体"/>
              </a:rPr>
              <a:t>第四段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221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2221"/>
                </a:solidFill>
                <a:latin typeface="宋体"/>
              </a:rPr>
              <a:t>本段中的</a:t>
            </a:r>
            <a:r>
              <a:rPr b="1" lang="en-US" sz="3200" spc="-1" strike="noStrike">
                <a:solidFill>
                  <a:srgbClr val="002221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002221"/>
                </a:solidFill>
                <a:latin typeface="宋体"/>
              </a:rPr>
              <a:t>悲</a:t>
            </a:r>
            <a:r>
              <a:rPr b="1" lang="en-US" sz="3200" spc="-1" strike="noStrike">
                <a:solidFill>
                  <a:srgbClr val="002221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002221"/>
                </a:solidFill>
                <a:latin typeface="宋体"/>
              </a:rPr>
              <a:t>与</a:t>
            </a:r>
            <a:r>
              <a:rPr b="1" lang="en-US" sz="3200" spc="-1" strike="noStrike">
                <a:solidFill>
                  <a:srgbClr val="002221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002221"/>
                </a:solidFill>
                <a:latin typeface="宋体"/>
              </a:rPr>
              <a:t>痛</a:t>
            </a:r>
            <a:r>
              <a:rPr b="1" lang="en-US" sz="3200" spc="-1" strike="noStrike">
                <a:solidFill>
                  <a:srgbClr val="002221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002221"/>
                </a:solidFill>
                <a:latin typeface="宋体"/>
              </a:rPr>
              <a:t>是一样的情感吗？作者为什么</a:t>
            </a:r>
            <a:r>
              <a:rPr b="1" lang="en-US" sz="3200" spc="-1" strike="noStrike">
                <a:solidFill>
                  <a:srgbClr val="002221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002221"/>
                </a:solidFill>
                <a:latin typeface="宋体"/>
              </a:rPr>
              <a:t>悲</a:t>
            </a:r>
            <a:r>
              <a:rPr b="1" lang="en-US" sz="3200" spc="-1" strike="noStrike">
                <a:solidFill>
                  <a:srgbClr val="002221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002221"/>
                </a:solidFill>
                <a:latin typeface="宋体"/>
              </a:rPr>
              <a:t>？</a:t>
            </a:r>
            <a:r>
              <a:rPr b="1" lang="en-US" sz="3200" spc="-1" strike="noStrike">
                <a:solidFill>
                  <a:srgbClr val="002221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002221"/>
                </a:solidFill>
                <a:latin typeface="宋体"/>
              </a:rPr>
              <a:t>悲</a:t>
            </a:r>
            <a:r>
              <a:rPr b="1" lang="en-US" sz="3200" spc="-1" strike="noStrike">
                <a:solidFill>
                  <a:srgbClr val="002221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002221"/>
                </a:solidFill>
                <a:latin typeface="宋体"/>
              </a:rPr>
              <a:t>什么？ </a:t>
            </a:r>
            <a:br>
              <a:rPr sz="3200"/>
            </a:br>
            <a:r>
              <a:rPr b="0" lang="zh-CN" sz="3200" spc="-1" strike="noStrike">
                <a:solidFill>
                  <a:srgbClr val="002221"/>
                </a:solidFill>
                <a:latin typeface="宋体"/>
              </a:rPr>
              <a:t>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324000" y="333360"/>
            <a:ext cx="8388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研习课文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19280" y="3213000"/>
            <a:ext cx="5689440" cy="27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由己及人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221"/>
                </a:solidFill>
                <a:latin typeface="Arial"/>
                <a:ea typeface="黑体"/>
              </a:rPr>
              <a:t>悲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221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千古同悲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18:23:15Z</dcterms:created>
  <dc:creator>hsj</dc:creator>
  <dc:description/>
  <dc:language>en-US</dc:language>
  <cp:lastModifiedBy>微软用户</cp:lastModifiedBy>
  <dcterms:modified xsi:type="dcterms:W3CDTF">2013-07-13T11:18:35Z</dcterms:modified>
  <cp:revision>89</cp:revision>
  <dc:subject/>
  <dc:title>第27课  《兰亭集序》  王羲之 </dc:title>
</cp:coreProperties>
</file>