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103-7065-460F-91DB-9E2EA93A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47F-AA1C-4A67-A6BF-E70B3DD1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903-513D-4668-AC33-E50C3805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5D5-3793-4C1F-AC45-CEDC6483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9D3-BBD1-4E9C-9E64-71D2FE24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2C03-E194-433A-AA9B-340FF8A3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FC4-A462-4946-9C37-2D14C326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CBB-F490-4A04-A1C5-825C97F8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639-F109-4470-9EBD-06531D5D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622-0801-44AE-9803-8E82463F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508-A7E3-4B76-B21C-D9C5EED1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CFB-A40C-437B-90F6-EAFBC8E5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423A-ABFF-4D45-8E13-CF937A5641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xlanting.com.cn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1676520"/>
            <a:ext cx="4343400" cy="131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63300"/>
                </a:solidFill>
                <a:latin typeface="Times New Roman"/>
                <a:ea typeface="华文行楷"/>
              </a:rPr>
              <a:t>兰亭集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3809880"/>
            <a:ext cx="2590920" cy="100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3300"/>
                </a:solidFill>
                <a:latin typeface="Times New Roman"/>
                <a:ea typeface="华文行楷"/>
              </a:rPr>
              <a:t>王羲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 flipH="1">
            <a:off x="532800" y="5791320"/>
            <a:ext cx="223560" cy="27468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548640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流觞曲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b31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45720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77777"/>
                </a:solidFill>
                <a:latin typeface="Times New Roman"/>
                <a:ea typeface="隶书"/>
              </a:rPr>
              <a:t>暮春之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2-2" descr=""/>
          <p:cNvPicPr/>
          <p:nvPr/>
        </p:nvPicPr>
        <p:blipFill>
          <a:blip r:embed="rId1"/>
          <a:stretch/>
        </p:blipFill>
        <p:spPr>
          <a:xfrm>
            <a:off x="3505320" y="0"/>
            <a:ext cx="3933720" cy="6848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52480" y="1905120"/>
            <a:ext cx="914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f5f5f"/>
                </a:solidFill>
                <a:latin typeface="Times New Roman"/>
                <a:ea typeface="隶书"/>
              </a:rPr>
              <a:t>崇山峻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重要词句（二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3000"/>
            <a:ext cx="8458200" cy="4411440"/>
          </a:xfrm>
          <a:prstGeom prst="rect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与  夫：发语词。之：取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取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怀抱：之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取舍万殊 ：即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所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既倦   及：等到。之：动词，到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终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于尽 ：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2438280"/>
            <a:ext cx="99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3300"/>
                </a:solidFill>
                <a:latin typeface="Times New Roman"/>
                <a:ea typeface="华文行楷"/>
              </a:rPr>
              <a:t>感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600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533520"/>
            <a:ext cx="225360" cy="5711760"/>
          </a:xfrm>
          <a:custGeom>
            <a:avLst/>
            <a:gdLst>
              <a:gd name="textAreaLeft" fmla="*/ 144000 w 225360"/>
              <a:gd name="textAreaRight" fmla="*/ 225720 w 225360"/>
              <a:gd name="textAreaTop" fmla="*/ 148680 h 5711760"/>
              <a:gd name="textAreaBottom" fmla="*/ 5563080 h 571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136440"/>
            <a:ext cx="4343400" cy="65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欣于所遇  快然自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情随事迁  感慨系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修短随化  终期于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533520"/>
            <a:ext cx="193680" cy="5711760"/>
          </a:xfrm>
          <a:custGeom>
            <a:avLst/>
            <a:gdLst>
              <a:gd name="textAreaLeft" fmla="*/ 0 w 193680"/>
              <a:gd name="textAreaRight" fmla="*/ 69840 w 193680"/>
              <a:gd name="textAreaTop" fmla="*/ 148680 h 5711760"/>
              <a:gd name="textAreaBottom" fmla="*/ 5563080 h 571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666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死生亦大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重要词句（三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143000"/>
            <a:ext cx="8458200" cy="3484440"/>
          </a:xfrm>
          <a:prstGeom prst="rect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于怀 ：明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死生为虚诞，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彭殇为妄作         一：动词，看作一样。齐：动词，看作相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亦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之视昔：通“犹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也：情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3520" y="2590920"/>
            <a:ext cx="99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3300"/>
                </a:solidFill>
                <a:latin typeface="Times New Roman"/>
                <a:ea typeface="华文行楷"/>
              </a:rPr>
              <a:t>明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600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295280"/>
            <a:ext cx="301680" cy="4108680"/>
          </a:xfrm>
          <a:custGeom>
            <a:avLst/>
            <a:gdLst>
              <a:gd name="textAreaLeft" fmla="*/ 192960 w 301680"/>
              <a:gd name="textAreaRight" fmla="*/ 302040 w 301680"/>
              <a:gd name="textAreaTop" fmla="*/ 106920 h 4108680"/>
              <a:gd name="textAreaBottom" fmla="*/ 4001760 h 410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1143000"/>
            <a:ext cx="6858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昔今兴感 若合一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一生死为虚诞 齐彭殇为妄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后之览者 将感于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3300"/>
                </a:solidFill>
                <a:latin typeface="隶书"/>
                <a:ea typeface="隶书"/>
              </a:rPr>
              <a:t>再   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8672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制作</a:t>
            </a:r>
            <a:r>
              <a:rPr b="0" lang="zh-CN" sz="4000" spc="-1" strike="noStrike">
                <a:solidFill>
                  <a:srgbClr val="663300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663300"/>
                </a:solidFill>
                <a:latin typeface="Times New Roman"/>
              </a:rPr>
              <a:t>GU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t2" descr=""/>
          <p:cNvPicPr/>
          <p:nvPr/>
        </p:nvPicPr>
        <p:blipFill>
          <a:blip r:embed="rId1"/>
          <a:stretch/>
        </p:blipFill>
        <p:spPr>
          <a:xfrm>
            <a:off x="1752480" y="252360"/>
            <a:ext cx="2862360" cy="6605640"/>
          </a:xfrm>
          <a:prstGeom prst="rect">
            <a:avLst/>
          </a:prstGeom>
          <a:ln w="0">
            <a:noFill/>
          </a:ln>
        </p:spPr>
      </p:pic>
      <p:pic>
        <p:nvPicPr>
          <p:cNvPr id="45" name="lta" descr=""/>
          <p:cNvPicPr/>
          <p:nvPr/>
        </p:nvPicPr>
        <p:blipFill>
          <a:blip r:embed="rId2"/>
          <a:stretch/>
        </p:blipFill>
        <p:spPr>
          <a:xfrm>
            <a:off x="4495680" y="0"/>
            <a:ext cx="339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lt4" descr=""/>
          <p:cNvPicPr/>
          <p:nvPr/>
        </p:nvPicPr>
        <p:blipFill>
          <a:blip r:embed="rId1"/>
          <a:stretch/>
        </p:blipFill>
        <p:spPr>
          <a:xfrm>
            <a:off x="1143000" y="0"/>
            <a:ext cx="39132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lt3" descr=""/>
          <p:cNvPicPr/>
          <p:nvPr/>
        </p:nvPicPr>
        <p:blipFill>
          <a:blip r:embed="rId2"/>
          <a:stretch/>
        </p:blipFill>
        <p:spPr>
          <a:xfrm>
            <a:off x="5062680" y="228600"/>
            <a:ext cx="3395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t6" descr=""/>
          <p:cNvPicPr/>
          <p:nvPr/>
        </p:nvPicPr>
        <p:blipFill>
          <a:blip r:embed="rId1"/>
          <a:stretch/>
        </p:blipFill>
        <p:spPr>
          <a:xfrm>
            <a:off x="1066680" y="0"/>
            <a:ext cx="3651480" cy="6553080"/>
          </a:xfrm>
          <a:prstGeom prst="rect">
            <a:avLst/>
          </a:prstGeom>
          <a:ln w="0">
            <a:noFill/>
          </a:ln>
        </p:spPr>
      </p:pic>
      <p:pic>
        <p:nvPicPr>
          <p:cNvPr id="49" name="lt5" descr=""/>
          <p:cNvPicPr/>
          <p:nvPr/>
        </p:nvPicPr>
        <p:blipFill>
          <a:blip r:embed="rId2"/>
          <a:stretch/>
        </p:blipFill>
        <p:spPr>
          <a:xfrm>
            <a:off x="4724280" y="0"/>
            <a:ext cx="3400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重要词句（一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762120"/>
            <a:ext cx="8077320" cy="5861880"/>
          </a:xfrm>
          <a:prstGeom prst="rect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会于会稽山阴之兰亭（省主语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群贤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毕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至，少长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咸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集：全，都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映带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兰亭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左右（省定语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坐其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旁边，水边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所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游目骋怀：用来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足以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视听之娱：动词，穷尽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0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90720" y="6858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609480"/>
            <a:ext cx="79246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时间：永和九年 暮春之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地点：会稽山阴之兰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风景：崇山峻岭 茂林修竹  清流急湍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天朗气清 惠风和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人物：群贤毕至，少长咸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盛况：列坐其次 一觞一咏 畅叙幽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感受：信可乐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609480"/>
            <a:ext cx="225720" cy="5388120"/>
          </a:xfrm>
          <a:custGeom>
            <a:avLst/>
            <a:gdLst>
              <a:gd name="textAreaLeft" fmla="*/ 144360 w 225720"/>
              <a:gd name="textAreaRight" fmla="*/ 226080 w 225720"/>
              <a:gd name="textAreaTop" fmla="*/ 387720 h 5388120"/>
              <a:gd name="textAreaBottom" fmla="*/ 5000400 h 538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84"/>
                  <a:pt x="10800" y="4968"/>
                </a:cubicBezTo>
                <a:lnTo>
                  <a:pt x="10800" y="4968"/>
                </a:lnTo>
                <a:cubicBezTo>
                  <a:pt x="10800" y="7452"/>
                  <a:pt x="5400" y="9936"/>
                  <a:pt x="0" y="9936"/>
                </a:cubicBezTo>
                <a:cubicBezTo>
                  <a:pt x="5400" y="9936"/>
                  <a:pt x="10800" y="12420"/>
                  <a:pt x="10800" y="14904"/>
                </a:cubicBezTo>
                <a:lnTo>
                  <a:pt x="10800" y="16632"/>
                </a:lnTo>
                <a:cubicBezTo>
                  <a:pt x="10800" y="191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53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3300"/>
                </a:solidFill>
                <a:latin typeface="Times New Roman"/>
                <a:ea typeface="华文行楷"/>
              </a:rPr>
              <a:t>记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304920"/>
            <a:ext cx="3276360" cy="10083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Times New Roman"/>
                <a:ea typeface="隶书"/>
              </a:rPr>
              <a:t>清流激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tf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5410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茂林修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qslc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8080" y="556272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流觞曲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7:20:46Z</dcterms:created>
  <dc:creator>刘雷</dc:creator>
  <dc:description/>
  <dc:language>en-US</dc:language>
  <cp:lastModifiedBy>刘雷</cp:lastModifiedBy>
  <dcterms:modified xsi:type="dcterms:W3CDTF">2002-12-25T09:42:46Z</dcterms:modified>
  <cp:revision>7</cp:revision>
  <dc:subject/>
  <dc:title>PowerPoint 演示文稿</dc:title>
</cp:coreProperties>
</file>