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BB3-22E3-4212-A78E-59D96EC2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BDE-5500-46AB-A781-2017C07F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0B4-E5E3-402E-AB37-F0C6408A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626-5B81-49EC-8B52-04EB5A50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1AF-4430-4487-9718-B1D656B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FA8-F8CA-4DDD-A46F-1F59447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4DA-9903-4D27-AAF3-02569E20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93F-CFA7-427C-8E48-E88FB44E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8CB-ABD8-4A92-8C59-F60ADD66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316-F881-4E4E-8CCF-BDF4FE0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026-6BB6-4571-AD6F-8258F1E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221-4E14-4CFC-A51D-D3BE0D8B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6B8D-45D0-4509-85A0-545A929D3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54000" y="155736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兰 亭 集 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07120" y="3068640"/>
            <a:ext cx="19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华文隶书"/>
                <a:ea typeface="华文隶书"/>
              </a:rPr>
              <a:t>王 羲 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66100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05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353440" cy="439272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东晋穆帝永和九年（公元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5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年）三月初三日，王羲之和当时名士孙绰、谢安和释支遁等四十一人，为禊事活动，在兰亭宴集。与会的人士都有诗作，事后把这些诗篇汇编成集，《兰亭集序》就是王羲之为这个诗集所写的序言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86800" cy="518328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序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也写作“叙”或称“引”，犹如今日的“引言”、“前言”。是说明书籍著述或出版意旨、编次体例和作者情况的文章。也有对作者作品的评论和对有关问题的研究阐发。“序”一般写在文章前面，列于书后称为“跋”或“后序”。这类文章，按内容分别属于说明文或议论文；以叙事为主、夹叙夹议的，不多见；抒情成分较多的序，多半是为诗歌唱和的集子而作，例如本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569080" cy="374472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南朝 梁元帝《纂要》：“三月季春，亦曰暮春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《闺词》云：轻寒薄暖暮春天，小立闲庭待燕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修禊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5054760" cy="4392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003280" y="1699920"/>
            <a:ext cx="3924360" cy="355428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觞：古代酒器；曲水：弯曲的水道。后泛指在水边宴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26028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有关“序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04760"/>
            <a:ext cx="914400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序也写着“叙”或称“引”，犹如今日的“引言”、“前言”。是说明书籍著述或出版意旨、编次体例和作者情况的文章。也有对作者作品的评论和对有关问题的研究阐发。“序”一般写在文章前面，列于书后称为“跋”或“后序”。这类文章，按内容分别书属于说明文或议论文；以叙事为主、夹叙夹议的，不多见；抒情成分较多的序，多半是为诗歌唱和的集子而作，例如本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image/img173489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4033800" cy="6597720"/>
          </a:xfrm>
          <a:prstGeom prst="rect">
            <a:avLst/>
          </a:prstGeom>
          <a:noFill/>
          <a:ln w="9360">
            <a:solidFill>
              <a:srgbClr val="f25e6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f32d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文章的第一段较具体地写了兰亭集会的盛况。</a:t>
            </a: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f32d"/>
                </a:solidFill>
                <a:latin typeface="华文行楷"/>
                <a:ea typeface="华文行楷"/>
              </a:rPr>
              <a:t>2 </a:t>
            </a:r>
            <a:r>
              <a:rPr b="1" lang="zh-CN" sz="3600" spc="-1" strike="noStrike">
                <a:solidFill>
                  <a:srgbClr val="fdf32d"/>
                </a:solidFill>
                <a:latin typeface="华文行楷"/>
                <a:ea typeface="华文行楷"/>
              </a:rPr>
              <a:t>作者为何说“信可乐也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明确：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</a:rPr>
              <a:t>人众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：群贤比至，少长咸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华文行楷"/>
              </a:rPr>
              <a:t>地胜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：崇山峻岭，茂林修竹，清流急湍，映带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3280" y="189000"/>
            <a:ext cx="4321440" cy="6408720"/>
          </a:xfrm>
          <a:prstGeom prst="rect">
            <a:avLst/>
          </a:prstGeom>
          <a:noFill/>
          <a:ln w="9360">
            <a:solidFill>
              <a:srgbClr val="f25e6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华文行楷"/>
              </a:rPr>
              <a:t>事趣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：流觞曲水，一觞一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华文行楷"/>
              </a:rPr>
              <a:t>时美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：天朗气清，惠风和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  <a:ea typeface="华文行楷"/>
              </a:rPr>
              <a:t>兴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：仰观俯察，游目骋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【以做“修禊”为名，以行快乐为实。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8496360" cy="576108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中心问题：生死观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文章的第二段写了两种人，一个是喜欢“静”的人，一个是喜欢“躁”的人。前者“取诸怀抱，晤言一室之内”，后者“因寄所托，放浪形骸之外”，性格乃至行为上有很大的不同。但是，两者又有惊人的相似之处：“当其欣于所遇，暂得于己，快然自足，曾不知老之将至；及其所之既倦，情随事迁，感慨系之矣。”快乐的时候，得意忘形，感觉不到自己在悄悄地衰老，等对高兴的事物感到了厌倦，感慨就自然而然地产生了，人不能保有永远美好的留恋，转而为“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497800" cy="453708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一，事物有生就有灭，有乐就有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二，事物由生到灭，由乐到悲，其时间很短暂，倏忽之间，正如白驹之过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三，生命之长短之存灭，不是主观所能左右的，它取决于自然的造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此说来，生命是何其宝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因如此，所以作者才引用古训“死生亦大矣”；正因如此，所以作者慨叹：“岂不痛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晋玄学（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）：这时司马氏政权南迁，社会矛盾尖锐复杂，进一步导致思想上的空虚。因此超生死、得解脱的问题便成为玄学的中心内容。提出“群有以至虚为宗，万品以终灭为验”的思想，把世界和人生视为瞬息万变，稍纵即逝，虚伪无常，主张采取“肆情任性”的纵欲主义人生观，把玄学引入了绝境。他们思想消极，行动无为，就像浮萍之于海水，随波荡漾，飘到哪里就是哪里。当然，死了就死了，无所谓，因为死就是生，生就是死，“一死生”“齐彭殇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20" y="620640"/>
            <a:ext cx="518796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95720" y="0"/>
            <a:ext cx="414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8497800" cy="360036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作者的生死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就是生，应珍惜时间，眷恋生活，享受生之乐趣，有生之年当做些实事；死就是死，死后一切皆空。活着和死去是人生大事，二者不可等量齐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生如夏花之绚烂，死如秋叶之静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 —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泰戈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凡有高等动物，尚没有遇着意外的变故，总是从幼到壮，从壮到老，从老到死。明白这事，便从幼到壮到老到死，都要欢欢喜喜的过去。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 —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兰亭临帖行书如行云流水 ，月下门推心细如你脚步碎， 忙不迭千年碑易拓 ，却难拓你的美 ，真迹绝真心能给谁。 牧笛横吹黄酒小菜又几碟 ，夕阳余晖如你的羞怯似醉 ，摹本易写而墨香不退 ，与你共留余味 ，一行朱砂到底圈了谁。 无关风月我题序等你回， 悬笔一绝那岸边浪千叠 ，情字何解怎落笔都不对 ，而我独缺你一生的了解， 无关风月我题序等你回 ，悬笔一绝那岸边浪千迭 ，情字何解怎落笔都不对 ，而我独缺你一生的了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弹指岁月倾城顷刻间烟灭， 青石板街回眸一笑你婉约 ，恨了没你摇头轻叹 ，谁让你蹙着眉 ，而深闺徒留胭脂味 。人雁南飞转身一瞥你噙泪 ，掬一把月手揽回忆怎么睡 ，又怎么会心事密缝绣花鞋 ，针针怨对 ，若花怨蝶你会怨着谁 ，无关风月我题序等你回， 悬笔一绝那岸边浪千叠 ，情字何解怎落笔都不对 ，而我独缺你一生的了解， 无关风月我题序等你回 ，手书无愧无惧人间是非， 雨打蕉叶又潇潇了几夜 ，我等春雷来提醒你爱谁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5405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525920"/>
          </a:xfrm>
          <a:prstGeom prst="rect">
            <a:avLst/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465e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东晋书法家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字逸少，号澹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有书圣之称。历任秘书郞、宁远将军、江州刺史。后为会稽内史，领右将军，人称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“王右军”、“王会稽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其子王献之书法亦佳，世人合称为“二王”。此后历代王氏家族书法人才辈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7240" y="6165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历代书家都推《兰亭》为“天下第一行书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羲之将《兰亭序》视为传家宝，并代代相传，一直到王家的七世孙智永手中。可是，智永不知何故出家为僧，身后自然没有子嗣，就将祖传真本传给了弟子——辨才和尚。 从此引出一段，唐太宗骗取《兰亭序》，原迹随唐太宗陪葬昭陵的故事。这一段故事，更增添了《兰亭序》的传奇色彩和神秘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太宗得到《兰亭》后，曾命弘文馆拓书名手冯承素以及虞世南、褚遂良诸人钩摹数本副本，分赐亲贵近臣。太宗死，以真迹殉葬。现传世的《兰亭序》已非王羲之真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冯承素摹的《兰亭序》纸本，现北京故宫博物院收藏，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4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9.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-85680"/>
            <a:ext cx="71294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54220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61236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3:25:24Z</dcterms:created>
  <dc:creator>Lenovo User</dc:creator>
  <dc:description/>
  <dc:language>en-US</dc:language>
  <cp:lastModifiedBy>Lenovo User</cp:lastModifiedBy>
  <dcterms:modified xsi:type="dcterms:W3CDTF">2010-12-23T03:25:36Z</dcterms:modified>
  <cp:revision>21</cp:revision>
  <dc:subject/>
  <dc:title>幻灯片 1</dc:title>
</cp:coreProperties>
</file>