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gif" ContentType="image/gif"/>
  <Override PartName="/ppt/media/image20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6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14.jpeg" ContentType="image/jpeg"/>
  <Override PartName="/ppt/media/image23.gif" ContentType="image/gif"/>
  <Override PartName="/ppt/media/image16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B833-4EF5-4A3D-9C28-B68A07FAA3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4E6F-04F2-4A7D-9170-9F763CDB2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9769-565D-47C7-ADFD-DC3D0C5B6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EDB-8591-4D62-BF62-EF8EA09EB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CA4F-39F9-40A6-A70C-DCFD92FAF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0C4B-F8E3-4AFC-A685-4591B8181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38D-1F2C-46E4-8F7B-9FE8060AD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ED85-D10C-43A4-B085-0C9792967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7817-79A8-4EA0-975E-93BC7C95D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68C-EBB2-47BC-8D3E-70980B4AD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EA9-E6A7-42D9-B83C-F959E4BB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45E-DDA2-40EB-B8D2-FE62B6F6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19696-E22F-4B1F-93B9-223FD90A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E0DC1-A685-4244-9A57-CCE37C6F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12F8F-EFA3-45C7-8FB7-2872539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7B4C3-8725-4AEF-AECF-A8CFA63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29B21-3710-4E7F-A080-7591DF7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82DAC-CAEA-4567-80E9-2113FEB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11CE7-34A3-4365-9D1B-4841BF75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9DF3-1DB9-446A-B715-2BA09247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C6DE5-0F5A-4C4D-883A-44F0275E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FC3-F651-4FAF-A6FC-C838FFB7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D01-485C-4FAD-8670-0C2D99F9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B38-3069-4619-A63D-801AA2F9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DDAD-0E0B-403A-93CA-E8A76BC7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A4FA-2FB9-448E-8882-C6A526E9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2932-A858-4E42-BE1D-5D09A1D5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C19-E749-46AB-8F89-2BE55CC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2605-1F25-43C8-9D31-0B6B7CDD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E1FA-106C-446E-BB5C-F2C304E0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BAD-BDDF-4773-ACA8-5E9EE7A2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B123-DCB9-4A03-806C-E140870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8CD1-12CB-4C6A-AE51-0358DBF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214A-BAF8-442D-BC05-3463ECAE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506-5F84-4074-93E3-C081E245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A1BD-ED17-4442-A366-8C0C458F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3DC4-862C-4801-B340-7B46C212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9388-5CFC-488C-B870-E641EE2D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9512-D74F-4619-B0FF-D17D01D0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40FE-FD74-4164-8481-ACC7D551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EE77-93CE-46A0-BDF1-3E1ED12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76A-1FAF-4CFE-97EA-45295EB7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BD11-1921-4B3B-BED3-8285F9E5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A2D1-3288-4B0D-B312-AE9A9EDD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8920-31F4-45B9-92C8-C5BBDEF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FF5F-EA54-4CFC-8C5D-95FDB441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7E88-21EF-4AFF-BD3F-A4C7C04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5966-F21C-4B01-9292-FF34948E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C3CA-B666-42AC-8B7C-71F12D7B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AFC84-1EAD-4170-AADB-AB1146F1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FF2D-6BC8-4F6F-837F-198B58D7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3AC1-A1C7-429F-8297-404212C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017-5D96-454E-BA15-98F5676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C34A-A5CD-43DB-87DC-48E50D91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7A5C3-1571-45CE-BC99-86B5E5E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CC0F-9B13-4436-B7FB-556054D5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1E5F-836E-413E-A446-B83AB66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5E25-4338-4821-993B-C16EBFD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B616-21E4-4BEA-9C3F-4DE6065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76FA-C516-4824-94C1-1354502D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ACB3-A8BF-4C9C-8555-233D5265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BF75-7417-4A46-B5D2-5FDB2966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38CE7-B9EE-4F9B-9289-BB86BD0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9C5-E574-413C-9395-FC41F342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C083-E63C-4A4A-85FF-985B9F3E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199E-9331-41FD-A86A-02315DC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47E1-09BF-42ED-A721-4F711F6C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5E070-7863-4B0D-A9B5-43C5673F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F138-FD33-4ED5-B680-B08F33B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28F3-9585-4160-8557-FBA4CF9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0A2A-27D0-4511-9B08-5C39DE5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076A-33CA-40E6-A1F9-F7BF3D7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C2BC-1CA1-43FA-9D85-6FD72F3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CF72-C921-4612-B9CE-CC8C6178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920-CD46-49CF-9C36-D938780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DB79-AEDA-4E54-9A4C-BA5A423B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E6BF-82A5-4032-B47E-BACCCFE9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AEF96-7DB5-481E-8C1A-1347738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694FE-45DF-4B40-B356-75478EC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FF21-9FD4-42A2-AA04-0E178E9B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D262-BC8E-4375-BED9-15C5348B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9A32-0105-48AC-BAA1-6452E156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2977-7FBE-4F91-8687-003A8E21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6D5E-AB94-4B4A-8B9A-B2776C8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49E95-D879-4574-BB40-F859454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862-D575-46EA-9C36-0C027CB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63B9D-90F5-461A-9CDF-E09DAFE8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EF148-0E76-42F1-A37E-A680B303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C53D5-B7C4-4A8B-88CA-A501FB8B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480D-9B7F-4D70-A600-0577DB04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713F0-1FE6-4236-A0A8-9C78518C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C0A7A-829D-46E8-A9A4-DC92A493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2034-FD86-44CF-8819-4873B0C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85A4C-4445-467B-B4CC-B94EDC6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208D0-3024-4482-BDBD-60E9D3F5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DCEFD-957C-4C68-B85E-55870C3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F65-0AD3-4BEC-AE04-E43EDE7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8EDE-CB82-4FEE-AD30-0FB85C8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58CD-4962-43E8-AEDE-9F62EBED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824E-C847-4AD7-BB6F-C76731B9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1BBC-64DE-4FD7-853B-DB99567C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4BAE9-558F-41B0-A72C-72D06895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8B35E-DFC2-4933-AD7F-A754869D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D76F4-0AFD-44B2-9ACF-7B002E1A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FECFE-1980-4105-83F6-F34112A7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10B7-DAD4-47B8-B644-CE804CE1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F8D1-104B-4E2D-8215-0C439CB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E70-0D6C-4C7E-BCA6-22FAFCB3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2BB07-0A9F-497D-ACBE-BF9599B0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A0E40-9B2E-4AA1-A4A5-DF816F4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9B8BE-7EAA-4545-A4CA-223B3BE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35EC9-3439-4752-ABA3-B8F4A44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2B48D-D9F5-4116-8E6D-984EE56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BF091-3BD6-47D4-BBB1-DDC296C6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ECED3-95CE-43DC-B526-33477537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E752F-6868-4986-965F-E766C091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74F12-442C-42F8-9129-6B4DBFE3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9D1D8-BED3-40AE-ABCB-127DBA0D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A267-B9CC-4D77-8605-92F67007F328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4AF6-26CB-47DF-A4F1-066193444D84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3BD1-6D82-41C6-BEEF-B15B9E836844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D95D-DDBE-4B90-B5AA-5E1212C2FE62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47B4-C129-4391-8CB3-C19D2A75A394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502-8696-4992-AD46-8ACB3500D98C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BD18-D947-4A8B-8C84-FA382C6AF290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083-2325-48FB-A375-303CD4885595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CBA8-F794-4E66-A7AD-D467FAF97B05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oujin_khGmwyIs3V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Franklin Gothic Medium"/>
              </a:rPr>
              <a:t>老人与海</a:t>
            </a:r>
            <a:endParaRPr b="0" lang="en-US" sz="8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508720" y="364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cc33"/>
                </a:solidFill>
                <a:latin typeface="Franklin Gothic Book"/>
                <a:ea typeface="华文楷体"/>
              </a:rPr>
              <a:t>海明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8796240" cy="3614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HaoSc25_1065_200525115329734"/>
          <p:cNvPicPr/>
          <p:nvPr/>
        </p:nvPicPr>
        <p:blipFill>
          <a:blip r:embed="rId2"/>
          <a:stretch/>
        </p:blipFill>
        <p:spPr>
          <a:xfrm>
            <a:off x="7885080" y="4869000"/>
            <a:ext cx="666720" cy="139068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1357920" y="353880"/>
            <a:ext cx="28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海明威</a:t>
            </a:r>
            <a:r>
              <a:rPr b="1" i="1" lang="en-US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《</a:t>
            </a:r>
            <a:r>
              <a:rPr b="1" i="1" lang="zh-CN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谈创作</a:t>
            </a:r>
            <a:r>
              <a:rPr b="1" i="1" lang="en-US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6920" y="263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华文楷体"/>
              </a:rPr>
              <a:t>           </a:t>
            </a:r>
            <a:r>
              <a:rPr b="1" lang="zh-CN" sz="3600" spc="-1" strike="noStrike">
                <a:solidFill>
                  <a:srgbClr val="cc00ff"/>
                </a:solidFill>
                <a:latin typeface="Tahoma"/>
                <a:ea typeface="华文楷体"/>
              </a:rPr>
              <a:t>他始终抱着一个信念：捕到鱼，并顺利返回，他充满自信，虽没有达到目的，却战胜了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HaoSc25_1066_200525115419360"/>
          <p:cNvPicPr/>
          <p:nvPr/>
        </p:nvPicPr>
        <p:blipFill>
          <a:blip r:embed="rId1"/>
          <a:stretch/>
        </p:blipFill>
        <p:spPr>
          <a:xfrm>
            <a:off x="755640" y="26028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467" name="矩形 4"/>
          <p:cNvSpPr/>
          <p:nvPr/>
        </p:nvSpPr>
        <p:spPr>
          <a:xfrm>
            <a:off x="1357200" y="471492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Franklin Gothic Book"/>
                <a:ea typeface="华文楷体"/>
              </a:rPr>
              <a:t>老人在精神的挣扎中体现了自我的人格尊严和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3"/>
          <p:cNvSpPr txBox="1"/>
          <p:nvPr/>
        </p:nvSpPr>
        <p:spPr>
          <a:xfrm>
            <a:off x="826920" y="907920"/>
            <a:ext cx="39340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析人物形象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166760" y="1994040"/>
            <a:ext cx="729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桑地亚哥是位身体强壮的老人，是位有旺盛的精力和惊人的毅力的老人，是位聪明的老人，是位有着丰富打鱼经验的老人，是位临危不乱的老人，是位勇敢的老人，是位坚强的老人，是位果断的老人，是位善良的老人，是位幽默的老人，是位乐观的老人，是位永不放弃的老人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539640" y="1413000"/>
            <a:ext cx="799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笔下的人物大多是百折不弯的硬汉形象，尤以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中的桑地亚哥最为典型。请大家在课文中找出一句可以概括这类硬汉的性格特点的话，在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个回合中分别找出一个可以验证这种硬汉性格的细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1"/>
          <p:cNvSpPr/>
          <p:nvPr/>
        </p:nvSpPr>
        <p:spPr>
          <a:xfrm>
            <a:off x="1071720" y="1071720"/>
            <a:ext cx="600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渔夫虽然老了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倒霉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失败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他仍旧坚持努力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而能在失败的风度上赢得胜利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这部小说表现了一种奋斗的人生观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即使面对的是不可征服的大自然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人仍然可以得到精神上的胜利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也许结果是失败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在奋斗的过程中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我们可以看到一个人如何成为一个顶天立地的大丈夫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403280" y="206064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通过这些情节，我们可以看出老人桑地亚哥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楷体"/>
              </a:rPr>
              <a:t>坚强、刚毅、勇敢、无畏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地面对痛苦和死亡，我们还可以通过老人的内心独白发现老人在困难面前，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楷体"/>
              </a:rPr>
              <a:t>不胆怯、勇于挑战、自信、自强、决不屈服的硬汉子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形象，在和鲨鱼的搏斗中，</a:t>
            </a:r>
            <a:r>
              <a:rPr b="1" lang="zh-CN" sz="32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表现出了无与伦比的力量和勇气，不失人的尊严，是精神上的胜利者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826920" y="907920"/>
            <a:ext cx="39340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析人物形象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diamond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4200" y="2858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补充：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象征意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285840" y="928800"/>
            <a:ext cx="8001000" cy="3080160"/>
          </a:xfrm>
          <a:prstGeom prst="rect">
            <a:avLst/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这个的形象意义：这部小说是根据一位古巴渔夫的真实经历创作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以摄象机般的写实手法记录了圣地亚哥老人捕鱼的全过程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塑造了一个在重压下仍然保持幽雅风度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在精神上永远不可战胜的老人形象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用马林鱼象征人生的理想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用鲨鱼象征无法摆脱的悲剧命运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用大海象征变化无常的人类社会，而桑提亚哥则是人类中的勇于与强大势力搏斗的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硬汉子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代表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他那捕鱼的不幸遭遇象征人类总是与厄运不断抗争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标题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0126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214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不是为失败而生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说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人可以被毁灭，但不能被打败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TextBox 3"/>
          <p:cNvSpPr/>
          <p:nvPr/>
        </p:nvSpPr>
        <p:spPr>
          <a:xfrm>
            <a:off x="428760" y="342900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通过自由联想的方式，真实的展现了老人的思想和感受。不仅深刻的揭示了主人公内心的自豪感、坚毅以及寻求帮助的孤独感，而且闪烁着深邃丰富的哲理光彩。也真实的显示了老人的内心世界和人生追求，把一个百折不弯的“硬汉”形象展示在了读者面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标注 4"/>
          <p:cNvSpPr/>
          <p:nvPr/>
        </p:nvSpPr>
        <p:spPr>
          <a:xfrm>
            <a:off x="1000080" y="2500200"/>
            <a:ext cx="1857600" cy="785880"/>
          </a:xfrm>
          <a:prstGeom prst="wedgeRoundRectCallout">
            <a:avLst>
              <a:gd name="adj1" fmla="val -13138"/>
              <a:gd name="adj2" fmla="val -87500"/>
              <a:gd name="adj3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小说的核心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85840" y="4996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讨论探究：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70c0"/>
                </a:solidFill>
                <a:latin typeface="华文行楷"/>
                <a:ea typeface="华文行楷"/>
              </a:rPr>
              <a:t>老人乐观和不屈不挠的精神无疑是值得肯定的，但是，面对注定的失败，如此不屈不挠有意义吗？从第一条鲨鱼的出现，老人就意识到保住马林鱼的希望十分渺茫。 后来老人拼得筋疲力尽，几近死亡，大马林鱼还是被吃得只剩下一副骨架。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老人这样做值得吗？他最后是失败？还是成功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第一句话：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过程远比结果重要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。</a:t>
            </a:r>
            <a:r>
              <a:rPr b="0" lang="zh-CN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611280" y="301212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第二句话：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只要有百分之一的希望就要尽百分之百的努力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718160" y="768240"/>
            <a:ext cx="4243320" cy="56134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5435640" y="6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4" descr="196398"/>
          <p:cNvPicPr/>
          <p:nvPr/>
        </p:nvPicPr>
        <p:blipFill>
          <a:blip r:embed="rId2"/>
          <a:stretch/>
        </p:blipFill>
        <p:spPr>
          <a:xfrm>
            <a:off x="324000" y="404640"/>
            <a:ext cx="237636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12" name="Text Box 15"/>
          <p:cNvSpPr/>
          <p:nvPr/>
        </p:nvSpPr>
        <p:spPr>
          <a:xfrm>
            <a:off x="2916360" y="372960"/>
            <a:ext cx="5987880" cy="2531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欧内斯特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米勒尔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Ernest Hemingway 1899—1961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）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Franklin Gothic Book"/>
                <a:ea typeface="华文行楷"/>
              </a:rPr>
              <a:t>美国小说家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他于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899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生于芝加哥附近的一个乡村医生家庭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，排行老二。曾参加第一次世界大战，后担任驻欧洲记者，并以记者身份参加了第二次世界大战和西班牙内战。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1954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年获诺贝尔文学奖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晚年患多种疾病，精神抑郁，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961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自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46836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Franklin Gothic Book"/>
                <a:ea typeface="黑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标题 1" descr=""/>
          <p:cNvPicPr/>
          <p:nvPr/>
        </p:nvPicPr>
        <p:blipFill>
          <a:blip r:embed="rId1"/>
          <a:stretch/>
        </p:blipFill>
        <p:spPr>
          <a:xfrm>
            <a:off x="1420920" y="1006560"/>
            <a:ext cx="891216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一个胜利的失败者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一个失败的英雄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5" name="Picture 4" descr="u=2137267441,3600257464&amp;fm=3&amp;gp=1"/>
          <p:cNvPicPr/>
          <p:nvPr/>
        </p:nvPicPr>
        <p:blipFill>
          <a:blip r:embed="rId2"/>
          <a:stretch/>
        </p:blipFill>
        <p:spPr>
          <a:xfrm>
            <a:off x="0" y="2000160"/>
            <a:ext cx="259236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6" name="右大括号 4"/>
          <p:cNvSpPr/>
          <p:nvPr/>
        </p:nvSpPr>
        <p:spPr>
          <a:xfrm>
            <a:off x="7000920" y="2786040"/>
            <a:ext cx="500040" cy="15717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71760"/>
              <a:gd name="textAreaBottom" fmla="*/ 155880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16200" y="10800"/>
                  <a:pt x="21600" y="10800"/>
                </a:cubicBezTo>
                <a:cubicBezTo>
                  <a:pt x="162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7512120" y="1000080"/>
            <a:ext cx="8506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无与伦比的勇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台湾作家李湃曾说过：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我在想，男人的骨子里缺少一点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什么</a:t>
            </a: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的时候，就自然会想到海明威。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928800" y="4143240"/>
            <a:ext cx="55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什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”</a:t>
            </a: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到底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1500120" y="5000760"/>
            <a:ext cx="5072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勇气、、、、、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208080" y="974880"/>
            <a:ext cx="8466120" cy="1738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753840" y="300024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ranklin Gothic Book"/>
              </a:rPr>
              <a:t>勇气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是海明威的中心主题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2073240" y="-28584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3"/>
          <p:cNvSpPr/>
          <p:nvPr/>
        </p:nvSpPr>
        <p:spPr>
          <a:xfrm>
            <a:off x="5076720" y="2896920"/>
            <a:ext cx="37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明知是个死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也要宝剑出鞘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这叫亮剑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没这个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楷体"/>
              </a:rPr>
              <a:t>勇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你就别当剑客。倒在对手剑下算不上丢脸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那叫虽败犹荣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要是不敢亮剑，你以后就别在江湖上混啦。咱独立团不当孬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鬼子来一个小队，咱亮剑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来一个大队也照样亮剑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0bcb62d39ae07af5a8ec9a6e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23720" y="2062080"/>
            <a:ext cx="7140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99"/>
                </a:solidFill>
                <a:latin typeface="Franklin Gothic Book"/>
                <a:ea typeface="华文行楷"/>
              </a:rPr>
              <a:t>从他身上你获得什么启发或者感悟？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Franklin Gothic Book"/>
                <a:ea typeface="华文行楷"/>
              </a:rPr>
              <a:t>  </a:t>
            </a:r>
            <a:r>
              <a:rPr b="1" lang="zh-CN" sz="3400" spc="-1" strike="noStrike">
                <a:solidFill>
                  <a:srgbClr val="ff3300"/>
                </a:solidFill>
                <a:latin typeface="Franklin Gothic Book"/>
                <a:ea typeface="华文行楷"/>
              </a:rPr>
              <a:t>如果有一天厄运来临，我、、、、、、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华文行楷"/>
                <a:ea typeface="华文行楷"/>
              </a:rPr>
              <a:t>我的感悟和启示：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0" y="16430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en-US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*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一个人的成功并不在于他获得了什么，重要的是在这个过程中体现出来的勇敢、坚强、执着的精神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*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试着把困难和挫折当做一顿难吃的早餐，咽一咽总会吞下去的。记住，难吃的背后意味着营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*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努力不一定会成功，但不努力一定不会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611280" y="206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行楷"/>
                <a:ea typeface="华文行楷"/>
              </a:rPr>
              <a:t>当我们在自己的人生路上遇到前所未有的苦难的时候，让我们回想一下这个孤独的老人，想想那在大海上孤独地与强敌战斗的“硬汉”。这样，我们是不是就会发现其实有很多困难并没有想象中的那么不可战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285840" y="785880"/>
            <a:ext cx="1119240" cy="76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寄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http://www.cic-ghc.com/upload/2009-08-18/12505704791146.jpg"/>
          <p:cNvPicPr/>
          <p:nvPr/>
        </p:nvPicPr>
        <p:blipFill>
          <a:blip r:embed="rId1"/>
          <a:stretch/>
        </p:blipFill>
        <p:spPr>
          <a:xfrm>
            <a:off x="-66600" y="-357120"/>
            <a:ext cx="92106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标题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0126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214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1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每一天都是一个新的日子。走运当然是好。不过我情愿做到分毫不差。这样，运气来的时候，你就有所准备了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Every day is a new day. It is better to be lucky. But I would rather be exact. Then when luck comes you are ready.) 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　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       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2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不过话得说回来，没有一桩事是容易的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But, then, nothing is easy.)</a:t>
            </a:r>
            <a:br>
              <a:rPr sz="2400"/>
            </a:b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　　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3.“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不过人不是为失败而生的，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”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他说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,“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一个人可以被毁灭，但不能被打败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”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。（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But man is not made for defeat, a man can be destroyed but not defeated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）</a:t>
            </a:r>
            <a:br>
              <a:rPr sz="2400"/>
            </a:b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　　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4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现在不是去想缺少什么的时候，该想一想凭现有的东西你能做什么。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Now is no time to think of what you do not have. Think of what you can do with what there is.)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       5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人不抱希望是很傻的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 It is silly not to hope, he thought.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愿同学们铭记这些闪烁着人类智慧和勇气光芒的精彩语句，并把它们化作直面人生、战胜困难的精神力量！ </a:t>
            </a:r>
            <a:br>
              <a:rPr sz="3600"/>
            </a:b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emimgway in Spanish Civil War"/>
          <p:cNvPicPr/>
          <p:nvPr/>
        </p:nvPicPr>
        <p:blipFill>
          <a:blip r:embed="rId1"/>
          <a:stretch/>
        </p:blipFill>
        <p:spPr>
          <a:xfrm>
            <a:off x="4572000" y="476280"/>
            <a:ext cx="3268800" cy="2446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Hemingway with marlin catch"/>
          <p:cNvPicPr/>
          <p:nvPr/>
        </p:nvPicPr>
        <p:blipFill>
          <a:blip r:embed="rId2"/>
          <a:stretch/>
        </p:blipFill>
        <p:spPr>
          <a:xfrm>
            <a:off x="4572000" y="3716280"/>
            <a:ext cx="3257640" cy="2560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海明威高中畢業照"/>
          <p:cNvPicPr/>
          <p:nvPr/>
        </p:nvPicPr>
        <p:blipFill>
          <a:blip r:embed="rId3"/>
          <a:stretch/>
        </p:blipFill>
        <p:spPr>
          <a:xfrm>
            <a:off x="755640" y="765000"/>
            <a:ext cx="2849400" cy="381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5"/>
          <p:cNvSpPr/>
          <p:nvPr/>
        </p:nvSpPr>
        <p:spPr>
          <a:xfrm>
            <a:off x="1116000" y="47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青年时代的海明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5219640" y="3068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参战的海明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669640" y="630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捕获马林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3" descr="老人与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14"/>
          <p:cNvSpPr txBox="1"/>
          <p:nvPr/>
        </p:nvSpPr>
        <p:spPr>
          <a:xfrm>
            <a:off x="2916360" y="19890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304920" y="152280"/>
            <a:ext cx="1963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Franklin Gothic Book"/>
                <a:ea typeface="黑体"/>
              </a:rPr>
              <a:t>作品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04920" y="1066680"/>
            <a:ext cx="8381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95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海明威的中篇小说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出版，仅仅４８小时就销量惊人，当年获得了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Franklin Gothic Book"/>
                <a:ea typeface="华文行楷"/>
              </a:rPr>
              <a:t>普利策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文学奖。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954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，海明威因为“</a:t>
            </a:r>
            <a:r>
              <a:rPr b="1" i="1" lang="zh-CN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精通于叙事艺术，突出地表现在他的近著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《</a:t>
            </a:r>
            <a:r>
              <a:rPr b="1" i="1" lang="zh-CN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老人与海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》</a:t>
            </a:r>
            <a:r>
              <a:rPr b="1" i="1" lang="zh-CN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之中；同时也因为他在当代风格中所发挥的影响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”而获得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诺贝尔文学奖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是海明威全部创作中的瑰宝，是美国历史上里程碑式的３２本书之一，也是世界文学宝库中的珍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371600" y="5334120"/>
            <a:ext cx="7086600" cy="520560"/>
          </a:xfrm>
          <a:prstGeom prst="rect">
            <a:avLst/>
          </a:prstGeom>
          <a:noFill/>
          <a:ln w="7632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每一句话和每一段落，都要尽量写得简洁。”这是海明威写作的信条之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28600" y="228600"/>
            <a:ext cx="3657600" cy="94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Franklin Gothic Book"/>
                <a:ea typeface="黑体"/>
              </a:rPr>
              <a:t>中外学人对海明威的评价及纪念文章选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380880" y="1447920"/>
            <a:ext cx="8077320" cy="977400"/>
          </a:xfrm>
          <a:prstGeom prst="rect">
            <a:avLst/>
          </a:prstGeom>
          <a:noFill/>
          <a:ln w="7632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是一首田园诗，大海就是大海，不是拜伦式的，不是麦尔维尔式的，好比荷马的手笔；行文又沉着又动人，犹如荷马的诗。真正的艺术家既不象征化，也不寓言化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是一位真正的艺术家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是任何一部真正的艺术品都能散发出象征和寓言的意味，这一部短小但并不渺小的杰作也是如此。 </a:t>
            </a:r>
            <a:br>
              <a:rPr sz="30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美国艺术史家 　　贝瑞孙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447920" y="914400"/>
            <a:ext cx="7086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麦尔维尔的作品大多以海洋和海岛生活为内容，以描写奇异的海上历险和海岛风土人情来反映社会现实、表明思想态度。他的小说往往流露出对现代西方文明的憎恨、对下层人民的同情和对正义的人道主义的追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50920" y="1268280"/>
            <a:ext cx="8534160" cy="1373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可以失败，但不可以被击败，外在的肉体可以接受折磨，但是内在的意志却是神圣不可侵犯的，这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人与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再强调的论点。真正的大师都是用最简单的语言来表达最深刻的道理，真正的好作品都是用生命的历练做题材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人与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刻画出来的正是海明威的一辈子最好的画像，正如海明威所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一直读过２００多遍，每读一次，我就多一份收获，好像我最后得到了我这一生辛苦工作所欲得到的东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台湾学者 陈人孝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838080" y="1447920"/>
            <a:ext cx="754380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的作品把叙事的准确性与简洁性统一起来，但是主题却异常深刻地印在读者的脑海里。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是中国读者中阅读最多的诺贝尔获奖作品，是海明威的经典之作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青年作家 李  湃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14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2_28-3-326_2002011593310"/>
          <p:cNvPicPr/>
          <p:nvPr/>
        </p:nvPicPr>
        <p:blipFill>
          <a:blip r:embed="rId1"/>
          <a:stretch/>
        </p:blipFill>
        <p:spPr>
          <a:xfrm>
            <a:off x="250920" y="549360"/>
            <a:ext cx="3097080" cy="511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7" name="Text Box 4"/>
          <p:cNvSpPr/>
          <p:nvPr/>
        </p:nvSpPr>
        <p:spPr>
          <a:xfrm>
            <a:off x="4284720" y="404640"/>
            <a:ext cx="33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老人与海</a:t>
            </a:r>
            <a:r>
              <a:rPr b="1" lang="en-US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原型人物佛恩特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635280" y="2133720"/>
            <a:ext cx="48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海明威经典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老人与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he old man and the se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书中的主人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antiag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 据说灵感即是得自好友佛恩特斯。佛恩特斯被认为是书中主角“老人”，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岁高龄辞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rnest Hemingway receiving the Nobel Prize"/>
          <p:cNvPicPr/>
          <p:nvPr/>
        </p:nvPicPr>
        <p:blipFill>
          <a:blip r:embed="rId1"/>
          <a:stretch/>
        </p:blipFill>
        <p:spPr>
          <a:xfrm>
            <a:off x="5508720" y="2708280"/>
            <a:ext cx="2828880" cy="3124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Hemingway at writing desk"/>
          <p:cNvPicPr/>
          <p:nvPr/>
        </p:nvPicPr>
        <p:blipFill>
          <a:blip r:embed="rId2"/>
          <a:stretch/>
        </p:blipFill>
        <p:spPr>
          <a:xfrm>
            <a:off x="684360" y="404640"/>
            <a:ext cx="3809880" cy="43434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4"/>
          <p:cNvSpPr/>
          <p:nvPr/>
        </p:nvSpPr>
        <p:spPr>
          <a:xfrm>
            <a:off x="1476360" y="494172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写作时的海明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6084720" y="1916280"/>
            <a:ext cx="21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获诺贝尔奖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http://news.xinhuanet.com/world/2005-07/27/xinsrc_432070227080181226901.jpg"/>
          <p:cNvPicPr/>
          <p:nvPr/>
        </p:nvPicPr>
        <p:blipFill>
          <a:blip r:embed="rId1"/>
          <a:stretch/>
        </p:blipFill>
        <p:spPr>
          <a:xfrm>
            <a:off x="5929200" y="2643120"/>
            <a:ext cx="3214800" cy="42148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5"/>
          <p:cNvSpPr/>
          <p:nvPr/>
        </p:nvSpPr>
        <p:spPr>
          <a:xfrm>
            <a:off x="6658560" y="0"/>
            <a:ext cx="115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海明威主要作品</a:t>
            </a:r>
            <a:r>
              <a:rPr b="1" lang="en-US" sz="32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85840" y="664920"/>
            <a:ext cx="6429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太阳照常升起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Sun Also Ri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永别了，武器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Farewell to A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五纵队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西班牙大地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fifth columns, Spain the ear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曙光示真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rue at First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固定的圣节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Moveable F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过河入林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cross the River and into the T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丧钟为谁而鸣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For Whom the Bell To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危险的夏天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Dangerous sum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老人与海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Old Man and the S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伊甸园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Garden of E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死在午后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Die in the afternoon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岛在湾流中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Island in the Gulf 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钱人和没钱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Rich man and no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乞力马扎罗的雪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Snows of Kilimanja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条好汉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Man of the World)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老人</a:t>
            </a: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与</a:t>
            </a:r>
            <a:r>
              <a:rPr b="0" lang="zh-TW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海</a:t>
            </a:r>
            <a:br>
              <a:rPr sz="4000"/>
            </a:br>
            <a:r>
              <a:rPr b="0" lang="en-US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The Old Man and the S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古巴老渔民桑地亚哥已经八十四天没有捕到鱼了。这一天碰上了好运气，他捕到了一条特大的马林鱼，他把六盘绳子拧在一起拖鱼都险些把绳子绷断。正当老人高兴地返航时却遇到了鲨鱼的来袭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oldman2s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WordArt 6" descr=""/>
          <p:cNvPicPr/>
          <p:nvPr/>
        </p:nvPicPr>
        <p:blipFill>
          <a:blip r:embed="rId2"/>
          <a:stretch/>
        </p:blipFill>
        <p:spPr>
          <a:xfrm>
            <a:off x="500040" y="152280"/>
            <a:ext cx="1743120" cy="6291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13"/>
          <p:cNvPicPr/>
          <p:nvPr/>
        </p:nvPicPr>
        <p:blipFill>
          <a:blip r:embed="rId3"/>
          <a:stretch/>
        </p:blipFill>
        <p:spPr>
          <a:xfrm>
            <a:off x="6948360" y="765000"/>
            <a:ext cx="1219320" cy="5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4"/>
          <p:cNvSpPr/>
          <p:nvPr/>
        </p:nvSpPr>
        <p:spPr>
          <a:xfrm>
            <a:off x="3799800" y="189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请大家快速阅读课文，填写下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39640" y="907920"/>
          <a:ext cx="7920000" cy="5616720"/>
        </p:xfrm>
        <a:graphic>
          <a:graphicData uri="http://schemas.openxmlformats.org/drawingml/2006/table">
            <a:tbl>
              <a:tblPr/>
              <a:tblGrid>
                <a:gridCol w="1236600"/>
                <a:gridCol w="1319400"/>
                <a:gridCol w="1341360"/>
                <a:gridCol w="1341360"/>
                <a:gridCol w="1339920"/>
                <a:gridCol w="134136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四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五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4e3b30"/>
                          </a:solidFill>
                          <a:latin typeface="Comic Sans MS"/>
                        </a:rPr>
                        <a:t>攻 击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4e3b30"/>
                          </a:solidFill>
                          <a:latin typeface="Comic Sans MS"/>
                        </a:rPr>
                        <a:t>数 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作 战工 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结 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69"/>
          <p:cNvSpPr/>
          <p:nvPr/>
        </p:nvSpPr>
        <p:spPr>
          <a:xfrm>
            <a:off x="5416560" y="673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0"/>
          <p:cNvSpPr/>
          <p:nvPr/>
        </p:nvSpPr>
        <p:spPr>
          <a:xfrm>
            <a:off x="1908000" y="220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鲭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1"/>
          <p:cNvSpPr/>
          <p:nvPr/>
        </p:nvSpPr>
        <p:spPr>
          <a:xfrm>
            <a:off x="3276720" y="220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星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2"/>
          <p:cNvSpPr/>
          <p:nvPr/>
        </p:nvSpPr>
        <p:spPr>
          <a:xfrm>
            <a:off x="1908000" y="328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3"/>
          <p:cNvSpPr/>
          <p:nvPr/>
        </p:nvSpPr>
        <p:spPr>
          <a:xfrm>
            <a:off x="190800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鱼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4"/>
          <p:cNvSpPr/>
          <p:nvPr/>
        </p:nvSpPr>
        <p:spPr>
          <a:xfrm>
            <a:off x="1835280" y="51577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杀死鲭鲨，大鱼被吃掉四十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6"/>
          <p:cNvSpPr/>
          <p:nvPr/>
        </p:nvSpPr>
        <p:spPr>
          <a:xfrm>
            <a:off x="327672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两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7"/>
          <p:cNvSpPr/>
          <p:nvPr/>
        </p:nvSpPr>
        <p:spPr>
          <a:xfrm>
            <a:off x="3203640" y="4221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绑着刀子的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9"/>
          <p:cNvSpPr/>
          <p:nvPr/>
        </p:nvSpPr>
        <p:spPr>
          <a:xfrm>
            <a:off x="3132000" y="5157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杀死两条星鲨，大鱼被吃掉四分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0"/>
          <p:cNvSpPr/>
          <p:nvPr/>
        </p:nvSpPr>
        <p:spPr>
          <a:xfrm>
            <a:off x="4427640" y="220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犁头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1"/>
          <p:cNvSpPr/>
          <p:nvPr/>
        </p:nvSpPr>
        <p:spPr>
          <a:xfrm>
            <a:off x="4572000" y="32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4"/>
          <p:cNvSpPr/>
          <p:nvPr/>
        </p:nvSpPr>
        <p:spPr>
          <a:xfrm>
            <a:off x="4572000" y="42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绑着刀子的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5"/>
          <p:cNvSpPr/>
          <p:nvPr/>
        </p:nvSpPr>
        <p:spPr>
          <a:xfrm>
            <a:off x="4427640" y="515772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杀死犁头鲨，刀子被折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6"/>
          <p:cNvSpPr/>
          <p:nvPr/>
        </p:nvSpPr>
        <p:spPr>
          <a:xfrm>
            <a:off x="5940360" y="220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星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7"/>
          <p:cNvSpPr/>
          <p:nvPr/>
        </p:nvSpPr>
        <p:spPr>
          <a:xfrm>
            <a:off x="594036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两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8"/>
          <p:cNvSpPr/>
          <p:nvPr/>
        </p:nvSpPr>
        <p:spPr>
          <a:xfrm>
            <a:off x="594036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短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9"/>
          <p:cNvSpPr/>
          <p:nvPr/>
        </p:nvSpPr>
        <p:spPr>
          <a:xfrm>
            <a:off x="5724360" y="515772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两条星鲨受重伤，大鱼的半个身子都被咬烂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0"/>
          <p:cNvSpPr/>
          <p:nvPr/>
        </p:nvSpPr>
        <p:spPr>
          <a:xfrm>
            <a:off x="7308720" y="220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鲨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1"/>
          <p:cNvSpPr/>
          <p:nvPr/>
        </p:nvSpPr>
        <p:spPr>
          <a:xfrm>
            <a:off x="7308720" y="306864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成群结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2"/>
          <p:cNvSpPr/>
          <p:nvPr/>
        </p:nvSpPr>
        <p:spPr>
          <a:xfrm>
            <a:off x="7308720" y="414972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短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舵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3"/>
          <p:cNvSpPr/>
          <p:nvPr/>
        </p:nvSpPr>
        <p:spPr>
          <a:xfrm>
            <a:off x="7164360" y="515772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老人被打败了，大鱼只剩下残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标题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0126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http://image.wangchao.net.cn/baike/1262053917587.jpg"/>
          <p:cNvPicPr/>
          <p:nvPr/>
        </p:nvPicPr>
        <p:blipFill>
          <a:blip r:embed="rId2"/>
          <a:stretch/>
        </p:blipFill>
        <p:spPr>
          <a:xfrm>
            <a:off x="1928880" y="1143000"/>
            <a:ext cx="5181480" cy="52149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9"/>
          <p:cNvSpPr/>
          <p:nvPr/>
        </p:nvSpPr>
        <p:spPr>
          <a:xfrm>
            <a:off x="9925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星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图片 10" descr="00.jpg"/>
          <p:cNvPicPr/>
          <p:nvPr/>
        </p:nvPicPr>
        <p:blipFill>
          <a:blip r:embed="rId3"/>
          <a:stretch/>
        </p:blipFill>
        <p:spPr>
          <a:xfrm>
            <a:off x="1928880" y="1143000"/>
            <a:ext cx="542916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1"/>
          <p:cNvSpPr/>
          <p:nvPr/>
        </p:nvSpPr>
        <p:spPr>
          <a:xfrm>
            <a:off x="2807640" y="274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犁头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3" descr="000.jpg"/>
          <p:cNvPicPr/>
          <p:nvPr/>
        </p:nvPicPr>
        <p:blipFill>
          <a:blip r:embed="rId4"/>
          <a:stretch/>
        </p:blipFill>
        <p:spPr>
          <a:xfrm>
            <a:off x="1785960" y="928800"/>
            <a:ext cx="6000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2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fpc</cp:lastModifiedBy>
  <dcterms:modified xsi:type="dcterms:W3CDTF">2014-03-04T14:38:19Z</dcterms:modified>
  <cp:revision>79</cp:revision>
  <dc:subject/>
  <dc:title>幻灯片 1</dc:title>
</cp:coreProperties>
</file>