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8E0B-CBDC-44D9-8834-5722F8F78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B9F3-4E83-436F-9492-6330A764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2FDF-6F51-49BE-9E3B-0052134BA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48E7-7CBD-42F6-A71D-120A2728D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37EE-41D6-4E10-91DD-112C89CE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0DBE-EFDF-4F16-90DB-A2921C4F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EFE4-676F-469B-BA90-966BC45E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C00D-75BB-4D3A-A327-54400F80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82FF-285B-4ECC-A38B-A7552EC7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57EA-BCE6-48CC-95CE-2C60B5D7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A0F6-8E5B-4F59-A1BD-312B7199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C887-768F-462B-B1B2-D9EAF250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91DB-42DA-4AD5-9FAC-B9D7AFE062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.xml"/><Relationship Id="rId3" Type="http://schemas.openxmlformats.org/officeDocument/2006/relationships/slide" Target="slide9.xml"/><Relationship Id="rId4" Type="http://schemas.openxmlformats.org/officeDocument/2006/relationships/slide" Target="slide7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87280" y="1860480"/>
            <a:ext cx="6697800" cy="149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ff00"/>
                  </a:solidFill>
                  <a:miter/>
                </a:ln>
                <a:blipFill rotWithShape="0">
                  <a:blip r:embed="rId2">
                    <a:alphaModFix amt="59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老人与海鸥</a:t>
            </a:r>
            <a:endParaRPr b="1" lang="en-US" sz="7200" spc="1" strike="noStrike">
              <a:ln w="9360">
                <a:solidFill>
                  <a:srgbClr val="00ff00"/>
                </a:solidFill>
                <a:miter/>
              </a:ln>
              <a:blipFill rotWithShape="0">
                <a:blip r:embed="rId3">
                  <a:alphaModFix amt="59000"/>
                </a:blip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6021360"/>
            <a:ext cx="1224000" cy="360360"/>
          </a:xfrm>
          <a:prstGeom prst="roundRect">
            <a:avLst>
              <a:gd name="adj" fmla="val 16667"/>
            </a:avLst>
          </a:prstGeom>
          <a:solidFill>
            <a:srgbClr val="00ff00">
              <a:alpha val="25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词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6021360"/>
            <a:ext cx="1224000" cy="360360"/>
          </a:xfrm>
          <a:prstGeom prst="roundRect">
            <a:avLst>
              <a:gd name="adj" fmla="val 16667"/>
            </a:avLst>
          </a:prstGeom>
          <a:solidFill>
            <a:srgbClr val="00ff00">
              <a:alpha val="25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第一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59280" y="6021360"/>
            <a:ext cx="1224000" cy="360360"/>
          </a:xfrm>
          <a:prstGeom prst="roundRect">
            <a:avLst>
              <a:gd name="adj" fmla="val 16667"/>
            </a:avLst>
          </a:prstGeom>
          <a:solidFill>
            <a:srgbClr val="00ff00">
              <a:alpha val="25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第二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04000" y="6021360"/>
            <a:ext cx="1224000" cy="360360"/>
          </a:xfrm>
          <a:prstGeom prst="roundRect">
            <a:avLst>
              <a:gd name="adj" fmla="val 16667"/>
            </a:avLst>
          </a:prstGeom>
          <a:solidFill>
            <a:srgbClr val="00ff00">
              <a:alpha val="25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链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69960" y="620640"/>
            <a:ext cx="5972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　在海鸥的鸣叫声里，老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抑扬顿挫地唱着什么。侧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细听，原来是亲昵得变了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的地方话——“独脚”“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头”“红嘴”“老沙”“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主”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8317080" y="6210360"/>
            <a:ext cx="647640" cy="647640"/>
          </a:xfrm>
          <a:prstGeom prst="ellipse">
            <a:avLst/>
          </a:prstGeom>
          <a:solidFill>
            <a:srgbClr val="0000ff">
              <a:alpha val="42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Arial"/>
                <a:ea typeface="华文隶书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13120" y="2062080"/>
            <a:ext cx="533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华文中宋"/>
              </a:rPr>
              <a:t>老人望着高空盘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华文中宋"/>
              </a:rPr>
              <a:t>的鸥群，眼睛里带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华文中宋"/>
              </a:rPr>
              <a:t>企盼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1" action="ppaction://hlinksldjump"/>
          </p:cNvPr>
          <p:cNvSpPr/>
          <p:nvPr/>
        </p:nvSpPr>
        <p:spPr>
          <a:xfrm>
            <a:off x="8317080" y="6210360"/>
            <a:ext cx="647640" cy="647640"/>
          </a:xfrm>
          <a:prstGeom prst="ellipse">
            <a:avLst/>
          </a:prstGeom>
          <a:solidFill>
            <a:srgbClr val="0000ff">
              <a:alpha val="42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Arial"/>
                <a:ea typeface="华文隶书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ff"/>
            </a:gs>
            <a:gs pos="100000">
              <a:srgbClr val="66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860480" y="549360"/>
            <a:ext cx="5438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意想不到的事情发生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一群海鸥突然飞来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围着</a:t>
            </a:r>
            <a:r>
              <a:rPr b="1" lang="zh-CN" sz="8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老人的</a:t>
            </a:r>
            <a:r>
              <a:rPr b="1" lang="zh-CN" sz="8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遗像</a:t>
            </a:r>
            <a:r>
              <a:rPr b="1" lang="zh-CN" sz="8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翻飞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旋，</a:t>
            </a:r>
            <a:r>
              <a:rPr b="1" lang="zh-CN" sz="8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连声鸣叫，</a:t>
            </a:r>
            <a:r>
              <a:rPr b="1" lang="zh-CN" sz="800" spc="-1" strike="noStrike">
                <a:solidFill>
                  <a:srgbClr val="000000"/>
                </a:solidFill>
                <a:latin typeface="Arial"/>
                <a:ea typeface="华文中宋"/>
              </a:rPr>
              <a:t>　　　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叫声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姿势与平时大不一样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中宋"/>
              </a:rPr>
              <a:t>，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是发生了什么大事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8317080" y="6210360"/>
            <a:ext cx="647640" cy="647640"/>
          </a:xfrm>
          <a:prstGeom prst="ellipse">
            <a:avLst/>
          </a:prstGeom>
          <a:solidFill>
            <a:srgbClr val="0000ff">
              <a:alpha val="42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Arial"/>
                <a:ea typeface="华文隶书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859040" y="1241280"/>
            <a:ext cx="6124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中宋"/>
              </a:rPr>
              <a:t>海鸥们急速扇动翅膀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中宋"/>
              </a:rPr>
              <a:t>轮流飞到老人遗像前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中宋"/>
              </a:rPr>
              <a:t>空中，像是前来瞻仰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中宋"/>
              </a:rPr>
              <a:t>容的亲属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8317080" y="6210360"/>
            <a:ext cx="647640" cy="647640"/>
          </a:xfrm>
          <a:prstGeom prst="ellipse">
            <a:avLst/>
          </a:prstGeom>
          <a:solidFill>
            <a:srgbClr val="0000ff">
              <a:alpha val="42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Arial"/>
                <a:ea typeface="华文隶书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99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014560" y="925560"/>
            <a:ext cx="5209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r>
              <a:rPr b="1" lang="zh-CN" sz="8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过了一会儿，海鸥纷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落地，竟在老人遗像前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站成了两行。它们肃立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动，像是为老人守灵的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翼天使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8317080" y="6210360"/>
            <a:ext cx="647640" cy="647640"/>
          </a:xfrm>
          <a:prstGeom prst="ellipse">
            <a:avLst/>
          </a:prstGeom>
          <a:solidFill>
            <a:srgbClr val="0000ff">
              <a:alpha val="42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Arial"/>
                <a:ea typeface="华文隶书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70280" y="1052640"/>
            <a:ext cx="5667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海鸥们像炸了营似的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遗像</a:t>
            </a: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华文中宋"/>
              </a:rPr>
              <a:t>扑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过来。它们大声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叫着，</a:t>
            </a:r>
            <a:r>
              <a:rPr b="1" lang="zh-CN" sz="8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翅膀</a:t>
            </a: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华文中宋"/>
              </a:rPr>
              <a:t>扑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得那样近</a:t>
            </a:r>
            <a:r>
              <a:rPr b="1" lang="zh-CN" sz="8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我们好不容易才从这片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动的白色旋涡中脱出身来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8317080" y="6210360"/>
            <a:ext cx="647640" cy="647640"/>
          </a:xfrm>
          <a:prstGeom prst="ellipse">
            <a:avLst/>
          </a:prstGeom>
          <a:solidFill>
            <a:srgbClr val="0000ff">
              <a:alpha val="42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Arial"/>
                <a:ea typeface="华文隶书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bbe0e3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666800" y="341280"/>
            <a:ext cx="6352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塑料   饼干   节奏   乐谱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营地   停歇   吉祥   企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相依相随  抑扬顿挫  急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褪色    撮    亲昵    啧啧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中宋"/>
                <a:ea typeface="华文中宋"/>
              </a:rPr>
              <a:t>驻足观看     滇池    旋涡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740720" y="6165720"/>
            <a:ext cx="1224000" cy="360360"/>
          </a:xfrm>
          <a:prstGeom prst="roundRect">
            <a:avLst>
              <a:gd name="adj" fmla="val 16667"/>
            </a:avLst>
          </a:prstGeom>
          <a:solidFill>
            <a:srgbClr val="ffccff">
              <a:alpha val="55000"/>
            </a:srgbClr>
          </a:solidFill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  <a:ea typeface="华文隶书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740720" y="6165720"/>
            <a:ext cx="1224000" cy="360360"/>
          </a:xfrm>
          <a:prstGeom prst="roundRect">
            <a:avLst>
              <a:gd name="adj" fmla="val 16667"/>
            </a:avLst>
          </a:prstGeom>
          <a:solidFill>
            <a:srgbClr val="ffccff">
              <a:alpha val="55000"/>
            </a:srgbClr>
          </a:solidFill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  <a:ea typeface="华文隶书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740720" y="6165720"/>
            <a:ext cx="1224000" cy="360360"/>
          </a:xfrm>
          <a:prstGeom prst="roundRect">
            <a:avLst>
              <a:gd name="adj" fmla="val 16667"/>
            </a:avLst>
          </a:prstGeom>
          <a:solidFill>
            <a:srgbClr val="ffccff">
              <a:alpha val="55000"/>
            </a:srgbClr>
          </a:solidFill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  <a:ea typeface="华文隶书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740720" y="6165720"/>
            <a:ext cx="1224000" cy="360360"/>
          </a:xfrm>
          <a:prstGeom prst="roundRect">
            <a:avLst>
              <a:gd name="adj" fmla="val 16667"/>
            </a:avLst>
          </a:prstGeom>
          <a:solidFill>
            <a:srgbClr val="ffccff">
              <a:alpha val="55000"/>
            </a:srgbClr>
          </a:solidFill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  <a:ea typeface="华文隶书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99ff99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557360"/>
            <a:ext cx="946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朋友告诉我，十多年了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一到冬天，老人每天必来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和海鸥就像亲人一样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740720" y="6165720"/>
            <a:ext cx="1224000" cy="360360"/>
          </a:xfrm>
          <a:prstGeom prst="roundRect">
            <a:avLst>
              <a:gd name="adj" fmla="val 16667"/>
            </a:avLst>
          </a:prstGeom>
          <a:solidFill>
            <a:srgbClr val="ffccff">
              <a:alpha val="55000"/>
            </a:srgbClr>
          </a:solidFill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  <a:ea typeface="华文隶书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99ff99"/>
            </a:gs>
            <a:gs pos="100000">
              <a:srgbClr val="66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4360" y="260280"/>
            <a:ext cx="946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朋友告诉我，十多年了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一到冬天，老人每天必来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华文中宋"/>
              </a:rPr>
              <a:t>和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海鸥就像亲人一样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52480" y="3645000"/>
            <a:ext cx="6185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朋友告诉我，十多年了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一到冬天，老人每天必来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华文中宋"/>
              </a:rPr>
              <a:t>对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海鸥就像亲人一样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547640" y="1125360"/>
            <a:ext cx="504036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老人关爱海鸥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0" name="">
            <a:hlinkClick r:id="rId2" action="ppaction://hlinksldjump"/>
          </p:cNvPr>
          <p:cNvSpPr/>
          <p:nvPr/>
        </p:nvSpPr>
        <p:spPr>
          <a:xfrm>
            <a:off x="179280" y="6165720"/>
            <a:ext cx="1224000" cy="360360"/>
          </a:xfrm>
          <a:prstGeom prst="roundRect">
            <a:avLst>
              <a:gd name="adj" fmla="val 16667"/>
            </a:avLst>
          </a:prstGeom>
          <a:solidFill>
            <a:srgbClr val="ffccff">
              <a:alpha val="55000"/>
            </a:srgbClr>
          </a:solidFill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  <a:ea typeface="华文隶书"/>
              </a:rPr>
              <a:t>老　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3" action="ppaction://hlinksldjump"/>
          </p:cNvPr>
          <p:cNvSpPr/>
          <p:nvPr/>
        </p:nvSpPr>
        <p:spPr>
          <a:xfrm>
            <a:off x="3203640" y="6165720"/>
            <a:ext cx="1224000" cy="360360"/>
          </a:xfrm>
          <a:prstGeom prst="roundRect">
            <a:avLst>
              <a:gd name="adj" fmla="val 16667"/>
            </a:avLst>
          </a:prstGeom>
          <a:solidFill>
            <a:srgbClr val="ffccff">
              <a:alpha val="55000"/>
            </a:srgbClr>
          </a:solidFill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  <a:ea typeface="华文隶书"/>
              </a:rPr>
              <a:t>喂食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4" action="ppaction://hlinksldjump"/>
          </p:cNvPr>
          <p:cNvSpPr/>
          <p:nvPr/>
        </p:nvSpPr>
        <p:spPr>
          <a:xfrm>
            <a:off x="1692360" y="6165720"/>
            <a:ext cx="1224000" cy="360360"/>
          </a:xfrm>
          <a:prstGeom prst="roundRect">
            <a:avLst>
              <a:gd name="adj" fmla="val 16667"/>
            </a:avLst>
          </a:prstGeom>
          <a:solidFill>
            <a:srgbClr val="ffccff">
              <a:alpha val="55000"/>
            </a:srgbClr>
          </a:solidFill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  <a:ea typeface="华文隶书"/>
              </a:rPr>
              <a:t>喂食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5" action="ppaction://hlinksldjump"/>
          </p:cNvPr>
          <p:cNvSpPr/>
          <p:nvPr/>
        </p:nvSpPr>
        <p:spPr>
          <a:xfrm>
            <a:off x="4716360" y="6165720"/>
            <a:ext cx="1224000" cy="360360"/>
          </a:xfrm>
          <a:prstGeom prst="roundRect">
            <a:avLst>
              <a:gd name="adj" fmla="val 16667"/>
            </a:avLst>
          </a:prstGeom>
          <a:solidFill>
            <a:srgbClr val="ffccff">
              <a:alpha val="55000"/>
            </a:srgbClr>
          </a:solidFill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  <a:ea typeface="隶书"/>
              </a:rPr>
              <a:t>呼唤名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6" action="ppaction://hlinksldjump"/>
          </p:cNvPr>
          <p:cNvSpPr/>
          <p:nvPr/>
        </p:nvSpPr>
        <p:spPr>
          <a:xfrm>
            <a:off x="6227640" y="6165720"/>
            <a:ext cx="1224000" cy="360360"/>
          </a:xfrm>
          <a:prstGeom prst="roundRect">
            <a:avLst>
              <a:gd name="adj" fmla="val 16667"/>
            </a:avLst>
          </a:prstGeom>
          <a:solidFill>
            <a:srgbClr val="ffccff">
              <a:alpha val="55000"/>
            </a:srgbClr>
          </a:solidFill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  <a:ea typeface="华文隶书"/>
              </a:rPr>
              <a:t>企　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6165720"/>
            <a:ext cx="1224000" cy="360360"/>
          </a:xfrm>
          <a:prstGeom prst="roundRect">
            <a:avLst>
              <a:gd name="adj" fmla="val 16667"/>
            </a:avLst>
          </a:prstGeom>
          <a:solidFill>
            <a:srgbClr val="ffccff">
              <a:alpha val="55000"/>
            </a:srgbClr>
          </a:solidFill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  <a:ea typeface="华文隶书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539640" y="907920"/>
            <a:ext cx="424836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海鸥送别老人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7" name="">
            <a:hlinkClick r:id="rId2" action="ppaction://hlinksldjump"/>
          </p:cNvPr>
          <p:cNvSpPr/>
          <p:nvPr/>
        </p:nvSpPr>
        <p:spPr>
          <a:xfrm>
            <a:off x="179280" y="5734080"/>
            <a:ext cx="1152720" cy="503280"/>
          </a:xfrm>
          <a:prstGeom prst="ellipse">
            <a:avLst/>
          </a:prstGeom>
          <a:gradFill rotWithShape="0">
            <a:gsLst>
              <a:gs pos="0">
                <a:srgbClr val="ffff99">
                  <a:alpha val="73333"/>
                </a:srgbClr>
              </a:gs>
              <a:gs pos="100000">
                <a:srgbClr val="ccff33">
                  <a:alpha val="44313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行楷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3" action="ppaction://hlinksldjump"/>
          </p:cNvPr>
          <p:cNvSpPr/>
          <p:nvPr/>
        </p:nvSpPr>
        <p:spPr>
          <a:xfrm>
            <a:off x="1619280" y="5734080"/>
            <a:ext cx="1152360" cy="503280"/>
          </a:xfrm>
          <a:prstGeom prst="ellipse">
            <a:avLst/>
          </a:prstGeom>
          <a:gradFill rotWithShape="0">
            <a:gsLst>
              <a:gs pos="0">
                <a:srgbClr val="ffff99">
                  <a:alpha val="73333"/>
                </a:srgbClr>
              </a:gs>
              <a:gs pos="100000">
                <a:srgbClr val="ccff33">
                  <a:alpha val="44313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行楷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59280" y="5734080"/>
            <a:ext cx="1152360" cy="503280"/>
          </a:xfrm>
          <a:prstGeom prst="ellipse">
            <a:avLst/>
          </a:prstGeom>
          <a:gradFill rotWithShape="0">
            <a:gsLst>
              <a:gs pos="0">
                <a:srgbClr val="ffff99">
                  <a:alpha val="73333"/>
                </a:srgbClr>
              </a:gs>
              <a:gs pos="100000">
                <a:srgbClr val="ccff33">
                  <a:alpha val="44313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行楷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98920" y="5734080"/>
            <a:ext cx="1152720" cy="503280"/>
          </a:xfrm>
          <a:prstGeom prst="ellipse">
            <a:avLst/>
          </a:prstGeom>
          <a:gradFill rotWithShape="0">
            <a:gsLst>
              <a:gs pos="0">
                <a:srgbClr val="ffff99">
                  <a:alpha val="73333"/>
                </a:srgbClr>
              </a:gs>
              <a:gs pos="100000">
                <a:srgbClr val="ccff33">
                  <a:alpha val="44313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行楷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920000" y="6497640"/>
            <a:ext cx="1224000" cy="360360"/>
          </a:xfrm>
          <a:prstGeom prst="roundRect">
            <a:avLst>
              <a:gd name="adj" fmla="val 16667"/>
            </a:avLst>
          </a:prstGeom>
          <a:solidFill>
            <a:srgbClr val="ffccff">
              <a:alpha val="55000"/>
            </a:srgbClr>
          </a:solidFill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  <a:ea typeface="华文隶书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03640" cy="1738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722600" y="1989000"/>
            <a:ext cx="5667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他背已经驼了，穿一身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色的过时布衣，背一个褪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的蓝布包，连装鸟食的大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料袋也用得褪了色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2" action="ppaction://hlinksldjump"/>
          </p:cNvPr>
          <p:cNvSpPr/>
          <p:nvPr/>
        </p:nvSpPr>
        <p:spPr>
          <a:xfrm>
            <a:off x="8317080" y="6210360"/>
            <a:ext cx="647640" cy="647640"/>
          </a:xfrm>
          <a:prstGeom prst="ellipse">
            <a:avLst/>
          </a:prstGeom>
          <a:solidFill>
            <a:srgbClr val="0000ff">
              <a:alpha val="42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Arial"/>
                <a:ea typeface="华文隶书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903680" y="1052640"/>
            <a:ext cx="55206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老人把饼干丁很小心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放在湖边的围栏上，退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一步，撮起嘴向鸥群呼唤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立刻便有一群海鸥应声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来，几下就扫得干干净净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1" action="ppaction://hlinksldjump"/>
          </p:cNvPr>
          <p:cNvSpPr/>
          <p:nvPr/>
        </p:nvSpPr>
        <p:spPr>
          <a:xfrm>
            <a:off x="8317080" y="6210360"/>
            <a:ext cx="647640" cy="647640"/>
          </a:xfrm>
          <a:prstGeom prst="ellipse">
            <a:avLst/>
          </a:prstGeom>
          <a:solidFill>
            <a:srgbClr val="0000ff">
              <a:alpha val="42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Arial"/>
                <a:ea typeface="华文隶书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903680" y="1052640"/>
            <a:ext cx="55206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老人把饼干丁很小心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放在湖边的围栏上，退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一步，撮起嘴向鸥群呼唤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立刻便有一群海鸥应声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来，几下就扫得干干净净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63840" y="3894120"/>
            <a:ext cx="608040" cy="1440"/>
          </a:xfrm>
          <a:custGeom>
            <a:avLst/>
            <a:gdLst/>
            <a:ahLst/>
            <a:rect l="l" t="t" r="r" b="b"/>
            <a:pathLst>
              <a:path w="1688" h="1">
                <a:moveTo>
                  <a:pt x="6846" y="10815"/>
                </a:moveTo>
                <a:cubicBezTo>
                  <a:pt x="7408" y="10815"/>
                  <a:pt x="7971" y="10815"/>
                  <a:pt x="8533" y="108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91200" y="2955960"/>
            <a:ext cx="590760" cy="1440"/>
          </a:xfrm>
          <a:custGeom>
            <a:avLst/>
            <a:gdLst/>
            <a:ahLst/>
            <a:rect l="l" t="t" r="r" b="b"/>
            <a:pathLst>
              <a:path w="1638" h="1">
                <a:moveTo>
                  <a:pt x="19422" y="8210"/>
                </a:moveTo>
                <a:cubicBezTo>
                  <a:pt x="19968" y="8210"/>
                  <a:pt x="20513" y="8210"/>
                  <a:pt x="21059" y="82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5280" y="3000240"/>
            <a:ext cx="677880" cy="1800"/>
          </a:xfrm>
          <a:custGeom>
            <a:avLst/>
            <a:gdLst/>
            <a:ahLst/>
            <a:rect l="l" t="t" r="r" b="b"/>
            <a:pathLst>
              <a:path w="1886" h="1">
                <a:moveTo>
                  <a:pt x="347" y="8334"/>
                </a:moveTo>
                <a:cubicBezTo>
                  <a:pt x="975" y="8334"/>
                  <a:pt x="1604" y="8334"/>
                  <a:pt x="2232" y="83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9960" y="4259160"/>
            <a:ext cx="2135160" cy="1800"/>
          </a:xfrm>
          <a:custGeom>
            <a:avLst/>
            <a:gdLst/>
            <a:ahLst/>
            <a:rect l="l" t="t" r="r" b="b"/>
            <a:pathLst>
              <a:path w="5930" h="1">
                <a:moveTo>
                  <a:pt x="17363" y="11832"/>
                </a:moveTo>
                <a:cubicBezTo>
                  <a:pt x="19339" y="11832"/>
                  <a:pt x="21316" y="11832"/>
                  <a:pt x="23292" y="11832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249960" y="4491000"/>
            <a:ext cx="2162160" cy="27000"/>
          </a:xfrm>
          <a:custGeom>
            <a:avLst/>
            <a:gdLst/>
            <a:ahLst/>
            <a:rect l="l" t="t" r="r" b="b"/>
            <a:pathLst>
              <a:path w="6004" h="75">
                <a:moveTo>
                  <a:pt x="17363" y="12551"/>
                </a:moveTo>
                <a:cubicBezTo>
                  <a:pt x="17411" y="12542"/>
                  <a:pt x="17481" y="12508"/>
                  <a:pt x="17537" y="12502"/>
                </a:cubicBezTo>
                <a:cubicBezTo>
                  <a:pt x="17604" y="12495"/>
                  <a:pt x="17649" y="12483"/>
                  <a:pt x="17711" y="12477"/>
                </a:cubicBezTo>
                <a:cubicBezTo>
                  <a:pt x="18397" y="12415"/>
                  <a:pt x="19159" y="12451"/>
                  <a:pt x="19844" y="12502"/>
                </a:cubicBezTo>
                <a:cubicBezTo>
                  <a:pt x="21003" y="12588"/>
                  <a:pt x="22203" y="12502"/>
                  <a:pt x="23366" y="12502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0200" y="5133960"/>
            <a:ext cx="689040" cy="1440"/>
          </a:xfrm>
          <a:custGeom>
            <a:avLst/>
            <a:gdLst/>
            <a:ahLst/>
            <a:rect l="l" t="t" r="r" b="b"/>
            <a:pathLst>
              <a:path w="1911" h="1">
                <a:moveTo>
                  <a:pt x="446" y="14263"/>
                </a:moveTo>
                <a:cubicBezTo>
                  <a:pt x="1083" y="14263"/>
                  <a:pt x="1719" y="14263"/>
                  <a:pt x="2356" y="1426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0200" y="5384880"/>
            <a:ext cx="716040" cy="1440"/>
          </a:xfrm>
          <a:custGeom>
            <a:avLst/>
            <a:gdLst/>
            <a:ahLst/>
            <a:rect l="l" t="t" r="r" b="b"/>
            <a:pathLst>
              <a:path w="1986" h="1">
                <a:moveTo>
                  <a:pt x="446" y="14957"/>
                </a:moveTo>
                <a:cubicBezTo>
                  <a:pt x="1108" y="14957"/>
                  <a:pt x="1769" y="14957"/>
                  <a:pt x="2431" y="14957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19680" y="5106960"/>
            <a:ext cx="688680" cy="36720"/>
          </a:xfrm>
          <a:custGeom>
            <a:avLst/>
            <a:gdLst/>
            <a:ahLst/>
            <a:rect l="l" t="t" r="r" b="b"/>
            <a:pathLst>
              <a:path w="1911" h="101">
                <a:moveTo>
                  <a:pt x="10889" y="14188"/>
                </a:moveTo>
                <a:cubicBezTo>
                  <a:pt x="10936" y="14212"/>
                  <a:pt x="10953" y="14210"/>
                  <a:pt x="11013" y="14213"/>
                </a:cubicBezTo>
                <a:cubicBezTo>
                  <a:pt x="11213" y="14223"/>
                  <a:pt x="11424" y="14203"/>
                  <a:pt x="11609" y="14238"/>
                </a:cubicBezTo>
                <a:cubicBezTo>
                  <a:pt x="11672" y="14250"/>
                  <a:pt x="11744" y="14260"/>
                  <a:pt x="11807" y="14263"/>
                </a:cubicBezTo>
                <a:cubicBezTo>
                  <a:pt x="11862" y="14266"/>
                  <a:pt x="11901" y="14286"/>
                  <a:pt x="11956" y="14288"/>
                </a:cubicBezTo>
                <a:cubicBezTo>
                  <a:pt x="12236" y="14300"/>
                  <a:pt x="12519" y="14288"/>
                  <a:pt x="12799" y="1428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29040" y="5367240"/>
            <a:ext cx="706320" cy="7920"/>
          </a:xfrm>
          <a:custGeom>
            <a:avLst/>
            <a:gdLst/>
            <a:ahLst/>
            <a:rect l="l" t="t" r="r" b="b"/>
            <a:pathLst>
              <a:path w="1961" h="25">
                <a:moveTo>
                  <a:pt x="10939" y="14908"/>
                </a:moveTo>
                <a:cubicBezTo>
                  <a:pt x="10931" y="14916"/>
                  <a:pt x="10922" y="14924"/>
                  <a:pt x="10914" y="14932"/>
                </a:cubicBezTo>
                <a:cubicBezTo>
                  <a:pt x="11567" y="14932"/>
                  <a:pt x="12221" y="14932"/>
                  <a:pt x="12874" y="14932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38760" y="5276880"/>
            <a:ext cx="704520" cy="152280"/>
          </a:xfrm>
          <a:custGeom>
            <a:avLst/>
            <a:gdLst/>
            <a:ahLst/>
            <a:rect l="l" t="t" r="r" b="b"/>
            <a:pathLst>
              <a:path w="1960" h="422">
                <a:moveTo>
                  <a:pt x="10939" y="14660"/>
                </a:moveTo>
                <a:cubicBezTo>
                  <a:pt x="11097" y="14660"/>
                  <a:pt x="11223" y="14669"/>
                  <a:pt x="11385" y="14709"/>
                </a:cubicBezTo>
                <a:cubicBezTo>
                  <a:pt x="11848" y="14824"/>
                  <a:pt x="12304" y="14995"/>
                  <a:pt x="12774" y="15081"/>
                </a:cubicBezTo>
                <a:cubicBezTo>
                  <a:pt x="12849" y="15081"/>
                  <a:pt x="12857" y="15081"/>
                  <a:pt x="12898" y="15081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62640" y="5160960"/>
            <a:ext cx="80640" cy="63360"/>
          </a:xfrm>
          <a:custGeom>
            <a:avLst/>
            <a:gdLst/>
            <a:ahLst/>
            <a:rect l="l" t="t" r="r" b="b"/>
            <a:pathLst>
              <a:path w="224" h="175">
                <a:moveTo>
                  <a:pt x="12898" y="14337"/>
                </a:moveTo>
                <a:cubicBezTo>
                  <a:pt x="12843" y="14382"/>
                  <a:pt x="12781" y="14418"/>
                  <a:pt x="12725" y="14461"/>
                </a:cubicBezTo>
                <a:cubicBezTo>
                  <a:pt x="12700" y="14486"/>
                  <a:pt x="12692" y="14494"/>
                  <a:pt x="12675" y="14511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8317080" y="6210360"/>
            <a:ext cx="647640" cy="647640"/>
          </a:xfrm>
          <a:prstGeom prst="ellipse">
            <a:avLst/>
          </a:prstGeom>
          <a:solidFill>
            <a:srgbClr val="0000ff">
              <a:alpha val="42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Arial"/>
                <a:ea typeface="华文隶书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792080" y="1557360"/>
            <a:ext cx="6185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老人顺着栏杆边走边放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海鸥依他的节奏起起落落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排成一片翻飞的白色，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成一篇</a:t>
            </a: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华文中宋"/>
              </a:rPr>
              <a:t>有声有色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的乐谱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1" action="ppaction://hlinksldjump"/>
          </p:cNvPr>
          <p:cNvSpPr/>
          <p:nvPr/>
        </p:nvSpPr>
        <p:spPr>
          <a:xfrm>
            <a:off x="8317080" y="6210360"/>
            <a:ext cx="647640" cy="647640"/>
          </a:xfrm>
          <a:prstGeom prst="ellipse">
            <a:avLst/>
          </a:prstGeom>
          <a:solidFill>
            <a:srgbClr val="0000ff">
              <a:alpha val="42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Arial"/>
                <a:ea typeface="华文隶书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5T12:44:20Z</dcterms:created>
  <dc:creator>MC SYSTEM</dc:creator>
  <dc:description/>
  <dc:language>en-US</dc:language>
  <cp:lastModifiedBy>USER</cp:lastModifiedBy>
  <dcterms:modified xsi:type="dcterms:W3CDTF">2008-11-17T05:48:58Z</dcterms:modified>
  <cp:revision>17</cp:revision>
  <dc:subject/>
  <dc:title>幻灯片 1</dc:title>
</cp:coreProperties>
</file>