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E09-C287-4D0F-B133-32C40BEF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642-C1E3-428A-BF92-9D5C5C09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814-746C-44FE-9AA7-9D721D81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E88-9993-4CC4-A4A8-A6FD6F33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7CEE-C0CD-4826-9C06-E8441F71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A277-9441-45B3-899D-6076A7B4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A0EB-87B4-429E-8C05-4E45C776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391-9F6B-40B6-BC3C-BA7089A5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8735-58F4-4258-90EF-499F878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94BF-78E5-450F-9F90-4EEA65D1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A422-D03B-41BA-9D3B-8FF87A7C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16B-3D67-4292-BF84-7EB4C67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B671-7B23-4E3A-B650-63FCE798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3931-A928-4CBB-A167-18592E8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AEF5-FD65-47AA-845F-B59105D5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84C3-082F-49E2-96BC-824BCECC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0781-ABA4-4C5D-8D10-FD60A960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778-B234-4278-A87B-AC19975C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4EE-B1FD-497B-8BA4-D5C02E88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A76-7948-4E74-ADAC-1A4F0DDA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700-F65C-4918-8879-D50341B5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923-1AC7-4C5D-8A25-4AAE6F63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54E-FB9F-4493-8EFA-8303036D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E5D-0B08-4F4A-80C5-5DF25F3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B04A-F867-48F8-85D6-DE747CB4EA4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8BF7-86DC-4A37-BFEE-4A89F0192FA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593922.htm" TargetMode="External"/><Relationship Id="rId3" Type="http://schemas.openxmlformats.org/officeDocument/2006/relationships/hyperlink" Target="http://baike.baidu.com/view/31633.htm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21919.htm" TargetMode="External"/><Relationship Id="rId3" Type="http://schemas.openxmlformats.org/officeDocument/2006/relationships/hyperlink" Target="http://baike.baidu.com/view/32436.htm" TargetMode="External"/><Relationship Id="rId4" Type="http://schemas.openxmlformats.org/officeDocument/2006/relationships/hyperlink" Target="http://baike.baidu.com/view/507034.htm" TargetMode="External"/><Relationship Id="rId5" Type="http://schemas.openxmlformats.org/officeDocument/2006/relationships/hyperlink" Target="http://baike.baidu.com/view/516553.htm" TargetMode="External"/><Relationship Id="rId6" Type="http://schemas.openxmlformats.org/officeDocument/2006/relationships/hyperlink" Target="http://baike.baidu.com/view/61891.htm" TargetMode="External"/><Relationship Id="rId7" Type="http://schemas.openxmlformats.org/officeDocument/2006/relationships/hyperlink" Target="http://baike.baidu.com/view/63827.htm" TargetMode="External"/><Relationship Id="rId8" Type="http://schemas.openxmlformats.org/officeDocument/2006/relationships/hyperlink" Target="http://baike.baidu.com/view/10667.htm" TargetMode="External"/><Relationship Id="rId9" Type="http://schemas.openxmlformats.org/officeDocument/2006/relationships/hyperlink" Target="http://baike.baidu.com/view/68916.htm" TargetMode="External"/><Relationship Id="rId10" Type="http://schemas.openxmlformats.org/officeDocument/2006/relationships/hyperlink" Target="http://baike.baidu.com/view/1682438.htm" TargetMode="External"/><Relationship Id="rId11" Type="http://schemas.openxmlformats.org/officeDocument/2006/relationships/hyperlink" Target="http://baike.baidu.com/view/1005905.htm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006600"/>
                </a:solidFill>
                <a:latin typeface="Arial"/>
              </a:rPr>
              <a:t>李凭箜篌引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Arial"/>
              </a:rPr>
              <a:t>                                       </a:t>
            </a:r>
            <a:r>
              <a:rPr b="0" i="1" lang="zh-CN" sz="3200" spc="-1" strike="noStrike">
                <a:solidFill>
                  <a:srgbClr val="663300"/>
                </a:solidFill>
                <a:latin typeface="Arial"/>
              </a:rPr>
              <a:t>李贺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                </a:t>
            </a:r>
            <a:r>
              <a:rPr b="0" i="1" lang="zh-CN" sz="3200" spc="-1" strike="noStrike">
                <a:solidFill>
                  <a:srgbClr val="663300"/>
                </a:solidFill>
                <a:latin typeface="Arial"/>
              </a:rPr>
              <a:t>                                              </a:t>
            </a:r>
            <a:r>
              <a:rPr b="0" i="1" lang="zh-CN" sz="40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Arial"/>
              </a:rPr>
              <a:t>箜篌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10240" cy="42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箜篌是十分古老的弹弦乐器，最初称“坎侯”或“空侯”，在古代除宫廷雅乐使用外，在民间也广泛流传，在古代有卧箜篌、竖箜篌、凤首箜篌三种形制。从十四世纪后期不再流行，以致慢慢消失，只能在以前的壁画和浮雕上看到一些箜篌的图样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3504960" cy="4803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3353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诗鬼李贺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533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李贺，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816)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，中国唐代诗人。字长吉，世称李长吉、鬼才、诗鬼等，家居福昌昌谷，后世因称他为李昌谷。与李白、李商隐三人并称唐代“三李”。一生愁苦多病，仅做过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年从九品微官奉礼郎，因病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27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岁卒。李贺是中唐浪漫主义诗人的代表，又是中唐到晚唐诗风转变期的重要人物 。他所写的诗大多是慨叹生不逢时和内心苦闷，抒发对理想、抱负的追求；对当时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藩镇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割据、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宦官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专权和人民所受的残酷剥削都有他喜欢在神话故事、鬼魅世界里驰骋，以其大胆、诡异的想象力，构造出波谲云诡、迷离惝恍的艺术境界，抒发好景不长、时光易逝的感伤情绪，《文献通考》中说：“宋景文诸公在馆，尝评唐人诗云：“太白仙才，长吉鬼才。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867280" y="1676520"/>
            <a:ext cx="2743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写作背景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《李凭箜篌引》大约作于元和六年至元和八年，当时，李贺在京城长安，任奉礼郎。李凭是梨园弟子。因善弹箜篌。名噪一时。“天子一日一回见，王侯将相立马迎”，身价之高，似乎远远超过盛唐时期的著名歌手李龟年。他的精湛技艺，受到诗人们的热情赞赏。唐代有很多诗人都描写过李凭的演奏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李贺此篇想象丰富、瑰丽，境界奇幻，浓墨重彩，艺术感染力很强。清人方扶南把它与白居易的《琵琶行》、韩愈的《听颖师弹琴》相提并论， 推许为“摹写声音至文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cc00"/>
                </a:solidFill>
                <a:latin typeface="Arial"/>
              </a:rPr>
              <a:t>李凭箜篌引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吴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丝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桐张高秋，空山凝云颓不流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               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江娥啼竹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素女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李凭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中国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弹箜篌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               昆山玉碎凤凰叫，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芙蓉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泣露香兰笑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               十二门前融冷光，二十三丝动紫皇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               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女娲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炼石补天处，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石破天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逗秋雨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               梦入神山教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神妪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老鱼跳波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瘦蛟舞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吴质不眠倚桂树，露脚斜飞湿寒兔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kejian.com</dc:creator>
  <dc:description>第一课件网www.1kejian.com</dc:description>
  <dc:language>en-US</dc:language>
  <cp:lastModifiedBy>User</cp:lastModifiedBy>
  <dcterms:modified xsi:type="dcterms:W3CDTF">2012-12-06T03:48:57Z</dcterms:modified>
  <cp:revision>8</cp:revision>
  <dc:subject>1kejian.com</dc:subject>
  <dc:title>第一课件网www.1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3000000000001024120</vt:lpwstr>
  </property>
  <property fmtid="{D5CDD505-2E9C-101B-9397-08002B2CF9AE}" pid="3" name="Version">
    <vt:r8>1</vt:r8>
  </property>
</Properties>
</file>