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C25-FB52-4C2D-802E-4A6483C2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EC3-A322-4020-9193-46F18835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F47-79EB-4D76-B1C7-E9A5BA3E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259-B7C3-43C1-AE01-03190269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0AF2F-4F0F-498C-835C-C53F4E97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336CC-DE3B-45FE-A9D5-69A218D5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9F1D5-881F-46F2-8FCC-ED7EC734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5ACD7-BF08-4919-947C-7D881FBE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42576-D603-4A30-9E2C-9CF2D063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F8D61-F936-4CD9-978E-227CD4E7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79F73-64C7-4F23-9C49-067AAF20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E4C-0C12-4BD1-B881-9FD0C32C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B5B3B-2E70-4BED-90FD-D22F7D13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2E60C-8902-4196-AC50-2C3A7A8A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A40C0-EF2E-4227-AB4B-7852E95C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BBAF0-1977-4033-9D99-DB38A3D1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66B9C-9E44-4601-A486-8764BB3D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1EA-21D8-449D-B81B-83A3B0B9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32B-B3EE-4CED-8C2D-D526DC4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2F2-A5EC-4C89-B87D-B345839A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3CE-D34A-41AC-9302-7F5DE805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EC9-FFC8-4985-A816-67CBDB5B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514-7469-4183-A666-4D7A7D49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067-17FD-49D7-BB0D-1448331E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4ED8-877A-4012-8890-F8FC0846EDA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022A-1CB4-484D-86A7-16E4627850D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1440" y="1773360"/>
            <a:ext cx="62596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0000">
                    <a:alpha val="69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黎明的通知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0000">
                  <a:alpha val="69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333360"/>
            <a:ext cx="82072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表明“黎明”的使命的句子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“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黎明”将要降临的地方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“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黎明”请诗人通知的对象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“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黎明”的象征意义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1640" y="4292640"/>
            <a:ext cx="82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是“白日的先驱，光明的使者”，它象征着民族解放战争的胜利，光明的到来，幸福生活的到来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620640"/>
            <a:ext cx="86756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               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我爱这土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假如我是一只鸟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我也应该用嘶哑的喉咙歌唱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这被暴风雨所打击着的土地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这永远汹涌着我们的悲愤的河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这无止息的吹刮着的激怒的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98360" y="1038240"/>
            <a:ext cx="9540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和那来自林间的无比温柔的黎明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  ——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然后我死了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连羽毛也腐烂在土地里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为什么我的眼里常含泪水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因为我对土地爱得深沉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6560" y="534960"/>
            <a:ext cx="8209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诗人未用“珠圆玉润”之类的词语而用“嘶哑”来形容鸟儿的歌喉，使人体味到歌者经历的坎坷、悲酸和执著的爱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B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关于“土地”、“河流”“风”“黎明”的一组诗句，抒写了大地遭受的苦难、人民的悲愤、对光明的向往和希冀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03280" y="534960"/>
            <a:ext cx="81360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C“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然后我死了，连羽毛也腐烂在这土地里面。”这两句诗形象而充分地表达了诗人对土地眷恋，而且隐含献身之意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D“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为什么我的眼里常含泪水？因为我对这土地爱得深沉……”这两句诗中的“我”指喻体“鸟”而不是诗人自己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6:04:30Z</dcterms:created>
  <dc:creator>qm</dc:creator>
  <dc:description/>
  <dc:language>en-US</dc:language>
  <cp:lastModifiedBy>Legend User</cp:lastModifiedBy>
  <dcterms:modified xsi:type="dcterms:W3CDTF">2003-12-04T05:47:21Z</dcterms:modified>
  <cp:revision>7</cp:revision>
  <dc:subject/>
  <dc:title>幻灯片 1</dc:title>
</cp:coreProperties>
</file>