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11.jpeg" ContentType="image/jpeg"/>
  <Override PartName="/ppt/media/image20.jpeg" ContentType="image/jpeg"/>
  <Override PartName="/ppt/media/image19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A2B-E6AD-43D6-9B15-2CA9C02C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5FBA-0F87-44D5-BD80-DB4AC804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DB5-6631-4520-9AB4-89C82445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C877-6FFF-45E0-BBFA-1D8566BC0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B42-B912-46BF-A3CC-68D974E1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2245-DA1F-49A8-8246-81255E55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066C-E0A5-4EEB-8AE1-FC50DAA5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4989-49A5-47B3-96D7-38C6D0D3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8DA-4956-4286-B478-5C6766C1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692-DDE8-44F9-893C-A7FD81C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FE54-3F07-4746-8DFB-10DD56D8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E5A4-A8AB-43F4-A64D-F7DFF10C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94E5-FFCB-4201-9C24-49F816288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908000" y="1700280"/>
            <a:ext cx="576108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姥 姥 的 剪 纸</a:t>
            </a:r>
            <a:endParaRPr b="0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736560" y="620640"/>
            <a:ext cx="426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教版小学语文第十一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ianzhi2"/>
          <p:cNvPicPr/>
          <p:nvPr/>
        </p:nvPicPr>
        <p:blipFill>
          <a:blip r:embed="rId2"/>
          <a:stretch/>
        </p:blipFill>
        <p:spPr>
          <a:xfrm>
            <a:off x="2124000" y="3071880"/>
            <a:ext cx="51436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bigwh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52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06753323394"/>
          <p:cNvPicPr/>
          <p:nvPr/>
        </p:nvPicPr>
        <p:blipFill>
          <a:blip r:embed="rId1"/>
          <a:stretch/>
        </p:blipFill>
        <p:spPr>
          <a:xfrm>
            <a:off x="684360" y="0"/>
            <a:ext cx="770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bigwh7"/>
          <p:cNvPicPr/>
          <p:nvPr/>
        </p:nvPicPr>
        <p:blipFill>
          <a:blip r:embed="rId1"/>
          <a:stretch/>
        </p:blipFill>
        <p:spPr>
          <a:xfrm>
            <a:off x="1116000" y="3213000"/>
            <a:ext cx="2475000" cy="3357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jianzhi2"/>
          <p:cNvPicPr/>
          <p:nvPr/>
        </p:nvPicPr>
        <p:blipFill>
          <a:blip r:embed="rId2"/>
          <a:stretch/>
        </p:blipFill>
        <p:spPr>
          <a:xfrm>
            <a:off x="4643280" y="476280"/>
            <a:ext cx="3816360" cy="266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16234"/>
          <p:cNvPicPr/>
          <p:nvPr/>
        </p:nvPicPr>
        <p:blipFill>
          <a:blip r:embed="rId3"/>
          <a:stretch/>
        </p:blipFill>
        <p:spPr>
          <a:xfrm>
            <a:off x="324000" y="260280"/>
            <a:ext cx="3760560" cy="2640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6235"/>
          <p:cNvPicPr/>
          <p:nvPr/>
        </p:nvPicPr>
        <p:blipFill>
          <a:blip r:embed="rId4"/>
          <a:stretch/>
        </p:blipFill>
        <p:spPr>
          <a:xfrm>
            <a:off x="5435640" y="3357720"/>
            <a:ext cx="2563920" cy="3138480"/>
          </a:xfrm>
          <a:prstGeom prst="rect">
            <a:avLst/>
          </a:prstGeom>
          <a:ln w="0">
            <a:noFill/>
          </a:ln>
        </p:spPr>
      </p:pic>
    </p:spTree>
  </p:cSld>
  <p:transition advTm="3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0%20(11)"/>
          <p:cNvPicPr/>
          <p:nvPr/>
        </p:nvPicPr>
        <p:blipFill>
          <a:blip r:embed="rId1"/>
          <a:stretch/>
        </p:blipFill>
        <p:spPr>
          <a:xfrm>
            <a:off x="468360" y="333360"/>
            <a:ext cx="8353440" cy="600552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07"/>
          <p:cNvPicPr/>
          <p:nvPr/>
        </p:nvPicPr>
        <p:blipFill>
          <a:blip r:embed="rId1"/>
          <a:stretch/>
        </p:blipFill>
        <p:spPr>
          <a:xfrm>
            <a:off x="755640" y="-1035000"/>
            <a:ext cx="7883640" cy="864072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182610121317_3269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468360" y="549360"/>
            <a:ext cx="82818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读准字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刁难    择菜    左邻右舍    三伏盛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读出节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啧啧赞叹    普普通通    刷刷几下    清清爽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读懂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神：神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迷信中的神灵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超出一般水平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精神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巧：熟能生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灵巧、灵敏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虚浮不安  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恰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395280" y="98100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由朗读第一自然段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有什么体会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？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026"/>
          <p:cNvSpPr/>
          <p:nvPr/>
        </p:nvSpPr>
        <p:spPr>
          <a:xfrm>
            <a:off x="395280" y="260280"/>
            <a:ext cx="4392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剪纸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是一种民间传统工艺品。早在汉、唐时代，民间妇女就以金银箔和彩帛剪成花鸟贴在两鬓角作装饰；后来逐步发展，剪成花草、动物等贴在窗户上，又叫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窗花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；剪纸工具很简单，就一把剪刀，有的艺人用刻刀，所以，剪纸又称为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刻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27" descr="鸳鸯"/>
          <p:cNvPicPr/>
          <p:nvPr/>
        </p:nvPicPr>
        <p:blipFill>
          <a:blip r:embed="rId1"/>
          <a:stretch/>
        </p:blipFill>
        <p:spPr>
          <a:xfrm>
            <a:off x="4788000" y="476280"/>
            <a:ext cx="3581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468360" y="476280"/>
            <a:ext cx="65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姥姥的剪纸是什么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课文里哪些语句具体描写了姥姥的剪纸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757760" y="2421000"/>
            <a:ext cx="43862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468360" y="476280"/>
            <a:ext cx="698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要什么就有什么了，人物、动物、植物、器物，无所不能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你姥姥神了，剪猫像猫，剪虎像虎，剪只母鸡能下蛋， 剪只公鸡能打鸣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嗬！梅枝与喜鹊形象生动，大小疏密无可挑剔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170760" cy="617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%20(11)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嗬！梅枝与喜鹊形象生动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小疏密无可挑剔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%20(11)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姥姥的剪纸真是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啊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0%20(11)"/>
          <p:cNvPicPr/>
          <p:nvPr/>
        </p:nvPicPr>
        <p:blipFill>
          <a:blip r:embed="rId1"/>
          <a:stretch/>
        </p:blipFill>
        <p:spPr>
          <a:xfrm>
            <a:off x="0" y="932040"/>
            <a:ext cx="9144000" cy="5925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姥姥的剪纸真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栩栩如生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</a:rPr>
              <a:t>、活灵活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7186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539640" y="260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熟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能生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巧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总剪，手就有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准头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了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992160" y="1844640"/>
            <a:ext cx="4626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7186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260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管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还是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管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还是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不管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还是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姥姥总在剪，手就有准头了。姥姥的手就是（         ），好使的剪刀就像她两根延长的（   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462600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059280" y="2643120"/>
            <a:ext cx="54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结合你的生活中的体验，说说对这句话的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2771640" y="836640"/>
            <a:ext cx="6050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熟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能生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巧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，总剪，手就有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准头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了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jz003"/>
          <p:cNvPicPr/>
          <p:nvPr/>
        </p:nvPicPr>
        <p:blipFill>
          <a:blip r:embed="rId1"/>
          <a:stretch/>
        </p:blipFill>
        <p:spPr>
          <a:xfrm>
            <a:off x="4786200" y="2708280"/>
            <a:ext cx="3500640" cy="3508200"/>
          </a:xfrm>
          <a:prstGeom prst="rect">
            <a:avLst/>
          </a:prstGeom>
          <a:ln w="0">
            <a:noFill/>
          </a:ln>
        </p:spPr>
      </p:pic>
      <p:sp>
        <p:nvSpPr>
          <p:cNvPr id="102" name="矩形 2"/>
          <p:cNvSpPr/>
          <p:nvPr/>
        </p:nvSpPr>
        <p:spPr>
          <a:xfrm>
            <a:off x="571680" y="428760"/>
            <a:ext cx="45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熟能生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"/>
          <p:cNvSpPr/>
          <p:nvPr/>
        </p:nvSpPr>
        <p:spPr>
          <a:xfrm>
            <a:off x="714240" y="1357200"/>
            <a:ext cx="6143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练三九，夏练三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拳不离手，曲不离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要功夫深，铁杵磨成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读书破万卷，下笔如有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姥姥对乡亲们是如此友好、热情，对我这个孙子更是疼爱有加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是怎么通过剪纸传达这份情的呢？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620640"/>
            <a:ext cx="882000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密云多雨的盛夏，姥姥怕我溜到河里游泳出危险，便有剪纸把我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在屋檐下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你从‘拴’中体会到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只顽皮的小兔子骑在一头温顺的老牛背上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头老牛和一只兔子在草地上啃食青草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一头老牛定定地站着，出神地望着一只欢蹦着远去的小兔子，联结它们的是一片开阔的草地。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5364000" cy="4037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697120" cy="2159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4"/>
          <a:stretch/>
        </p:blipFill>
        <p:spPr>
          <a:xfrm>
            <a:off x="826920" y="4581360"/>
            <a:ext cx="2411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顽皮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小兔子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骑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一头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温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老牛背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5364000" cy="4037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223920" y="2276640"/>
            <a:ext cx="3440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云多雨的盛夏，姥姥怕我溜到河里游泳出危险，便用剪纸把我拴在屋檐下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4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云多雨的盛夏，姥姥怕我溜到河里游泳出危险，便用剪纸把我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屋檐下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头老牛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和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只兔子在草地上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啃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青草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53640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3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来我越走越远了，姥姥的剪纸还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住我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304920" y="252360"/>
            <a:ext cx="8534160" cy="63532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头老牛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定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站着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出神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望着一只欢蹦着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远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小兔子，</a:t>
            </a: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联结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的是一片开阔的草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3489120" cy="3510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5292720" y="2852640"/>
            <a:ext cx="3673440" cy="36356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8"/>
          <p:cNvSpPr/>
          <p:nvPr/>
        </p:nvSpPr>
        <p:spPr>
          <a:xfrm>
            <a:off x="3635280" y="4365720"/>
            <a:ext cx="18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联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401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姥姥的剪纸还将拴我多久？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拴住的其实是我的什么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4818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我上学了，小学、中学、大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越走越远了。但我还是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不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收到姥姥寄来的剪纸，其中有一幅是这样的：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一头老牛定定地站着，出神地望着一只欢蹦着远去的小兔子，联结它们的是一片开阔的草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我知道，这是姥姥对我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期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事实上，我不管走多远，走多久，梦中总不时映现家乡的窗花和村路两侧的四季田野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无论何时，无论何地，只要忆及那清清爽爽的剪纸声，我的心境与梦境就立刻变得有声有色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5" descr="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矩形 6"/>
          <p:cNvSpPr/>
          <p:nvPr/>
        </p:nvSpPr>
        <p:spPr>
          <a:xfrm>
            <a:off x="785880" y="214200"/>
            <a:ext cx="771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啊，儿时的记忆怎能忘记，慈祥的姥姥又怎会忘怀，说说作者会梦见什么？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20060614155742420"/>
          <p:cNvPicPr/>
          <p:nvPr/>
        </p:nvPicPr>
        <p:blipFill>
          <a:blip r:embed="rId1"/>
          <a:stretch/>
        </p:blipFill>
        <p:spPr>
          <a:xfrm>
            <a:off x="611280" y="692280"/>
            <a:ext cx="3562200" cy="532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20060614155028722"/>
          <p:cNvPicPr/>
          <p:nvPr/>
        </p:nvPicPr>
        <p:blipFill>
          <a:blip r:embed="rId2"/>
          <a:stretch/>
        </p:blipFill>
        <p:spPr>
          <a:xfrm>
            <a:off x="4932360" y="692280"/>
            <a:ext cx="3619440" cy="5329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200605241216122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987640" y="558972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猫 抓 老 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6:13:22Z</dcterms:created>
  <dc:creator/>
  <dc:description>第一PPT模板网-WWW.1PPT.COM
</dc:description>
  <dc:language>en-US</dc:language>
  <cp:lastModifiedBy>Administrator</cp:lastModifiedBy>
  <dcterms:modified xsi:type="dcterms:W3CDTF">2017-08-17T08:29:43Z</dcterms:modified>
  <cp:revision>34</cp:revision>
  <dc:subject>第一PPT模板网-WWW.1PPT.COM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