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8E2A2-C87F-4414-8E6B-32D72E589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2AFA9-C220-4A8E-9DD9-C6EEA3981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191DE-F88B-4A6E-9DCE-451F67839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A1603-EFF9-4085-8926-BA8153581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AFC13-98C2-4BAE-A372-3C8CB9F306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C3FA6-9745-4F97-B580-A6FE0355D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311C2-DC76-4817-9041-838CFD051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4D4DC-C912-4F3D-A210-AF187A737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DF428-940D-4409-B620-15910ED1D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50A9E-AC71-481D-AE91-E1A76AE1E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1643B-6875-4B13-AE8E-7B1C9BC90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BCBA4-42C4-4F35-BEC7-ED999EFF7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2B77B-2781-4862-B428-390F4EDD7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A5062-1727-47DB-B94C-832FBD260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77485-251B-4DB0-B71A-BA408475D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11925A-2612-4390-865C-064A772F8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79F670-6CF6-45B9-ACF4-9385739242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4101D-0E18-4FF7-A2A0-E409D701A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2F1BC-B1BD-4D66-83F6-246CD1330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78769-E199-45CD-A374-D533CD77B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15A31-13C8-4427-8378-D641CB038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B7747-49CE-4BB0-A42A-9867C3F8D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DCDBC-B5E1-411C-A154-616097983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FB509-D9AC-49DD-94D6-850899440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indent="-91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indent="-91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indent="-91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B122-DBAC-4F9D-8213-0AC80404EC76}" type="slidenum">
              <a:rPr b="0" i="1" lang="zh-CN"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indent="-91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indent="-91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indent="-91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D152D-314B-44D7-BC86-AE5B668FD5F1}" type="slidenum">
              <a:rPr b="0" i="1" lang="zh-CN"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图片 4097" descr="1"/>
          <p:cNvPicPr/>
          <p:nvPr/>
        </p:nvPicPr>
        <p:blipFill>
          <a:blip r:embed="rId1"/>
          <a:srcRect l="9562" t="0" r="7706" b="0"/>
          <a:stretch/>
        </p:blipFill>
        <p:spPr>
          <a:xfrm>
            <a:off x="-260280" y="-174600"/>
            <a:ext cx="9144000" cy="6894360"/>
          </a:xfrm>
          <a:prstGeom prst="rect">
            <a:avLst/>
          </a:prstGeom>
          <a:ln w="0">
            <a:noFill/>
          </a:ln>
        </p:spPr>
      </p:pic>
      <p:sp>
        <p:nvSpPr>
          <p:cNvPr id="83" name="文本框 4098"/>
          <p:cNvSpPr/>
          <p:nvPr/>
        </p:nvSpPr>
        <p:spPr>
          <a:xfrm>
            <a:off x="2268360" y="2565360"/>
            <a:ext cx="4537080" cy="26744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000000"/>
                </a:solidFill>
                <a:latin typeface="Arial"/>
                <a:ea typeface="楷体_GB2312"/>
              </a:rPr>
              <a:t>  </a:t>
            </a:r>
            <a:r>
              <a:rPr b="1" i="1" lang="zh-CN" sz="7200" spc="-1" strike="noStrike">
                <a:solidFill>
                  <a:srgbClr val="000000"/>
                </a:solidFill>
                <a:latin typeface="Arial"/>
                <a:ea typeface="楷体_GB2312"/>
              </a:rPr>
              <a:t>临江仙</a:t>
            </a:r>
            <a:endParaRPr b="0" i="1" lang="en-US" sz="7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楷体_GB2312"/>
              </a:rPr>
              <a:t>夜登小阁，忆洛中旧游</a:t>
            </a:r>
            <a:endParaRPr b="0" i="1"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楷体_GB2312"/>
              </a:rPr>
              <a:t>         </a:t>
            </a:r>
            <a:r>
              <a:rPr b="1" i="1" lang="zh-CN" sz="3200" spc="-1" strike="noStrike">
                <a:solidFill>
                  <a:srgbClr val="000000"/>
                </a:solidFill>
                <a:latin typeface="Arial"/>
                <a:ea typeface="楷体_GB2312"/>
              </a:rPr>
              <a:t>陈与义</a:t>
            </a:r>
            <a:endParaRPr b="0" i="1" lang="en-US" sz="3200" spc="-1" strike="noStrike">
              <a:solidFill>
                <a:srgbClr val="000000"/>
              </a:solidFill>
              <a:latin typeface="Arial"/>
            </a:endParaRPr>
          </a:p>
        </p:txBody>
      </p:sp>
      <p:pic>
        <p:nvPicPr>
          <p:cNvPr id="84" name="in heaven.mp3" descr="in heaven"/>
          <p:cNvPicPr/>
          <p:nvPr/>
        </p:nvPicPr>
        <p:blipFill>
          <a:blip r:embed="rId2"/>
          <a:stretch/>
        </p:blipFill>
        <p:spPr>
          <a:xfrm>
            <a:off x="468360" y="6165720"/>
            <a:ext cx="304920" cy="30492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84"/>
                    </p:tgtEl>
                  </p:cond>
                </p:stCondLst>
                <p:childTnLst>
                  <p:par>
                    <p:cTn id="3" fill="hold">
                      <p:stCondLst>
                        <p:cond evt="onClick">
                          <p:tgtEl>
                            <p:spTgt spid="84"/>
                          </p:tgtEl>
                        </p:cond>
                      </p:stCondLst>
                      <p:childTnLst>
                        <p:par>
                          <p:cTn id="4" fill="hold">
                            <p:stCondLst>
                              <p:cond delay="0"/>
                            </p:stCondLst>
                            <p:childTnLst>
                              <p:par>
                                <p:cTn id="5" dur="indefinite" nodeType="clickEffect" fill="hold" presetClass="mediacall" presetID="1">
                                  <p:stCondLst>
                                    <p:cond delay="0"/>
                                  </p:stCondLst>
                                  <p:childTnLst>
                                    <p:cmd type="call" cmd="playFrom(0.0)">
                                      <p:cBhvr>
                                        <p:cTn id="6" dur="288752"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读诗歌思考</a:t>
            </a:r>
            <a:endParaRPr b="0" lang="en-US" sz="32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杏花疏影里，吹笛到天明”运用了什么表现手法？请结合词句内容简要分析。</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①</a:t>
            </a:r>
            <a:r>
              <a:rPr b="0" lang="zh-CN" sz="2400" spc="-1" strike="noStrike">
                <a:solidFill>
                  <a:srgbClr val="ff0000"/>
                </a:solidFill>
                <a:latin typeface="Arial"/>
              </a:rPr>
              <a:t>运用了动静结合的表现手法。②借杏花疏影、景色幽香的静景和伴着清韵悠远的笛声欢歌到天明的动景，③描写了作者当年在良辰美景中与朋友一起借着酒兴尽情戏闹的游乐情形。</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全词围绕“闲”的心绪，作者发出了怎样的感慨？</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①</a:t>
            </a:r>
            <a:r>
              <a:rPr b="0" lang="zh-CN" sz="2400" spc="-1" strike="noStrike">
                <a:solidFill>
                  <a:srgbClr val="ff0000"/>
                </a:solidFill>
                <a:latin typeface="Arial"/>
              </a:rPr>
              <a:t>从洛阳旧游到如今寓居偏僻的江南之“闲”，感慨国事的盛衰兴亡；②从昔日与英豪交往到如今此身独在之“闲”，感慨个人知交零落；③从二十多年的转瞬即逝到夜登小阁之“闲”，感慨时光飞逝而功业无成。</a:t>
            </a:r>
            <a:endParaRPr b="0" lang="en-US" sz="2400" spc="-1" strike="noStrike">
              <a:solidFill>
                <a:srgbClr val="000000"/>
              </a:solidFill>
              <a:latin typeface="Arial"/>
            </a:endParaRPr>
          </a:p>
        </p:txBody>
      </p:sp>
    </p:spTree>
  </p:cSld>
  <p:transition>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102">
                                            <p:txEl>
                                              <p:pRg st="1" end="1"/>
                                            </p:txEl>
                                          </p:spTgt>
                                        </p:tgtEl>
                                        <p:attrNameLst>
                                          <p:attrName>style.visibility</p:attrName>
                                        </p:attrNameLst>
                                      </p:cBhvr>
                                      <p:to>
                                        <p:strVal val="visible"/>
                                      </p:to>
                                    </p:set>
                                    <p:anim calcmode="lin" valueType="num">
                                      <p:cBhvr additive="base">
                                        <p:cTn id="13"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102">
                                            <p:txEl>
                                              <p:pRg st="3" end="3"/>
                                            </p:txEl>
                                          </p:spTgt>
                                        </p:tgtEl>
                                        <p:attrNameLst>
                                          <p:attrName>style.visibility</p:attrName>
                                        </p:attrNameLst>
                                      </p:cBhvr>
                                      <p:to>
                                        <p:strVal val="visible"/>
                                      </p:to>
                                    </p:set>
                                    <p:anim calcmode="lin" valueType="num">
                                      <p:cBhvr additive="base">
                                        <p:cTn id="19"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长沟流月去无声”一句描写的景物有何特点？寄寓了作者怎样的情感？（</a:t>
            </a:r>
            <a:r>
              <a:rPr b="0" lang="zh-CN" sz="2400" spc="-1" strike="noStrike">
                <a:solidFill>
                  <a:srgbClr val="000000"/>
                </a:solidFill>
                <a:latin typeface="Arial"/>
              </a:rPr>
              <a:t>3</a:t>
            </a:r>
            <a:r>
              <a:rPr b="0" lang="zh-CN" sz="2400" spc="-1" strike="noStrike">
                <a:solidFill>
                  <a:srgbClr val="000000"/>
                </a:solidFill>
                <a:latin typeface="Arial"/>
              </a:rPr>
              <a:t>分）</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无声无息映在流水上，并随流水悄悄地流逝，写出了环境的明净、幽美、清寂、静谧，隐谓时间如流水般逝去，既有“欢乐不知时日过”的感慨，又有年华盛事悄然而逝、一去不复返的象征意味。</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2" presetSubtype="4">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 calcmode="lin" valueType="num">
                                      <p:cBhvr additive="base">
                                        <p:cTn id="27"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2</a:t>
            </a:r>
            <a:r>
              <a:rPr b="0" lang="zh-CN" sz="3200" spc="-1" strike="noStrike">
                <a:solidFill>
                  <a:srgbClr val="000000"/>
                </a:solidFill>
                <a:latin typeface="Arial"/>
              </a:rPr>
              <a:t>）“闲登小阁看新晴”，有人将“看”改为“弄”，你认为哪个字更为妥帖？（</a:t>
            </a:r>
            <a:r>
              <a:rPr b="0" lang="zh-CN" sz="3200" spc="-1" strike="noStrike">
                <a:solidFill>
                  <a:srgbClr val="000000"/>
                </a:solidFill>
                <a:latin typeface="Arial"/>
              </a:rPr>
              <a:t>4</a:t>
            </a:r>
            <a:r>
              <a:rPr b="0" lang="zh-CN" sz="3200" spc="-1" strike="noStrike">
                <a:solidFill>
                  <a:srgbClr val="000000"/>
                </a:solidFill>
                <a:latin typeface="Arial"/>
              </a:rPr>
              <a:t>分）</a:t>
            </a:r>
            <a:br>
              <a:rPr sz="3200"/>
            </a:br>
            <a:endParaRPr b="0" lang="en-US" sz="32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答案：看字用的好，“看”前与“闲”字呼应，后与“新晴”搭配，从视觉角度写出月色的牵人眼目，以淡语写哀，表达出闲极无聊、无处排遣愁绪，只能将心绪寄托在观看月色之上的无奈之情。“看”写出闲来无处安放心绪时的无所适从，更突出“闲”极无聊的处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弄”字用的好，“弄”有“赏玩、抚弄”的意思，紧承“闲”字，以乐事写哀，从视觉、心理等多个角度写出百无聊赖、感情无处寄托、愁绪无处排遣的无可奈何之情。“弄”字借“新晴”呼应上阕“长沟流月”，将现实与往事联系起来，情感表达更为复杂，内涵更为丰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 presetSubtype="4">
                                  <p:stCondLst>
                                    <p:cond delay="0"/>
                                  </p:stCondLst>
                                  <p:childTnLst>
                                    <p:set>
                                      <p:cBhvr>
                                        <p:cTn id="34" dur="1" fill="hold">
                                          <p:stCondLst>
                                            <p:cond delay="0"/>
                                          </p:stCondLst>
                                        </p:cTn>
                                        <p:tgtEl>
                                          <p:spTgt spid="106">
                                            <p:txEl>
                                              <p:pRg st="0" end="0"/>
                                            </p:txEl>
                                          </p:spTgt>
                                        </p:tgtEl>
                                        <p:attrNameLst>
                                          <p:attrName>style.visibility</p:attrName>
                                        </p:attrNameLst>
                                      </p:cBhvr>
                                      <p:to>
                                        <p:strVal val="visible"/>
                                      </p:to>
                                    </p:set>
                                    <p:anim calcmode="lin" valueType="num">
                                      <p:cBhvr additive="base">
                                        <p:cTn id="35"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06">
                                            <p:txEl>
                                              <p:pRg st="0" end="0"/>
                                            </p:txEl>
                                          </p:spTgt>
                                        </p:tgtEl>
                                        <p:attrNameLst>
                                          <p:attrName>ppt_y</p:attrName>
                                        </p:attrNameLst>
                                      </p:cBhvr>
                                      <p:tavLst>
                                        <p:tav tm="0">
                                          <p:val>
                                            <p:strVal val="1+#ppt_h/2"/>
                                          </p:val>
                                        </p:tav>
                                        <p:tav tm="100000">
                                          <p:val>
                                            <p:strVal val="#ppt_y"/>
                                          </p:val>
                                        </p:tav>
                                      </p:tavLst>
                                    </p:anim>
                                  </p:childTnLst>
                                </p:cTn>
                              </p:par>
                              <p:par>
                                <p:cTn id="37" dur="indefinite" nodeType="withEffect" fill="hold" presetClass="entr" presetID="2" presetSubtype="4">
                                  <p:stCondLst>
                                    <p:cond delay="0"/>
                                  </p:stCondLst>
                                  <p:childTnLst>
                                    <p:set>
                                      <p:cBhvr>
                                        <p:cTn id="38" dur="1" fill="hold">
                                          <p:stCondLst>
                                            <p:cond delay="0"/>
                                          </p:stCondLst>
                                        </p:cTn>
                                        <p:tgtEl>
                                          <p:spTgt spid="106">
                                            <p:txEl>
                                              <p:pRg st="1" end="1"/>
                                            </p:txEl>
                                          </p:spTgt>
                                        </p:tgtEl>
                                        <p:attrNameLst>
                                          <p:attrName>style.visibility</p:attrName>
                                        </p:attrNameLst>
                                      </p:cBhvr>
                                      <p:to>
                                        <p:strVal val="visible"/>
                                      </p:to>
                                    </p:set>
                                    <p:anim calcmode="lin" valueType="num">
                                      <p:cBhvr additive="base">
                                        <p:cTn id="39"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归纳小结</a:t>
            </a:r>
            <a:endParaRPr b="0" lang="en-US" sz="32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首词通过回忆在洛阳的游乐来抒发词人对国家沦陷的悲痛和漂泊四方的寂寞。以对比的手法、明快的笔调，通过对旧游生活的回忆，抒发了北宋亡国后深沉的感慨。寥寥几笔，勾勒出丰满的自我形象。此词直抒胸臆，表情达意真切感人，节奏明快，浑成自然，如水到渠成，不见矫揉造作之迹。</a:t>
            </a:r>
            <a:endParaRPr b="0" lang="en-US" sz="2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图片 7169" descr="3"/>
          <p:cNvPicPr/>
          <p:nvPr/>
        </p:nvPicPr>
        <p:blipFill>
          <a:blip r:embed="rId1"/>
          <a:srcRect l="3591" t="0" r="13675" b="6935"/>
          <a:stretch/>
        </p:blipFill>
        <p:spPr>
          <a:xfrm>
            <a:off x="0" y="0"/>
            <a:ext cx="9144000" cy="6858000"/>
          </a:xfrm>
          <a:prstGeom prst="rect">
            <a:avLst/>
          </a:prstGeom>
          <a:ln w="0">
            <a:noFill/>
          </a:ln>
        </p:spPr>
      </p:pic>
      <p:sp>
        <p:nvSpPr>
          <p:cNvPr id="110" name="矩形 7170"/>
          <p:cNvSpPr/>
          <p:nvPr/>
        </p:nvSpPr>
        <p:spPr>
          <a:xfrm>
            <a:off x="250920" y="2877480"/>
            <a:ext cx="7524720" cy="572760"/>
          </a:xfrm>
          <a:prstGeom prst="rect">
            <a:avLst/>
          </a:prstGeom>
          <a:noFill/>
          <a:ln w="0">
            <a:noFill/>
          </a:ln>
        </p:spPr>
        <p:style>
          <a:lnRef idx="0"/>
          <a:fillRef idx="0"/>
          <a:effectRef idx="0"/>
          <a:fontRef idx="minor"/>
        </p:style>
        <p:txBody>
          <a:bodyPr lIns="90000" rIns="90000" tIns="3816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楷体_GB2312"/>
                <a:ea typeface="楷体_GB2312"/>
              </a:rPr>
              <a:t>   </a:t>
            </a:r>
            <a:endParaRPr b="0" i="1" lang="en-US" sz="3200" spc="-1" strike="noStrike">
              <a:solidFill>
                <a:srgbClr val="000000"/>
              </a:solidFill>
              <a:latin typeface="Arial"/>
            </a:endParaRPr>
          </a:p>
        </p:txBody>
      </p:sp>
      <p:sp>
        <p:nvSpPr>
          <p:cNvPr id="111" name="文本框 7171"/>
          <p:cNvSpPr/>
          <p:nvPr/>
        </p:nvSpPr>
        <p:spPr>
          <a:xfrm>
            <a:off x="250920" y="333360"/>
            <a:ext cx="4392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楷体_GB2312"/>
                <a:ea typeface="楷体_GB2312"/>
              </a:rPr>
              <a:t>  </a:t>
            </a:r>
            <a:endParaRPr b="0" i="1" lang="en-US" sz="4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临江仙</a:t>
            </a:r>
            <a:r>
              <a:rPr b="0" lang="zh-CN" sz="3200" spc="-1" strike="noStrike">
                <a:solidFill>
                  <a:srgbClr val="000000"/>
                </a:solidFill>
                <a:latin typeface="Arial"/>
              </a:rPr>
              <a:t>·</a:t>
            </a:r>
            <a:r>
              <a:rPr b="0" lang="zh-CN" sz="3200" spc="-1" strike="noStrike">
                <a:solidFill>
                  <a:srgbClr val="000000"/>
                </a:solidFill>
                <a:latin typeface="Arial"/>
              </a:rPr>
              <a:t>夜登小阁，记洛中旧游  陈与义</a:t>
            </a:r>
            <a:endParaRPr b="0" lang="en-US" sz="32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忆昔午桥桥上饮，坐中多是豪英。长沟流月去无声。杏花疏影里，吹笛到天明。</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十余年如一梦，此身虽在堪惊。闲登小阁看新晴。古今多少事，渔唱起三更。</a:t>
            </a:r>
            <a:endParaRPr b="0" lang="en-US" sz="2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译文</a:t>
            </a:r>
            <a:endParaRPr b="0" lang="en-US" sz="32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回忆当年在午桥畅饮，在座的都是英雄豪杰。月光映在河面，随水悄悄流逝，在杏花的淡淡影子里，吹起竹笛直到天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十多年的岁月仿佛一场春梦，我虽身在，回首往昔却胆战心惊。百无聊赖中登上小阁楼观看新雨初睛的景致。古往今来多少历史事迹，都让渔人在半夜里当歌来唱</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作者简介</a:t>
            </a:r>
            <a:endParaRPr b="0" lang="en-US" sz="32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陈与义（</a:t>
            </a:r>
            <a:r>
              <a:rPr b="0" lang="zh-CN" sz="2400" spc="-1" strike="noStrike">
                <a:solidFill>
                  <a:srgbClr val="000000"/>
                </a:solidFill>
                <a:latin typeface="Arial"/>
              </a:rPr>
              <a:t>1090-1138</a:t>
            </a:r>
            <a:r>
              <a:rPr b="0" lang="zh-CN" sz="2400" spc="-1" strike="noStrike">
                <a:solidFill>
                  <a:srgbClr val="000000"/>
                </a:solidFill>
                <a:latin typeface="Arial"/>
              </a:rPr>
              <a:t>），字去非，号简斋，汉族，其先祖居京兆，自曾祖陈希亮迁居洛阳，故为宋代河南洛阳人（现在属河南）。他生于宋哲宗元祐五年（</a:t>
            </a:r>
            <a:r>
              <a:rPr b="0" lang="zh-CN" sz="2400" spc="-1" strike="noStrike">
                <a:solidFill>
                  <a:srgbClr val="000000"/>
                </a:solidFill>
                <a:latin typeface="Arial"/>
              </a:rPr>
              <a:t>1090</a:t>
            </a:r>
            <a:r>
              <a:rPr b="0" lang="zh-CN" sz="2400" spc="-1" strike="noStrike">
                <a:solidFill>
                  <a:srgbClr val="000000"/>
                </a:solidFill>
                <a:latin typeface="Arial"/>
              </a:rPr>
              <a:t>年），卒于南宋宋高宗绍兴八年（</a:t>
            </a:r>
            <a:r>
              <a:rPr b="0" lang="zh-CN" sz="2400" spc="-1" strike="noStrike">
                <a:solidFill>
                  <a:srgbClr val="000000"/>
                </a:solidFill>
                <a:latin typeface="Arial"/>
              </a:rPr>
              <a:t>1138</a:t>
            </a:r>
            <a:r>
              <a:rPr b="0" lang="zh-CN" sz="2400" spc="-1" strike="noStrike">
                <a:solidFill>
                  <a:srgbClr val="000000"/>
                </a:solidFill>
                <a:latin typeface="Arial"/>
              </a:rPr>
              <a:t>年）。北宋末，南宋初年的杰出诗人，同时也工于填词。其词存于今者虽仅十余首，却别具风格，尤近于苏东坡，语意超绝，笔力横空，疏朗明快，自然浑成，著有《简斋集》。</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写作背景</a:t>
            </a:r>
            <a:endParaRPr b="0" lang="en-US" sz="32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注】①这首词大概是在公元</a:t>
            </a:r>
            <a:r>
              <a:rPr b="0" lang="zh-CN" sz="2400" spc="-1" strike="noStrike">
                <a:solidFill>
                  <a:srgbClr val="000000"/>
                </a:solidFill>
                <a:latin typeface="Arial"/>
              </a:rPr>
              <a:t>1135</a:t>
            </a:r>
            <a:r>
              <a:rPr b="0" lang="zh-CN" sz="2400" spc="-1" strike="noStrike">
                <a:solidFill>
                  <a:srgbClr val="000000"/>
                </a:solidFill>
                <a:latin typeface="Arial"/>
              </a:rPr>
              <a:t>年（南宋高宗绍兴五年）陈与义退居浙江湖州青墩镇寿圣院僧舍时所作，追忆了二十多年前（北宋亡国之前）宋徽宗政和年间在洛中与好友们游乐的往事。②午桥：在北宋河南洛阳南，唐朝裴度有别墅在此。</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靖康之难后，宋室南渡，词人也因之开始了流亡生涯，饱受国破家亡的痛苦，历经颠沛流离。他在南宋都城临安回想起青壮年时在洛阳与友人诗酒交游的情景，不禁感叹今昔巨变，写下了这首词。</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整体感知</a:t>
            </a:r>
            <a:endParaRPr b="0" lang="en-US" sz="32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这首词通过回忆在洛阳的游乐来抒发作者对国家沦陷的悲痛和漂泊四方的寂寞。以对比的手法，明快的笔调，通过对旧游生活的回忆，抒发了北宋亡国后深沉的感慨。寥寥几笔，勾画出来的自我形象相当丰满。</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赏析上片</a:t>
            </a:r>
            <a:endParaRPr b="0" lang="en-US" sz="32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上片忆旧。“忆昔午桥桥上饮，坐中多是豪英。”回想往昔在午桥桥上宴饮，在一起喝酒的人大多是英雄豪杰。用“忆”字开篇，直接了当把往事展开来。“午桥”是唐代白居易、刘禹锡、裴度吟诗唱和、举杯相欢的地方。“长沟流月去无声，杏花疏影里，吹笛到天明。”白天和朋友们在午桥畅饮，晚上围坐在杏树底下尽情地吹着悠扬的笛子，一直玩到天明，竟然不知道碧空的月光随着流水静悄悄地消失了。桥上欢歌笑语，桥下一片宁静，以静衬动。这三句写景叙事，优美自然，它如同明净澄澈的清水一样。特别是“杏花疏影里，吹笛到天明”两句， “杏花”则点明在春天的夜晚，豪杰们抚琴弄笛，那情致高雅的笛声此起彼伏。作者以初春的树林为背景，利用明月的清辉照射在杏花枝上所撒落下来的稀疏花影，与花影下吹奏出来的悠扬笛声，组成一幅富有空间感的恬静、清婉、奇丽的画面，将作者那种充满闲情雅兴的生活情景真实地反映了出来。</a:t>
            </a:r>
            <a:endParaRPr b="0" lang="en-US" sz="2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赏析下片</a:t>
            </a:r>
            <a:endParaRPr b="0" lang="en-US" sz="32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400" spc="-1" strike="noStrike">
                <a:solidFill>
                  <a:srgbClr val="000000"/>
                </a:solidFill>
                <a:latin typeface="Arial"/>
              </a:rPr>
              <a:t>下片感怀。“二十余年如一梦，此身虽在堪惊。”作者在政和三年（</a:t>
            </a:r>
            <a:r>
              <a:rPr b="0" lang="zh-CN" sz="2400" spc="-1" strike="noStrike">
                <a:solidFill>
                  <a:srgbClr val="000000"/>
                </a:solidFill>
                <a:latin typeface="Arial"/>
              </a:rPr>
              <a:t>1113</a:t>
            </a:r>
            <a:r>
              <a:rPr b="0" lang="zh-CN" sz="2400" spc="-1" strike="noStrike">
                <a:solidFill>
                  <a:srgbClr val="000000"/>
                </a:solidFill>
                <a:latin typeface="Arial"/>
              </a:rPr>
              <a:t>年）做官后，曾遭谪贬；特别是靖康之变北宋沦亡，饱尝了颠沛流离、国破家亡的痛苦。残酷的现实和往昔的一切形成鲜明的对照，很自然会有一场恶梦的感触。这两旬概括了这段时间里国家和个人的激剧变化的情况。这里，作者以饱蘸着久历艰难和劫后余生的血泪的笔触，写下这感慨深沉的诗句，发人深思，启人遐想。经历了国破家亡，战事连连之后，曾在一起吟诗饮酒的豪杰们如今散落各方，九死一生，身世之感和家国之痛油然而生。“闲登小阁看新晴”这句点题，点出时间、地点和心境。“新晴”与“长沟流月”照应，巧妙地将忆中之事与目前的处境联系起来，作者今昔不同的精神状况从中得以再现。</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古今多少事，渔唱起三更。”把国家兴亡和人生的感慨都托之于渔唱，进一步表达作者内心寂寞悲凉的心情。古往今来的大事已经转瞬即逝了，只有把它们编成歌儿的渔夫，还在那半夜三更里低声歌唱。这是低沉的感叹，软弱的呻吟，无能为力的自我表白。这种看破世情、回避现实的消极态度，从侧面显示诗人对现实的极度不满，这是乱世怀古伤今的主题。</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8T15:27:27Z</dcterms:created>
  <dc:creator>User</dc:creator>
  <dc:description/>
  <dc:language>en-US</dc:language>
  <cp:lastModifiedBy>Administrator</cp:lastModifiedBy>
  <dcterms:modified xsi:type="dcterms:W3CDTF">2018-11-26T03:06:03Z</dcterms:modified>
  <cp:revision>1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670</vt:lpwstr>
  </property>
</Properties>
</file>