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7102E-6DF4-4703-A2A8-78B1596A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CA7B-A191-474D-B922-7C13A163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76543-63F5-49CC-BF4A-910985EB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4AF3C-7D99-4834-993B-39CFF0A8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D97A1-95F5-4AB2-80C9-69BE2739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5B296-4CBA-4384-94CA-F224C638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2A20C-BBA2-43ED-998D-E046FAA9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6C69-B80A-4092-8C17-EE7308A5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3F5E7-6346-4EA0-8F77-690113F5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67F3-7E4A-4174-94B6-1E8A46F0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B3FCB-1451-4919-BD09-D8D90748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B29DD-5733-4E7F-8943-BD9D317C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9823E-C70A-45CD-888D-BAAB95A3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50ED0-D7A5-4894-94A6-DEA67355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1B0D9-6B37-4AFB-A0E2-B826A775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20062-34E6-4708-9D6B-2D7B4672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BE2F0-7A8B-4277-A20C-D7A00D1E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94B7E-D186-4648-A339-AFE19D8E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A8618-7AF6-4A0A-A77B-1BB31EE0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01AC-5FA3-4E00-B1E7-BE518C8F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DEA52-90D5-4027-9FA5-A9669F6D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D5769-01A5-423C-B168-CC51A9E7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FFBA1-531E-4BFE-B64A-DFB91D6D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927B1-FFCD-4139-8ABD-770C6117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18299-5BE8-4960-B368-9C2535A4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92F41-BFAE-4526-8976-90170A10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ACEF8-8A50-4E6B-9974-2EB0F08D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5D9F2-F1CF-427D-AEA4-D022EDF2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412BA-C642-4C41-B6A7-7F0562EC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0C5D5-BAB8-4B1E-A0B8-7AE13AEB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4F778-A93E-4BD8-8708-F738B656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86DA5-74F5-40F1-88EB-4B5478FE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B18B1-F6AD-4326-9286-A95E3129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C63E5-99F7-4B92-90C6-271E1FEF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6E40E-9BB1-432B-92D9-5CA43059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2A68D-ECB7-4B4B-8675-7F6FB155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D7AA1-DF94-4E8F-BBAA-B3BA24DD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182E8-86E6-4910-AAA8-9E74088D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2E469-65C6-472D-A927-F5A68A72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36EEB-95E3-4835-9CB8-66E7905F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F2E94-BF73-4C6D-999E-C8555058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846FC-76DE-46A6-96B7-DBCC639A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1A4C4-6E4E-4682-8AE1-D3D2C74D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007AC-DDE0-4598-92A9-ABFC0664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EDB6C-E524-4B2A-B492-CA9FDB96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996F8-331E-4E39-9D47-EFE63036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C3B76-6AE0-4F76-9D95-36787CD4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7A46D-357C-4792-85E2-773F6B6C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5000F-89C4-459E-84DA-A4268A8B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C9D79-5C61-4510-9A93-CD2BDE12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1BCB0-6CA6-4D50-A413-ECDC53A8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A19D5-A1B1-4021-B92D-5A2285EA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45D64-2C56-4019-8705-9F395BB0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A79EE-C383-4651-BDBC-CC1FBB1E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4C293-9481-473C-BA35-A84AD51F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B2012-AA97-4017-BC1F-E0B0D083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C98DD-C24E-40CD-BA6B-EC94A341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DD9D3-0928-4CAE-9199-309C12D9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26ADC-1C3F-4940-83E9-B18A0005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E9CAA-682C-47FD-80EA-74CCEC38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2F7F5-48BF-4693-B816-9EA7021B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1E23B-AD67-4FD9-9420-2A8B04B8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2D669-8ABD-4BBB-BFFD-90924D6E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B4161-CA95-4B38-A36B-FC6BEBE4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9CA4E-51D0-4B87-8CA2-46FAFD36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3D305-1D72-404E-AF5C-7B1EB491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E2757-6E1C-4CC8-BDC3-7DBD14DE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DDDCB-39C5-48A9-98C5-536D7453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21D9E-4D49-4821-BCCE-2DE28374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342C3-DED6-4D3D-A698-7B1F07C1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BB913-8BD1-42A3-9171-D225F96B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28CD7-C959-4604-9CE2-C8B07EFC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45789-FD15-4BB5-8BFA-6C54A253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56C7B-7F5C-4F27-853D-662B3DE7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CC696-D33B-4808-B724-24FACA72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69ED3-36B6-47DE-93B1-4BBC9FFE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189B8-9E44-47FC-9669-A47437A4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509D7-46B5-44E0-9522-2FB1D670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244F6-5D01-44F4-801B-038ADD57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A04CF-7506-46EA-A867-FB9BF896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BBADB-BEA9-4F8A-AD94-90C07ACB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EB305-88A7-4CAC-A82D-1AB453DE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C56C8-9B25-40CF-8C29-5A0A6AB8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E9827-71C5-4A83-BE60-71892DD1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E1372-DC33-4D02-880A-68E99331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8658C-882D-4D7B-895B-5CE9DEC9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BB32D-51F1-4086-8769-8B900EE6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707C9-5CAE-46AF-A744-ACA0983A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52DD5-6DE8-440D-BA3A-6C193735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82C06-79CC-4BDA-B150-9DC521C6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FA8E3-9556-44C8-862B-24AA6B98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BA7C4-7567-42E8-A3D2-1A99D29E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C487C-71EE-48E9-A95A-27E1E78F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A8ED4-6D0E-4380-A72F-C0649B91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77F51-365F-420A-A0E7-C4A201C8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38BC9-93FC-434D-A119-BF800DD5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C7DFA-25BB-4BE9-9CCD-7A62D935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508D7-004D-412E-9F92-51393761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10A7A-0590-40E9-931C-27B7D871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C8673-DA7E-4A56-BA02-EF2E9E76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1DE47-9C9D-45EE-9E9D-D6BBE9C9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1E4C6-7106-470F-BA46-FC173D62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EECB5-53FB-4D80-945D-211B7A5E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82CED-90B2-48B0-A0A9-534061C8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A6D1B-9E94-4C79-B319-BD181DBD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51938-7916-492B-887A-869A3B75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C440A-20F3-4CBE-899C-D20F0A12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C6F89-1AF0-42D9-98F1-C3D5A100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D85D5-A8E7-4DDF-9910-1ED42A9E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82C44-E4D5-4C2D-8F14-408B2D03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C7AAA-B0E9-4283-9741-31821147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3CE52-460A-4E7D-BF78-1BE7A86F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23D41-F634-4213-9E90-071E908D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4F5E2-858F-4587-AAD5-96BB5F0C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72265-C8E7-4097-8724-B3E9ED4D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D9462-48FC-43DF-8D12-BE93CA61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D7B01-B946-4778-8079-6E07F8A6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8A802F-9B01-4E31-855A-AD2C54B4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2470C-355F-45ED-9168-BAB77363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458E3-EBA0-4DA3-8BED-8668ABE3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A1347-6D4F-4DA2-8920-64D99C9C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B70EA-F295-4006-9DF9-741154EB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0F61F-DC35-4736-B9C7-438C1879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7A31A-0D30-4E80-9789-ABD64C40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AA9A4-C784-462B-9FC9-339D7557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6DC78-D960-4946-8997-F52C5102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E8DD7-BC23-42A6-ADC2-F8519F92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894DD-6424-4682-BD26-FDB3752D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B39A3-5609-4A14-886E-46DD1291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0D4FA4-85CA-49C2-8E87-C20E4568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78F08-28AD-4168-80D8-FB497DA7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F0D25-E502-4A41-8E48-03FB0EED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53D12-6010-46FD-9638-079B76BB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BB706-2056-478A-A6F7-CD07EA7F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7E61D8-05BD-48FD-AE4E-15EB3327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16E32-F12D-4124-9BB1-36B47285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76B5F-D872-44B6-9F7E-0F415918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96733A-4667-4675-A522-FFBE9349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0FE671-7042-4C32-B865-E4C3FC8B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64286-7E72-46FC-A194-5F75B6F7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6009E-9E69-44CE-946C-569EF74D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CBB78B-6D94-45AF-BDFC-FB9356A9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10087-75A1-4F5B-AA21-2F83D4D8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060431-E84A-4B0C-9A6C-185CB788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035789-3DD4-4C89-B102-97FF4E51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0BE7D-8048-45AC-8F44-2ABB7D5A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28BE54-5101-4332-8A00-1C342CBE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5664FC-7DF0-42EB-B1D2-EAF3E2C3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2531FC-8DB7-4C61-B51F-9CED46C2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7CC6A1-C1CD-497E-B789-35B45FAA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E433C-7172-4D42-B69B-E338D652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A63378-B408-4E7D-B1C1-B502A87F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F0E71B-0EE6-424A-8775-9A3EC2A0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1AA-E0C3-4E27-AAAA-3ED02D86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461F-5170-4F3B-AC3D-9144DF4D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74F-9FB1-4BB0-B7B9-F5FA234B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2B8-0A80-458A-8319-70E0906A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6B7-15C7-46ED-AAD0-368EC8F7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E75-F6CB-408A-B1BD-48625758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393-F1A4-407E-BC47-8989D87A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306-590C-4ED0-ACF2-E6DFAF27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44A-D006-4B03-BD62-2492C544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0D1-6FAA-41E7-9550-C766DF08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292-89B2-43FE-89D6-ED19221A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74E-615B-4FC8-9A13-7A0CE128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A5F5-7B86-4721-9BDA-68049321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BC32-57BB-4580-8787-A4DE4474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3337-CEB1-49DB-9175-23B488BC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2036-FB57-4943-9A04-6C078CE2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D66D-991F-472C-ADAC-3170B1A9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EA63-EB5D-4DE9-B53A-65A34A34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20DB-DCFF-492D-94CD-6E4AE01D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5F1A-BDB6-40AD-B87E-528BBF37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E250-BE82-416A-8F3C-D831C70A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AD67-7A30-484F-82C8-6254C927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4259-6C47-477D-96CE-A1C50AEB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6A1B-F4DA-46C7-B39B-42C2E3AD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ADCF-064F-404A-9C40-E3D7CD4C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20FF-818E-44E7-B54B-2417E0D7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13EC-6A8D-4808-BE01-86C801F7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1A18-49C1-4660-AA27-FD817FA306D8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320E-BCB6-464D-B10D-3DAF8105501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FAEC-F44F-49D5-8914-447FFDEC2ED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A89A-CEF0-4B86-94C8-5D9E87555ED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E6D1-077B-4594-9B48-E6D0783ABA12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28B9-E18C-476B-8747-21F8407A31E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B7DB-1CF0-491F-AC16-DF2FF5C9102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417E-DAF3-4F31-B861-891CC433284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675B-71F1-4FFA-812E-0ECBDF6C86CC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FF30-2305-4751-A2BF-0E9077958F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5CDE-0BAE-4B09-AE7A-F3AE0D19C46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7A7A-4917-40FF-BFC6-73C8C3FE1398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7186-CC9E-46D8-A865-A1A2CA771DC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E286-5FC5-4C9B-A51E-AEE9D1E948B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8750-8D9F-45DD-947C-A1BEB54257C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6AF3-E50A-4D81-9ADC-CE3087FE2B13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F537-B6D8-4CE4-8450-252ED5BE2E5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B235-19A6-41C6-B119-A828347BD29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21C0-2716-4846-87EE-724C9E92E58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BC54-7967-43CE-A69D-246D11ABA08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D5F2-875C-4596-8345-7C8497E73FE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矩形 35"/>
          <p:cNvSpPr/>
          <p:nvPr/>
        </p:nvSpPr>
        <p:spPr>
          <a:xfrm>
            <a:off x="66600" y="4157640"/>
            <a:ext cx="9010800" cy="1441440"/>
          </a:xfrm>
          <a:prstGeom prst="rect">
            <a:avLst/>
          </a:prstGeom>
          <a:solidFill>
            <a:srgbClr val="eeece1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4130"/>
          <p:cNvSpPr/>
          <p:nvPr/>
        </p:nvSpPr>
        <p:spPr>
          <a:xfrm>
            <a:off x="727200" y="4255920"/>
            <a:ext cx="769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临江仙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夜登小阁，忆洛中旧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直接连接符 37"/>
          <p:cNvSpPr/>
          <p:nvPr/>
        </p:nvSpPr>
        <p:spPr>
          <a:xfrm>
            <a:off x="1063800" y="4962600"/>
            <a:ext cx="7016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图片 1" descr=""/>
          <p:cNvPicPr/>
          <p:nvPr/>
        </p:nvPicPr>
        <p:blipFill>
          <a:blip r:embed="rId1"/>
          <a:srcRect l="108" t="0" r="1218" b="9772"/>
          <a:stretch/>
        </p:blipFill>
        <p:spPr>
          <a:xfrm>
            <a:off x="1405080" y="419040"/>
            <a:ext cx="6335640" cy="373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文本框 1"/>
          <p:cNvSpPr/>
          <p:nvPr/>
        </p:nvSpPr>
        <p:spPr>
          <a:xfrm>
            <a:off x="415800" y="885960"/>
            <a:ext cx="820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杏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点明在春天的夜晚，豪杰们抚琴弄笛，那情致高雅的笛声此起彼伏。作者以初春的树林为背景，利用明月的清辉照射在杏花枝上所撒落下来的稀疏花影，与花影下吹奏出来的悠扬笛声，组成一幅富有空间感的恬静、清婉、奇丽的画面，将作者那种充满闲情雅兴的生活情景真实地反映了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矩形 15366"/>
          <p:cNvSpPr/>
          <p:nvPr/>
        </p:nvSpPr>
        <p:spPr>
          <a:xfrm>
            <a:off x="571680" y="1333440"/>
            <a:ext cx="6378480" cy="581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十余年如一梦，此身虽在堪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矩形 15366"/>
          <p:cNvSpPr/>
          <p:nvPr/>
        </p:nvSpPr>
        <p:spPr>
          <a:xfrm>
            <a:off x="571680" y="21034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者以饱蘸着久历艰难和劫后余生的血泪的笔触，写下这感慨深沉的诗句，发人深思。经历了国破家亡，战事连连之后，曾在一起吟诗饮酒的豪杰们如今散落各方，九死一生，身世之感和家国之痛油然而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矩形 15366"/>
          <p:cNvSpPr/>
          <p:nvPr/>
        </p:nvSpPr>
        <p:spPr>
          <a:xfrm>
            <a:off x="390600" y="1461960"/>
            <a:ext cx="8197920" cy="581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闲登小阁看新睛。古今多少事，渔唱起三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矩形 15366"/>
          <p:cNvSpPr/>
          <p:nvPr/>
        </p:nvSpPr>
        <p:spPr>
          <a:xfrm>
            <a:off x="461880" y="2441520"/>
            <a:ext cx="805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前一句点题，写明作此词的时间、地点和心境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沟流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应，巧妙地将忆中之事与目前的处境联系起来，作者今昔不同的精神状况从中得以再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文本框 1"/>
          <p:cNvSpPr/>
          <p:nvPr/>
        </p:nvSpPr>
        <p:spPr>
          <a:xfrm>
            <a:off x="574560" y="1303200"/>
            <a:ext cx="799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后面一句，把国家兴亡和人生的感慨都托之于渔唱，进一步表达作者内心寂寞悲凉的心情。古往今来的大事已经转瞬即逝了，只有把它们编成歌儿的渔夫，还在那半夜三更里低声歌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图片 1" descr=""/>
          <p:cNvPicPr/>
          <p:nvPr/>
        </p:nvPicPr>
        <p:blipFill>
          <a:blip r:embed="rId1"/>
          <a:stretch/>
        </p:blipFill>
        <p:spPr>
          <a:xfrm>
            <a:off x="4714920" y="4459320"/>
            <a:ext cx="3019320" cy="183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文本框 1"/>
          <p:cNvSpPr/>
          <p:nvPr/>
        </p:nvSpPr>
        <p:spPr>
          <a:xfrm>
            <a:off x="571680" y="1609560"/>
            <a:ext cx="8001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这是低沉的感叹，软弱的呻吟，无能为力的自我表白。这种看破世情、回避现实的消极态度，从侧面显示诗人对现实的极度不满，这是乱世怀古伤今的主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文本框 2"/>
          <p:cNvSpPr/>
          <p:nvPr/>
        </p:nvSpPr>
        <p:spPr>
          <a:xfrm>
            <a:off x="538200" y="1924200"/>
            <a:ext cx="8067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此词直抒胸臆，表情达意真切感人，通过上下两片的今昔对比，萌生对家国和人生的惊叹与感慨，韵味深远绵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841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课文主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808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文本框 1"/>
          <p:cNvSpPr/>
          <p:nvPr/>
        </p:nvSpPr>
        <p:spPr>
          <a:xfrm>
            <a:off x="384120" y="1735200"/>
            <a:ext cx="819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【陈与义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109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113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，字去非，号简斋。北宋末、南宋初年的杰出诗人，同时也工于填词。其词存于今者虽仅十余首，却别具风格，尤近于苏东坡，语意超绝，笔力横空，疏朗明快，自然浑成，著有《简斋集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812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写作背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文本框 1"/>
          <p:cNvSpPr/>
          <p:nvPr/>
        </p:nvSpPr>
        <p:spPr>
          <a:xfrm>
            <a:off x="571680" y="17352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靖康之难后，宋室南渡，词人也因之开始了流亡生涯，饱受国破家亡的痛苦，历经颠沛流离。他在南宋都城临安回想起青壮年时在洛阳与友人诗酒交游的情景，不禁感叹今昔巨变，写下了这首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816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诵读课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文本框 1"/>
          <p:cNvSpPr/>
          <p:nvPr/>
        </p:nvSpPr>
        <p:spPr>
          <a:xfrm>
            <a:off x="542880" y="1608120"/>
            <a:ext cx="80582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忆昔午桥桥上饮，坐中多是豪英。长沟流月去无声。杏花疏影里，吹笛到天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十余年如一梦，此身虽在堪惊。闲登小阁看新睛。古今多少事，渔唱起三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文本框 12"/>
          <p:cNvSpPr/>
          <p:nvPr/>
        </p:nvSpPr>
        <p:spPr>
          <a:xfrm>
            <a:off x="471600" y="1376280"/>
            <a:ext cx="63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用自己的话描述词所描绘的画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5"/>
          <p:cNvSpPr/>
          <p:nvPr/>
        </p:nvSpPr>
        <p:spPr>
          <a:xfrm>
            <a:off x="471600" y="2373480"/>
            <a:ext cx="80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回忆当年在午桥畅饮，在座的都是英雄豪杰。月光映在河面，随水悄悄流逝，在杏花的淡淡影子里，吹起竹笛直到天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文本框 5"/>
          <p:cNvSpPr/>
          <p:nvPr/>
        </p:nvSpPr>
        <p:spPr>
          <a:xfrm>
            <a:off x="576360" y="1609560"/>
            <a:ext cx="7991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十多年的岁月仿佛一场春梦，我虽身在，回首往昔却胆战心惊。百无聊赖中登上小阁楼观看新雨初晴的景致。古往今来多少历史事迹，都让渔人在半夜里当歌来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矩形 15366"/>
          <p:cNvSpPr/>
          <p:nvPr/>
        </p:nvSpPr>
        <p:spPr>
          <a:xfrm>
            <a:off x="504720" y="1851120"/>
            <a:ext cx="6296040" cy="581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忆昔午桥桥上饮，坐中多是豪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824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赏析词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6" name="图片 2" descr=""/>
          <p:cNvPicPr/>
          <p:nvPr/>
        </p:nvPicPr>
        <p:blipFill>
          <a:blip r:embed="rId2"/>
          <a:stretch/>
        </p:blipFill>
        <p:spPr>
          <a:xfrm>
            <a:off x="2533680" y="2759040"/>
            <a:ext cx="5067360" cy="338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矩形 15366"/>
          <p:cNvSpPr/>
          <p:nvPr/>
        </p:nvSpPr>
        <p:spPr>
          <a:xfrm>
            <a:off x="428760" y="1297080"/>
            <a:ext cx="816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字开篇，直截了当把往事展开来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午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唐代白居易、刘禹锡、裴度吟诗唱和、举杯相欢的地方。作者青年时期，追寻遗韵，仰慕前贤，在故乡洛阳，与当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豪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起，也在午桥宴饮聚会，把酒临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矩形 15366"/>
          <p:cNvSpPr/>
          <p:nvPr/>
        </p:nvSpPr>
        <p:spPr>
          <a:xfrm>
            <a:off x="622440" y="1376280"/>
            <a:ext cx="4395600" cy="7275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沟流月去无声。杏花疏影里，吹笛到天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15366"/>
          <p:cNvSpPr/>
          <p:nvPr/>
        </p:nvSpPr>
        <p:spPr>
          <a:xfrm>
            <a:off x="527040" y="302256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桥上欢歌笑语，桥下一片宁静，以静衬动。这三句写景叙事，优美自然，如同明净澄澈的清水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3" descr=""/>
          <p:cNvPicPr/>
          <p:nvPr/>
        </p:nvPicPr>
        <p:blipFill>
          <a:blip r:embed="rId1"/>
          <a:srcRect l="20101" t="6952" r="0" b="21496"/>
          <a:stretch/>
        </p:blipFill>
        <p:spPr>
          <a:xfrm>
            <a:off x="5353200" y="1022400"/>
            <a:ext cx="3058920" cy="191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1T03:35:16Z</dcterms:created>
  <dc:creator>Administrator</dc:creator>
  <dc:description/>
  <dc:language>en-US</dc:language>
  <cp:lastModifiedBy>飞飞</cp:lastModifiedBy>
  <dcterms:modified xsi:type="dcterms:W3CDTF">2018-10-05T03:47:40Z</dcterms:modified>
  <cp:revision>1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