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1C3-C499-4F67-9F00-B668C66B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BA3-214B-4207-BA21-5374AA96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F2C-CE82-4E04-9465-1E31E51A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54D-ADED-4CC1-90C8-A61FD34B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CE45-4487-4AE2-84F3-BC5A86AD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5348-BCEC-478F-9D5A-EA742985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A07B-C4DD-4EF5-8B75-665B5ADC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CFD6-5ABA-4D3A-AEC4-16FBA0E7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562B-ADC7-4063-98B6-BB334ABC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2027-0FE2-43EA-83EC-7E378C89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E2CB-C524-4179-8ED7-94161D50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4DB-5518-41B8-B20C-971F5BE7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4AA7-5FCF-4B19-87F7-AD854398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6884-C8B2-486E-B5C3-F9FDEE7C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8719-3045-4456-9186-62F54FA7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620C-D538-4CE2-89B2-29DFFACB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5547-BCFF-4125-A4F0-59E14D7E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5F83-8235-4C73-8D71-6AEA99D6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BFB8-95C9-4853-9337-57DA3C5F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A3DD-189E-40C5-9EAD-DBEB015C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532CA-B7E9-438F-BBBE-D4ED472F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E7FE-B47D-4145-86B6-4989B9E1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313-9E9E-421A-94FD-D48836F5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DC15-C30E-4F6D-BE5E-2C0183FB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E2C5-EA7B-45F6-BCD1-EAC2947F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BEA2-2BAC-4346-B111-F1046BC1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DEE3-0827-4870-9080-B13C9E95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C3225-2A0E-499F-AD93-E56B3A08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B0D2F-742E-4EE0-872D-359CB54E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09BB-E6DB-4D06-A378-64FA0760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09EDE9-5F55-43A4-B5BA-F604C381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2A6F9-EBCF-4CA9-914A-985E5B2C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A82DF0-4787-4226-9369-CA25A7D6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B26-029C-41BE-821A-4BC8161D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F5ED9-E968-48D2-A411-DEDE7F81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DDAA6-EB1B-406C-BC84-F3C90231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E06E7-24C4-45EF-AEEE-F0554610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E55D8-FC14-4BB3-B1CD-8F2D8683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ABBE6-1C2E-4932-9671-D79DE843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6E185C-97A9-4E98-8985-6A5FD4ED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5F31E0-0483-4EBF-B083-82C7BE61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0D6FA6-E021-439A-9275-AFE53C65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92C91F-E5EB-463B-95CD-F27BA2DE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04FD6-4249-40A1-9FEB-77951A9A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455-6101-4FC2-B77C-E74E7F5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4FED1-3F43-4CF7-A2B4-F7BBD485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E5228-BC92-4BE3-9671-DE4529B5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A13D2-4351-4C6D-92C1-8CBF5BA6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6A88E-347B-4BE9-8898-D0C7FE77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00132-F9E7-4F7A-A0B5-A6F43A1F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0D828-7E92-4354-A29B-89B684BA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B3697-589F-422A-9BCD-A43ABED7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BEA37-C8DC-462F-87F5-49D032B9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9CFD3-B32B-435C-B167-431DE44B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A0A08-4F50-4BAF-867D-7628BB2C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854-69AB-47BA-83D7-A501AC1A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4C531-919E-4348-A57E-8442E55A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616E9-72B8-4F57-8827-B49733E8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41FCD-E5B4-4EA7-B8D3-4D00B622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44D97-605A-4F35-99FD-62772EA2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DA9AF-32E8-4731-B544-193220AF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64520-CC70-4C01-9432-9AB7F8EB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35A85-D9D9-4919-861C-25C1F748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D8D9C-F069-4179-B3EF-0A754DC6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295FE-3447-4D3F-AF03-064DD47E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916B3-8A69-4068-BD06-FA7C3661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8F4-0D71-4E2A-B0D1-4E0F4D26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A4094-899D-4106-BB43-EB622639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34DC4-DE70-4EAA-A4B8-9A1A796F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68D65-AB7C-4E60-98EB-8A0B5769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182B-444B-47C3-9F6C-AD3DD293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07205-F663-4806-A301-A5E1046A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8DCD6-3822-4D7D-8FEC-8C1FD82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C5246-24DC-46B4-A5D4-553FDA9F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B47A5-E5F0-4F72-B8C4-CBEEADEE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96322-4EEB-4DCF-B2A1-276AD7CB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BEA93-0E5A-449A-BBAE-9AE7F885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0BF-9A7A-4617-A677-72BA1B6F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517C3-EF0E-4A82-9FF2-7F1B674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43F2F-EC1F-421E-A703-D421C403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013F0-F45D-4DFF-93D2-84C64DF4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AE013-4DB1-4547-B5FC-EF0CDBFD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AB970-85B0-4619-9238-70F49712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10B-0213-4629-8E66-6EF7F032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8B9F-048D-4C12-85DD-A3D72876CE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A48F-21F3-40AF-AA1E-10F624694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0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1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1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EF4B-C0AB-4D18-B48B-8A7F3FBE522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6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6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7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CA31-8D15-4801-BCC1-E1DFA60D315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17C8-B93B-48FB-9E09-F830B6246041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8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A363-CECA-4B03-A1C8-401ED22A8902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3B6E-3810-427C-8373-9ECC23E6E4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1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华文行楷"/>
              </a:rPr>
              <a:t>林教头风雪山神庙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3657240" y="20570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施耐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924680" y="6172200"/>
            <a:ext cx="121932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Tahoma"/>
                <a:ea typeface="黑体"/>
              </a:rPr>
              <a:t>感谢施耐庵，创造了这些英雄人物形象，让我们记住他！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5938920" cy="446436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976680" y="3503160"/>
            <a:ext cx="1460160" cy="154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施耐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生于一二九六年，卒于一三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元末明初人，著名文学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3794"/>
                </a:moveTo>
                <a:lnTo>
                  <a:pt x="23317" y="10800"/>
                </a:lnTo>
                <a:lnTo>
                  <a:pt x="930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宋体"/>
              </a:rPr>
              <a:t>谢  谢  观  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">
            <a:hlinkClick r:id="rId2" action="ppaction://hlinksldjump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3794"/>
                </a:moveTo>
                <a:lnTo>
                  <a:pt x="23317" y="10800"/>
                </a:lnTo>
                <a:lnTo>
                  <a:pt x="930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04920" y="304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视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6105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1438200" cy="4187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Arial"/>
                <a:ea typeface="华文行楷"/>
              </a:rPr>
              <a:t>逼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上梁山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765000"/>
            <a:ext cx="4788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76500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e3e3ff"/>
                </a:solidFill>
                <a:latin typeface="Times New Roman"/>
                <a:ea typeface="黑体"/>
              </a:rPr>
              <a:t>林教头风雪山神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77040" y="18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总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692360" y="1628640"/>
            <a:ext cx="3527280" cy="1295640"/>
            <a:chOff x="1692360" y="1628640"/>
            <a:chExt cx="3527280" cy="1295640"/>
          </a:xfrm>
        </p:grpSpPr>
        <p:sp>
          <p:nvSpPr>
            <p:cNvPr id="801" name=""/>
            <p:cNvSpPr/>
            <p:nvPr/>
          </p:nvSpPr>
          <p:spPr>
            <a:xfrm flipV="1">
              <a:off x="1692360" y="1916280"/>
              <a:ext cx="1366920" cy="1008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>
              <a:hlinkClick r:id="rId1" action="ppaction://hlinksldjump"/>
            </p:cNvPr>
            <p:cNvSpPr/>
            <p:nvPr/>
          </p:nvSpPr>
          <p:spPr>
            <a:xfrm>
              <a:off x="3203640" y="1628640"/>
              <a:ext cx="2016000" cy="648000"/>
            </a:xfrm>
            <a:prstGeom prst="roundRect">
              <a:avLst>
                <a:gd name="adj" fmla="val 16667"/>
              </a:avLst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ccff"/>
                  </a:solidFill>
                  <a:latin typeface="Arial"/>
                  <a:ea typeface="楷体_GB2312"/>
                </a:rPr>
                <a:t>情节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692360" y="3357720"/>
            <a:ext cx="3527280" cy="647640"/>
            <a:chOff x="1692360" y="3357720"/>
            <a:chExt cx="3527280" cy="647640"/>
          </a:xfrm>
        </p:grpSpPr>
        <p:sp>
          <p:nvSpPr>
            <p:cNvPr id="804" name=""/>
            <p:cNvSpPr/>
            <p:nvPr/>
          </p:nvSpPr>
          <p:spPr>
            <a:xfrm>
              <a:off x="1692360" y="3716280"/>
              <a:ext cx="1366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>
              <a:hlinkClick r:id="rId2" action="ppaction://hlinksldjump"/>
            </p:cNvPr>
            <p:cNvSpPr/>
            <p:nvPr/>
          </p:nvSpPr>
          <p:spPr>
            <a:xfrm>
              <a:off x="3203640" y="3357720"/>
              <a:ext cx="2016000" cy="64764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性格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692360" y="4437000"/>
            <a:ext cx="3527280" cy="1224000"/>
            <a:chOff x="1692360" y="4437000"/>
            <a:chExt cx="3527280" cy="1224000"/>
          </a:xfrm>
        </p:grpSpPr>
        <p:sp>
          <p:nvSpPr>
            <p:cNvPr id="807" name=""/>
            <p:cNvSpPr/>
            <p:nvPr/>
          </p:nvSpPr>
          <p:spPr>
            <a:xfrm>
              <a:off x="1692360" y="4437000"/>
              <a:ext cx="1295280" cy="863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03640" y="5013360"/>
              <a:ext cx="2016000" cy="647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细节景物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292720" y="5373720"/>
            <a:ext cx="3024360" cy="719280"/>
            <a:chOff x="5292720" y="5373720"/>
            <a:chExt cx="3024360" cy="719280"/>
          </a:xfrm>
        </p:grpSpPr>
        <p:sp>
          <p:nvSpPr>
            <p:cNvPr id="810" name=""/>
            <p:cNvSpPr/>
            <p:nvPr/>
          </p:nvSpPr>
          <p:spPr>
            <a:xfrm>
              <a:off x="5292720" y="5373720"/>
              <a:ext cx="93672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00720" y="5445000"/>
              <a:ext cx="2016360" cy="6480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Arial"/>
                  <a:ea typeface="楷体_GB2312"/>
                </a:rPr>
                <a:t>景物赏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5292720" y="4508640"/>
            <a:ext cx="3024360" cy="792000"/>
            <a:chOff x="5292720" y="4508640"/>
            <a:chExt cx="3024360" cy="792000"/>
          </a:xfrm>
        </p:grpSpPr>
        <p:sp>
          <p:nvSpPr>
            <p:cNvPr id="813" name=""/>
            <p:cNvSpPr/>
            <p:nvPr/>
          </p:nvSpPr>
          <p:spPr>
            <a:xfrm flipV="1">
              <a:off x="5292720" y="5013360"/>
              <a:ext cx="936720" cy="28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00720" y="4508640"/>
              <a:ext cx="2016360" cy="64764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Arial"/>
                  <a:ea typeface="楷体_GB2312"/>
                </a:rPr>
                <a:t>细节赏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3794"/>
                </a:moveTo>
                <a:lnTo>
                  <a:pt x="22521" y="10800"/>
                </a:lnTo>
                <a:lnTo>
                  <a:pt x="850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10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10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0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7" name="">
            <a:hlinkClick r:id="rId2" action="ppaction://hlinksldjump"/>
          </p:cNvPr>
          <p:cNvSpPr/>
          <p:nvPr/>
        </p:nvSpPr>
        <p:spPr>
          <a:xfrm>
            <a:off x="824400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10800"/>
                </a:moveTo>
                <a:lnTo>
                  <a:pt x="23345" y="3794"/>
                </a:lnTo>
                <a:lnTo>
                  <a:pt x="2334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24080" y="1219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视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20059" fill="hold"/>
                                        <p:tgtEl>
                                          <p:spTgt spid="8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8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2286000" y="838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视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87249" fill="hold"/>
                                        <p:tgtEl>
                                          <p:spTgt spid="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82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82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3" name="">
            <a:hlinkClick r:id="rId2" action="ppaction://hlinksldjump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371600" y="1600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视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62485" fill="hold"/>
                                        <p:tgtEl>
                                          <p:spTgt spid="8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8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rId2" action="ppaction://hlinksldjump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257800" y="4191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视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847" fill="hold"/>
                                        <p:tgtEl>
                                          <p:spTgt spid="8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8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684360" y="981000"/>
            <a:ext cx="7704000" cy="4753080"/>
          </a:xfrm>
          <a:prstGeom prst="roundRect">
            <a:avLst>
              <a:gd name="adj" fmla="val 16667"/>
            </a:avLst>
          </a:prstGeom>
          <a:solidFill>
            <a:srgbClr val="0000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7772400" cy="511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刺配到沧州的林冲善良安分，委曲求全 ，不思反抗，一心想挣扎着回去和家人团聚，仇人的到来激起了林冲的怒火，表现出他的反抗意识。然而这种反抗不是坚决的，接管了草料场的林冲随遇而安，还作了长久呆 下去的打算，然而仇人狠毒的迫害，终于使林冲忍无可忍，奋起反抗。这个过程充分体现了一个字”逼”。林冲被逼上梁山从而反映了这篇课文以及《水浒》的主题――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官逼民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，这也是林冲形象的典型意义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>
            <a:hlinkClick r:id="" action="ppaction://hlinkshowjump?jump=nextslide"/>
          </p:cNvPr>
          <p:cNvSpPr/>
          <p:nvPr/>
        </p:nvSpPr>
        <p:spPr>
          <a:xfrm>
            <a:off x="8459640" y="6426360"/>
            <a:ext cx="684360" cy="431640"/>
          </a:xfrm>
          <a:custGeom>
            <a:avLst/>
            <a:gdLst>
              <a:gd name="textAreaLeft" fmla="*/ 27720 w 684360"/>
              <a:gd name="textAreaRight" fmla="*/ 656640 w 684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236" h="21600">
                <a:moveTo>
                  <a:pt x="0" y="0"/>
                </a:moveTo>
                <a:lnTo>
                  <a:pt x="34236" y="0"/>
                </a:lnTo>
                <a:lnTo>
                  <a:pt x="34236" y="21600"/>
                </a:lnTo>
                <a:lnTo>
                  <a:pt x="0" y="21600"/>
                </a:lnTo>
                <a:close/>
              </a:path>
              <a:path fill="lightenLess" w="34236" h="21600">
                <a:moveTo>
                  <a:pt x="0" y="0"/>
                </a:moveTo>
                <a:lnTo>
                  <a:pt x="34236" y="0"/>
                </a:lnTo>
                <a:lnTo>
                  <a:pt x="32836" y="1400"/>
                </a:lnTo>
                <a:lnTo>
                  <a:pt x="1400" y="1400"/>
                </a:lnTo>
                <a:close/>
              </a:path>
              <a:path fill="darken" w="34236" h="21600">
                <a:moveTo>
                  <a:pt x="34236" y="0"/>
                </a:moveTo>
                <a:lnTo>
                  <a:pt x="34236" y="21600"/>
                </a:lnTo>
                <a:lnTo>
                  <a:pt x="32836" y="20200"/>
                </a:lnTo>
                <a:lnTo>
                  <a:pt x="32836" y="1400"/>
                </a:lnTo>
                <a:close/>
              </a:path>
              <a:path fill="darkenLess" w="34236" h="21600">
                <a:moveTo>
                  <a:pt x="34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36" y="20200"/>
                </a:lnTo>
                <a:close/>
              </a:path>
              <a:path fill="lighten" w="34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36" h="21600">
                <a:moveTo>
                  <a:pt x="10112" y="3794"/>
                </a:moveTo>
                <a:lnTo>
                  <a:pt x="24124" y="10800"/>
                </a:lnTo>
                <a:lnTo>
                  <a:pt x="10112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8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6" name="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03:21:53Z</dcterms:created>
  <dc:creator>slb</dc:creator>
  <dc:description/>
  <dc:language>en-US</dc:language>
  <cp:lastModifiedBy>ASUS</cp:lastModifiedBy>
  <dcterms:modified xsi:type="dcterms:W3CDTF">2006-03-05T00:34:21Z</dcterms:modified>
  <cp:revision>20</cp:revision>
  <dc:subject/>
  <dc:title>林教头风雪山神庙</dc:title>
</cp:coreProperties>
</file>