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TYPE.WAV" ContentType="audio/x-wav"/>
  <Override PartName="/ppt/media/CAMERA.WAV" ContentType="audio/x-wav"/>
  <Override PartName="/ppt/media/LASER.WAV" ContentType="audio/x-wav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D00D-1E12-4307-8020-B49F70F8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5A7-179A-41CD-AC02-4F944ECA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6EC-7082-4DFC-B135-F1FC83FE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619-3BB2-4747-9C9B-DC3E88F2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FB8-D610-49E6-83A3-17FCAE54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9AC-6D53-4CC0-9082-115693F3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0D0-1B1C-4C8D-9360-1E797B38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4B1-3243-492B-B473-2AEF95D6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2CB-1F28-4D8C-82C3-5A7539C3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F11-E2B3-45DD-836C-DCDEB729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B20-7554-4BE2-AFF6-5F484520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462-3FA4-474C-9FC1-383A4754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8A2E-AB01-46D3-9DCD-8EB8358477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28673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六 国 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（宋   苏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动作按钮: 前进或下一项 28676">
            <a:hlinkClick r:id="" action="ppaction://hlinkshowjump?jump=nextslide"/>
          </p:cNvPr>
          <p:cNvSpPr/>
          <p:nvPr/>
        </p:nvSpPr>
        <p:spPr>
          <a:xfrm>
            <a:off x="8424720" y="6426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图片 28677" descr=""/>
          <p:cNvPicPr/>
          <p:nvPr/>
        </p:nvPicPr>
        <p:blipFill>
          <a:blip r:embed="rId1"/>
          <a:stretch/>
        </p:blipFill>
        <p:spPr>
          <a:xfrm>
            <a:off x="0" y="3505320"/>
            <a:ext cx="5562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21505"/>
          <p:cNvSpPr/>
          <p:nvPr/>
        </p:nvSpPr>
        <p:spPr>
          <a:xfrm>
            <a:off x="228600" y="914400"/>
            <a:ext cx="3554280" cy="20437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攻取之外 ，小则获邑 ，大则得城。较秦之所得 ，与战胜而得者 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其实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百倍；诸侯之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亡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，与战败而亡者 ，其实亦百倍。则秦之所大欲 ，诸侯之所大患 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固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不在战矣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21506"/>
          <p:cNvSpPr/>
          <p:nvPr/>
        </p:nvSpPr>
        <p:spPr>
          <a:xfrm>
            <a:off x="0" y="2286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第二段</a:t>
            </a:r>
            <a:r>
              <a:rPr b="0" lang="zh-CN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0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1</a:t>
            </a:r>
            <a:r>
              <a:rPr b="0" lang="zh-CN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21507"/>
          <p:cNvSpPr/>
          <p:nvPr/>
        </p:nvSpPr>
        <p:spPr>
          <a:xfrm>
            <a:off x="4267080" y="32767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亡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21508"/>
          <p:cNvSpPr/>
          <p:nvPr/>
        </p:nvSpPr>
        <p:spPr>
          <a:xfrm>
            <a:off x="4343400" y="1828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、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21509"/>
          <p:cNvSpPr/>
          <p:nvPr/>
        </p:nvSpPr>
        <p:spPr>
          <a:xfrm>
            <a:off x="4267080" y="4191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固然、当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21510"/>
          <p:cNvSpPr/>
          <p:nvPr/>
        </p:nvSpPr>
        <p:spPr>
          <a:xfrm>
            <a:off x="4267080" y="2590920"/>
            <a:ext cx="41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其实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实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21511"/>
          <p:cNvSpPr/>
          <p:nvPr/>
        </p:nvSpPr>
        <p:spPr>
          <a:xfrm>
            <a:off x="3962520" y="380880"/>
            <a:ext cx="5181480" cy="307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秦国用攻战获取土地之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还得到诸侯的贿赂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的就得到邑镇，大的就得到城市。把秦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受贿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得到的土地，与战胜而得到的土地比较，它的实际数目多到百倍。把六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贿赂秦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丧失的土地，与战败而丧失的土地比较，实际上也多到百倍。那么，秦国最想要的，六国诸侯最担心的，当然不在于战争了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22529"/>
          <p:cNvSpPr/>
          <p:nvPr/>
        </p:nvSpPr>
        <p:spPr>
          <a:xfrm>
            <a:off x="0" y="990720"/>
            <a:ext cx="3733920" cy="20437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厥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祖父 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暴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pu4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霜露 ，斩荆棘 ，以有尺寸之地。子孙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视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之不甚惜 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举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人 ，如弃草芥。今日割五城 ，明日割十城 ，然后得一夕安寝。起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视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四境 ，而秦兵又至矣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22530"/>
          <p:cNvSpPr/>
          <p:nvPr/>
        </p:nvSpPr>
        <p:spPr>
          <a:xfrm>
            <a:off x="0" y="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第二段（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矩形 22531"/>
          <p:cNvSpPr/>
          <p:nvPr/>
        </p:nvSpPr>
        <p:spPr>
          <a:xfrm>
            <a:off x="5410800" y="1109520"/>
            <a:ext cx="9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厥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、他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22532"/>
          <p:cNvSpPr/>
          <p:nvPr/>
        </p:nvSpPr>
        <p:spPr>
          <a:xfrm>
            <a:off x="4856760" y="2565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视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矩形 22533"/>
          <p:cNvSpPr/>
          <p:nvPr/>
        </p:nvSpPr>
        <p:spPr>
          <a:xfrm>
            <a:off x="4784040" y="3284640"/>
            <a:ext cx="9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举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22534"/>
          <p:cNvSpPr/>
          <p:nvPr/>
        </p:nvSpPr>
        <p:spPr>
          <a:xfrm>
            <a:off x="4784040" y="4114800"/>
            <a:ext cx="9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22535"/>
          <p:cNvSpPr/>
          <p:nvPr/>
        </p:nvSpPr>
        <p:spPr>
          <a:xfrm>
            <a:off x="4877640" y="190512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暴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冒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22536"/>
          <p:cNvSpPr/>
          <p:nvPr/>
        </p:nvSpPr>
        <p:spPr>
          <a:xfrm>
            <a:off x="3809880" y="228600"/>
            <a:ext cx="510552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想想他们死去的祖辈父辈，冒着霜露，披荆斩棘，才有了一点土地。子孙对待土地却不很爱惜，拿它送给别人，好像丢弃小草一样。今天割让五座城，明天割让十座城，然后才能得到一夜的安睡；第二天起来一看四周边境，却发现秦国的军队又到了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23553"/>
          <p:cNvSpPr/>
          <p:nvPr/>
        </p:nvSpPr>
        <p:spPr>
          <a:xfrm>
            <a:off x="179280" y="1100160"/>
            <a:ext cx="3554640" cy="2988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然则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</a:rPr>
              <a:t>诸侯之地有限 ，暴</a:t>
            </a:r>
            <a:r>
              <a:rPr b="1" lang="en-US" sz="3000" spc="-1" strike="noStrike">
                <a:solidFill>
                  <a:srgbClr val="3333ff"/>
                </a:solidFill>
                <a:latin typeface="Times New Roman"/>
              </a:rPr>
              <a:t>bao4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</a:rPr>
              <a:t>秦之欲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厌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满足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奉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</a:rPr>
              <a:t>之弥繁 ，侵之愈急。故不战而强弱胜负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判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</a:rPr>
              <a:t>矣。至于颠覆 ，</a:t>
            </a:r>
            <a:r>
              <a:rPr b="1" lang="en-US" sz="3000" spc="-1" strike="noStrike">
                <a:solidFill>
                  <a:srgbClr val="3333ff"/>
                </a:solidFill>
                <a:latin typeface="Times New Roman"/>
              </a:rPr>
              <a:t>[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</a:rPr>
              <a:t>理</a:t>
            </a:r>
            <a:r>
              <a:rPr b="1" lang="en-US" sz="3000" spc="-1" strike="noStrike">
                <a:solidFill>
                  <a:srgbClr val="3333ff"/>
                </a:solidFill>
                <a:latin typeface="Times New Roman"/>
              </a:rPr>
              <a:t>]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</a:rPr>
              <a:t>固宜然。古人云：</a:t>
            </a:r>
            <a:r>
              <a:rPr b="1" lang="en-US" sz="30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</a:rPr>
              <a:t>以地事秦 ，犹抱薪救火 ，薪不尽 ，火不灭。</a:t>
            </a:r>
            <a:r>
              <a:rPr b="1" lang="en-US" sz="30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</a:rPr>
              <a:t>此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得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</a:rPr>
              <a:t>之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23554"/>
          <p:cNvSpPr/>
          <p:nvPr/>
        </p:nvSpPr>
        <p:spPr>
          <a:xfrm>
            <a:off x="609480" y="152280"/>
            <a:ext cx="374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第二段（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矩形 23555"/>
          <p:cNvSpPr/>
          <p:nvPr/>
        </p:nvSpPr>
        <p:spPr>
          <a:xfrm>
            <a:off x="4267080" y="12193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然则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既然）如此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矩形 23556"/>
          <p:cNvSpPr/>
          <p:nvPr/>
        </p:nvSpPr>
        <p:spPr>
          <a:xfrm>
            <a:off x="4343400" y="3657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判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出、确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矩形 23557"/>
          <p:cNvSpPr/>
          <p:nvPr/>
        </p:nvSpPr>
        <p:spPr>
          <a:xfrm>
            <a:off x="5722920" y="4800600"/>
            <a:ext cx="8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得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理、说得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矩形 23558"/>
          <p:cNvSpPr/>
          <p:nvPr/>
        </p:nvSpPr>
        <p:spPr>
          <a:xfrm>
            <a:off x="4267080" y="2590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送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23559"/>
          <p:cNvSpPr/>
          <p:nvPr/>
        </p:nvSpPr>
        <p:spPr>
          <a:xfrm>
            <a:off x="3962520" y="380880"/>
            <a:ext cx="4876560" cy="204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既然如此，那么诸侯的土地有限，强暴的秦国的欲望没有满足，诸侯送给泰国土地越多，秦国侵略诸侯就越急迫。所以，不用作战，谁强谁弱谁胜谁负已经确定了。六国到达灭亡的地步，按理应当这样。古人说：“用土地侍奉秦国，好像抱着柴去救火，柴不烧完，火不会熄灭。”这话对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矩形 19459"/>
          <p:cNvSpPr/>
          <p:nvPr/>
        </p:nvSpPr>
        <p:spPr>
          <a:xfrm>
            <a:off x="0" y="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诵读第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段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 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诵读的准备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 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充注释：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    ①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秦以攻取之外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秦在攻占土地之外。以，同“于” 。以，当释为“在”；课文注为“用、凭着”；误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    ②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较秦之所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实亦百倍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较”，直贯全句。“所得”，指受赂得地。“百倍”，极言其多，不是确数。全句意即秦受路得地为攻战得地之百倍，诸侯赂秦失地为战败失地之百倍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   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“其”。先秦典籍中用得较多，以后不常用。作者这里是有意用古字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    ④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起视四境，而秦兵又至矣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是形象的描述。秦在六国之西，不可能“四境”而至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    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承上发下语，这里用法同“然而”，跟“可是”大致相当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    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声兼会意。半，物中分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    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理固宜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理说，本当如此，即俗语“理所当然”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    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人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人，指苏代。这话是对魏安法王说的，当时魏安留王接二连三地以地赔秦，苏代不同意这种做法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（二）找出本段中的论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问：哪一个是主要的？                                             说明理由。                                                            “至于颠覆，理固宜然”跟这个论断是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问：引古人语有什么作用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26627"/>
          <p:cNvSpPr/>
          <p:nvPr/>
        </p:nvSpPr>
        <p:spPr>
          <a:xfrm>
            <a:off x="685800" y="192564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26628"/>
          <p:cNvSpPr/>
          <p:nvPr/>
        </p:nvSpPr>
        <p:spPr>
          <a:xfrm>
            <a:off x="228600" y="20574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26629"/>
          <p:cNvSpPr/>
          <p:nvPr/>
        </p:nvSpPr>
        <p:spPr>
          <a:xfrm>
            <a:off x="1432080" y="2230560"/>
            <a:ext cx="634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文本框 26630"/>
          <p:cNvSpPr/>
          <p:nvPr/>
        </p:nvSpPr>
        <p:spPr>
          <a:xfrm>
            <a:off x="762120" y="144792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（“秦之所大欲，诸侯之所大患，固不在战矣”，“故不战而强弱胜负已判矣”。）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文本框 26631"/>
          <p:cNvSpPr/>
          <p:nvPr/>
        </p:nvSpPr>
        <p:spPr>
          <a:xfrm>
            <a:off x="4521600" y="2354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后一个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文本框 26632"/>
          <p:cNvSpPr/>
          <p:nvPr/>
        </p:nvSpPr>
        <p:spPr>
          <a:xfrm>
            <a:off x="3440160" y="2838600"/>
            <a:ext cx="34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照应开头“赔秦而力亏”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文本框 26633"/>
          <p:cNvSpPr/>
          <p:nvPr/>
        </p:nvSpPr>
        <p:spPr>
          <a:xfrm>
            <a:off x="780840" y="3878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推论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文本框 26634"/>
          <p:cNvSpPr/>
          <p:nvPr/>
        </p:nvSpPr>
        <p:spPr>
          <a:xfrm>
            <a:off x="5352840" y="464040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旁证。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层练习诵读及检查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头至“固不在战矣”。提示：注意排比句式。行文先说事实后作论断。“则”，相当于“可见”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 ②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厥先祖父”至“而秦兵又至矣”。提示：议论文中亦可有形象的描绘。对比“先人”与“子孙”，包含着对赔秦政策的严厉批评。“今日”、“明日”，极言割地之频繁；“五城”“十城”极言割地之多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 ③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则诸侯之地有限”至段未。提示：注意对偶句式、比喻写法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本段大意；论证“赂秦而力亏”的论点，指出韩、魏、楚三国灭亡的原因。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8193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六 国 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（宋   苏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文本框 8194"/>
          <p:cNvSpPr/>
          <p:nvPr/>
        </p:nvSpPr>
        <p:spPr>
          <a:xfrm>
            <a:off x="0" y="990720"/>
            <a:ext cx="9144000" cy="364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、作者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苏洵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9—106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字明允，号老泉（“苏老泉，二十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始发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书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…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唐宋八大家之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宋代眉山（今四川眉山县）人，人称“老苏”，与儿子“大苏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苏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“小苏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苏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并称“三苏”后人有诗称赞：“一门三父子，都是大文豪，诗赋传千古，峨嵋共比高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动作按钮: 前进或下一项 8195">
            <a:hlinkClick r:id="" action="ppaction://hlinkshowjump?jump=nextslide"/>
          </p:cNvPr>
          <p:cNvSpPr/>
          <p:nvPr/>
        </p:nvSpPr>
        <p:spPr>
          <a:xfrm>
            <a:off x="8424720" y="6426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动作按钮: 后退或前一项 8196">
            <a:hlinkClick r:id="" action="ppaction://hlinkshowjump?jump=previousslide"/>
          </p:cNvPr>
          <p:cNvSpPr/>
          <p:nvPr/>
        </p:nvSpPr>
        <p:spPr>
          <a:xfrm>
            <a:off x="7620120" y="6426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图片 8197" descr=""/>
          <p:cNvPicPr/>
          <p:nvPr/>
        </p:nvPicPr>
        <p:blipFill>
          <a:blip r:embed="rId1"/>
          <a:stretch/>
        </p:blipFill>
        <p:spPr>
          <a:xfrm>
            <a:off x="1676520" y="5851440"/>
            <a:ext cx="6400800" cy="1006560"/>
          </a:xfrm>
          <a:prstGeom prst="rect">
            <a:avLst/>
          </a:prstGeom>
          <a:ln w="0">
            <a:noFill/>
          </a:ln>
        </p:spPr>
      </p:pic>
      <p:pic>
        <p:nvPicPr>
          <p:cNvPr id="49" name="已录下的声音" descr=""/>
          <p:cNvPicPr/>
          <p:nvPr/>
        </p:nvPicPr>
        <p:blipFill>
          <a:blip r:embed="rId2"/>
          <a:stretch/>
        </p:blipFill>
        <p:spPr>
          <a:xfrm>
            <a:off x="6781680" y="9907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9217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六 国 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（宋   苏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文本框 9218"/>
          <p:cNvSpPr/>
          <p:nvPr/>
        </p:nvSpPr>
        <p:spPr>
          <a:xfrm>
            <a:off x="0" y="1523880"/>
            <a:ext cx="9144000" cy="285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 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宋仁宗嘉佑二年（公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），苏轼二十岁，到京师卞梁（开封）去考进士。在京师等考期间，有几个自负的举人看苏轼年轻，瞧不起他，有意戏弄苏轼。六个举人备了六个下酒菜，延请素轼喝酒，苏轼欣然前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席，一举人建议为助酒兴，喝酒要行酒令，酒令内容是每人说一个历史人物的典故，联系那样菜，那样菜就归谁 吃，行令要从年纪大的到年纪小的。其余五举人连声附和：“好、好、好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姜尚渭水钓鱼”，年最长者傲气满脸地端走了鱼；“秦琼长安卖马”，第二位神气十足地端走了马肉；“苏武北海牧羊”，第三个毫不示弱地端走了羊肉；“张飞蜀都卖肉”，第四位不慌不忙地端走了猪肉；“关羽荆州卖豆腐”，第五个从容不迫地端走了豆腐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动作按钮: 后退或前一项 9219">
            <a:hlinkClick r:id="" action="ppaction://hlinkshowjump?jump=previousslide"/>
          </p:cNvPr>
          <p:cNvSpPr/>
          <p:nvPr/>
        </p:nvSpPr>
        <p:spPr>
          <a:xfrm>
            <a:off x="7543800" y="64771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动作按钮: 前进或下一项 9220">
            <a:hlinkClick r:id="" action="ppaction://hlinkshowjump?jump=nextslide"/>
          </p:cNvPr>
          <p:cNvSpPr/>
          <p:nvPr/>
        </p:nvSpPr>
        <p:spPr>
          <a:xfrm>
            <a:off x="8305920" y="64771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9221"/>
          <p:cNvSpPr/>
          <p:nvPr/>
        </p:nvSpPr>
        <p:spPr>
          <a:xfrm>
            <a:off x="0" y="990720"/>
            <a:ext cx="9144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1126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矩形 11266"/>
          <p:cNvSpPr/>
          <p:nvPr/>
        </p:nvSpPr>
        <p:spPr>
          <a:xfrm>
            <a:off x="3430440" y="222408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矩形 11267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i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六 国 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（宋   苏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11268"/>
          <p:cNvSpPr/>
          <p:nvPr/>
        </p:nvSpPr>
        <p:spPr>
          <a:xfrm>
            <a:off x="0" y="1066680"/>
            <a:ext cx="9144000" cy="2494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诸葛亮隆中种菜”，第六个胸有成竹地端走了青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部菜被端走了，六个举人正准备高兴地吃采喝酒，苏轼开口了：“各位，该我行酒令了！”他说出了六个字，不紧不慢地把六盘菜端到自己面前，然后笑眯眯地说：“诸位兄台，请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大家想一想：苏轼行了个什么酒令？（            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11269"/>
          <p:cNvSpPr/>
          <p:nvPr/>
        </p:nvSpPr>
        <p:spPr>
          <a:xfrm>
            <a:off x="6019920" y="2819520"/>
            <a:ext cx="23619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嬴政并吞六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11270"/>
          <p:cNvSpPr/>
          <p:nvPr/>
        </p:nvSpPr>
        <p:spPr>
          <a:xfrm>
            <a:off x="0" y="3276720"/>
            <a:ext cx="2286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战国七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1271"/>
          <p:cNvSpPr/>
          <p:nvPr/>
        </p:nvSpPr>
        <p:spPr>
          <a:xfrm>
            <a:off x="2547360" y="3429000"/>
            <a:ext cx="377604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11272"/>
          <p:cNvSpPr/>
          <p:nvPr/>
        </p:nvSpPr>
        <p:spPr>
          <a:xfrm>
            <a:off x="0" y="4038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动作按钮: 后退或前一项 11273">
            <a:hlinkClick r:id="" action="ppaction://hlinkshowjump?jump=previousslide"/>
          </p:cNvPr>
          <p:cNvSpPr/>
          <p:nvPr/>
        </p:nvSpPr>
        <p:spPr>
          <a:xfrm>
            <a:off x="8424720" y="594360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动作按钮: 前进或下一项 11274">
            <a:hlinkClick r:id="" action="ppaction://hlinkshowjump?jump=nextslide"/>
          </p:cNvPr>
          <p:cNvSpPr/>
          <p:nvPr/>
        </p:nvSpPr>
        <p:spPr>
          <a:xfrm>
            <a:off x="8424720" y="6426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11275"/>
          <p:cNvSpPr/>
          <p:nvPr/>
        </p:nvSpPr>
        <p:spPr>
          <a:xfrm>
            <a:off x="6019920" y="4191120"/>
            <a:ext cx="1828800" cy="21513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强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大齐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11276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图片 11277" descr=""/>
          <p:cNvPicPr/>
          <p:nvPr/>
        </p:nvPicPr>
        <p:blipFill>
          <a:blip r:embed="rId1"/>
          <a:stretch/>
        </p:blipFill>
        <p:spPr>
          <a:xfrm>
            <a:off x="0" y="3879720"/>
            <a:ext cx="5257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4337"/>
          <p:cNvSpPr txBox="1"/>
          <p:nvPr/>
        </p:nvSpPr>
        <p:spPr>
          <a:xfrm>
            <a:off x="990720" y="1143000"/>
            <a:ext cx="58672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魏碑繁体"/>
              </a:rPr>
              <a:t>六国论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魏碑繁体"/>
              <a:ea typeface="方正魏碑繁体"/>
            </a:endParaRPr>
          </a:p>
        </p:txBody>
      </p:sp>
      <p:sp>
        <p:nvSpPr>
          <p:cNvPr id="70" name="文本框 14338"/>
          <p:cNvSpPr/>
          <p:nvPr/>
        </p:nvSpPr>
        <p:spPr>
          <a:xfrm>
            <a:off x="6153120" y="4267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幼圆"/>
              </a:rPr>
              <a:t>苏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5361"/>
          <p:cNvSpPr/>
          <p:nvPr/>
        </p:nvSpPr>
        <p:spPr>
          <a:xfrm>
            <a:off x="380880" y="533520"/>
            <a:ext cx="84582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学法指导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、反复朗读课文，读通、读顺、读懂大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、对照研究原文和注释、译文。然后逐句或逐段作交替朗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、学习和讨论“知识要点归纳”。在老师指导下研讨结构、写作手法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或自学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《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&lt;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六国论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&gt;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评注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》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、课外完成能力训练“扩展阅读”，听老师讲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、对照研讨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过秦论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六国论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阿房宫赋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，它们在借古讽今方面有何不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要读懂这篇文章，就必须注意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1.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文言词语的积累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词义的古今差别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3.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与今天不同的特殊句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18433"/>
          <p:cNvSpPr/>
          <p:nvPr/>
        </p:nvSpPr>
        <p:spPr>
          <a:xfrm>
            <a:off x="179280" y="1886040"/>
            <a:ext cx="3706920" cy="20437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六国破灭 ，非兵不利 ，战不善 ，弊在赂秦。赂秦而力亏 ，破灭之道也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曰：六国互丧 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率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赂秦耶？曰：不赂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赂者丧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盖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失强援 ，不能独完。故曰弊在赂秦也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18434"/>
          <p:cNvSpPr/>
          <p:nvPr/>
        </p:nvSpPr>
        <p:spPr>
          <a:xfrm>
            <a:off x="250920" y="609480"/>
            <a:ext cx="31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第一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18435"/>
          <p:cNvSpPr/>
          <p:nvPr/>
        </p:nvSpPr>
        <p:spPr>
          <a:xfrm>
            <a:off x="4343400" y="2057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或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18436"/>
          <p:cNvSpPr/>
          <p:nvPr/>
        </p:nvSpPr>
        <p:spPr>
          <a:xfrm>
            <a:off x="4343400" y="30481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率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18437"/>
          <p:cNvSpPr/>
          <p:nvPr/>
        </p:nvSpPr>
        <p:spPr>
          <a:xfrm>
            <a:off x="4267080" y="40384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于、因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文本框 18438"/>
          <p:cNvSpPr/>
          <p:nvPr/>
        </p:nvSpPr>
        <p:spPr>
          <a:xfrm>
            <a:off x="4267080" y="5029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盖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18439"/>
          <p:cNvSpPr/>
          <p:nvPr/>
        </p:nvSpPr>
        <p:spPr>
          <a:xfrm>
            <a:off x="4191120" y="0"/>
            <a:ext cx="49528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六国灭亡，不是因为武器不锋利，仗打不好，弊病在于贿赂秦国。贿赂秦国，自己的实力就亏损，这是灭亡的原因。有人说：六国相继灭亡，都是因为他们贿赂秦国吗？回答说：不贿赂秦国的国家由于贿赂秦国的国家而灭亡。因为不贿赂秦国的国家失去了其他国家强有力的援助，就不能单独保全。所以说弊病在于贿赂秦国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．诵读第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段</a:t>
            </a:r>
            <a:br>
              <a:rPr sz="2800"/>
            </a:b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诵读的准备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    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停顿：“非／兵不利，战不善，弊在／路秦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    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气：破灭之道也（肯定判断）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    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补充史实：秦灭韩为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灭魏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灭楚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灭燕灭赵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灭齐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。“互丧”，先后相继灭亡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    ④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率皆路秦耶”：设问兼反问。提出此问的根据是齐、赵、燕三国末路秦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    ⑤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盖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句，用解释语气读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 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诵读练习及检查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 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速背，只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钟（包括检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归纳本段大意：提出本文中心论点，即六国破灭“弊在路秦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9:14:22Z</dcterms:created>
  <dc:creator>a</dc:creator>
  <dc:description/>
  <dc:language>en-US</dc:language>
  <cp:lastModifiedBy>admin</cp:lastModifiedBy>
  <dcterms:modified xsi:type="dcterms:W3CDTF">2019-04-17T04:44:43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67</vt:lpwstr>
  </property>
</Properties>
</file>