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9D8-809D-4A1C-AEC6-3145786A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034-E43A-4CD5-A01E-28B6EB93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1CED2-AAEF-4E24-99FF-7857B240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F3AF7-6A09-4D67-9A5F-2817126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8DB76-D67C-4558-A380-6BD6BD2B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A8804-5BB1-479B-9F1F-8652AC0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7B419-5EF9-48F3-AFE7-3CF6AFE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697D-C003-41F8-B62D-5D87660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95EFC-E012-4496-8C78-4D3AC20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76F09-E721-43CB-A3D7-AD52CF2C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C1EE8-313A-41EC-B049-51C2CEE1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9876E-918E-404B-A2E5-5CC4C2B6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633-80A9-4452-BA19-3FF76F5F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1DE1A-DD29-4A94-8904-7F52DC4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4114C-5A17-46B4-838D-D7A7948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7B391-54EC-42BB-9976-9CF7C08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D2351-CADB-40B9-AB03-3DDAD0B9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FF3E9-6268-4249-A3EA-5BCB3D3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E45C9-0848-448D-990D-D7C68FD9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BBC10-71E4-4F4F-8FE1-6102A935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648EF-064D-48BD-B616-C16FA9BA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E8EED-887C-4C59-A255-349F7B0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FBD5-4F6D-4367-93B8-949436B0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0F8-4E11-4CEC-930D-A765168F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BDD79-079D-483F-B9DB-340EB10B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699F2-E4E5-40E6-8E56-6AA5EF8B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12384-05F6-45A2-B750-AA6F679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D86A3-9063-42A1-8C56-7C09F1E6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965C3-4A89-4236-BA43-879EFF0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AFA1E-5A0E-4F40-B675-F33D54A4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646B1-4885-4B14-A065-377DE37E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7868A-812C-4BB7-B8AC-6D8AA2A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C5B9D-7683-4E47-815C-725442C8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8378-C402-40F7-AA10-D33D89F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848D-38CD-45E5-A403-E813F035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F75D2-A21D-4621-BA93-E33972C0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A965-9A0D-4116-84AF-5E8BEA84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4A953-CE5C-481C-B887-7828DAED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1BDC0-0720-4928-8DC4-4F5D3843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DF643-4A03-42E5-AAA1-3D22B88A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906C1-D3F1-4FE1-9989-FA547BE1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6B849-252C-4F9D-B001-9852D3AB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E1019-8E20-413C-AD4D-716213A2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C56D2-5C95-460C-B8B6-9F2A705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0DB42-66B4-4F85-BDEF-3989422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361F-FD57-4CB6-923D-10C4790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25D53-F4D2-44AA-B32E-CD134BE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2BB21-8F51-4151-8B3F-E892824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A8BEC-6139-4A8F-AF3F-3B825A8A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6A037-57EC-402A-B1DE-0D236A38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BAEC5-D096-417E-9D00-135E3D7D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121B-C196-4E0F-B1ED-18B3661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1BA-DCA1-4FCC-9714-6A9C9898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D9EE-2D79-4155-A9BC-807D4304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874-40F4-474B-A493-8FAFCBD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5ED-6B0D-4F27-B37E-7ED1B845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21D-CA5B-4F1D-BB20-06651EDB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3BF7-A684-40AE-9243-3217BA6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EC19-F1AC-4184-A432-CAA3FD9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4C93-7685-4E5F-ABDE-BBA777BD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FFC0-9D0F-477B-96B9-7A008558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8250-8026-4987-9C66-90B43E0C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383D-E647-4552-9C1F-AD923A28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5809-D52C-419A-AF8D-C1B028B4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7596-FBA6-4533-AB03-B06F1B79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8429-934D-498E-870F-74C607C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0351-C89B-4A44-9875-8BC0AD86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323-18B9-416A-88BF-2A15B219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64CF8-D56E-4A58-8B15-D814FC01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3D12-AA58-4962-8D41-383BEB4A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54C0-8F06-41D5-AA97-3E2E64F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5489-BAED-494F-8EB2-B7C6560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FD15-462D-4080-BF6C-5273F297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B00D-EB08-4C45-A1F9-83FF91E9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D498-92DA-40CE-9A10-1FAE9FBA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8D22-9E1E-4E47-BDFE-5AA9098F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B27A8-9714-4349-A716-F7D7740B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103F-04C5-479B-BB66-C3B431A8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FA5-F5EE-4D8F-B281-351A217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4256-831D-4C03-B9B5-815A5FBC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F201-7BEC-47AC-94E3-A5CB787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4546-248D-4D3D-97C5-2E11E856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A7EDF-2763-4084-982F-29E16CE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A2EB-D7D1-425A-90E1-24115B93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A4406-4E86-4CCB-A49D-5715657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0B63-C28F-4E0B-A322-50D8DBE6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3565-7E19-4556-A438-9246AA38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2CEE-3B3C-43B0-9968-494D9A38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2527E-C5E6-4E0B-9C98-E4D1E6AC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C94-76F5-4065-BB09-160E722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DFB73-1E6E-4849-8E9D-9E75A62B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71DA-E125-43EE-B451-5D838E55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34EB-5E7C-4755-BD64-133E5A25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5D631-D7CE-416C-A53F-89F52B3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2F37B-A8D1-4906-8DFB-AE78D9FF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A600-3A77-4B1C-A3AB-32767EBB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57CB-6E58-49EE-A727-8899CEE3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5ABF-1B98-4AAE-BE91-9F03293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62439-1417-4DE0-BF3E-8BAE0CE0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F2F6-7E4F-4D16-9664-7E222300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08E-6030-4ED1-B016-9FEE7C2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F0FB4-EA97-43B3-B07E-297F6A09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1AC4-3579-4124-B21A-E8611D13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FF05C-CEF4-4A5C-8FE1-59AE4EAD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1068-9B43-4520-B4A6-853DC471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338F-96DD-4182-AFD0-CEC7656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697F-8176-4927-B415-BB1E094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C3462-4B49-4DCE-86C6-FF268614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42B10-F4F3-4B9E-9E4F-C767929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67C6-FBF9-4D70-9C0C-69476ED7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D7469-C113-432E-BDA8-88D8DD51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214-7445-41E0-BC05-6DBBA4C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EF6BF-F591-4F14-B978-050EB17D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45A4-259C-44F0-A35A-0A1B85B8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E4884-8A99-4A7A-8306-AD5E7ED8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9C0E-613C-4106-913F-F2451C02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DE0C-D83C-4042-B6B5-426FB8E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1102-0214-40B5-BEC6-DC7AA550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63346-4532-445F-8019-103FF859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6A21E-3B1C-4174-B28C-68AD5D1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536E8-B76E-4525-9254-1FCD0970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854C-A8B6-4DF4-8E13-345F84C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F34-655E-48AF-87F9-D4E36A95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698AE-C626-47B1-8489-4BE025C9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11AB-1CB9-4E6E-BFB9-51FC7A0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818F-4CC9-4499-A217-3A768291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60A8-9956-4CF9-824B-B7E99B8A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514A3-C07E-4600-AA3D-39F8F84D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CCBF-E851-4885-8613-077A9EBF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662B-F2F7-42B2-B7A4-29611A8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99DB-9115-427B-BC1A-7CE9BA3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7EE4-0412-489B-B017-8AA128F0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0A035-2919-4F06-9926-CDEC0387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184-4D69-4D86-9A7E-F01896C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F16AF-6D84-431E-86CD-0D1D5AFA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1BC2-F00F-4390-8EDE-4E129A7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57297-766C-4526-B0BC-A254723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49097-BA0E-4DF7-A2BC-449A480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1987-B67D-421F-B0ED-06A358C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E4BCD-CDD6-44AE-9804-E2CC5F60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33F1-F27B-40A2-AC9D-656E42D6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69BF6-DB32-4C66-9538-E3600AA9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6C81D-C65C-410D-A37B-65847F82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47008-068F-46FE-B4C7-7B9BD3B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B3E-2DA6-45D2-B961-A8760719E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B3B-0CF0-4E4D-A501-7DCCCE68A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EF0-B8B0-439A-81DC-A271F0F3443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3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3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3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312D-CFB2-4435-9945-2A9E572D7090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184-B686-48A4-BBC0-03AD4CFDF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748F-261B-4512-B77F-815654540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AE23-F926-4D7F-99FB-E5B0CF617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DE8C-BEA4-48F3-B4C8-69E69F6D9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1735-7ECF-4F0B-8CE8-182A993E8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4D3E-FEB3-433B-A351-D106B81B6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DD42-81B1-4B05-A8B4-B6168842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8D48-D8DF-476D-8819-AAFDF87C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cn.netor.com/m/minren/quyuan/main.asp?boardid=28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节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44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屈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2995560" cy="455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离骚”释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3527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司马迁解释为“离忧”，意思尚不够明白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班固进而释“离”为“罹”，以“离骚”为“遭忧作辞”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逸则说：“离，别也；骚，愁也。”把“离骚”释为离别的愁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结合注解自学课文，小组互助解决难点，教师重点讲解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838080" y="304920"/>
            <a:ext cx="5257800" cy="605880"/>
          </a:xfrm>
          <a:prstGeom prst="rect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重点词的理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044800" y="1371600"/>
            <a:ext cx="311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71280" y="1828800"/>
            <a:ext cx="60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考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19240" y="2290680"/>
            <a:ext cx="311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71280" y="2747880"/>
            <a:ext cx="60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锡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19240" y="3205080"/>
            <a:ext cx="311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71280" y="3657600"/>
            <a:ext cx="60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名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71280" y="4114800"/>
            <a:ext cx="60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08560" y="4572000"/>
            <a:ext cx="1034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吾与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47240" y="5033880"/>
            <a:ext cx="60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947240" y="5567400"/>
            <a:ext cx="607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道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第一层，从开头到“曰灵均”结束。自述家世、出生年月日和名字来历。说明自己生来就是干大事的人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第二层，到”恐美人之迟暮”。自述一生不断地并急切地追求美好事物，提高自身修养的嘉德懿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第三层，到“来吾道夫先路也” 。急切希望君王能快点重用自己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自己愿意为君王分忧解难为国家作出自己的贡献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28600" y="304920"/>
            <a:ext cx="2666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层次结构</a:t>
            </a:r>
            <a:endParaRPr b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04920" y="2209680"/>
            <a:ext cx="63244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、帝高阳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苗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兮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，朕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皇考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曰伯庸。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   摄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贞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孟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兮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，惟庚寅吾以降。 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、皇览揆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余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兮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肇锡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余以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名：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名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余曰正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兮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字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余曰灵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诗人自述家世，出生年月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5181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思考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：作者从远古帝写起，这样介绍自己的家世有什么作用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609480"/>
            <a:ext cx="1828800" cy="4419720"/>
          </a:xfrm>
          <a:prstGeom prst="wedgeRectCallout">
            <a:avLst>
              <a:gd name="adj1" fmla="val -43750"/>
              <a:gd name="adj2" fmla="val 57578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显示诗人与楚国同姓宗的血缘关系，既表现了诗人对祖先的崇拜，又表现他贵族出身的优越感和责任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69400" y="838080"/>
            <a:ext cx="53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第一部分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66200" y="144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名字由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9144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在诗中，诗人是如何描绘自身的形象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42320" y="4876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外在美衬内在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55800" y="2285640"/>
            <a:ext cx="124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外在条件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855800" y="3505320"/>
            <a:ext cx="1247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内在品质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57200" y="68580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用香草比喻</a:t>
            </a:r>
            <a:r>
              <a:rPr b="1" lang="en-US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用美人比喻</a:t>
            </a:r>
            <a:r>
              <a:rPr b="1" lang="en-US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用采摘和披挂江离秋兰比喻</a:t>
            </a:r>
            <a:r>
              <a:rPr b="1" lang="en-US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用乘骐骥比喻</a:t>
            </a:r>
            <a:r>
              <a:rPr b="1" lang="en-US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71604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在的美好品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14018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想中的君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19810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身养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505320" y="25909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追求和实现美好的政治理想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3581280"/>
            <a:ext cx="3353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比兴手法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移情于物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76320" y="3276720"/>
            <a:ext cx="4572000" cy="35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53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屈原的政治理想是什么？诗中怎么说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1752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抚壮而弃秽兮，何不改此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6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219320" y="3276720"/>
            <a:ext cx="15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Arial"/>
                <a:ea typeface="黑体"/>
              </a:rPr>
              <a:t>兮</a:t>
            </a:r>
            <a:endParaRPr b="0" lang="en-US" sz="10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2362320"/>
            <a:ext cx="720720" cy="3133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81720 h 3133440"/>
              <a:gd name="textAreaBottom" fmla="*/ 3051720 h 31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2362320"/>
            <a:ext cx="43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具有很强的节奏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4724280"/>
            <a:ext cx="43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有利于抒发屈原的悲怨激愤的情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26920" y="58212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闻一多：“兮确乎是诗歌的核心与原动力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540760" y="38088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这首诗在形式上有什么特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320" y="2286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问题思考：</a:t>
            </a:r>
            <a:endParaRPr b="1" lang="en-US" sz="5400" spc="-1" strike="noStrike">
              <a:ln w="9360">
                <a:solidFill>
                  <a:srgbClr val="3399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7" name=""/>
          <p:cNvSpPr/>
          <p:nvPr/>
        </p:nvSpPr>
        <p:spPr>
          <a:xfrm>
            <a:off x="4436640" y="1371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句式长短参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7339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作为一种文化存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867280" y="2971800"/>
            <a:ext cx="3276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19520" y="4572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本文在写法上有什么明显特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880" y="228600"/>
            <a:ext cx="22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问题思考</a:t>
            </a:r>
            <a:r>
              <a:rPr b="1" lang="en-US" sz="5400" spc="-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2</a:t>
            </a:r>
            <a:r>
              <a:rPr b="1" lang="zh-CN" sz="5400" spc="-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：</a:t>
            </a:r>
            <a:endParaRPr b="1" lang="en-US" sz="5400" spc="-1" strike="noStrike">
              <a:ln w="9360">
                <a:solidFill>
                  <a:srgbClr val="3399ff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89548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善于运用比喻表达思想感情，抒发政治思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99400" y="3962520"/>
            <a:ext cx="3110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81880" y="4572000"/>
            <a:ext cx="183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59480" y="2362320"/>
            <a:ext cx="30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257960" y="2895480"/>
            <a:ext cx="3081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4648320"/>
            <a:ext cx="28195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了解屈原和楚辞的地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诵读全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理解诗人的爱国情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55640" y="242100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浪漫主义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971640" y="907920"/>
            <a:ext cx="727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0fc"/>
                </a:solidFill>
                <a:latin typeface="Times New Roman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4940fc"/>
                </a:solidFill>
                <a:latin typeface="Times New Roman"/>
                <a:ea typeface="隶书"/>
              </a:rPr>
              <a:t>浪漫主义是文艺的基本创作方法之一，与现实主义同为文学艺术上的两大主要思潮。作为创作方法，浪漫主义在反映客观现实上侧重从主观内心世界出发，抒发对理想世界的热烈追求，常用热情奔放的语言、瑰丽的想象和夸张的手法来塑造形象。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042920" y="1341360"/>
            <a:ext cx="7345440" cy="34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</a:t>
            </a:r>
            <a:r>
              <a:rPr b="1" lang="en-US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浪漫的语言</a:t>
            </a: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讲究文采，喜爱铺陈，华美艳丽的辞藻使得诗 歌色彩秾丽炫目。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022400"/>
            <a:ext cx="77724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二）、浪漫的手法 </a:t>
            </a:r>
            <a:br>
              <a:rPr sz="3400"/>
            </a:br>
            <a:r>
              <a:rPr b="0" lang="en-US" sz="34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0" lang="en-US" sz="3400" spc="-1" strike="noStrike">
                <a:solidFill>
                  <a:srgbClr val="3399ff"/>
                </a:solidFill>
                <a:latin typeface="华文新魏"/>
                <a:ea typeface="华文新魏"/>
              </a:rPr>
              <a:t>1.“</a:t>
            </a:r>
            <a:r>
              <a:rPr b="0" lang="zh-CN" sz="3400" spc="-1" strike="noStrike">
                <a:solidFill>
                  <a:srgbClr val="3399ff"/>
                </a:solidFill>
                <a:latin typeface="华文新魏"/>
                <a:ea typeface="华文新魏"/>
              </a:rPr>
              <a:t>香草美人”的比兴手法使现实中的忠奸、美丑、善恶形成鲜明对比。 </a:t>
            </a:r>
            <a:br>
              <a:rPr sz="3400"/>
            </a:br>
            <a:r>
              <a:rPr b="0" lang="en-US" sz="34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</a:t>
            </a:r>
            <a:r>
              <a:rPr b="0" lang="en-US" sz="3400" spc="-1" strike="noStrike">
                <a:solidFill>
                  <a:srgbClr val="3399ff"/>
                </a:solidFill>
                <a:latin typeface="华文新魏"/>
                <a:ea typeface="华文新魏"/>
              </a:rPr>
              <a:t>2.</a:t>
            </a:r>
            <a:r>
              <a:rPr b="0" lang="zh-CN" sz="3400" spc="-1" strike="noStrike">
                <a:solidFill>
                  <a:srgbClr val="3399ff"/>
                </a:solidFill>
                <a:latin typeface="华文新魏"/>
                <a:ea typeface="华文新魏"/>
              </a:rPr>
              <a:t>全诗中各种比兴手法构成完整的系统，连缀成一个华美的深远的整体境界。 </a:t>
            </a:r>
            <a:br>
              <a:rPr sz="3400"/>
            </a:br>
            <a:endParaRPr b="0" lang="en-US" sz="3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332000" y="10526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04640"/>
            <a:ext cx="7848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三）、浪漫的句式</a:t>
            </a: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</a:t>
            </a: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1.</a:t>
            </a:r>
            <a:r>
              <a:rPr b="1" lang="zh-CN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句式长短参差，自由灵活。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</a:t>
            </a: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2.“</a:t>
            </a:r>
            <a:r>
              <a:rPr b="1" lang="zh-CN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兮”字助势，使得诗句宛转纡徐，富于抒情色彩。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84720" y="3141720"/>
            <a:ext cx="43909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华文新魏"/>
                <a:ea typeface="华文新魏"/>
              </a:rPr>
              <a:t>“</a:t>
            </a:r>
            <a:r>
              <a:rPr b="1" lang="zh-CN" sz="3000" spc="-1" strike="noStrike">
                <a:solidFill>
                  <a:srgbClr val="cc0066"/>
                </a:solidFill>
                <a:latin typeface="华文新魏"/>
                <a:ea typeface="华文新魏"/>
              </a:rPr>
              <a:t>兮”字的意味 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★</a:t>
            </a:r>
            <a:r>
              <a:rPr b="1" lang="zh-CN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构成诗歌多变的节奏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★</a:t>
            </a:r>
            <a:r>
              <a:rPr b="1" lang="zh-CN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强烈的咏叹抒情色彩，      抒发悲愤激怨的悲剧情绪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★</a:t>
            </a:r>
            <a:r>
              <a:rPr b="1" lang="zh-CN" sz="2400" spc="-1" strike="noStrike">
                <a:solidFill>
                  <a:srgbClr val="3399ff"/>
                </a:solidFill>
                <a:latin typeface="华文新魏"/>
                <a:ea typeface="华文新魏"/>
              </a:rPr>
              <a:t>构成反映荆楚文化的自由浪漫精神的文化元素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673440" cy="353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24000" y="333360"/>
            <a:ext cx="85690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四）、浪漫的想象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纵横驰骋的想象，铺陈描叙的写法，“香草美人”的比兴构筑出一个瑰奇幻丽的艺术境界。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　　把现实人物、历史人物、神话人物交织在一起，把地上和天国、人间和幻境、过去和现在交织在一起，构成了瑰丽奇特、绚烂多彩的幻想世界，从而产生了强烈的艺术魅力。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55640" y="836640"/>
            <a:ext cx="7201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五）、浪漫的精神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 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        </a:t>
            </a:r>
            <a:r>
              <a:rPr b="1" lang="zh-CN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义无反顾的人生之路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3860640"/>
            <a:ext cx="799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66"/>
                </a:solidFill>
                <a:latin typeface="华文新魏"/>
                <a:ea typeface="华文新魏"/>
              </a:rPr>
              <a:t>“</a:t>
            </a:r>
            <a:r>
              <a:rPr b="1" lang="zh-CN" sz="3800" spc="-1" strike="noStrike">
                <a:solidFill>
                  <a:srgbClr val="cc0066"/>
                </a:solidFill>
                <a:latin typeface="华文新魏"/>
                <a:ea typeface="华文新魏"/>
              </a:rPr>
              <a:t>亦余心所善兮，虽九死其犹未悔。”</a:t>
            </a:r>
            <a:r>
              <a:rPr b="1" lang="en-US" sz="3800" spc="-1" strike="noStrike">
                <a:solidFill>
                  <a:srgbClr val="3399ff"/>
                </a:solidFill>
                <a:latin typeface="华文新魏"/>
                <a:ea typeface="华文新魏"/>
              </a:rPr>
              <a:t> </a:t>
            </a:r>
            <a:endParaRPr b="0" lang="en-US" sz="3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537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关于屈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0200" y="692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屈原（约前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39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～约前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78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）：名平，字原。丹阳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今湖北秭归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人。 战国末期楚国人，楚武王熊通之子屈瑕的后代。杰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政治家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爱国诗人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21337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屈原一生经历了楚威王、楚怀王、顷襄王三个时期，而主要活动于楚怀王时期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屈原，即任楚国左徒之职，颇得楚怀王信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屈原为实现楚国的统一大业，对内积极辅佐怀王变法图强，对外坚决主张联齐抗秦，使楚国一度出现了一个国富兵强、威震诸侯的局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9280" y="436572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但由于上官大夫等人的嫉妒，屈原后来遭到群小的诬陷和楚怀王的疏远及顷襄王的放逐。流放江南，辗转流离于沅 、湘二水之间约九年之久。顷襄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78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秦将白起攻破郢都，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屈原悲愤难捱，遂自沉汨罗江，以明其忠贞爱国之志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343400" y="533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屈原生平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1371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出身贵族，学识渊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20640"/>
            <a:ext cx="3189240" cy="568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581280" y="2514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辅佐怀王，变法图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81280" y="36576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信而被疑，忠而被谤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57600" y="4952880"/>
            <a:ext cx="48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辗转沅湘，自沉罗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62720" y="2057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62720" y="3200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4419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7a77"/>
                </a:solidFill>
                <a:latin typeface="Times New Roman"/>
              </a:rPr>
              <a:t>    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屈原的作品计有《离骚》、《天问》、《九歌》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篇）、《九章》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篇）、《招魂》 ，凡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篇。其中，《离骚》是屈原的代表作，也是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国古代文学史上最长的一首浪漫主义的政治抒情诗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全诗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37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句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 2490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字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是屈原的思想结晶，是一篇扣人心弦的抒发忧国之思的作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以《离骚》为代表的屈原的作品，是我国古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浪漫主义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文学的源头。屈原是中国文学史上第一位伟大的爱国诗人。屈原的出现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标志着中国诗歌进入了一个由集体歌唱到个人独创的新时代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后人还将《诗经》与《楚辞》并称为“风、骚” 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风、骚”是中国诗歌史上现实主义和浪漫主义两大优良传统的源头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“风骚”也因此成为文学的代名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79280" y="692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作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国文学史上第一位伟大的爱国诗人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他所开创的新诗体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楚辞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突破了《诗经》的表现形式，极大地丰富了诗歌的表现力，为中国古代的诗歌创作开辟了一片新天地。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屈原是中国文学史上第一位伟大的爱国诗人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953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年，屈原被列为世界四大文化名人之一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波兰哥白尼、英国莎士比亚、意大利但丁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），受到全世界人民的隆重纪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36232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黑体"/>
              </a:rPr>
              <a:t>楚辞”与《楚辞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1219320"/>
            <a:ext cx="8229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楚辞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：“楚辞”是屈原等人在楚国民歌的基础上创立的一种新诗体。其特点是</a:t>
            </a:r>
            <a:r>
              <a:rPr b="1" lang="zh-CN" sz="3200" spc="-1" strike="noStrike">
                <a:solidFill>
                  <a:srgbClr val="210ac8"/>
                </a:solidFill>
                <a:latin typeface="黑体"/>
                <a:ea typeface="宋体"/>
              </a:rPr>
              <a:t>句式长短不一，多用 “兮”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920" y="3352680"/>
            <a:ext cx="576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</a:rPr>
              <a:t>《楚辞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：继《诗经》之后的又一部诗歌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是西汉人刘向搜集屈原、宋玉等人的诗作而成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2514600"/>
            <a:ext cx="2057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4653000"/>
            <a:ext cx="29718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5940360" y="3141720"/>
            <a:ext cx="3203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7308720" y="4941720"/>
            <a:ext cx="1835280" cy="19162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28600" y="2239920"/>
            <a:ext cx="7924680" cy="26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『诗体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放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打破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诗经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言的格式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创造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句法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参差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体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『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浪漫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诗风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奇特的幻想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夸张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手法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影响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唐代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诗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李白和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63640" y="260280"/>
            <a:ext cx="6264360" cy="1190520"/>
          </a:xfrm>
          <a:prstGeom prst="rect">
            <a:avLst/>
          </a:prstGeom>
          <a:solidFill>
            <a:srgbClr val="7979a5">
              <a:alpha val="49000"/>
            </a:srgbClr>
          </a:solidFill>
          <a:ln w="381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e600"/>
                </a:solidFill>
                <a:latin typeface="Arial"/>
                <a:ea typeface="隶书"/>
              </a:rPr>
              <a:t>楚辞的影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26920" y="549360"/>
            <a:ext cx="1330200" cy="1143000"/>
            <a:chOff x="826920" y="549360"/>
            <a:chExt cx="1330200" cy="1143000"/>
          </a:xfrm>
        </p:grpSpPr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1401480" y="549360"/>
              <a:ext cx="75564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4"/>
            <a:stretch/>
          </p:blipFill>
          <p:spPr>
            <a:xfrm>
              <a:off x="1042920" y="838440"/>
              <a:ext cx="75564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5"/>
            <a:stretch/>
          </p:blipFill>
          <p:spPr>
            <a:xfrm>
              <a:off x="826920" y="1125720"/>
              <a:ext cx="755640" cy="56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雨林木风</cp:lastModifiedBy>
  <dcterms:modified xsi:type="dcterms:W3CDTF">2010-04-20T23:50:19Z</dcterms:modified>
  <cp:revision>168</cp:revision>
  <dc:subject/>
  <dc:title>离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