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3.gif" ContentType="image/gif"/>
  <Override PartName="/ppt/media/image21.gif" ContentType="image/gif"/>
  <Override PartName="/ppt/media/image20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DC4-2EB8-4919-9843-3961B619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176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480-F2A0-4103-9447-F3BDE647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C85-6525-4F4F-BCA4-6DAE01FD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256-ED55-493C-AF68-10113A3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DFFF-7679-4F71-A5F3-A568900E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676-5437-48C5-B52C-0122480A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58B-DD82-4093-8444-BA18BBE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0FDD-ABDB-4453-8F47-68F19C8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6B0-67B9-4DB7-A387-D74AB1C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-9144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BC4A-8C96-4AB8-B451-E953D50E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479-51CC-4DA5-B154-41B8A223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CF3-1BEE-4352-84FA-C5A5897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B7A-B79F-4891-8BEA-2580786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79BC-3B16-47DA-96EF-693800EB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176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D04-9462-429F-8B31-813C8E3A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E0E-130F-416F-AA24-6C8DFB78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176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9CA-6C18-48E3-9284-E4D13819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975-E868-4E70-AE3F-23225FFE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05E-3161-4B40-97BF-2E32A604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CD4-5FCD-401D-AE1D-9E6587B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-9144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DF6-E554-41F2-9E84-BA54F67B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048-16E3-495F-BD3A-1C922B0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176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0F0-8394-4549-854D-70101739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176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75A-12E0-4777-8D36-892D0913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90920" y="6480"/>
            <a:ext cx="2757240" cy="6878520"/>
          </a:xfrm>
          <a:custGeom>
            <a:avLst/>
            <a:gdLst/>
            <a:ahLst/>
            <a:rect l="l" t="t" r="r" b="b"/>
            <a:pathLst>
              <a:path w="1737" h="4320">
                <a:moveTo>
                  <a:pt x="494" y="4309"/>
                </a:moveTo>
                <a:lnTo>
                  <a:pt x="1737" y="4320"/>
                </a:lnTo>
                <a:lnTo>
                  <a:pt x="524" y="0"/>
                </a:lnTo>
                <a:lnTo>
                  <a:pt x="0" y="7"/>
                </a:lnTo>
                <a:lnTo>
                  <a:pt x="494" y="4309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240"/>
            <a:ext cx="2757600" cy="6872400"/>
          </a:xfrm>
          <a:custGeom>
            <a:avLst/>
            <a:gdLst/>
            <a:ahLst/>
            <a:rect l="l" t="t" r="r" b="b"/>
            <a:pathLst>
              <a:path w="1737" h="4320">
                <a:moveTo>
                  <a:pt x="494" y="4309"/>
                </a:moveTo>
                <a:lnTo>
                  <a:pt x="1737" y="4320"/>
                </a:lnTo>
                <a:lnTo>
                  <a:pt x="524" y="0"/>
                </a:lnTo>
                <a:lnTo>
                  <a:pt x="0" y="7"/>
                </a:lnTo>
                <a:lnTo>
                  <a:pt x="494" y="4309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43600" y="7920"/>
            <a:ext cx="2760840" cy="6873840"/>
          </a:xfrm>
          <a:custGeom>
            <a:avLst/>
            <a:gdLst/>
            <a:ahLst/>
            <a:rect l="l" t="t" r="r" b="b"/>
            <a:pathLst>
              <a:path w="1739" h="4420">
                <a:moveTo>
                  <a:pt x="494" y="4415"/>
                </a:moveTo>
                <a:lnTo>
                  <a:pt x="1739" y="4420"/>
                </a:lnTo>
                <a:lnTo>
                  <a:pt x="524" y="0"/>
                </a:lnTo>
                <a:lnTo>
                  <a:pt x="0" y="7"/>
                </a:lnTo>
                <a:lnTo>
                  <a:pt x="494" y="4415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0"/>
            <a:ext cx="3301920" cy="6864480"/>
          </a:xfrm>
          <a:custGeom>
            <a:avLst/>
            <a:gdLst/>
            <a:ahLst/>
            <a:rect l="l" t="t" r="r" b="b"/>
            <a:pathLst>
              <a:path w="2080" h="4338">
                <a:moveTo>
                  <a:pt x="0" y="7"/>
                </a:moveTo>
                <a:lnTo>
                  <a:pt x="1870" y="4338"/>
                </a:lnTo>
                <a:lnTo>
                  <a:pt x="2080" y="4338"/>
                </a:lnTo>
                <a:lnTo>
                  <a:pt x="1033" y="0"/>
                </a:lnTo>
                <a:lnTo>
                  <a:pt x="0" y="7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85760" y="168120"/>
            <a:ext cx="5562720" cy="243864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4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215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94600"/>
            <a:ext cx="2757240" cy="606240"/>
          </a:xfrm>
          <a:custGeom>
            <a:avLst/>
            <a:gdLst/>
            <a:ahLst/>
            <a:rect l="l" t="t" r="r" b="b"/>
            <a:pathLst>
              <a:path w="1737" h="4320">
                <a:moveTo>
                  <a:pt x="494" y="4309"/>
                </a:moveTo>
                <a:lnTo>
                  <a:pt x="1737" y="4320"/>
                </a:lnTo>
                <a:lnTo>
                  <a:pt x="524" y="0"/>
                </a:lnTo>
                <a:lnTo>
                  <a:pt x="0" y="7"/>
                </a:lnTo>
                <a:lnTo>
                  <a:pt x="494" y="4309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94600"/>
            <a:ext cx="2757600" cy="604800"/>
          </a:xfrm>
          <a:custGeom>
            <a:avLst/>
            <a:gdLst/>
            <a:ahLst/>
            <a:rect l="l" t="t" r="r" b="b"/>
            <a:pathLst>
              <a:path w="1737" h="4320">
                <a:moveTo>
                  <a:pt x="494" y="4309"/>
                </a:moveTo>
                <a:lnTo>
                  <a:pt x="1737" y="4320"/>
                </a:lnTo>
                <a:lnTo>
                  <a:pt x="524" y="0"/>
                </a:lnTo>
                <a:lnTo>
                  <a:pt x="0" y="7"/>
                </a:lnTo>
                <a:lnTo>
                  <a:pt x="494" y="4309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943600" y="6294600"/>
            <a:ext cx="2760840" cy="606240"/>
          </a:xfrm>
          <a:custGeom>
            <a:avLst/>
            <a:gdLst/>
            <a:ahLst/>
            <a:rect l="l" t="t" r="r" b="b"/>
            <a:pathLst>
              <a:path w="1739" h="4420">
                <a:moveTo>
                  <a:pt x="494" y="4415"/>
                </a:moveTo>
                <a:lnTo>
                  <a:pt x="1739" y="4420"/>
                </a:lnTo>
                <a:lnTo>
                  <a:pt x="524" y="0"/>
                </a:lnTo>
                <a:lnTo>
                  <a:pt x="0" y="7"/>
                </a:lnTo>
                <a:lnTo>
                  <a:pt x="494" y="4415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48120" y="6294600"/>
            <a:ext cx="3301920" cy="604800"/>
          </a:xfrm>
          <a:custGeom>
            <a:avLst/>
            <a:gdLst/>
            <a:ahLst/>
            <a:rect l="l" t="t" r="r" b="b"/>
            <a:pathLst>
              <a:path w="2080" h="4338">
                <a:moveTo>
                  <a:pt x="0" y="7"/>
                </a:moveTo>
                <a:lnTo>
                  <a:pt x="1870" y="4338"/>
                </a:lnTo>
                <a:lnTo>
                  <a:pt x="2080" y="4338"/>
                </a:lnTo>
                <a:lnTo>
                  <a:pt x="1033" y="0"/>
                </a:lnTo>
                <a:lnTo>
                  <a:pt x="0" y="7"/>
                </a:lnTo>
                <a:close/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213600"/>
            <a:ext cx="9144000" cy="685800"/>
          </a:xfrm>
          <a:prstGeom prst="rect">
            <a:avLst/>
          </a:prstGeom>
          <a:solidFill>
            <a:srgbClr val="0000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00400" y="6234120"/>
            <a:ext cx="1644840" cy="666720"/>
          </a:xfrm>
          <a:custGeom>
            <a:avLst/>
            <a:gdLst/>
            <a:ahLst/>
            <a:rect l="l" t="t" r="r" b="b"/>
            <a:pathLst>
              <a:path w="1036" h="420">
                <a:moveTo>
                  <a:pt x="1027" y="0"/>
                </a:moveTo>
                <a:cubicBezTo>
                  <a:pt x="508" y="159"/>
                  <a:pt x="167" y="347"/>
                  <a:pt x="0" y="417"/>
                </a:cubicBezTo>
                <a:cubicBezTo>
                  <a:pt x="0" y="417"/>
                  <a:pt x="12" y="418"/>
                  <a:pt x="24" y="420"/>
                </a:cubicBezTo>
                <a:cubicBezTo>
                  <a:pt x="237" y="321"/>
                  <a:pt x="708" y="105"/>
                  <a:pt x="1036" y="16"/>
                </a:cubicBezTo>
                <a:cubicBezTo>
                  <a:pt x="1036" y="16"/>
                  <a:pt x="1027" y="0"/>
                  <a:pt x="1027" y="0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 rot="18897000">
            <a:off x="2358720" y="6183000"/>
            <a:ext cx="1682640" cy="76212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 rot="18897000">
            <a:off x="1215720" y="6183000"/>
            <a:ext cx="1682640" cy="76212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 rot="18897000">
            <a:off x="47160" y="6133320"/>
            <a:ext cx="1641600" cy="77292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 flipV="1">
            <a:off x="913680" y="6220800"/>
            <a:ext cx="5638680" cy="68580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H="1" flipV="1">
            <a:off x="380520" y="6220800"/>
            <a:ext cx="2438640" cy="68580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 flipH="1" flipV="1">
            <a:off x="4819680" y="6296760"/>
            <a:ext cx="2114640" cy="60804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 flipH="1" flipV="1">
            <a:off x="6324480" y="6220800"/>
            <a:ext cx="2438640" cy="68580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 flipH="1" flipV="1">
            <a:off x="5486400" y="6220800"/>
            <a:ext cx="3657600" cy="685800"/>
          </a:xfrm>
          <a:custGeom>
            <a:avLst/>
            <a:gdLst/>
            <a:ahLst/>
            <a:rect l="l" t="t" r="r" b="b"/>
            <a:pathLst>
              <a:path w="4763" h="1845">
                <a:moveTo>
                  <a:pt x="0" y="1778"/>
                </a:moveTo>
                <a:cubicBezTo>
                  <a:pt x="2065" y="797"/>
                  <a:pt x="3942" y="281"/>
                  <a:pt x="4742" y="0"/>
                </a:cubicBezTo>
                <a:lnTo>
                  <a:pt x="4763" y="42"/>
                </a:lnTo>
                <a:cubicBezTo>
                  <a:pt x="3976" y="350"/>
                  <a:pt x="1830" y="918"/>
                  <a:pt x="20" y="1845"/>
                </a:cubicBezTo>
                <a:cubicBezTo>
                  <a:pt x="20" y="1845"/>
                  <a:pt x="0" y="1778"/>
                  <a:pt x="0" y="1778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2663a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1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D338-784A-44CC-B61A-20D804D206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19047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87CC-D673-42D9-81E0-CFAAD18D811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ction.kongfz.com/auction/show_pics.php?itemId=139321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14680" y="12826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3680" y="404640"/>
            <a:ext cx="11552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940fc"/>
                </a:solidFill>
                <a:latin typeface="Times New Roman"/>
                <a:ea typeface="隶书"/>
              </a:rPr>
              <a:t>中韩端午申遗之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838080"/>
            <a:ext cx="800100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4940fc"/>
                </a:solidFill>
                <a:latin typeface="Arial"/>
                <a:ea typeface="华文新魏"/>
              </a:rPr>
              <a:t>盖文王拘而演《周易》；仲尼厄而作《春秋》；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屈原放逐，乃赋《离骚》</a:t>
            </a:r>
            <a:r>
              <a:rPr b="1" lang="zh-CN" sz="3200" spc="-1" strike="noStrike">
                <a:solidFill>
                  <a:srgbClr val="4940fc"/>
                </a:solidFill>
                <a:latin typeface="Arial"/>
                <a:ea typeface="华文新魏"/>
              </a:rPr>
              <a:t>；左丘失明，厥有《国语》；孙子膑脚，《兵法》修列；不韦迁蜀，世传《吕览》；韩非囚秦，《说难》、《孤愤》。《诗》三百篇，大底贤圣发愤之所为作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940fc"/>
                </a:solidFill>
                <a:latin typeface="Arial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4940fc"/>
                </a:solidFill>
                <a:latin typeface="Arial"/>
                <a:ea typeface="华文新魏"/>
              </a:rPr>
              <a:t>司马迁《报任安书》</a:t>
            </a:r>
            <a:r>
              <a:rPr b="0" lang="zh-CN" sz="2800" spc="-1" strike="noStrike">
                <a:solidFill>
                  <a:srgbClr val="4940f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326200"/>
            <a:ext cx="1836720" cy="1531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164360" y="115920"/>
            <a:ext cx="18367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1523880"/>
            <a:ext cx="6400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4940fc"/>
                </a:solidFill>
                <a:latin typeface="隶书"/>
                <a:ea typeface="隶书"/>
              </a:rPr>
              <a:t>屈原的代表作，也是中国古代文学史上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最长</a:t>
            </a:r>
            <a:r>
              <a:rPr b="0" lang="zh-CN" sz="3600" spc="-1" strike="noStrike">
                <a:solidFill>
                  <a:srgbClr val="4940fc"/>
                </a:solidFill>
                <a:latin typeface="隶书"/>
                <a:ea typeface="隶书"/>
              </a:rPr>
              <a:t>的一首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浪漫主义</a:t>
            </a:r>
            <a:r>
              <a:rPr b="0" lang="zh-CN" sz="3600" spc="-1" strike="noStrike">
                <a:solidFill>
                  <a:srgbClr val="4940fc"/>
                </a:solidFill>
                <a:latin typeface="隶书"/>
                <a:ea typeface="隶书"/>
              </a:rPr>
              <a:t>的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政治抒情诗</a:t>
            </a:r>
            <a:r>
              <a:rPr b="0" lang="zh-CN" sz="3600" spc="-1" strike="noStrike">
                <a:solidFill>
                  <a:srgbClr val="4940fc"/>
                </a:solidFill>
                <a:latin typeface="隶书"/>
                <a:ea typeface="隶书"/>
              </a:rPr>
              <a:t>。抒写诗人的身世、政治思想和忧国忧民的思想。此诗的写作时间又正是在诗人因受到谗言第一次被放逐，诗人是被迫远离故土的，因此，其忧国忧民的思想随处可感亦在情理之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31920" y="1523880"/>
            <a:ext cx="2108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      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屈平疾王听之不聪也，谗谄之蔽明也，邪曲之害公也，方正之不容也，故忧愁幽思而作</a:t>
            </a: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离骚</a:t>
            </a: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“离骚”者，犹离忧也。</a:t>
            </a: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屈平正道直行，竭忠尽智，以事其君，谗人间之，可谓穷矣。信而见疑，忠而被谤，能无怨乎？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屈平之作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离骚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，盖自怨生也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               ——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司马迁</a:t>
            </a: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4940fc"/>
                </a:solidFill>
                <a:latin typeface="隶书"/>
                <a:ea typeface="隶书"/>
              </a:rPr>
              <a:t>屈原列传</a:t>
            </a:r>
            <a:r>
              <a:rPr b="1" lang="en-US" sz="3200" spc="-1" strike="noStrike">
                <a:solidFill>
                  <a:srgbClr val="4940fc"/>
                </a:solidFill>
                <a:latin typeface="隶书"/>
                <a:ea typeface="隶书"/>
              </a:rPr>
              <a:t>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164360" y="115920"/>
            <a:ext cx="1836720" cy="1531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5326200"/>
            <a:ext cx="18367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4000" y="189000"/>
            <a:ext cx="8208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940fc"/>
                </a:solidFill>
                <a:latin typeface="隶书"/>
                <a:ea typeface="隶书"/>
              </a:rPr>
              <a:t>    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长太息以掩涕兮，哀民生之多艰。余虽好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修姱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以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鞿羁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兮，謇朝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谇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而夕替。 既替余以蕙纕兮，又申之以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揽茝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。 亦余心之所善兮，虽九死其犹未悔。怨灵修之浩荡兮，终不察夫民心。众女嫉余之蛾眉兮，谣诼谓余以善淫。固时俗之工巧兮，偭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规矩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而改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错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。背绳墨以追曲兮，竞周容以为度。 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忳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郁邑余侘傺兮，吾独穷困乎此时也。宁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溘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死以流亡兮，余不忍为此态也。鸷鸟之不群兮，自前世而固然。何方圜之能周兮，夫孰异道而相安？屈心而抑志兮，忍尤而攘诟。伏清白以死直兮，固前圣之所厚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    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悔相道之不察兮，延伫乎吾将反。回朕车以复路兮，及行迷之未远。步余马于兰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皋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兮，驰椒丘且焉止息。 进不入以离尤兮，退将复修吾初服。制芰荷以为衣兮，集芙蓉以为裳。不吾知其亦已兮，苟余情其信芳。高余冠之岌岌兮，长余佩之陆离。芳与泽其杂糅兮，唯昭质其犹未亏。忽反顾以游目兮，将往观乎四荒。佩缤纷其繁饰兮，芳菲菲其弥</a:t>
            </a:r>
            <a:r>
              <a:rPr b="1" lang="zh-CN" sz="2500" spc="-1" strike="noStrike">
                <a:solidFill>
                  <a:srgbClr val="ff3300"/>
                </a:solidFill>
                <a:latin typeface="隶书"/>
                <a:ea typeface="隶书"/>
              </a:rPr>
              <a:t>章</a:t>
            </a:r>
            <a:r>
              <a:rPr b="1" lang="zh-CN" sz="2500" spc="-1" strike="noStrike">
                <a:solidFill>
                  <a:srgbClr val="4940fc"/>
                </a:solidFill>
                <a:latin typeface="隶书"/>
                <a:ea typeface="隶书"/>
              </a:rPr>
              <a:t>。民生各有所乐兮，余独好修以为常。 虽体解吾犹未变兮，岂余心之可惩！</a:t>
            </a:r>
            <a:r>
              <a:rPr b="1" lang="zh-CN" sz="2500" spc="-1" strike="noStrike">
                <a:solidFill>
                  <a:srgbClr val="f98d43"/>
                </a:solidFill>
                <a:latin typeface="隶书"/>
                <a:ea typeface="隶书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84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686040" cy="87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549360"/>
            <a:ext cx="259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98d43"/>
                </a:solidFill>
                <a:latin typeface="Times New Roman"/>
                <a:ea typeface="华文新魏"/>
              </a:rPr>
              <a:t>文  章  结  构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1700280"/>
            <a:ext cx="7272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第一节</a:t>
            </a:r>
            <a:r>
              <a:rPr b="1" lang="zh-CN" sz="3200" spc="-1" strike="noStrike">
                <a:solidFill>
                  <a:srgbClr val="2663a0"/>
                </a:solidFill>
                <a:latin typeface="Times New Roman"/>
                <a:ea typeface="华文新魏"/>
              </a:rPr>
              <a:t>：自述受屈遭贬的原因，表示不愿同流合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第二节</a:t>
            </a:r>
            <a:r>
              <a:rPr b="1" lang="zh-CN" sz="3200" spc="-1" strike="noStrike">
                <a:solidFill>
                  <a:srgbClr val="2663a0"/>
                </a:solidFill>
                <a:latin typeface="Times New Roman"/>
                <a:ea typeface="华文新魏"/>
              </a:rPr>
              <a:t>：表现作者追求美政、九死未悔的高尚节操，抒发忧国忧民、献身理想的爱国热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隶书"/>
                <a:ea typeface="隶书"/>
              </a:rPr>
              <a:t>     “</a:t>
            </a:r>
            <a:r>
              <a:rPr b="1" lang="zh-CN" sz="3400" spc="-1" strike="noStrike">
                <a:solidFill>
                  <a:srgbClr val="ff3300"/>
                </a:solidFill>
                <a:latin typeface="隶书"/>
                <a:ea typeface="隶书"/>
              </a:rPr>
              <a:t>离骚”者，犹离忧也。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40fc"/>
                </a:solidFill>
                <a:latin typeface="隶书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4940fc"/>
                </a:solidFill>
                <a:latin typeface="隶书"/>
                <a:ea typeface="隶书"/>
              </a:rPr>
              <a:t>从课文中看，屈原遭遇了怎样的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忧愁</a:t>
            </a:r>
            <a:r>
              <a:rPr b="1" lang="zh-CN" sz="4400" spc="-1" strike="noStrike">
                <a:solidFill>
                  <a:srgbClr val="4940fc"/>
                </a:solidFill>
                <a:latin typeface="隶书"/>
                <a:ea typeface="隶书"/>
              </a:rPr>
              <a:t>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忧</a:t>
            </a:r>
            <a:r>
              <a:rPr b="1" lang="zh-CN" sz="6000" spc="-1" strike="noStrike">
                <a:solidFill>
                  <a:srgbClr val="2663a0"/>
                </a:solidFill>
                <a:latin typeface="Arial"/>
              </a:rPr>
              <a:t>：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63a0"/>
                </a:solidFill>
                <a:latin typeface="Arial"/>
              </a:rPr>
              <a:t>民生疾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63a0"/>
                </a:solidFill>
                <a:latin typeface="Arial"/>
              </a:rPr>
              <a:t>进谏不纳被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63a0"/>
                </a:solidFill>
                <a:latin typeface="Arial"/>
              </a:rPr>
              <a:t>君王荒唐没有准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63a0"/>
                </a:solidFill>
                <a:latin typeface="Arial"/>
              </a:rPr>
              <a:t>小人嫉妒“谣诼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4221000"/>
            <a:ext cx="43927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忧国忧民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Arial"/>
              </a:rPr>
              <a:t>为何不被君主小人所容？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705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固时俗之工巧兮，偭规矩而改错。背绳墨以追曲兮，竞周容以为度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952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如果你面临屈原的这种人生困境，你会怎么办？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233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 Black"/>
              </a:rPr>
              <a:t>屈原是怎样选择的？</a:t>
            </a:r>
            <a:endParaRPr b="1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25927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9708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7996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16360" y="2602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932360" y="3213000"/>
            <a:ext cx="34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940fc"/>
                </a:solidFill>
                <a:latin typeface="Times New Roman"/>
              </a:rPr>
              <a:t>韩国江陵端午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35760" y="907920"/>
            <a:ext cx="51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940fc"/>
                </a:solidFill>
                <a:latin typeface="Times New Roman"/>
              </a:rPr>
              <a:t>赛龙舟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4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63a0"/>
                </a:solidFill>
                <a:latin typeface="华文新魏"/>
                <a:ea typeface="华文新魏"/>
              </a:rPr>
              <a:t>屈原是如何表达自己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                </a:t>
            </a:r>
            <a:r>
              <a:rPr b="1" lang="zh-CN" sz="4000" spc="-1" strike="noStrike">
                <a:solidFill>
                  <a:srgbClr val="2663a0"/>
                </a:solidFill>
                <a:latin typeface="华文新魏"/>
                <a:ea typeface="华文新魏"/>
              </a:rPr>
              <a:t>这种</a:t>
            </a:r>
            <a:r>
              <a:rPr b="1" lang="zh-CN" sz="4000" spc="-1" strike="noStrike">
                <a:solidFill>
                  <a:srgbClr val="f98d43"/>
                </a:solidFill>
                <a:latin typeface="华文新魏"/>
                <a:ea typeface="华文新魏"/>
              </a:rPr>
              <a:t>人生理想</a:t>
            </a:r>
            <a:r>
              <a:rPr b="1" lang="zh-CN" sz="4000" spc="-1" strike="noStrike">
                <a:solidFill>
                  <a:srgbClr val="2663a0"/>
                </a:solidFill>
                <a:latin typeface="华文新魏"/>
                <a:ea typeface="华文新魏"/>
              </a:rPr>
              <a:t>的？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62864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58920" y="1484280"/>
            <a:ext cx="60498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Times New Roman"/>
              </a:rPr>
              <a:t>        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善鸟香草，以配忠贞； </a:t>
            </a:r>
            <a:br>
              <a:rPr sz="3800"/>
            </a:b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恶禽臭物，以比谗佞； </a:t>
            </a:r>
            <a:br>
              <a:rPr sz="3800"/>
            </a:b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灵修美人，以媲於君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1599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940fc"/>
                </a:solidFill>
                <a:latin typeface="Arial Black"/>
              </a:rPr>
              <a:t>概括屈原形象：</a:t>
            </a:r>
            <a:endParaRPr b="1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3640" y="2204640"/>
            <a:ext cx="52545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Arial"/>
              </a:rPr>
              <a:t>忧国忧民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Arial"/>
              </a:rPr>
              <a:t>坚持真理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Arial"/>
              </a:rPr>
              <a:t>洁身自好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Arial"/>
              </a:rPr>
              <a:t>嫉恶如仇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Arial"/>
              </a:rPr>
              <a:t>忠贞不移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55640" y="242100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浪漫主义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71640" y="907920"/>
            <a:ext cx="727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940fc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4940fc"/>
                </a:solidFill>
                <a:latin typeface="Times New Roman"/>
                <a:ea typeface="隶书"/>
              </a:rPr>
              <a:t>浪漫主义是文艺的基本创作方法之一，与现实主义同为文学艺术上的两大主要思潮。作为创作方法，浪漫主义在反映客观现实上侧重从主观内心世界出发，抒发对理想世界的热烈追求，常用热情奔放的语言、瑰丽的想象和夸张的手法来塑造形象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42920" y="1341360"/>
            <a:ext cx="7345440" cy="34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</a:t>
            </a:r>
            <a:r>
              <a:rPr b="1" lang="en-US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浪漫的语言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讲究文采，喜爱铺陈，华美艳丽的辞藻使得诗 歌色彩秾丽炫目。</a:t>
            </a: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2240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二）、浪漫的手法 </a:t>
            </a:r>
            <a:br>
              <a:rPr sz="3800"/>
            </a:b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</a:t>
            </a:r>
            <a:r>
              <a:rPr b="1" lang="en-US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1.“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香草美人”的比兴手法使现实中的忠奸、美丑、善恶形成鲜明对比。 </a:t>
            </a:r>
            <a:br>
              <a:rPr sz="3800"/>
            </a:b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</a:t>
            </a:r>
            <a:r>
              <a:rPr b="1" lang="en-US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2.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全诗中各种比兴手法构成完整的系统，连缀成一个华美的深远的整体境界。 </a:t>
            </a:r>
            <a:br>
              <a:rPr sz="3800"/>
            </a:br>
            <a:endParaRPr b="1" lang="en-US" sz="3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0526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404640"/>
            <a:ext cx="7848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三）、浪漫的句式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</a:t>
            </a:r>
            <a:r>
              <a:rPr b="1" lang="en-US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1.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句式长短参差，自由灵活。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</a:t>
            </a:r>
            <a:r>
              <a:rPr b="1" lang="en-US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2.“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兮”字助势，使得诗句宛转纡徐，富于抒情色彩。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3141720"/>
            <a:ext cx="43909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98d43"/>
                </a:solidFill>
                <a:latin typeface="华文新魏"/>
                <a:ea typeface="华文新魏"/>
              </a:rPr>
              <a:t>“</a:t>
            </a:r>
            <a:r>
              <a:rPr b="1" lang="zh-CN" sz="3000" spc="-1" strike="noStrike">
                <a:solidFill>
                  <a:srgbClr val="f98d43"/>
                </a:solidFill>
                <a:latin typeface="华文新魏"/>
                <a:ea typeface="华文新魏"/>
              </a:rPr>
              <a:t>兮”字的意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★</a:t>
            </a: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构成诗歌多变的节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★</a:t>
            </a: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强烈的咏叹抒情色彩，      抒发悲愤激怨的悲剧情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★</a:t>
            </a:r>
            <a:r>
              <a:rPr b="1" lang="zh-CN" sz="2400" spc="-1" strike="noStrike">
                <a:solidFill>
                  <a:srgbClr val="2663a0"/>
                </a:solidFill>
                <a:latin typeface="华文新魏"/>
                <a:ea typeface="华文新魏"/>
              </a:rPr>
              <a:t>构成反映荆楚文化的自由浪漫精神的文化元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6734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333360"/>
            <a:ext cx="85690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四）、浪漫的想象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纵横驰骋的想象，铺陈描叙的写法，“香草美人”的比兴构筑出一个瑰奇幻丽的艺术境界。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　　把现实人物、历史人物、神话人物交织在一起，把地上和天国、人间和幻境、过去和现在交织在一起，构成了瑰丽奇特、绚烂多彩的幻想世界，从而产生了强烈的艺术魅力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55640" y="836640"/>
            <a:ext cx="7201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五）、浪漫的精神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          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义无反顾的人生之路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860640"/>
            <a:ext cx="799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98d43"/>
                </a:solidFill>
                <a:latin typeface="华文新魏"/>
                <a:ea typeface="华文新魏"/>
              </a:rPr>
              <a:t>“</a:t>
            </a:r>
            <a:r>
              <a:rPr b="1" lang="zh-CN" sz="3800" spc="-1" strike="noStrike">
                <a:solidFill>
                  <a:srgbClr val="f98d43"/>
                </a:solidFill>
                <a:latin typeface="华文新魏"/>
                <a:ea typeface="华文新魏"/>
              </a:rPr>
              <a:t>亦余心所善兮，虽九死其犹未悔。”</a:t>
            </a:r>
            <a:r>
              <a:rPr b="1" lang="zh-CN" sz="3800" spc="-1" strike="noStrike">
                <a:solidFill>
                  <a:srgbClr val="2663a0"/>
                </a:solidFill>
                <a:latin typeface="华文新魏"/>
                <a:ea typeface="华文新魏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4673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4360" y="90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940fc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4940fc"/>
                </a:solidFill>
                <a:latin typeface="隶书"/>
                <a:ea typeface="隶书"/>
              </a:rPr>
              <a:t>屈原至于江滨，被发行吟泽畔，颜色憔悴，形容枯槁。渔父见而问之曰：“子非三闾大夫欤？何故而至此？”屈原曰：“举世混浊而我独清，众人皆醉而我独醒，是以见放。”渔父曰：“夫圣人者，不凝滞于物，而能与世推移。举世混浊，何不随其流而扬其波？众人皆醉，何不哺其糟而啜其醨？何故怀瑾握瑜，而自令见放为？”屈原曰：吾闻之，新沐者必弹冠，新浴者必振衣。人又谁能以身之察察，受物之汶汶者乎？宁赴常流而葬乎江鱼腹中耳。又安能以皓皓之白，而蒙世之温蠖乎？”乃作</a:t>
            </a:r>
            <a:r>
              <a:rPr b="1" lang="en-US" sz="2800" spc="-1" strike="noStrike">
                <a:solidFill>
                  <a:srgbClr val="4940fc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4940fc"/>
                </a:solidFill>
                <a:latin typeface="隶书"/>
                <a:ea typeface="隶书"/>
              </a:rPr>
              <a:t>怀沙</a:t>
            </a:r>
            <a:r>
              <a:rPr b="1" lang="en-US" sz="2800" spc="-1" strike="noStrike">
                <a:solidFill>
                  <a:srgbClr val="4940fc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4940fc"/>
                </a:solidFill>
                <a:latin typeface="隶书"/>
                <a:ea typeface="隶书"/>
              </a:rPr>
              <a:t>之赋。于是怀石，遂自投汨罗以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19047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2160" y="1752480"/>
            <a:ext cx="3891240" cy="35053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9900"/>
                </a:solidFill>
                <a:latin typeface="Times New Roman"/>
                <a:ea typeface="隶书"/>
              </a:rPr>
              <a:t>离骚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84840" y="31993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江陵端午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二十集电视连续剧：屈原（剧照说明）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二十集电视连续剧：屈原（剧照说明）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685440" cy="717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84360" y="765000"/>
            <a:ext cx="43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黑夜给了他光明的眼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用它寻找救国的希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尽管他的理想破灭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他的精神却永垂千古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00360" y="16002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4940fc"/>
                </a:solidFill>
                <a:latin typeface="华文新魏"/>
                <a:ea typeface="华文新魏"/>
              </a:rPr>
              <a:t>我国历史上第一个伟大的爱国诗人，名平，字原，战国时期楚国人，杰出的政治家和爱国诗人。“楚辞”的创立者和代表作者。他出身于楚国贵族，学识渊博，善外交辞令。在政治上他推崇“美政”，后来遭到群小的诬陷和楚怀王的疏远及顷襄王的放逐。顷襄王二十一年</a:t>
            </a:r>
            <a:r>
              <a:rPr b="1" lang="zh-CN" sz="2800" spc="-1" strike="noStrike">
                <a:solidFill>
                  <a:srgbClr val="4940fc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4940fc"/>
                </a:solidFill>
                <a:latin typeface="华文新魏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4940fc"/>
                </a:solidFill>
                <a:latin typeface="华文新魏"/>
                <a:ea typeface="华文新魏"/>
              </a:rPr>
              <a:t>278)</a:t>
            </a:r>
            <a:r>
              <a:rPr b="1" lang="zh-CN" sz="2800" spc="-1" strike="noStrike">
                <a:solidFill>
                  <a:srgbClr val="4940fc"/>
                </a:solidFill>
                <a:latin typeface="华文新魏"/>
                <a:ea typeface="华文新魏"/>
              </a:rPr>
              <a:t>，秦将白起攻破郢都，屈原悲愤难捱，遂自沉汨罗江，以身殉了自己的政治理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2303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3744720" cy="180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1640" y="189000"/>
            <a:ext cx="7772400" cy="62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</a:t>
            </a:r>
            <a:r>
              <a:rPr b="1" lang="zh-CN" sz="38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《离骚》《天问》</a:t>
            </a:r>
            <a:r>
              <a:rPr b="1" lang="zh-CN" sz="3800" spc="-1" strike="noStrike">
                <a:solidFill>
                  <a:srgbClr val="cc3300"/>
                </a:solidFill>
                <a:latin typeface="华文新魏"/>
                <a:ea typeface="华文新魏"/>
              </a:rPr>
              <a:t>	</a:t>
            </a:r>
            <a:r>
              <a:rPr b="1" lang="zh-CN" sz="3800" spc="-1" strike="noStrike">
                <a:solidFill>
                  <a:srgbClr val="cc3300"/>
                </a:solidFill>
                <a:latin typeface="华文新魏"/>
                <a:ea typeface="华文新魏"/>
              </a:rPr>
              <a:t>	</a:t>
            </a:r>
            <a:r>
              <a:rPr b="1" lang="zh-CN" sz="3800" spc="-1" strike="noStrike">
                <a:solidFill>
                  <a:srgbClr val="cc3300"/>
                </a:solidFill>
                <a:latin typeface="华文新魏"/>
                <a:ea typeface="华文新魏"/>
              </a:rPr>
              <a:t>	</a:t>
            </a:r>
            <a:r>
              <a:rPr b="1" lang="zh-CN" sz="38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     《九歌》《九章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作品影响：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开创了文人为诗的时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开创了全新的诗体：骚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开创了重幻想的浪漫主义诗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4940fc"/>
                </a:solidFill>
                <a:latin typeface="华文新魏"/>
                <a:ea typeface="华文新魏"/>
              </a:rPr>
              <a:t>忧国忧民的理想主义精神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60" y="1905120"/>
            <a:ext cx="12776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屈 原 的 作 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16360" y="1268280"/>
            <a:ext cx="58467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3500" spc="-1" strike="noStrike">
                <a:solidFill>
                  <a:srgbClr val="4940fc"/>
                </a:solidFill>
                <a:latin typeface="华文新魏"/>
                <a:ea typeface="华文新魏"/>
              </a:rPr>
              <a:t>楚辞是具有地方色彩的文学样式，是屈原、宋玉等诗人创造出的一种诗歌形式。尤其应注意到诗中所大量使用的虚词“兮”，可视为一种重要的标志。这些诗歌运用楚地的诗歌形式、方言声韵，描写楚地风土人情，具有浓厚的地方色彩。</a:t>
            </a:r>
            <a:r>
              <a:rPr b="1" lang="zh-CN" sz="3200" spc="-1" strike="noStrike">
                <a:solidFill>
                  <a:srgbClr val="4940fc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2011320" cy="2895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3645000"/>
            <a:ext cx="288108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盖屈宋诸骚，皆书楚语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,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作楚声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,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记楚地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,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名楚物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,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故可谓之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“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楚辞”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 ——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【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宋</a:t>
            </a:r>
            <a:r>
              <a:rPr b="1" lang="en-US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】</a:t>
            </a:r>
            <a:r>
              <a:rPr b="1" lang="zh-CN" sz="2500" spc="-1" strike="noStrike">
                <a:solidFill>
                  <a:srgbClr val="4940fc"/>
                </a:solidFill>
                <a:latin typeface="华文新魏"/>
                <a:ea typeface="华文新魏"/>
              </a:rPr>
              <a:t>黄伯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0:44:21Z</dcterms:created>
  <dc:creator>User</dc:creator>
  <dc:description/>
  <dc:language>en-US</dc:language>
  <cp:lastModifiedBy>微软用户</cp:lastModifiedBy>
  <dcterms:modified xsi:type="dcterms:W3CDTF">2013-03-06T13:19:17Z</dcterms:modified>
  <cp:revision>39</cp:revision>
  <dc:subject/>
  <dc:title>离骚（节选）</dc:title>
</cp:coreProperties>
</file>