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projctor.wav" ContentType="audio/x-wav"/>
  <Override PartName="/ppt/media/camera.wav" ContentType="audio/x-wav"/>
  <Override PartName="/ppt/media/breeze.wav" ContentType="audio/x-wav"/>
  <Override PartName="/ppt/media/image21.gif" ContentType="image/gif"/>
  <Override PartName="/ppt/media/image14.png" ContentType="image/png"/>
  <Override PartName="/ppt/media/image10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type.wav" ContentType="audio/x-wav"/>
  <Override PartName="/ppt/media/image27.wmf" ContentType="image/x-wmf"/>
  <Override PartName="/ppt/media/image39.gif" ContentType="image/gif"/>
  <Override PartName="/ppt/media/image16.jpeg" ContentType="image/jpeg"/>
  <Override PartName="/ppt/media/image13.gif" ContentType="image/gif"/>
  <Override PartName="/ppt/media/chimes.wav" ContentType="audio/x-wav"/>
  <Override PartName="/ppt/media/image28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37.wmf" ContentType="image/x-wmf"/>
  <Override PartName="/ppt/media/image33.jpeg" ContentType="image/jpeg"/>
  <Override PartName="/ppt/media/image34.gif" ContentType="image/gif"/>
  <Override PartName="/ppt/media/image31.jpeg" ContentType="image/jpeg"/>
  <Override PartName="/ppt/media/image38.gif" ContentType="image/gif"/>
  <Override PartName="/ppt/media/image15.jpeg" ContentType="image/jpeg"/>
  <Override PartName="/ppt/media/image40.png" ContentType="image/png"/>
  <Override PartName="/ppt/media/image11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7.png" ContentType="image/png"/>
  <Override PartName="/ppt/media/image3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DFE-CC55-4480-A9DB-8602CB5C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EA0-3FBA-4DB4-B2F4-0FF1753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26711-EA3C-4D6D-A5A5-980BBB5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F39A8-8B6C-4032-A71C-37BC99E3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E6FD9-9370-4DCB-B280-269BC0BB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1BAD-0912-4F36-9BFB-9BE3FB6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D81CD-423E-4085-9A69-A132669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06493-0D03-420B-962F-293A70B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40F5A-8385-4A3D-9159-FB0FE2E1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959EF-F17D-4D84-8831-7435368A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6979C-C929-45FE-8F5D-C9B43121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EE4-F645-46F4-A744-FFA77561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B24-0F68-4F17-8641-F2311D08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6470-6731-4031-8AFA-8884B4F2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C712-6CA7-4927-B9F1-26F9D18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248-BD79-4069-AD4C-B8ADA0D4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DB4F-64EC-4CAA-B0A5-D676907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9878-7C19-47DE-8C8B-77383536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387-CA6D-45C3-B879-2BC18B3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7E03-82C0-4E36-889D-B8B6C35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E1F-CE03-4A39-BFBB-FA32CBE1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430-14D8-4823-A2C8-F87DA2C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902A-D743-49BB-8827-2975524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6746-11C1-4741-9DB1-A164EF2D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209-C544-4EEB-A3E8-4944AB71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ADF-689B-4143-B193-29120728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0D9B-702A-497C-9C08-CB347B88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444C-7B39-4A2A-9EE6-DBE77FE0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1A31-88EA-46CC-81C7-2D2F0C7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8B82-1770-4779-8D6C-6259A076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652D-AEA9-45C5-A506-4A08717A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EEE-20CB-4CDB-A6B8-632F8FC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8B54-4F65-483A-B517-04029287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E266-1FAA-4DDF-BD47-2A8FBD7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3D3F-949B-4BAF-A6AC-112DC9C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964A-4A85-4C88-BF2E-776C065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925F-7CB9-4923-8DC6-F906FB1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4DCE-5A2F-49AB-B5B5-55EDAF6A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84CC-F5CA-4895-9FB8-C5EAC8B1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B726-1CB0-4797-B713-F0E79251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F0DC-C9E1-4725-A0D2-E59E255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FE17-0F5E-48D7-B7DB-85E0926A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B00-2746-4919-A735-42B5DF29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7909-F97E-43F4-9A17-46A6144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36DC-ABE0-44C6-BE9E-F427D827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1713-A5BF-4C28-8A38-3641B748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AC17-ACF7-4014-8CEF-08ED196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1384-A1E8-4267-9BC5-1F04B78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0C08-EF41-4541-B453-E38D7E17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7033-FC03-4E07-8EDB-F2E2C69D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F770-6EF4-4CCD-AB08-109CCCC0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D79A-FA80-4CCD-B6D5-22E4FD97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3F05-2E0A-408B-A94D-1130A761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5D5-8142-494D-A4B1-E241C8B8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EBBA4-838C-4DAF-95DA-FCBBB0BB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D968-7094-4D72-95A2-56B8B68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9C4C-DD90-437F-92B1-A294F68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0914-D665-4213-A0D9-020AED46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0114D-A34B-456D-BA8C-BD30C57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1136-E940-430E-BE89-EFCC002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A83DD-BED6-46CF-9A8D-6F985B5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1AF8-96C3-4AC2-8D87-A45154E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1C0E-FDBC-45CE-9778-CF10C963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67D9-322B-4A80-96DC-473C456B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72F-163F-4FDF-90E6-1EC9A153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73AA-85A5-4722-9E04-803B9C78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D9AB-6B88-415F-B66D-BE127683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D956-0F41-4443-9461-E28787A5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DA48-9769-424A-BF01-FDF690D7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CF8D-B5FC-42AB-9AD0-257A56C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A3C64-3CC3-44FC-B1D7-4B073E8B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58B73-7645-43B2-BC5C-47A6F9DD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4A7D-F504-44F5-BD4D-E004A70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20C5-17E1-438E-897E-2AF6098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F5D4F-6D5B-42B5-AEB4-4EDDE60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609-0D38-4E41-9E27-8CE031E5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3C3D-6920-4073-895C-7CED5EE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17E6-003C-475A-BE00-40A52C0E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7695-0F62-4246-840E-C46BA57D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D63A-F342-4D6D-B868-59E40437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AAC50-EA08-4569-B270-9B78BFBE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1FFA9-C71A-450B-8C1C-13A0ACD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B1EED-9A1D-4B80-B5FC-21603448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2BA7C-A669-4F7F-808B-6DB8690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C5078-0B4C-401B-9A1F-76D20D0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293A-E224-41C3-BDB3-182A792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32A-18A2-4C20-BEB8-A69EDBE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6573D-2E24-4640-B283-6FA3AFF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B7CE9-93D3-4FEA-A97C-C0510D9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519F-80C7-41B8-92B7-EFBF40EF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7CA7-F0D6-4114-93D5-99ACD69F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9EAE-5BEF-4C46-A8ED-503E2CF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803BB-3F65-43D2-94B7-4C7CE295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9F54-74DD-4103-9060-B7A24050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EA1F-10A1-4652-9948-92E54D36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518E-B26E-4E6D-BA4D-C3613C5B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16A8-A4A0-4FE2-BD2F-E028780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846-ECFC-427F-A0AB-BE5F695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FBD19-BD5A-4623-8CD0-FFF8D5D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D9D31-30D1-4A57-B522-72AE3A7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8C2C-9E80-4295-B068-308D746E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9744F-6B6C-4C58-8B15-5F5DB50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50C88-1DD5-431B-802B-6C46082C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5AC9D-5D94-4B92-8337-30D6C126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910D-7CCE-4521-81BF-30BD57F4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B3A0-90F9-4A8A-9E62-B39037E0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95D7A-A642-43A0-8C06-B840E293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1204A-3480-4411-8D51-EB079B9F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0DE-A750-4768-B7BE-7E8F9751C5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86D9-27F7-4217-858C-388771776D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0BE-E490-42F8-8071-70F91D190D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E4F8-8DF2-4633-B8AB-070F0DCE3A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FBBE-DD6E-471F-A98F-BB2B4BDB7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16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B2D-8507-48BD-99F6-7877C8FAC7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5" name="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19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3A7-791A-43D7-93DE-4B5A852E08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1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762-CD87-4E38-B6B1-820E0E56E3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BCF8-C90C-49C4-88E9-AD2CA6D5A5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2268000" y="1557000"/>
            <a:ext cx="5256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根根胡须入泥土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自造房子自安家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地上开花不结果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地下结果不开花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84360" y="123084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66cc"/>
                </a:solidFill>
                <a:latin typeface="Arial"/>
              </a:rPr>
              <a:t>人要做有用的人，不要做只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体面</a:t>
            </a:r>
            <a:r>
              <a:rPr b="1" lang="zh-CN" sz="5400" spc="-1" strike="noStrike">
                <a:solidFill>
                  <a:srgbClr val="ff66cc"/>
                </a:solidFill>
                <a:latin typeface="Arial"/>
              </a:rPr>
              <a:t>，而对别人没有好处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5280" y="3357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在我们身边有没有像落花生那样的人呢？他们具有什么样的品质？用自己的话来说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64000" y="609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4572000" y="6524640"/>
            <a:ext cx="431640" cy="3333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79404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332000" y="1916280"/>
            <a:ext cx="6192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小组为单位，分角色朗读课文中“议花生”部分，看谁读得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03280" y="112536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齐心协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 rot="20464200">
            <a:off x="304920" y="837720"/>
            <a:ext cx="2361960" cy="20923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 rot="20464200">
            <a:off x="6400440" y="304920"/>
            <a:ext cx="2209680" cy="239868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4"/>
          <a:stretch/>
        </p:blipFill>
        <p:spPr>
          <a:xfrm rot="20464200">
            <a:off x="0" y="3962160"/>
            <a:ext cx="2590920" cy="23986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5"/>
          <a:stretch/>
        </p:blipFill>
        <p:spPr>
          <a:xfrm rot="20464200">
            <a:off x="6553080" y="4458960"/>
            <a:ext cx="2590920" cy="239868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 rot="20464200">
            <a:off x="3348000" y="26028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 rot="20464200">
            <a:off x="2696760" y="5334120"/>
            <a:ext cx="1874880" cy="123804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8"/>
          <a:stretch/>
        </p:blipFill>
        <p:spPr>
          <a:xfrm>
            <a:off x="8317080" y="6093000"/>
            <a:ext cx="591840" cy="5918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556000" y="6515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356154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6858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学海拾贝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2209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要像落花生一样，踏踏实实地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淳朴的人，有用的人，我要为中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而生，为中华而贡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许地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4"/>
          <a:stretch/>
        </p:blipFill>
        <p:spPr>
          <a:xfrm>
            <a:off x="0" y="5451480"/>
            <a:ext cx="1676520" cy="1406520"/>
          </a:xfrm>
          <a:prstGeom prst="rect">
            <a:avLst/>
          </a:prstGeom>
          <a:ln w="0">
            <a:noFill/>
          </a:ln>
        </p:spPr>
      </p:pic>
      <p:sp>
        <p:nvSpPr>
          <p:cNvPr id="878" name="">
            <a:hlinkClick r:id="rId5" action="ppaction://hlinksldjump"/>
          </p:cNvPr>
          <p:cNvSpPr/>
          <p:nvPr/>
        </p:nvSpPr>
        <p:spPr>
          <a:xfrm>
            <a:off x="8101080" y="6308640"/>
            <a:ext cx="718920" cy="549360"/>
          </a:xfrm>
          <a:custGeom>
            <a:avLst/>
            <a:gdLst>
              <a:gd name="textAreaLeft" fmla="*/ 112320 w 718920"/>
              <a:gd name="textAreaRight" fmla="*/ 592920 w 718920"/>
              <a:gd name="textAreaTop" fmla="*/ 137880 h 549360"/>
              <a:gd name="textAreaBottom" fmla="*/ 41148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31"/>
                </a:moveTo>
                <a:lnTo>
                  <a:pt x="13983" y="5431"/>
                </a:lnTo>
                <a:lnTo>
                  <a:pt x="13983" y="0"/>
                </a:lnTo>
                <a:lnTo>
                  <a:pt x="21600" y="10800"/>
                </a:lnTo>
                <a:lnTo>
                  <a:pt x="13983" y="21600"/>
                </a:lnTo>
                <a:lnTo>
                  <a:pt x="13983" y="16169"/>
                </a:lnTo>
                <a:lnTo>
                  <a:pt x="3375" y="16169"/>
                </a:lnTo>
                <a:close/>
              </a:path>
              <a:path w="21600" h="21600">
                <a:moveTo>
                  <a:pt x="0" y="5431"/>
                </a:moveTo>
                <a:lnTo>
                  <a:pt x="675" y="5431"/>
                </a:lnTo>
                <a:lnTo>
                  <a:pt x="675" y="16169"/>
                </a:lnTo>
                <a:lnTo>
                  <a:pt x="0" y="16169"/>
                </a:lnTo>
                <a:close/>
              </a:path>
              <a:path w="21600" h="21600">
                <a:moveTo>
                  <a:pt x="1350" y="5431"/>
                </a:moveTo>
                <a:lnTo>
                  <a:pt x="2700" y="5431"/>
                </a:lnTo>
                <a:lnTo>
                  <a:pt x="2700" y="16169"/>
                </a:lnTo>
                <a:lnTo>
                  <a:pt x="1350" y="161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195640" y="1916640"/>
            <a:ext cx="67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66cc"/>
                </a:solidFill>
                <a:latin typeface="华文中宋"/>
                <a:ea typeface="华文中宋"/>
              </a:rPr>
              <a:t>、找朋友（连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生  纯洁高尚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洁白无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草  默默无闻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勤恳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老牛  照亮他人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牺牲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蜡烛  顽强不屈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生不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雪   默默奉献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求虚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华文中宋"/>
                <a:ea typeface="华文中宋"/>
              </a:rPr>
              <a:t>２、课文内容我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花生，它的好处很多，它虽然没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可贵的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我们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像花生一样吗？读了课文我明白了人要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type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2195280" y="1557360"/>
            <a:ext cx="69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联系本课内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想想要怎样做一个有用的人，把想到的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快乐阅读：读《含羞草》一文，完成“学以致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484360" y="33336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隶书"/>
              </a:rPr>
              <a:t>作业套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breez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 txBox="1"/>
          <p:nvPr/>
        </p:nvSpPr>
        <p:spPr>
          <a:xfrm>
            <a:off x="1116000" y="3716280"/>
            <a:ext cx="45356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79404" fill="hold"/>
                                        <p:tgtEl>
                                          <p:spTgt spid="8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276720" y="5084640"/>
            <a:ext cx="273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小寨乡第四小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刘秋梅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371600" y="304920"/>
            <a:ext cx="7125840" cy="2403000"/>
            <a:chOff x="1371600" y="304920"/>
            <a:chExt cx="7125840" cy="2403000"/>
          </a:xfrm>
        </p:grpSpPr>
        <p:sp>
          <p:nvSpPr>
            <p:cNvPr id="804" name=""/>
            <p:cNvSpPr txBox="1"/>
            <p:nvPr/>
          </p:nvSpPr>
          <p:spPr>
            <a:xfrm>
              <a:off x="1371600" y="664560"/>
              <a:ext cx="4824000" cy="204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落花生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pic>
          <p:nvPicPr>
            <p:cNvPr id="805" name="" descr=""/>
            <p:cNvPicPr/>
            <p:nvPr/>
          </p:nvPicPr>
          <p:blipFill>
            <a:blip r:embed="rId7"/>
            <a:stretch/>
          </p:blipFill>
          <p:spPr>
            <a:xfrm>
              <a:off x="6095880" y="304920"/>
              <a:ext cx="2401560" cy="236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"/>
          <p:cNvSpPr/>
          <p:nvPr/>
        </p:nvSpPr>
        <p:spPr>
          <a:xfrm>
            <a:off x="2268360" y="6453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059280" y="5950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5435640" y="0"/>
            <a:ext cx="3422520" cy="40766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250920" y="249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02c6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2c02c6"/>
                </a:solidFill>
                <a:latin typeface="Times New Roman"/>
                <a:ea typeface="华文新魏"/>
              </a:rPr>
              <a:t>陆地上的植物，几乎都在地上开花，地上结果，而花生却是在地上开花、花落以后地下结果的作物，所以人们叫它落花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76560" y="12193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落花生名字的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403280" cy="15573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58920" y="1658880"/>
            <a:ext cx="878508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看看课文围绕题目写了哪些内容，然后完成这个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按课文顺序填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种花生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(            )     (             )    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398680" y="381780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收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43280" y="38178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尝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34320" y="380988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05272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4508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1308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7093080" y="6426360"/>
            <a:ext cx="576000" cy="43164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79404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2743200" y="404640"/>
            <a:ext cx="4816440" cy="62247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990720" y="1628640"/>
            <a:ext cx="2212920" cy="1495440"/>
          </a:xfrm>
          <a:prstGeom prst="wedgeEllipseCallout">
            <a:avLst>
              <a:gd name="adj1" fmla="val 114560"/>
              <a:gd name="adj2" fmla="val 74949"/>
            </a:avLst>
          </a:pr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835280" y="333360"/>
            <a:ext cx="684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宋体"/>
                <a:ea typeface="华文宋体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花生的好处很多，有一样最可贵：它的果实</a:t>
            </a:r>
            <a:r>
              <a:rPr b="1" i="1" lang="zh-CN" sz="4000" spc="-1" strike="noStrike">
                <a:solidFill>
                  <a:srgbClr val="9f9fbf"/>
                </a:solidFill>
                <a:latin typeface="华文宋体"/>
                <a:ea typeface="华文宋体"/>
              </a:rPr>
              <a:t>埋在地里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，不像</a:t>
            </a:r>
            <a:r>
              <a:rPr b="1" lang="zh-CN" sz="4000" spc="-1" strike="noStrike">
                <a:solidFill>
                  <a:srgbClr val="3366ff"/>
                </a:solidFill>
                <a:latin typeface="华文宋体"/>
                <a:ea typeface="华文宋体"/>
              </a:rPr>
              <a:t>桃子、石榴、苹果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那样，把</a:t>
            </a:r>
            <a:r>
              <a:rPr b="1" lang="zh-CN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鲜红</a:t>
            </a:r>
            <a:r>
              <a:rPr b="1" lang="zh-CN" sz="4000" spc="-1" strike="noStrike">
                <a:solidFill>
                  <a:srgbClr val="66ff33"/>
                </a:solidFill>
                <a:latin typeface="华文宋体"/>
                <a:ea typeface="华文宋体"/>
              </a:rPr>
              <a:t>嫩绿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的果实</a:t>
            </a:r>
            <a:r>
              <a:rPr b="1" lang="zh-CN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高高地挂在枝头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上，使人一见就生爱慕之心。你们看它</a:t>
            </a:r>
            <a:r>
              <a:rPr b="1" i="1" lang="zh-CN" sz="4000" spc="-1" strike="noStrike">
                <a:solidFill>
                  <a:srgbClr val="9f9fbf"/>
                </a:solidFill>
                <a:latin typeface="华文宋体"/>
                <a:ea typeface="华文宋体"/>
              </a:rPr>
              <a:t>矮矮地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长在地上，等到成熟了，也不能立刻分辨出来它有没有果实，必须挖出来才知道</a:t>
            </a:r>
            <a:r>
              <a:rPr b="1" lang="zh-CN" sz="4000" spc="-1" strike="noStrike">
                <a:solidFill>
                  <a:srgbClr val="3366ff"/>
                </a:solidFill>
                <a:latin typeface="华文宋体"/>
                <a:ea typeface="华文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43080" y="380880"/>
            <a:ext cx="549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-8640" y="152280"/>
            <a:ext cx="17168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父亲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rId2" action="ppaction://hlinksldjump"/>
          </p:cNvPr>
          <p:cNvSpPr/>
          <p:nvPr/>
        </p:nvSpPr>
        <p:spPr>
          <a:xfrm>
            <a:off x="752472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  <a:ea typeface="华文行楷"/>
              </a:rPr>
              <a:t>下一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15672" y="10800"/>
                </a:moveTo>
                <a:lnTo>
                  <a:pt x="5166" y="17806"/>
                </a:lnTo>
                <a:lnTo>
                  <a:pt x="5166" y="3794"/>
                </a:lnTo>
                <a:close/>
              </a:path>
              <a:path fill="darken" w="24346" h="21600">
                <a:moveTo>
                  <a:pt x="17517" y="3794"/>
                </a:moveTo>
                <a:lnTo>
                  <a:pt x="17517" y="17806"/>
                </a:lnTo>
                <a:lnTo>
                  <a:pt x="19179" y="17806"/>
                </a:lnTo>
                <a:lnTo>
                  <a:pt x="1917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762120" y="1374840"/>
          <a:ext cx="8381880" cy="54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4840"/>
                    <a:ext cx="838188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2195640" y="26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埋在地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00720" y="2637000"/>
            <a:ext cx="27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幼圆"/>
              </a:rPr>
              <a:t>高高地挂在枝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95640" y="3573360"/>
            <a:ext cx="22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矮矮地长在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03640" y="3716280"/>
            <a:ext cx="16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幼圆"/>
              </a:rPr>
              <a:t>鲜红嫩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4797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幼圆"/>
              </a:rPr>
              <a:t>一见就生爱慕之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95640" y="4797360"/>
            <a:ext cx="25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挖起来才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00000" y="2637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042920" y="3716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外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71640" y="4724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>
            <a:hlinkClick r:id="" action="ppaction://hlinkshowjump?jump=previousslide"/>
          </p:cNvPr>
          <p:cNvSpPr/>
          <p:nvPr/>
        </p:nvSpPr>
        <p:spPr>
          <a:xfrm>
            <a:off x="7956720" y="5445000"/>
            <a:ext cx="431640" cy="720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20720"/>
              <a:gd name="textAreaBottom" fmla="*/ 693000 h 720720"/>
            </a:gdLst>
            <a:ahLst/>
            <a:rect l="textAreaLeft" t="textAreaTop" r="textAreaRight" b="textAreaBottom"/>
            <a:pathLst>
              <a:path w="21600" h="36054">
                <a:moveTo>
                  <a:pt x="0" y="0"/>
                </a:moveTo>
                <a:lnTo>
                  <a:pt x="21600" y="0"/>
                </a:lnTo>
                <a:lnTo>
                  <a:pt x="21600" y="36054"/>
                </a:lnTo>
                <a:lnTo>
                  <a:pt x="0" y="36054"/>
                </a:lnTo>
                <a:close/>
              </a:path>
              <a:path fill="lightenLess" w="21600" h="360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54">
                <a:moveTo>
                  <a:pt x="21600" y="0"/>
                </a:moveTo>
                <a:lnTo>
                  <a:pt x="21600" y="36054"/>
                </a:lnTo>
                <a:lnTo>
                  <a:pt x="20200" y="34654"/>
                </a:lnTo>
                <a:lnTo>
                  <a:pt x="20200" y="1400"/>
                </a:lnTo>
                <a:close/>
              </a:path>
              <a:path fill="darkenLess" w="21600" h="36054">
                <a:moveTo>
                  <a:pt x="21600" y="36054"/>
                </a:moveTo>
                <a:lnTo>
                  <a:pt x="0" y="36054"/>
                </a:lnTo>
                <a:lnTo>
                  <a:pt x="1400" y="34654"/>
                </a:lnTo>
                <a:lnTo>
                  <a:pt x="20200" y="34654"/>
                </a:lnTo>
                <a:close/>
              </a:path>
              <a:path fill="lighten" w="21600" h="36054">
                <a:moveTo>
                  <a:pt x="0" y="360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54"/>
                </a:lnTo>
                <a:close/>
              </a:path>
              <a:path fill="darken" w="21600" h="36054">
                <a:moveTo>
                  <a:pt x="7301" y="18027"/>
                </a:moveTo>
                <a:lnTo>
                  <a:pt x="17806" y="11021"/>
                </a:lnTo>
                <a:lnTo>
                  <a:pt x="17806" y="25033"/>
                </a:lnTo>
                <a:close/>
              </a:path>
              <a:path fill="darken" w="21600" h="36054">
                <a:moveTo>
                  <a:pt x="3794" y="11021"/>
                </a:moveTo>
                <a:lnTo>
                  <a:pt x="5456" y="11021"/>
                </a:lnTo>
                <a:lnTo>
                  <a:pt x="5456" y="25033"/>
                </a:lnTo>
                <a:lnTo>
                  <a:pt x="3794" y="25033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457200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014560" y="476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      “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所以你们要像花生，它虽然不好看，可是很有用，不是外表好看而没有实用的东西。”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8640" y="152280"/>
            <a:ext cx="17168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父亲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1:39:58Z</dcterms:created>
  <dc:creator>Xiaozhen</dc:creator>
  <dc:description/>
  <dc:language>en-US</dc:language>
  <cp:lastModifiedBy>雨林木风</cp:lastModifiedBy>
  <dcterms:modified xsi:type="dcterms:W3CDTF">2010-11-16T07:11:14Z</dcterms:modified>
  <cp:revision>67</cp:revision>
  <dc:subject/>
  <dc:title>幻灯片 1</dc:title>
</cp:coreProperties>
</file>