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19.jpeg" ContentType="image/jpeg"/>
  <Override PartName="/ppt/media/image18.png" ContentType="image/png"/>
  <Override PartName="/ppt/media/type.wav" ContentType="audio/x-wav"/>
  <Override PartName="/ppt/media/image6.jpeg" ContentType="image/jpeg"/>
  <Override PartName="/ppt/media/image21.png" ContentType="image/png"/>
  <Override PartName="/ppt/media/image16.gif" ContentType="image/gif"/>
  <Override PartName="/ppt/media/image24.jpeg" ContentType="image/jpeg"/>
  <Override PartName="/ppt/media/image15.png" ContentType="image/png"/>
  <Override PartName="/ppt/media/image14.jpeg" ContentType="image/jpeg"/>
  <Override PartName="/ppt/media/image13.png" ContentType="image/png"/>
  <Override PartName="/ppt/media/image20.jpeg" ContentType="image/jpeg"/>
  <Override PartName="/ppt/media/image12.png" ContentType="image/png"/>
  <Override PartName="/ppt/media/image8.jpeg" ContentType="image/jpeg"/>
  <Override PartName="/ppt/media/image10.jpeg" ContentType="image/jpeg"/>
  <Override PartName="/ppt/media/image5.png" ContentType="image/png"/>
  <Override PartName="/ppt/media/image35.png" ContentType="image/png"/>
  <Override PartName="/ppt/media/image26.jpeg" ContentType="image/jpeg"/>
  <Override PartName="/ppt/media/camera.wav" ContentType="audio/x-wav"/>
  <Override PartName="/ppt/media/image11.gif" ContentType="image/gif"/>
  <Override PartName="/ppt/media/image4.png" ContentType="image/png"/>
  <Override PartName="/ppt/media/image27.png" ContentType="image/png"/>
  <Override PartName="/ppt/media/image33.jpeg" ContentType="image/jpeg"/>
  <Override PartName="/ppt/media/image28.gif" ContentType="image/gif"/>
  <Override PartName="/ppt/media/image30.jpeg" ContentType="image/jpeg"/>
  <Override PartName="/ppt/media/image34.jpeg" ContentType="image/jpeg"/>
  <Override PartName="/ppt/media/image36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8.gif" ContentType="image/gif"/>
  <Override PartName="/ppt/media/image9.gif" ContentType="image/gif"/>
  <Override PartName="/ppt/media/image29.jpeg" ContentType="image/jpeg"/>
  <Override PartName="/ppt/media/image7.gif" ContentType="image/gif"/>
  <Override PartName="/ppt/media/image37.gif" ContentType="image/gif"/>
  <Override PartName="/ppt/media/chimes.wav" ContentType="audio/x-wav"/>
  <Override PartName="/ppt/media/image3.gif" ContentType="image/gif"/>
  <Override PartName="/ppt/media/image1.jpeg" ContentType="image/jpeg"/>
  <Override PartName="/ppt/media/image22.jpeg" ContentType="image/jpeg"/>
  <Override PartName="/ppt/media/image39.png" ContentType="image/pn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47E4-FEC5-46B3-AE36-64DB5CE6B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9797-3D9E-4A32-84AA-CDA7BB6C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9AA8-D535-4333-B19E-706FE65FC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3B52-7BAF-4BAD-B92C-02817508C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B517-00C8-479B-B2AB-05CC7FB6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C17F-16DA-47E0-A70F-31CC4691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9292-5437-43EA-8F46-0F5FD01E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5161-3CA6-4032-BB3D-15ABCDB4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E12F-9816-4675-9943-F2AB0C50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C6BC-4AFB-445B-9F62-A7094AAD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6A40-904C-4040-BF83-1789A97F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C768-D988-4F80-A08C-F38F1ED3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F5FC-CC69-43D0-8E66-6AA5481546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gif"/><Relationship Id="rId3" Type="http://schemas.openxmlformats.org/officeDocument/2006/relationships/image" Target="../media/image38.gif"/><Relationship Id="rId4" Type="http://schemas.openxmlformats.org/officeDocument/2006/relationships/image" Target="../media/image38.gif"/><Relationship Id="rId5" Type="http://schemas.openxmlformats.org/officeDocument/2006/relationships/image" Target="../media/image37.gif"/><Relationship Id="rId6" Type="http://schemas.openxmlformats.org/officeDocument/2006/relationships/image" Target="../media/image38.gif"/><Relationship Id="rId7" Type="http://schemas.openxmlformats.org/officeDocument/2006/relationships/image" Target="../media/image38.gif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gif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37160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22800" y="2708280"/>
            <a:ext cx="733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华文行楷"/>
              </a:rPr>
              <a:t>简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020000" y="5445000"/>
            <a:ext cx="16761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华文行楷"/>
              </a:rPr>
              <a:t>下一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484360" y="2276640"/>
            <a:ext cx="4824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落花生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50920" y="6237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50920" y="549360"/>
            <a:ext cx="2401920" cy="20016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239 -0.02959 0.01302 -0.01456 0.02899 -0.04438 C 0.0309 -0.04808 0.03506 -0.04808 0.03784 -0.05039 C 0.04322 -0.05502 0.05329 -0.06519 0.05329 -0.06519 C 0.13263 -0.06056 0.08281 -0.06565 0.11996 -0.05317 C 0.146 -0.01017 0.11631 -0.05594 0.13541 -0.03259 C 0.15399 -0.01017 0.16857 0.01087 0.1934 0.02081 C 0.19791 0.02265 0.21701 0.02612 0.21996 0.02658 C 0.32829 0.02057 0.29027 0.03005 0.33559 0.0178 C 0.35381 -0.00162 0.37586 -0.01526 0.3934 -0.0356 C 0.40243 -0.046 0.40572 -0.05825 0.41545 -0.06796 C 0.41684 -0.07097 0.41788 -0.07466 0.41996 -0.07698 C 0.425 -0.08252 0.43246 -0.07882 0.43767 -0.07698 C 0.44947 -0.07281 0.46041 -0.06634 0.47118 -0.05918 C 0.48385 -0.03375 0.496 -0.01734 0.51788 -0.003 C 0.52534 0.00185 0.53177 0.01133 0.5401 0.01179 C 0.56163 0.01271 0.58298 0.01387 0.60451 0.0148 C 0.79756 -0.00324 0.69062 0.03514 0.74444 -0.01179 C 0.74965 -0.02196 0.75225 -0.03121 0.75781 -0.04138 C 0.7585 -0.04438 0.76006 -0.05039 0.76006 -0.05039 E">
                                      <p:cBhvr>
                                        <p:cTn id="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239 -0.02959 0.01302 -0.01456 0.02899 -0.04438 C 0.0309 -0.04808 0.03506 -0.04808 0.03784 -0.05039 C 0.04322 -0.05502 0.05329 -0.06519 0.05329 -0.06519 C 0.13263 -0.06056 0.08281 -0.06565 0.11996 -0.05317 C 0.146 -0.01017 0.11631 -0.05594 0.13541 -0.03259 C 0.15399 -0.01017 0.16857 0.01087 0.1934 0.02081 C 0.19791 0.02265 0.21701 0.02612 0.21996 0.02658 C 0.32829 0.02057 0.29027 0.03005 0.33559 0.0178 C 0.35381 -0.00162 0.37586 -0.01526 0.3934 -0.0356 C 0.40243 -0.046 0.40572 -0.05825 0.41545 -0.06796 C 0.41684 -0.07097 0.41788 -0.07466 0.41996 -0.07698 C 0.425 -0.08252 0.43246 -0.07882 0.43767 -0.07698 C 0.44947 -0.07281 0.46041 -0.06634 0.47118 -0.05918 C 0.48385 -0.03375 0.496 -0.01734 0.51788 -0.003 C 0.52534 0.00185 0.53177 0.01133 0.5401 0.01179 C 0.56163 0.01271 0.58298 0.01387 0.60451 0.0148 C 0.79756 -0.00324 0.69062 0.03514 0.74444 -0.01179 C 0.74965 -0.02196 0.75225 -0.03121 0.75781 -0.04138 C 0.7585 -0.04438 0.76006 -0.05039 0.76006 -0.05039 E">
                                      <p:cBhvr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33994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7621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所以你们要像花生，它虽然不好看，可是很有用，不是外表好看而没有实用的东西。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3520" y="3657600"/>
            <a:ext cx="4419360" cy="3152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105520" y="3657600"/>
            <a:ext cx="3962160" cy="3124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6278400"/>
            <a:ext cx="1066680" cy="64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华文行楷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  <p:sndAc>
      <p:stSnd>
        <p:snd r:embed="rId4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666880" y="0"/>
            <a:ext cx="3765600" cy="5676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954600" y="5638680"/>
            <a:ext cx="106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ff"/>
                </a:solidFill>
                <a:latin typeface="Arial"/>
              </a:rPr>
              <a:t>“</a:t>
            </a:r>
            <a:r>
              <a:rPr b="0" lang="zh-CN" sz="4800" spc="-1" strike="noStrike">
                <a:solidFill>
                  <a:srgbClr val="3333ff"/>
                </a:solidFill>
                <a:latin typeface="Arial"/>
              </a:rPr>
              <a:t>对，这是我对你们的希望。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77320" y="624852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华文行楷"/>
              </a:rPr>
              <a:t>含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1"/>
    <p:sndAc>
      <p:stSnd>
        <p:snd r:embed="rId2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09480" y="36576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7280" y="1197000"/>
            <a:ext cx="432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Arial"/>
                <a:ea typeface="楷体_GB2312"/>
              </a:rPr>
              <a:t>含义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63640" y="2421000"/>
            <a:ext cx="60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人要做有用的人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不要做只讲体面而对别人没有好处的人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3520" y="1125360"/>
            <a:ext cx="861048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具有花生品格的人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工人</a:t>
            </a:r>
            <a:r>
              <a:rPr b="1" lang="zh-CN" sz="54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,</a:t>
            </a:r>
            <a:r>
              <a:rPr b="1" lang="zh-CN" sz="54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农民</a:t>
            </a:r>
            <a:r>
              <a:rPr b="1" lang="zh-CN" sz="54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,</a:t>
            </a:r>
            <a:r>
              <a:rPr b="1" lang="zh-CN" sz="54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教师</a:t>
            </a:r>
            <a:r>
              <a:rPr b="1" lang="zh-CN" sz="54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,</a:t>
            </a:r>
            <a:r>
              <a:rPr b="1" lang="zh-CN" sz="54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警察……各种工作岗位上的普通劳动者，他们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不图虚名，默默奉献</a:t>
            </a:r>
            <a:r>
              <a:rPr b="1" lang="zh-CN" sz="54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232760" y="0"/>
            <a:ext cx="1911240" cy="22986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heel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2164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475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764720" cy="6932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  <p:sndAc>
      <p:stSnd>
        <p:snd r:embed="rId2" name="camera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152280"/>
            <a:ext cx="8534160" cy="45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华文新魏"/>
                <a:ea typeface="华文新魏"/>
              </a:rPr>
              <a:t>总结全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750"/>
              </a:spcBef>
              <a:buClr>
                <a:srgbClr val="333399"/>
              </a:buClr>
              <a:buFont typeface="华文新魏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华文新魏"/>
                <a:ea typeface="华文新魏"/>
              </a:rPr>
              <a:t>课文以谈花生的可贵之处，来说明做人的道理，是什么道理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华文新魏"/>
                <a:ea typeface="华文新魏"/>
              </a:rPr>
              <a:t>2  </a:t>
            </a:r>
            <a:r>
              <a:rPr b="1" lang="zh-CN" sz="4400" spc="-1" strike="noStrike">
                <a:solidFill>
                  <a:srgbClr val="333399"/>
                </a:solidFill>
                <a:latin typeface="华文新魏"/>
                <a:ea typeface="华文新魏"/>
              </a:rPr>
              <a:t>为了突出中心，作者在写作方法上，有什么特点？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518148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（借物喻人，主次分明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266688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（不图虚名，默默奉献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763640" y="2133720"/>
            <a:ext cx="590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        </a:t>
            </a:r>
            <a:r>
              <a:rPr b="1" lang="zh-CN" sz="5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联系本课内容</a:t>
            </a:r>
            <a:r>
              <a:rPr b="1" lang="zh-CN" sz="5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,</a:t>
            </a:r>
            <a:r>
              <a:rPr b="1" lang="zh-CN" sz="5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想想要怎样做一个有用的人，把想到的写下来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13320" y="148428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作业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6318360"/>
            <a:ext cx="539640" cy="5396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467320" y="0"/>
            <a:ext cx="3676680" cy="4508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5280" y="24922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c02c6"/>
                </a:solidFill>
                <a:latin typeface="Times New Roman"/>
                <a:ea typeface="华文新魏"/>
              </a:rPr>
              <a:t>陆地上的植物，几乎都在地上开花，地面上结果，唯独花生是在地上开花地面下结果，所以人们叫它落花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38480" y="119700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落花生名字的由来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 rot="5400000">
            <a:off x="5003640" y="3068280"/>
            <a:ext cx="3313080" cy="865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谢谢欣赏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963960" y="774720"/>
            <a:ext cx="2343240" cy="1096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 rot="16450200">
            <a:off x="5267880" y="787680"/>
            <a:ext cx="2590560" cy="23990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 rot="16450200">
            <a:off x="659520" y="2012040"/>
            <a:ext cx="2590560" cy="2398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 rot="4010400">
            <a:off x="3697560" y="-470520"/>
            <a:ext cx="2342880" cy="1096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 rot="20464200">
            <a:off x="611280" y="4797000"/>
            <a:ext cx="2590560" cy="23986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 rot="20464200">
            <a:off x="395280" y="764640"/>
            <a:ext cx="2590920" cy="23990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4280" y="1454040"/>
            <a:ext cx="860112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4374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【许地山】（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1893—1941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）现 代作家、学者。 名赞堃，字地山，笔名落华生。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1921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年发表第一篇小说《命命鸟》，接着又发表了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具有朴实淳厚风格的散文名篇《落花生》。作品结集出版的有短篇小说集《缀网劳蛛》、《危巢坠简》，散文集《空山灵雨》，小说、剧本集《解放者》、《杂感集》，论著《印度文学》、《道教史》（上），以及《许地山选集》、《许地山文集》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69228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作者简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0120" y="6278400"/>
            <a:ext cx="15238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华文行楷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4000" y="1916280"/>
            <a:ext cx="85341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2c02c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c02c6"/>
                </a:solidFill>
                <a:latin typeface="Arial"/>
                <a:ea typeface="华文新魏"/>
              </a:rPr>
              <a:t>体会父亲所说的话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华文新魏"/>
              </a:rPr>
              <a:t>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从中学会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  <a:ea typeface="华文新魏"/>
              </a:rPr>
              <a:t>要做对别人有用的人，不要做只讲体面而对别人没有好处的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c02c6"/>
                </a:solidFill>
                <a:latin typeface="Arial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2c02c6"/>
                </a:solidFill>
                <a:latin typeface="Arial"/>
                <a:ea typeface="华文新魏"/>
              </a:rPr>
              <a:t>理解课文内容，学习花生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  <a:ea typeface="华文新魏"/>
              </a:rPr>
              <a:t>不求虚名，默默奉献</a:t>
            </a:r>
            <a:r>
              <a:rPr b="1" lang="zh-CN" sz="3600" spc="-1" strike="noStrike">
                <a:solidFill>
                  <a:srgbClr val="2c02c6"/>
                </a:solidFill>
                <a:latin typeface="Arial"/>
                <a:ea typeface="华文新魏"/>
              </a:rPr>
              <a:t>的品格</a:t>
            </a:r>
            <a:r>
              <a:rPr b="1" lang="zh-CN" sz="3600" spc="-1" strike="noStrike">
                <a:solidFill>
                  <a:srgbClr val="2c02c6"/>
                </a:solidFill>
                <a:latin typeface="Arial"/>
                <a:ea typeface="华文新魏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92360" y="836640"/>
            <a:ext cx="37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学习目标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1695240" cy="22240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1658880"/>
            <a:ext cx="8785080" cy="30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看看课文围绕落花生讲了一些什么事情，然后完成这个填空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（按课文顺序填空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种花生</a:t>
            </a:r>
            <a:r>
              <a:rPr b="1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(            )    (              )   (          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98680" y="3817800"/>
            <a:ext cx="184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收花生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43280" y="3817800"/>
            <a:ext cx="173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吃花生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20000" y="3817800"/>
            <a:ext cx="173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议花生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52720" y="4221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45080" y="4221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13080" y="4221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826920" y="5418000"/>
            <a:ext cx="8929800" cy="476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58920" y="1557360"/>
            <a:ext cx="59770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00"/>
                </a:solidFill>
                <a:latin typeface="Arial"/>
                <a:ea typeface="华文新魏"/>
              </a:rPr>
              <a:t>       </a:t>
            </a:r>
            <a:r>
              <a:rPr b="1" lang="zh-CN" sz="4800" spc="-1" strike="noStrike">
                <a:solidFill>
                  <a:srgbClr val="003300"/>
                </a:solidFill>
                <a:latin typeface="Arial"/>
                <a:ea typeface="华文新魏"/>
              </a:rPr>
              <a:t>说说种植花生的过程，用四个词语来归纳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3933360"/>
            <a:ext cx="6948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买种、翻地、播种、浇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419640" y="5129280"/>
            <a:ext cx="1728720" cy="1728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3" name="chimes.wav"/>
      </p:stSnd>
    </p:sndAc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743200" y="533520"/>
            <a:ext cx="4816440" cy="60958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90720" y="1676520"/>
            <a:ext cx="2209680" cy="1447560"/>
          </a:xfrm>
          <a:prstGeom prst="wedgeEllipseCallout">
            <a:avLst>
              <a:gd name="adj1" fmla="val 114800"/>
              <a:gd name="adj2" fmla="val 75768"/>
            </a:avLst>
          </a:prstGeom>
          <a:solidFill>
            <a:srgbClr val="ff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花生的味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86600" y="4114800"/>
            <a:ext cx="2057400" cy="1143000"/>
          </a:xfrm>
          <a:prstGeom prst="wedgeEllipseCallout">
            <a:avLst>
              <a:gd name="adj1" fmla="val -75925"/>
              <a:gd name="adj2" fmla="val -2527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花生可以榨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4191120"/>
            <a:ext cx="3200400" cy="1981080"/>
          </a:xfrm>
          <a:prstGeom prst="wedgeEllipseCallout">
            <a:avLst>
              <a:gd name="adj1" fmla="val 48861"/>
              <a:gd name="adj2" fmla="val -27962"/>
            </a:avLst>
          </a:prstGeom>
          <a:solidFill>
            <a:srgbClr val="99ff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花生的价钱便宜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谁都可以买来吃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都喜欢吃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这就是它的好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67280" y="304920"/>
            <a:ext cx="3276720" cy="1523880"/>
          </a:xfrm>
          <a:prstGeom prst="wedgeEllipseCallout">
            <a:avLst>
              <a:gd name="adj1" fmla="val -35175"/>
              <a:gd name="adj2" fmla="val 78023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幼圆"/>
              </a:rPr>
              <a:t>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谁能把花生的好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说出来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幼圆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324000" y="0"/>
            <a:ext cx="1584000" cy="15843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68360" y="1125360"/>
            <a:ext cx="75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分小组细读全文，讨论思考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2276640"/>
            <a:ext cx="8675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我们兄弟姐妹是怎样评论花生的？父亲又是怎样说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父亲拿什么来与花生进行对比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父亲通过花生告诉了我们什么道理呢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60"/>
                            </p:stCondLst>
                            <p:childTnLst>
                              <p:par>
                                <p:cTn id="1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692360" y="382680"/>
            <a:ext cx="670536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华文宋体"/>
                <a:ea typeface="华文宋体"/>
              </a:rPr>
              <a:t>   </a:t>
            </a:r>
            <a:r>
              <a:rPr b="1" lang="zh-CN" sz="4000" spc="-1" strike="noStrike">
                <a:solidFill>
                  <a:srgbClr val="3333ff"/>
                </a:solidFill>
                <a:latin typeface="华文宋体"/>
                <a:ea typeface="华文宋体"/>
              </a:rPr>
              <a:t>花生的好处很多，有一样最可贵，它的果实埋在地里，不像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华文宋体"/>
                <a:ea typeface="华文宋体"/>
              </a:rPr>
              <a:t>桃子、石榴、苹果</a:t>
            </a:r>
            <a:r>
              <a:rPr b="1" lang="zh-CN" sz="4000" spc="-1" strike="noStrike">
                <a:solidFill>
                  <a:srgbClr val="3333ff"/>
                </a:solidFill>
                <a:latin typeface="华文宋体"/>
                <a:ea typeface="华文宋体"/>
              </a:rPr>
              <a:t>那样，把</a:t>
            </a:r>
            <a:r>
              <a:rPr b="1" lang="zh-CN" sz="4000" spc="-1" strike="noStrike">
                <a:solidFill>
                  <a:srgbClr val="ff3300"/>
                </a:solidFill>
                <a:latin typeface="华文宋体"/>
                <a:ea typeface="华文宋体"/>
              </a:rPr>
              <a:t>鲜红</a:t>
            </a:r>
            <a:r>
              <a:rPr b="1" lang="zh-CN" sz="4000" spc="-1" strike="noStrike">
                <a:solidFill>
                  <a:srgbClr val="00ff00"/>
                </a:solidFill>
                <a:latin typeface="华文宋体"/>
                <a:ea typeface="华文宋体"/>
              </a:rPr>
              <a:t>嫩绿</a:t>
            </a:r>
            <a:r>
              <a:rPr b="1" lang="zh-CN" sz="4000" spc="-1" strike="noStrike">
                <a:solidFill>
                  <a:srgbClr val="3333ff"/>
                </a:solidFill>
                <a:latin typeface="华文宋体"/>
                <a:ea typeface="华文宋体"/>
              </a:rPr>
              <a:t>的果实高高地挂在枝头上，使人一见就生爱慕之心。你们看它</a:t>
            </a:r>
            <a:r>
              <a:rPr b="1" lang="zh-CN" sz="4000" spc="-1" strike="noStrike">
                <a:solidFill>
                  <a:srgbClr val="99cc00"/>
                </a:solidFill>
                <a:latin typeface="华文宋体"/>
                <a:ea typeface="华文宋体"/>
              </a:rPr>
              <a:t>矮矮地</a:t>
            </a:r>
            <a:r>
              <a:rPr b="1" lang="zh-CN" sz="4000" spc="-1" strike="noStrike">
                <a:solidFill>
                  <a:srgbClr val="3333ff"/>
                </a:solidFill>
                <a:latin typeface="华文宋体"/>
                <a:ea typeface="华文宋体"/>
              </a:rPr>
              <a:t>长在地上，等到成熟了，也不能立刻分辨出来它有没不果实，必须挖出来才知道</a:t>
            </a:r>
            <a:r>
              <a:rPr b="1" lang="zh-CN" sz="4000" spc="-1" strike="noStrike">
                <a:solidFill>
                  <a:srgbClr val="000000"/>
                </a:solidFill>
                <a:latin typeface="华文宋体"/>
                <a:ea typeface="华文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华文宋体"/>
                <a:ea typeface="华文宋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3080" y="380880"/>
            <a:ext cx="54900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78480" y="304920"/>
            <a:ext cx="148176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第一次   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</a:rPr>
              <a:t>第二次        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</a:rPr>
              <a:t>第三次</a:t>
            </a:r>
            <a:r>
              <a:rPr b="1" lang="zh-CN" sz="4000" spc="-1" strike="noStrike">
                <a:solidFill>
                  <a:srgbClr val="6600ff"/>
                </a:solidFill>
                <a:latin typeface="Times New Roman"/>
              </a:rPr>
              <a:t>父亲的话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772400" y="6278400"/>
            <a:ext cx="13716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华文行楷"/>
              </a:rPr>
              <a:t>对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295280" y="1752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320" y="76320"/>
            <a:ext cx="4572000" cy="32004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419720" y="533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724280" y="76320"/>
            <a:ext cx="4343400" cy="320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04920" y="43434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6320" y="3348000"/>
            <a:ext cx="4572000" cy="3510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791320" y="41911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5943600" y="3276720"/>
            <a:ext cx="3200400" cy="3581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001000" y="6400800"/>
            <a:ext cx="14479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华文行楷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  <p:sndAc>
      <p:stSnd>
        <p:snd r:embed="rId5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7T14:42:48Z</dcterms:created>
  <dc:creator>Administrator</dc:creator>
  <dc:description/>
  <dc:language>en-US</dc:language>
  <cp:lastModifiedBy>微软用户</cp:lastModifiedBy>
  <dcterms:modified xsi:type="dcterms:W3CDTF">2013-11-23T14:39:51Z</dcterms:modified>
  <cp:revision>46</cp:revision>
  <dc:subject/>
  <dc:title>PowerPoint 演示文稿</dc:title>
</cp:coreProperties>
</file>