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79150-A09B-4D76-874F-C5770F5B8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646128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c9e00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800280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9a018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9040" y="3739680"/>
            <a:ext cx="800280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9a01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540B0-AA2B-4F26-86F6-E9DD33BAE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646128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c9e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39052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9a018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19800" y="1027080"/>
            <a:ext cx="39052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9a018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19040" y="3739680"/>
            <a:ext cx="39052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9a018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19800" y="3739680"/>
            <a:ext cx="39052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9a01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2CDD8-C0C0-4C89-BC9B-10924D7F5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646128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c9e00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257652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9a018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24800" y="1027080"/>
            <a:ext cx="257652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9a018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830560" y="1027080"/>
            <a:ext cx="257652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9a018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19040" y="3739680"/>
            <a:ext cx="257652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9a018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24800" y="3739680"/>
            <a:ext cx="257652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9a018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830560" y="3739680"/>
            <a:ext cx="257652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9a01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17592-5A07-4FAD-9289-9B7F4EA92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2A9FF-646E-4012-9B0C-145223F75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646128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c9e00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19040" y="1027080"/>
            <a:ext cx="8002800" cy="519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9a01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5864C-EAD0-45B7-B222-9F8763E12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646128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c9e00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800280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9a01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F8BBA-7BF2-48C8-94AD-4CA008DD4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646128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c9e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390528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9a018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19800" y="1027080"/>
            <a:ext cx="390528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9a01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55A23-F64F-46AC-B46F-DF6704D17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646128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c9e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47C86-72E9-4C00-A408-758A45B4E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19040" y="162000"/>
            <a:ext cx="6461280" cy="324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9a01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01DAA-D238-4A0D-932D-60D2DF1EB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646128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c9e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39052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9a018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19800" y="1027080"/>
            <a:ext cx="390528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9a018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19040" y="3739680"/>
            <a:ext cx="39052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9a01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62B62-5AC1-474D-9D8F-2C09A9E17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646128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c9e00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19040" y="1027080"/>
            <a:ext cx="8002800" cy="519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9a01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EBCD0-3589-4B47-A0EE-01B096829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646128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c9e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390528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9a018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19800" y="1027080"/>
            <a:ext cx="39052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9a018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19800" y="3739680"/>
            <a:ext cx="39052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9a01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9CC89-E7AF-44D6-A7EC-58C2844E2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646128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c9e00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39052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9a018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19800" y="1027080"/>
            <a:ext cx="39052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9a018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19040" y="3739680"/>
            <a:ext cx="800280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9a01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922A3-BBFD-4426-9C72-750AC1606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646128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c9e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800280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9a018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19040" y="3739680"/>
            <a:ext cx="800280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9a01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281DC-7126-4923-99A8-4780C608E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646128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c9e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39052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9a018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19800" y="1027080"/>
            <a:ext cx="39052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9a018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19040" y="3739680"/>
            <a:ext cx="39052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9a018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19800" y="3739680"/>
            <a:ext cx="39052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9a01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44446-BCFB-4772-9820-048689C24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646128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c9e00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257652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9a018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24800" y="1027080"/>
            <a:ext cx="257652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9a018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30560" y="1027080"/>
            <a:ext cx="257652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9a018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19040" y="3739680"/>
            <a:ext cx="257652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9a018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24800" y="3739680"/>
            <a:ext cx="257652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9a018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30560" y="3739680"/>
            <a:ext cx="257652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9a01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71BEE-EACD-46C1-BE8F-89BBA61B5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23EA83-3180-4083-BB4E-9EBA26E4C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646128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c9e00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19040" y="1027080"/>
            <a:ext cx="8002800" cy="519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9a01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4EDAA6-5E15-40C5-A257-5237397C6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646128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c9e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800280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9a01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046B24-3837-4318-8C61-6F5382CAC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646128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c9e00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390528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9a018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19800" y="1027080"/>
            <a:ext cx="390528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9a01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F640D2-11A9-479B-BFFD-5E493FDC8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646128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c9e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F0DD7B-4525-4AE4-B6B5-397FA72EA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646128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c9e00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800280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9a01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6A447-C06B-4F8D-BD27-2AAB2A286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19040" y="162000"/>
            <a:ext cx="6461280" cy="324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9a01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D49FF6-20CF-4854-AB87-5895E3FE3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646128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c9e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39052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9a018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19800" y="1027080"/>
            <a:ext cx="390528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9a018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19040" y="3739680"/>
            <a:ext cx="39052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9a01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9DC5E8-69F6-4148-B3E2-1B9993476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646128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c9e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390528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9a018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19800" y="1027080"/>
            <a:ext cx="39052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9a018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19800" y="3739680"/>
            <a:ext cx="39052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9a01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BC7E26-8029-43F0-B5DF-9F1203B7F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646128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c9e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39052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9a018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19800" y="1027080"/>
            <a:ext cx="39052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9a018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19040" y="3739680"/>
            <a:ext cx="800280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9a01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3B37FD-85B5-4CCA-849B-0510F7B4F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646128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c9e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800280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9a018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19040" y="3739680"/>
            <a:ext cx="800280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9a01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2E06A5-8BE9-416D-A107-6022CB3A7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646128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c9e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39052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9a018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519800" y="1027080"/>
            <a:ext cx="39052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9a018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19040" y="3739680"/>
            <a:ext cx="39052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9a018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19800" y="3739680"/>
            <a:ext cx="39052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9a01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652815-132F-46C7-B898-510C0AE6B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646128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c9e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257652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9a018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124800" y="1027080"/>
            <a:ext cx="257652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9a018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830560" y="1027080"/>
            <a:ext cx="257652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9a018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19040" y="3739680"/>
            <a:ext cx="257652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9a018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124800" y="3739680"/>
            <a:ext cx="257652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9a018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5830560" y="3739680"/>
            <a:ext cx="257652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9a01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163615-842C-456A-90FE-D35DDBA73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CCB05B-A52E-4537-AB00-AAE7CC312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646128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c9e00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19040" y="1027080"/>
            <a:ext cx="8002800" cy="519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9a01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5FEDB8-BDAB-45BB-8058-C92224E8C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646128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c9e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800280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9a01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B1A02D-FEC9-46E5-BB18-1A95C5A0B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646128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c9e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390528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9a018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19800" y="1027080"/>
            <a:ext cx="390528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9a01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331B1-9705-48C8-8CD8-11691959A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646128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c9e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390528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9a018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519800" y="1027080"/>
            <a:ext cx="390528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9a01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4490F5-2440-4EEC-A9AE-5609A4A01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646128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c9e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4AFA4F-38AE-49D6-85A7-BB72B4F1C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19040" y="162000"/>
            <a:ext cx="6461280" cy="324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9a01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095769-4891-4466-AC53-BCF08A519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646128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c9e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39052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9a018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19800" y="1027080"/>
            <a:ext cx="390528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9a018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19040" y="3739680"/>
            <a:ext cx="39052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9a01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981019-CC2E-4AC6-A91E-1FDA5F91F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646128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c9e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390528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9a018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19800" y="1027080"/>
            <a:ext cx="39052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9a018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19800" y="3739680"/>
            <a:ext cx="39052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9a01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46D5EF-D6D5-4201-9006-9A7ACCB62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646128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c9e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39052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9a018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519800" y="1027080"/>
            <a:ext cx="39052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9a018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19040" y="3739680"/>
            <a:ext cx="800280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9a01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33669C-90EE-4832-8652-921FB19D6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646128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c9e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800280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9a018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19040" y="3739680"/>
            <a:ext cx="800280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9a01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B66CA8-1F1F-47FC-9D3D-6D218CF09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646128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c9e00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39052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9a018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19800" y="1027080"/>
            <a:ext cx="39052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9a018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19040" y="3739680"/>
            <a:ext cx="39052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9a018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19800" y="3739680"/>
            <a:ext cx="39052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9a01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2D8F83-A4AF-4BD3-8DA1-3E9CB4E17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646128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c9e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257652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9a018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124800" y="1027080"/>
            <a:ext cx="257652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9a018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830560" y="1027080"/>
            <a:ext cx="257652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9a018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19040" y="3739680"/>
            <a:ext cx="257652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9a018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124800" y="3739680"/>
            <a:ext cx="257652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9a018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5830560" y="3739680"/>
            <a:ext cx="257652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9a01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CC645E-5325-497B-85CF-B4BDEC8CE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2EB184-4AA5-47FC-91C4-69ED2C11C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646128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c9e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BDBF6-5DE9-4990-8B8C-C69C86302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646128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c9e00"/>
              </a:solidFill>
              <a:latin typeface="Arial Blac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419040" y="1027080"/>
            <a:ext cx="8002800" cy="519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9a01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05F9E5-F771-4A99-9441-591E74C43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646128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c9e00"/>
              </a:solidFill>
              <a:latin typeface="Arial Blac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800280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9a01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162C1A-6CE4-4694-8101-E3B2966DD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646128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c9e00"/>
              </a:solidFill>
              <a:latin typeface="Arial Blac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390528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9a018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519800" y="1027080"/>
            <a:ext cx="390528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9a01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69FD28-D02C-4504-8EDF-0CF1934F0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646128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c9e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BA6999-D326-466A-A2D0-D70E0B842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419040" y="162000"/>
            <a:ext cx="6461280" cy="324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9a01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C46AAF-EE39-467F-932C-71C20270F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646128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c9e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39052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9a018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19800" y="1027080"/>
            <a:ext cx="390528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9a018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19040" y="3739680"/>
            <a:ext cx="39052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9a01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3EA7F5-6359-4409-BB30-6F3D6AE2C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646128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c9e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390528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9a018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19800" y="1027080"/>
            <a:ext cx="39052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9a018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19800" y="3739680"/>
            <a:ext cx="39052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9a01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44FA99-E254-4D86-9C6C-0F82F42DE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646128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c9e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39052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9a018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19800" y="1027080"/>
            <a:ext cx="39052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9a018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19040" y="3739680"/>
            <a:ext cx="800280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9a01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4B7D00-7026-4FD3-A3BE-2A8489E7D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646128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c9e00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800280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9a018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19040" y="3739680"/>
            <a:ext cx="800280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9a01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6039B4-C1E8-4D25-819C-800E59EB4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646128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c9e00"/>
              </a:solidFill>
              <a:latin typeface="Arial Blac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39052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9a018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19800" y="1027080"/>
            <a:ext cx="39052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9a018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19040" y="3739680"/>
            <a:ext cx="39052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9a018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19800" y="3739680"/>
            <a:ext cx="39052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9a01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1353B8-1E7F-4DBD-8C63-00685DC50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19040" y="162000"/>
            <a:ext cx="6461280" cy="324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9a01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EF9A2-F57A-4607-AF14-3E1E87186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646128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c9e00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257652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9a018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124800" y="1027080"/>
            <a:ext cx="257652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9a018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5830560" y="1027080"/>
            <a:ext cx="257652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9a018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19040" y="3739680"/>
            <a:ext cx="257652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9a018"/>
              </a:solidFill>
              <a:latin typeface="Arial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124800" y="3739680"/>
            <a:ext cx="257652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9a018"/>
              </a:solidFill>
              <a:latin typeface="Arial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5830560" y="3739680"/>
            <a:ext cx="257652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9a01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3D9338-AD4D-4085-AF1D-9CC93D8A2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646128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c9e00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39052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9a018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519800" y="1027080"/>
            <a:ext cx="390528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9a018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19040" y="3739680"/>
            <a:ext cx="39052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9a01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242EE-3AB0-4EAB-8AF8-527039CD2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646128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c9e00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390528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9a018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19800" y="1027080"/>
            <a:ext cx="39052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9a018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19800" y="3739680"/>
            <a:ext cx="39052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9a01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4D439-6928-4D40-99B3-53797D75F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646128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c9e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39052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9a018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19800" y="1027080"/>
            <a:ext cx="39052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9a018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19040" y="3739680"/>
            <a:ext cx="800280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9a01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121AD-DD6B-4AAB-A853-37B205DBF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7" name="Picture 9" descr="anabnr2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Rectangle 10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7408C-C8A9-4046-AD92-532422268728}" type="slidenum">
              <a:rPr b="0" lang="zh-CN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图片 6" descr=""/>
          <p:cNvPicPr/>
          <p:nvPr/>
        </p:nvPicPr>
        <p:blipFill>
          <a:blip r:embed="rId2"/>
          <a:srcRect l="0" t="0" r="0" b="113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646128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c9e00"/>
                </a:solidFill>
                <a:latin typeface="Arial Black"/>
              </a:rPr>
              <a:t>Click to edit the title text format</a:t>
            </a:r>
            <a:endParaRPr b="1" lang="en-US" sz="3200" spc="-1" strike="noStrike">
              <a:solidFill>
                <a:srgbClr val="3c9e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C907C-5FA1-495E-BB33-3360A27AA08D}" type="slidenum">
              <a:rPr b="0" lang="zh-CN" sz="1200" spc="-1" strike="noStrike">
                <a:solidFill>
                  <a:srgbClr val="92929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19040" y="1027080"/>
            <a:ext cx="800280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1800"/>
              </a:spcBef>
              <a:buClr>
                <a:srgbClr val="8cd620"/>
              </a:buClr>
              <a:buSzPct val="70000"/>
              <a:buFont typeface="Wingding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9a018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69a018"/>
              </a:solidFill>
              <a:latin typeface="Arial"/>
            </a:endParaRPr>
          </a:p>
          <a:p>
            <a:pPr lvl="1" marL="357120" indent="-357120" algn="just">
              <a:lnSpc>
                <a:spcPct val="110000"/>
              </a:lnSpc>
              <a:spcBef>
                <a:spcPts val="1800"/>
              </a:spcBef>
              <a:buClr>
                <a:srgbClr val="88ff3e"/>
              </a:buClr>
              <a:buFont typeface="幼圆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9a018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69a018"/>
              </a:solidFill>
              <a:latin typeface="Arial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9a018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69a018"/>
              </a:solidFill>
              <a:latin typeface="Arial"/>
            </a:endParaRPr>
          </a:p>
          <a:p>
            <a:pPr lvl="3" marL="16002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9a018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69a018"/>
              </a:solidFill>
              <a:latin typeface="Arial"/>
            </a:endParaRPr>
          </a:p>
          <a:p>
            <a:pPr lvl="4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9a018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69a018"/>
              </a:solidFill>
              <a:latin typeface="Arial"/>
            </a:endParaRPr>
          </a:p>
          <a:p>
            <a:pPr lvl="5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9a018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69a018"/>
              </a:solidFill>
              <a:latin typeface="Arial"/>
            </a:endParaRPr>
          </a:p>
          <a:p>
            <a:pPr lvl="6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9a018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69a01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图片 6" descr=""/>
          <p:cNvPicPr/>
          <p:nvPr/>
        </p:nvPicPr>
        <p:blipFill>
          <a:blip r:embed="rId2"/>
          <a:srcRect l="0" t="0" r="0" b="113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646128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c9e00"/>
                </a:solidFill>
                <a:latin typeface="Arial Black"/>
              </a:rPr>
              <a:t>Click to edit the title text format</a:t>
            </a:r>
            <a:endParaRPr b="1" lang="en-US" sz="3200" spc="-1" strike="noStrike">
              <a:solidFill>
                <a:srgbClr val="3c9e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7989E-E8F1-4E1C-9CED-181D2B0FEAA3}" type="slidenum">
              <a:rPr b="0" lang="zh-CN" sz="1200" spc="-1" strike="noStrike">
                <a:solidFill>
                  <a:srgbClr val="92929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body"/>
          </p:nvPr>
        </p:nvSpPr>
        <p:spPr>
          <a:xfrm>
            <a:off x="419040" y="1027080"/>
            <a:ext cx="800280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1800"/>
              </a:spcBef>
              <a:buClr>
                <a:srgbClr val="8cd620"/>
              </a:buClr>
              <a:buSzPct val="70000"/>
              <a:buFont typeface="Wingding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9a018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69a018"/>
              </a:solidFill>
              <a:latin typeface="Arial"/>
            </a:endParaRPr>
          </a:p>
          <a:p>
            <a:pPr lvl="1" marL="357120" indent="-357120" algn="just">
              <a:lnSpc>
                <a:spcPct val="110000"/>
              </a:lnSpc>
              <a:spcBef>
                <a:spcPts val="1800"/>
              </a:spcBef>
              <a:buClr>
                <a:srgbClr val="88ff3e"/>
              </a:buClr>
              <a:buFont typeface="幼圆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9a018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69a018"/>
              </a:solidFill>
              <a:latin typeface="Arial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9a018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69a018"/>
              </a:solidFill>
              <a:latin typeface="Arial"/>
            </a:endParaRPr>
          </a:p>
          <a:p>
            <a:pPr lvl="3" marL="16002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9a018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69a018"/>
              </a:solidFill>
              <a:latin typeface="Arial"/>
            </a:endParaRPr>
          </a:p>
          <a:p>
            <a:pPr lvl="4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9a018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69a018"/>
              </a:solidFill>
              <a:latin typeface="Arial"/>
            </a:endParaRPr>
          </a:p>
          <a:p>
            <a:pPr lvl="5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9a018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69a018"/>
              </a:solidFill>
              <a:latin typeface="Arial"/>
            </a:endParaRPr>
          </a:p>
          <a:p>
            <a:pPr lvl="6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9a018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69a01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2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32" name="Picture 3" descr="ANABNR2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4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8069A-C77A-4976-9609-2B01B7BF0C57}" type="slidenum"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图片 7" descr=""/>
          <p:cNvPicPr/>
          <p:nvPr/>
        </p:nvPicPr>
        <p:blipFill>
          <a:blip r:embed="rId2"/>
          <a:srcRect l="560" t="168" r="1581" b="190"/>
          <a:stretch/>
        </p:blipFill>
        <p:spPr>
          <a:xfrm>
            <a:off x="0" y="0"/>
            <a:ext cx="9151920" cy="686592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646128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c9e00"/>
                </a:solidFill>
                <a:latin typeface="Arial Black"/>
              </a:rPr>
              <a:t>Click to edit the title text format</a:t>
            </a:r>
            <a:endParaRPr b="1" lang="en-US" sz="3200" spc="-1" strike="noStrike">
              <a:solidFill>
                <a:srgbClr val="3c9e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419040" y="1027080"/>
            <a:ext cx="800280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1800"/>
              </a:spcBef>
              <a:buClr>
                <a:srgbClr val="8cd620"/>
              </a:buClr>
              <a:buSzPct val="70000"/>
              <a:buFont typeface="Wingding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9a018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69a018"/>
              </a:solidFill>
              <a:latin typeface="Arial"/>
            </a:endParaRPr>
          </a:p>
          <a:p>
            <a:pPr lvl="1" marL="357120" indent="-357120" algn="just">
              <a:lnSpc>
                <a:spcPct val="110000"/>
              </a:lnSpc>
              <a:spcBef>
                <a:spcPts val="1800"/>
              </a:spcBef>
              <a:buClr>
                <a:srgbClr val="88ff3e"/>
              </a:buClr>
              <a:buFont typeface="幼圆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9a018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69a018"/>
              </a:solidFill>
              <a:latin typeface="Arial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9a018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69a018"/>
              </a:solidFill>
              <a:latin typeface="Arial"/>
            </a:endParaRPr>
          </a:p>
          <a:p>
            <a:pPr lvl="3" marL="16002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9a018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69a018"/>
              </a:solidFill>
              <a:latin typeface="Arial"/>
            </a:endParaRPr>
          </a:p>
          <a:p>
            <a:pPr lvl="4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9a018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69a018"/>
              </a:solidFill>
              <a:latin typeface="Arial"/>
            </a:endParaRPr>
          </a:p>
          <a:p>
            <a:pPr lvl="5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9a018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69a018"/>
              </a:solidFill>
              <a:latin typeface="Arial"/>
            </a:endParaRPr>
          </a:p>
          <a:p>
            <a:pPr lvl="6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9a018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69a018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E243D-EE0C-4D96-B41E-4B09F859CCC7}" type="slidenum">
              <a:rPr b="0" lang="zh-CN" sz="1200" spc="-1" strike="noStrike">
                <a:solidFill>
                  <a:srgbClr val="92929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Text Box 2"/>
          <p:cNvSpPr/>
          <p:nvPr/>
        </p:nvSpPr>
        <p:spPr>
          <a:xfrm>
            <a:off x="8610480" y="640080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218" name="Picture 3" descr="20-1"/>
          <p:cNvPicPr/>
          <p:nvPr/>
        </p:nvPicPr>
        <p:blipFill>
          <a:blip r:embed="rId1"/>
          <a:stretch/>
        </p:blipFill>
        <p:spPr>
          <a:xfrm>
            <a:off x="1357200" y="214200"/>
            <a:ext cx="3425760" cy="4310280"/>
          </a:xfrm>
          <a:prstGeom prst="rect">
            <a:avLst/>
          </a:prstGeom>
          <a:ln w="0">
            <a:noFill/>
          </a:ln>
        </p:spPr>
      </p:pic>
      <p:sp>
        <p:nvSpPr>
          <p:cNvPr id="219" name="Text Box 4"/>
          <p:cNvSpPr/>
          <p:nvPr/>
        </p:nvSpPr>
        <p:spPr>
          <a:xfrm>
            <a:off x="2567160" y="0"/>
            <a:ext cx="625284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0" spc="-1" strike="noStrike">
                <a:solidFill>
                  <a:srgbClr val="cc0099"/>
                </a:solidFill>
                <a:latin typeface="Times New Roman"/>
                <a:ea typeface="楷体_GB2312"/>
              </a:rPr>
              <a:t>落花生</a:t>
            </a:r>
            <a:endParaRPr b="0" lang="en-US" sz="1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0" name="Text Box 5"/>
          <p:cNvSpPr/>
          <p:nvPr/>
        </p:nvSpPr>
        <p:spPr>
          <a:xfrm>
            <a:off x="5818320" y="2643120"/>
            <a:ext cx="127764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b5249"/>
                </a:solidFill>
                <a:latin typeface="Times New Roman"/>
              </a:rPr>
              <a:t>许地山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1" name="Rectangle 5"/>
          <p:cNvSpPr/>
          <p:nvPr/>
        </p:nvSpPr>
        <p:spPr>
          <a:xfrm>
            <a:off x="428760" y="5000760"/>
            <a:ext cx="807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按事情发展顺序写了种花生、收花生、吃花生、议花生，其中详写议花生。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 Box 2"/>
          <p:cNvSpPr/>
          <p:nvPr/>
        </p:nvSpPr>
        <p:spPr>
          <a:xfrm>
            <a:off x="8610480" y="640080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3" name="Text Box 3"/>
          <p:cNvSpPr/>
          <p:nvPr/>
        </p:nvSpPr>
        <p:spPr>
          <a:xfrm>
            <a:off x="2278080" y="1492200"/>
            <a:ext cx="2149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755640" y="620640"/>
            <a:ext cx="777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b5249"/>
                </a:solidFill>
                <a:latin typeface="Times New Roman"/>
              </a:rPr>
              <a:t>“</a:t>
            </a:r>
            <a:r>
              <a:rPr b="1" lang="zh-CN" sz="3200" spc="-1" strike="noStrike">
                <a:solidFill>
                  <a:srgbClr val="5b5249"/>
                </a:solidFill>
                <a:latin typeface="Times New Roman"/>
              </a:rPr>
              <a:t>它的果实埋在地里，不像桃子、石榴、苹果那样，把鲜红嫩绿的果实高高地挂在枝头上，使人一见就生爱慕之心。你们看它矮矮地长在地上，等到成熟了，也不能立刻分辨出来它有没有果实，必须挖起来才知道。”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225" name="Group 5"/>
          <p:cNvGrpSpPr/>
          <p:nvPr/>
        </p:nvGrpSpPr>
        <p:grpSpPr>
          <a:xfrm>
            <a:off x="2411280" y="3429000"/>
            <a:ext cx="3602160" cy="1739880"/>
            <a:chOff x="2411280" y="3429000"/>
            <a:chExt cx="3602160" cy="1739880"/>
          </a:xfrm>
        </p:grpSpPr>
        <p:sp>
          <p:nvSpPr>
            <p:cNvPr id="226" name="Text Box 6"/>
            <p:cNvSpPr/>
            <p:nvPr/>
          </p:nvSpPr>
          <p:spPr>
            <a:xfrm>
              <a:off x="2626920" y="3429000"/>
              <a:ext cx="144072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3300"/>
                  </a:solidFill>
                  <a:latin typeface="Times New Roman"/>
                </a:rPr>
                <a:t>爱慕    </a:t>
              </a:r>
              <a:endParaRPr b="0" lang="en-US" sz="3600" spc="-1" strike="noStrike">
                <a:solidFill>
                  <a:srgbClr val="5b5249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3300"/>
                  </a:solidFill>
                  <a:latin typeface="Times New Roman"/>
                </a:rPr>
                <a:t>羡慕</a:t>
              </a:r>
              <a:endParaRPr b="0" lang="en-US" sz="36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27" name="Text Box 7"/>
            <p:cNvSpPr/>
            <p:nvPr/>
          </p:nvSpPr>
          <p:spPr>
            <a:xfrm>
              <a:off x="4571280" y="3429000"/>
              <a:ext cx="14421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3300"/>
                  </a:solidFill>
                  <a:latin typeface="Times New Roman"/>
                </a:rPr>
                <a:t>分辨</a:t>
              </a:r>
              <a:endParaRPr b="0" lang="en-US" sz="3600" spc="-1" strike="noStrike">
                <a:solidFill>
                  <a:srgbClr val="5b5249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3300"/>
                  </a:solidFill>
                  <a:latin typeface="Times New Roman"/>
                </a:rPr>
                <a:t>分辩</a:t>
              </a:r>
              <a:endParaRPr b="0" lang="en-US" sz="36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28" name="AutoShape 8"/>
            <p:cNvSpPr/>
            <p:nvPr/>
          </p:nvSpPr>
          <p:spPr>
            <a:xfrm>
              <a:off x="4428360" y="3933720"/>
              <a:ext cx="285840" cy="1006200"/>
            </a:xfrm>
            <a:custGeom>
              <a:avLst/>
              <a:gdLst>
                <a:gd name="textAreaLeft" fmla="*/ 182520 w 285840"/>
                <a:gd name="textAreaRight" fmla="*/ 286200 w 285840"/>
                <a:gd name="textAreaTop" fmla="*/ 25920 h 1006200"/>
                <a:gd name="textAreaBottom" fmla="*/ 980280 h 1006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419"/>
                  </a:lnTo>
                  <a:cubicBezTo>
                    <a:pt x="10800" y="10319"/>
                    <a:pt x="5400" y="11219"/>
                    <a:pt x="0" y="11219"/>
                  </a:cubicBezTo>
                  <a:cubicBezTo>
                    <a:pt x="5400" y="11219"/>
                    <a:pt x="10800" y="12119"/>
                    <a:pt x="10800" y="13019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3f3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29" name="AutoShape 9"/>
            <p:cNvSpPr/>
            <p:nvPr/>
          </p:nvSpPr>
          <p:spPr>
            <a:xfrm>
              <a:off x="2411280" y="3933720"/>
              <a:ext cx="285840" cy="1006200"/>
            </a:xfrm>
            <a:custGeom>
              <a:avLst/>
              <a:gdLst>
                <a:gd name="textAreaLeft" fmla="*/ 182520 w 285840"/>
                <a:gd name="textAreaRight" fmla="*/ 286200 w 285840"/>
                <a:gd name="textAreaTop" fmla="*/ 25920 h 1006200"/>
                <a:gd name="textAreaBottom" fmla="*/ 980280 h 1006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419"/>
                  </a:lnTo>
                  <a:cubicBezTo>
                    <a:pt x="10800" y="10319"/>
                    <a:pt x="5400" y="11219"/>
                    <a:pt x="0" y="11219"/>
                  </a:cubicBezTo>
                  <a:cubicBezTo>
                    <a:pt x="5400" y="11219"/>
                    <a:pt x="10800" y="12119"/>
                    <a:pt x="10800" y="13019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3f3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230" name="Line 6"/>
          <p:cNvSpPr/>
          <p:nvPr/>
        </p:nvSpPr>
        <p:spPr>
          <a:xfrm>
            <a:off x="4778280" y="2133720"/>
            <a:ext cx="100800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1" name="Line 6"/>
          <p:cNvSpPr/>
          <p:nvPr/>
        </p:nvSpPr>
        <p:spPr>
          <a:xfrm>
            <a:off x="1563840" y="3141720"/>
            <a:ext cx="100800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Text Box 2"/>
          <p:cNvSpPr/>
          <p:nvPr/>
        </p:nvSpPr>
        <p:spPr>
          <a:xfrm>
            <a:off x="8610480" y="640080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3" name="Text Box 3"/>
          <p:cNvSpPr/>
          <p:nvPr/>
        </p:nvSpPr>
        <p:spPr>
          <a:xfrm>
            <a:off x="3206880" y="622440"/>
            <a:ext cx="2592360" cy="734400"/>
          </a:xfrm>
          <a:prstGeom prst="rect">
            <a:avLst/>
          </a:prstGeom>
          <a:noFill/>
          <a:ln w="936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爱慕           羡慕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684360" y="1341360"/>
            <a:ext cx="8208720" cy="13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3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5b5249"/>
                </a:solidFill>
                <a:latin typeface="Times New Roman"/>
              </a:rPr>
              <a:t>、小红获得了“红领巾”奖章，大家都很（           ）。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ts val="33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ts val="33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5b5249"/>
                </a:solidFill>
                <a:latin typeface="Times New Roman"/>
              </a:rPr>
              <a:t>、桃子、石榴、苹果把鲜红嫩绿的果实高高地挂在枝头上，使人一见就生（           ）之心。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    </a:t>
            </a:r>
            <a:r>
              <a:rPr b="0" lang="zh-CN" sz="1800" spc="-1" strike="noStrike">
                <a:solidFill>
                  <a:srgbClr val="5b5249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5" name="Text Box 5"/>
          <p:cNvSpPr/>
          <p:nvPr/>
        </p:nvSpPr>
        <p:spPr>
          <a:xfrm>
            <a:off x="2987640" y="3141720"/>
            <a:ext cx="2809800" cy="734400"/>
          </a:xfrm>
          <a:prstGeom prst="rect">
            <a:avLst/>
          </a:prstGeom>
          <a:noFill/>
          <a:ln w="936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分辨            分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6" name="WordArt 6"/>
          <p:cNvSpPr txBox="1"/>
          <p:nvPr/>
        </p:nvSpPr>
        <p:spPr>
          <a:xfrm>
            <a:off x="755640" y="260280"/>
            <a:ext cx="22338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66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75000"/>
                    </a:srgbClr>
                  </a:outerShdw>
                </a:effectLst>
                <a:latin typeface="宋体"/>
              </a:rPr>
              <a:t>选一选</a:t>
            </a:r>
            <a:endParaRPr b="1" lang="en-US" sz="1800" spc="1" strike="noStrike">
              <a:ln w="9360">
                <a:solidFill>
                  <a:srgbClr val="0066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37" name="Text Box 10"/>
          <p:cNvSpPr/>
          <p:nvPr/>
        </p:nvSpPr>
        <p:spPr>
          <a:xfrm>
            <a:off x="612720" y="3789360"/>
            <a:ext cx="8280360" cy="13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3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5b5249"/>
                </a:solidFill>
                <a:latin typeface="Times New Roman"/>
              </a:rPr>
              <a:t>、花生矮矮地长在地上，等到成熟了，也不能立刻（  　　）出来它有没有果实。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ts val="33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ts val="33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5b5249"/>
                </a:solidFill>
                <a:latin typeface="Times New Roman"/>
              </a:rPr>
              <a:t>、小宁说：“花生的果实挂在枝上。”小林（  　　）道：“不对，花生的果实长在地里，所以又叫落花生。” 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  </a:t>
            </a:r>
            <a:r>
              <a:rPr b="0" lang="zh-CN" sz="1800" spc="-1" strike="noStrike">
                <a:solidFill>
                  <a:srgbClr val="5b5249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 spd="med"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Text Box 2"/>
          <p:cNvSpPr/>
          <p:nvPr/>
        </p:nvSpPr>
        <p:spPr>
          <a:xfrm>
            <a:off x="8610480" y="640080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9" name="Rectangle 3"/>
          <p:cNvSpPr/>
          <p:nvPr/>
        </p:nvSpPr>
        <p:spPr>
          <a:xfrm>
            <a:off x="468360" y="1628640"/>
            <a:ext cx="849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5b5249"/>
                </a:solidFill>
                <a:latin typeface="Times New Roman"/>
              </a:rPr>
              <a:t>   “</a:t>
            </a:r>
            <a:r>
              <a:rPr b="1" lang="zh-CN" sz="4400" spc="-1" strike="noStrike">
                <a:solidFill>
                  <a:srgbClr val="5b5249"/>
                </a:solidFill>
                <a:latin typeface="Times New Roman"/>
              </a:rPr>
              <a:t>人要做有用的人，不要做只讲体面，而对别人没有好处的人。”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0" name="Rectangle 4"/>
          <p:cNvSpPr/>
          <p:nvPr/>
        </p:nvSpPr>
        <p:spPr>
          <a:xfrm>
            <a:off x="34920" y="2278080"/>
            <a:ext cx="3457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5b5249"/>
                </a:solidFill>
                <a:latin typeface="Times New Roman"/>
              </a:rPr>
              <a:t>   </a:t>
            </a:r>
            <a:r>
              <a:rPr b="1" lang="zh-CN" sz="4400" spc="-1" strike="noStrike">
                <a:solidFill>
                  <a:srgbClr val="ff3300"/>
                </a:solidFill>
                <a:latin typeface="Times New Roman"/>
              </a:rPr>
              <a:t>体面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1" name="Rectangle 4"/>
          <p:cNvSpPr/>
          <p:nvPr/>
        </p:nvSpPr>
        <p:spPr>
          <a:xfrm>
            <a:off x="2484360" y="3860640"/>
            <a:ext cx="417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</a:rPr>
              <a:t>      </a:t>
            </a:r>
            <a:r>
              <a:rPr b="1" lang="zh-CN" sz="5400" spc="-1" strike="noStrike">
                <a:solidFill>
                  <a:srgbClr val="ff3300"/>
                </a:solidFill>
                <a:latin typeface="Times New Roman"/>
              </a:rPr>
              <a:t>内外兼备</a:t>
            </a:r>
            <a:endParaRPr b="0" lang="en-US" sz="5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2" name="椭圆 5"/>
          <p:cNvSpPr/>
          <p:nvPr/>
        </p:nvSpPr>
        <p:spPr>
          <a:xfrm>
            <a:off x="214200" y="6286680"/>
            <a:ext cx="642960" cy="428400"/>
          </a:xfrm>
          <a:prstGeom prst="ellipse">
            <a:avLst/>
          </a:prstGeom>
          <a:solidFill>
            <a:srgbClr val="8cd620"/>
          </a:solidFill>
          <a:ln w="936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4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Text Box 2"/>
          <p:cNvSpPr/>
          <p:nvPr/>
        </p:nvSpPr>
        <p:spPr>
          <a:xfrm>
            <a:off x="8610480" y="640080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4" name="Text Box 3"/>
          <p:cNvSpPr/>
          <p:nvPr/>
        </p:nvSpPr>
        <p:spPr>
          <a:xfrm>
            <a:off x="971640" y="2205000"/>
            <a:ext cx="763272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5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b5249"/>
                </a:solidFill>
                <a:latin typeface="Times New Roman"/>
              </a:rPr>
              <a:t>父亲</a:t>
            </a:r>
            <a:r>
              <a:rPr b="1" lang="zh-CN" sz="3200" spc="-1" strike="noStrike">
                <a:solidFill>
                  <a:srgbClr val="5b5249"/>
                </a:solidFill>
                <a:latin typeface="Times New Roman"/>
              </a:rPr>
              <a:t>______</a:t>
            </a:r>
            <a:r>
              <a:rPr b="1" lang="zh-CN" sz="3200" spc="-1" strike="noStrike">
                <a:solidFill>
                  <a:srgbClr val="5b5249"/>
                </a:solidFill>
                <a:latin typeface="Times New Roman"/>
              </a:rPr>
              <a:t>地说：“人要做有用的人</a:t>
            </a:r>
            <a:r>
              <a:rPr b="1" lang="zh-CN" sz="3200" spc="-1" strike="noStrike">
                <a:solidFill>
                  <a:srgbClr val="5b5249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5b5249"/>
                </a:solidFill>
                <a:latin typeface="Times New Roman"/>
              </a:rPr>
              <a:t>不要做只讲体面而对别人没有好处的人。”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5" name="Text Box 4"/>
          <p:cNvSpPr/>
          <p:nvPr/>
        </p:nvSpPr>
        <p:spPr>
          <a:xfrm>
            <a:off x="900000" y="3718080"/>
            <a:ext cx="763272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5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b5249"/>
                </a:solidFill>
                <a:latin typeface="Times New Roman"/>
              </a:rPr>
              <a:t>儿子</a:t>
            </a:r>
            <a:r>
              <a:rPr b="1" lang="zh-CN" sz="3200" spc="-1" strike="noStrike">
                <a:solidFill>
                  <a:srgbClr val="5b5249"/>
                </a:solidFill>
                <a:latin typeface="Times New Roman"/>
              </a:rPr>
              <a:t>______</a:t>
            </a:r>
            <a:r>
              <a:rPr b="1" lang="zh-CN" sz="3200" spc="-1" strike="noStrike">
                <a:solidFill>
                  <a:srgbClr val="5b5249"/>
                </a:solidFill>
                <a:latin typeface="Times New Roman"/>
              </a:rPr>
              <a:t>地说：“人要做有用的人</a:t>
            </a:r>
            <a:r>
              <a:rPr b="1" lang="zh-CN" sz="3200" spc="-1" strike="noStrike">
                <a:solidFill>
                  <a:srgbClr val="5b5249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5b5249"/>
                </a:solidFill>
                <a:latin typeface="Times New Roman"/>
              </a:rPr>
              <a:t>不要做只讲体面而对别人没有好处的人。”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6" name="Rectangle 5"/>
          <p:cNvSpPr/>
          <p:nvPr/>
        </p:nvSpPr>
        <p:spPr>
          <a:xfrm>
            <a:off x="7956720" y="4508640"/>
            <a:ext cx="576000" cy="793440"/>
          </a:xfrm>
          <a:prstGeom prst="rect">
            <a:avLst/>
          </a:prstGeom>
          <a:solidFill>
            <a:srgbClr val="ebf1f0"/>
          </a:solidFill>
          <a:ln w="9360">
            <a:solidFill>
              <a:srgbClr val="ebf1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7" name="Rectangle 3"/>
          <p:cNvSpPr/>
          <p:nvPr/>
        </p:nvSpPr>
        <p:spPr>
          <a:xfrm>
            <a:off x="755640" y="404640"/>
            <a:ext cx="784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5b5249"/>
                </a:solidFill>
                <a:latin typeface="Times New Roman"/>
              </a:rPr>
              <a:t>  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 “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人要做有用的人，不要做只讲体面，而对别人没有好处的人。”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6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1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Text Box 2"/>
          <p:cNvSpPr/>
          <p:nvPr/>
        </p:nvSpPr>
        <p:spPr>
          <a:xfrm>
            <a:off x="8610480" y="640080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9" name="Text Box 3"/>
          <p:cNvSpPr/>
          <p:nvPr/>
        </p:nvSpPr>
        <p:spPr>
          <a:xfrm>
            <a:off x="828720" y="1917720"/>
            <a:ext cx="7848720" cy="14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ts val="6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        </a:t>
            </a:r>
            <a:r>
              <a:rPr b="0" lang="zh-CN" sz="4400" spc="-1" strike="noStrike">
                <a:solidFill>
                  <a:srgbClr val="5b5249"/>
                </a:solidFill>
                <a:latin typeface="Times New Roman"/>
              </a:rPr>
              <a:t>我们从文中获得了哪些写作技巧或灵感？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0" name="WordArt 4"/>
          <p:cNvSpPr txBox="1"/>
          <p:nvPr/>
        </p:nvSpPr>
        <p:spPr>
          <a:xfrm>
            <a:off x="179280" y="1125360"/>
            <a:ext cx="2376720" cy="15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宋体"/>
              </a:rPr>
              <a:t>思考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8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Text Box 2"/>
          <p:cNvSpPr/>
          <p:nvPr/>
        </p:nvSpPr>
        <p:spPr>
          <a:xfrm>
            <a:off x="8610480" y="640080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2" name="Rectangle 3"/>
          <p:cNvSpPr/>
          <p:nvPr/>
        </p:nvSpPr>
        <p:spPr>
          <a:xfrm>
            <a:off x="539640" y="1341360"/>
            <a:ext cx="80661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父亲说：“花生的好处很多，有一样最可贵：它的果实埋在地里，不像桃子、石榴、苹果那样，把鲜红嫩绿的果实高高地挂在枝头上，使人一见就生爱慕之心。你们看它矮矮地长在地上，等到成熟了，也不能立刻分辨出来它有没有果实，必须挖起来才知道。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我们都说是，母亲也点点头。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3" name="Line 6"/>
          <p:cNvSpPr/>
          <p:nvPr/>
        </p:nvSpPr>
        <p:spPr>
          <a:xfrm>
            <a:off x="1189080" y="1844640"/>
            <a:ext cx="201600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4" name="Line 6"/>
          <p:cNvSpPr/>
          <p:nvPr/>
        </p:nvSpPr>
        <p:spPr>
          <a:xfrm>
            <a:off x="1333440" y="4653000"/>
            <a:ext cx="2303640" cy="144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5" name="椭圆形标注 5"/>
          <p:cNvSpPr/>
          <p:nvPr/>
        </p:nvSpPr>
        <p:spPr>
          <a:xfrm>
            <a:off x="5857920" y="0"/>
            <a:ext cx="2286000" cy="785880"/>
          </a:xfrm>
          <a:prstGeom prst="wedgeEllipseCallout">
            <a:avLst>
              <a:gd name="adj1" fmla="val -96824"/>
              <a:gd name="adj2" fmla="val 187421"/>
            </a:avLst>
          </a:prstGeom>
          <a:solidFill>
            <a:srgbClr val="8cd620"/>
          </a:solidFill>
          <a:ln w="9360">
            <a:solidFill>
              <a:srgbClr val="3f3f3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借物喻人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7T14:42:48Z</dcterms:created>
  <dc:creator>Administrator</dc:creator>
  <dc:description/>
  <cp:keywords/>
  <dc:language>en-US</dc:language>
  <cp:lastModifiedBy>微软用户</cp:lastModifiedBy>
  <dcterms:modified xsi:type="dcterms:W3CDTF">2018-02-21T12:39:52Z</dcterms:modified>
  <cp:revision>57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