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4.png" ContentType="image/png"/>
  <Override PartName="/ppt/media/image16.jpeg" ContentType="image/jpeg"/>
  <Override PartName="/ppt/media/chimes.wav" ContentType="audio/x-wav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20A-8D51-4FA5-B39A-A19D700D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6095-B6C1-4487-901F-11F25A4C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7D7C-AAC8-411E-A430-D3163D58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EFE-8812-49EB-957B-98C3CBB7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EB33-6651-4C70-87A0-E1BDD19B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5426-5F54-4C3A-A93B-321E2D67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EB38-8E35-4B7F-8AD2-3DBFB951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D220-1DD7-423E-A12F-0735CE21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067-93E8-44EA-A905-55A223F1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2DCD-CCC9-4CA8-B91B-37623EDE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DC70-1AB6-421A-8673-F4AB154E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7D5B-B6DC-4765-8832-2B0941F9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63E5-EB8C-4CF8-8D5A-D6A409D5A0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17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12000"/>
          </a:blip>
          <a:srcRect l="0" t="0" r="0" b="11095"/>
          <a:stretch/>
        </p:blipFill>
        <p:spPr>
          <a:xfrm>
            <a:off x="0" y="0"/>
            <a:ext cx="9468000" cy="7316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92360" y="1773360"/>
            <a:ext cx="5905440" cy="14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7</a:t>
            </a: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、落 花 生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914400" y="1371600"/>
            <a:ext cx="71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分小组细读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3-15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自然段，讨论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685800" y="266688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、我们兄弟姐妹是怎样评论花生的？父亲又是怎样说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、父亲拿什么来与花生进行对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、父亲通过花生告诉了我们什么道理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333360"/>
            <a:ext cx="4535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46800" y="476280"/>
            <a:ext cx="854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628640"/>
            <a:ext cx="2354400" cy="1447920"/>
          </a:xfrm>
          <a:prstGeom prst="wedgeEllipseCallout">
            <a:avLst>
              <a:gd name="adj1" fmla="val 85467"/>
              <a:gd name="adj2" fmla="val 72259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的味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35640" y="0"/>
            <a:ext cx="3492360" cy="1857240"/>
          </a:xfrm>
          <a:prstGeom prst="wedgeEllipseCallout">
            <a:avLst>
              <a:gd name="adj1" fmla="val -44092"/>
              <a:gd name="adj2" fmla="val 40685"/>
            </a:avLst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谁能把花生的好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说出来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幼圆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876920"/>
            <a:ext cx="3200400" cy="1981080"/>
          </a:xfrm>
          <a:prstGeom prst="wedgeEllipseCallout">
            <a:avLst>
              <a:gd name="adj1" fmla="val 60365"/>
              <a:gd name="adj2" fmla="val -10013"/>
            </a:avLst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的价钱便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谁都可以买来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都喜欢吃。这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是它的好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21113400">
            <a:off x="6948000" y="2707920"/>
            <a:ext cx="2057400" cy="1684440"/>
          </a:xfrm>
          <a:prstGeom prst="wedgeEllipseCallout">
            <a:avLst>
              <a:gd name="adj1" fmla="val -82194"/>
              <a:gd name="adj2" fmla="val 25458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可以榨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 flipH="1">
            <a:off x="8100360" y="587700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4000" y="441360"/>
            <a:ext cx="8569080" cy="5943240"/>
          </a:xfrm>
          <a:prstGeom prst="rect">
            <a:avLst/>
          </a:prstGeom>
          <a:solidFill>
            <a:srgbClr val="ffff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花生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好处很多，有一样最可贵：它的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实埋在地里，不像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桃子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石榴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苹果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那样，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鲜红嫩绿的果实高高地挂在枝头，使人一见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生爱慕之心。你们看它矮矮地长在地上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等到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熟了，也不能立刻分辩出它有没有果实，必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挖起来才知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 flipH="1">
            <a:off x="7811280" y="566100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7451640" y="5734080"/>
            <a:ext cx="649440" cy="647640"/>
          </a:xfrm>
          <a:custGeom>
            <a:avLst/>
            <a:gdLst>
              <a:gd name="textAreaLeft" fmla="*/ 81000 w 649440"/>
              <a:gd name="textAreaRight" fmla="*/ 568440 w 6494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7451640" y="5734080"/>
            <a:ext cx="649440" cy="647640"/>
          </a:xfrm>
          <a:custGeom>
            <a:avLst/>
            <a:gdLst>
              <a:gd name="textAreaLeft" fmla="*/ 81000 w 649440"/>
              <a:gd name="textAreaRight" fmla="*/ 568440 w 6494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7451640" y="5734080"/>
            <a:ext cx="649440" cy="647640"/>
          </a:xfrm>
          <a:custGeom>
            <a:avLst/>
            <a:gdLst>
              <a:gd name="textAreaLeft" fmla="*/ 81000 w 649440"/>
              <a:gd name="textAreaRight" fmla="*/ 568440 w 6494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7451640" y="5734080"/>
            <a:ext cx="649440" cy="647640"/>
          </a:xfrm>
          <a:custGeom>
            <a:avLst/>
            <a:gdLst>
              <a:gd name="textAreaLeft" fmla="*/ 81000 w 649440"/>
              <a:gd name="textAreaRight" fmla="*/ 568440 w 6494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79280" y="115920"/>
            <a:ext cx="4343400" cy="3200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3476520"/>
            <a:ext cx="4321440" cy="3265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14165" t="12835" r="11803" b="15354"/>
          <a:stretch/>
        </p:blipFill>
        <p:spPr>
          <a:xfrm>
            <a:off x="4716360" y="115920"/>
            <a:ext cx="4176720" cy="3168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rcRect l="11046" t="43709" r="0" b="3795"/>
          <a:stretch/>
        </p:blipFill>
        <p:spPr>
          <a:xfrm>
            <a:off x="4788000" y="3476520"/>
            <a:ext cx="4066920" cy="324036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rId5" action="ppaction://hlinksldjump"/>
          </p:cNvPr>
          <p:cNvSpPr/>
          <p:nvPr/>
        </p:nvSpPr>
        <p:spPr>
          <a:xfrm flipH="1">
            <a:off x="8171640" y="587700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3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填一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5280" y="1557360"/>
          <a:ext cx="8137440" cy="4530600"/>
        </p:xfrm>
        <a:graphic>
          <a:graphicData uri="http://schemas.openxmlformats.org/drawingml/2006/table">
            <a:tbl>
              <a:tblPr/>
              <a:tblGrid>
                <a:gridCol w="1668240"/>
                <a:gridCol w="2138400"/>
                <a:gridCol w="4330800"/>
              </a:tblGrid>
              <a:tr h="12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花生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桃﹑石榴﹑苹果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位置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外表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印象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95280" y="1341360"/>
          <a:ext cx="8229600" cy="4525560"/>
        </p:xfrm>
        <a:graphic>
          <a:graphicData uri="http://schemas.openxmlformats.org/drawingml/2006/table">
            <a:tbl>
              <a:tblPr/>
              <a:tblGrid>
                <a:gridCol w="1295280"/>
                <a:gridCol w="2971800"/>
                <a:gridCol w="3962520"/>
              </a:tblGrid>
              <a:tr h="108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花生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桃﹑石榴﹑苹果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位置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埋在地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高高地挂在枝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外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矮矮地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鲜红嫩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印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挖起来才知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一见就生爱慕之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>
            <a:hlinkClick r:id="rId1" action="ppaction://hlinksldjump"/>
          </p:cNvPr>
          <p:cNvSpPr/>
          <p:nvPr/>
        </p:nvSpPr>
        <p:spPr>
          <a:xfrm flipH="1">
            <a:off x="8317080" y="5950080"/>
            <a:ext cx="576000" cy="720720"/>
          </a:xfrm>
          <a:custGeom>
            <a:avLst/>
            <a:gdLst>
              <a:gd name="textAreaLeft" fmla="*/ 90000 w 576000"/>
              <a:gd name="textAreaRight" fmla="*/ 504000 w 57600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257800" y="990720"/>
            <a:ext cx="370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幼圆"/>
              </a:rPr>
              <a:t>花生又叫落花生，因为花生的花落了，子房柄就钻到土里长成花生，所以又叫落花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2377" t="3826" r="0" b="0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2" action="ppaction://hlinksldjump"/>
          </p:cNvPr>
          <p:cNvSpPr/>
          <p:nvPr/>
        </p:nvSpPr>
        <p:spPr>
          <a:xfrm flipH="1">
            <a:off x="7811280" y="566100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55640" y="1197000"/>
            <a:ext cx="807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所以你们要像花生，它虽然不好看，可是很有用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4419360" cy="2508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3962160" cy="2508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8172360" y="6210360"/>
            <a:ext cx="649440" cy="647640"/>
          </a:xfrm>
          <a:custGeom>
            <a:avLst/>
            <a:gdLst>
              <a:gd name="textAreaLeft" fmla="*/ 81000 w 649440"/>
              <a:gd name="textAreaRight" fmla="*/ 568440 w 6494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26920" y="1844640"/>
            <a:ext cx="758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人要做有用的人，不要做只讲体面而对别人没有好处的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227640" y="3716280"/>
            <a:ext cx="2073240" cy="2843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H="1">
            <a:off x="8317080" y="5950080"/>
            <a:ext cx="576000" cy="720720"/>
          </a:xfrm>
          <a:custGeom>
            <a:avLst/>
            <a:gdLst>
              <a:gd name="textAreaLeft" fmla="*/ 90000 w 576000"/>
              <a:gd name="textAreaRight" fmla="*/ 504000 w 57600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那一夜我们谈到深夜才散。花生做的食品都吃完了，父亲的话却深深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在我的心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64000" y="3645000"/>
            <a:ext cx="2737080" cy="3058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H="1">
            <a:off x="8100360" y="580536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38080" y="1600200"/>
            <a:ext cx="784872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16400" y="2349360"/>
            <a:ext cx="453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父亲的话却深深地印在我心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父亲的话却深深地记在我心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2637000"/>
            <a:ext cx="144360" cy="1728720"/>
          </a:xfrm>
          <a:custGeom>
            <a:avLst/>
            <a:gdLst>
              <a:gd name="textAreaLeft" fmla="*/ 92160 w 144360"/>
              <a:gd name="textAreaRight" fmla="*/ 144360 w 144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83360" y="3141720"/>
            <a:ext cx="152280" cy="228600"/>
          </a:xfrm>
          <a:prstGeom prst="ellipse">
            <a:avLst/>
          </a:prstGeom>
          <a:solidFill>
            <a:srgbClr val="ff0066"/>
          </a:solidFill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92720" y="4508640"/>
            <a:ext cx="152280" cy="228600"/>
          </a:xfrm>
          <a:prstGeom prst="ellipse">
            <a:avLst/>
          </a:prstGeom>
          <a:solidFill>
            <a:srgbClr val="ff0066"/>
          </a:solidFill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73332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比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4360" y="476280"/>
            <a:ext cx="813564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印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”：牢牢记住终生不忘。</a:t>
            </a:r>
            <a:br>
              <a:rPr sz="4400"/>
            </a:b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记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”：把事物保持在头脑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4724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如：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整齐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”和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非常整齐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40000" y="2924280"/>
            <a:ext cx="44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（程度不一样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8360" y="19162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在我们周围也有许多像落花生一样的人和事，让我们懂得人要做有用的人的深刻道理。您能举出例子来说一说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73332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小练笔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4292640"/>
            <a:ext cx="59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选择身边一种事物写一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如：貌不惊人的铅笔、橡皮，默默无闻的环卫工人，风里来雨里去的邮递员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1515960"/>
            <a:ext cx="7993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小辩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当今的社会你想做一个像桃子、石榴、苹果一样的人呢，还是做一个像花生一样的人呢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622920" y="3789360"/>
            <a:ext cx="2125800" cy="2914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>
            <a:off x="8317080" y="5950080"/>
            <a:ext cx="576000" cy="720720"/>
          </a:xfrm>
          <a:custGeom>
            <a:avLst/>
            <a:gdLst>
              <a:gd name="textAreaLeft" fmla="*/ 90000 w 576000"/>
              <a:gd name="textAreaRight" fmla="*/ 504000 w 57600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95280" y="1894320"/>
            <a:ext cx="828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许地山生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9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―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4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。在抗战中，他积劳成疾，导致心脏病逐渐严重。天不假年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4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下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他心脏病再次复发，英年早逝，年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噩耗传出，第一个送来花圈的是宋庆龄。梅兰芳、叶恭绰、郁达夫、徐悲鸿等许多知名人士送了花圈、挽联。当天，香港学校下半旗，港九钟楼鸣钟致哀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香港文化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个团体近千名代表举行“许地山先生追悼大会”。国内及新加坡等地也都隆重集会，痛悼这位新文学运动的先驱者、爱国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8171640" y="587700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26920" y="1844640"/>
            <a:ext cx="758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人要做有用的人，不要做只讲体面而对别人没有好处的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580000" y="3284640"/>
            <a:ext cx="3168720" cy="3419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flipH="1">
            <a:off x="7811280" y="566100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0859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5076720" y="260280"/>
            <a:ext cx="3670200" cy="2875680"/>
            <a:chOff x="5076720" y="260280"/>
            <a:chExt cx="3670200" cy="287568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076720" y="260280"/>
              <a:ext cx="28292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211600" y="260280"/>
              <a:ext cx="535320" cy="287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形成子房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3809880" y="685800"/>
            <a:ext cx="533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开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57200" y="3048120"/>
            <a:ext cx="3962520" cy="3580560"/>
            <a:chOff x="457200" y="3048120"/>
            <a:chExt cx="3962520" cy="358056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457200" y="3200040"/>
              <a:ext cx="3049560" cy="34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809880" y="3048120"/>
              <a:ext cx="609840" cy="24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子房柄钻入土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076720" y="3213000"/>
            <a:ext cx="3657600" cy="3429000"/>
            <a:chOff x="5076720" y="3213000"/>
            <a:chExt cx="3657600" cy="3429000"/>
          </a:xfrm>
        </p:grpSpPr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5076720" y="3213000"/>
              <a:ext cx="28195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8200800" y="3666960"/>
              <a:ext cx="533520" cy="24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形成果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1197000"/>
            <a:ext cx="849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半亩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mǔ)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开辟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pì)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吩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fēn fù)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茅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榨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zhà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油      石榴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liu)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便宜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pián yi)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爱慕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mù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)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居然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7451640" y="5734080"/>
            <a:ext cx="649440" cy="647640"/>
          </a:xfrm>
          <a:custGeom>
            <a:avLst/>
            <a:gdLst>
              <a:gd name="textAreaLeft" fmla="*/ 81000 w 649440"/>
              <a:gd name="textAreaRight" fmla="*/ 568440 w 6494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00000" y="1197000"/>
            <a:ext cx="73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半亩 开辟 吩咐 榨油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石榴 便宜 品尝 茅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嫩绿 居然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分辨 爱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体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 flipH="1">
            <a:off x="7811280" y="566100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4000" y="2133720"/>
            <a:ext cx="8820000" cy="19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默读课文，想想 课文围绕花生讲了哪些内容，再说说其中哪部分是主要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种花生      （            ）     （            ）     （   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4292640"/>
            <a:ext cx="5032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3959280"/>
            <a:ext cx="14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收花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68720" y="4292640"/>
            <a:ext cx="5032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45080" y="4292640"/>
            <a:ext cx="5032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8000" y="395928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尝花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6000" y="395928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议花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73332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思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习第一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中哪些词语写种花生的经过？这些词语能颠倒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cc3399"/>
                </a:solidFill>
                <a:latin typeface="Arial"/>
              </a:rPr>
              <a:t>买种</a:t>
            </a:r>
            <a:r>
              <a:rPr b="0" lang="zh-CN" sz="3200" spc="-1" strike="noStrike">
                <a:solidFill>
                  <a:srgbClr val="cc3399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cc3399"/>
                </a:solidFill>
                <a:latin typeface="Arial"/>
              </a:rPr>
              <a:t>翻地</a:t>
            </a:r>
            <a:r>
              <a:rPr b="0" lang="zh-CN" sz="3200" spc="-1" strike="noStrike">
                <a:solidFill>
                  <a:srgbClr val="cc3399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cc3399"/>
                </a:solidFill>
                <a:latin typeface="Arial"/>
              </a:rPr>
              <a:t>播种</a:t>
            </a:r>
            <a:r>
              <a:rPr b="0" lang="zh-CN" sz="3200" spc="-1" strike="noStrike">
                <a:solidFill>
                  <a:srgbClr val="cc3399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cc3399"/>
                </a:solidFill>
                <a:latin typeface="Arial"/>
              </a:rPr>
              <a:t>浇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99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cc3399"/>
                </a:solidFill>
                <a:latin typeface="Arial"/>
              </a:rPr>
              <a:t>这些词语是</a:t>
            </a:r>
            <a:r>
              <a:rPr b="0" lang="zh-CN" sz="3200" spc="-1" strike="noStrike" u="sng">
                <a:solidFill>
                  <a:srgbClr val="cc3399"/>
                </a:solidFill>
                <a:uFillTx/>
                <a:latin typeface="Arial"/>
              </a:rPr>
              <a:t>按种花生的顺序排列的</a:t>
            </a:r>
            <a:r>
              <a:rPr b="0" lang="zh-CN" sz="3200" spc="-1" strike="noStrike">
                <a:solidFill>
                  <a:srgbClr val="cc3399"/>
                </a:solidFill>
                <a:latin typeface="Arial"/>
              </a:rPr>
              <a:t>，不  能颠倒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77080" y="5445000"/>
            <a:ext cx="8366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940360" y="2852640"/>
            <a:ext cx="2808360" cy="3851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84360" y="692280"/>
            <a:ext cx="727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们姐弟几个都很高兴，买种，翻地，施肥，浇水，没过几个月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居然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收获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 flipH="1">
            <a:off x="8171640" y="580536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32400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议一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过了几个月，</a:t>
            </a:r>
            <a:r>
              <a:rPr b="1" lang="zh-CN" sz="3600" spc="-1" strike="noStrike" u="sng">
                <a:solidFill>
                  <a:srgbClr val="cc3399"/>
                </a:solidFill>
                <a:uFillTx/>
                <a:latin typeface="Arial"/>
              </a:rPr>
              <a:t>居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收获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居然”是什么意思？写出了什么？在这里起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居然：表示出乎意料；竟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出了种花生的结果，也写出了获得收获时大家出乎意料的高兴心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1:01:34Z</dcterms:created>
  <dc:creator>雨林木风</dc:creator>
  <dc:description/>
  <dc:language>en-US</dc:language>
  <cp:lastModifiedBy>微软中国</cp:lastModifiedBy>
  <dcterms:modified xsi:type="dcterms:W3CDTF">2012-10-24T00:00:30Z</dcterms:modified>
  <cp:revision>40</cp:revision>
  <dc:subject/>
  <dc:title>幻灯片 1</dc:title>
</cp:coreProperties>
</file>