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572-0953-473F-B1A5-0F4847BD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7EA-2972-4F94-B36E-63E38669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0BD-A903-45A5-AAF6-8F79A384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41F-2D2C-4D23-A93C-91BBF025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8E55-99BA-4E9F-B09E-2A4329E0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72C-9705-49FC-BFB4-A433BFA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2BB4-F4A7-4113-8CAE-88E4DC6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CD2-EF94-4614-BB17-4EBA821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371-C664-47B2-97A9-421F0501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5A5-2E77-40C8-834F-12FEB540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5E3-0907-4BE8-9C61-F409DAC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8F2-BB2F-455C-BE7B-1B0BEB0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B6A-683D-412A-BD45-6045FB6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D80-CF9B-4C23-9A01-75043AE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971-12A0-48B8-BC8D-2C3A2C2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2D8-1D57-44DB-87CB-D541952E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1D1-3DA5-4B8A-A011-D3797A1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4AE-E27E-4802-89C7-18551EC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080-3273-4596-8369-DEFD5FF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B95-19E5-48A6-BC41-2FB9AC39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91C-C5C3-4276-875A-59BFF606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F81-CB41-4E07-8196-D55ABAD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EA9-126A-49DD-9DD8-35C1108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310-8E72-456E-80E3-723D2D0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3a89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3a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b3a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eb3a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eb3a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eb3a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203-8635-473E-8923-2AAC1749CC0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3a89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3a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eb3a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eb3a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eb3a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eb3a8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3a8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b3a8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D7D1-8FF8-424C-96A5-D7372C77585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50560" y="260280"/>
            <a:ext cx="4608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3a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b3a89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eb3a89"/>
                </a:solidFill>
                <a:latin typeface="Calibri"/>
              </a:rPr>
              <a:t>白洋淀人民有着光荣的革命斗争传统，在抗日战争和解放战争 中是冀中的一个重要革命根据地。</a:t>
            </a:r>
            <a:r>
              <a:rPr b="0" lang="zh-CN" sz="2400" spc="-1" strike="noStrike">
                <a:solidFill>
                  <a:srgbClr val="eb3a89"/>
                </a:solidFill>
                <a:latin typeface="Calibri"/>
              </a:rPr>
              <a:t>1938</a:t>
            </a:r>
            <a:r>
              <a:rPr b="0" lang="zh-CN" sz="2400" spc="-1" strike="noStrike">
                <a:solidFill>
                  <a:srgbClr val="eb3a89"/>
                </a:solidFill>
                <a:latin typeface="Calibri"/>
              </a:rPr>
              <a:t>年，日寇侵占冀中平原，雁翎队和三小队以广阔的白洋淀为依托，以浓密的芦苇荡为掩护，运用小船行动灵活的特点，用土枪土炮打游击、烧汽船、截物资、杀日伪。涌现了许多可歌可泣的动人故事。 </a:t>
            </a:r>
            <a:endParaRPr b="0" lang="en-US" sz="2400" spc="-1" strike="noStrike">
              <a:solidFill>
                <a:srgbClr val="eb3a89"/>
              </a:solidFill>
              <a:latin typeface="Calibri"/>
            </a:endParaRPr>
          </a:p>
        </p:txBody>
      </p:sp>
      <p:pic>
        <p:nvPicPr>
          <p:cNvPr id="84" name="Picture 4" descr="1940172003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4834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95280" y="4941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晶用身体护火炬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她将火炬藏入怀中，把后背对向暴徒。暴徒打她，拉她的手。她的下巴被抓破了，肩头留下了血印，伤残的右腿也被磕伤，却始终死死护着火炬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685800" y="60948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Arial"/>
                <a:ea typeface="华文新魏"/>
              </a:rPr>
              <a:t>课外作业：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5053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66680" y="17524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把第二天二菱目睹老英雄杀敌时的心理活动补写出来。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22.WAV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5638680" y="4508640"/>
            <a:ext cx="210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33"/>
                </a:solidFill>
                <a:latin typeface="Arial"/>
                <a:ea typeface="华文行楷"/>
              </a:rPr>
              <a:t>孙 犁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8" name="Picture 5" descr="5"/>
          <p:cNvPicPr/>
          <p:nvPr/>
        </p:nvPicPr>
        <p:blipFill>
          <a:blip r:embed="rId3"/>
          <a:stretch/>
        </p:blipFill>
        <p:spPr>
          <a:xfrm>
            <a:off x="3492360" y="1125360"/>
            <a:ext cx="230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if085.gif"/>
          <p:cNvPicPr/>
          <p:nvPr/>
        </p:nvPicPr>
        <p:blipFill>
          <a:blip r:embed="rId1"/>
          <a:stretch/>
        </p:blipFill>
        <p:spPr>
          <a:xfrm>
            <a:off x="0" y="6394320"/>
            <a:ext cx="914400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gif085.gif"/>
          <p:cNvPicPr/>
          <p:nvPr/>
        </p:nvPicPr>
        <p:blipFill>
          <a:blip r:embed="rId2"/>
          <a:stretch/>
        </p:blipFill>
        <p:spPr>
          <a:xfrm>
            <a:off x="0" y="0"/>
            <a:ext cx="9144000" cy="3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gif085.gif"/>
          <p:cNvPicPr/>
          <p:nvPr/>
        </p:nvPicPr>
        <p:blipFill>
          <a:blip r:embed="rId3"/>
          <a:stretch/>
        </p:blipFill>
        <p:spPr>
          <a:xfrm rot="16200000">
            <a:off x="-2863440" y="3196800"/>
            <a:ext cx="604836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if085.gif"/>
          <p:cNvPicPr/>
          <p:nvPr/>
        </p:nvPicPr>
        <p:blipFill>
          <a:blip r:embed="rId4"/>
          <a:stretch/>
        </p:blipFill>
        <p:spPr>
          <a:xfrm rot="16200000">
            <a:off x="5940360" y="3211200"/>
            <a:ext cx="5759280" cy="2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047"/>
          <p:cNvPicPr/>
          <p:nvPr/>
        </p:nvPicPr>
        <p:blipFill>
          <a:blip r:embed="rId5"/>
          <a:stretch/>
        </p:blipFill>
        <p:spPr>
          <a:xfrm>
            <a:off x="395280" y="404640"/>
            <a:ext cx="2016000" cy="278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047"/>
          <p:cNvPicPr/>
          <p:nvPr/>
        </p:nvPicPr>
        <p:blipFill>
          <a:blip r:embed="rId6"/>
          <a:stretch/>
        </p:blipFill>
        <p:spPr>
          <a:xfrm>
            <a:off x="468360" y="306864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047"/>
          <p:cNvPicPr/>
          <p:nvPr/>
        </p:nvPicPr>
        <p:blipFill>
          <a:blip r:embed="rId7"/>
          <a:stretch/>
        </p:blipFill>
        <p:spPr>
          <a:xfrm>
            <a:off x="3276720" y="476280"/>
            <a:ext cx="2808000" cy="266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047"/>
          <p:cNvPicPr/>
          <p:nvPr/>
        </p:nvPicPr>
        <p:blipFill>
          <a:blip r:embed="rId8"/>
          <a:stretch/>
        </p:blipFill>
        <p:spPr>
          <a:xfrm>
            <a:off x="2987640" y="3213000"/>
            <a:ext cx="3095640" cy="24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a047"/>
          <p:cNvPicPr/>
          <p:nvPr/>
        </p:nvPicPr>
        <p:blipFill>
          <a:blip r:embed="rId9"/>
          <a:stretch/>
        </p:blipFill>
        <p:spPr>
          <a:xfrm>
            <a:off x="5867280" y="263700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a047"/>
          <p:cNvPicPr/>
          <p:nvPr/>
        </p:nvPicPr>
        <p:blipFill>
          <a:blip r:embed="rId10"/>
          <a:stretch/>
        </p:blipFill>
        <p:spPr>
          <a:xfrm>
            <a:off x="6372360" y="476280"/>
            <a:ext cx="2160360" cy="2232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684360" y="1628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Wingdings"/>
                <a:ea typeface="Wingdings"/>
              </a:rPr>
              <a:t>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小说三要素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1619280" y="2276640"/>
            <a:ext cx="4095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人物、故事情节、环境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14"/>
          <p:cNvSpPr txBox="1"/>
          <p:nvPr/>
        </p:nvSpPr>
        <p:spPr>
          <a:xfrm>
            <a:off x="971640" y="333360"/>
            <a:ext cx="525600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ff33cc"/>
                </a:solidFill>
                <a:latin typeface="宋体"/>
              </a:rPr>
              <a:t>方法指引</a:t>
            </a:r>
            <a:endParaRPr b="1" lang="en-US" sz="1800" spc="1" strike="noStrike">
              <a:ln w="9360">
                <a:solidFill>
                  <a:srgbClr val="4f81bd"/>
                </a:solidFill>
                <a:miter/>
              </a:ln>
              <a:solidFill>
                <a:srgbClr val="ff33cc"/>
              </a:solidFill>
              <a:latin typeface="宋体"/>
              <a:ea typeface="宋体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68360" y="321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人物描写的方法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宋体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067280" y="342900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外貌描写、动作描写、语言描写、心理描写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14130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1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概述故事情节感知人物形象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2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认识到英雄的中国人民是不可战胜的，培养爱国主义情感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1280" y="260280"/>
            <a:ext cx="56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411280" y="2924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2195640" y="549360"/>
            <a:ext cx="4105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标导航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ifmb034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403280" y="2205000"/>
            <a:ext cx="705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扫除字词障碍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课文都写了哪些人物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3 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本文讲了一个什么故事？试用几句话进行概括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763640" y="692280"/>
            <a:ext cx="52563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朗读课文 感知情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9280" y="228600"/>
            <a:ext cx="4392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准字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39640" y="1916280"/>
            <a:ext cx="860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竹篙             疟子            寒噤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仄歪            提防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zh</a:t>
            </a:r>
            <a:r>
              <a:rPr b="0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ú</a:t>
            </a: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 gā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19640" y="1413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à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  <a:ea typeface="宋体"/>
              </a:rPr>
              <a:t>o zi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300720" y="148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h</a:t>
            </a:r>
            <a:r>
              <a:rPr b="0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á</a:t>
            </a: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n j</a:t>
            </a:r>
            <a:r>
              <a:rPr b="0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ì</a:t>
            </a: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68360" y="371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cuā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8360" y="37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z</a:t>
            </a:r>
            <a:r>
              <a:rPr b="0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è</a:t>
            </a: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 wāi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9" name="Picture 9" descr="fp110"/>
          <p:cNvPicPr/>
          <p:nvPr/>
        </p:nvPicPr>
        <p:blipFill>
          <a:blip r:embed="rId1"/>
          <a:stretch/>
        </p:blipFill>
        <p:spPr>
          <a:xfrm>
            <a:off x="5651640" y="0"/>
            <a:ext cx="3416040" cy="1219320"/>
          </a:xfrm>
          <a:prstGeom prst="rect">
            <a:avLst/>
          </a:prstGeom>
          <a:ln w="0">
            <a:noFill/>
          </a:ln>
          <a:effectLst>
            <a:outerShdw dist="89808" dir="483908" blurRad="0" rotWithShape="0">
              <a:srgbClr val="800000">
                <a:alpha val="50000"/>
              </a:srgbClr>
            </a:outerShdw>
          </a:effectLst>
        </p:spPr>
      </p:pic>
      <p:sp>
        <p:nvSpPr>
          <p:cNvPr id="120" name="Rectangle 10"/>
          <p:cNvSpPr/>
          <p:nvPr/>
        </p:nvSpPr>
        <p:spPr>
          <a:xfrm>
            <a:off x="6516720" y="364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504d"/>
                </a:solidFill>
                <a:latin typeface="Tahoma"/>
                <a:ea typeface="宋体"/>
              </a:rPr>
              <a:t>dī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QQ截图未命名12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164360" y="98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老头子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227640" y="2276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两姐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35640" y="407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鬼子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32000" y="5013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主人公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3492360" y="5373720"/>
            <a:ext cx="4392720" cy="71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7812000" y="1557000"/>
            <a:ext cx="0" cy="381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4360" y="1341360"/>
            <a:ext cx="81547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9" name="Picture 3" descr="1"/>
          <p:cNvPicPr/>
          <p:nvPr/>
        </p:nvPicPr>
        <p:blipFill>
          <a:blip r:embed="rId1"/>
          <a:stretch/>
        </p:blipFill>
        <p:spPr>
          <a:xfrm>
            <a:off x="0" y="2637000"/>
            <a:ext cx="4067280" cy="4221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39640" y="148428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请找出文中对老头子的外貌描写、语言描写、动作描写及心理描写的相关语句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4360" y="333360"/>
            <a:ext cx="6335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读赏析 合作探讨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572000" y="32004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这些描写中，你可归纳出头子怎样的性格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27640" y="4292640"/>
            <a:ext cx="374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高涨的抗日爱国热情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过于自信和自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爱憎分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智勇双全的英雄行为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4211640" y="4292640"/>
            <a:ext cx="71280" cy="180036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040200" y="-19080"/>
            <a:ext cx="183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40200" y="122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1835280" y="1557360"/>
            <a:ext cx="568944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看英雄 写感受</a:t>
            </a:r>
            <a:endParaRPr b="1" lang="en-US" sz="1800" spc="1" strike="noStrike">
              <a:ln w="9360">
                <a:solidFill>
                  <a:srgbClr val="4f81bd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6:22:35Z</dcterms:modified>
  <cp:revision>1</cp:revision>
  <dc:subject/>
  <dc:title>PowerPoint 演示文稿</dc:title>
</cp:coreProperties>
</file>