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F0F-BE9B-4259-B899-6BCB63E1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897-A553-42E9-9688-3EB779B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318-4250-4D01-B8D0-DF16C8A6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116-260F-44A9-871B-56550CE4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83D-EC90-4804-82CC-6DA9F08B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F18-B1A3-472D-8C4F-CDF0FA3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5E2-0389-44EB-83BC-D7EFD299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DA2-BAE5-4C87-B8C6-20F2A682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B20-FF9D-4F18-BC46-CC199A8E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298-32E5-4A73-9892-DE6F64E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D05-B46B-40D3-89C3-656F47B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4A8-7AB8-42E9-9C0F-2FACCAF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545-72BE-4113-9F84-8E0402E98F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" Target="slide4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3240"/>
          <a:ext cx="9144000" cy="686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24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49400"/>
            <a:ext cx="9448920" cy="700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4600" y="1600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64720" y="91440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祸患常积于忽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微指左公处，则席地倚墙而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数骑出，微行入古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微斯人，吾谁与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60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000" y="3276720"/>
            <a:ext cx="765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尔其无忘乃父之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至于誓天断发，泣下沾襟，何其衰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其意气之盛，可谓壮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圣人之所以为圣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愚人之所以为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其皆出于此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2193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7339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66960" y="83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微小的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66200" y="1371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悄悄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57840" y="182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为隐藏身份而改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57480" y="2362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如果没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3880" y="3276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副词，应当，一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31200" y="373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语气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3640" y="4267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代词，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7840" y="5257800"/>
            <a:ext cx="23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大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揣测语气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2485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9240" y="2362320"/>
            <a:ext cx="295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函梁君臣之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一夫夜呼，乱者四应，仓皇东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忧劳可以兴国，逸豫可以亡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祸患常积于忽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51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行书体"/>
              </a:rPr>
              <a:t>判断词类活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4764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00280" y="32004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夜、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00280" y="4572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兴、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0040" y="2666880"/>
            <a:ext cx="5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5840" y="3581280"/>
            <a:ext cx="5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20800" y="3581280"/>
            <a:ext cx="5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7600" y="4800600"/>
            <a:ext cx="5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6240" y="4876920"/>
            <a:ext cx="5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00080" y="34290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960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12400" y="556272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·  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5640" y="5334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忽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83760" y="23623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名词活用为动词，装在盒子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72280" y="320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名词作状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89880" y="373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数词作状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50320" y="45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动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73200" y="5334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形容词用作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324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228600"/>
            <a:ext cx="77724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方正行楷简体"/>
              </a:rPr>
              <a:t>判断句子的句式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、此   三   者，吾  遗  恨  也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、盛      以   锦   囊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、系   燕  王  父  子  以  组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、身   死  国   灭，  为   天  下  笑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、智   勇  多   困   于   所    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、遣   从   事  以    一  少   牢   告      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、燕   王，吾   所  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介词短语后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被      动      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判      断      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省      略      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2960" y="464832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  C 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2600" y="5181480"/>
            <a:ext cx="8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 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22600" y="56386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 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2600" y="6095880"/>
            <a:ext cx="9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 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6080" y="21337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676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    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1160" y="2971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73760" y="160020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0" i="1" lang="en-US" sz="2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64880" y="33526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0" i="1" lang="en-US" sz="2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7280" y="16765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6019920"/>
            <a:ext cx="533520" cy="457200"/>
          </a:xfrm>
          <a:prstGeom prst="leftArrow">
            <a:avLst>
              <a:gd name="adj1" fmla="val 50000"/>
              <a:gd name="adj2" fmla="val 291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492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翻译下列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岂得之难而守之易欤？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抑本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其成败之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而皆自于人欤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夫祸患常积于忽微，而智勇多困于所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岂独伶人也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38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难道是得天下难而失天下容易吗？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或者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说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考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成功与失败的迹象，都是由于人为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76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生的祸患常常在极细微的事情上累积而成，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勇的人往往被他溺爱的事物所困扰，难道只是（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）伶人才如此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51280" y="4419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86040" y="4191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文鼎粗魏碑简"/>
              </a:rPr>
              <a:t>满招损，谦受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2200" y="5029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文鼎粗魏碑简"/>
              </a:rPr>
              <a:t>忧劳可以兴国，逸豫可以亡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8600" y="5943600"/>
            <a:ext cx="39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文鼎粗魏碑简"/>
              </a:rPr>
              <a:t>祸患常积于忽微，智勇多困于所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4197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092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论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360" y="14479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文鼎CS行楷"/>
              </a:rPr>
              <a:t>盛衰之理，虽曰天命，岂非人事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1040" y="2201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论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895480"/>
            <a:ext cx="963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文鼎CS行楷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文鼎CS行楷"/>
              </a:rPr>
              <a:t>主要是叙述庄宗接受父命、报仇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文鼎CS行楷"/>
              </a:rPr>
              <a:t>耻，后来由胜转败、由盛转衰的事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543800" y="2209680"/>
            <a:ext cx="890640" cy="509760"/>
          </a:xfrm>
          <a:custGeom>
            <a:avLst/>
            <a:gdLst>
              <a:gd name="textAreaLeft" fmla="*/ 32760 w 890640"/>
              <a:gd name="textAreaRight" fmla="*/ 857880 w 89064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7728" h="21600">
                <a:moveTo>
                  <a:pt x="0" y="0"/>
                </a:moveTo>
                <a:lnTo>
                  <a:pt x="37728" y="0"/>
                </a:lnTo>
                <a:lnTo>
                  <a:pt x="37728" y="21600"/>
                </a:lnTo>
                <a:lnTo>
                  <a:pt x="0" y="21600"/>
                </a:lnTo>
                <a:close/>
              </a:path>
              <a:path fill="lightenLess" w="37728" h="21600">
                <a:moveTo>
                  <a:pt x="0" y="0"/>
                </a:moveTo>
                <a:lnTo>
                  <a:pt x="37728" y="0"/>
                </a:lnTo>
                <a:lnTo>
                  <a:pt x="36328" y="1400"/>
                </a:lnTo>
                <a:lnTo>
                  <a:pt x="1400" y="1400"/>
                </a:lnTo>
                <a:close/>
              </a:path>
              <a:path fill="darken" w="37728" h="21600">
                <a:moveTo>
                  <a:pt x="37728" y="0"/>
                </a:moveTo>
                <a:lnTo>
                  <a:pt x="37728" y="21600"/>
                </a:lnTo>
                <a:lnTo>
                  <a:pt x="36328" y="20200"/>
                </a:lnTo>
                <a:lnTo>
                  <a:pt x="36328" y="1400"/>
                </a:lnTo>
                <a:close/>
              </a:path>
              <a:path fill="darkenLess" w="37728" h="21600">
                <a:moveTo>
                  <a:pt x="37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28" y="20200"/>
                </a:lnTo>
                <a:close/>
              </a:path>
              <a:path fill="lighten" w="37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28" h="21600">
                <a:moveTo>
                  <a:pt x="11857" y="3794"/>
                </a:moveTo>
                <a:lnTo>
                  <a:pt x="25870" y="10800"/>
                </a:lnTo>
                <a:lnTo>
                  <a:pt x="1185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5257800"/>
            <a:ext cx="509760" cy="357120"/>
          </a:xfrm>
          <a:custGeom>
            <a:avLst/>
            <a:gdLst>
              <a:gd name="textAreaLeft" fmla="*/ 23040 w 509760"/>
              <a:gd name="textAreaRight" fmla="*/ 486720 w 509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823" h="21600">
                <a:moveTo>
                  <a:pt x="0" y="0"/>
                </a:moveTo>
                <a:lnTo>
                  <a:pt x="30823" y="0"/>
                </a:lnTo>
                <a:lnTo>
                  <a:pt x="30823" y="21600"/>
                </a:lnTo>
                <a:lnTo>
                  <a:pt x="0" y="21600"/>
                </a:lnTo>
                <a:close/>
              </a:path>
              <a:path fill="lightenLess" w="30823" h="21600">
                <a:moveTo>
                  <a:pt x="0" y="0"/>
                </a:moveTo>
                <a:lnTo>
                  <a:pt x="30823" y="0"/>
                </a:lnTo>
                <a:lnTo>
                  <a:pt x="29423" y="1400"/>
                </a:lnTo>
                <a:lnTo>
                  <a:pt x="1400" y="1400"/>
                </a:lnTo>
                <a:close/>
              </a:path>
              <a:path fill="darken" w="30823" h="21600">
                <a:moveTo>
                  <a:pt x="30823" y="0"/>
                </a:moveTo>
                <a:lnTo>
                  <a:pt x="30823" y="21600"/>
                </a:lnTo>
                <a:lnTo>
                  <a:pt x="29423" y="20200"/>
                </a:lnTo>
                <a:lnTo>
                  <a:pt x="29423" y="1400"/>
                </a:lnTo>
                <a:close/>
              </a:path>
              <a:path fill="darkenLess" w="30823" h="21600">
                <a:moveTo>
                  <a:pt x="30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23" y="20200"/>
                </a:lnTo>
                <a:close/>
              </a:path>
              <a:path fill="lighten" w="30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23" h="21600">
                <a:moveTo>
                  <a:pt x="8405" y="3794"/>
                </a:moveTo>
                <a:lnTo>
                  <a:pt x="22418" y="10800"/>
                </a:lnTo>
                <a:lnTo>
                  <a:pt x="8405" y="17806"/>
                </a:lnTo>
                <a:close/>
              </a:path>
            </a:pathLst>
          </a:cu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35800" y="38088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盛衰之理   岂非人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71600" y="1219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（庄宗得失可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038480" y="456840"/>
            <a:ext cx="609840" cy="3200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7"/>
                </a:lnTo>
                <a:cubicBezTo>
                  <a:pt x="10800" y="9547"/>
                  <a:pt x="5400" y="10447"/>
                  <a:pt x="0" y="10447"/>
                </a:cubicBezTo>
                <a:cubicBezTo>
                  <a:pt x="5400" y="10447"/>
                  <a:pt x="10800" y="11347"/>
                  <a:pt x="10800" y="1224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51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5568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恪守父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56080" y="2286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仇雠已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895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noFill/>
          <a:ln w="9360">
            <a:solidFill>
              <a:srgbClr val="751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8195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noFill/>
          <a:ln w="9360">
            <a:solidFill>
              <a:srgbClr val="751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8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55680" y="3276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意气之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32400" y="3276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何其衰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2666520" y="3962160"/>
            <a:ext cx="3505320" cy="6858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noFill/>
          <a:ln w="9360">
            <a:solidFill>
              <a:srgbClr val="751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0800" y="3962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得之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9404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守之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32200" y="464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成败皆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3429000"/>
            <a:ext cx="976320" cy="257040"/>
          </a:xfrm>
          <a:custGeom>
            <a:avLst/>
            <a:gdLst>
              <a:gd name="textAreaLeft" fmla="*/ 122040 w 976320"/>
              <a:gd name="textAreaRight" fmla="*/ 854280 w 97632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751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152600" y="5448240"/>
            <a:ext cx="609480" cy="228600"/>
          </a:xfrm>
          <a:custGeom>
            <a:avLst/>
            <a:gdLst>
              <a:gd name="textAreaLeft" fmla="*/ 0 w 609480"/>
              <a:gd name="textAreaRight" fmla="*/ 609840 w 6094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28600" y="561492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谦得益           满招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077320" y="5943600"/>
            <a:ext cx="662040" cy="433440"/>
          </a:xfrm>
          <a:custGeom>
            <a:avLst/>
            <a:gdLst>
              <a:gd name="textAreaLeft" fmla="*/ 28080 w 662040"/>
              <a:gd name="textAreaRight" fmla="*/ 633960 w 6620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983" h="21600">
                <a:moveTo>
                  <a:pt x="0" y="0"/>
                </a:moveTo>
                <a:lnTo>
                  <a:pt x="32983" y="0"/>
                </a:lnTo>
                <a:lnTo>
                  <a:pt x="32983" y="21600"/>
                </a:lnTo>
                <a:lnTo>
                  <a:pt x="0" y="21600"/>
                </a:lnTo>
                <a:close/>
              </a:path>
              <a:path fill="lightenLess" w="32983" h="21600">
                <a:moveTo>
                  <a:pt x="0" y="0"/>
                </a:moveTo>
                <a:lnTo>
                  <a:pt x="32983" y="0"/>
                </a:lnTo>
                <a:lnTo>
                  <a:pt x="31583" y="1400"/>
                </a:lnTo>
                <a:lnTo>
                  <a:pt x="1400" y="1400"/>
                </a:lnTo>
                <a:close/>
              </a:path>
              <a:path fill="darken" w="32983" h="21600">
                <a:moveTo>
                  <a:pt x="32983" y="0"/>
                </a:moveTo>
                <a:lnTo>
                  <a:pt x="32983" y="21600"/>
                </a:lnTo>
                <a:lnTo>
                  <a:pt x="31583" y="20200"/>
                </a:lnTo>
                <a:lnTo>
                  <a:pt x="31583" y="1400"/>
                </a:lnTo>
                <a:close/>
              </a:path>
              <a:path fill="darkenLess" w="32983" h="21600">
                <a:moveTo>
                  <a:pt x="32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83" y="20200"/>
                </a:lnTo>
                <a:close/>
              </a:path>
              <a:path fill="lighten" w="32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83" h="21600">
                <a:moveTo>
                  <a:pt x="9485" y="10800"/>
                </a:moveTo>
                <a:lnTo>
                  <a:pt x="23498" y="3794"/>
                </a:lnTo>
                <a:lnTo>
                  <a:pt x="23498" y="17806"/>
                </a:lnTo>
                <a:close/>
              </a:path>
            </a:pathLst>
          </a:cu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304920"/>
            <a:ext cx="4876560" cy="91440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572000"/>
            <a:ext cx="2286000" cy="68580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886200"/>
            <a:ext cx="1447560" cy="68580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809880"/>
            <a:ext cx="1523880" cy="68580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9120" y="10666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把握作者的写作意图</a:t>
            </a:r>
            <a:r>
              <a:rPr b="0" lang="zh-CN" sz="40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2096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创艺简魏碑"/>
              </a:rPr>
              <a:t>         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创艺简魏碑"/>
              </a:rPr>
              <a:t>欧阳修写《伶官传》并 冠 以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创艺简魏碑"/>
              </a:rPr>
              <a:t>序，目的是评述伶官受宠幸而乱政的史实，借事论理，讽谏当时北宋王朝的执政者；通过总结历史教训，也表达了作者忧国忧民的情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122400" y="0"/>
            <a:ext cx="92664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08680" y="1058760"/>
            <a:ext cx="188748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小结本节课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3048120"/>
            <a:ext cx="4953240" cy="1739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掌握课文中的关键字词及特殊文言句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完成课后练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428480" cy="123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42884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362320"/>
            <a:ext cx="1428480" cy="123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010280" y="609480"/>
            <a:ext cx="1428840" cy="123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257800" y="304920"/>
            <a:ext cx="1428840" cy="1234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438280" y="304920"/>
            <a:ext cx="1428840" cy="123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57200" y="5257800"/>
            <a:ext cx="142884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581280"/>
            <a:ext cx="1428840" cy="123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1428480" cy="123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533520" y="533520"/>
            <a:ext cx="1428480" cy="123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304920"/>
            <a:ext cx="7620120" cy="83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华文琥珀"/>
                <a:ea typeface="华文琥珀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一、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1" action="ppaction://hlinksldjump"/>
              </a:rPr>
              <a:t>回忆作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2" action="ppaction://hlinksldjump"/>
              </a:rPr>
              <a:t>掌握文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3" action="ppaction://hlinksldjump"/>
              </a:rPr>
              <a:t>了解写作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二、朗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三、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4" action="ppaction://hlinksldjump"/>
              </a:rPr>
              <a:t>疏通字词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四、把握基本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56560" y="26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6172200"/>
            <a:ext cx="662040" cy="357120"/>
          </a:xfrm>
          <a:custGeom>
            <a:avLst/>
            <a:gdLst>
              <a:gd name="textAreaLeft" fmla="*/ 23040 w 662040"/>
              <a:gd name="textAreaRight" fmla="*/ 639000 w 662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0024" h="21600">
                <a:moveTo>
                  <a:pt x="0" y="0"/>
                </a:moveTo>
                <a:lnTo>
                  <a:pt x="40024" y="0"/>
                </a:lnTo>
                <a:lnTo>
                  <a:pt x="40024" y="21600"/>
                </a:lnTo>
                <a:lnTo>
                  <a:pt x="0" y="21600"/>
                </a:lnTo>
                <a:close/>
              </a:path>
              <a:path fill="lightenLess" w="40024" h="21600">
                <a:moveTo>
                  <a:pt x="0" y="0"/>
                </a:moveTo>
                <a:lnTo>
                  <a:pt x="40024" y="0"/>
                </a:lnTo>
                <a:lnTo>
                  <a:pt x="38624" y="1400"/>
                </a:lnTo>
                <a:lnTo>
                  <a:pt x="1400" y="1400"/>
                </a:lnTo>
                <a:close/>
              </a:path>
              <a:path fill="darken" w="40024" h="21600">
                <a:moveTo>
                  <a:pt x="40024" y="0"/>
                </a:moveTo>
                <a:lnTo>
                  <a:pt x="40024" y="21600"/>
                </a:lnTo>
                <a:lnTo>
                  <a:pt x="38624" y="20200"/>
                </a:lnTo>
                <a:lnTo>
                  <a:pt x="38624" y="1400"/>
                </a:lnTo>
                <a:close/>
              </a:path>
              <a:path fill="darkenLess" w="40024" h="21600">
                <a:moveTo>
                  <a:pt x="4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24" y="20200"/>
                </a:lnTo>
                <a:close/>
              </a:path>
              <a:path fill="lighten" w="4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24" h="21600">
                <a:moveTo>
                  <a:pt x="13006" y="3794"/>
                </a:moveTo>
                <a:lnTo>
                  <a:pt x="27019" y="10800"/>
                </a:lnTo>
                <a:lnTo>
                  <a:pt x="13006" y="17806"/>
                </a:lnTo>
                <a:close/>
              </a:path>
            </a:pathLst>
          </a:cu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68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8288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1e03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751e03"/>
                </a:solidFill>
                <a:latin typeface="隶书"/>
                <a:ea typeface="隶书"/>
              </a:rPr>
              <a:t>欧阳修（</a:t>
            </a:r>
            <a:r>
              <a:rPr b="0" lang="zh-CN" sz="2800" spc="-1" strike="noStrike">
                <a:solidFill>
                  <a:srgbClr val="751e03"/>
                </a:solidFill>
                <a:latin typeface="隶书"/>
                <a:ea typeface="隶书"/>
              </a:rPr>
              <a:t>1007—1072</a:t>
            </a:r>
            <a:r>
              <a:rPr b="0" lang="zh-CN" sz="2800" spc="-1" strike="noStrike">
                <a:solidFill>
                  <a:srgbClr val="751e03"/>
                </a:solidFill>
                <a:latin typeface="隶书"/>
                <a:ea typeface="隶书"/>
              </a:rPr>
              <a:t>）字永叔，号醉翁、六一居士，谥号文忠，北宋文坛公认的领袖，诗文革新运动的倡导者，“唐宋八大家”之一，吉水（现在江西吉水）人。幼年丧父，出身寒微，由母亲亲自教学，因家贫，不具纸笔，用荻画地作书。历史上，他既是著名文学家，又是史学家、金石学家。与宋祁等合写了《新唐书》，又自撰了《新五代史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11430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</a:t>
            </a:r>
            <a:r>
              <a:rPr b="0" lang="zh-CN" sz="3200" spc="-1" strike="noStrike">
                <a:solidFill>
                  <a:srgbClr val="751e03"/>
                </a:solidFill>
                <a:latin typeface="Arial"/>
                <a:ea typeface="华文新魏"/>
              </a:rPr>
              <a:t>六一居士初谪滁山，自号醉翁。既老而衰且病，将退休于颍水之上，则又更号六一居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751e03"/>
                </a:solidFill>
                <a:latin typeface="Arial"/>
                <a:ea typeface="华文新魏"/>
              </a:rPr>
              <a:t>客有问曰：“六一，何谓也？”居士曰：“吾家藏书一万卷，集录三代以来金石遗文一千卷，有琴一张，有棋一局，而常置酒一壶。”客曰：“是为五一尔，奈何？”居士曰：“以吾一翁，老于此五物之间，是岂不为六一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14840" y="5048280"/>
            <a:ext cx="20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51e03"/>
                </a:solidFill>
                <a:latin typeface="Times New Roman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751e03"/>
                </a:solidFill>
                <a:latin typeface="Times New Roman"/>
                <a:ea typeface="华文行楷"/>
              </a:rPr>
              <a:t>欧阳修《六一居士传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24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79440" y="-36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55360" y="685800"/>
            <a:ext cx="13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Times New Roman"/>
                <a:ea typeface="华文琥珀"/>
              </a:rPr>
              <a:t>“</a:t>
            </a:r>
            <a:r>
              <a:rPr b="0" lang="zh-CN" sz="6000" spc="-1" strike="noStrike">
                <a:solidFill>
                  <a:srgbClr val="cc0066"/>
                </a:solidFill>
                <a:latin typeface="Times New Roman"/>
                <a:ea typeface="华文琥珀"/>
              </a:rPr>
              <a:t>序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057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华文新魏"/>
                <a:ea typeface="华文新魏"/>
              </a:rPr>
              <a:t>          </a:t>
            </a:r>
            <a:r>
              <a:rPr b="0" lang="zh-CN" sz="4000" spc="-1" strike="noStrike">
                <a:solidFill>
                  <a:srgbClr val="ff3399"/>
                </a:solidFill>
                <a:latin typeface="华文新魏"/>
                <a:ea typeface="华文新魏"/>
              </a:rPr>
              <a:t>序作为一种文体，相当于今天某些文章的“前言”或者编者的“按语”，它的内容或是提纲契领地评价该书内容，或者叙述著书作文的缘由，以便有助于读者理解下面有关书或文的内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91880" y="1108080"/>
            <a:ext cx="96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幻灯片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51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五代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907--960),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指唐宋之间的五个朝 代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即后梁、后唐、后晋、后汉、后周，是我国历史上的动荡时期。在这短短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53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年间，先后换了四姓十四个国君，篡位、弑君现象屡见不鲜，战乱频繁，后唐庄宗就是被杀的一个。后唐庄宗李存勖称帝后，迷 恋伶人，“常身与俳优（杂耍艺人）杂戏于庭，伶人由此用事”，于是被败政乱国的伶官景进、史 彦琼、郭从谦等人所惑。后叛乱四起，拥有重兵的伶官拒不发兵，而庄宗亲征又告败北，众叛亲离之期，伶官又乘危作乱，用乱箭射死了庄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1430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100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多年后，欧阳修就此事发表了自己的感慨，写成了《新五代史•伶官传》。《伶官传》中，作者对为庄宗所宠幸并为非作歹、败国乱政的景进、史彦琼、郭从谦等三人予以鞭挞，揭露他们把持朝政，以致后唐朝廷上下离心互相猜忌、祸乱不息的罪恶行径。本文就是欧阳修为《新五代史•伶官传》 所作的序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4600" y="1066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96280" y="304920"/>
            <a:ext cx="432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盛衰之理，虽曰天命，岂非人事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请其矢，盛以锦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其意气之盛，可谓壮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方其盛也，举天下之豪杰，莫能与之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600" y="3352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72240" y="2590920"/>
            <a:ext cx="432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及其衰也，数十伶人困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智勇多困于所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秦无亡矢遗镞之费，而天下诸侯已困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安在公子能急人之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680" y="5410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6320" y="487692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以三矢赐庄宗而告之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遣从事以一少牢告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还矢先王，而告以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7621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9718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1055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9718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15360" y="27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兴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80680" y="806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34280" y="126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旺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1704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强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2644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围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30800" y="312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困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17040" y="3581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困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53400" y="400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困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34280" y="484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告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50120" y="52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祭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0120" y="5891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禀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0:05:14Z</dcterms:created>
  <dc:creator>dd</dc:creator>
  <dc:description/>
  <dc:language>en-US</dc:language>
  <cp:lastModifiedBy> </cp:lastModifiedBy>
  <dcterms:modified xsi:type="dcterms:W3CDTF">2002-05-28T00:39:51Z</dcterms:modified>
  <cp:revision>42</cp:revision>
  <dc:subject/>
  <dc:title>PowerPoint 演示文稿</dc:title>
</cp:coreProperties>
</file>