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25-287C-4BDB-989E-4E770EF4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8B4-6B6C-49D0-A2B0-A3367CF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134-CA59-4132-BDCB-D01EEF5C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A31-F0FD-40A1-851E-A4823274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A0C0-8F71-47E6-BBCF-558923D4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20EB-E77A-48F2-9FE4-53AF78B7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DB1-F1BD-4D42-945B-518B0B99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41D7-520E-4862-B0FE-AE9D88D1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B98B-B6F2-47DD-AA79-81DF5053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40E-0D34-462C-8AAF-1D9685B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EEA2-652B-4346-B5A8-128A180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F2B-87F0-44E5-AF70-CBD5776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F33-C9E6-417E-9AC6-E18A569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B5A4-4913-414D-BDFD-666AF86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AD06-7656-4545-A949-B0524A9A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FDCF-C62E-464F-8FAC-1A16D17C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A41-8CD4-40D6-B6DB-51660E46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BEE-D89D-43D7-B5D1-15666F0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AD9-16D8-4073-9C92-771D1C0C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7D9-E33E-472B-ADE4-47D1E68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F36-2A84-4E91-A9C0-BDF5ECBA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61E-DAA7-4FAF-8313-2BC57BE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2C4-ADCD-4D87-9617-A54E937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3C3-E3F0-4C8E-999A-512C0AE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4464-4FFD-4B84-8D15-3DC3283A7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604B-6019-4622-A82A-C1DA227E41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8.jpeg"/><Relationship Id="rId3" Type="http://schemas.openxmlformats.org/officeDocument/2006/relationships/slide" Target="slide12.xml"/><Relationship Id="rId4" Type="http://schemas.openxmlformats.org/officeDocument/2006/relationships/image" Target="../media/image19.jpeg"/><Relationship Id="rId5" Type="http://schemas.openxmlformats.org/officeDocument/2006/relationships/slide" Target="slide21.xml"/><Relationship Id="rId6" Type="http://schemas.openxmlformats.org/officeDocument/2006/relationships/slide" Target="slide12.xml"/><Relationship Id="rId7" Type="http://schemas.openxmlformats.org/officeDocument/2006/relationships/image" Target="../media/image20.jpeg"/><Relationship Id="rId8" Type="http://schemas.openxmlformats.org/officeDocument/2006/relationships/slide" Target="slide21.xml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43280" y="692280"/>
            <a:ext cx="4824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3399ff"/>
                </a:solidFill>
                <a:latin typeface="Arial"/>
                <a:ea typeface="隶书"/>
              </a:rPr>
              <a:t>鸟儿款款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08240" y="1052640"/>
            <a:ext cx="4969080" cy="620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-1" strike="noStrike">
                <a:solidFill>
                  <a:srgbClr val="0000cc"/>
                </a:solidFill>
                <a:latin typeface="Arial"/>
                <a:ea typeface="隶书"/>
              </a:rPr>
              <a:t>水如明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24080" y="838080"/>
            <a:ext cx="48243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鸟栖天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711720" y="189000"/>
            <a:ext cx="1826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</a:rPr>
              <a:t>林边牧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1371600"/>
            <a:ext cx="4325760" cy="905040"/>
          </a:xfrm>
          <a:prstGeom prst="wedgeRectCallout">
            <a:avLst>
              <a:gd name="adj1" fmla="val -58624"/>
              <a:gd name="adj2" fmla="val 171930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最后的泉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735360" y="-162000"/>
            <a:ext cx="14389200" cy="697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523800" y="0"/>
            <a:ext cx="9667800" cy="72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866880"/>
            <a:ext cx="9901080" cy="77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smfg-1.jpg (158111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27200" y="1752480"/>
            <a:ext cx="185724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罗布泊之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16000" y="628560"/>
            <a:ext cx="607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71760" y="184320"/>
            <a:ext cx="552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6960" y="333360"/>
            <a:ext cx="57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你曾是一片海  我们至今       还流连于罗布人村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1000" y="841320"/>
            <a:ext cx="564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64440" y="1054080"/>
            <a:ext cx="56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 你曾是一片海  在你怀里     鱼儿遨游过千秋万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57360"/>
            <a:ext cx="9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 你曾是一片海   在你岸边     楼兰美女曾款款走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1773360"/>
            <a:ext cx="590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23680" y="242244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 你曾是一片海  在你上空       水鸟照影恋恋徘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1917720"/>
            <a:ext cx="8353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7120" y="3070080"/>
            <a:ext cx="59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  你曾是一片海     可是如今  只把壮士的尸骨掩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4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布泊  你曾是一片海  如梦似幻   我看到的还是一片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4000" cy="7029360"/>
            <a:chOff x="0" y="0"/>
            <a:chExt cx="9144000" cy="7029360"/>
          </a:xfrm>
        </p:grpSpPr>
        <p:pic>
          <p:nvPicPr>
            <p:cNvPr id="133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643280" y="0"/>
              <a:ext cx="450072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421164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68360" y="3068640"/>
              <a:ext cx="31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月牙泉与鸣沙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3141720"/>
              <a:ext cx="2305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月牙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187280" y="3760920"/>
              <a:ext cx="612144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742160" y="4292640"/>
              <a:ext cx="80352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9999"/>
                  </a:solidFill>
                  <a:uFillTx/>
                  <a:latin typeface="Arial"/>
                  <a:hlinkClick r:id="rId8" action="ppaction://hlinksldjump"/>
                </a:rPr>
                <a:t>青 海 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98080" y="620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体验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7080" y="148752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盲目，使人类制造了很多的人间悲剧。盲目使草原变荒漠，使清泉变成污塘，使天空不在湛蓝，使自然喜怒无常。人类在开发时盲目，回头准备保护时还是脱离不了盲目。前一段时间沸沸扬扬的 沙尘暴事件就是很好的证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人类脱离盲目，崇尚科学，走向理性之日，也就是人真正成为了万物之灵之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8720" y="5013360"/>
            <a:ext cx="1238400" cy="147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9144000" cy="4283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68580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2280" y="4106880"/>
            <a:ext cx="7696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课文以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 action="ppaction://hlinksldjump"/>
              </a:rPr>
              <a:t>青海湖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和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 action="ppaction://hlinksldjump"/>
              </a:rPr>
              <a:t>月牙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两个为例子，说明悲剧仍在继续，你还知道哪些例子？你准备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9079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华文行楷"/>
              </a:rPr>
              <a:t>请大家出谋划策帮帮我！！！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  <a:ea typeface="华文行楷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28638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想像一下，你是一位世纪老人，见证了罗布泊的百年沧桑，你将向人们述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24720" y="4626000"/>
            <a:ext cx="25192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3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读一读，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1700280"/>
            <a:ext cx="469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iāo   s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é   x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ān   h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ūn   sh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uǒ   l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ē  bì   tā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āng  hǎi s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大海变成农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农田变成大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喻世事变化很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628640"/>
            <a:ext cx="449892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干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吞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裸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戈壁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沧海桑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罗布泊的由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布泊为蒙古语，意为“汇入多水之湖”，原为新疆最大的湖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历史上，罗布泊最大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3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，民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陈宗器等人测得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。民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，在苏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/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地形图上，量得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0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我国分省地图标定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7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航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/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地形图上，其面积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最后干涸部分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公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初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                          可以看出，昔日的罗布泊是                                               地方（湖泊）。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课文中用波浪线划出相应的句子或词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                           可以看出，如今的罗布泊又是                           地方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课文中用横线划出相应的句子或词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罗布泊消逝的原因是什么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研读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再次阅读课文，找出文章中能震撼你的心灵，富有表现力的句子？从这些句子中你读到了作者怎样的情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70128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想一想</a:t>
            </a:r>
            <a:r>
              <a:rPr b="1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162920" y="457200"/>
            <a:ext cx="1828800" cy="2016000"/>
            <a:chOff x="7162920" y="457200"/>
            <a:chExt cx="1828800" cy="20160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162920" y="1523880"/>
              <a:ext cx="112068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772400" y="457200"/>
              <a:ext cx="1219320" cy="9144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25040" y="762120"/>
              <a:ext cx="94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华文彩云"/>
                </a:rPr>
                <a:t>？？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332000" y="1773360"/>
            <a:ext cx="2808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060640"/>
            <a:ext cx="2808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2349360"/>
            <a:ext cx="2808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08280"/>
            <a:ext cx="280836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91560" y="3429000"/>
            <a:ext cx="436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全文表达了作者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么样的思想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94"/>
                                  </p:iterate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49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3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" autoRev="1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0" fill="hold">
                                          <p:stCondLst>
                                            <p:cond delay="8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7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1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5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58">
                                          <p:stCondLst>
                                            <p:cond delay="6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26">
                                          <p:stCondLst>
                                            <p:cond delay="131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8">
                                          <p:stCondLst>
                                            <p:cond delay="1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0" fill="hold">
                                          <p:stCondLst>
                                            <p:cond delay="64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0" fill="hold">
                                          <p:stCondLst>
                                            <p:cond delay="6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0" fill="hold">
                                          <p:stCondLst>
                                            <p:cond delay="130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0" fill="hold">
                                          <p:stCondLst>
                                            <p:cond delay="1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0" fill="hold">
                                          <p:stCondLst>
                                            <p:cond delay="163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0" fill="hold">
                                          <p:stCondLst>
                                            <p:cond delay="1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0" fill="hold">
                                          <p:stCondLst>
                                            <p:cond delay="180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0" fill="hold">
                                          <p:stCondLst>
                                            <p:cond delay="1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2320" y="762120"/>
            <a:ext cx="460836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990099"/>
                </a:solidFill>
                <a:latin typeface="Arial"/>
                <a:ea typeface="隶书"/>
              </a:rPr>
              <a:t>牛羊成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1:35:44Z</dcterms:created>
  <dc:creator>微软用户</dc:creator>
  <dc:description/>
  <cp:keywords/>
  <dc:language>en-US</dc:language>
  <cp:lastModifiedBy>starcraft</cp:lastModifiedBy>
  <cp:lastPrinted>1899-12-30T00:00:00Z</cp:lastPrinted>
  <dcterms:modified xsi:type="dcterms:W3CDTF">2006-05-11T07:54:12Z</dcterms:modified>
  <cp:revision>9</cp:revision>
  <dc:subject/>
  <dc:title>幻灯片 1</dc:title>
</cp:coreProperties>
</file>