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自定义放映1" id="0">
      <p:sldLst>
        <p:sld r:id="rId5"/>
        <p:sld r:id="rId6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25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6920" y="206064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1341360"/>
            <a:ext cx="49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762120"/>
            <a:ext cx="7239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一段凄惨壮美的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一首感人肺腑的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尽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  <a:ea typeface="仿宋_GB2312"/>
              </a:rPr>
              <a:t>…………</a:t>
            </a:r>
            <a:r>
              <a:rPr b="1" i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《老王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"/>
            <a:ext cx="8229600" cy="642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思考讨论并回答下列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135080"/>
            <a:ext cx="6858000" cy="5205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课文介绍了老王哪些艰难的生活境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09680"/>
            <a:ext cx="64008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老王的职业（谋生手段）、生理缺陷（谋生困难）和居住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715000"/>
            <a:ext cx="7696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191120"/>
            <a:ext cx="7391520" cy="1169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你觉得 老王是个怎样的人？你是从哪里看出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25600" y="1523880"/>
            <a:ext cx="7902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命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25600" y="4724280"/>
            <a:ext cx="7902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心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514600" y="4190760"/>
            <a:ext cx="838080" cy="609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5334120"/>
            <a:ext cx="838080" cy="9144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5029200"/>
            <a:ext cx="83808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514600" y="837720"/>
            <a:ext cx="990720" cy="7621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590920" y="1828800"/>
            <a:ext cx="838080" cy="76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2133720"/>
            <a:ext cx="990720" cy="6858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20" y="1676520"/>
            <a:ext cx="911520" cy="3504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老     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828800"/>
            <a:ext cx="304920" cy="3200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1219320"/>
            <a:ext cx="1067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533520"/>
            <a:ext cx="36576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谋生手段艰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1523880"/>
            <a:ext cx="28954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生理上有缺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2133720"/>
            <a:ext cx="2362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2514600"/>
            <a:ext cx="3200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居住条件恶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886200"/>
            <a:ext cx="42670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为作者送冰，车费减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4800600"/>
            <a:ext cx="52578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送钱先生看病，不愿要报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943600"/>
            <a:ext cx="4724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身体病重，还要来谢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03200" y="525600"/>
            <a:ext cx="8359920" cy="1169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你认为作者是怎样的人，文章中是如何体现幸运者（杨绛一家）对不幸者（老王）的关爱的？请从文中找出相关的语句或事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743200"/>
            <a:ext cx="784872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作者也是一个善良而且很有爱心和同情心的人。具体表现在：照顾老王的生意，坐他的车；老王再客气，也付给他应得的报酬 ；老王送来香油、鸡蛋，不让他白送；关心老王的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6200" y="0"/>
            <a:ext cx="1400040" cy="703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重点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5800" y="90144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33520" y="289764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89548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09480"/>
            <a:ext cx="883908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学生朗读“有一天，我在家听到打门……那是一个幸运的人对一个不幸者的愧怍”部分，思考回答下列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00200"/>
            <a:ext cx="8382240" cy="3115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老王为什么在去世前给“我”送香油、鸡蛋？体现了老王怎样的性格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老王说“我不是要钱”，为什么最后还是收了钱呢？你是怎样理解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如何理解“是一个幸运的人对一个不幸者的愧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6668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知恩图报、心地善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41911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老王怕“我”真的托人给他送钱，平白给“我”添麻烦。体现了老王的朴实、善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484960"/>
            <a:ext cx="830592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为幸运者，有责任去关爱不幸者，关注他们的命运，关注他们的生活，让他过上好日子，帮助他们改善处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914040"/>
            <a:ext cx="7128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为什么能够那么关心老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4038480"/>
            <a:ext cx="273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平  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502920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互  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人道主义精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2417040"/>
            <a:ext cx="734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社会地位、生活条件比较优越的人往往瞧不起卑微者，要有什么样的精神才能象作者那样尊重人，理解人，关心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685800"/>
            <a:ext cx="1676520" cy="762120"/>
          </a:xfrm>
          <a:custGeom>
            <a:avLst/>
            <a:gdLst>
              <a:gd name="textAreaLeft" fmla="*/ 419040 w 1676520"/>
              <a:gd name="textAreaRight" fmla="*/ 1257480 w 167652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9999"/>
          </a:solidFill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4648320"/>
            <a:ext cx="1752840" cy="1295280"/>
          </a:xfrm>
          <a:prstGeom prst="irregularSeal1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343400"/>
            <a:ext cx="1981080" cy="914400"/>
          </a:xfrm>
          <a:custGeom>
            <a:avLst/>
            <a:gdLst>
              <a:gd name="textAreaLeft" fmla="*/ 309600 w 1981080"/>
              <a:gd name="textAreaRight" fmla="*/ 1733760 w 19810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极富爱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62064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文章看，最主要的是平等观念。在作者那里，人是生而平等的，各人境遇不同，甚至差别很大，不过是幸运与不幸造成的差别。所谓幸与不幸，包括天赋条件、成长条件、生理条件，幸运者只有关爱不幸者的责任，没有歧视不幸者的理由。有平等意识，才会有平等对话，才会感觉人家上门来“没请他坐坐喝口茶水”是很抱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再是人道主义精神。这种精神要求社会关心个人、同情个人，尊重个人对社会作出的贡献，尊重人格，维护社会成员的基本权利，并促进全体劳动者的全面发展。作者一家对老王是怀有这种精神的。知道老王有夜盲症，就送了大瓶鱼肝油。他们总是照顾老王生意，坐他的车，让他挣点钱。老王收钱常常客气，他们总是照原价付。平板三轮不敢坐了，还是关心老王是否能维持生活。总之，对从不幸者怀有一颗爱心，才能这么关心人，爱护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534000" y="4038480"/>
            <a:ext cx="2610000" cy="2819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812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635880" y="0"/>
            <a:ext cx="2508120" cy="2971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799160" y="685800"/>
            <a:ext cx="4586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26800" y="228600"/>
            <a:ext cx="667800" cy="6400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平平淡淡中孕育着真情，平平凡凡中折射出人性的真、善、美。一个幸运者只有关爱不者的责任，没有歧视不幸者的理由。让我们为老王喝采！为老王那颗金子般真挚而诚恳的心喝采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0" y="3705120"/>
            <a:ext cx="3124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65134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080920" y="762120"/>
            <a:ext cx="667800" cy="4952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      凡       的        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331200" y="609480"/>
            <a:ext cx="1155240" cy="5562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普       通       的     愿      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38280" y="260280"/>
            <a:ext cx="5257800" cy="6430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爱的奉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是心的呼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是爱的奉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是人间的春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这是生命的源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没有心的沙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没有爱的荒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死神也望而却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幸福之花处处开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只要人人都献出一点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世界将变成美好的人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609480"/>
            <a:ext cx="7467840" cy="132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外拓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现实生活中，我们应该说如何去关爱弱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685800"/>
            <a:ext cx="7372440" cy="4115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作  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试以老王为第一人称，改写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中老王给“我”送香油、鸡蛋这一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此题学号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—1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号同学完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搜集有关资料，以《爱心在行动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主题，写一篇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字左右的文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此题学号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—2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号同学完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689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41200" y="533520"/>
            <a:ext cx="1155240" cy="556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普 通 的 人，平 凡 的 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212600" y="304920"/>
            <a:ext cx="1155240" cy="6248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普  通   的  人，平   凡  的  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7920"/>
            <a:ext cx="7772400" cy="6865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745760" y="609480"/>
            <a:ext cx="1155240" cy="5867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普  通   的  人，平   凡  的  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1600200"/>
            <a:ext cx="662940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平平淡淡中孕育着真情！平平凡凡中折射出人性的真、善、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914400"/>
            <a:ext cx="51818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杨绛，生于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91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年，江苏无锡人，作家、文学翻译家。著有散文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干校六记》《将饮茶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等，译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唐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吉诃德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是著名作家钱钟书先生的妻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10080" y="609480"/>
            <a:ext cx="3200400" cy="4572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400800" y="5486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杨    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304920"/>
            <a:ext cx="4724640" cy="581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给下面加划线的字注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523880"/>
            <a:ext cx="8001000" cy="2806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蹬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压根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伛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荒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僻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败                   取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缔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骷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滞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笨            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愧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228600"/>
            <a:ext cx="8534520" cy="3963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课文介绍了老王哪些艰难的生活境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你觉得 老王是个怎样的人？你是从哪里看出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你认为作者是怎样的人，文章中是如何体现幸运者（杨绛一家）对不幸者（老王）的关爱的？请从文中找出相关的语句或事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15:03:53Z</dcterms:created>
  <dc:creator>www.1kejian.com</dc:creator>
  <dc:description>第一课件网</dc:description>
  <cp:keywords>第一课件网www.1kejian.com</cp:keywords>
  <dc:language>en-US</dc:language>
  <cp:lastModifiedBy>USER</cp:lastModifiedBy>
  <dcterms:modified xsi:type="dcterms:W3CDTF">2015-01-30T12:35:30Z</dcterms:modified>
  <cp:revision>43</cp:revision>
  <dc:subject>第一课件网www.1kejian.com</dc:subject>
  <dc:title>第一课件网www.1kej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