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618-D8E4-466A-BE59-673F0748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20F-6261-4FF2-9BDC-6821DC68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0A5-3B61-4414-9C23-FE11FF05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BE4-8BFB-43B6-A15D-D8CE3266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B43-4558-45AF-AC9B-4DB9A037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615-9706-49A3-A4B6-77A36723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C7E-143F-44C1-A3E2-D4BD360A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642E-078F-4D4A-B479-B908AE6F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77E-FCD5-4EB6-AB55-EF25A339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567-DFD8-4CF9-8FF9-0F2795D2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064-B602-46D2-A0BB-BAEB51C3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DBE-5D22-4B1D-AC4E-78CA8A11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8696-04CC-4DB2-8F3F-6A4923FB75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114300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老山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31240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陆定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2578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为自由而战的人，人们将永远记住你们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045560" y="228600"/>
            <a:ext cx="1642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细读品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28600"/>
            <a:ext cx="708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面对这般重重困难，我们的红军战士是如何对待的呢？表现了红军战士怎样的思想性格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590920"/>
            <a:ext cx="45957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打趣逗笑、奋勇登山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酣然入梦、观赏夜景。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鼓着勇气、继续前进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不畏惧、嘲笑敌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5791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现红军顽强的意志、乐观的精神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2514600"/>
            <a:ext cx="1828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走路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睡觉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吃饭难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处境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03840" y="457200"/>
            <a:ext cx="12776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细读品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905120"/>
            <a:ext cx="3657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本文把红军战士的顽强意志和乐观刻画得具体形象，靠的是生动的描写。你能揣摩出来吗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1905120"/>
            <a:ext cx="3708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提示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行动、语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场面、景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228600"/>
            <a:ext cx="4572000" cy="1066680"/>
          </a:xfrm>
          <a:prstGeom prst="flowChartMagneticDrum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3049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精彩段落欣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905120"/>
            <a:ext cx="82296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场面描写： “之”字奇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作者是怎样描绘这一奇观的？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这样描写表现了红军战士的什么精神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029200"/>
            <a:ext cx="7924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烘托出红军英勇豪迈的乐观主义英雄气魄。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47920" y="228600"/>
            <a:ext cx="4495680" cy="1066680"/>
          </a:xfrm>
          <a:prstGeom prst="flowChartMagneticDrum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22860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精彩段落欣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1557360"/>
            <a:ext cx="99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景物描写：半夜醒来观赏夜景（所见所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349360"/>
            <a:ext cx="8893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“见”主要写了哪些景物？以什么为序？用了哪些修辞手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所“见”景象给人什么感受？“闻”突出了什么特点？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3886200"/>
            <a:ext cx="701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36450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星星、山峰、山谷（自上而下）；比喻、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548640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庄严、奇伟。 寂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00200" y="228600"/>
            <a:ext cx="4648320" cy="990720"/>
          </a:xfrm>
          <a:prstGeom prst="flowChartMagneticDrum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3049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精彩段落欣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523880"/>
            <a:ext cx="8839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可作者描写的却是各种“声响”，这不是自相矛盾吗？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这些声音有何特点？采用什么修辞方法写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这段景物描写对表现中心意思有何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743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矛盾。以动写静，角度巧，效果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495680"/>
            <a:ext cx="7467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6483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远、近、大、细； 比喻、拟人、排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60930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红军战士镇定豪迈，英雄主义和乐观主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练一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600200"/>
            <a:ext cx="81532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、判断下列加点字注音的正误。 </a:t>
            </a:r>
            <a:br>
              <a:rPr sz="3600"/>
            </a:b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惊惶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ｈｕ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ā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ｎｇ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)          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缴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ｊｉ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ǎ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ｏ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租  欺侮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ｆｕ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)             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呜咽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ｗ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ū y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ｉ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è)            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咀嚼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ｚ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ǔ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ｊｉ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á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ｏ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)           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骨碌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ｇ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ū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ｌｕ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)   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浑身打着颤 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ｃｈ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à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ｎ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、红军翻山遇到的许多艰难险阻，可以分为哪几个方面？是怎样对待的？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3124080" cy="1143000"/>
          </a:xfrm>
          <a:prstGeom prst="flowChartPreparation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练一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2781360"/>
            <a:ext cx="2160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00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2895480" cy="1143000"/>
          </a:xfrm>
          <a:prstGeom prst="flowChartPreparation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练一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9810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、描写景物要注意观察景物的立足点和角度。课文第一次写火把，立足点在——，观察角度是仰视；第二次写火把，立足点在——，观察角度是既有（  ）视，又有（  ）视。找出你最喜欢的一张照片，说说摄影者是站在什么位置，从什么角度照的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391520" y="1523880"/>
            <a:ext cx="1523880" cy="3505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15720" y="1905120"/>
            <a:ext cx="1094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写一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990720"/>
            <a:ext cx="66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写寂静，可以以静写静，也可以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以声写静</a:t>
            </a: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。这篇课文既说“寂静”，又说“耳朵里有不可捉摸的声响”，正是以声写静。恰恰因为静极了，才听到一般听不到的声音；恰恰因为听到了一般听不到的声音，才说明实在是静极了。你在生活中曾有这样的感受吗？试用一二百字写出来，练习用比喻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112536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老山界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当年红军长征途中翻越的第一座大山。其主峰海拔２１４１．５米，为华南第一高峰，素有“五岭极顶，华南之颠”之美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１９３４年１２月，中央红军在湘江与国民党军队经过惨烈的激战，损失惨重，退入了山高路险的猫儿山，开始了翻越老山界的艰难历程。毛泽东、周恩来、邓小平、朱德、叶剑英等一代革命伟人率中央红军三军团、中央军委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纵队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后卫五军团、八军团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日夜兼程翻越老山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189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时代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3160" y="685800"/>
            <a:ext cx="10947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课前热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676520"/>
            <a:ext cx="6934320" cy="320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057400"/>
            <a:ext cx="6248520" cy="2438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2565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朗诵及背诵长征诗词，讲述长征故事，概括长征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4267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45720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你预习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600200"/>
            <a:ext cx="8763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为下列加线字注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惊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惶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     ）      呜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咽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     ） 咀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嚼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矗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立（         ）      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蜷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 ）   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酣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）然入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点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缀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   ）    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 落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）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72428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释下列词语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攀谈      奇观      绝壁       酣然入梦    呜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网背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13716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整体感知文章，用一句话概括故事内容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7339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红军长征途中翻越老山界。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43800" y="990720"/>
            <a:ext cx="1905120" cy="4724280"/>
          </a:xfrm>
          <a:prstGeom prst="upDownArrow">
            <a:avLst>
              <a:gd name="adj1" fmla="val 50000"/>
              <a:gd name="adj2" fmla="val 49366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9120" y="1752480"/>
            <a:ext cx="1826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探究学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写文章首先得有条有理、顺序清楚。本文以什么为顺序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时间变化、地点转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8620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在文中勾画出表明时间、地点的词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 Unicode MS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 Unicode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 Unicode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4100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0292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4495680"/>
            <a:ext cx="190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40384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3429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3124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28600" y="304920"/>
          <a:ext cx="8534520" cy="5349600"/>
        </p:xfrm>
        <a:graphic>
          <a:graphicData uri="http://schemas.openxmlformats.org/drawingml/2006/table">
            <a:tbl>
              <a:tblPr/>
              <a:tblGrid>
                <a:gridCol w="806400"/>
                <a:gridCol w="1022400"/>
                <a:gridCol w="1523880"/>
                <a:gridCol w="1600200"/>
                <a:gridCol w="358164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时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5050"/>
                          </a:solidFill>
                          <a:latin typeface="Arial Unicode MS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5050"/>
                          </a:solidFill>
                          <a:latin typeface="Arial Unicode MS"/>
                        </a:rPr>
                        <a:t>地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cc"/>
                          </a:solidFill>
                          <a:latin typeface="Arial Unicode MS"/>
                        </a:rPr>
                        <a:t>人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ffff"/>
                          </a:solidFill>
                          <a:latin typeface="Arial Unicode MS"/>
                        </a:rPr>
                        <a:t>            </a:t>
                      </a:r>
                      <a:r>
                        <a:rPr b="1" lang="zh-CN" sz="3200" spc="-1" strike="noStrike">
                          <a:solidFill>
                            <a:srgbClr val="808000"/>
                          </a:solidFill>
                          <a:latin typeface="Arial Unicode MS"/>
                        </a:rPr>
                        <a:t>活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827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下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天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62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夜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6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半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106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黎明以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95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下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2057400" y="990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瑶民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瑶家大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914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Times New Roman"/>
              </a:rPr>
              <a:t>攀谈，宣传红军政策，使瑶民理解了红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1752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山脚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1828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红军战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18288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准备爬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286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半山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236232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红军战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286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夜行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3048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山路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18080" y="2459160"/>
            <a:ext cx="100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304812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红军战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971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半夜露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雷公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37339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imes New Roman"/>
              </a:rPr>
              <a:t>红军战士、医务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809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Times New Roman"/>
              </a:rPr>
              <a:t>翻越雷公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4876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山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8769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红军战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4724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Times New Roman"/>
              </a:rPr>
              <a:t>任务完成，征服老山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0"/>
            <a:ext cx="4267080" cy="17524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8088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理清结构层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8288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记叙一件事，文章结构一般如何安排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2492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交代起因，记叙经过，说明结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3276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本文是不是这样安排的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8640" y="3962520"/>
            <a:ext cx="850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三部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962520"/>
            <a:ext cx="8458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、交代决定翻越老山界（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二、记叙翻越老山界的经过（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—3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段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三、说明翻越老山界的意义（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段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4191120"/>
            <a:ext cx="76320" cy="1904760"/>
          </a:xfrm>
          <a:custGeom>
            <a:avLst/>
            <a:gdLst>
              <a:gd name="textAreaLeft" fmla="*/ 48960 w 76320"/>
              <a:gd name="textAreaRight" fmla="*/ 7632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82880" y="1143000"/>
            <a:ext cx="2374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细读品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80880"/>
            <a:ext cx="3886200" cy="37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山界是一座难翻的山。其“难”表现在哪些方面呢？ 在课文中勾画出有关的句子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1600200"/>
            <a:ext cx="3048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走路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睡觉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吃饭难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处境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2T01:04:38Z</dcterms:created>
  <dc:creator/>
  <dc:description/>
  <dc:language>en-US</dc:language>
  <cp:lastModifiedBy>广西师大附中</cp:lastModifiedBy>
  <dcterms:modified xsi:type="dcterms:W3CDTF">2005-09-08T01:35:17Z</dcterms:modified>
  <cp:revision>98</cp:revision>
  <dc:subject/>
  <dc:title>PowerPoint 演示文稿</dc:title>
</cp:coreProperties>
</file>