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574-F86E-45D5-AA82-18ABF0B3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F19-367D-4624-BF20-A33524E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304-049B-461C-92A6-B48E1AA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04C-A7C5-4942-A825-089E013D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2A2-50E5-4BF1-A8C1-F9D01765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FE1-34A1-4918-91EC-DE4E4EF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C761-EB68-4EEB-8F36-3EE5E08F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D70-F827-48B6-AC40-9B9FE681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669-D603-48CF-AFDC-364AEC0A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E387-7F1B-4F7C-A14E-8427CF3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F39F-5D79-481F-BAFC-22FB3261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5C9-CD63-4023-9704-46DC606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29D-74F4-45FD-B5A3-8B81CE6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72D-1781-4B20-9AB5-CD2BA20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007E-3E7C-4CD1-A347-D5D02CAB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B88F-161C-45BA-87DE-067ADE59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18FC-1DFF-470B-9A75-7372A87B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CA7-FF3F-4B59-A3D0-ADF12450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611-A8EA-4827-82F7-7DA03403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FB4-8208-4ACA-A236-05DB98B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489-65C7-4784-84F2-722558C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0CD-9428-4074-A2DD-4C35C19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434-4271-4A88-B9B4-942CA86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82A-EE0C-47AF-BE74-A7F22DF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F6DA-3714-4781-93D1-B3F64075F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384-C6B4-41BB-B994-107C9BDDFD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1109520" y="4956120"/>
            <a:ext cx="72961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2"/>
          <p:cNvSpPr/>
          <p:nvPr/>
        </p:nvSpPr>
        <p:spPr>
          <a:xfrm>
            <a:off x="0" y="-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132000" y="51577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3610080" y="6014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wuhan</cp:lastModifiedBy>
  <dcterms:modified xsi:type="dcterms:W3CDTF">2019-02-19T05:39:58Z</dcterms:modified>
  <cp:revision>353</cp:revision>
  <dc:subject/>
  <dc:title>锐得PPT模板</dc:title>
</cp:coreProperties>
</file>