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20.gif" ContentType="image/gif"/>
  <Override PartName="/ppt/media/image8.gif" ContentType="image/gif"/>
  <Override PartName="/ppt/media/image12.jpeg" ContentType="image/jpeg"/>
  <Override PartName="/ppt/media/image7.jpeg" ContentType="image/jpeg"/>
  <Override PartName="/ppt/media/image15.gif" ContentType="image/gif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10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0C5-C52F-4C00-809D-CDE23048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45A-2189-4C44-96C9-938F6E03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E5C-E18B-459C-A1DD-BB15F8E1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56F-EFBD-429F-8CEE-36F74975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0AF-9D09-4BB4-B2D8-CC3DD961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CAF-B387-4D74-8EC0-CCDA74BD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754-E043-45FA-B399-1C82C606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618-CB28-4582-967F-D4947537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7EB-7F8C-4C63-9FB6-CC5C120F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E52-E239-4F5B-8F0F-D89D5816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D89-3A1B-4E42-9AD5-E4C993AF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5D4-B825-423C-9841-7CBD61C4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88360" y="6526080"/>
            <a:ext cx="711360" cy="331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AF96-5B63-4A50-97FB-695423D35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2925360"/>
            <a:ext cx="43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方正舒体"/>
                <a:ea typeface="方正舒体"/>
              </a:rPr>
              <a:t>孔子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世家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08720" y="2133720"/>
            <a:ext cx="3897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  <a:ea typeface="迷你简南宫"/>
              </a:rPr>
              <a:t>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  <a:ea typeface="迷你简南宫"/>
              </a:rPr>
              <a:t>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  <a:ea typeface="迷你简南宫"/>
              </a:rPr>
              <a:t>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6720" y="404640"/>
            <a:ext cx="936720" cy="140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6360" y="117360"/>
            <a:ext cx="9072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s-E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这是《史记</a:t>
            </a:r>
            <a:r>
              <a:rPr b="1" lang="es-E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1" lang="es-E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孔子世家》的最后一段，也即司马迁的评论。如《项羽本纪赞》时已经说过，二吴所加的这类标题，无论从内容和语法上看，都是不甚适当的。抛开让人误解为赞誉这篇文章不说，就是赞誉主人公，也应该因人而异，如对于孔子好像无可非议，项羽、李斯就争论颇多了，至于对</a:t>
            </a:r>
            <a:r>
              <a:rPr b="1" lang="es-E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白起、</a:t>
            </a:r>
            <a:r>
              <a:rPr b="1" lang="es-E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吕不韦，则世人是毁多于誉，</a:t>
            </a:r>
            <a:r>
              <a:rPr b="1" lang="es-E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所以本</a:t>
            </a:r>
            <a:r>
              <a:rPr b="1" lang="es-E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文最好称其为“跋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8000" y="439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s-E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司马迁用《诗经》中的句子，赞誉孔子的品德言行，这两句诗引自《诗经</a:t>
            </a:r>
            <a:r>
              <a:rPr b="1" lang="es-E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·</a:t>
            </a:r>
            <a:r>
              <a:rPr b="1" lang="es-E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雅</a:t>
            </a:r>
            <a:r>
              <a:rPr b="1" lang="es-E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·</a:t>
            </a:r>
            <a:r>
              <a:rPr b="1" lang="es-E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车舝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读</a:t>
            </a:r>
            <a:r>
              <a:rPr b="1" lang="es-E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</a:t>
            </a:r>
            <a:r>
              <a:rPr b="1" lang="es-E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xi</a:t>
            </a:r>
            <a:r>
              <a:rPr b="1" lang="zh-CN" sz="5400" spc="-1" strike="noStrike">
                <a:solidFill>
                  <a:srgbClr val="ffffff"/>
                </a:solidFill>
                <a:latin typeface="方正姚体"/>
                <a:ea typeface="方正姚体"/>
              </a:rPr>
              <a:t>á</a:t>
            </a:r>
            <a:r>
              <a:rPr b="1" lang="es-E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》。以巍峨的山峰比喻孔子道德的崇高，以宽阔坦荡的大道，比喻孔子行为的光明正大，以至被从古至今的人们所景仰、学习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1620000">
            <a:off x="7813800" y="980640"/>
            <a:ext cx="7617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109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s-ES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黑体"/>
                <a:ea typeface="黑体"/>
              </a:rPr>
              <a:t>世家”是司马迁所写人物传记的一类，他将文章的主人公划为三等，帝王的传记称为“本纪”，而诸侯则称“世家”，其他一律叫作“列传”。为记载的连续性，也因为一些君主生平事迹简略，所以司马迁将一个朝代的所有帝王传记合并，称为该朝代的“本纪”，加上在记录帝王生平时，有必要的形势背景叙述，这样本纪也就相当于一部国别史了。诸侯的世家也如此，君王历代传继事迹合并，其记载就相当于地方政权的史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40" y="4608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黑体"/>
              </a:rPr>
              <a:t>但世家中有一些篇目，是纯属人物传记，这和本纪就不同了。本纪只用于帝王，哪怕是司马迁所册封的帝王，例如项羽，因为他总还当过号令全国的西楚霸王。虽然有些汉室的世家，如梁孝王等相似于战国时代的诸侯，甚至陈涉也算类似。但被太史公册封，升任为诸侯等级的许多人，并非是独立王国之首，例如张良、周勃、萧何等等。也就是说这个等级划分，都是太史公一人包办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6360" y="45720"/>
            <a:ext cx="9072720" cy="67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s-ES" sz="4400" spc="-1" strike="noStrike">
                <a:solidFill>
                  <a:srgbClr val="000000"/>
                </a:solidFill>
                <a:latin typeface="黑体"/>
                <a:ea typeface="黑体"/>
              </a:rPr>
              <a:t>这一点，我在本卷的前言中，已经作了比较详尽的分析，即他的分组，最明确地表露出作者的是非标准和价值取向。例如本篇，孔子虽当过官，但不是世袭封爵的王侯，而一生的经历，是以教书授业为主，甚至只相当于平民。但他的学术思想却彪炳后世，因此司马迁破例推崇，为孔子立传，并列入“世家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6360" y="333000"/>
            <a:ext cx="8964720" cy="6264360"/>
          </a:xfrm>
          <a:prstGeom prst="rec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747474">
                  <a:alpha val="38039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</a:t>
            </a:r>
            <a:r>
              <a:rPr b="1" lang="es-E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孔子的书，应该主要指那部记述他和弟子们言行的《论语》。而“六艺”则是《易》、《礼》、《乐》、《诗》、《书》、《春秋》的总称，也叫做六经。《易》指《周易》，包括经、传两个部分，易“经”共六十四卦，每一卦有六爻（读</a:t>
            </a:r>
            <a:r>
              <a:rPr b="1" lang="es-E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yao</a:t>
            </a:r>
            <a:r>
              <a:rPr b="1" lang="es-E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，“传”包括系辞、说卦十部分，称为“十翼”，是对经卦的解释。《礼》是《礼记》，在汉代时原有《仪礼》一书，是春秋战国时期礼仪制度的汇编，西汉时又有学者把儒家这方面的阐释进行编撰，形成了《礼记》。《乐》是《乐经》，很早已经失传只存留有一篇《乐记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840000">
            <a:off x="8027640" y="5229000"/>
            <a:ext cx="1333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332000" y="1270080"/>
            <a:ext cx="65149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ffff">
                      <a:alpha val="50000"/>
                    </a:srgbClr>
                  </a:outerShdw>
                </a:effectLst>
                <a:latin typeface="迷你简平和"/>
              </a:rPr>
              <a:t>谢谢大家</a:t>
            </a:r>
            <a:endParaRPr b="0" lang="en-US" sz="6600" spc="-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effectLst>
                <a:outerShdw dist="153753" dir="2700000" blurRad="0" rotWithShape="0">
                  <a:srgbClr val="ffffff">
                    <a:alpha val="50000"/>
                  </a:srgbClr>
                </a:outerShdw>
              </a:effectLst>
              <a:latin typeface="迷你简平和"/>
              <a:ea typeface="迷你简平和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1800000">
            <a:off x="6516720" y="117000"/>
            <a:ext cx="1314360" cy="13813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6720" y="693720"/>
            <a:ext cx="8374320" cy="547200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es-ES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太史公曰：《诗》有之：“高山仰止，景行行止。”虽不能至，然心向往之。余读孔氏书，想见其为人。适鲁，观仲尼庙堂、车服、礼器，诸生以时习礼其家，余祗回留之，不能去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96360" y="42210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7640" y="333360"/>
            <a:ext cx="8929800" cy="612144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选自《史记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孔子世家》。《史记》一百三十篇，每篇最后都以“太史公曰”的形式，所对记的历史人物或事件加以评论，一般称为赞。赞，文体名。本文是《史记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孔子世家》的赞，是作者对孔子的评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太史公：司马迁的官名，用以自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③</a:t>
            </a:r>
            <a:r>
              <a:rPr b="1" lang="es-E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高山仰止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</a:t>
            </a:r>
            <a:r>
              <a:rPr b="1" lang="es-E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景行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行止</a:t>
            </a:r>
            <a:r>
              <a:rPr b="1" lang="es-E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出自《诗经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小雅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车舝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(xiá)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仰：这里是仰慕、敬仰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⑤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景行，大道。这里喻指高尚的品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948360" y="4005360"/>
            <a:ext cx="18306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8796240" cy="6626520"/>
          </a:xfrm>
          <a:prstGeom prst="rect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3f3f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⑥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行，这里是效法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⑦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止，句末语气助词，无意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乡：通“向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⑤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适：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⑥</a:t>
            </a:r>
            <a:r>
              <a:rPr b="1" lang="es-E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礼器：祭祀用的器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⑦</a:t>
            </a:r>
            <a:r>
              <a:rPr b="1" lang="es-E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诸生：许多儒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⑧</a:t>
            </a:r>
            <a:r>
              <a:rPr b="1" lang="es-E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以时：按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⑨</a:t>
            </a:r>
            <a:r>
              <a:rPr b="1" lang="es-E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习：演习，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⑩</a:t>
            </a:r>
            <a:r>
              <a:rPr b="1" lang="es-E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祗回：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相当于“低回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⑪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流连，盘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⑫</a:t>
            </a:r>
            <a:r>
              <a:rPr b="1" lang="es-ES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祗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：恭敬。有的版本作“低回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6360" y="-360"/>
            <a:ext cx="9001440" cy="6813720"/>
          </a:xfrm>
          <a:prstGeom prst="rect">
            <a:avLst/>
          </a:prstGeom>
          <a:gradFill rotWithShape="0">
            <a:gsLst>
              <a:gs pos="0">
                <a:srgbClr val="ffff99">
                  <a:alpha val="27058"/>
                </a:srgbClr>
              </a:gs>
              <a:gs pos="100000">
                <a:srgbClr val="f3f391">
                  <a:alpha val="6431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  <a:ea typeface="隶书"/>
              </a:rPr>
              <a:t>司马迁读孔子著作之际，在内心深处极为敬佩这位古代的圣人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。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  <a:ea typeface="隶书"/>
              </a:rPr>
              <a:t>在司马迁看来。孔子是一座巍峨的高山，使人仰慕。来到孔子故居之后，他对孔子有了更深的理解，向往之情得到进一步的强化。他见到了孔子的庙堂、车服、礼器，见到这些与孔子密切相关的器物以后，好像孔子的形象就在自己的眼前。司马迁在孔子故居还见到许多儒生按时在他家中演习礼仪，儒生的习礼是那样的虔诚，可见孔子的思想有着巨大的精神魅力。此情此景，司马迁被强烈地吸引了，以至不愿离开圣人的故居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2000" y="117000"/>
            <a:ext cx="8713800" cy="6696360"/>
          </a:xfrm>
          <a:prstGeom prst="rect">
            <a:avLst/>
          </a:prstGeom>
          <a:gradFill rotWithShape="0">
            <a:gsLst>
              <a:gs pos="0">
                <a:srgbClr val="ff99cc">
                  <a:alpha val="32156"/>
                </a:srgbClr>
              </a:gs>
              <a:gs pos="100000">
                <a:srgbClr val="fe9acc">
                  <a:alpha val="71372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s-ES" sz="4000" spc="-1" strike="noStrike">
                <a:solidFill>
                  <a:srgbClr val="ffffff"/>
                </a:solidFill>
                <a:latin typeface="隶书"/>
                <a:ea typeface="隶书"/>
              </a:rPr>
              <a:t>此文乃是《史记</a:t>
            </a:r>
            <a:r>
              <a:rPr b="1" lang="es-ES" sz="4000" spc="-1" strike="noStrike">
                <a:solidFill>
                  <a:srgbClr val="ffffff"/>
                </a:solidFill>
                <a:latin typeface="隶书"/>
                <a:ea typeface="隶书"/>
              </a:rPr>
              <a:t>·</a:t>
            </a:r>
            <a:r>
              <a:rPr b="1" lang="es-ES" sz="4000" spc="-1" strike="noStrike">
                <a:solidFill>
                  <a:srgbClr val="ffffff"/>
                </a:solidFill>
                <a:latin typeface="隶书"/>
                <a:ea typeface="隶书"/>
              </a:rPr>
              <a:t>孔子世家》的结束语。孔子原本不是王侯将相，但司马迁却把他列入“世家”。他不是完全按照官本位来处理历史人物，他把孔子当做古代的圣人来看待。这说明司马迁颇具远见与卓识。 　　在写作手段方面，此文为虚实结合。开篇引用《诗经》的话，抒发作者的感慨，乃是凭虚而起。中间部分叙写在孔子故居的所见与感受。结尾部分用“可谓至圣矣”来做结论。令人信服</a:t>
            </a:r>
            <a:r>
              <a:rPr b="1" lang="es-ES" sz="4000" spc="-1" strike="noStrike">
                <a:solidFill>
                  <a:srgbClr val="ffffff"/>
                </a:solidFill>
                <a:latin typeface="隶书"/>
                <a:ea typeface="隶书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5400" spc="-1" strike="noStrike">
                <a:solidFill>
                  <a:srgbClr val="ff0000"/>
                </a:solidFill>
                <a:latin typeface="迷你简胖娃"/>
                <a:ea typeface="迷你简胖娃"/>
              </a:rPr>
              <a:t>文中“余读孔氏书，想见其为人”，是太史公对孔子对后人的影响的高度评价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6720" y="333360"/>
            <a:ext cx="23702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8000"/>
                    </a:srgbClr>
                  </a:outerShdw>
                </a:effectLst>
                <a:latin typeface="华文琥珀"/>
              </a:rPr>
              <a:t>评价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8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900000">
            <a:off x="7524720" y="477360"/>
            <a:ext cx="762120" cy="15433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190080"/>
            <a:ext cx="8856720" cy="6480360"/>
          </a:xfrm>
          <a:prstGeom prst="rect">
            <a:avLst/>
          </a:prstGeom>
          <a:gradFill rotWithShape="0">
            <a:gsLst>
              <a:gs pos="0">
                <a:srgbClr val="ffccff">
                  <a:alpha val="42352"/>
                </a:srgbClr>
              </a:gs>
              <a:gs pos="100000">
                <a:srgbClr val="f3c2f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s-ES" sz="4000" spc="-1" strike="noStrike">
                <a:solidFill>
                  <a:srgbClr val="ff3300"/>
                </a:solidFill>
                <a:latin typeface="黑体"/>
                <a:ea typeface="DFPShiYiW5-B5"/>
              </a:rPr>
              <a:t>孔子</a:t>
            </a:r>
            <a:r>
              <a:rPr b="1" lang="zh-CN" sz="3200" spc="-1" strike="noStrike">
                <a:solidFill>
                  <a:srgbClr val="f8fda9"/>
                </a:solidFill>
                <a:latin typeface="微软雅黑"/>
                <a:ea typeface="微软雅黑"/>
              </a:rPr>
              <a:t>,</a:t>
            </a:r>
            <a:r>
              <a:rPr b="1" lang="es-E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名丘</a:t>
            </a:r>
            <a:r>
              <a:rPr b="1" lang="es-ES" sz="3200" spc="-1" strike="noStrike">
                <a:solidFill>
                  <a:srgbClr val="f8fda9"/>
                </a:solidFill>
                <a:latin typeface="微软雅黑"/>
                <a:ea typeface="微软雅黑"/>
              </a:rPr>
              <a:t>，</a:t>
            </a:r>
            <a:r>
              <a:rPr b="1" lang="es-E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字仲尼</a:t>
            </a:r>
            <a:r>
              <a:rPr b="1" lang="es-ES" sz="3200" spc="-1" strike="noStrike">
                <a:solidFill>
                  <a:srgbClr val="f8fda9"/>
                </a:solidFill>
                <a:latin typeface="微软雅黑"/>
                <a:ea typeface="微软雅黑"/>
              </a:rPr>
              <a:t>。</a:t>
            </a:r>
            <a:r>
              <a:rPr b="1" lang="es-E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春秋后期伟大的思想家、教育家</a:t>
            </a:r>
            <a:r>
              <a:rPr b="1" lang="es-ES" sz="3200" spc="-1" strike="noStrike">
                <a:solidFill>
                  <a:srgbClr val="f8fda9"/>
                </a:solidFill>
                <a:latin typeface="微软雅黑"/>
                <a:ea typeface="微软雅黑"/>
              </a:rPr>
              <a:t>，</a:t>
            </a:r>
            <a:r>
              <a:rPr b="1" lang="es-E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儒家的创始人</a:t>
            </a:r>
            <a:r>
              <a:rPr b="1" lang="es-ES" sz="3200" spc="-1" strike="noStrike">
                <a:solidFill>
                  <a:srgbClr val="f8fda9"/>
                </a:solidFill>
                <a:latin typeface="微软雅黑"/>
                <a:ea typeface="微软雅黑"/>
              </a:rPr>
              <a:t>。</a:t>
            </a:r>
            <a:r>
              <a:rPr b="1" lang="es-E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鲁国人</a:t>
            </a:r>
            <a:r>
              <a:rPr b="1" lang="es-ES" sz="3200" spc="-1" strike="noStrike">
                <a:solidFill>
                  <a:srgbClr val="f8fda9"/>
                </a:solidFill>
                <a:latin typeface="微软雅黑"/>
                <a:ea typeface="微软雅黑"/>
              </a:rPr>
              <a:t>。</a:t>
            </a:r>
            <a:r>
              <a:rPr b="1" lang="es-E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是儒家学派的创始人</a:t>
            </a:r>
            <a:r>
              <a:rPr b="1" lang="es-ES" sz="3200" spc="-1" strike="noStrike">
                <a:solidFill>
                  <a:srgbClr val="f8fda9"/>
                </a:solidFill>
                <a:latin typeface="微软雅黑"/>
                <a:ea typeface="微软雅黑"/>
              </a:rPr>
              <a:t>，提出了</a:t>
            </a:r>
            <a:r>
              <a:rPr b="1" lang="es-E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“仁”</a:t>
            </a:r>
            <a:r>
              <a:rPr b="1" lang="es-ES" sz="3200" spc="-1" strike="noStrike">
                <a:solidFill>
                  <a:srgbClr val="f8fda9"/>
                </a:solidFill>
                <a:latin typeface="微软雅黑"/>
                <a:ea typeface="微软雅黑"/>
              </a:rPr>
              <a:t>的思想，是中国古代著名的思想家和教育家。孔子经其终生倡导和历代儒家的发展，使中国儒家学说成为中华文化的主流，作为中国人的指导思想逾两千余年。孔子思想体系的核心是德治主义，他执著地倡导</a:t>
            </a:r>
            <a:r>
              <a:rPr b="1" lang="es-E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德化社会</a:t>
            </a:r>
            <a:r>
              <a:rPr b="1" lang="es-ES" sz="3200" spc="-1" strike="noStrike">
                <a:solidFill>
                  <a:srgbClr val="f8fda9"/>
                </a:solidFill>
                <a:latin typeface="微软雅黑"/>
                <a:ea typeface="微软雅黑"/>
              </a:rPr>
              <a:t>与</a:t>
            </a:r>
            <a:r>
              <a:rPr b="1" lang="es-E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德化人生</a:t>
            </a:r>
            <a:r>
              <a:rPr b="1" lang="es-ES" sz="3200" spc="-1" strike="noStrike">
                <a:solidFill>
                  <a:srgbClr val="f8fda9"/>
                </a:solidFill>
                <a:latin typeface="微软雅黑"/>
                <a:ea typeface="微软雅黑"/>
              </a:rPr>
              <a:t>。德化社会的最高标准是“礼”，德化人生的最高价值是“仁”。孔圣人儒家学派创始人，世界最著名的文化名人，同时精通易经《十翼》所作者，孔子是中国古代突破对自然山水宗教式态度的第一人，我爱大自然更爱自然山水，大自然包涵灾难、地震、龙卷风、恐龙的灭绝等，而自然山水是永存的好风水，提出了“</a:t>
            </a:r>
            <a:r>
              <a:rPr b="1" lang="es-ES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知者乐水，仁者乐山</a:t>
            </a:r>
            <a:r>
              <a:rPr b="1" lang="es-ES" sz="3200" spc="-1" strike="noStrike">
                <a:solidFill>
                  <a:srgbClr val="f8fda9"/>
                </a:solidFill>
                <a:latin typeface="微软雅黑"/>
                <a:ea typeface="微软雅黑"/>
              </a:rPr>
              <a:t>”（《论语</a:t>
            </a:r>
            <a:r>
              <a:rPr b="1" lang="es-ES" sz="3200" spc="-1" strike="noStrike">
                <a:solidFill>
                  <a:srgbClr val="f8fda9"/>
                </a:solidFill>
                <a:latin typeface="微软雅黑"/>
                <a:ea typeface="微软雅黑"/>
              </a:rPr>
              <a:t>·</a:t>
            </a:r>
            <a:r>
              <a:rPr b="1" lang="es-ES" sz="3200" spc="-1" strike="noStrike">
                <a:solidFill>
                  <a:srgbClr val="f8fda9"/>
                </a:solidFill>
                <a:latin typeface="微软雅黑"/>
                <a:ea typeface="微软雅黑"/>
              </a:rPr>
              <a:t>雍也》）的著名美学命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8000" y="44280"/>
            <a:ext cx="8858160" cy="6769440"/>
          </a:xfrm>
          <a:prstGeom prst="rect">
            <a:avLst/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cbcbc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s-ES" sz="3600" spc="-1" strike="noStrike">
                <a:solidFill>
                  <a:srgbClr val="422c16"/>
                </a:solidFill>
                <a:latin typeface="Arial"/>
                <a:ea typeface="微软雅黑"/>
              </a:rPr>
              <a:t>是司马迁为孔子传记所写的评论。必须指出的是，司马迁在世时所接触的儒学，不说是原汁原味，最少也并无绝对化甚至是神化的包装，战国到西汉时期，虽然也有不少如公羊高、谷梁赤类的讲师，其家学对孔子思想的理解，在一些方面有所偏颇，但是总还存在争鸣。不像宋代以后，朱熹、二程成了别无分号的真传。所以司马迁的评价，应该还没有受到专制的桎梏，是以其学术价值为基础的。司马迁在文中用了《诗经》中的句子，赞誉孔子的品德言行：以巍峨的山峰比喻孔子道德的崇高，以宽阔坦荡的大道，比喻孔子行为的光明正大，以至被从古至今的人们所景仰、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www.1kejian.com</dc:creator>
  <dc:description>www.1kejian.com</dc:description>
  <dc:language>en-US</dc:language>
  <cp:lastModifiedBy>Mariajose</cp:lastModifiedBy>
  <cp:lastPrinted>1899-12-30T00:00:00Z</cp:lastPrinted>
  <dcterms:modified xsi:type="dcterms:W3CDTF">2011-08-23T18:55:03Z</dcterms:modified>
  <cp:revision>705</cp:revision>
  <dc:subject/>
  <dc:title>第一课件网www.1kej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NXTAG2">
    <vt:lpwstr>000800e80b000000000001024120</vt:lpwstr>
  </property>
</Properties>
</file>