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A40-E7E9-4C6C-B930-CDFF1336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E44-D9C2-4199-B827-76B26BA0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34D-61FF-47F1-9970-9ACCE87E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518-FE2E-4F7C-9A9B-99337680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7D4-E3BB-4AAF-9C17-8E1F5494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41B-1322-44C6-B23A-0483FBF1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F5C-43DA-4424-BDA0-1240912A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7C6-CAE0-47F6-9298-299CABBC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084-3AFB-4634-904B-C0F9862B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0BB-FBA2-4852-82D9-552626A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A66-7F75-4453-96C6-8E023F1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BC4-83CD-42A0-AFB1-7CD960C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9745-5877-4A57-BAE7-AF449319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 rot="5400000">
            <a:off x="4895280" y="2724120"/>
            <a:ext cx="6095880" cy="1257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孔雀东南飞</a:t>
            </a:r>
            <a:endParaRPr b="1" lang="en-US" sz="96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805360" y="2925720"/>
            <a:ext cx="103356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漳州三中     何美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4734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.12.15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457200" y="22860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99ff"/>
                </a:solidFill>
                <a:latin typeface="宋体"/>
              </a:rPr>
              <a:t>讨 论</a:t>
            </a:r>
            <a:endParaRPr b="1" lang="en-US" sz="2600" spc="1" strike="noStrike">
              <a:ln w="9360">
                <a:solidFill>
                  <a:srgbClr val="00ffff"/>
                </a:solidFill>
                <a:miter/>
              </a:ln>
              <a:solidFill>
                <a:srgbClr val="0099ff"/>
              </a:solidFill>
              <a:latin typeface="宋体"/>
              <a:ea typeface="宋体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066320" y="1371240"/>
            <a:ext cx="3309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仿宋_GB2312"/>
                <a:ea typeface="仿宋_GB2312"/>
              </a:rPr>
              <a:t>★</a:t>
            </a:r>
            <a:r>
              <a:rPr b="1" lang="zh-CN" sz="3600" spc="-1" strike="noStrike">
                <a:solidFill>
                  <a:srgbClr val="00ccff"/>
                </a:solidFill>
                <a:latin typeface="仿宋_GB2312"/>
                <a:ea typeface="仿宋_GB2312"/>
              </a:rPr>
              <a:t>女主人公的个性品质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990720" y="2133360"/>
            <a:ext cx="30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请找出几个重要情节中刘兰芝的表现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295280" y="3657600"/>
            <a:ext cx="22100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面对遣返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面对离别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面对逼婚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面对死亡                                                                                    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114800" y="35812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隶书"/>
              </a:rPr>
              <a:t>自尊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不卑不亢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114800" y="43434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隶书"/>
              </a:rPr>
              <a:t>坚贞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忠于爱情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114800" y="51055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隶书"/>
              </a:rPr>
              <a:t>冷静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外柔内刚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038480" y="5791320"/>
            <a:ext cx="405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隶书"/>
              </a:rPr>
              <a:t>刚烈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果断坚决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5" name="Picture 11" descr="孔雀东南飞1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223200" y="228600"/>
            <a:ext cx="152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焦仲卿</a:t>
            </a: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焦母</a:t>
            </a: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刘兄</a:t>
            </a: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刘母：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628360" y="525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忠于爱情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敢于为爱情牺牲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975320" y="180504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蛮横无理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独断专行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899000" y="3405240"/>
            <a:ext cx="21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见利忘义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趋炎附势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性情粗暴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冷酷无情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708640" y="56674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对女儿体贴理解又爱莫能助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对儿子迁就妥协又无奈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28600" y="160020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刘兰芝聪慧美丽，勤劳能干，知书达礼，焦仲卿与她又情深似海，可是焦母为何非休她不可？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焦仲卿是否可以脱离焦母而带刘兰芝另立门户？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刘兰芝被休以后又有那么好的再婚条件，她为什么不加以考虑，开始新的生活，却选择了死亡？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诗歌的结尾处写兰芝、仲卿魂化为鸟、富有浪漫主义色彩，这样写表达了人们什么样的愿望？如果你是作者，你打算以什么为结尾？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WordArt 3"/>
          <p:cNvSpPr txBox="1"/>
          <p:nvPr/>
        </p:nvSpPr>
        <p:spPr>
          <a:xfrm>
            <a:off x="457200" y="-228600"/>
            <a:ext cx="3809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问题探究：</a:t>
            </a:r>
            <a:endParaRPr b="1" lang="en-US" sz="26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517680" y="32076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补充说明：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447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礼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载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妇有七去：不顺父母去，无子去，淫去，妒去，有恶疾去，多言去，窃盗去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礼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还规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甚宜其妻，父母不悦，出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古代的婚姻制度是遵循“七去三不去”的原则的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七去”是休妻的七个具体条件， “三不去” “是对“七去”的限制。 “三不去”是指有所取无所归、与夫守三年丧、前贫贱后富贵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孝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肯定“孝”是上天所定的规范， “夫孝，天之经也，地之义也，人之行也。” “人之行，莫大于孝”，同时还把封建道德规范与封建法律联系起来，认为“五刑之属三千，而罪莫大于不孝”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057320"/>
            <a:ext cx="899172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·        </a:t>
            </a:r>
            <a:r>
              <a:rPr b="0" lang="zh-CN" sz="3800" spc="-1" strike="noStrike">
                <a:solidFill>
                  <a:srgbClr val="000099"/>
                </a:solidFill>
                <a:latin typeface="Arial"/>
                <a:ea typeface="华文新魏"/>
              </a:rPr>
              <a:t>老师的看法是：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华文新魏"/>
              </a:rPr>
              <a:t>焦仲卿、刘兰芝的死，从表面上看，是以个体的形式，为</a:t>
            </a:r>
            <a:r>
              <a:rPr b="1" lang="zh-CN" sz="3400" spc="-1" strike="noStrike">
                <a:solidFill>
                  <a:srgbClr val="ff3399"/>
                </a:solidFill>
                <a:latin typeface="Arial"/>
                <a:ea typeface="华文新魏"/>
              </a:rPr>
              <a:t>反抗双方的专制家长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华文新魏"/>
              </a:rPr>
              <a:t>对他们的婚姻爱情的摧残做出的最强烈的反抗，是为了</a:t>
            </a:r>
            <a:r>
              <a:rPr b="1" lang="zh-CN" sz="3400" spc="-1" strike="noStrike">
                <a:solidFill>
                  <a:srgbClr val="ff3399"/>
                </a:solidFill>
                <a:latin typeface="Arial"/>
                <a:ea typeface="华文新魏"/>
              </a:rPr>
              <a:t>维护他们的爱情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华文新魏"/>
              </a:rPr>
              <a:t>做出的最不屈的</a:t>
            </a:r>
            <a:r>
              <a:rPr b="1" lang="zh-CN" sz="3400" spc="-1" strike="noStrike">
                <a:solidFill>
                  <a:srgbClr val="ff3399"/>
                </a:solidFill>
                <a:latin typeface="Arial"/>
                <a:ea typeface="华文新魏"/>
              </a:rPr>
              <a:t>坚持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华文新魏"/>
              </a:rPr>
              <a:t>，是发生在两个家庭中的</a:t>
            </a:r>
            <a:r>
              <a:rPr b="1" lang="zh-CN" sz="3400" spc="-1" strike="noStrike">
                <a:solidFill>
                  <a:srgbClr val="ff3399"/>
                </a:solidFill>
                <a:latin typeface="Arial"/>
                <a:ea typeface="华文新魏"/>
              </a:rPr>
              <a:t>悲剧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华文新魏"/>
              </a:rPr>
              <a:t>。但从故事发生的时代看，他们的死，既表现了那个时代的人们，</a:t>
            </a:r>
            <a:r>
              <a:rPr b="1" lang="zh-CN" sz="3400" spc="-1" strike="noStrike">
                <a:solidFill>
                  <a:srgbClr val="ff3399"/>
                </a:solidFill>
                <a:latin typeface="Arial"/>
                <a:ea typeface="华文新魏"/>
              </a:rPr>
              <a:t>对毁灭人们幸福生活的封建礼教、封建专制制度的反抗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华文新魏"/>
              </a:rPr>
              <a:t>，也表达了人类植根于人性深处的、</a:t>
            </a:r>
            <a:r>
              <a:rPr b="1" lang="zh-CN" sz="3400" spc="-1" strike="noStrike">
                <a:solidFill>
                  <a:srgbClr val="ff3399"/>
                </a:solidFill>
                <a:latin typeface="Arial"/>
                <a:ea typeface="华文新魏"/>
              </a:rPr>
              <a:t>对生命自由的追求和对生命尊严的维护。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3048120" y="0"/>
            <a:ext cx="27432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关于诗歌主题</a:t>
            </a:r>
            <a:endParaRPr b="1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304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寻找相似的命运，思考本诗阅读的现实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457200" y="304920"/>
            <a:ext cx="4114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cap="rnd"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延伸：</a:t>
            </a:r>
            <a:endParaRPr b="1" lang="en-US" sz="2600" spc="1" strike="noStrike">
              <a:ln cap="rnd"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89360" y="152280"/>
            <a:ext cx="62546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陆游与唐婉的爱情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48560" y="2209680"/>
            <a:ext cx="5331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zvYG_22_1349_1"/>
          <p:cNvPicPr/>
          <p:nvPr/>
        </p:nvPicPr>
        <p:blipFill>
          <a:blip r:embed="rId1"/>
          <a:stretch/>
        </p:blipFill>
        <p:spPr>
          <a:xfrm>
            <a:off x="0" y="3618000"/>
            <a:ext cx="2770200" cy="32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9qpt_l1"/>
          <p:cNvPicPr/>
          <p:nvPr/>
        </p:nvPicPr>
        <p:blipFill>
          <a:blip r:embed="rId2"/>
          <a:stretch/>
        </p:blipFill>
        <p:spPr>
          <a:xfrm>
            <a:off x="0" y="0"/>
            <a:ext cx="2835360" cy="35719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3048120" y="963720"/>
            <a:ext cx="6095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陆游与唐婉结婚后，</a:t>
            </a:r>
            <a:r>
              <a:rPr b="0" lang="zh-CN" sz="26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伉俪相得”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</a:t>
            </a:r>
            <a:r>
              <a:rPr b="0" lang="zh-CN" sz="26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琴瑟甚和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是一对情意相投的恩爱夫妻。不料唐婉的才华横溢及她与陆游的亲密感情，引起了陆母的不满（女子无才便是德），逼迫陆游休弃唐婉。在陆游的百般劝说、哀求而无效的情势下，二人终于被迫分开，唐婉改嫁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赵士程，彼此音讯全无。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陆游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31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岁时，在一次春游中与唐婉偶然相遇于绍兴城南沈园。陆游百感交集。唐婉在征得赵士程同意后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派人给陆游送上酒肴，聊表对陆游的抚慰之情。陆游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"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怅然久之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",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在沈园的墙上题写了哀婉动人的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《 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钗头凤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词。唐婉则写下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-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续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钗头凤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相答，唐婉由于伤心过度，不久即郁闷愁怨而死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0" y="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52280" y="152280"/>
            <a:ext cx="4724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钗头凤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陆游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】</a:t>
            </a:r>
            <a:r>
              <a:rPr b="1" lang="zh-CN" sz="2600" spc="-1" strike="noStrike">
                <a:solidFill>
                  <a:srgbClr val="009900"/>
                </a:solidFill>
                <a:latin typeface="Arial"/>
              </a:rPr>
              <a:t>红酥手，黄滕酒。满城春色宫城墙柳。东风恶，欢情薄，一怀愁绪，几年离索。错，  错，错！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00"/>
                </a:solidFill>
                <a:latin typeface="Arial"/>
              </a:rPr>
              <a:t>春如旧，人空瘦。泪痕红氵邑鲛绡透。桃花落，闲池阁。山盟虽在，锦书难托。莫，莫，莫！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钗头凤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唐婉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】</a:t>
            </a:r>
            <a:r>
              <a:rPr b="1" lang="zh-CN" sz="2600" spc="-1" strike="noStrike">
                <a:solidFill>
                  <a:srgbClr val="009900"/>
                </a:solidFill>
                <a:latin typeface="Arial"/>
              </a:rPr>
              <a:t>世情薄，人情恶，雨送黄昏花易落。晓风干，泪痕残，欲笺心事，独语斜栏。难，难，难！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00"/>
                </a:solidFill>
                <a:latin typeface="Arial"/>
              </a:rPr>
              <a:t>人成各，今非昨，病魂常作秋千索。角声寒，夜阑珊，怕人寻问，咽泪装欢。瞒，瞒，瞒！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06360" y="4114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276520" y="4440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爱情诗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7548120" y="5583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为爱而死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0" name="Picture 12" descr="11457526827314375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R_033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990720" y="2743200"/>
            <a:ext cx="2590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346480" y="34225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4" name="WordArt 6" descr=""/>
          <p:cNvPicPr/>
          <p:nvPr/>
        </p:nvPicPr>
        <p:blipFill>
          <a:blip r:embed="rId2"/>
          <a:stretch/>
        </p:blipFill>
        <p:spPr>
          <a:xfrm>
            <a:off x="1517760" y="2133720"/>
            <a:ext cx="6608520" cy="20001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8"/>
          <p:cNvSpPr txBox="1"/>
          <p:nvPr/>
        </p:nvSpPr>
        <p:spPr>
          <a:xfrm>
            <a:off x="457200" y="1522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让我们一起呼唤：</a:t>
            </a:r>
            <a:endParaRPr b="1" lang="en-US" sz="26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checker dir="horz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5"/>
          <p:cNvSpPr/>
          <p:nvPr/>
        </p:nvSpPr>
        <p:spPr>
          <a:xfrm>
            <a:off x="179280" y="10666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050840" y="44895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609480" y="990720"/>
            <a:ext cx="2743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今日作业：</a:t>
            </a:r>
            <a:endParaRPr b="1" lang="en-US" sz="2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57200" y="25146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根据自己学习本文的体会自拟话题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如“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个人与社会</a:t>
            </a: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 ” “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生活与自由</a:t>
            </a: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” “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生命与尊严</a:t>
            </a: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” “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爱</a:t>
            </a:r>
            <a:r>
              <a:rPr b="1" lang="zh-CN" sz="15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美丽</a:t>
            </a:r>
            <a:r>
              <a:rPr b="1" lang="zh-CN" sz="15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永恒</a:t>
            </a: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” 等等），发表自己的看法，不少于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300</a:t>
            </a: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字。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雪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 rot="21198000">
            <a:off x="3962520" y="685440"/>
            <a:ext cx="2311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462000"/>
                </a:gradFill>
                <a:latin typeface="隶书"/>
              </a:rPr>
              <a:t>通假字</a:t>
            </a:r>
            <a:endParaRPr b="1" lang="en-US" sz="2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462000"/>
              </a:gradFill>
              <a:latin typeface="隶书"/>
              <a:ea typeface="隶书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03480" y="19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62120" y="1981080"/>
            <a:ext cx="266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终老不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取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七十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悲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蒲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葬华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傍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374720" y="198108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通“娶”，娶妻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200400" y="2895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通“奁”女子梳妆用的镜匣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352680" y="380988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同“脏”，脏腑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346640" y="480060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通“韧”，柔软而结实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222440" y="579132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通“旁”，旁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WordArt 22"/>
          <p:cNvSpPr txBox="1"/>
          <p:nvPr/>
        </p:nvSpPr>
        <p:spPr>
          <a:xfrm>
            <a:off x="380880" y="0"/>
            <a:ext cx="358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巩固与积累：</a:t>
            </a:r>
            <a:endParaRPr b="1" lang="en-US" sz="2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FR_033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7"/>
          <p:cNvSpPr/>
          <p:nvPr/>
        </p:nvSpPr>
        <p:spPr>
          <a:xfrm>
            <a:off x="990720" y="2743200"/>
            <a:ext cx="2590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2346480" y="34225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WordArt 30"/>
          <p:cNvSpPr txBox="1"/>
          <p:nvPr/>
        </p:nvSpPr>
        <p:spPr>
          <a:xfrm>
            <a:off x="3048120" y="2590920"/>
            <a:ext cx="3657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1" lang="en-US" sz="2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长城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80880" y="-1311120"/>
            <a:ext cx="921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80880" y="0"/>
            <a:ext cx="3505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词多义       </a:t>
            </a:r>
            <a:endParaRPr b="1" lang="en-US" sz="2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32280" y="122400"/>
            <a:ext cx="23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相”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523880" y="182880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见常日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誓天不相负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好自相扶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嬉戏莫相忘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儿已薄禄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叶叶相交通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572000" y="1828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副词，互相、相互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343400" y="236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代词，你，指刘兰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572000" y="2971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她，指婆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572000" y="35053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，指刘兰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56160" y="413064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相貌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5720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相互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长城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80880" y="-1311120"/>
            <a:ext cx="921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33520" y="3049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”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724280" y="3124080"/>
            <a:ext cx="24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411880" y="3581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296360" y="1158840"/>
            <a:ext cx="182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仲卿母所遣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十七为君妇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诗云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非为织作迟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阿母为汝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始尔未为久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慎勿为妇死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4817520" y="1066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介词，表被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330240" y="16923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动词，做、成为、作为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91640" y="22255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动词，作、写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5596200" y="2835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介词，由于、因为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4986720" y="33685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介词，替、给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5291640" y="39020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动词，算、算作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4176720" y="4435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介词，为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29512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何乃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区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感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区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本文出现的另外几组多义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295280" y="266688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家来贵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后世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阿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媒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267080" y="2743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辞别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62520" y="3124080"/>
            <a:ext cx="350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告诫、告诉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谢绝、拒绝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295280" y="449568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还家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处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兄意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得府君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114800" y="5029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适合、依照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03848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刚才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114800" y="1143000"/>
            <a:ext cx="3352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愚拙、凡庸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038480" y="1676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情意真挚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191120" y="45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出嫁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3"/>
          <p:cNvGrpSpPr/>
          <p:nvPr/>
        </p:nvGrpSpPr>
        <p:grpSpPr>
          <a:xfrm>
            <a:off x="1828800" y="228600"/>
            <a:ext cx="5029200" cy="990720"/>
            <a:chOff x="1828800" y="228600"/>
            <a:chExt cx="5029200" cy="990720"/>
          </a:xfrm>
        </p:grpSpPr>
        <p:grpSp>
          <p:nvGrpSpPr>
            <p:cNvPr id="92" name="Group 4"/>
            <p:cNvGrpSpPr/>
            <p:nvPr/>
          </p:nvGrpSpPr>
          <p:grpSpPr>
            <a:xfrm>
              <a:off x="1828800" y="228600"/>
              <a:ext cx="990720" cy="990720"/>
              <a:chOff x="1828800" y="228600"/>
              <a:chExt cx="990720" cy="99072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1828800" y="304920"/>
                <a:ext cx="990720" cy="91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1828800" y="228600"/>
                <a:ext cx="83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1630f4"/>
                    </a:solidFill>
                    <a:latin typeface="Times New Roman"/>
                    <a:ea typeface="华文行楷"/>
                  </a:rPr>
                  <a:t>偏</a:t>
                </a:r>
                <a:endParaRPr b="1" lang="en-US" sz="5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7"/>
            <p:cNvGrpSpPr/>
            <p:nvPr/>
          </p:nvGrpSpPr>
          <p:grpSpPr>
            <a:xfrm>
              <a:off x="3200400" y="228600"/>
              <a:ext cx="990720" cy="990720"/>
              <a:chOff x="3200400" y="228600"/>
              <a:chExt cx="990720" cy="990720"/>
            </a:xfrm>
          </p:grpSpPr>
          <p:sp>
            <p:nvSpPr>
              <p:cNvPr id="96" name="Oval 8"/>
              <p:cNvSpPr/>
              <p:nvPr/>
            </p:nvSpPr>
            <p:spPr>
              <a:xfrm>
                <a:off x="3200400" y="304920"/>
                <a:ext cx="990720" cy="91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" name="Text Box 9"/>
              <p:cNvSpPr/>
              <p:nvPr/>
            </p:nvSpPr>
            <p:spPr>
              <a:xfrm>
                <a:off x="3200400" y="228600"/>
                <a:ext cx="83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1630f4"/>
                    </a:solidFill>
                    <a:latin typeface="Times New Roman"/>
                    <a:ea typeface="华文行楷"/>
                  </a:rPr>
                  <a:t>义</a:t>
                </a:r>
                <a:endParaRPr b="1" lang="en-US" sz="5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10"/>
            <p:cNvGrpSpPr/>
            <p:nvPr/>
          </p:nvGrpSpPr>
          <p:grpSpPr>
            <a:xfrm>
              <a:off x="4572000" y="228600"/>
              <a:ext cx="990720" cy="990720"/>
              <a:chOff x="4572000" y="228600"/>
              <a:chExt cx="990720" cy="990720"/>
            </a:xfrm>
          </p:grpSpPr>
          <p:sp>
            <p:nvSpPr>
              <p:cNvPr id="99" name="Oval 11"/>
              <p:cNvSpPr/>
              <p:nvPr/>
            </p:nvSpPr>
            <p:spPr>
              <a:xfrm>
                <a:off x="4572000" y="304920"/>
                <a:ext cx="990720" cy="91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" name="Text Box 12"/>
              <p:cNvSpPr/>
              <p:nvPr/>
            </p:nvSpPr>
            <p:spPr>
              <a:xfrm>
                <a:off x="4572000" y="228600"/>
                <a:ext cx="83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1630f4"/>
                    </a:solidFill>
                    <a:latin typeface="Times New Roman"/>
                    <a:ea typeface="华文行楷"/>
                  </a:rPr>
                  <a:t>复</a:t>
                </a:r>
                <a:endParaRPr b="1" lang="en-US" sz="5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3"/>
            <p:cNvGrpSpPr/>
            <p:nvPr/>
          </p:nvGrpSpPr>
          <p:grpSpPr>
            <a:xfrm>
              <a:off x="5867280" y="228600"/>
              <a:ext cx="990720" cy="990720"/>
              <a:chOff x="5867280" y="228600"/>
              <a:chExt cx="990720" cy="990720"/>
            </a:xfrm>
          </p:grpSpPr>
          <p:sp>
            <p:nvSpPr>
              <p:cNvPr id="102" name="Oval 14"/>
              <p:cNvSpPr/>
              <p:nvPr/>
            </p:nvSpPr>
            <p:spPr>
              <a:xfrm>
                <a:off x="5867280" y="304920"/>
                <a:ext cx="990720" cy="91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" name="Text Box 15"/>
              <p:cNvSpPr/>
              <p:nvPr/>
            </p:nvSpPr>
            <p:spPr>
              <a:xfrm>
                <a:off x="5867280" y="228600"/>
                <a:ext cx="83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1630f4"/>
                    </a:solidFill>
                    <a:latin typeface="Times New Roman"/>
                    <a:ea typeface="华文行楷"/>
                  </a:rPr>
                  <a:t>词</a:t>
                </a:r>
                <a:endParaRPr b="1" lang="en-US" sz="5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Text Box 16"/>
          <p:cNvSpPr/>
          <p:nvPr/>
        </p:nvSpPr>
        <p:spPr>
          <a:xfrm>
            <a:off x="83808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有些词语两字组合在一起，只取其中一字的意义，另一个字只作陪衬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叫偏义复词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990720" y="2743200"/>
            <a:ext cx="25905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便可白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公姥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昼夜勤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作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有亲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父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逼迫兼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弟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日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牛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3962520" y="33526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指公公婆婆，这里专指婆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3581280" y="4038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作和休息，这里只是工作的意思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3962520" y="4648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亲和母亲，这里指母亲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3962520" y="5257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哥哥和弟弟，这里指哥哥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3962520" y="5867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牛和马，这里指马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914400" y="1295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偏义复词？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80880" y="1447920"/>
            <a:ext cx="24386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共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三年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汝岂得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自由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可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无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槌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便大怒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拜还入户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可断来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信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永无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处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兄意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74320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古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8120" y="2819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可爱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819520" y="21337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自作主张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971800" y="3429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坐具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971800" y="1523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一起生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562720" y="2819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0f4"/>
                </a:solidFill>
                <a:latin typeface="Times New Roman"/>
              </a:rPr>
              <a:t>怜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22096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0f4"/>
                </a:solidFill>
                <a:latin typeface="Times New Roman"/>
              </a:rPr>
              <a:t>不受限制和约束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1055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0f4"/>
                </a:solidFill>
                <a:latin typeface="Times New Roman"/>
              </a:rPr>
              <a:t>睡觉的器具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410080" y="1523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0f4"/>
                </a:solidFill>
                <a:latin typeface="Times New Roman"/>
              </a:rPr>
              <a:t>一同工作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791320" y="990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今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16"/>
          <p:cNvGrpSpPr/>
          <p:nvPr/>
        </p:nvGrpSpPr>
        <p:grpSpPr>
          <a:xfrm>
            <a:off x="1981080" y="152280"/>
            <a:ext cx="5029200" cy="990720"/>
            <a:chOff x="1981080" y="152280"/>
            <a:chExt cx="5029200" cy="990720"/>
          </a:xfrm>
        </p:grpSpPr>
        <p:grpSp>
          <p:nvGrpSpPr>
            <p:cNvPr id="125" name="Group 17"/>
            <p:cNvGrpSpPr/>
            <p:nvPr/>
          </p:nvGrpSpPr>
          <p:grpSpPr>
            <a:xfrm>
              <a:off x="1981080" y="152280"/>
              <a:ext cx="990720" cy="990720"/>
              <a:chOff x="1981080" y="152280"/>
              <a:chExt cx="990720" cy="990720"/>
            </a:xfrm>
          </p:grpSpPr>
          <p:sp>
            <p:nvSpPr>
              <p:cNvPr id="126" name="Oval 18"/>
              <p:cNvSpPr/>
              <p:nvPr/>
            </p:nvSpPr>
            <p:spPr>
              <a:xfrm>
                <a:off x="1981080" y="228600"/>
                <a:ext cx="990720" cy="91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7" name="Text Box 19"/>
              <p:cNvSpPr/>
              <p:nvPr/>
            </p:nvSpPr>
            <p:spPr>
              <a:xfrm>
                <a:off x="1981080" y="152280"/>
                <a:ext cx="83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1630f4"/>
                    </a:solidFill>
                    <a:latin typeface="Times New Roman"/>
                    <a:ea typeface="华文行楷"/>
                  </a:rPr>
                  <a:t>古</a:t>
                </a:r>
                <a:endParaRPr b="1" lang="en-US" sz="5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0"/>
            <p:cNvGrpSpPr/>
            <p:nvPr/>
          </p:nvGrpSpPr>
          <p:grpSpPr>
            <a:xfrm>
              <a:off x="3352680" y="152280"/>
              <a:ext cx="990720" cy="990720"/>
              <a:chOff x="3352680" y="152280"/>
              <a:chExt cx="990720" cy="990720"/>
            </a:xfrm>
          </p:grpSpPr>
          <p:sp>
            <p:nvSpPr>
              <p:cNvPr id="129" name="Oval 21"/>
              <p:cNvSpPr/>
              <p:nvPr/>
            </p:nvSpPr>
            <p:spPr>
              <a:xfrm>
                <a:off x="3352680" y="228600"/>
                <a:ext cx="990720" cy="91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0" name="Text Box 22"/>
              <p:cNvSpPr/>
              <p:nvPr/>
            </p:nvSpPr>
            <p:spPr>
              <a:xfrm>
                <a:off x="3352680" y="152280"/>
                <a:ext cx="83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1630f4"/>
                    </a:solidFill>
                    <a:latin typeface="Times New Roman"/>
                    <a:ea typeface="华文行楷"/>
                  </a:rPr>
                  <a:t>今</a:t>
                </a:r>
                <a:endParaRPr b="1" lang="en-US" sz="5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3"/>
            <p:cNvGrpSpPr/>
            <p:nvPr/>
          </p:nvGrpSpPr>
          <p:grpSpPr>
            <a:xfrm>
              <a:off x="4724280" y="152280"/>
              <a:ext cx="990720" cy="990720"/>
              <a:chOff x="4724280" y="152280"/>
              <a:chExt cx="990720" cy="990720"/>
            </a:xfrm>
          </p:grpSpPr>
          <p:sp>
            <p:nvSpPr>
              <p:cNvPr id="132" name="Oval 24"/>
              <p:cNvSpPr/>
              <p:nvPr/>
            </p:nvSpPr>
            <p:spPr>
              <a:xfrm>
                <a:off x="4724280" y="228600"/>
                <a:ext cx="990720" cy="91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3" name="Text Box 25"/>
              <p:cNvSpPr/>
              <p:nvPr/>
            </p:nvSpPr>
            <p:spPr>
              <a:xfrm>
                <a:off x="4724280" y="152280"/>
                <a:ext cx="83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1630f4"/>
                    </a:solidFill>
                    <a:latin typeface="Times New Roman"/>
                    <a:ea typeface="华文行楷"/>
                  </a:rPr>
                  <a:t>异</a:t>
                </a:r>
                <a:endParaRPr b="1" lang="en-US" sz="5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26"/>
            <p:cNvGrpSpPr/>
            <p:nvPr/>
          </p:nvGrpSpPr>
          <p:grpSpPr>
            <a:xfrm>
              <a:off x="6019560" y="152280"/>
              <a:ext cx="990720" cy="990720"/>
              <a:chOff x="6019560" y="152280"/>
              <a:chExt cx="990720" cy="990720"/>
            </a:xfrm>
          </p:grpSpPr>
          <p:sp>
            <p:nvSpPr>
              <p:cNvPr id="135" name="Oval 27"/>
              <p:cNvSpPr/>
              <p:nvPr/>
            </p:nvSpPr>
            <p:spPr>
              <a:xfrm>
                <a:off x="6019560" y="228600"/>
                <a:ext cx="990720" cy="91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6" name="Text Box 28"/>
              <p:cNvSpPr/>
              <p:nvPr/>
            </p:nvSpPr>
            <p:spPr>
              <a:xfrm>
                <a:off x="6019560" y="152280"/>
                <a:ext cx="83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1630f4"/>
                    </a:solidFill>
                    <a:latin typeface="Times New Roman"/>
                    <a:ea typeface="华文行楷"/>
                  </a:rPr>
                  <a:t>义</a:t>
                </a:r>
                <a:endParaRPr b="1" lang="en-US" sz="5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 Box 29"/>
          <p:cNvSpPr/>
          <p:nvPr/>
        </p:nvSpPr>
        <p:spPr>
          <a:xfrm>
            <a:off x="281952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两次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4724280" y="40384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0f4"/>
                </a:solidFill>
                <a:latin typeface="Arial"/>
              </a:rPr>
              <a:t>事情或行为重复</a:t>
            </a:r>
            <a:r>
              <a:rPr b="1" lang="en-US" sz="2800" spc="-1" strike="noStrike">
                <a:solidFill>
                  <a:srgbClr val="1630f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1630f4"/>
                </a:solidFill>
                <a:latin typeface="Arial"/>
              </a:rPr>
              <a:t>继续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2590920" y="44956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使者，指媒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5181480" y="44956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0f4"/>
                </a:solidFill>
                <a:latin typeface="Arial"/>
              </a:rPr>
              <a:t>相信，信任；信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2892960" y="4876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5105520" y="495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0f4"/>
                </a:solidFill>
                <a:latin typeface="Arial"/>
              </a:rPr>
              <a:t>指人工开凿的水道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2743200" y="54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处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4572000" y="5484960"/>
            <a:ext cx="41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30f4"/>
                </a:solidFill>
                <a:latin typeface="Arial"/>
              </a:rPr>
              <a:t>违反法律或犯错误的人按情节轻重处罚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雪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33520" y="380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特殊句式：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14400" y="160020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仲卿母所遣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誓天不相负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君既若见录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亦自缢于庭树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十三能织素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徘徊庭树下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937040" y="146376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动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861080" y="207324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宾语前置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937040" y="260676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宾语前置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861080" y="32925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状语后置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784760" y="3825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省略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708440" y="435924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省略句、状语后置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节回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开头两句：托物起兴，引出故事。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-----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引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第一部分：兰芝被遣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~6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节）  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开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第二部分：夫妻誓别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7~1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节） 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第三部分：兰芝抗婚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3~2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节）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进一步发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第四部分：双双殉情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2~3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节）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高潮、结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第五部分：告诫后人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3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节）   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尾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6:35:14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