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35A-4B42-4138-A80F-51964A8C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B328-05CE-4B0B-A5FD-CCF41849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0707-99CE-4AAA-9A0C-457514D3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0EAB-99D3-4685-B4C1-7FFFEAEB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B3D3-E5E5-43C2-979C-69A15AEC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975-E71B-42CE-8F56-6AB5B2DB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B325-43DA-42C2-A4E1-7B3A96DA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9E5-6710-48F4-AE0D-A67A1DF8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9E8-4360-4DCB-90A2-DF1A2808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FB72-E86F-41BA-88A4-A45EBB71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5C4-AF7F-4858-86EF-1C702CDA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DFC-3659-402C-A451-9BA6CE95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5DF9-F6B8-40C4-B56D-362B368C6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ing.wav" TargetMode="External"/><Relationship Id="rId2" Type="http://schemas.openxmlformats.org/officeDocument/2006/relationships/hyperlink" Target="file:///tmp/home/.config/libreoffice/4/user/gallery/Ring.wav" TargetMode="External"/><Relationship Id="rId3" Type="http://schemas.openxmlformats.org/officeDocument/2006/relationships/hyperlink" Target="file:///tmp/home/.config/libreoffice/4/user/gallery/Ring.wav" TargetMode="External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任"/>
          <p:cNvPicPr/>
          <p:nvPr/>
        </p:nvPicPr>
        <p:blipFill>
          <a:blip r:embed="rId1"/>
          <a:stretch/>
        </p:blipFill>
        <p:spPr>
          <a:xfrm>
            <a:off x="609480" y="838080"/>
            <a:ext cx="7820280" cy="53215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012680" y="182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408920" y="1143000"/>
            <a:ext cx="31064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Times New Roman"/>
                <a:ea typeface="隶书"/>
              </a:rPr>
              <a:t>口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014240" y="3167640"/>
            <a:ext cx="1094760" cy="34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林嗣环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111680" y="1220760"/>
            <a:ext cx="149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细黑"/>
                <a:ea typeface="华文细黑"/>
              </a:rPr>
              <a:t>作业</a:t>
            </a:r>
            <a:r>
              <a:rPr b="1" lang="en-US" sz="6000" spc="-1" strike="noStrike">
                <a:solidFill>
                  <a:srgbClr val="ff0000"/>
                </a:solidFill>
                <a:latin typeface="华文细黑"/>
                <a:ea typeface="华文细黑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447920" y="27432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认真观看洛桑学艺片段</a:t>
            </a:r>
            <a:r>
              <a:rPr b="1" lang="en-US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把洛桑摹拟的声音描摹下来</a:t>
            </a:r>
            <a:r>
              <a:rPr b="1" lang="en-US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看谁写得好</a:t>
            </a:r>
            <a:r>
              <a:rPr b="1" lang="en-US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G:\张红梅\爸爸的花儿落了\20040114_downz_08.jpg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590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80880" y="121932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、作者：林嗣环，字铁崖，清朝福建晋江人，顺治年间进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、出处：节选自</a:t>
            </a: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虞初新志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·</a:t>
            </a: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秋声诗自序</a:t>
            </a: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虞初新志</a:t>
            </a: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是清代人张潮编选的笔记小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、体裁：既可以作为场景描写的记叙文来读，也可以作为摹写口技特色的说明文来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38080" y="609480"/>
            <a:ext cx="4114800" cy="764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6f1"/>
                </a:solidFill>
                <a:latin typeface="华文细黑"/>
                <a:ea typeface="华文细黑"/>
              </a:rPr>
              <a:t>  </a:t>
            </a:r>
            <a:r>
              <a:rPr b="1" lang="zh-CN" sz="4400" spc="-1" strike="noStrike">
                <a:solidFill>
                  <a:srgbClr val="def6f1"/>
                </a:solidFill>
                <a:latin typeface="华文细黑"/>
                <a:ea typeface="华文细黑"/>
              </a:rPr>
              <a:t>文 学 常 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029200" y="797040"/>
            <a:ext cx="3657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ef6f1"/>
                </a:solidFill>
                <a:latin typeface="华文细黑"/>
                <a:ea typeface="华文细黑"/>
              </a:rPr>
              <a:t>      </a:t>
            </a:r>
            <a:r>
              <a:rPr b="1" lang="zh-CN" sz="2800" spc="-1" strike="noStrike">
                <a:solidFill>
                  <a:srgbClr val="def6f1"/>
                </a:solidFill>
                <a:latin typeface="华文细黑"/>
                <a:ea typeface="华文细黑"/>
              </a:rPr>
              <a:t>口技，是杂技的一种。演员运用口腔发声技巧来模仿各种声音。它能同时发出各种声响，清代属</a:t>
            </a:r>
            <a:r>
              <a:rPr b="1" lang="zh-CN" sz="2800" spc="-1" strike="noStrike">
                <a:solidFill>
                  <a:srgbClr val="def6f1"/>
                </a:solidFill>
                <a:latin typeface="Times New Roman"/>
                <a:ea typeface="华文细黑"/>
              </a:rPr>
              <a:t>“</a:t>
            </a:r>
            <a:r>
              <a:rPr b="1" lang="zh-CN" sz="2800" spc="-1" strike="noStrike">
                <a:solidFill>
                  <a:srgbClr val="def6f1"/>
                </a:solidFill>
                <a:latin typeface="华文细黑"/>
                <a:ea typeface="华文细黑"/>
              </a:rPr>
              <a:t>百戏</a:t>
            </a:r>
            <a:r>
              <a:rPr b="1" lang="zh-CN" sz="2800" spc="-1" strike="noStrike">
                <a:solidFill>
                  <a:srgbClr val="def6f1"/>
                </a:solidFill>
                <a:latin typeface="Times New Roman"/>
                <a:ea typeface="华文细黑"/>
              </a:rPr>
              <a:t>”</a:t>
            </a:r>
            <a:r>
              <a:rPr b="1" lang="zh-CN" sz="2800" spc="-1" strike="noStrike">
                <a:solidFill>
                  <a:srgbClr val="def6f1"/>
                </a:solidFill>
                <a:latin typeface="华文细黑"/>
                <a:ea typeface="华文细黑"/>
              </a:rPr>
              <a:t>之一种，表演者多隐身在布幔或屏风的后边，俗称</a:t>
            </a:r>
            <a:r>
              <a:rPr b="1" lang="zh-CN" sz="2800" spc="-1" strike="noStrike">
                <a:solidFill>
                  <a:srgbClr val="def6f1"/>
                </a:solidFill>
                <a:latin typeface="Times New Roman"/>
                <a:ea typeface="华文细黑"/>
              </a:rPr>
              <a:t>“</a:t>
            </a:r>
            <a:r>
              <a:rPr b="1" lang="zh-CN" sz="2800" spc="-1" strike="noStrike">
                <a:solidFill>
                  <a:srgbClr val="def6f1"/>
                </a:solidFill>
                <a:latin typeface="华文细黑"/>
                <a:ea typeface="华文细黑"/>
              </a:rPr>
              <a:t>隔壁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F:\zhangweidong\1234567\4单元\口技\kouji2.jpg"/>
          <p:cNvPicPr/>
          <p:nvPr/>
        </p:nvPicPr>
        <p:blipFill>
          <a:blip r:embed="rId1"/>
          <a:stretch/>
        </p:blipFill>
        <p:spPr>
          <a:xfrm>
            <a:off x="685800" y="838080"/>
            <a:ext cx="4191120" cy="533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838080" y="1295280"/>
            <a:ext cx="3048120" cy="764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def6f1"/>
                </a:solidFill>
                <a:latin typeface="Times New Roman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990720" y="312408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     </a:t>
            </a:r>
            <a:r>
              <a:rPr b="0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熟读，结合注释理解文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、读文      </a:t>
            </a:r>
            <a:r>
              <a:rPr b="0" lang="en-US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、疏通        </a:t>
            </a:r>
            <a:r>
              <a:rPr b="0" lang="en-US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、复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80880" y="2133720"/>
            <a:ext cx="83822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第一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段）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写表演前的准备及即将开始的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04920" y="3276720"/>
            <a:ext cx="914400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第二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段）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写表演者的精彩表演和 听众的反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第三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段）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写表演结束时的情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85800" y="1066680"/>
            <a:ext cx="1981080" cy="7034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ef6f1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def6f1"/>
                </a:solidFill>
                <a:latin typeface="Times New Roman"/>
              </a:rPr>
              <a:t>结  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E:\ziliao\18\热带7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52280" y="1523880"/>
            <a:ext cx="883944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正面描写和侧面描写相结合表现主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正面描写：描绘表演者的高超技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侧面描写：描绘听众的神态、动作，表现听众的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结合的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使表演和效果有机的联系起来，突出口技表演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57200" y="1219320"/>
            <a:ext cx="2057400" cy="7034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4000" spc="-1" strike="noStrike">
                <a:solidFill>
                  <a:srgbClr val="def6f1"/>
                </a:solidFill>
                <a:latin typeface="华文中宋"/>
                <a:ea typeface="华文中宋"/>
              </a:rPr>
              <a:t>写  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990720" y="2438280"/>
            <a:ext cx="73911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方正姚体"/>
                <a:ea typeface="方正姚体"/>
              </a:rPr>
              <a:t>        </a:t>
            </a:r>
            <a:r>
              <a:rPr b="1" lang="zh-CN" sz="5400" spc="-1" strike="noStrike">
                <a:solidFill>
                  <a:srgbClr val="0000ff"/>
                </a:solidFill>
                <a:latin typeface="方正姚体"/>
                <a:ea typeface="方正姚体"/>
              </a:rPr>
              <a:t>通过描写一场精彩的口技表演，表现了京中善口技者的高超技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838080" y="1143000"/>
            <a:ext cx="2362320" cy="916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zh-CN" sz="5400" spc="-1" strike="noStrike">
                <a:solidFill>
                  <a:srgbClr val="def6f1"/>
                </a:solidFill>
                <a:latin typeface="方正姚体"/>
                <a:ea typeface="方正姚体"/>
              </a:rPr>
              <a:t>主  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2"/>
          <p:cNvSpPr/>
          <p:nvPr/>
        </p:nvSpPr>
        <p:spPr>
          <a:xfrm>
            <a:off x="1828800" y="4495680"/>
            <a:ext cx="5638680" cy="0"/>
          </a:xfrm>
          <a:prstGeom prst="line">
            <a:avLst/>
          </a:prstGeom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>
            <a:hlinkClick r:id="rId1"/>
          </p:cNvPr>
          <p:cNvSpPr/>
          <p:nvPr/>
        </p:nvSpPr>
        <p:spPr>
          <a:xfrm>
            <a:off x="2700000" y="4495680"/>
            <a:ext cx="1643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疏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小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>
            <a:hlinkClick r:id="rId2"/>
          </p:cNvPr>
          <p:cNvSpPr/>
          <p:nvPr/>
        </p:nvSpPr>
        <p:spPr>
          <a:xfrm>
            <a:off x="4879800" y="4335120"/>
            <a:ext cx="5461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大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>
            <a:hlinkClick r:id="rId3"/>
          </p:cNvPr>
          <p:cNvSpPr/>
          <p:nvPr/>
        </p:nvSpPr>
        <p:spPr>
          <a:xfrm>
            <a:off x="5869800" y="4335120"/>
            <a:ext cx="9118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密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疏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V="1">
            <a:off x="2514600" y="990720"/>
            <a:ext cx="0" cy="3962160"/>
          </a:xfrm>
          <a:prstGeom prst="line">
            <a:avLst/>
          </a:prstGeom>
          <a:ln w="57240">
            <a:solidFill>
              <a:srgbClr val="00ff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914400" y="3124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伸颈侧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微笑默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408680" y="2438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意少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239480" y="1447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变色出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股战欲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7315200" y="3657600"/>
            <a:ext cx="1828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正面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Times New Roman"/>
                <a:ea typeface="幼圆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幼圆"/>
              </a:rPr>
              <a:t>口技表演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幼圆"/>
              </a:rPr>
              <a:t>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黑体"/>
              </a:rPr>
              <a:t>声音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幼圆"/>
              </a:rPr>
              <a:t>的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1828800" y="210960"/>
            <a:ext cx="1828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侧面描写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宾客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的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2666880" y="3809880"/>
            <a:ext cx="121932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3733920" y="2863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00be9"/>
                </a:solidFill>
                <a:latin typeface="Times New Roman"/>
                <a:ea typeface="华文行楷"/>
              </a:rPr>
              <a:t>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4800600" y="2895480"/>
            <a:ext cx="106668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5029200" y="2286000"/>
            <a:ext cx="5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00be9"/>
                </a:solidFill>
                <a:latin typeface="Times New Roman"/>
                <a:ea typeface="华文行楷"/>
              </a:rPr>
              <a:t>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6"/>
          <p:cNvSpPr/>
          <p:nvPr/>
        </p:nvSpPr>
        <p:spPr>
          <a:xfrm>
            <a:off x="7010280" y="1600200"/>
            <a:ext cx="1295640" cy="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5928120" y="1720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00be9"/>
                </a:solidFill>
                <a:latin typeface="Times New Roman"/>
                <a:ea typeface="华文行楷"/>
              </a:rPr>
              <a:t>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6346440" y="533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1f0a"/>
                </a:solidFill>
                <a:latin typeface="Times New Roman"/>
                <a:ea typeface="华文行楷"/>
              </a:rPr>
              <a:t>情节发展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80880" y="5486400"/>
            <a:ext cx="8382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      </a:t>
            </a:r>
            <a:r>
              <a:rPr b="1" i="1" lang="en-US" sz="2800" spc="-1" strike="noStrike">
                <a:solidFill>
                  <a:srgbClr val="ff3300"/>
                </a:solidFill>
                <a:latin typeface="幼圆"/>
                <a:ea typeface="幼圆"/>
              </a:rPr>
              <a:t>“</a:t>
            </a:r>
            <a:r>
              <a:rPr b="1" i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一桌、一椅、一扇、一抚尺而已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ff"/>
                </a:solidFill>
                <a:latin typeface="幼圆"/>
                <a:ea typeface="幼圆"/>
              </a:rPr>
              <a:t>             </a:t>
            </a:r>
            <a:r>
              <a:rPr b="1" i="1" lang="zh-CN" sz="2400" spc="-1" strike="noStrike">
                <a:solidFill>
                  <a:srgbClr val="66ffff"/>
                </a:solidFill>
                <a:latin typeface="幼圆"/>
                <a:ea typeface="幼圆"/>
              </a:rPr>
              <a:t>简单的道具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  <a:ea typeface="幼圆"/>
              </a:rPr>
              <a:t>——</a:t>
            </a:r>
            <a:r>
              <a:rPr b="1" i="1" lang="zh-CN" sz="2400" spc="-1" strike="noStrike">
                <a:solidFill>
                  <a:srgbClr val="66ffff"/>
                </a:solidFill>
                <a:latin typeface="幼圆"/>
                <a:ea typeface="幼圆"/>
              </a:rPr>
              <a:t>衬托表演者高超的技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ff"/>
                </a:solidFill>
                <a:latin typeface="幼圆"/>
                <a:ea typeface="幼圆"/>
              </a:rPr>
              <a:t>                           </a:t>
            </a:r>
            <a:r>
              <a:rPr b="1" i="1" lang="zh-CN" sz="2400" spc="-1" strike="noStrike">
                <a:solidFill>
                  <a:srgbClr val="66ffff"/>
                </a:solidFill>
                <a:latin typeface="幼圆"/>
                <a:ea typeface="幼圆"/>
              </a:rPr>
              <a:t>首尾照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 flipV="1">
            <a:off x="3886200" y="2895480"/>
            <a:ext cx="914400" cy="914400"/>
          </a:xfrm>
          <a:prstGeom prst="line">
            <a:avLst/>
          </a:prstGeom>
          <a:ln w="76320">
            <a:solidFill>
              <a:srgbClr val="ea1f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 flipV="1">
            <a:off x="5867280" y="1600200"/>
            <a:ext cx="1143000" cy="129528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2743200" y="318456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00be9"/>
                </a:solidFill>
                <a:latin typeface="Times New Roman"/>
                <a:ea typeface="华文行楷"/>
              </a:rPr>
              <a:t>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7315200" y="9748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00be9"/>
                </a:solidFill>
                <a:latin typeface="Times New Roman"/>
                <a:ea typeface="华文行楷"/>
              </a:rPr>
              <a:t>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4"/>
          <p:cNvSpPr/>
          <p:nvPr/>
        </p:nvSpPr>
        <p:spPr>
          <a:xfrm>
            <a:off x="7109640" y="1600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首尾照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2590920" y="3809880"/>
            <a:ext cx="15238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00be9"/>
                </a:solidFill>
                <a:latin typeface="Times New Roman"/>
                <a:ea typeface="幼圆"/>
              </a:rPr>
              <a:t>铺垫衬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411480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00be9"/>
                </a:solidFill>
                <a:latin typeface="Times New Roman"/>
                <a:ea typeface="幼圆"/>
              </a:rPr>
              <a:t>渐入佳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7"/>
          <p:cNvSpPr/>
          <p:nvPr/>
        </p:nvSpPr>
        <p:spPr>
          <a:xfrm>
            <a:off x="5029200" y="2895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00be9"/>
                </a:solidFill>
                <a:latin typeface="Times New Roman"/>
                <a:ea typeface="幼圆"/>
              </a:rPr>
              <a:t>欲扬先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8"/>
          <p:cNvSpPr/>
          <p:nvPr/>
        </p:nvSpPr>
        <p:spPr>
          <a:xfrm>
            <a:off x="6324480" y="2209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00be9"/>
                </a:solidFill>
                <a:latin typeface="Times New Roman"/>
                <a:ea typeface="幼圆"/>
              </a:rPr>
              <a:t>推向高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914400" y="17971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课文中写听众的反应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914400" y="2590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从侧面突出口技表演的效果，烘托出技艺的高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838080" y="3854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以重复开头作为结尾的作用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990720" y="4572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结构上：首尾呼应 ，使文章浑然一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细黑"/>
                <a:ea typeface="华文细黑"/>
              </a:rPr>
              <a:t>内容上：起烘托作用，反衬口技表演的繁杂、热闹，突出表演者的技艺的高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90720" y="762120"/>
            <a:ext cx="2743200" cy="916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ef6f1"/>
                </a:solidFill>
                <a:latin typeface="Times New Roman"/>
              </a:rPr>
              <a:t>  </a:t>
            </a:r>
            <a:r>
              <a:rPr b="0" lang="zh-CN" sz="5400" spc="-1" strike="noStrike">
                <a:solidFill>
                  <a:srgbClr val="def6f1"/>
                </a:solidFill>
                <a:latin typeface="Times New Roman"/>
              </a:rPr>
              <a:t>探  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8T07:02:49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8T07:03:08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  <property fmtid="{D5CDD505-2E9C-101B-9397-08002B2CF9AE}" pid="3" name="Version">
    <vt:r8>1</vt:r8>
  </property>
</Properties>
</file>