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OUND65.WAV" ContentType="audio/x-wav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WHOP.WAV" ContentType="audio/x-wav"/>
  <Override PartName="/ppt/media/image5.gif" ContentType="image/gif"/>
  <Override PartName="/ppt/media/image14.jpeg" ContentType="image/jpeg"/>
  <Override PartName="/ppt/media/Windows%20XP%20%E5%8F%AE%E5%BD%93%E5%A3%B0.wav" ContentType="audio/x-wav"/>
  <Override PartName="/ppt/media/image6.jpeg" ContentType="image/jpeg"/>
  <Override PartName="/ppt/media/image10.png" ContentType="image/png"/>
  <Override PartName="/ppt/media/image8.gif" ContentType="image/gif"/>
  <Override PartName="/ppt/media/Windows%20XP%20%E6%83%8A%E5%8F%B9%E5%8F%B7.wav" ContentType="audio/x-wav"/>
  <Override PartName="/ppt/media/Windows%20XP%20%E9%80%9A%E7%9F%A5.wav" ContentType="audio/x-wav"/>
  <Override PartName="/ppt/media/image16.jpeg" ContentType="image/jpeg"/>
  <Override PartName="/ppt/media/chimes.wav" ContentType="audio/x-wav"/>
  <Override PartName="/ppt/media/image15.jpeg" ContentType="image/jpeg"/>
  <Override PartName="/ppt/media/Windows%20XP%20%E7%A1%AC%E4%BB%B6%E6%8F%92%E5%85%A5.wav" ContentType="audio/x-wav"/>
  <Override PartName="/ppt/media/image3.gif" ContentType="image/gif"/>
  <Override PartName="/ppt/media/image13.png" ContentType="image/png"/>
  <Override PartName="/ppt/media/image12.jpeg" ContentType="image/jpeg"/>
  <Override PartName="/ppt/media/SOUND53.WAV" ContentType="audio/x-wav"/>
  <Override PartName="/ppt/media/image17.jpeg" ContentType="image/jpeg"/>
  <Override PartName="/ppt/media/image1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028-A238-4887-9ABB-8F5788AB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FCA-72BE-4EE8-BFE6-2B97EBB4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DBF-7875-417C-ABDF-ADF4D30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F73-7BE8-4498-BF08-C60AF6DD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A7D-9E00-429B-BC16-A509F2C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E53-2A4A-4FEB-864C-2697E4A0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167-9E85-4F5D-BE56-AE4B600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40B-3843-4A34-B77A-BB648AE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FFC-C6D1-4129-B21D-CBE71ED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75D-4A57-443E-9287-9CDA475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D37-BED8-4031-8457-A0467BAF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778-E86C-4315-91E2-D8385A7C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8F0-E00A-453E-B3FC-DC5ADF1E9B2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ows%20XP%20&#36890;&#30693;.wav"/><Relationship Id="rId2" Type="http://schemas.openxmlformats.org/officeDocument/2006/relationships/audio" Target="../media/Windows%20XP%20&#36890;&#30693;.wav"/><Relationship Id="rId3" Type="http://schemas.openxmlformats.org/officeDocument/2006/relationships/audio" Target="../media/Windows%20XP%20&#36890;&#30693;.wav"/><Relationship Id="rId4" Type="http://schemas.openxmlformats.org/officeDocument/2006/relationships/audio" Target="../media/Windows%20XP%20&#36890;&#30693;.wav"/><Relationship Id="rId5" Type="http://schemas.openxmlformats.org/officeDocument/2006/relationships/audio" Target="../media/Windows%20XP%20&#36890;&#30693;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ows%20XP%20&#24778;&#21497;&#21495;.wav"/><Relationship Id="rId2" Type="http://schemas.openxmlformats.org/officeDocument/2006/relationships/audio" Target="../media/Windows%20XP%20&#21486;&#24403;&#22768;.wav"/><Relationship Id="rId3" Type="http://schemas.openxmlformats.org/officeDocument/2006/relationships/audio" Target="../media/Windows%20XP%20&#24778;&#21497;&#21495;.wav"/><Relationship Id="rId4" Type="http://schemas.openxmlformats.org/officeDocument/2006/relationships/audio" Target="../media/Windows%20XP%20&#24778;&#21497;&#21495;.wav"/><Relationship Id="rId5" Type="http://schemas.openxmlformats.org/officeDocument/2006/relationships/audio" Target="../media/Windows%20XP%20&#36890;&#30693;.wav"/><Relationship Id="rId6" Type="http://schemas.openxmlformats.org/officeDocument/2006/relationships/audio" Target="../media/Windows%20XP%20&#36890;&#30693;.wav"/><Relationship Id="rId7" Type="http://schemas.openxmlformats.org/officeDocument/2006/relationships/audio" Target="../media/Windows%20XP%20&#36890;&#30693;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WHOP.WAV" TargetMode="External"/><Relationship Id="rId4" Type="http://schemas.openxmlformats.org/officeDocument/2006/relationships/image" Target="../media/image8.gif"/><Relationship Id="rId5" Type="http://schemas.openxmlformats.org/officeDocument/2006/relationships/audio" Target="../media/WHOP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audio" Target="../media/SOUND65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SOUND53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Windows%20XP%20&#30828;&#20214;&#25554;&#20837;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71640" y="4076640"/>
            <a:ext cx="75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合作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学习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052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优化教学手段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4000" y="2349360"/>
            <a:ext cx="61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提高课堂效率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84720" y="782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01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76720" y="2924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427640" y="1916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79600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076720" y="541008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796000" y="314172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那时的恐龙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952200" cy="144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24000" y="3789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435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79600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57200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500720" y="1197000"/>
            <a:ext cx="952200" cy="14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084720" y="242100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约在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亿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是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995640" y="2781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572000" y="549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93236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940360" y="62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227640" y="3213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3276720" y="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6012000" y="1844640"/>
            <a:ext cx="244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万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8472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227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3492360" y="404640"/>
            <a:ext cx="2448000" cy="136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成了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11280" y="162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6464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无处不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47260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不会迁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5662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2276640"/>
            <a:ext cx="324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537372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36572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476280"/>
            <a:ext cx="3527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0" name=""/>
          <p:cNvSpPr/>
          <p:nvPr/>
        </p:nvSpPr>
        <p:spPr>
          <a:xfrm>
            <a:off x="1760400" y="27068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外各洲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5840" y="3429000"/>
            <a:ext cx="180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87520" y="836640"/>
            <a:ext cx="8229600" cy="47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讨论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: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这篇文章说明的对象究竟是什么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?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A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恐龙无处不有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B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大陆漂移学说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C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不同科学领域之间是紧密相联的。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5400" y="24210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同科学领域之间是紧密相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260280"/>
            <a:ext cx="3527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5" name=""/>
          <p:cNvSpPr/>
          <p:nvPr/>
        </p:nvSpPr>
        <p:spPr>
          <a:xfrm>
            <a:off x="2820960" y="1557360"/>
            <a:ext cx="504720" cy="37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508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总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8400" y="1125360"/>
            <a:ext cx="127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学说成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99520" y="1628640"/>
            <a:ext cx="576000" cy="3816360"/>
          </a:xfrm>
          <a:custGeom>
            <a:avLst/>
            <a:gdLst>
              <a:gd name="textAreaLeft" fmla="*/ 0 w 576000"/>
              <a:gd name="textAreaRight" fmla="*/ 208080 w 57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5805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具体说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1280" y="508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10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0765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无处不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1562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不会迁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97440" y="5092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1701720"/>
            <a:ext cx="324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3080" y="4803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53080" y="3795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06800" y="2060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南极外各洲发现恐龙化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1800" y="278280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5%8F%AE%E5%BD%9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083520" cy="50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明方法的判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位于南极中心部位的南极洲是全球的大冰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大约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亿年前，泛大陆分裂成四部分（  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板块构造理论很快为地质界几个所有的问题提供了答案，如火山，地震，岛屿链，海洋深渊等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70828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打比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9280" y="38577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列数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54450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举例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484360" y="333360"/>
            <a:ext cx="453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 品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4160" y="404280"/>
            <a:ext cx="902196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１、“板块构造”理论很快为地质界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几乎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所有的问题提供了答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２、印度向北移动，并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大约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0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万年前与亚洲相碰撞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到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5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万年前，由于这样或那样的原因，所有的恐龙都灭绝了，大陆也已完全分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位于南极中心的南极洲是全球的大冰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63640" y="47628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拓展延伸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20500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学完这一课你有哪些收获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展示介绍自己课下搜集的关于恐龙的资料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06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458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627280" y="549360"/>
            <a:ext cx="626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3300"/>
                </a:solidFill>
                <a:latin typeface="华文行楷"/>
              </a:rPr>
              <a:t>阿西莫夫科普短文两篇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4720" y="3933720"/>
            <a:ext cx="4319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恐龙无处不有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1640" y="5373720"/>
            <a:ext cx="287964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619280" y="1268280"/>
            <a:ext cx="51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业布置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3573360"/>
            <a:ext cx="9191520" cy="940680"/>
            <a:chOff x="324000" y="3573360"/>
            <a:chExt cx="9191520" cy="940680"/>
          </a:xfrm>
        </p:grpSpPr>
        <p:sp>
          <p:nvSpPr>
            <p:cNvPr id="201" name=""/>
            <p:cNvSpPr/>
            <p:nvPr/>
          </p:nvSpPr>
          <p:spPr>
            <a:xfrm>
              <a:off x="371520" y="357336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ff3300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》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359712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0000ff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》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276720" y="1197000"/>
            <a:ext cx="3620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lass Over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280" y="2349000"/>
            <a:ext cx="783252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听读课文，并结合大屏展示的图片，了解课文内容，理清作者的写作思路，准备复述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95640" y="692280"/>
            <a:ext cx="489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整体感知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084640"/>
            <a:ext cx="116676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356000" y="6165720"/>
            <a:ext cx="1440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南极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084720" y="1557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50872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500364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2771640" y="0"/>
            <a:ext cx="952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230328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/>
          </p:cNvPr>
          <p:cNvSpPr/>
          <p:nvPr/>
        </p:nvSpPr>
        <p:spPr>
          <a:xfrm>
            <a:off x="4284720" y="333360"/>
            <a:ext cx="4174920" cy="1943280"/>
          </a:xfrm>
          <a:prstGeom prst="cloudCallout">
            <a:avLst>
              <a:gd name="adj1" fmla="val -45245"/>
              <a:gd name="adj2" fmla="val 47875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好冷啊！冻死我了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UND6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295720" cy="443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0"/>
            <a:ext cx="5219640" cy="345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260280"/>
            <a:ext cx="4105080" cy="1224000"/>
          </a:xfrm>
          <a:prstGeom prst="wedgeEllipseCallout">
            <a:avLst>
              <a:gd name="adj1" fmla="val -24634"/>
              <a:gd name="adj2" fmla="val 92541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难道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43280" y="3657600"/>
            <a:ext cx="48942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53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889440" cy="324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5256000" cy="2354400"/>
          </a:xfrm>
          <a:prstGeom prst="rect">
            <a:avLst/>
          </a:prstGeom>
          <a:ln w="0">
            <a:noFill/>
          </a:ln>
        </p:spPr>
      </p:pic>
      <p:sp>
        <p:nvSpPr>
          <p:cNvPr id="119" name="PubOvalCallout"/>
          <p:cNvSpPr/>
          <p:nvPr/>
        </p:nvSpPr>
        <p:spPr>
          <a:xfrm>
            <a:off x="395280" y="404640"/>
            <a:ext cx="8064360" cy="2590920"/>
          </a:xfrm>
          <a:custGeom>
            <a:avLst/>
            <a:gdLst>
              <a:gd name="textAreaLeft" fmla="*/ 1180800 w 8064360"/>
              <a:gd name="textAreaRight" fmla="*/ 6883560 w 8064360"/>
              <a:gd name="textAreaTop" fmla="*/ 284760 h 2590920"/>
              <a:gd name="textAreaBottom" fmla="*/ 1659600 h 2590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No!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那只能是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69228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2340000" cy="45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7%A1%AC%E4%BB%B6%E6%8F%92%E5%85%A5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156360" y="285264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.25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亿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大陆是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7-09-04T06:50:53Z</dcterms:modified>
  <cp:revision>56</cp:revision>
  <dc:subject/>
  <dc:title>PowerPoint Presentation</dc:title>
</cp:coreProperties>
</file>