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6.gif" ContentType="image/gif"/>
  <Override PartName="/ppt/media/SOUND53.WAV" ContentType="audio/x-wav"/>
  <Override PartName="/ppt/media/SOUND65.WAV" ContentType="audio/x-wav"/>
  <Override PartName="/ppt/media/image11.jpeg" ContentType="image/jpeg"/>
  <Override PartName="/ppt/media/image7.jpeg" ContentType="image/jpeg"/>
  <Override PartName="/ppt/media/image8.png" ContentType="image/png"/>
  <Override PartName="/ppt/media/WHOP.WAV" ContentType="audio/x-wav"/>
  <Override PartName="/ppt/media/Windows%20XP%20%E5%8F%AE%E5%BD%93%E5%A3%B0.wav" ContentType="audio/x-wav"/>
  <Override PartName="/ppt/media/image10.jpeg" ContentType="image/jpeg"/>
  <Override PartName="/ppt/media/image5.jpeg" ContentType="image/jpeg"/>
  <Override PartName="/ppt/media/image15.jpeg" ContentType="image/jpeg"/>
  <Override PartName="/ppt/media/image14.gif" ContentType="image/gif"/>
  <Override PartName="/ppt/media/Windows%20XP%20%E9%80%9A%E7%9F%A5.wav" ContentType="audio/x-wav"/>
  <Override PartName="/ppt/media/image16.png" ContentType="image/png"/>
  <Override PartName="/ppt/media/chimes.wav" ContentType="audio/x-wav"/>
  <Override PartName="/ppt/media/Windows%20XP%20%E6%83%8A%E5%8F%B9%E5%8F%B7.wav" ContentType="audio/x-wav"/>
  <Override PartName="/ppt/media/image2.jpeg" ContentType="image/jpeg"/>
  <Override PartName="/ppt/media/image13.jpeg" ContentType="image/jpeg"/>
  <Override PartName="/ppt/media/image12.jpeg" ContentType="image/jpeg"/>
  <Override PartName="/ppt/media/Windows%20XP%20%E7%A1%AC%E4%BB%B6%E6%8F%92%E5%85%A5.wav" ContentType="audio/x-wav"/>
  <Override PartName="/ppt/media/image3.gif" ContentType="image/gif"/>
  <Override PartName="/ppt/media/image1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724-2544-46E9-9CC7-AF6E4906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649-494A-434D-8675-94299F17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8D1-0780-4F02-965E-ED6AA737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A58-5BA0-480A-A45A-09DB9A91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E27-8FCB-452E-A922-6AEB69D1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B86-6E4A-4D5F-A61F-B70CC37A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182-2119-4814-AA92-FC315F6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BAF-A856-4C0F-83AB-61D3336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A8A-1EB2-46F7-AC35-9E8166B2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AC7-0A50-49CE-B5D4-2887BBCD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054-FE9B-4DCE-A562-2C4C65BF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628-2A76-448A-BCCC-4ED3A89A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F06F-C2F3-44C4-B832-D271BD0C9E7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ows%20XP%20&#36890;&#30693;.wav"/><Relationship Id="rId2" Type="http://schemas.openxmlformats.org/officeDocument/2006/relationships/audio" Target="../media/Windows%20XP%20&#36890;&#30693;.wav"/><Relationship Id="rId3" Type="http://schemas.openxmlformats.org/officeDocument/2006/relationships/audio" Target="../media/Windows%20XP%20&#36890;&#30693;.wav"/><Relationship Id="rId4" Type="http://schemas.openxmlformats.org/officeDocument/2006/relationships/audio" Target="../media/Windows%20XP%20&#36890;&#30693;.wav"/><Relationship Id="rId5" Type="http://schemas.openxmlformats.org/officeDocument/2006/relationships/audio" Target="../media/Windows%20XP%20&#36890;&#30693;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ows%20XP%20&#24778;&#21497;&#21495;.wav"/><Relationship Id="rId2" Type="http://schemas.openxmlformats.org/officeDocument/2006/relationships/audio" Target="../media/Windows%20XP%20&#21486;&#24403;&#22768;.wav"/><Relationship Id="rId3" Type="http://schemas.openxmlformats.org/officeDocument/2006/relationships/audio" Target="../media/Windows%20XP%20&#24778;&#21497;&#21495;.wav"/><Relationship Id="rId4" Type="http://schemas.openxmlformats.org/officeDocument/2006/relationships/audio" Target="../media/Windows%20XP%20&#24778;&#21497;&#21495;.wav"/><Relationship Id="rId5" Type="http://schemas.openxmlformats.org/officeDocument/2006/relationships/audio" Target="../media/Windows%20XP%20&#36890;&#30693;.wav"/><Relationship Id="rId6" Type="http://schemas.openxmlformats.org/officeDocument/2006/relationships/audio" Target="../media/Windows%20XP%20&#36890;&#30693;.wav"/><Relationship Id="rId7" Type="http://schemas.openxmlformats.org/officeDocument/2006/relationships/audio" Target="../media/Windows%20XP%20&#36890;&#30693;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tmp/home/.config/libreoffice/4/user/gallery/WHOP.WAV" TargetMode="External"/><Relationship Id="rId4" Type="http://schemas.openxmlformats.org/officeDocument/2006/relationships/image" Target="../media/image6.gif"/><Relationship Id="rId5" Type="http://schemas.openxmlformats.org/officeDocument/2006/relationships/audio" Target="../media/WHO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audio" Target="../media/SOUND65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WHOP.WAV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7.jpeg"/><Relationship Id="rId6" Type="http://schemas.openxmlformats.org/officeDocument/2006/relationships/audio" Target="../media/SOUND53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audio" Target="../media/Windows%20XP%20&#30828;&#20214;&#25554;&#20837;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068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458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627280" y="549360"/>
            <a:ext cx="62643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3300"/>
                </a:solidFill>
                <a:latin typeface="华文行楷"/>
              </a:rPr>
              <a:t>阿西莫夫科普短文两篇</a:t>
            </a:r>
            <a:endParaRPr b="1" lang="en-US" sz="2400" spc="1" strike="noStrike">
              <a:ln w="0">
                <a:noFill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27640" y="4005360"/>
            <a:ext cx="4319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恐龙无处不在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71640" y="5373720"/>
            <a:ext cx="287964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59280" y="278136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95220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124000" y="3789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435640" y="981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5796000" y="37162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457200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4500720" y="1197000"/>
            <a:ext cx="952200" cy="1447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6084720" y="2421000"/>
            <a:ext cx="244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约在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亿年前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陆是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332000" y="836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995640" y="2781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572000" y="54936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93236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940360" y="620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6227640" y="3213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276720" y="0"/>
            <a:ext cx="952560" cy="1447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012000" y="1844640"/>
            <a:ext cx="244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万年前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陆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8472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284720" y="242100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835280" y="342900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227640" y="981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524720" y="3860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971640" y="1052640"/>
            <a:ext cx="952560" cy="1447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3492360" y="404640"/>
            <a:ext cx="2448000" cy="136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陆成了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11280" y="162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南极发现恐龙化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36464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无处不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47260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不会迁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5662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大陆漂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276640"/>
            <a:ext cx="324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37372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36572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476280"/>
            <a:ext cx="3527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课文结构展示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6" name=""/>
          <p:cNvSpPr/>
          <p:nvPr/>
        </p:nvSpPr>
        <p:spPr>
          <a:xfrm>
            <a:off x="1760400" y="27068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南极外各洲发现恐龙化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429000"/>
            <a:ext cx="180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4360" y="836640"/>
            <a:ext cx="8229600" cy="475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讨论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: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这篇文章说明的对象究竟是什么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?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   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A.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恐龙无处不在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   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B.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大陆漂移学说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   </a:t>
            </a: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C.</a:t>
            </a: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不同科学领域之间是紧密相联的。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5400" y="24210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同科学领域之间是紧密相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260280"/>
            <a:ext cx="3527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课文结构展示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1" name=""/>
          <p:cNvSpPr/>
          <p:nvPr/>
        </p:nvSpPr>
        <p:spPr>
          <a:xfrm>
            <a:off x="2820960" y="1557360"/>
            <a:ext cx="504720" cy="3743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508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总起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8400" y="1125360"/>
            <a:ext cx="12776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大陆漂移学说成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99520" y="1628640"/>
            <a:ext cx="576000" cy="3816360"/>
          </a:xfrm>
          <a:custGeom>
            <a:avLst/>
            <a:gdLst>
              <a:gd name="textAreaLeft" fmla="*/ 0 w 576000"/>
              <a:gd name="textAreaRight" fmla="*/ 208080 w 57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5805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具体说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31280" y="5084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总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10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南极发现恐龙化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5440" y="30765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无处不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41562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不会迁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97440" y="5092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大陆漂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1701720"/>
            <a:ext cx="3240" cy="50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3080" y="480384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379584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06800" y="2060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南极外各洲发现恐龙化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81800" y="278280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%E5%8F%AE%E5%BD%93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083520" cy="50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说明方法的判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位于南极中心部位的南极洲是全球的大冰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大约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亿年前，泛大陆分裂成四部分（   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板块构造理论很快为地质界几个所有的问题提供了答案，如火山，地震，岛屿链，海洋深渊等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70828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打比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9280" y="38577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列数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544500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举例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84360" y="333360"/>
            <a:ext cx="453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理解 品味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4160" y="404280"/>
            <a:ext cx="9021960" cy="587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１、“板块构造”理论很快为地质界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几乎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所有的问题提供了答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２、印度向北移动，并且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大约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000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万年前与亚洲相碰撞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到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500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万年前，由于这样或那样的原因，所有的恐龙都灭绝了，大陆也已完全分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位于南极中心的南极洲是全球的大冰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63640" y="476280"/>
            <a:ext cx="51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拓展延伸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220500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学完这一课你有哪些收获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57336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展示介绍自己课下搜集的关于恐龙的资料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200400" y="1676520"/>
            <a:ext cx="2743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启示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268280"/>
            <a:ext cx="7920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由科学家研究问题的方式，我们能得到哪些启示？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启示一：看问题从多个角度去研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启示二；敢于大胆想象和猜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启示三：看问题不是简单化和孤立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启示四：学会举一反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37480" y="6324480"/>
            <a:ext cx="506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71280" y="2349000"/>
            <a:ext cx="783252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听读课文，并结合大屏展示的图片，了解课文内容，理清作者的写作思路，准备复述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692280"/>
            <a:ext cx="4895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整体感知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619280" y="1268280"/>
            <a:ext cx="51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业布置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4000" y="3573360"/>
            <a:ext cx="9191520" cy="940680"/>
            <a:chOff x="324000" y="3573360"/>
            <a:chExt cx="9191520" cy="940680"/>
          </a:xfrm>
        </p:grpSpPr>
        <p:sp>
          <p:nvSpPr>
            <p:cNvPr id="200" name=""/>
            <p:cNvSpPr/>
            <p:nvPr/>
          </p:nvSpPr>
          <p:spPr>
            <a:xfrm>
              <a:off x="371520" y="357336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Arial"/>
                </a:rPr>
                <a:t>比较阅读</a:t>
              </a:r>
              <a:r>
                <a:rPr b="1" lang="en-US" sz="5400" spc="-1" strike="noStrike">
                  <a:solidFill>
                    <a:srgbClr val="ff3300"/>
                  </a:solidFill>
                  <a:latin typeface="宋体"/>
                </a:rPr>
                <a:t>《</a:t>
              </a:r>
              <a:r>
                <a:rPr b="1" lang="zh-CN" sz="5400" spc="-1" strike="noStrike">
                  <a:solidFill>
                    <a:srgbClr val="ff3300"/>
                  </a:solidFill>
                  <a:latin typeface="宋体"/>
                </a:rPr>
                <a:t>被压扁的沙子</a:t>
              </a:r>
              <a:r>
                <a:rPr b="1" lang="en-US" sz="5400" spc="-1" strike="noStrike">
                  <a:solidFill>
                    <a:srgbClr val="ff3300"/>
                  </a:solidFill>
                  <a:latin typeface="宋体"/>
                </a:rPr>
                <a:t>》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000" y="359712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比较阅读</a:t>
              </a:r>
              <a:r>
                <a:rPr b="1" lang="en-US" sz="5400" spc="-1" strike="noStrike">
                  <a:solidFill>
                    <a:srgbClr val="0000ff"/>
                  </a:solidFill>
                  <a:latin typeface="宋体"/>
                </a:rPr>
                <a:t>《</a:t>
              </a:r>
              <a:r>
                <a:rPr b="1" lang="zh-CN" sz="5400" spc="-1" strike="noStrike">
                  <a:solidFill>
                    <a:srgbClr val="0000ff"/>
                  </a:solidFill>
                  <a:latin typeface="宋体"/>
                </a:rPr>
                <a:t>被压扁的沙子</a:t>
              </a:r>
              <a:r>
                <a:rPr b="1" lang="en-US" sz="5400" spc="-1" strike="noStrike">
                  <a:solidFill>
                    <a:srgbClr val="0000ff"/>
                  </a:solidFill>
                  <a:latin typeface="宋体"/>
                </a:rPr>
                <a:t>》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276720" y="1197000"/>
            <a:ext cx="3620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lass Over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5084640"/>
            <a:ext cx="1166760" cy="1773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356000" y="6165720"/>
            <a:ext cx="1440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南极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372360" y="83664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284720" y="242100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84720" y="1557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835280" y="342900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508720" y="836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524720" y="3860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971640" y="105264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500364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2771640" y="0"/>
            <a:ext cx="952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2303280" cy="338436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3"/>
          </p:cNvPr>
          <p:cNvSpPr/>
          <p:nvPr/>
        </p:nvSpPr>
        <p:spPr>
          <a:xfrm>
            <a:off x="4284720" y="333360"/>
            <a:ext cx="4174920" cy="1943280"/>
          </a:xfrm>
          <a:prstGeom prst="cloudCallout">
            <a:avLst>
              <a:gd name="adj1" fmla="val -45245"/>
              <a:gd name="adj2" fmla="val 47875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好冷啊！冻死我了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OUND6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295720" cy="443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3648240"/>
            <a:ext cx="4897440" cy="3209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0"/>
            <a:ext cx="5219640" cy="345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260280"/>
            <a:ext cx="4105080" cy="1224000"/>
          </a:xfrm>
          <a:prstGeom prst="wedgeEllipseCallout">
            <a:avLst>
              <a:gd name="adj1" fmla="val -24634"/>
              <a:gd name="adj2" fmla="val 92541"/>
            </a:avLst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难道是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OUND53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3889440" cy="324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64000" y="3716280"/>
            <a:ext cx="5256000" cy="2354400"/>
          </a:xfrm>
          <a:prstGeom prst="rect">
            <a:avLst/>
          </a:prstGeom>
          <a:ln w="0">
            <a:noFill/>
          </a:ln>
        </p:spPr>
      </p:pic>
      <p:sp>
        <p:nvSpPr>
          <p:cNvPr id="115" name="PubOvalCallout"/>
          <p:cNvSpPr/>
          <p:nvPr/>
        </p:nvSpPr>
        <p:spPr>
          <a:xfrm>
            <a:off x="395280" y="404640"/>
            <a:ext cx="8064360" cy="2590920"/>
          </a:xfrm>
          <a:custGeom>
            <a:avLst/>
            <a:gdLst>
              <a:gd name="textAreaLeft" fmla="*/ 1180800 w 8064360"/>
              <a:gd name="textAreaRight" fmla="*/ 6883560 w 8064360"/>
              <a:gd name="textAreaTop" fmla="*/ 284760 h 2590920"/>
              <a:gd name="textAreaBottom" fmla="*/ 1659600 h 25909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黑体"/>
              </a:rPr>
              <a:t>No!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那只能是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27640" y="69228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708360" y="1989000"/>
            <a:ext cx="2295720" cy="44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7%A1%AC%E4%BB%B6%E6%8F%92%E5%85%A5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156360" y="2852640"/>
            <a:ext cx="244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.25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亿年前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大陆是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95640" y="4292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40000" y="400536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76720" y="292428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427640" y="191628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5796000" y="105264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4716360" y="404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5076720" y="5410080"/>
            <a:ext cx="952560" cy="1447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796000" y="314172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那时的恐龙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 Xiaonan</cp:lastModifiedBy>
  <dcterms:modified xsi:type="dcterms:W3CDTF">2004-12-08T11:58:26Z</dcterms:modified>
  <cp:revision>59</cp:revision>
  <dc:subject/>
  <dc:title>PowerPoint Presentation</dc:title>
</cp:coreProperties>
</file>