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jpeg" ContentType="image/jpeg"/>
  <Override PartName="/ppt/media/image10.jpeg" ContentType="image/jpeg"/>
  <Override PartName="/ppt/media/applause.wav" ContentType="audio/x-wav"/>
  <Override PartName="/ppt/media/image12.jpeg" ContentType="image/jpeg"/>
  <Override PartName="/ppt/media/image7.jpeg" ContentType="image/jpeg"/>
  <Override PartName="/ppt/media/image11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Windows%20XP%20%E5%8F%AE%E5%BD%93%E5%A3%B0.wav" ContentType="audio/x-wav"/>
  <Override PartName="/ppt/media/image4.gif" ContentType="image/gif"/>
  <Override PartName="/ppt/media/image1.jpeg" ContentType="image/jpeg"/>
  <Override PartName="/ppt/media/image3.gif" ContentType="image/gif"/>
  <Override PartName="/ppt/media/Windows%20XP%20%E9%80%9A%E7%9F%A5.wav" ContentType="audio/x-wav"/>
  <Override PartName="/ppt/media/Windows%20XP%20%E6%83%8A%E5%8F%B9%E5%8F%B7.wav" ContentType="audio/x-wav"/>
  <Override PartName="/ppt/media/image22.gif" ContentType="image/gif"/>
  <Override PartName="/ppt/media/image17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8.gif" ContentType="image/gif"/>
  <Override PartName="/ppt/media/image16.jpeg" ContentType="image/jpeg"/>
  <Override PartName="/ppt/media/chimes.wav" ContentType="audio/x-wav"/>
  <Override PartName="/ppt/media/image13.gif" ContentType="image/gif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500-2150-48EB-B11E-7E082605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BBD-AB60-4BC1-821D-0D8398C6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FDD-F79C-43BD-AE07-1052A77F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6B8-3110-45D7-BD8C-9181A43C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D3F-2F1B-4AC5-ADA3-1CDF9931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83B-D7A9-44A6-9BD0-C7B5E3E1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462-0CED-4B32-B3FD-001CF850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7CC-2E42-43E4-BA13-F3A75CC6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3EB-3BC0-45F0-B137-2903CAE5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590-D3EE-479F-B049-C6307174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455-0491-4FAC-8091-0DEF9B8B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5CD-8DEF-4CE2-A70B-52A62EF8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3B1E-2B28-45C1-BEAB-2AB199D89B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bkgz.MPG" TargetMode="External"/><Relationship Id="rId3" Type="http://schemas.openxmlformats.org/officeDocument/2006/relationships/hyperlink" Target="file:///../dlpy.MPG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bkgz.MPG" TargetMode="External"/><Relationship Id="rId3" Type="http://schemas.openxmlformats.org/officeDocument/2006/relationships/hyperlink" Target="file:///../dlpy.MPG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ows%20XP%20&#24778;&#21497;&#21495;.wav"/><Relationship Id="rId3" Type="http://schemas.openxmlformats.org/officeDocument/2006/relationships/audio" Target="../media/Windows%20XP%20&#21486;&#24403;&#22768;.wav"/><Relationship Id="rId4" Type="http://schemas.openxmlformats.org/officeDocument/2006/relationships/audio" Target="../media/Windows%20XP%20&#24778;&#21497;&#21495;.wav"/><Relationship Id="rId5" Type="http://schemas.openxmlformats.org/officeDocument/2006/relationships/audio" Target="../media/Windows%20XP%20&#24778;&#21497;&#21495;.wav"/><Relationship Id="rId6" Type="http://schemas.openxmlformats.org/officeDocument/2006/relationships/audio" Target="../media/Windows%20XP%20&#36890;&#30693;.wav"/><Relationship Id="rId7" Type="http://schemas.openxmlformats.org/officeDocument/2006/relationships/audio" Target="../media/Windows%20XP%20&#36890;&#30693;.wav"/><Relationship Id="rId8" Type="http://schemas.openxmlformats.org/officeDocument/2006/relationships/audio" Target="../media/Windows%20XP%20&#36890;&#30693;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前展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给下列红字标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皱      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臀（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目 两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）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（    ） 天衣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常识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《恐龙无处不在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作者是（                   ）             （              ） 国著名的科普作家和 （               ）小说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说明的顺序有（             ）（              ）（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说明文的类型有（                  ）和（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95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1295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295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1828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h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ú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438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2286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è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阿西莫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886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幻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952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4952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空间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逻辑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事物说明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62840" y="5614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事理说明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172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科普说明文和文艺性说明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2120" y="609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恐龙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6019920"/>
            <a:ext cx="914400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</a:rPr>
              <a:t>恐龙无处不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理解文章主要内容，了解所说明的事理、顺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领悟所说明的道理：不同领域的科学发现，可以互相启发，从而发现新的论据，得出新的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增强科学意识，培养多角度看问题的能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be0e3"/>
                </a:solidFill>
                <a:latin typeface="Arial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开篇提出什么观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的说明对象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把对象说明清楚，作者首先列举了什么事实？得出了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什么是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板块构造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理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什么是泛大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什么是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大陆漂移学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、作者是按 什么顺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怎样来说明的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课文内容涉及哪两个学科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了一个什么道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0"/>
            <a:ext cx="3429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自主探究：</a:t>
            </a:r>
            <a:endParaRPr b="0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合作交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把对象说明清楚，作者首先列举了什么事实？得出了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什么是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板块构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理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什么是泛大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什么是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大陆漂移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、作者是按 什么顺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怎样来说明的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课文内容涉及哪两个学科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了一个什么道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200400" y="1676520"/>
            <a:ext cx="2743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华文行楷"/>
              </a:rPr>
              <a:t>启示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828800"/>
            <a:ext cx="7920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由科学家研究问题的方式，我们能得到哪些启示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启示二：敢于大胆想象和猜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启示三：看问题不是简单化和孤立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启示四：学会举一反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3748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2971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启示一：看问题从多个角度去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76320"/>
            <a:ext cx="40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136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0"/>
            <a:ext cx="8991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当堂训练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填空：本文按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顺序进行说明。首先，提出说明的主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--------------------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领全文。然后用恐龙化石在各地发现的事实，阐释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-----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证明，用具体事例证明开篇提出的主旨，最后总结恐龙化石的发现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---------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供了证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明方法的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位于南极中心部位的南极洲是全球的大冰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大约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亿年前，泛大陆分裂成四部分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板块构造理论很快为地质界几个所有的问题提供了答案，如火山，地震，岛屿链，海洋深渊等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45720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逻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99072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同科学领域之间是紧密相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420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大陆漂移学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2438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板块构造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49568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打比方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87692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列数字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627840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举例子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挑战自我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象一下恐龙是如何灭绝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33896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年前的一天，恐龙们还在地球乐园中无忧无虑地嬉戏，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149400" y="0"/>
            <a:ext cx="1825920" cy="14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作业</a:t>
            </a:r>
            <a:endParaRPr b="0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5400" y="24210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科学领域之间是紧密相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362320" y="228600"/>
            <a:ext cx="3527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课文结构展示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8" name=""/>
          <p:cNvSpPr/>
          <p:nvPr/>
        </p:nvSpPr>
        <p:spPr>
          <a:xfrm>
            <a:off x="2820960" y="1557360"/>
            <a:ext cx="504720" cy="3743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508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8400" y="1125360"/>
            <a:ext cx="12776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陆漂移学说成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99520" y="1628640"/>
            <a:ext cx="576000" cy="3816360"/>
          </a:xfrm>
          <a:custGeom>
            <a:avLst/>
            <a:gdLst>
              <a:gd name="textAreaLeft" fmla="*/ 0 w 576000"/>
              <a:gd name="textAreaRight" fmla="*/ 208080 w 576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5805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体说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1280" y="5084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10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极发现恐龙化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5440" y="30765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恐龙无处不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41562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恐龙不会迁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7440" y="5092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陆漂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1701720"/>
            <a:ext cx="324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803840"/>
            <a:ext cx="144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3080" y="3795840"/>
            <a:ext cx="144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6800" y="2060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极外各洲发现恐龙化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1800" y="2782800"/>
            <a:ext cx="144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27800" y="6278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说明顺序：逻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762120"/>
            <a:ext cx="1714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宋体"/>
              </a:rPr>
              <a:t>总结归纳：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%E5%8F%AE%E5%BD%93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81040" y="1324080"/>
            <a:ext cx="34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恐龙无处不在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3080" y="4038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阿西莫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-720" y="5714280"/>
            <a:ext cx="198108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086600" y="56386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127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391520" y="0"/>
            <a:ext cx="1752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8496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5943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04920" y="6218280"/>
            <a:ext cx="8686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924680" y="152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甲 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6283440"/>
            <a:ext cx="9144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715000" y="457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恐爪龙与栉节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019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6019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35720" y="838080"/>
            <a:ext cx="850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霸 王 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34320" cy="5943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72200" y="762120"/>
            <a:ext cx="2711520" cy="3314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27360" y="3200400"/>
            <a:ext cx="729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翼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934320" y="411480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24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47242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46483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考古人员新近在甘肃省永靖县发现的巨大恐龙足迹化石证明，这种一亿年前的恐龙，两步就可跨过一个篮球场，是日前世界上已发现的最大恐龙足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441972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05T02:04:29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