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BC1-7B07-4C4A-B36E-D6CB5BBC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FD6-82DE-4F75-BAD2-AB94DDBF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A32-6A6F-4CCA-8946-75F09E31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888-2C18-46D7-88EF-67F43D46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4A9-306B-4CDE-9C8A-61B3E9CF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E74-2991-41DF-B28F-6F1626E5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90F-ACED-486C-AD0E-678F7D89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B74-92FE-4129-9621-52FF4806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6EF-1E19-4465-A435-B2B25AF4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151-136C-4A51-A969-3072723E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1E9-D9D9-49BA-89F5-B026CFA7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C23-41BF-49A4-84B9-D6899B91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0E64-9357-46A4-B711-FF7BDC548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eratopsias1" descr="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plodocs1" descr=""/>
          <p:cNvPicPr/>
          <p:nvPr/>
        </p:nvPicPr>
        <p:blipFill>
          <a:blip r:embed="rId1"/>
          <a:stretch/>
        </p:blipFill>
        <p:spPr>
          <a:xfrm>
            <a:off x="0" y="1698480"/>
            <a:ext cx="9144000" cy="3459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恐龙无处不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阿西莫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0—199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美国科普作家和科学幻想小说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Times New Roman"/>
              </a:rPr>
              <a:t>恐龙无处不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理解文章主要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领悟所说明的道理：不同领域的科学发现，可以互相启发，从而发现新的论据，得出新的结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、理解文中利用括号补充说明文字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请大家朗读课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读了课文之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、你有什么收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二、你有什么疑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D05680_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124160" cy="326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Times New Roman"/>
              </a:rPr>
              <a:t>恐龙无处不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根据课文内容回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课文的说明对象是什么？（是恐龙吗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为了把对象说明清楚，作者首先列举了什么事实？得出了什么结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3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、什么是泛大陆？泛大陆是怎样分裂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4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、大陆为什么会漂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5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、课文给我们说明了一个什么道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在学习上给我们什么启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大陆漂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大陆漂移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90080" y="6116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证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证据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594640" y="-5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81960" y="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板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板快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442360" y="649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9008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-1" descr=""/>
          <p:cNvPicPr/>
          <p:nvPr/>
        </p:nvPicPr>
        <p:blipFill>
          <a:blip r:embed="rId1"/>
          <a:stretch/>
        </p:blipFill>
        <p:spPr>
          <a:xfrm>
            <a:off x="0" y="376200"/>
            <a:ext cx="8839080" cy="590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3-1-1-1" descr=""/>
          <p:cNvPicPr/>
          <p:nvPr/>
        </p:nvPicPr>
        <p:blipFill>
          <a:blip r:embed="rId1"/>
          <a:stretch/>
        </p:blipFill>
        <p:spPr>
          <a:xfrm>
            <a:off x="609480" y="-4680"/>
            <a:ext cx="7848720" cy="6804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66040" y="619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458200" y="6400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adrosaus2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8153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136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080" y="-7920"/>
            <a:ext cx="85406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一、填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本文按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顺序进行说明。首先，提出说明的主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总领全文。然后用恐龙化石在各地发现的事实，阐释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的证明，用具体事例证明开篇提出的主旨，最后总结恐龙化石的发现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提供了证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二、回答课后练习二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三、做《练习册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762120"/>
            <a:ext cx="76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逻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143000"/>
            <a:ext cx="48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不同领域的科学发现可以互相启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4680" y="1523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大陆漂移假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7240" y="220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板块构造理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3200400"/>
            <a:ext cx="93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如果抽象地说现代两栖动物，不加以举例，读者可能一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想不到是指那些动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191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补充说明了大陆漂移学说的一个最显而易见的证据，即南美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与非洲海岸线惊人的互补性，这不是能用巧合来解释的，只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说明它们原来在一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371600" y="1676520"/>
            <a:ext cx="6400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latin typeface="隶书"/>
              </a:rPr>
              <a:t>谢谢大家光临指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latin typeface="隶书"/>
              <a:ea typeface="隶书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abydinosaur1" descr=""/>
          <p:cNvPicPr/>
          <p:nvPr/>
        </p:nvPicPr>
        <p:blipFill>
          <a:blip r:embed="rId1"/>
          <a:stretch/>
        </p:blipFill>
        <p:spPr>
          <a:xfrm>
            <a:off x="609480" y="96840"/>
            <a:ext cx="8077320" cy="67914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nosaurs" descr=""/>
          <p:cNvPicPr/>
          <p:nvPr/>
        </p:nvPicPr>
        <p:blipFill>
          <a:blip r:embed="rId1"/>
          <a:stretch/>
        </p:blipFill>
        <p:spPr>
          <a:xfrm>
            <a:off x="1641600" y="228600"/>
            <a:ext cx="586080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llosaurs1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00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roceratopsias1" descr=""/>
          <p:cNvPicPr/>
          <p:nvPr/>
        </p:nvPicPr>
        <p:blipFill>
          <a:blip r:embed="rId1"/>
          <a:stretch/>
        </p:blipFill>
        <p:spPr>
          <a:xfrm>
            <a:off x="685800" y="109440"/>
            <a:ext cx="7543800" cy="663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ch2" descr=""/>
          <p:cNvPicPr/>
          <p:nvPr/>
        </p:nvPicPr>
        <p:blipFill>
          <a:blip r:embed="rId1"/>
          <a:stretch/>
        </p:blipFill>
        <p:spPr>
          <a:xfrm>
            <a:off x="0" y="544680"/>
            <a:ext cx="9144000" cy="5767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heterodontosaur1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sittacosaurs1" descr=""/>
          <p:cNvPicPr/>
          <p:nvPr/>
        </p:nvPicPr>
        <p:blipFill>
          <a:blip r:embed="rId1"/>
          <a:stretch/>
        </p:blipFill>
        <p:spPr>
          <a:xfrm>
            <a:off x="762120" y="-7920"/>
            <a:ext cx="7772400" cy="687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0:17:53Z</dcterms:created>
  <dc:creator>古县小学</dc:creator>
  <dc:description/>
  <dc:language>en-US</dc:language>
  <cp:lastModifiedBy>zmj</cp:lastModifiedBy>
  <dcterms:modified xsi:type="dcterms:W3CDTF">2011-07-02T06:54:40Z</dcterms:modified>
  <cp:revision>51</cp:revision>
  <dc:subject/>
  <dc:title>PowerPoint 演示文稿</dc:title>
</cp:coreProperties>
</file>