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974-C4C9-45C9-9B5C-679F7254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7F9-46D8-4279-80F8-0F58258C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935-0E3F-4A1C-8A66-003E5B76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E92-59F7-4D2F-A5C2-C92429A7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0A8A-4CB4-4880-A8EE-28ADB915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FE4C-8D83-4FDB-BE63-174181B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EF6A-91E5-4336-A225-66913D0C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1B57-4093-4A43-8FA1-43954F4F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B0BE-03FA-4874-A726-B15AA13C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3862-A0A4-412B-8B9C-DAF6FBD5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2DB9-8677-4899-A871-84220525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C45-ED95-4EC7-93EC-2C73D779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4AB6-0AED-4EE8-8291-E2153A4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81BC-5372-479D-A0DF-1A1F633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2846-0AAD-405D-B483-40B53385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5288-8C65-472A-A95C-665FCDB5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2B74-41E6-4561-9DEA-759EEE83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891-EE37-418B-9C0E-FB741C65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C6C-79EB-4DE6-9568-BE0C3EF3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109-6FC6-4BB4-B35D-05471547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EBA-BD20-4725-89A6-22C1064C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389-1C34-4B11-8AC9-927D7C6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618-60A4-44B3-8081-25D47B4B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ADE-92BA-46DC-879B-5B57AFF1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18E-6330-4CE4-A88F-7E33FE1E7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5F89-5C71-4D85-83FE-A81E89B2395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课题"/>
          <p:cNvPicPr/>
          <p:nvPr/>
        </p:nvPicPr>
        <p:blipFill>
          <a:blip r:embed="rId1"/>
          <a:srcRect l="0" t="0" r="0" b="3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85840" y="2741760"/>
            <a:ext cx="838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0" lang="zh-CN" sz="1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科技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是把双刃剑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3089880" y="1785960"/>
            <a:ext cx="38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第二单元 为了美好的生存环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3166200" y="571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浙教版）六年级品德与社会下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3"/>
          <p:cNvSpPr txBox="1"/>
          <p:nvPr/>
        </p:nvSpPr>
        <p:spPr>
          <a:xfrm rot="5400000">
            <a:off x="-90360" y="3555720"/>
            <a:ext cx="4030920" cy="1617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核能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126" name="Picture 4" descr="核能"/>
          <p:cNvPicPr/>
          <p:nvPr/>
        </p:nvPicPr>
        <p:blipFill>
          <a:blip r:embed="rId1"/>
          <a:srcRect l="0" t="0" r="0" b="7287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5148360" y="6021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Tahoma"/>
                <a:ea typeface="黑体"/>
              </a:rPr>
              <a:t>原子弹侵袭后的日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5148360" y="609300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原子弹侵袭后的日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148360" y="609300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原子弹侵袭后的日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5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5148360" y="59500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原子弹侵袭后的日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5148360" y="609300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原子弹侵袭后的日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5148360" y="59500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原子弹侵袭后的日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结 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27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科技是把双刃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，它带给人类的利大于弊，只要能科学合理的加以应用，我们赖以生存的地球就会成为一个绿色、和谐的美丽家园！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214800" y="2643120"/>
            <a:ext cx="35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755640" y="1773360"/>
            <a:ext cx="7848720" cy="52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ahoma"/>
              </a:rPr>
              <a:t>↖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f01"/>
                </a:solidFill>
                <a:latin typeface="Tahoma"/>
                <a:ea typeface="方正舒体"/>
              </a:rPr>
              <a:t>谷物</a:t>
            </a: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←农药 </a:t>
            </a:r>
            <a:r>
              <a:rPr b="0" lang="zh-CN" sz="8800" spc="-1" strike="noStrike">
                <a:solidFill>
                  <a:srgbClr val="ff0000"/>
                </a:solidFill>
                <a:latin typeface="Tahoma"/>
              </a:rPr>
              <a:t>→</a:t>
            </a:r>
            <a:r>
              <a:rPr b="0" lang="zh-CN" sz="6000" spc="-1" strike="noStrike">
                <a:solidFill>
                  <a:srgbClr val="ff0000"/>
                </a:solidFill>
                <a:latin typeface="Tahoma"/>
              </a:rPr>
              <a:t>  人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6000" spc="-1" strike="noStrike" baseline="30000">
                <a:solidFill>
                  <a:srgbClr val="000000"/>
                </a:solidFill>
                <a:latin typeface="Tahoma"/>
              </a:rPr>
              <a:t>↙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e4a8"/>
                </a:solidFill>
                <a:latin typeface="Tahoma"/>
              </a:rPr>
              <a:t>↘                ↗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e4a8"/>
                </a:solidFill>
                <a:latin typeface="Tahoma"/>
              </a:rPr>
              <a:t>    </a:t>
            </a:r>
            <a:r>
              <a:rPr b="0" lang="zh-CN" sz="6000" spc="-1" strike="noStrike">
                <a:solidFill>
                  <a:srgbClr val="00e4a8"/>
                </a:solidFill>
                <a:latin typeface="Tahoma"/>
              </a:rPr>
              <a:t>虫  → 鸟禽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16000" y="1125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农药通过食物链危害人类健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企鹅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 rot="5400000">
            <a:off x="-90360" y="3555720"/>
            <a:ext cx="4030920" cy="1617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温室效应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球上即将消失的风景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7" descr="南北极"/>
          <p:cNvPicPr/>
          <p:nvPr/>
        </p:nvPicPr>
        <p:blipFill>
          <a:blip r:embed="rId1"/>
          <a:stretch/>
        </p:blipFill>
        <p:spPr>
          <a:xfrm>
            <a:off x="826920" y="2133720"/>
            <a:ext cx="6121440" cy="4039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164360" y="2205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南北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由于温室效应造成全球气温升高，已经使得两极冰帽开始融化， 现存的南北极生物可能会逐一面临灭绝的危机。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球上即将消失的风景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900000" y="5445000"/>
            <a:ext cx="7056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马尔代夫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马尔代夫，温室效应使全球暖化现象加剧，风景如画的马尔代夫岌岌可危。</a:t>
            </a: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马尔代夫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35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球上即将消失的风景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00000" y="5661000"/>
            <a:ext cx="705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尼泊尔：萨加玛塔国家公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随着全球暖化，冰雪逐渐融化成冰川湖泊，预计在２０２０年，尼泊尔萨加玛塔国家公园就会失去现在的美好景致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尼泊尔"/>
          <p:cNvPicPr/>
          <p:nvPr/>
        </p:nvPicPr>
        <p:blipFill>
          <a:blip r:embed="rId1"/>
          <a:stretch/>
        </p:blipFill>
        <p:spPr>
          <a:xfrm>
            <a:off x="971640" y="1916280"/>
            <a:ext cx="705636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球上即将消失的风景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00000" y="5661000"/>
            <a:ext cx="7056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澳洲：大堡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全球暖化现象，大堡礁的爵士珊瑚也将因此逐渐白化而死亡，预计最迟在２０２０年就可能会消失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大堡礁"/>
          <p:cNvPicPr/>
          <p:nvPr/>
        </p:nvPicPr>
        <p:blipFill>
          <a:blip r:embed="rId1"/>
          <a:stretch/>
        </p:blipFill>
        <p:spPr>
          <a:xfrm>
            <a:off x="971640" y="1989000"/>
            <a:ext cx="698508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北极熊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企鹅"/>
          <p:cNvPicPr/>
          <p:nvPr/>
        </p:nvPicPr>
        <p:blipFill>
          <a:blip r:embed="rId2"/>
          <a:stretch/>
        </p:blipFill>
        <p:spPr>
          <a:xfrm>
            <a:off x="4297320" y="0"/>
            <a:ext cx="484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联合国气候变化框架公约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日，联合国政府间谈判委员会就气候变化问题拟定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联合国气候变化框架公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这是第一个全面控制造成全球变暖的二氧化碳等温室气体排放、以便应对全球气候变暖给人类经济和社会带来不利影响的国际公约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日，在巴西里约热内卢举行的联合国环境发展大会上通过了该公约，并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起正式生效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09:51Z</dcterms:created>
  <dc:creator>MC SYSTEM</dc:creator>
  <dc:description/>
  <dc:language>en-US</dc:language>
  <cp:lastModifiedBy>User</cp:lastModifiedBy>
  <dcterms:modified xsi:type="dcterms:W3CDTF">2011-01-09T06:43:27Z</dcterms:modified>
  <cp:revision>23</cp:revision>
  <dc:subject/>
  <dc:title>幻灯片 1</dc:title>
</cp:coreProperties>
</file>