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8AF-AA22-41E4-9F27-E78280E0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510-F062-4A9B-9186-2B032E1D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620-E13A-4191-B267-32AEC7BB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468-A79A-4A7C-9A7E-ADE30231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013E-5E4A-480F-8789-55CF7E9A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F9D9-F881-48B2-862F-20832ABC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32E5-6CCE-4136-A7A8-58B8B18F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EA49-D0A4-412C-8DB3-13DC4136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BF84-4BB9-485A-A59F-928CD6A8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330B-9854-4624-BA96-3A53ED44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1409-CE40-48CF-97A2-3489AF87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AFF-6006-4E4D-BF47-75B629C2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DDF6-0F7F-4FB9-9A9F-D57E31D8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ACF5-4286-4AE5-B665-FCA8D071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D598-ACE2-4E97-9423-FD422F31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781A-6481-406C-880F-020ECF6D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9F0E-8042-4B6E-B2DA-B31D3BF5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643-66CE-47DE-ADBD-8F841E34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C63-5998-415E-ABA4-6829BE1C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3C2-D014-4196-8E60-85BB34BD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170-E64F-4A15-B9F6-9DB02B6B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711-BB42-4229-BDF6-5C01F7F6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DE8-C0AA-467A-873C-791960DB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ACC-2584-471C-B641-94C659FE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9A88-AFB2-4A17-AA17-386127EC97AE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A79A-E440-4911-9DDF-7F76133D358F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敬业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208" name="认真学习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572000" cy="2949480"/>
          </a:xfrm>
          <a:prstGeom prst="rect">
            <a:avLst/>
          </a:prstGeom>
          <a:ln w="0">
            <a:noFill/>
          </a:ln>
        </p:spPr>
      </p:pic>
      <p:pic>
        <p:nvPicPr>
          <p:cNvPr id="209" name="认真学习2" descr=""/>
          <p:cNvPicPr/>
          <p:nvPr/>
        </p:nvPicPr>
        <p:blipFill>
          <a:blip r:embed="rId3"/>
          <a:stretch/>
        </p:blipFill>
        <p:spPr>
          <a:xfrm>
            <a:off x="4648320" y="3657600"/>
            <a:ext cx="4190760" cy="2800440"/>
          </a:xfrm>
          <a:prstGeom prst="rect">
            <a:avLst/>
          </a:prstGeom>
          <a:ln w="0">
            <a:noFill/>
          </a:ln>
        </p:spPr>
      </p:pic>
      <p:pic>
        <p:nvPicPr>
          <p:cNvPr id="210" name="认真学习0" descr=""/>
          <p:cNvPicPr/>
          <p:nvPr/>
        </p:nvPicPr>
        <p:blipFill>
          <a:blip r:embed="rId4"/>
          <a:stretch/>
        </p:blipFill>
        <p:spPr>
          <a:xfrm>
            <a:off x="380880" y="3657600"/>
            <a:ext cx="403884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191120" y="1981080"/>
            <a:ext cx="419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Arial"/>
              </a:rPr>
              <a:t>找出文章中的反问、设问句，择</a:t>
            </a:r>
            <a:r>
              <a:rPr b="1" lang="zh-CN" sz="4000" spc="-1" strike="noStrike">
                <a:solidFill>
                  <a:srgbClr val="40458c"/>
                </a:solidFill>
                <a:latin typeface="Times New Roman"/>
                <a:ea typeface="Arial"/>
              </a:rPr>
              <a:t>1-2</a:t>
            </a:r>
            <a:r>
              <a:rPr b="1" lang="zh-CN" sz="4000" spc="-1" strike="noStrike">
                <a:solidFill>
                  <a:srgbClr val="40458c"/>
                </a:solidFill>
                <a:latin typeface="Arial"/>
              </a:rPr>
              <a:t>句转化为陈述句进行比较，谈谈有什么不同</a:t>
            </a:r>
            <a:r>
              <a:rPr b="1" lang="zh-CN" sz="4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3" name="rose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944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09480" y="620640"/>
            <a:ext cx="854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演讲时应注意以下几方面要求：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24000" y="170028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①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认清对象，确立主旨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②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思路清晰，节奏明快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③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感情充沛，例证动人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④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语言准确，形象生动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76212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写作特点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①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论证条理清晰，论据生动有力。这篇讲演词开头提出论题，中间主体部分分两层论述敬业与乐业的重要，末尾总结全篇。条理很清晰。证明论点的过程，举了多种论据：有生活中的实例，有古代、外国著作中的事例，有作者亲身经历的卓有成效的经验，还有古人的流传至今的名言警句等。这些论据的精选运用，使讲演词具体、生动，富有说服力。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②语言通俗浅显，准确周密，概括有力。全篇讲演多用简明的短句，很少用长句；多用口语，明白如话，一听就懂；引用古代文句时，注重化深为浅。同时文中多次用了设问句和反问句，引用不少古代名言警句，又自己提炼了许多精辟的警句，都使语言显得概括有力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133720" y="1523880"/>
            <a:ext cx="55623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敬业与乐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华文行楷"/>
              </a:rPr>
              <a:t>梁启超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066680" y="1600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梁启超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7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2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近代思想家，字卓如，号任公，别号饮冰室主人。广东新会人。清光绪举人。和其师康有为一起，倡导变法维新，并称“康梁”。梁启超也是一位著名学者。他兴趣广泛，学识渊博，在文学、史学、哲学、佛学等诸多领域，都有较深的造诣。他一生著述宏富，所遗《饮冰室合集》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4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卷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余万字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609480"/>
            <a:ext cx="2209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作者简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14400" y="16765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Arial"/>
                <a:ea typeface="华文仿宋"/>
              </a:rPr>
              <a:t>《敬业与乐业》是梁启超七十多年前，对上海中华职业学校学生的一次讲演，虽然时间已经过去七十多年了，但梁启超先生所讲的内容对我们仍然很有教育意义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71600" y="1676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文章，在文中圈点勾画，找出作者在文章中提出了有关敬业与乐业的观点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53352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读悟课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218" name="bsj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2004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09480" y="990720"/>
            <a:ext cx="7848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敬业与乐业”四个字，是人类生活的不二法门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类一面为生活而劳动，一面也是为劳动而生活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凡职业没有不是神圣的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凡职业没有不是可敬的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生在世，是要天天劳作的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劳作便是功德，不劳作便是罪恶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因自己的才能、境地，做一种劳作做到圆满，便是天地间第一等人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凡做一件事，便把这件事看做我的生命，无论别的什么好处，到底不肯牺牲我现做的事来和他交换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38080" y="99072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敬业主义，于人生最为必要，又于人生最为有利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从劳苦中找出快乐来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凡职业都是有趣味的，只要你肯继续做下去，趣味自然会发生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一职业之成就，离不了奋斗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因为每一职业之成就，离不了奋斗，一步一步的奋斗前去，从刻苦中将快乐的分量加增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生能从自己职业中领略出趣味，生活才有价值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敬业即是责任心，乐业即是趣味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20574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小组为单位交流，在找出的观点中，你最信服的是哪一点？将不同意见在小组内进行交流，谈谈自己的理由。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53352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读悟课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223" name="ok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719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47640" y="191628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ahoma"/>
                <a:ea typeface="方正舒体"/>
              </a:rPr>
              <a:t>             </a:t>
            </a:r>
            <a:r>
              <a:rPr b="1" lang="zh-CN" sz="4800" spc="-1" strike="noStrike">
                <a:solidFill>
                  <a:srgbClr val="cc3300"/>
                </a:solidFill>
                <a:latin typeface="Tahoma"/>
                <a:ea typeface="方正舒体"/>
              </a:rPr>
              <a:t>中心论点：</a:t>
            </a:r>
            <a:br>
              <a:rPr sz="4800"/>
            </a:b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华文行楷"/>
              </a:rPr>
              <a:t>我确信“敬业乐业”四个字，是人类生活的不二法门。</a:t>
            </a:r>
            <a:br>
              <a:rPr sz="40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40458c"/>
                </a:solidFill>
                <a:latin typeface="Tahoma"/>
              </a:rPr>
              <a:t>分论点一：论述</a:t>
            </a:r>
            <a:r>
              <a:rPr b="1" lang="zh-CN" sz="3100" spc="-1" strike="noStrike">
                <a:solidFill>
                  <a:srgbClr val="009999"/>
                </a:solidFill>
                <a:latin typeface="Tahoma"/>
                <a:ea typeface="华文楷体"/>
              </a:rPr>
              <a:t>“要敬业”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SzPct val="1130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40458c"/>
                </a:solidFill>
                <a:latin typeface="Tahoma"/>
              </a:rPr>
              <a:t>分论点二：论述</a:t>
            </a:r>
            <a:r>
              <a:rPr b="1" lang="zh-CN" sz="3100" spc="-1" strike="noStrike">
                <a:solidFill>
                  <a:srgbClr val="009999"/>
                </a:solidFill>
                <a:latin typeface="Tahoma"/>
                <a:ea typeface="华文楷体"/>
              </a:rPr>
              <a:t>“要乐业”</a:t>
            </a:r>
            <a:endParaRPr b="0" lang="en-US" sz="3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4876920"/>
            <a:ext cx="152640" cy="1218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99080" y="46990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  <a:ea typeface="幼圆"/>
              </a:rPr>
              <a:t>驳斥做工“苦”，指出“做”不可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45880" y="591804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  <a:ea typeface="幼圆"/>
              </a:rPr>
              <a:t>“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  <a:ea typeface="幼圆"/>
              </a:rPr>
              <a:t>做“必产生乐趣，陈述四项原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7432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35040" y="2492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  <a:ea typeface="幼圆"/>
              </a:rPr>
              <a:t>职业神圣，要做圆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5040" y="363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  <a:ea typeface="幼圆"/>
              </a:rPr>
              <a:t>要做圆满，必须敬业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0:38:46Z</dcterms:created>
  <dc:creator>xxx</dc:creator>
  <dc:description/>
  <dc:language>en-US</dc:language>
  <cp:lastModifiedBy>xxx</cp:lastModifiedBy>
  <dcterms:modified xsi:type="dcterms:W3CDTF">2004-03-04T03:03:53Z</dcterms:modified>
  <cp:revision>4</cp:revision>
  <dc:subject/>
  <dc:title>PowerPoint 演示文稿</dc:title>
</cp:coreProperties>
</file>