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gif" ContentType="image/gif"/>
  <Override PartName="/ppt/media/image4.wmf" ContentType="image/x-wmf"/>
  <Override PartName="/ppt/media/chimes.wav" ContentType="audio/x-wav"/>
  <Override PartName="/ppt/media/image6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6903-478B-4939-AD71-3F0908D83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6F3A-08D1-4C4F-B207-B3D1D4AE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B47D-CB95-47C8-A975-16D4C37D4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3964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37472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56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3964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37472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5F3A-775B-43D0-BC4C-A77E66A09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BA60-7EDD-44B7-8581-55C7AED1B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22E2-B8D1-48F0-8B8C-23B16C50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985D-5473-40D4-82BF-0C6C37A3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D08E-64D3-4A6F-84DE-5BC56262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96FE-B745-42D1-AF7E-D9F07C50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1156320"/>
            <a:ext cx="6248160" cy="66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1797C-2282-4244-A95C-DE7E0CF2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8714-498C-4015-938C-C0669FF2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198F-4E67-47E9-A898-9C967815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9CE6-17F2-4380-9E96-463BEAE9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72EA-7C24-4A0B-889A-1689994C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B4EC-0796-4924-AC37-88B84351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56F7-5F28-4028-A4B3-FBB3DBE59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33964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37472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56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33964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37472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C2EC-94B2-47D7-BBBF-24776FF7A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E808-298F-474A-AF2F-8B2D0C3F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786B-1013-4BB5-BD87-92A9A1A8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A132-0BBB-4520-8E34-C2AEB4AC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1156320"/>
            <a:ext cx="6248160" cy="66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0C81-D398-494A-8B7C-8B8BCF23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8840-1464-4F0C-8EB5-9804CB8B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033D-BA26-4839-A447-24A89F19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CA8F-3B80-4712-8BA2-49331A0A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43DE-A877-4B5C-8F79-952C89AE10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C3DC-5286-4F28-982A-8D37F5BC86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gi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1066680"/>
            <a:ext cx="2618280" cy="4648320"/>
          </a:xfrm>
          <a:prstGeom prst="rect">
            <a:avLst/>
          </a:prstGeom>
          <a:noFill/>
          <a:ln w="88920">
            <a:solidFill>
              <a:srgbClr val="008000"/>
            </a:solidFill>
            <a:miter/>
          </a:ln>
        </p:spPr>
        <p:txBody>
          <a:bodyPr lIns="90000" rIns="90000" tIns="46800" bIns="46800" anchor="b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3300"/>
                </a:solidFill>
                <a:latin typeface="Arial Black"/>
                <a:ea typeface="华文隶书"/>
              </a:rPr>
              <a:t>短文两篇</a:t>
            </a:r>
            <a:endParaRPr b="0" lang="en-US" sz="8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581280" y="2437920"/>
            <a:ext cx="33530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隶书"/>
              </a:rPr>
              <a:t>敬畏生命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台湾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张晓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57240" y="4038120"/>
            <a:ext cx="34671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隶书"/>
              </a:rPr>
              <a:t>热爱生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（法国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蒙    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560" y="685800"/>
            <a:ext cx="74674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请结合自己的生活体验</a:t>
            </a:r>
            <a:r>
              <a:rPr b="1" lang="zh-CN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补充或扩展下列语句。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23623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我们的生命受到大自然的厚赐，它是优越无比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只有乐于生的人才能真正不感到死之苦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生活乐趣的大小是随着我们对生活的关心程度而定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剩下的生命愈是短暂，我愈要使之过得丰盈充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back.1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685800" cy="5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BJ_014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391520" cy="46483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838080" y="838080"/>
            <a:ext cx="40388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课文朗读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99840" y="1064160"/>
            <a:ext cx="4724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 Black"/>
                <a:ea typeface="华文隶书"/>
              </a:rPr>
              <a:t>比较阅读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思想内容比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两位作者对待生命的看法有哪些相同之处？请找出相关的句子加以说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back.1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685800" cy="5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835560"/>
            <a:ext cx="5029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华文新魏"/>
                <a:ea typeface="华文新魏"/>
              </a:rPr>
              <a:t>2</a:t>
            </a:r>
            <a:r>
              <a:rPr b="0" lang="zh-CN" sz="4400" spc="-1" strike="noStrike">
                <a:solidFill>
                  <a:srgbClr val="003300"/>
                </a:solidFill>
                <a:latin typeface="华文新魏"/>
                <a:ea typeface="华文新魏"/>
              </a:rPr>
              <a:t>、写作特色比较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l.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两篇文章的表达方式各以什么为主？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敬畏生命》一文的描写和抒情是怎样相互照应的？“第二天的情形完全一样。我感到诧异和震撼”。哪些描写性句子有“震撼”人心的效果？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热爱生命》》一文谈到了哪两种相对应的人生观？文章有几处对比？对比在文章中起到什么作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两篇短文写作手法上最突出的特点各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back.1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685800" cy="5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4920" y="380880"/>
            <a:ext cx="73152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敬畏生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楷体"/>
                <a:ea typeface="华文楷体"/>
              </a:rPr>
              <a:t>张晓风   台湾散文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即景    飞絮飘种；不计成本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惊心动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生情    感悟生命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震撼——折服——敬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back.1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685800" cy="514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85800" y="5697360"/>
            <a:ext cx="688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风格：细腻、含蓄、清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348480"/>
            <a:ext cx="7467480" cy="12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热爱生命</a:t>
            </a:r>
            <a:br>
              <a:rPr sz="4400"/>
            </a:br>
            <a:r>
              <a:rPr b="1" lang="zh-CN" sz="3200" spc="-1" strike="noStrike">
                <a:solidFill>
                  <a:srgbClr val="ff3300"/>
                </a:solidFill>
                <a:latin typeface="华文楷体"/>
                <a:ea typeface="华文楷体"/>
              </a:rPr>
              <a:t>蒙田   法国人文主义作家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123720" y="1599840"/>
            <a:ext cx="4419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消磨光阴 飞快的去“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慢慢赏玩   细细品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82736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对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度日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认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351240"/>
            <a:ext cx="27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Unicode MS"/>
                <a:ea typeface="华文新魏"/>
              </a:rPr>
              <a:t>对生命的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722840"/>
            <a:ext cx="27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Unicode MS"/>
                <a:ea typeface="华文新魏"/>
              </a:rPr>
              <a:t>对死亡的态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2812320"/>
            <a:ext cx="46260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哲人”      苦事、贱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”          优越无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糊涂人     寄托来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578916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风格：朴素、明辩，富有逻辑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4410720"/>
            <a:ext cx="4343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毫不惋惜    乐于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关心生活    抓紧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95480" y="182880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457200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3048120"/>
            <a:ext cx="76320" cy="1143000"/>
          </a:xfrm>
          <a:custGeom>
            <a:avLst/>
            <a:gdLst>
              <a:gd name="textAreaLeft" fmla="*/ 22320 w 76320"/>
              <a:gd name="textAreaRight" fmla="*/ 76320 w 76320"/>
              <a:gd name="textAreaTop" fmla="*/ 47520 h 1143000"/>
              <a:gd name="textAreaBottom" fmla="*/ 1095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back.1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685800" cy="514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7620120" y="1751040"/>
            <a:ext cx="685800" cy="253188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Arial Black"/>
                <a:ea typeface="华文隶书"/>
              </a:rPr>
              <a:t>对比论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4343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 Black"/>
                <a:ea typeface="华文隶书"/>
              </a:rPr>
              <a:t>自由讨论：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们生活中有没有轻视生命的现象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怎样看待“享受生活”的观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认为应该怎样度过“令人不快的时候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有没有“细细品尝”“生活乐趣”的习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认为热爱生命最好的方式是什么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back.1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685800" cy="5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BJ_038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6705360" cy="4724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3429000" y="4800600"/>
            <a:ext cx="4800600" cy="98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诗歌欣赏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343040" y="1752120"/>
            <a:ext cx="1647720" cy="36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3300"/>
                </a:solidFill>
                <a:latin typeface="Arial Black"/>
                <a:ea typeface="华文隶书"/>
              </a:rPr>
              <a:t>再见</a:t>
            </a:r>
            <a:endParaRPr b="0" lang="en-US" sz="9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1142640"/>
            <a:ext cx="1905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汕头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聿怀初级中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蔡尉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90720" y="19051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shuu.2" descr=""/>
          <p:cNvPicPr/>
          <p:nvPr/>
        </p:nvPicPr>
        <p:blipFill>
          <a:blip r:embed="rId1"/>
          <a:stretch/>
        </p:blipFill>
        <p:spPr>
          <a:xfrm>
            <a:off x="2362320" y="609480"/>
            <a:ext cx="4419360" cy="1486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09480" y="228600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</a:t>
            </a:r>
            <a:r>
              <a:rPr b="0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张晓风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1941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生，台湾女作家，散文往往以自己日常生活、所见所闻为引子而生发开去，在连翩浮想中探索一些关于生命意义、善良和美的主题，以细腻、敏悟见长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</a:t>
            </a:r>
            <a:r>
              <a:rPr b="0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蒙    田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法国文艺复兴后期最重要的人文主义作家，与培根、莎士比亚等伟大作家一样，是一位不朽的人物。作品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"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明哲善辩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""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精于心理分析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"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"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文风简朴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"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91" name="back.1" descr=""/>
          <p:cNvPicPr/>
          <p:nvPr/>
        </p:nvPicPr>
        <p:blipFill>
          <a:blip r:embed="rId2"/>
          <a:stretch/>
        </p:blipFill>
        <p:spPr>
          <a:xfrm>
            <a:off x="7238880" y="6172200"/>
            <a:ext cx="685800" cy="5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back.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6172200"/>
            <a:ext cx="685800" cy="5144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7920" y="927360"/>
            <a:ext cx="312444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 Black"/>
                <a:ea typeface="华文新魏"/>
              </a:rPr>
              <a:t>学习目标</a:t>
            </a: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华文新魏"/>
                <a:ea typeface="华文新魏"/>
              </a:rPr>
              <a:t>1</a:t>
            </a:r>
            <a:r>
              <a:rPr b="0" lang="zh-CN" sz="4000" spc="-1" strike="noStrike">
                <a:solidFill>
                  <a:srgbClr val="003300"/>
                </a:solidFill>
                <a:latin typeface="华文新魏"/>
                <a:ea typeface="华文新魏"/>
              </a:rPr>
              <a:t>、整体感知课文，理解文章的脉络和主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华文新魏"/>
                <a:ea typeface="华文新魏"/>
              </a:rPr>
              <a:t>2</a:t>
            </a:r>
            <a:r>
              <a:rPr b="0" lang="zh-CN" sz="4000" spc="-1" strike="noStrike">
                <a:solidFill>
                  <a:srgbClr val="003300"/>
                </a:solidFill>
                <a:latin typeface="华文新魏"/>
                <a:ea typeface="华文新魏"/>
              </a:rPr>
              <a:t>、品味一些语句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华文新魏"/>
                <a:ea typeface="华文新魏"/>
              </a:rPr>
              <a:t>3</a:t>
            </a:r>
            <a:r>
              <a:rPr b="0" lang="zh-CN" sz="4000" spc="-1" strike="noStrike">
                <a:solidFill>
                  <a:srgbClr val="003300"/>
                </a:solidFill>
                <a:latin typeface="华文新魏"/>
                <a:ea typeface="华文新魏"/>
              </a:rPr>
              <a:t>、学习比较阅读的方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华文新魏"/>
                <a:ea typeface="华文新魏"/>
              </a:rPr>
              <a:t>4</a:t>
            </a:r>
            <a:r>
              <a:rPr b="0" lang="zh-CN" sz="4000" spc="-1" strike="noStrike">
                <a:solidFill>
                  <a:srgbClr val="003300"/>
                </a:solidFill>
                <a:latin typeface="华文新魏"/>
                <a:ea typeface="华文新魏"/>
              </a:rPr>
              <a:t>、思考生命，领悟人生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886200" y="2438280"/>
            <a:ext cx="838080" cy="801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553080" y="4648320"/>
            <a:ext cx="838440" cy="801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6477120" y="3733920"/>
            <a:ext cx="838080" cy="801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5029200" y="3124080"/>
            <a:ext cx="838080" cy="80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0880" y="533520"/>
            <a:ext cx="7696440" cy="49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注意划线字读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纤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xi</a:t>
            </a:r>
            <a:r>
              <a:rPr b="0" lang="en-US" sz="3600" spc="-1" strike="noStrike">
                <a:solidFill>
                  <a:srgbClr val="ff3300"/>
                </a:solidFill>
                <a:latin typeface="华文新魏"/>
                <a:ea typeface="Arial"/>
              </a:rPr>
              <a:t>ā</a:t>
            </a:r>
            <a:r>
              <a:rPr b="0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维      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浑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 </a:t>
            </a:r>
            <a:r>
              <a:rPr b="0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hún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诧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chà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异        震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撼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 </a:t>
            </a:r>
            <a:r>
              <a:rPr b="0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hàn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折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zh</a:t>
            </a:r>
            <a:r>
              <a:rPr b="0" lang="en-US" sz="3600" spc="-1" strike="noStrike">
                <a:solidFill>
                  <a:srgbClr val="ff3300"/>
                </a:solidFill>
                <a:latin typeface="华文新魏"/>
                <a:ea typeface="Arial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服         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奢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sh</a:t>
            </a:r>
            <a:r>
              <a:rPr b="0" lang="en-US" sz="3600" spc="-1" strike="noStrike">
                <a:solidFill>
                  <a:srgbClr val="ff3300"/>
                </a:solidFill>
                <a:latin typeface="华文新魏"/>
                <a:ea typeface="Arial"/>
              </a:rPr>
              <a:t>ē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侈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chĭ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惊心动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魄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pò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柔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媚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mèi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湖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畔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pàn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        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蔚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wèi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back.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6172200"/>
            <a:ext cx="685800" cy="5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762120"/>
            <a:ext cx="73152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敬畏生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楷体"/>
                <a:ea typeface="华文楷体"/>
              </a:rPr>
              <a:t>张晓风   台湾散文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即景    飞絮飘种；不计成本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惊心动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生情    感悟生命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震撼——折服——敬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back.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6172200"/>
            <a:ext cx="685800" cy="5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348480"/>
            <a:ext cx="7467480" cy="12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热爱生命</a:t>
            </a:r>
            <a:br>
              <a:rPr sz="4400"/>
            </a:br>
            <a:r>
              <a:rPr b="1" lang="zh-CN" sz="3200" spc="-1" strike="noStrike">
                <a:solidFill>
                  <a:srgbClr val="ff3300"/>
                </a:solidFill>
                <a:latin typeface="华文楷体"/>
                <a:ea typeface="华文楷体"/>
              </a:rPr>
              <a:t>蒙田   法国人文主义作家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123720" y="1599840"/>
            <a:ext cx="4419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消磨光阴 飞快的去“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慢慢赏玩   细细品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82736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对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度日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认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351240"/>
            <a:ext cx="27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Unicode MS"/>
                <a:ea typeface="华文新魏"/>
              </a:rPr>
              <a:t>对生命的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722840"/>
            <a:ext cx="27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Unicode MS"/>
                <a:ea typeface="华文新魏"/>
              </a:rPr>
              <a:t>对死亡的态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2812320"/>
            <a:ext cx="46260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哲人”      苦事、贱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”          优越无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糊涂人     寄托来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4410720"/>
            <a:ext cx="4343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毫不惋惜    乐于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关心生活    抓紧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182880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457200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3048120"/>
            <a:ext cx="76320" cy="1143000"/>
          </a:xfrm>
          <a:custGeom>
            <a:avLst/>
            <a:gdLst>
              <a:gd name="textAreaLeft" fmla="*/ 22320 w 76320"/>
              <a:gd name="textAreaRight" fmla="*/ 76320 w 76320"/>
              <a:gd name="textAreaTop" fmla="*/ 47520 h 1143000"/>
              <a:gd name="textAreaBottom" fmla="*/ 1095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back.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6172200"/>
            <a:ext cx="685800" cy="5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682560"/>
            <a:ext cx="73152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华文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我几乎是第一次遇见生命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——虽然是植物的。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华文隶书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24382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     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这里生命不仅指生命的现象，更强调生命的本质意义。作者以前对身边的各种生命形式并不在意，是树们飞絮飘种的情景引起作者对生命的第一次认真思考，使她领悟到生命的意义——在于无私地传递生命，不惜代价，不求回报。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back.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6172200"/>
            <a:ext cx="685800" cy="5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911160"/>
            <a:ext cx="79250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华文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我不能不被生命豪华的、奢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侈的、不计成本的投资所感动。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华文隶书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2743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树们不分昼夜地飘送种子，为播撒代竭尽全力，而成功率极低，也许只有一颗种子成树，所以说生命的形成是耗费了巨大成本，是</a:t>
            </a:r>
            <a:r>
              <a:rPr b="1" lang="zh-CN" sz="36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豪华</a:t>
            </a:r>
            <a:r>
              <a:rPr b="1" lang="zh-CN" sz="36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”“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奢侈</a:t>
            </a:r>
            <a:r>
              <a:rPr b="1" lang="zh-CN" sz="36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的，作者被树们不求回报的执著精神所感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back.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6172200"/>
            <a:ext cx="685800" cy="5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华文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那颗种子曾遇见了一片土地，在一个过客的心之峡谷里，蔚然成阴，教会她怎样敬畏生命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320040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     “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土地”比喻心田，即</a:t>
            </a:r>
            <a:r>
              <a:rPr b="1" lang="zh-CN" sz="36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"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一个过客的心之峡谷</a:t>
            </a:r>
            <a:r>
              <a:rPr b="1" lang="zh-CN" sz="36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"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。“敬畏”指“敬重，不敢轻视”的意思。作者由植物传递生生不息的执着，投资之巨大，感悟到生命传递的神圣，生命价值的可贵，从而得到人生的启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back.1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685800" cy="514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4T05:52:16Z</dcterms:created>
  <dc:creator>CAI</dc:creator>
  <dc:description/>
  <dc:language>en-US</dc:language>
  <cp:lastModifiedBy>Cai Weijie</cp:lastModifiedBy>
  <dcterms:modified xsi:type="dcterms:W3CDTF">2003-02-16T14:59:33Z</dcterms:modified>
  <cp:revision>22</cp:revision>
  <dc:subject/>
  <dc:title>敬畏生命</dc:title>
</cp:coreProperties>
</file>