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chimes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51B6-1B46-4B2A-A005-790B10DB1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52C4-539C-4700-93A1-0C7C02B19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6823-1B2E-47E8-98C9-AD90D1727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3335-F790-4A12-9183-8C837073C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800B1-D635-4FB8-9D02-8BC541EFF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A6161-A176-4797-9646-B4F8AFB96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AA60C-A300-4EA2-80D0-33E03D939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569C0-2426-4416-8068-7DC8FC2C6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647E2-31AA-41FB-8471-25375B6C2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5B8A6-6954-418C-8237-6C33A6CC5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CAB1A-9AE4-4584-B792-9306F2CD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9539-0AC2-4299-B854-3E36D5770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BBD09-02F7-4DDA-B9FD-D9F7FAE5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A91EE-056A-417A-A13A-DC0C2E83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7D348-4DD0-44C0-B4CE-672E23571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DC57B-9F3D-4080-865B-1FE0DB8F1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2FE3E-90CC-4AD6-BD47-4863BC4F8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5DE7-B1D1-4D3F-9CD5-5B661542F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6780-CCAC-465A-84E3-A7CB3C8C3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2F6E-3909-4C7F-8E03-20FA9C31D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7E50-DB15-4E12-8F31-C20764A50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1969-E2A6-407B-933D-039731BC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F1BA-916C-4173-8E60-DB90DC79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0648-3204-4B1C-88C5-5DBEDE192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EA787-F1DE-43D7-B1E5-60B41C5EFE25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84502-C04D-4EF8-8038-65E5B1224A07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3962520" cy="5715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114240" y="914400"/>
            <a:ext cx="1826280" cy="4572000"/>
          </a:xfrm>
          <a:prstGeom prst="rect">
            <a:avLst/>
          </a:prstGeom>
          <a:solidFill>
            <a:srgbClr val="2a3d7a"/>
          </a:solidFill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5400" spc="-1" strike="noStrike">
                <a:solidFill>
                  <a:srgbClr val="ffff00"/>
                </a:solidFill>
                <a:latin typeface="Times New Roman"/>
              </a:rPr>
              <a:t>金    色    花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60480" y="2925720"/>
            <a:ext cx="911880" cy="259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泰  戈  尔（印 度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97440" y="5805360"/>
            <a:ext cx="2087640" cy="51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1066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泰戈尔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7960" y="21016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印度作家、诗人、社会活动家。主要作品有诗集《吉檀伽俐》、《新月集》、《园丁集》、《飞鸟集》。他的创作对印度文学的发展影响很大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1913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年获诺贝尔文学奖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1066320"/>
            <a:ext cx="7772400" cy="762120"/>
          </a:xfrm>
          <a:prstGeom prst="rect">
            <a:avLst/>
          </a:prstGeom>
          <a:solidFill>
            <a:srgbClr val="3676d4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金色花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又译作：“瞻波伽”或“占波”，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i="1" lang="zh-CN" sz="3600" spc="-1" strike="noStrike" u="sng">
                <a:solidFill>
                  <a:srgbClr val="0000ff"/>
                </a:solidFill>
                <a:uFillTx/>
                <a:latin typeface="Times New Roman"/>
              </a:rPr>
              <a:t>印度圣树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，木兰花属植物，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开金色碎花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思考题：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">
            <a:hlinkClick r:id="rId1" action="ppaction://hlinksldjump"/>
          </p:cNvPr>
          <p:cNvSpPr/>
          <p:nvPr/>
        </p:nvSpPr>
        <p:spPr>
          <a:xfrm>
            <a:off x="8381880" y="2666880"/>
            <a:ext cx="381240" cy="381240"/>
          </a:xfrm>
          <a:prstGeom prst="star5">
            <a:avLst/>
          </a:prstGeom>
          <a:solidFill>
            <a:srgbClr val="ffff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">
            <a:hlinkClick r:id="rId2" action="ppaction://hlinksldjump"/>
          </p:cNvPr>
          <p:cNvSpPr/>
          <p:nvPr/>
        </p:nvSpPr>
        <p:spPr>
          <a:xfrm>
            <a:off x="8458200" y="4114800"/>
            <a:ext cx="380880" cy="380880"/>
          </a:xfrm>
          <a:prstGeom prst="star5">
            <a:avLst/>
          </a:prstGeom>
          <a:solidFill>
            <a:srgbClr val="ffff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">
            <a:hlinkClick r:id="rId3" action="ppaction://hlinksldjump"/>
          </p:cNvPr>
          <p:cNvSpPr/>
          <p:nvPr/>
        </p:nvSpPr>
        <p:spPr>
          <a:xfrm>
            <a:off x="8458200" y="5029200"/>
            <a:ext cx="380880" cy="380880"/>
          </a:xfrm>
          <a:prstGeom prst="star5">
            <a:avLst/>
          </a:prstGeom>
          <a:solidFill>
            <a:srgbClr val="ffff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">
            <a:hlinkClick r:id="rId4" action="ppaction://hlinksldjump"/>
          </p:cNvPr>
          <p:cNvSpPr/>
          <p:nvPr/>
        </p:nvSpPr>
        <p:spPr>
          <a:xfrm>
            <a:off x="8458200" y="5867280"/>
            <a:ext cx="380880" cy="381240"/>
          </a:xfrm>
          <a:prstGeom prst="star5">
            <a:avLst/>
          </a:prstGeom>
          <a:solidFill>
            <a:srgbClr val="ffff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1203480"/>
            <a:ext cx="777240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8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、在诗的开头，诗人大胆地提出一个假想——“假如我变成了一朵金色花”，并由此出发想像“我”和母亲“捉迷藏”，构成了一幅有趣的画面。在这幅画面中，“我”和母亲共有多少次嬉戏？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3222720"/>
            <a:ext cx="769644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8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、为什么“我”想变成一朵金色花呢？请在文中找出我变成金色花为妈妈所做的事？并说说我为什么要“暗暗地”、“悄悄地”做这些事情？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48769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、作者为什么把孩子想象为金色花？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550224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、篇末，妈妈见到孩子为什么说“你这坏孩子”？这是什   么口吻？而孩子为什么不告诉妈妈自己做了不少好事？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18000" y="3429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2971800"/>
            <a:ext cx="173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440" y="685440"/>
            <a:ext cx="8001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整体感知，理清思路：三次嬉戏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）第一次嬉戏（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1~4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）：“我”在妈妈祷告时，悄悄地开放花瓣散发香气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）第二次嬉戏（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5~6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）：“我”在妈妈读诗时，将影子投射到书页上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）第三次嬉戏（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7~9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）：“我”在妈妈拿了灯去牛棚时，突然跳到她身边，恢复了原形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这些看似是孩子与母亲嬉戏的诗歌，其实表达的是孩子对母亲的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">
            <a:hlinkClick r:id="rId1" action="ppaction://hlinksldjump"/>
          </p:cNvPr>
          <p:cNvSpPr/>
          <p:nvPr/>
        </p:nvSpPr>
        <p:spPr>
          <a:xfrm>
            <a:off x="46836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2880" y="6095880"/>
            <a:ext cx="274320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43400" y="5597640"/>
            <a:ext cx="44766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喜爱、依恋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（可见他们母子情深）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914400" y="19810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为了能给妈妈做点事：可以看着妈妈工作，可以让妈妈嗅到花香，可以让妈妈看书不伤眼睛。       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">
            <a:hlinkClick r:id="rId1" action="ppaction://hlinksldjump"/>
          </p:cNvPr>
          <p:cNvSpPr/>
          <p:nvPr/>
        </p:nvSpPr>
        <p:spPr>
          <a:xfrm>
            <a:off x="7010280" y="57913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7308" y="10800"/>
                </a:moveTo>
                <a:lnTo>
                  <a:pt x="17814" y="3794"/>
                </a:lnTo>
                <a:lnTo>
                  <a:pt x="17814" y="17806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5463" y="3794"/>
                </a:lnTo>
                <a:lnTo>
                  <a:pt x="5463" y="17806"/>
                </a:lnTo>
                <a:lnTo>
                  <a:pt x="3801" y="17806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8077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孩子懂得母亲的奉献是无私的，对母爱的回报也应该是无私的。他不图妈妈夸奖，但求妈妈生活得更温馨，所以他只是撒娇，还瞒着妈妈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85800" y="199692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金色花是美丽的圣树上的花朵，赞美孩子可爱。那金黄的色彩，正反映着母爱的光辉。人们喜爱花儿，花儿也惠及人们，正可以象征孩子回报母爱的心愿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7010280" y="42670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33520" y="173844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坏孩子”：妈妈找孩子找了很久，非常着急担忧，一见到孩子又惊又喜，嗔怪孩子一声不说就走，把妈妈急死了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3733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而“我”为自己能给妈妈做事而高兴，还要妈妈保密，让她莫名其妙才好，于是向妈妈撒起娇来了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990720" y="990720"/>
            <a:ext cx="351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写作特点：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43000" y="2362320"/>
            <a:ext cx="73152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构思新奇巧妙，充满童趣；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想像丰富；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文风活泼调皮；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语言清新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4T03:18:33Z</dcterms:created>
  <dc:creator>ACER</dc:creator>
  <dc:description/>
  <dc:language>en-US</dc:language>
  <cp:lastModifiedBy>WINXP(心怡电脑)</cp:lastModifiedBy>
  <dcterms:modified xsi:type="dcterms:W3CDTF">2005-12-01T00:23:32Z</dcterms:modified>
  <cp:revision>10</cp:revision>
  <dc:subject/>
  <dc:title>金色花</dc:title>
</cp:coreProperties>
</file>