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01CC-01ED-4C1D-81E1-24D98F65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DF54-7246-4CE2-887F-B9760E80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4A6B-BD3F-4708-8914-33DBE5AB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AFC3-EAA4-4598-95BF-0B18AAD4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FA08-C212-4238-98D9-E02BC25F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F73C-D29D-4C49-9954-A25967F3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45E4-C736-4C17-A7D9-1373CA19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5F21-CCEF-4834-B93A-F57EC6C5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5983-1D35-4260-A958-7296FF03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ED39-FDCA-432A-908A-BA75528C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D254-B610-46C5-8457-41A3AF33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11AD-48B8-413D-89FE-5843B477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AF3F-5EAB-4574-BA1B-D5156480D0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-38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名句默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4978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一、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孔雀东南飞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孔雀东南飞，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足下蹑丝履，头上玳瑁光。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如削葱根，口如含朱丹。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精妙世无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感君区区怀！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君既若见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不久望君来。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举手长劳劳，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新妇识马声，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怅然遥相望，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执手分道去，各各还家门。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 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， 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 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               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！念与世间辞，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千万不复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。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东西植松柏，左右种梧桐。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二、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陶渊明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归园田居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》《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饮酒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池鱼思故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依依墟里烟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狗吠深巷中，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户庭无尘杂，虚室有余闲。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问君何能尔，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采菊东篱下，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                       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0920" y="476280"/>
            <a:ext cx="914400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方正康体简体"/>
                <a:ea typeface="方正姚体"/>
              </a:rPr>
              <a:t>给下列</a:t>
            </a:r>
            <a:r>
              <a:rPr b="1" lang="zh-CN" sz="3500" spc="-1" strike="noStrike">
                <a:solidFill>
                  <a:srgbClr val="cc0000"/>
                </a:solidFill>
                <a:latin typeface="方正康体简体"/>
                <a:ea typeface="方正姚体"/>
              </a:rPr>
              <a:t>红色</a:t>
            </a:r>
            <a:r>
              <a:rPr b="1" lang="zh-CN" sz="3500" spc="-1" strike="noStrike">
                <a:solidFill>
                  <a:srgbClr val="000000"/>
                </a:solidFill>
                <a:latin typeface="方正康体简体"/>
                <a:ea typeface="方正姚体"/>
              </a:rPr>
              <a:t>字注音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523880"/>
            <a:ext cx="25146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闻汝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丧</a:t>
            </a: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及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不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所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兄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殁</a:t>
            </a: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南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省</a:t>
            </a: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坟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归取其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1523880"/>
            <a:ext cx="274320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丞相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佐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戎</a:t>
            </a: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徐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汝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遽</a:t>
            </a: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万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乘</a:t>
            </a: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之公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殒</a:t>
            </a: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其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窆</a:t>
            </a: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不临其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尚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35240" y="1413000"/>
            <a:ext cx="202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ｓ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à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ｎｇ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13000" y="2133720"/>
            <a:ext cx="189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ｘ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ǐ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ｎｇ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69720" y="2971800"/>
            <a:ext cx="1285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ｈ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ù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65400" y="3581280"/>
            <a:ext cx="12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ｍ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ò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80160" y="4267080"/>
            <a:ext cx="208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ｘ</a:t>
            </a:r>
            <a:r>
              <a:rPr b="1" lang="en-US" sz="4000" spc="-1" strike="noStrike">
                <a:solidFill>
                  <a:srgbClr val="3333cc"/>
                </a:solidFill>
                <a:latin typeface="宋体"/>
              </a:rPr>
              <a:t>ǐ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ｎｇ</a:t>
            </a:r>
            <a:r>
              <a:rPr b="1" lang="en-US" sz="4000" spc="-1" strike="noStrike">
                <a:solidFill>
                  <a:srgbClr val="3333cc"/>
                </a:solidFill>
                <a:latin typeface="宋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45680" y="5105520"/>
            <a:ext cx="12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(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宋体"/>
              </a:rPr>
              <a:t>ｎ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ú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08440" y="1371600"/>
            <a:ext cx="203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ｈ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ō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ｎｇ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07720" y="2133720"/>
            <a:ext cx="203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ｒ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ó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ｎｇ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36800" y="2895480"/>
            <a:ext cx="1285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ｊ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ù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54240" y="3581280"/>
            <a:ext cx="22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ｓｈ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è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ｎｇ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83960" y="4343400"/>
            <a:ext cx="1778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ｙ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ǔ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ｎ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88360" y="5029200"/>
            <a:ext cx="2028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ｂｉ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ǎ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ｎ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37680" y="5715000"/>
            <a:ext cx="2302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ｘｉ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ǎ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ｎｇ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620640"/>
            <a:ext cx="7974000" cy="62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远具时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羞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之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零丁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孤苦：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皆不幸早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世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敛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不凭其棺：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终葬先人之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兆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以待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馀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年：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悠悠苍天，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曷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其有极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生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影、死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魂不与、自今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已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64000" y="7650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“馐”，美味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64000" y="14842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“伶仃”，孤独的样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5280" y="2276640"/>
            <a:ext cx="39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“逝”，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3068640"/>
            <a:ext cx="527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“殓”，给死人穿衣入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3933720"/>
            <a:ext cx="481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黑体"/>
              </a:rPr>
              <a:t>通“垗”，墓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472428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黑体"/>
              </a:rPr>
              <a:t>通“余”，剩下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59280" y="55897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“何”，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3640" y="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Arial"/>
              </a:rPr>
              <a:t>通假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84720" y="62784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“尔”，通“以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4653000"/>
            <a:ext cx="845820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方正魏碑简体"/>
                <a:ea typeface="方正魏碑简体"/>
              </a:rPr>
              <a:t>第三部分、写对十二郎及其遗孤的吊慰，交代迁葬及教养遗孤等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341360"/>
            <a:ext cx="822960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方正魏碑简体"/>
                <a:ea typeface="方正魏碑简体"/>
              </a:rPr>
              <a:t>第一部分、写两人之间的深厚情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429000"/>
            <a:ext cx="777240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方正魏碑简体"/>
                <a:ea typeface="方正魏碑简体"/>
              </a:rPr>
              <a:t>第二部分、写十二郎之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916280"/>
            <a:ext cx="807732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先从身世和家世的不幸，写幼时孤苦相依；后叙两人的三别三会，终于不得会合而成永别，使作者悔恨无穷，抱憾终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3933720"/>
            <a:ext cx="845820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先写对十二郎之死的悲痛，再详叙死因和死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635280" y="260280"/>
            <a:ext cx="2532240" cy="8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cc99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华文行楷"/>
              </a:rPr>
              <a:t>文章结构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cc99"/>
                  </a:gs>
                  <a:gs pos="100000">
                    <a:srgbClr val="ffffff"/>
                  </a:gs>
                </a:gsLst>
                <a:lin ang="8100000"/>
              </a:gradFill>
              <a:latin typeface="华文行楷"/>
              <a:ea typeface="华文行楷"/>
            </a:endParaRPr>
          </a:p>
        </p:txBody>
      </p:sp>
      <p:sp>
        <p:nvSpPr>
          <p:cNvPr id="108" name=""/>
          <p:cNvSpPr/>
          <p:nvPr/>
        </p:nvSpPr>
        <p:spPr>
          <a:xfrm>
            <a:off x="668520" y="189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华文新魏"/>
              </a:rPr>
              <a:t>朗读感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5734080"/>
            <a:ext cx="7416720" cy="4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整体上按“</a:t>
            </a:r>
            <a:r>
              <a:rPr b="1" lang="zh-CN" sz="2800" spc="-1" strike="noStrike">
                <a:solidFill>
                  <a:srgbClr val="006600"/>
                </a:solidFill>
                <a:latin typeface="隶书"/>
                <a:ea typeface="隶书"/>
              </a:rPr>
              <a:t>回忆往事</a:t>
            </a:r>
            <a:r>
              <a:rPr b="1" lang="en-US" sz="2800" spc="-1" strike="noStrike">
                <a:solidFill>
                  <a:srgbClr val="006600"/>
                </a:solidFill>
                <a:latin typeface="隶书"/>
                <a:ea typeface="隶书"/>
              </a:rPr>
              <a:t>---</a:t>
            </a:r>
            <a:r>
              <a:rPr b="1" lang="zh-CN" sz="2800" spc="-1" strike="noStrike">
                <a:solidFill>
                  <a:srgbClr val="006600"/>
                </a:solidFill>
                <a:latin typeface="隶书"/>
                <a:ea typeface="隶书"/>
              </a:rPr>
              <a:t>寄托哀思</a:t>
            </a:r>
            <a:r>
              <a:rPr b="1" lang="en-US" sz="2800" spc="-1" strike="noStrike">
                <a:solidFill>
                  <a:srgbClr val="006600"/>
                </a:solidFill>
                <a:latin typeface="隶书"/>
                <a:ea typeface="隶书"/>
              </a:rPr>
              <a:t>—</a:t>
            </a:r>
            <a:r>
              <a:rPr b="1" lang="zh-CN" sz="2800" spc="-1" strike="noStrike">
                <a:solidFill>
                  <a:srgbClr val="006600"/>
                </a:solidFill>
                <a:latin typeface="隶书"/>
                <a:ea typeface="隶书"/>
              </a:rPr>
              <a:t>再回忆往事</a:t>
            </a:r>
            <a:r>
              <a:rPr b="1" lang="en-US" sz="2800" spc="-1" strike="noStrike">
                <a:solidFill>
                  <a:srgbClr val="006600"/>
                </a:solidFill>
                <a:latin typeface="隶书"/>
                <a:ea typeface="隶书"/>
              </a:rPr>
              <a:t>—</a:t>
            </a:r>
            <a:r>
              <a:rPr b="1" lang="zh-CN" sz="2800" spc="-1" strike="noStrike">
                <a:solidFill>
                  <a:srgbClr val="006600"/>
                </a:solidFill>
                <a:latin typeface="隶书"/>
                <a:ea typeface="隶书"/>
              </a:rPr>
              <a:t>再寄托哀思</a:t>
            </a: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”展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179440" y="189000"/>
            <a:ext cx="466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隶书"/>
              </a:rPr>
              <a:t>追叙往事的情感触发点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隶书"/>
              </a:rPr>
              <a:t>由此分哪几个时段追述了哪些往事来寄托哀思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63160" y="1341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惊闻噩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419640" y="1989000"/>
            <a:ext cx="79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16360" y="198900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29080" y="2565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追叙往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78120" y="2565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寄托哀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40360" y="2852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58960" y="1557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触发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2720" y="3305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少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0720" y="4672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成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7160" y="3319560"/>
            <a:ext cx="15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相依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17160" y="3960720"/>
            <a:ext cx="15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相别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17160" y="4681440"/>
            <a:ext cx="15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相思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16800" y="5373720"/>
            <a:ext cx="16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相隔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70760" y="33577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孤苦零丁、骨肉情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0760" y="39337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聚少离多、悔恨自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70760" y="46720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惊愕怀疑、凄苦悲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70760" y="53737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痛责内疚、沉痛之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364500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4149720"/>
            <a:ext cx="144720" cy="1655640"/>
          </a:xfrm>
          <a:custGeom>
            <a:avLst/>
            <a:gdLst>
              <a:gd name="textAreaLeft" fmla="*/ 92520 w 144720"/>
              <a:gd name="textAreaRight" fmla="*/ 145080 w 14472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76880" y="3881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时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40360" y="314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48000" y="59500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42800" y="6093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35160" y="6093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2000" y="59500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200400" y="2362320"/>
            <a:ext cx="2362320" cy="236196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rId3" action="ppaction://hlinksldjump"/>
          </p:cNvPr>
          <p:cNvSpPr/>
          <p:nvPr/>
        </p:nvSpPr>
        <p:spPr>
          <a:xfrm>
            <a:off x="1284480" y="1828800"/>
            <a:ext cx="1034280" cy="520560"/>
          </a:xfrm>
          <a:prstGeom prst="rect">
            <a:avLst/>
          </a:prstGeom>
          <a:solidFill>
            <a:srgbClr val="009900"/>
          </a:solidFill>
          <a:ln w="9360">
            <a:solidFill>
              <a:srgbClr val="00cc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 Unicode MS"/>
                <a:ea typeface="黑体"/>
              </a:rPr>
              <a:t>思念之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4" action="ppaction://hlinksldjump"/>
          </p:cNvPr>
          <p:cNvSpPr/>
          <p:nvPr/>
        </p:nvSpPr>
        <p:spPr>
          <a:xfrm>
            <a:off x="979920" y="3200400"/>
            <a:ext cx="1034280" cy="520560"/>
          </a:xfrm>
          <a:prstGeom prst="rect">
            <a:avLst/>
          </a:prstGeom>
          <a:solidFill>
            <a:srgbClr val="009900"/>
          </a:solidFill>
          <a:ln w="9360">
            <a:solidFill>
              <a:srgbClr val="00cc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 Unicode MS"/>
                <a:ea typeface="黑体"/>
              </a:rPr>
              <a:t>痛悼之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5" action="ppaction://hlinksldjump"/>
          </p:cNvPr>
          <p:cNvSpPr/>
          <p:nvPr/>
        </p:nvSpPr>
        <p:spPr>
          <a:xfrm>
            <a:off x="1437120" y="4648320"/>
            <a:ext cx="1034280" cy="520560"/>
          </a:xfrm>
          <a:prstGeom prst="rect">
            <a:avLst/>
          </a:prstGeom>
          <a:solidFill>
            <a:srgbClr val="009900"/>
          </a:solidFill>
          <a:ln w="9360">
            <a:solidFill>
              <a:srgbClr val="00cc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 Unicode MS"/>
                <a:ea typeface="黑体"/>
              </a:rPr>
              <a:t>骨肉之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6" action="ppaction://hlinksldjump"/>
          </p:cNvPr>
          <p:cNvSpPr/>
          <p:nvPr/>
        </p:nvSpPr>
        <p:spPr>
          <a:xfrm>
            <a:off x="6618600" y="1752480"/>
            <a:ext cx="1034280" cy="520560"/>
          </a:xfrm>
          <a:prstGeom prst="rect">
            <a:avLst/>
          </a:prstGeom>
          <a:solidFill>
            <a:srgbClr val="009900"/>
          </a:solidFill>
          <a:ln w="9360">
            <a:solidFill>
              <a:srgbClr val="00cc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 Unicode MS"/>
                <a:ea typeface="黑体"/>
              </a:rPr>
              <a:t>追悔之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7" action="ppaction://hlinksldjump"/>
          </p:cNvPr>
          <p:cNvSpPr/>
          <p:nvPr/>
        </p:nvSpPr>
        <p:spPr>
          <a:xfrm>
            <a:off x="7075800" y="3124080"/>
            <a:ext cx="1034280" cy="520560"/>
          </a:xfrm>
          <a:prstGeom prst="rect">
            <a:avLst/>
          </a:prstGeom>
          <a:solidFill>
            <a:srgbClr val="009900"/>
          </a:solidFill>
          <a:ln w="9360">
            <a:solidFill>
              <a:srgbClr val="00cc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 Unicode MS"/>
                <a:ea typeface="黑体"/>
              </a:rPr>
              <a:t>人生无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8" action="ppaction://hlinksldjump"/>
          </p:cNvPr>
          <p:cNvSpPr/>
          <p:nvPr/>
        </p:nvSpPr>
        <p:spPr>
          <a:xfrm>
            <a:off x="6694920" y="4572000"/>
            <a:ext cx="1034280" cy="520560"/>
          </a:xfrm>
          <a:prstGeom prst="rect">
            <a:avLst/>
          </a:prstGeom>
          <a:solidFill>
            <a:srgbClr val="009900"/>
          </a:solidFill>
          <a:ln w="9360">
            <a:solidFill>
              <a:srgbClr val="00cc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 Unicode MS"/>
                <a:ea typeface="黑体"/>
              </a:rPr>
              <a:t>宦海沉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5486400"/>
            <a:ext cx="6095880" cy="114300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隶书"/>
                <a:ea typeface="华文隶书"/>
              </a:rPr>
              <a:t>至情之文</a:t>
            </a:r>
            <a:r>
              <a:rPr b="1" lang="en-US" sz="4800" spc="-1" strike="noStrike">
                <a:solidFill>
                  <a:srgbClr val="ff0000"/>
                </a:solidFill>
                <a:latin typeface="华文隶书"/>
                <a:ea typeface="华文隶书"/>
              </a:rPr>
              <a:t>,</a:t>
            </a:r>
            <a:r>
              <a:rPr b="1" lang="zh-CN" sz="4800" spc="-1" strike="noStrike">
                <a:solidFill>
                  <a:srgbClr val="ff0000"/>
                </a:solidFill>
                <a:latin typeface="华文隶书"/>
                <a:ea typeface="华文隶书"/>
              </a:rPr>
              <a:t>千古绝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文章以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情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感人，举例说说文中集中表现了哪些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情感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。试以四字句概括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2133720"/>
            <a:ext cx="106704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3429000"/>
            <a:ext cx="990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819520" y="4190760"/>
            <a:ext cx="83808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2057040"/>
            <a:ext cx="11430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86400" y="3429000"/>
            <a:ext cx="12193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114800"/>
            <a:ext cx="11430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835280" y="765000"/>
            <a:ext cx="5616360" cy="2016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文言虚词，穿插缀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抑扬顿挫，散而有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3141720"/>
            <a:ext cx="8388360" cy="2955960"/>
          </a:xfrm>
          <a:prstGeom prst="pentagon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反复出没，如怒涛惊湍，变化不测，非妙于文章者，安能及此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228600"/>
            <a:ext cx="8381880" cy="10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探究学习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本文除借助叙事表达思想感情，还极其准确地借助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虚词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来表达感情。</a:t>
            </a:r>
            <a:r>
              <a:rPr b="1" lang="zh-CN" sz="3200" spc="-1" strike="noStrike">
                <a:solidFill>
                  <a:srgbClr val="3333cc"/>
                </a:solidFill>
                <a:latin typeface="方正康体简体"/>
                <a:ea typeface="方正康体简体"/>
              </a:rPr>
              <a:t>说说</a:t>
            </a:r>
            <a:r>
              <a:rPr b="1" lang="zh-CN" sz="3200" spc="-1" strike="noStrike">
                <a:solidFill>
                  <a:srgbClr val="006600"/>
                </a:solidFill>
                <a:latin typeface="方正康体简体"/>
                <a:ea typeface="方正康体简体"/>
              </a:rPr>
              <a:t>第</a:t>
            </a:r>
            <a:r>
              <a:rPr b="1" lang="en-US" sz="3200" spc="-1" strike="noStrike">
                <a:solidFill>
                  <a:srgbClr val="006600"/>
                </a:solidFill>
                <a:latin typeface="方正康体简体"/>
                <a:ea typeface="方正康体简体"/>
              </a:rPr>
              <a:t>5</a:t>
            </a:r>
            <a:r>
              <a:rPr b="1" lang="zh-CN" sz="3200" spc="-1" strike="noStrike">
                <a:solidFill>
                  <a:srgbClr val="006600"/>
                </a:solidFill>
                <a:latin typeface="方正康体简体"/>
                <a:ea typeface="方正康体简体"/>
              </a:rPr>
              <a:t>自然段中</a:t>
            </a:r>
            <a:r>
              <a:rPr b="1" lang="zh-CN" sz="3200" spc="-1" strike="noStrike">
                <a:solidFill>
                  <a:srgbClr val="3333cc"/>
                </a:solidFill>
                <a:latin typeface="方正康体简体"/>
                <a:ea typeface="方正康体简体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方正康体简体"/>
                <a:ea typeface="方正康体简体"/>
              </a:rPr>
              <a:t>“邪”、“也”、“乎”、“矣”</a:t>
            </a:r>
            <a:r>
              <a:rPr b="1" lang="zh-CN" sz="3200" spc="-1" strike="noStrike">
                <a:solidFill>
                  <a:srgbClr val="3333cc"/>
                </a:solidFill>
                <a:latin typeface="方正康体简体"/>
                <a:ea typeface="方正康体简体"/>
              </a:rPr>
              <a:t> 在表达感情上的作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2781360"/>
            <a:ext cx="784872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方正隶二简体"/>
              </a:rPr>
              <a:t>三个“</a:t>
            </a:r>
            <a:r>
              <a:rPr b="1" lang="zh-CN" sz="3500" spc="-1" strike="noStrike">
                <a:solidFill>
                  <a:srgbClr val="cc0000"/>
                </a:solidFill>
                <a:latin typeface="Times New Roman"/>
                <a:ea typeface="方正隶二简体"/>
              </a:rPr>
              <a:t>邪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方正隶二简体"/>
              </a:rPr>
              <a:t>”表明作者难以接受十二郎夭亡的事实，所以用反诘的语气，强化作者极度震惊的心情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4724280"/>
            <a:ext cx="792468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zh-CN" sz="3500" spc="-1" strike="noStrike">
                <a:solidFill>
                  <a:srgbClr val="006600"/>
                </a:solidFill>
                <a:latin typeface="Times New Roman"/>
                <a:ea typeface="方正隶二简体"/>
              </a:rPr>
              <a:t>        </a:t>
            </a:r>
            <a:r>
              <a:rPr b="1" lang="zh-CN" sz="3500" spc="-1" strike="noStrike">
                <a:solidFill>
                  <a:srgbClr val="006600"/>
                </a:solidFill>
                <a:latin typeface="Times New Roman"/>
                <a:ea typeface="方正隶二简体"/>
              </a:rPr>
              <a:t>第五句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方正隶二简体"/>
              </a:rPr>
              <a:t>“</a:t>
            </a:r>
            <a:r>
              <a:rPr b="1" lang="zh-CN" sz="3500" spc="-1" strike="noStrike">
                <a:solidFill>
                  <a:srgbClr val="cc0000"/>
                </a:solidFill>
                <a:latin typeface="Times New Roman"/>
                <a:ea typeface="方正隶二简体"/>
              </a:rPr>
              <a:t>也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方正隶二简体"/>
              </a:rPr>
              <a:t>”“</a:t>
            </a:r>
            <a:r>
              <a:rPr b="1" lang="zh-CN" sz="3500" spc="-1" strike="noStrike">
                <a:solidFill>
                  <a:srgbClr val="cc0000"/>
                </a:solidFill>
                <a:latin typeface="Times New Roman"/>
                <a:ea typeface="方正隶二简体"/>
              </a:rPr>
              <a:t>乎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方正隶二简体"/>
              </a:rPr>
              <a:t>”合用，表明作者仍不相信事实，所以用推断来排除现实的可能性，整个一句用的是假设语气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0880" y="533520"/>
            <a:ext cx="838224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        </a:t>
            </a:r>
            <a:r>
              <a:rPr b="1" lang="zh-CN" sz="3500" spc="-1" strike="noStrike">
                <a:solidFill>
                  <a:srgbClr val="006600"/>
                </a:solidFill>
                <a:latin typeface="Times New Roman"/>
                <a:ea typeface="方正康体简体"/>
              </a:rPr>
              <a:t>第六七句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末尾用“</a:t>
            </a:r>
            <a:r>
              <a:rPr b="1" lang="zh-CN" sz="3500" spc="-1" strike="noStrike">
                <a:solidFill>
                  <a:srgbClr val="cc0000"/>
                </a:solidFill>
                <a:latin typeface="Times New Roman"/>
                <a:ea typeface="方正康体简体"/>
              </a:rPr>
              <a:t>乎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”，来表示作者的质疑，不愿接受残酷的现实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905120"/>
            <a:ext cx="861048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       </a:t>
            </a:r>
            <a:r>
              <a:rPr b="1" lang="zh-CN" sz="3500" spc="-1" strike="noStrike">
                <a:solidFill>
                  <a:srgbClr val="006600"/>
                </a:solidFill>
                <a:latin typeface="Times New Roman"/>
                <a:ea typeface="方正康体简体"/>
              </a:rPr>
              <a:t>第八句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末尾用“</a:t>
            </a:r>
            <a:r>
              <a:rPr b="1" lang="zh-CN" sz="3500" spc="-1" strike="noStrike">
                <a:solidFill>
                  <a:srgbClr val="cc0000"/>
                </a:solidFill>
                <a:latin typeface="Times New Roman"/>
                <a:ea typeface="方正康体简体"/>
              </a:rPr>
              <a:t>也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”，表明作者始终难以接受事实，陷入了极度的痛苦之中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3716280"/>
            <a:ext cx="830592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        </a:t>
            </a:r>
            <a:r>
              <a:rPr b="1" lang="zh-CN" sz="3500" spc="-1" strike="noStrike">
                <a:solidFill>
                  <a:srgbClr val="006600"/>
                </a:solidFill>
                <a:latin typeface="Times New Roman"/>
                <a:ea typeface="方正康体简体"/>
              </a:rPr>
              <a:t>第九句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前两个“</a:t>
            </a:r>
            <a:r>
              <a:rPr b="1" lang="zh-CN" sz="3500" spc="-1" strike="noStrike">
                <a:solidFill>
                  <a:srgbClr val="cc0000"/>
                </a:solidFill>
                <a:latin typeface="Times New Roman"/>
                <a:ea typeface="方正康体简体"/>
              </a:rPr>
              <a:t>也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”连用，表假设，后一个“也”表反问，作者清醒地明白，眼前这一切是事实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0880" y="533520"/>
            <a:ext cx="83822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spcBef>
                <a:spcPts val="2438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        </a:t>
            </a:r>
            <a:r>
              <a:rPr b="1" lang="zh-CN" sz="3900" spc="-1" strike="noStrike">
                <a:solidFill>
                  <a:srgbClr val="006600"/>
                </a:solidFill>
                <a:latin typeface="Times New Roman"/>
                <a:ea typeface="方正康体简体"/>
              </a:rPr>
              <a:t>第十一、十二、十三句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连用“</a:t>
            </a:r>
            <a:r>
              <a:rPr b="1" lang="zh-CN" sz="3900" spc="-1" strike="noStrike">
                <a:solidFill>
                  <a:srgbClr val="cc0000"/>
                </a:solidFill>
                <a:latin typeface="Times New Roman"/>
                <a:ea typeface="方正康体简体"/>
              </a:rPr>
              <a:t>矣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”来表明自己的不解与迷惑，作者实在无法接受残酷的事实。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2819520"/>
            <a:ext cx="82296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spcBef>
                <a:spcPts val="2438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zh-CN" sz="3500" spc="-1" strike="noStrike">
                <a:solidFill>
                  <a:srgbClr val="006600"/>
                </a:solidFill>
                <a:latin typeface="Times New Roman"/>
                <a:ea typeface="方正康体简体"/>
              </a:rPr>
              <a:t>        </a:t>
            </a:r>
            <a:r>
              <a:rPr b="1" lang="zh-CN" sz="3900" spc="-1" strike="noStrike">
                <a:solidFill>
                  <a:srgbClr val="006600"/>
                </a:solidFill>
                <a:latin typeface="Times New Roman"/>
                <a:ea typeface="方正康体简体"/>
              </a:rPr>
              <a:t>最后两句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末尾用“</a:t>
            </a:r>
            <a:r>
              <a:rPr b="1" lang="zh-CN" sz="3900" spc="-1" strike="noStrike">
                <a:solidFill>
                  <a:srgbClr val="cc0000"/>
                </a:solidFill>
                <a:latin typeface="Times New Roman"/>
                <a:ea typeface="方正康体简体"/>
              </a:rPr>
              <a:t>矣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”，相当于“了”，表明天道难测、神机难明、天理不可推究、人的寿命难以预知。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709560" y="617400"/>
            <a:ext cx="7824600" cy="5622840"/>
            <a:chOff x="709560" y="617400"/>
            <a:chExt cx="7824600" cy="5622840"/>
          </a:xfrm>
        </p:grpSpPr>
        <p:sp>
          <p:nvSpPr>
            <p:cNvPr id="164" name=""/>
            <p:cNvSpPr/>
            <p:nvPr/>
          </p:nvSpPr>
          <p:spPr>
            <a:xfrm>
              <a:off x="709560" y="617400"/>
              <a:ext cx="7824600" cy="56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9560" y="617400"/>
              <a:ext cx="782460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95280" y="1052640"/>
            <a:ext cx="83883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第一、</a:t>
            </a:r>
            <a:r>
              <a:rPr b="1" lang="zh-CN" sz="44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加重语气，使表达的感情更强烈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第二、押韵和增强文章的节奏，从而增强作品感染力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，更能打动读者的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69228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借助文言虚词表达思想感情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的作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-38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名句默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404280"/>
            <a:ext cx="8497800" cy="511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一、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孔雀东南飞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孔雀东南飞，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五里一徘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足下蹑丝履，头上玳瑁光。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腰若流纨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耳著明月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如削葱根，口如含朱丹。 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纤纤作细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精妙世无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感君区区怀！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君既若见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不久望君来。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君当作磐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妾当作蒲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蒲苇纫如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磐石无转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举手长劳劳，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二情同依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新妇识马声，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蹑履相逢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怅然遥相望，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知是故人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执手分道去，各各还家门。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 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生人作死别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， 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 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恨恨那可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！念与世间辞，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千万不复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。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东西植松柏，左右种梧桐。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枝枝相覆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叶叶相交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二、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陶渊明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归园田居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》《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饮酒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羁鸟恋旧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池鱼思故渊。（陶渊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归园田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暧暧远人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依依墟里烟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狗吠深巷中，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宋体"/>
              </a:rPr>
              <a:t>鸡鸣桑树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户庭无尘杂，虚室有余闲。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久在樊笼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复得返自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问君何能尔，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心远地自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采菊东篱下， 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悠然见南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412080" y="549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拓展延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88560" y="1492200"/>
            <a:ext cx="37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请你以书信的形式，写一段话劝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劝慰处于极度悲痛中的韩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2781360"/>
            <a:ext cx="8137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提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、勇敢地面对孤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、理智地看待生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、必须战胜自己，跨过人生这道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、改变不了环境，那就改变自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、人生不如意事常八九，直面现实，昂头再向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知识归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302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一、重要虚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四年 ，而归视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止一岁 ，请归取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孥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终葬汝于先人之兆 ，然后惟其所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呜呼！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然矣！吾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意于人世矣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乎？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然乎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然邪？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其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梦邪？其传之非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其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真邪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611280" y="602136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表反问语气，难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2987640" y="544500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211640" y="59500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表选择关系，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还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48360" y="213372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示代词“那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48360" y="263700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人称代词，“他的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32360" y="3645000"/>
            <a:ext cx="3960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人称代词，“我的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48360" y="407664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语气副词，大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67280" y="5084640"/>
            <a:ext cx="507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还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……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表选择关系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27080" y="620280"/>
            <a:ext cx="886464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季父愈闻汝之七日 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衔哀致诚 ，使建中远具时羞之奠。       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东野与吾书 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问使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汝之子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吾年十九 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来京城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竟以此而殒其生乎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别有疾而至斯乎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软脚病 ，往往而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177336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副词，才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00720" y="2637000"/>
            <a:ext cx="29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才，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2000" y="3284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初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0360" y="4508640"/>
            <a:ext cx="345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或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43640" y="51577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近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d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1"/>
          <p:cNvSpPr/>
          <p:nvPr/>
        </p:nvSpPr>
        <p:spPr>
          <a:xfrm>
            <a:off x="250920" y="476280"/>
            <a:ext cx="849780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、然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终葬汝于先人之兆 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后惟其所愿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，吾自今年来， 苍苍者或化而为白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而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有知 ，其几何离（如果，表假设）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其无知 ，悲不几时 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悲者无穷期矣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比得软脚病 ，往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剧。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吾年未四十 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视茫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汝不肯来，恐旦暮死 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汝抱无涯之戚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56000" y="141300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代词，这样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292428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连词，并且，表并列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51640" y="364500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连词，表修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48360" y="4437000"/>
            <a:ext cx="33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76720" y="443700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连词，却，表转折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24360" y="6202440"/>
            <a:ext cx="44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连词，因而，表原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二、重要实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5840" y="1700280"/>
            <a:ext cx="763416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乃能衔哀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致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            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建中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羞（                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既又与汝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就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江南（    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归取其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                     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吾去汴州 ，汝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来（               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将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成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而致汝（                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孰谓汝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去吾而殁乎（            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吾不可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，汝不肯来（                 ）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40360" y="1484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表达心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3280" y="2133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备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32360" y="2781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谋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35280" y="3284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家眷，妻和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4360" y="3789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实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11640" y="4221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安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472428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骤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08720" y="5373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离开职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d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"/>
          <p:cNvSpPr/>
          <p:nvPr/>
        </p:nvSpPr>
        <p:spPr>
          <a:xfrm>
            <a:off x="285840" y="714240"/>
            <a:ext cx="8072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而汝抱无涯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也（                  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未可以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也。（              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汝之纯明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其家者（                 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克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其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矣（               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所谓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者不可推（                            ）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几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不从汝而死也（                 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又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其成立耶（                      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比得软脚病 ，往往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16360" y="692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悲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40360" y="12682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真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48360" y="1773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继承家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08360" y="242100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能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继承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福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11640" y="299736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天理、自然规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00720" y="3500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没多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84720" y="407664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希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96000" y="4581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严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mb dir="horz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064720" cy="24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终葬汝于先人之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             ）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吾实为之 ，其又何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                      ）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吾其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无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于人世矣（                   ）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敛不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棺 （                   ）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临其穴。（          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24360" y="1341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墓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8000" y="234936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责怪、怨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24360" y="2781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没有心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56000" y="3500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靠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88000" y="4149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下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d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释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红色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词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446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1</a:t>
            </a:r>
            <a:r>
              <a:rPr b="1" lang="zh-CN" sz="35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衔</a:t>
            </a:r>
            <a:r>
              <a:rPr b="1" lang="zh-CN" sz="35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哀</a:t>
            </a:r>
            <a:r>
              <a:rPr b="1" lang="zh-CN" sz="35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致</a:t>
            </a:r>
            <a:r>
              <a:rPr b="1" lang="zh-CN" sz="35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诚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2</a:t>
            </a:r>
            <a:r>
              <a:rPr b="1" lang="zh-CN" sz="35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不省所</a:t>
            </a:r>
            <a:r>
              <a:rPr b="1" lang="zh-CN" sz="35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怙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3</a:t>
            </a:r>
            <a:r>
              <a:rPr b="1" lang="zh-CN" sz="35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止</a:t>
            </a:r>
            <a:r>
              <a:rPr b="1" lang="zh-CN" sz="35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一岁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4</a:t>
            </a:r>
            <a:r>
              <a:rPr b="1" lang="zh-CN" sz="35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汝</a:t>
            </a:r>
            <a:r>
              <a:rPr b="1" lang="zh-CN" sz="35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遽去</a:t>
            </a:r>
            <a:r>
              <a:rPr b="1" lang="zh-CN" sz="35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吾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5</a:t>
            </a:r>
            <a:r>
              <a:rPr b="1" lang="zh-CN" sz="35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辍</a:t>
            </a:r>
            <a:r>
              <a:rPr b="1" lang="zh-CN" sz="35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汝而</a:t>
            </a:r>
            <a:r>
              <a:rPr b="1" lang="zh-CN" sz="35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就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6</a:t>
            </a:r>
            <a:r>
              <a:rPr b="1" lang="zh-CN" sz="35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抱无涯之</a:t>
            </a:r>
            <a:r>
              <a:rPr b="1" lang="zh-CN" sz="35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戚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7</a:t>
            </a:r>
            <a:r>
              <a:rPr b="1" lang="zh-CN" sz="35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其</a:t>
            </a:r>
            <a:r>
              <a:rPr b="1" lang="zh-CN" sz="35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信</a:t>
            </a:r>
            <a:r>
              <a:rPr b="1" lang="zh-CN" sz="35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邪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8</a:t>
            </a:r>
            <a:r>
              <a:rPr b="1" lang="zh-CN" sz="35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不</a:t>
            </a:r>
            <a:r>
              <a:rPr b="1" lang="zh-CN" sz="35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克蒙</a:t>
            </a:r>
            <a:r>
              <a:rPr b="1" lang="zh-CN" sz="35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其泽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9</a:t>
            </a:r>
            <a:r>
              <a:rPr b="1" lang="zh-CN" sz="35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其</a:t>
            </a:r>
            <a:r>
              <a:rPr b="1" lang="zh-CN" sz="35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几何</a:t>
            </a:r>
            <a:r>
              <a:rPr b="1" lang="zh-CN" sz="35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离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48000" y="126828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，怀着；  表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19640" y="1916280"/>
            <a:ext cx="25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依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19640" y="2565360"/>
            <a:ext cx="152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留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49800" y="3146400"/>
            <a:ext cx="38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3640" y="3141720"/>
            <a:ext cx="41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、突然；   离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32000" y="3860640"/>
            <a:ext cx="49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停止，离开  就职上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19640" y="4365720"/>
            <a:ext cx="159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忧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4941720"/>
            <a:ext cx="302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实、确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48000" y="5516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；   承受、蒙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19640" y="6237360"/>
            <a:ext cx="35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多少，不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释红色词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32576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冀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其成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1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比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得软脚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抑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别有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3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吊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汝之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4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遂取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以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5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窆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不临其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6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其又何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7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曷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其有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8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幸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其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9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长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吾女与汝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24360" y="1268280"/>
            <a:ext cx="16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希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67280" y="1844640"/>
            <a:ext cx="11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近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95640" y="227664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51280" y="29242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抚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35280" y="3357720"/>
            <a:ext cx="36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    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08360" y="3933720"/>
            <a:ext cx="38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葬时下棺入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24360" y="4365720"/>
            <a:ext cx="174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怨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64000" y="4797360"/>
            <a:ext cx="42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何，什么    尽头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24360" y="5373720"/>
            <a:ext cx="159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希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40360" y="5950080"/>
            <a:ext cx="12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养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795240" y="609120"/>
            <a:ext cx="3811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不省所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汝来省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始来京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汝之子始十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虽暂相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虽万乘之公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如吾之衰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如耿兰之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如不能守以终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27640" y="907920"/>
            <a:ext cx="17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27640" y="1268280"/>
            <a:ext cx="16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00720" y="2060640"/>
            <a:ext cx="17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初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2421000"/>
            <a:ext cx="13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27640" y="3284640"/>
            <a:ext cx="15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虽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27640" y="3716280"/>
            <a:ext cx="17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95240" y="4608360"/>
            <a:ext cx="3737160" cy="44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27640" y="4653000"/>
            <a:ext cx="127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27640" y="5084640"/>
            <a:ext cx="95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5516640"/>
            <a:ext cx="143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如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3260880" cy="17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词多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5111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9640" y="1197000"/>
            <a:ext cx="754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诗曰：月有阴晴圆缺，人有悲欢离合。人生在世，离合聚散，甚至生离死别本是常事。可是，逝者已矣，却会给生者留下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无尽的哀思和悲痛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这种哀思和悲痛绵绵于千年之后。今天，我们依然可以在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韩退之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的“绝唱”之文中触摸得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此文就是韩愈的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743200" y="0"/>
            <a:ext cx="2819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词类活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838080"/>
            <a:ext cx="2743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乃能衔哀致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诚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1981080"/>
            <a:ext cx="1981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不省所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124080"/>
            <a:ext cx="26668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汝又不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果</a:t>
            </a:r>
            <a:r>
              <a:rPr b="1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4267080"/>
            <a:ext cx="22096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莫如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西</a:t>
            </a:r>
            <a:r>
              <a:rPr b="1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5410080"/>
            <a:ext cx="2438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而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视</a:t>
            </a:r>
            <a:r>
              <a:rPr b="1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茫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67280" y="5445000"/>
            <a:ext cx="35049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言有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穷</a:t>
            </a:r>
            <a:r>
              <a:rPr b="1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而情不可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838080"/>
            <a:ext cx="3886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汝之纯明宜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业</a:t>
            </a:r>
            <a:r>
              <a:rPr b="1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其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480" y="1905120"/>
            <a:ext cx="3733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苍苍</a:t>
            </a:r>
            <a:r>
              <a:rPr b="1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者欲化为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白</a:t>
            </a:r>
            <a:r>
              <a:rPr b="1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14800" y="3048120"/>
            <a:ext cx="3124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然后惟其所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11640" y="4365720"/>
            <a:ext cx="2743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长</a:t>
            </a:r>
            <a:r>
              <a:rPr b="1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吾女与汝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1447920"/>
            <a:ext cx="2746440" cy="50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形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名，诚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733920"/>
            <a:ext cx="4211640" cy="50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名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动，实现，成为现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2590920"/>
            <a:ext cx="2674800" cy="50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动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名，父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876920"/>
            <a:ext cx="3035160" cy="50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名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状，向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8360" y="6093000"/>
            <a:ext cx="2819520" cy="50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动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名，视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91120" y="1371600"/>
            <a:ext cx="3476520" cy="50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名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动，继承事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59280" y="3789360"/>
            <a:ext cx="2665440" cy="50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动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名，愿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67080" y="4876920"/>
            <a:ext cx="3276720" cy="50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使动，使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284720" y="6093000"/>
            <a:ext cx="2968560" cy="50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形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名，尽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95640" y="2565360"/>
            <a:ext cx="4846680" cy="50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形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名，灰白的头发；白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u"/>
  </p:transition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重要句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14200" y="1357200"/>
            <a:ext cx="869976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、惟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兄嫂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（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只依靠兄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“依”的宾语“兄嫂”前置。构成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……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格式，“是”起提宾作用。成语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唯才是举”、“唯你是问”、“惟利是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都是这种格式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、其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梦邪？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其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传之非其真邪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是做梦呢？还是传送的消息不确实呢？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）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其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然乎？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其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不然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？（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是这样呢？还是不是这样呢？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上两句是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选择复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“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格式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翻译课文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—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段：年、月、日，季父愈闻汝丧之七日，乃能衔哀致诚，使建中远具时羞之奠，告汝十二郎之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某年某月某日，小叔叔愈，在听到你去世消息的第七天，才得以怀着悲哀表达诚意，派遣建中在远方备好应时鲜美的食物作为祭品，祭告你十二郎的灵位：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远：在远方，形作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段：呜呼！吾少孤，及长不省所怙，惟兄嫂是依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唉！我从小就做了孤儿，等到长大，连父亲是什么样子都记不清，只有依靠兄嫂。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惟兄嫂是依：宾语前置，“是”是宾语前置的标志，正常语序为“惟依兄嫂”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年兄殁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（于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南方，吾与汝俱幼，从嫂归葬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（于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河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哥哥在中年的时候死于南方，我和你都年幼，跟随嫂嫂把哥哥的灵柩送回安葬在河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中年：在中年，名作状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既又与汝就食江南，零丁孤苦，未尝一日相离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后来又和你跑到江南谋生，虽然零丁孤苦，但没有一天和你分离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吾上有三兄，皆不幸早世，承先人后者，在孙惟汝，在子惟吾；两世一身，形单影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上面有三个哥哥，都不幸早死，继承先人后嗣的，在孙子辈中只有一个你，在儿子辈中只有一个我，两代都是独苗，身子孤单，影子也孤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嫂尝抚汝指吾而言曰：“韩氏两世，惟此而已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嫂嫂曾经一手抚你、一手指我说：“韩家两代人，就只有你们了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汝时尤小，当不复记忆；吾时虽能记忆，亦未知其言之悲也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当时还小，大概没有留下什么记忆；我虽然能记得，但那时候并不懂得嫂嫂的话有多么悲酸啊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684360" y="-6041520"/>
            <a:ext cx="3812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73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段：吾年十九，始来京城。其后四年，而归视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十九岁那年，刚来到京城。此后四年，我到宣州去看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四年，吾往河阳省坟墓，遇汝从嫂丧来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又过了四年，我往河阳扫墓，碰上你送我嫂嫂的灵柩前来安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二年，吾佐董丞相于汴州，汝来省吾，止一岁，请归取其孥；明年丞相薨，吾去汴州，汝不果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又过了两年，我在汴州做董丞相的助手，你来看我，住了一年，要求回去接妻子儿女。第二年，董丞相去世，我离开汴州，你没有成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吾佐董丞相于汴州：介宾结构后置，即“吾于汴州佐董丞相”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明年：古义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第二年    今义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今年的下一年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年，吾佐戎徐州，使取汝者始行，吾又罢去，汝又不果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一年，我在徐州协理军务，派去接你的人刚动身，我又离职，你又没有来得成。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03120" y="-5812920"/>
            <a:ext cx="759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吾念汝从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（我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于东，东亦客也，不可以久；图久远者，莫如西归，将成家而致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想就算你跟我到徐州，那还是异乡作客，不是长久之计；作长远打算，不如回到西边的故乡去，等我先安好家，然后接你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（东：在东边居住，名作状             客：客居，名作动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西：向西，名作状                         致：使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来，动词的使动用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成家：古义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安家     今义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成立家庭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呜呼，孰谓汝遽去吾而殁乎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唉！谁能料到你突然离开我去世了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吾与汝俱少年，以为虽暂相别，终当久相与处，故舍汝而旅食京师，以求斗斛之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和你都是青年男子，认为尽管暂时分离，终于会长久团聚的，所以才丢下你客居京城谋生，企图挣几斗禄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（少年：古义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青年男子       今义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指人十岁左右到十五六的阶段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诚知其如此，虽万乘之公相，吾不以一日辍汝而就也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如果早知道会弄出这么个结局，即使有高官厚禄，我也不愿一天离开你而去就职啊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1440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0000"/>
                </a:solidFill>
                <a:latin typeface="Arial"/>
              </a:rPr>
              <a:t>讨论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祭文之初，作者为什么要详叙幼时及成年后与十二郎聚散离合的往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052640"/>
            <a:ext cx="91440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明确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叙事是抒情的基础。往事历历在目，忆之深乃因情之切，于叙事中，亦可见作者真情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060640"/>
            <a:ext cx="89154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0000"/>
                </a:solidFill>
                <a:latin typeface="Arial"/>
              </a:rPr>
              <a:t>讨论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这两段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以为最动人的细节是何处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2637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明确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如第二段“嫂尝抚汝指吾再言曰：“韩氏两世，惟此而已！”一语，“抚汝指吾”的细小动作，体现出为母为嫂的深切关爱与顾惜；“韩氏两世，惟此而已”仅寥寥八字，却字字透出嫂嫂的焦虑、期待和悲伤。十二郎遽然辞世之时，韩愈又重提旧事，也流露出韩愈无尽的沉痛与凄凉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95280" y="3049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20680" y="4797360"/>
            <a:ext cx="1267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讨论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部分侧重写什么情感？分哪几个层次写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2400" y="5734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生离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59120" y="530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92360" y="5346720"/>
            <a:ext cx="142920" cy="1511280"/>
          </a:xfrm>
          <a:custGeom>
            <a:avLst/>
            <a:gdLst>
              <a:gd name="textAreaLeft" fmla="*/ 91440 w 142920"/>
              <a:gd name="textAreaRight" fmla="*/ 143280 w 14292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86280" y="5300640"/>
            <a:ext cx="20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幼时为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未曾相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86280" y="5805360"/>
            <a:ext cx="20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三别三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聚少离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86280" y="6308640"/>
            <a:ext cx="20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少强先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抱憾终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翻译课文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—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段：去年孟东野往，吾书与汝曰：“吾年未四十，而视茫茫，而发苍苍，而齿牙动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去年孟东野到你那边去，我捎信给你说：“我年纪还不到四十岁，可是视力模糊不清，两鬓已经斑白，牙齿也摇摇晃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视：视力，动作名    动摇：古义</a:t>
            </a:r>
            <a:r>
              <a:rPr b="1" lang="en-US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牙齿松动  今义</a:t>
            </a:r>
            <a:r>
              <a:rPr b="1" lang="en-US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不稳固，不坚定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念诸父与诸兄，皆康强而早世，如吾之衰者，其能久存乎！吾不可去，汝不肯来，恐旦暮死，而汝抱无涯之戚也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想到我的几位叔伯和几位兄长都身体健康却都过早地逝世，像我这样衰弱的人，哪能长命呢？我离不开这儿，你又不肯来，生怕我早晚死去，使你忍受无穷的忧伤啊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孰谓少者殁而长者存，强者夭而病者全乎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谁说年轻的先死而年长的还活着，强壮的早死而病弱的却保全了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（强者：古义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强健的人    今义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强有力的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全：保全，形作动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531720" y="-581292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段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呜呼！其信然邪？其梦邪？其传之非其真邪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唉！这是真的呢？还是做梦呢？还是传信的弄错了真实情况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其</a:t>
            </a:r>
            <a:r>
              <a:rPr b="1" lang="en-US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……</a:t>
            </a:r>
            <a:r>
              <a:rPr b="1" lang="zh-CN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其</a:t>
            </a:r>
            <a:r>
              <a:rPr b="1" lang="en-US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……</a:t>
            </a:r>
            <a:r>
              <a:rPr b="1" lang="zh-CN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：是</a:t>
            </a:r>
            <a:r>
              <a:rPr b="1" lang="en-US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……</a:t>
            </a:r>
            <a:r>
              <a:rPr b="1" lang="zh-CN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还是</a:t>
            </a:r>
            <a:r>
              <a:rPr b="1" lang="en-US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……</a:t>
            </a:r>
            <a:r>
              <a:rPr b="1" lang="zh-CN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也，吾兄之盛德而天其嗣乎？汝之纯明而不克蒙其泽乎？少者强者而天殁，长者衰者而存全乎？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（夭：使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夭亡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是真的，我哥哥的美好品德反而会使他的儿子短命吗？你这样纯正明智却不应该承受先人的恩泽吗？年轻的强壮的反而天亡，年长的衰弱的反而全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未可以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（之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信也。梦也，传之非其真也，东野之书，耿兰之报，何为而在吾侧也？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（以为：古今异义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是万万不能相信的啊！这是在做梦，这是传错了消息。可是，东野报丧的信件，耿兰抱丧的消息，为什么又分明放在我身边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呜呼！其信然矣！吾兄之盛德而夭其嗣矣！汝之纯明宜业其家者不克蒙其泽矣！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（业：继承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的家业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唉！这是真的啊！我哥哥的美好品德反而使得他的儿子夭亡了啊！你纯洁聪明最适于继承家业，却不能承受先人的恩泽了啊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谓天者诚难测，而神者诚难明矣！所谓理者不可推，而寿者不可知矣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所谓“天”，实在测不透；所谓“神”，的确弄不清啊！所谓“理”，简直没法推；所谓“寿”，根本不可知啊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227160" y="-6079320"/>
            <a:ext cx="2271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段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虽然，吾自今年来，苍苍者欲化而为白矣，动摇者或脱而落矣，毛血日益衰，志气日益微，几何不从汝而死也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即使这样，我从今年以来，花白的头发有的已经全白了，动摇的牙齿有的已经脱落了，体质一天比一天衰弱，精神一天比一天衰退，还有多少时间不跟随你死去呢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（古今异义词：虽然           志气         几何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死而有知，其几何离；其无知，悲不几时，而不悲者无穷期矣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死后如果有知觉，还有几天的分离？如果没有知觉，那我哀伤的时间也就不会长，而不哀伤的日子倒是无穷无尽啊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汝之子始十岁，吾之子始五岁，少而强者不可保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的儿子才十岁，我的儿子才五岁。年轻力壮的都保不住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此孩提者又可冀其成立邪？呜呼哀哉！呜呼哀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像这样的小孩，又能期望他们成长立业吗？唉！实在伤心啊！实在伤心啊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成立：古义</a:t>
            </a:r>
            <a:r>
              <a:rPr b="1" lang="en-US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成长立业    今义</a:t>
            </a:r>
            <a:r>
              <a:rPr b="1" lang="en-US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形成建立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 rot="5400000">
            <a:off x="4259520" y="2369160"/>
            <a:ext cx="4724640" cy="120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祭十二郎文</a:t>
            </a:r>
            <a:endParaRPr b="0" lang="en-US" sz="66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49" name=""/>
          <p:cNvSpPr txBox="1"/>
          <p:nvPr/>
        </p:nvSpPr>
        <p:spPr>
          <a:xfrm rot="5400000">
            <a:off x="4802760" y="3807360"/>
            <a:ext cx="1523880" cy="766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方正舒体"/>
              </a:rPr>
              <a:t>韩愈</a:t>
            </a:r>
            <a:endParaRPr b="0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方正舒体"/>
              <a:ea typeface="方正舒体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23880" y="762120"/>
            <a:ext cx="3678480" cy="5257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238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696080" y="0"/>
            <a:ext cx="144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455760" y="-5965920"/>
            <a:ext cx="4557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段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汝去年书云：“比得软脚病，往往而剧。”吾曰：“是疾也，江南之人常常有之。”未始以为忧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去年来信说：“近来得了软脚病，越来越厉害。”我回信说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种病，江南人多数有。”并不曾为此而发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呜呼！其竟以此而殒其生乎？抑别有疾而致斯乎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唉！难道这种病竟然夺去了你的生命吗？还是另患重病而导致死亡呢？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陨：使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死亡，动词的使动用法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汝之书，六月十七日也。东野云，汝殁以六月二日。耿兰之报无月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的信，是六月十七日写的；东野来信说，你死于六月二日；耿兰报丧的信没有说明你死于哪月哪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盖东野之使者，不知问家人以月日，如耿兰之报不知当言月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约东野的使者没有向家人问明死期；耿兰报丧的信不懂得应当说明死期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东野与吾书，乃问使者，使者妄称以应之耳。其然乎？其不然乎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东野给我写信时才向使者询问死期，使者不过信口胡诌来应付他。是这样呢？还是不是这样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50920" y="333360"/>
            <a:ext cx="85327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讨论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部分的核心内容是写十二郎之死。为什么文中还要回叙自己头一年给十二郎的信，以及自己身体衰病、子孙辈幼小等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5280" y="2209680"/>
            <a:ext cx="84978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明确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这些事都与文章主旨（吊十二郎之死）密切相关，穿插其中，又形成行文的曲折。第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段写自己的未老先衰之象，意在为下文蓄势，也就是用自己之将死而竟不死，反衬出十二郎之不应死而竟死的尤其可哀。“少者殁长者存，强者夭而病者全”，这不合情理，故更让人难以接受。第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段又言己之衰、子孙之弱，不仅写出十二郎辞世后家境的凄凉，也更突现了作者因十二郎之死而生的极度悲伤、痛不欲生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914400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讨论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二郎之死，已是不争的事实。为什么还要反反复复的推究死因、推测死期，甚至对死讯本身，也疑其非真而梦？反复诵读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，体会“邪”“乎”“也”“矣”等虚词在传情达意中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1887480"/>
            <a:ext cx="853452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明确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: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推究死因、推测死期、疑死讯非真而梦，均反映对十二郎忆念之深。第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段中，写自己惊闻噩耗后由信而疑，又由疑返信的恍惚心态，突出了侄儿之死在作者心中引起的五雷轰顶般的剧烈震荡，以及确信死讯后五内俱焚般的巨大悲恸。这一段中，先连用三个“邪”字，紧接着是三个“乎”字，三个“也”字和五个“矣”字，这样连接不断的使用语气词，恰如古人所评：“句句用助辞”而“反复出没”，“如怒涛惊湍，变化不测”，既增强了节奏感，也使表达的感情更加强烈，更能打动人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28600" y="380880"/>
            <a:ext cx="8458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Arial"/>
              </a:rPr>
              <a:t>讨论</a:t>
            </a: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文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-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段的思路是什么样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" y="2209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死别之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0" y="20574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09680" y="1676520"/>
            <a:ext cx="228600" cy="2514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90920" y="15238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惊闻噩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疑似非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90920" y="2362320"/>
            <a:ext cx="4343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若死有知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愿从汝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14600" y="3048120"/>
            <a:ext cx="5334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子孙幼弱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睹之生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56000" y="36450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病因死期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萦迥于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翻译课文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8—1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段：今吾使建中祭汝，吊汝之孤与汝之乳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今我派遣建中祭奠你，慰问你的儿子和你的乳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彼有食可守以待终丧，则待终丧而取以来；如不能守以终丧，则遂取以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他们如果有粮食可以维持到三年丧满，就等到丧满以后接他们来；如果生活困难而无法守满丧期，现在就把他们接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余奴婢，并令守汝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其余的奴婢，都让他们为你守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吾力能改葬，终葬汝于先人之兆，然后惟其所愿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等到我有能力改葬的时候，一定把你的灵柩从宣州迁回，安葬于祖先的坟地，这样以后才算了却我的心愿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力：有能力，名词作动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455760" y="-60415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段：呜呼！汝病吾不知时，汝殁吾不知日；生不能相养以共居，殁不得抚汝以尽哀，敛不凭其棺，窆不临其穴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唉！你生病我不知道时间，你去世我不知道日期；你活着我们不能互相照顾，同住一起；你死后我又不能抚尸痛哭；装敛时不在棺前；下葬之时不曾俯视你的墓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吾行负神明而使汝夭，不孝不慈，而不得与汝相养以生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相守以死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的行为背负了神灵，因而使你夭亡；我不孝顺、不慈爱，因而既不能和你互相照顾，一同生活，又不能和你互相依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在天之涯，一在地之角，生而影不与吾形相依，死而魂不与吾梦相接：吾实为之，其又何尤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起死去。一个在天涯，一个在地角。活着的时候，你的影子不能和我的身子靠拢；去世以后，你的灵魂不能和我的梦魂亲近。这都是我自己造成的恶果，又能怨谁呢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其又何尤：宾语前置句，即“其又尤何”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彼苍者天，曷其有极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茫茫无际的苍天啊”，“我的悲哀何时才有尽头呢！”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684360" y="-569916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89154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今以往，吾其无意于人世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从今以后，我对这个世界还有什么可以留恋的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求数顷之田于伊、颍之上，以待余年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打算回到故乡去，在伊水、颍水旁边买几顷田，打发我剩余的岁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教吾子与汝子幸其成，长吾女与汝女待其嫁：如此而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教育我的儿子和你的儿子，希望他们成才；抚养我的女儿和你的女儿，等待她们出嫁，我想要做的，像这样罢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段：呜呼！言有穷而情不可终，汝其知也邪？其不知也邪？呜呼哀哉，尚飨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唉！话有说尽的时候，而悲痛的心情却是没完没了的，你是能够理解呢？还是什么都不知道了呢？唉！伤心啊！希望你的灵魂能来享用我的祭品啊！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0" y="2232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讨论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文最后一部分的思路是什么样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1219320"/>
            <a:ext cx="2133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祭奠亡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09680" y="914400"/>
            <a:ext cx="152640" cy="1295280"/>
          </a:xfrm>
          <a:custGeom>
            <a:avLst/>
            <a:gdLst>
              <a:gd name="textAreaLeft" fmla="*/ 97560 w 152640"/>
              <a:gd name="textAreaRight" fmla="*/ 153000 w 152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22840" y="557280"/>
            <a:ext cx="471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吊慰家属、改葬，事事不忘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64760" y="1211400"/>
            <a:ext cx="24346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行负神明，追悔莫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64760" y="1744560"/>
            <a:ext cx="24346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抚孤成立，馀年之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42900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讨论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文写得至悲至痛，试思考作者在悲侄儿之死的同时 ，还抒发了哪些悲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236232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讨论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几段从哪些方面体现出了作者对十二郎的情谊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明确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替他处理后事，替他教子养女，反复表现愧疚之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441972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99"/>
                </a:solidFill>
                <a:latin typeface="Arial"/>
              </a:rPr>
              <a:t>明确</a:t>
            </a: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）悲叹家族人丁不兴。封建社会门第家族观念极强。韩愈出身于小官史家庭，家庭浓厚的儒学思想深深影响了他，而人丁不兴，使他尤其看重家庭成员。然而父母早亡，兄殁南方、两世一身等久已令他体会到家境凄凉之悲了，而如今侄儿又撒手西去，儿子、侄孙尚年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韩氏能支撑门面的只有韩愈自己，家族之事边连个商量之人也找不到。这无限的孤独怎不使他悲从中来，进而想到“无意于人世”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）悲叹自己仕途失意。韩愈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19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岁便离家到京城求发展，但却多次应考落第，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25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岁中进士后还要到处请求权贵援引举荐（如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与于襄阳书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），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29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岁才开始入仕途。到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35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岁写作本文之时的几年间，却辗转迁徙，京城、汴州、徐州、宣城四处漂泊。他饱读诗书，才华出众，却不得施展，内心自然郁郁寡欢，而此时又得侄儿突然去世的消息，悲痛之中情不自禁地蕴含了自身无限的酸楚。于是他便喊出了“诚知其如此，虽万乘之公相，吾不以一日辍汝而就也的肺腑之言。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51814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cc"/>
                </a:solidFill>
                <a:latin typeface="Arial"/>
              </a:rPr>
              <a:t>讨论</a:t>
            </a: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: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作者是怎样在这些看似平淡的家境叙述中抒发悲情的？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601992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明确：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作者写这篇祭文的目的不在称颂死者，而在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倾吐自己的至痛之情。他紧紧围绕着叔侄间生离死别这个中心，选取那些值得怀念、忧戚，或感到遗憾的生活琐事，写来如叙家常，充满着生活气息，让人深感真实、可信。作者又不是纯客观地叙事，而是典型事件的叙述中，侧重抒写自己的无比哀痛之情，他以痛惜、遗憾、内疚之情来叙事，叙事中处处含情，使得叙事、抒情水乳交融。作者又充分运用第一人称的方便，尽情地把自己的一切感受都倾注到叙事之中，写得如泣如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530280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韩愈是古文运动的倡导者，他身体力行，在写作本文时一改以前祭文死板的骈文形式，破骈为散，通过自由抒写的散文形式，尽情地倾吐自己心中的悲痛，开了祭文自由抒情的先河，我们应学习韩愈的创新精神和严谨的治学态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472920" y="3429000"/>
            <a:ext cx="18266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</a:rPr>
              <a:t>课文总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64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692280"/>
            <a:ext cx="8496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古文观止</a:t>
            </a: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评论此文说：“情之至者，自然流为至文。读此等文，须想其一面哭，一面写，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字字是血，字字是泪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苏轼说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读诸葛亮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出师表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而不堕泪者，其人必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不忠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；读李密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陈情表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而不堕泪者，其人必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不孝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；读韩退之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祭十二郎文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而不堕泪者，其人必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不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。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9160" y="5013360"/>
            <a:ext cx="548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千百年来为人们传诵不绝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是祭文中的“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千古绝调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11280" y="404640"/>
            <a:ext cx="80755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篇祭文是怎样把叙事和抒情完美的结合在一起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5280" y="213372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总的来说，这篇祭文抒发生离死别之情，深沉真挚，悲哀凄楚，婉转曲折。这得力于作者将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叙事、抒情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有机地结合在一起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以事显情，融情于事，叙述平常琐事毫不觉得平淡单调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只觉一片哀情出自肺腑，读来催人泪下，这是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间接抒情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。作者感情不断积蓄，到高潮时，则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直接抒情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，感情的潮水喷涌而出，令人感动。如课文第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自然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4000" y="1341360"/>
            <a:ext cx="86407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900" spc="-1" strike="noStrike">
                <a:solidFill>
                  <a:srgbClr val="3333cc"/>
                </a:solidFill>
                <a:latin typeface="华文行楷"/>
                <a:ea typeface="华文行楷"/>
              </a:rPr>
              <a:t>1</a:t>
            </a:r>
            <a:r>
              <a:rPr b="1" lang="zh-CN" sz="3900" spc="-1" strike="noStrike">
                <a:solidFill>
                  <a:srgbClr val="3333cc"/>
                </a:solidFill>
                <a:latin typeface="华文行楷"/>
                <a:ea typeface="华文行楷"/>
              </a:rPr>
              <a:t>、疏通全文，掌握重点的实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1" lang="zh-CN" sz="3900" spc="-1" strike="noStrike">
                <a:solidFill>
                  <a:srgbClr val="3333cc"/>
                </a:solidFill>
                <a:latin typeface="华文行楷"/>
                <a:ea typeface="华文行楷"/>
              </a:rPr>
              <a:t>虚词和句式。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2997360"/>
            <a:ext cx="83883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900" spc="-1" strike="noStrike">
                <a:solidFill>
                  <a:srgbClr val="3333cc"/>
                </a:solidFill>
                <a:latin typeface="华文行楷"/>
                <a:ea typeface="华文行楷"/>
              </a:rPr>
              <a:t>2</a:t>
            </a:r>
            <a:r>
              <a:rPr b="1" lang="zh-CN" sz="3900" spc="-1" strike="noStrike">
                <a:solidFill>
                  <a:srgbClr val="3333cc"/>
                </a:solidFill>
                <a:latin typeface="华文行楷"/>
                <a:ea typeface="华文行楷"/>
              </a:rPr>
              <a:t>、体会作者对十二郎深切的痛惜和怀念之情。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292640"/>
            <a:ext cx="853272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900" spc="-1" strike="noStrike">
                <a:solidFill>
                  <a:srgbClr val="3333cc"/>
                </a:solidFill>
                <a:latin typeface="华文行楷"/>
                <a:ea typeface="华文行楷"/>
              </a:rPr>
              <a:t>3</a:t>
            </a:r>
            <a:r>
              <a:rPr b="1" lang="zh-CN" sz="3900" spc="-1" strike="noStrike">
                <a:solidFill>
                  <a:srgbClr val="3333cc"/>
                </a:solidFill>
                <a:latin typeface="华文行楷"/>
                <a:ea typeface="华文行楷"/>
              </a:rPr>
              <a:t>、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体会本文叙事中抒情的写作特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516640"/>
            <a:ext cx="67183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900" spc="-1" strike="noStrike" u="sng">
                <a:solidFill>
                  <a:srgbClr val="ff0000"/>
                </a:solidFill>
                <a:uFillTx/>
                <a:latin typeface="方正姚体"/>
                <a:ea typeface="方正姚体"/>
              </a:rPr>
              <a:t>重点：体会叙事中抒情的特点。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29040" y="115920"/>
            <a:ext cx="200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学习目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9200" y="0"/>
            <a:ext cx="20095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作者简介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914400"/>
            <a:ext cx="914400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 </a:t>
            </a:r>
            <a:r>
              <a:rPr b="1" lang="zh-CN" sz="4800" spc="-1" strike="noStrike" u="sng">
                <a:solidFill>
                  <a:srgbClr val="cc0000"/>
                </a:solidFill>
                <a:uFillTx/>
                <a:latin typeface="Times New Roman"/>
                <a:ea typeface="楷体_GB2312"/>
              </a:rPr>
              <a:t>韩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768—8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唐代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字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河南河阳人，郡望（郡里的显贵家族）昌黎，世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因官吏部侍郎。又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谥号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，又称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黑体"/>
              </a:rPr>
              <a:t>韩文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历任国子祭酒、兵部侍郎、吏部侍郎、京兆尹等职。政治上较有作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后人对韩愈评价颇高，尊他为唐宋八大家之首。杜牧把韩愈的散文与杜甫的诗并列，称为“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黑体"/>
              </a:rPr>
              <a:t>杜诗韩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；苏轼称他“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黑体"/>
              </a:rPr>
              <a:t>文起八代之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。韩柳倡导的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古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运动，开辟了唐以来古文的发展道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99320" y="1125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文学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83680" y="1125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哲学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5760" y="155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退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72040" y="2133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韩昌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72760" y="2133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韩吏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87160" y="2565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02640" y="29376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背景介绍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14842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十二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名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老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韩愈之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是韩愈二哥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韩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次子。韩愈的大哥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韩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没有儿子，十二郎过继给韩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韩愈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三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丧父，依靠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兄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生，从小就和侄儿十二郎一起生活，彼此感情特别深厚。唐德宗贞元十九年，韩愈在长安任职，突闻十二郎死的消息，心情极其悲痛，于是写下了这篇哀恸欲绝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祭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4960" y="2286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题解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1413000"/>
            <a:ext cx="88930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方正姚体"/>
              </a:rPr>
              <a:t>祭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古代的一种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文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在告祭死者或天地山川等神时所诵读的文章。体裁有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韵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散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种。内容是追念死者生前的主要经历，颂扬他的主要品德和业绩，寄托哀思，激励生者。汉、魏以来，祭文多依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诗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雅、颂的韵语，也有用骈文的。本文则不拘常格，以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无韵散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来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3:21:55Z</dcterms:created>
  <dc:creator>新城中学语文组张敏涛</dc:creator>
  <dc:description>《祭十二郎文》课件</dc:description>
  <cp:keywords>祭十二郎文</cp:keywords>
  <dc:language>en-US</dc:language>
  <cp:lastModifiedBy>雨林木风</cp:lastModifiedBy>
  <dcterms:modified xsi:type="dcterms:W3CDTF">2014-04-04T01:56:29Z</dcterms:modified>
  <cp:revision>149</cp:revision>
  <dc:subject>祭十二郎文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80</vt:lpwstr>
  </property>
</Properties>
</file>