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CF9-794E-4292-8847-BC4D6D2C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D51-39F1-4EFF-8FBC-E3F5EAEB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60058-E04B-4CB7-8CEC-C457C71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71BA8-C927-4D1B-BF88-03375C90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151A2-11E1-480D-A92C-362F44D9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15613-59E0-437C-A4B2-D6A9A0A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9E09C-A23C-4284-AED2-E9F2C69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11091-E232-4217-B0D0-D95FBE6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083AA-3CCF-4744-8B07-CA2DBFE2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7DB1D-53BA-45C1-A67C-465F1BEC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97F50-A55C-416F-9DA8-D40DE340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99A-183C-457F-8865-2CAF80B3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6D4-DEAE-4D5B-A857-E030ABEF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341-F204-49BB-9E0C-3D71310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3D7-A079-4380-B970-6DC06DC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3105-C948-4572-872A-35B61B23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3929-CDA3-4475-B586-694C5611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0611-F86D-437A-B1E9-3D83DA48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8F0-1708-4C67-866D-9300C4AD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D0C-D098-4AC3-9944-6AC30F7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127-041D-4C80-A0C3-FFF896E9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BEA3-BFF9-4F35-9AFD-84B2883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DC52-9D7E-46A2-802F-8EBA242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B34A-FCEF-4921-9D1D-91D797AD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ED8-4973-426B-9EF6-EE9EADBD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1202-BF02-483F-94AB-EDEDFE46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F2C2F-0148-4C80-AAD8-16AF3441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FDE01-A467-480E-8183-70EE756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E84F9-FC25-4031-AFF9-55EDC6D5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D9D5C-287B-44F0-BC56-E35E1544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8EFF7-97FD-461B-B2D7-7261F66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F64-EF6E-42D9-A003-FDC640A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D547E-675C-488B-BDFB-725BEEAA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60D81-1408-4D3E-88DF-24203EA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D222D-E1CE-4CF5-BF3A-9081BD4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43120-8982-4812-A7F6-F9C1433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177BC-B852-4217-9163-544FE6D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C5D74-F0C4-4833-9889-A90585D9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73892-FB40-4AD5-ABB4-B38476BA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D0BD-36D0-49F3-882B-A0860BE5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6C7A-C547-4802-B9EE-32D6B97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9FCF-BA1F-419C-8577-687FA9F2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039-431E-4F9A-A506-6978C2B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E838-3453-4E6F-8C76-0CFAC219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DDF3-8B18-4CE9-93F6-16EA64FA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6481-BAE0-47B1-A473-B1D526E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732F-ABD6-4DB3-8EA2-E8ADE9F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CF593-2327-4088-9565-70516EB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D24B-1C50-4AC8-8100-4E9D891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805D-81CC-4FBF-843F-1A80213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C3232-26B8-4604-9CF4-A8B3EAAE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771A-6BFA-4A82-A273-C772BA6B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7B23-17CF-44A3-BF1C-46976B3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32C-306C-4C27-8EE2-94CBFE6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EAC8-228D-4C0A-B875-BDBE57C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3449B-6347-4762-936C-ABC0F8AB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FDB8-AD6F-4317-B1C8-7BF6CD0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A587-DC0D-4341-8AB6-73960F0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9FDE-B7BF-4F5A-A447-FA75EC2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D507-6E69-4C48-8E4D-074AFC7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C7E4-3528-4349-9AC7-4B10F9F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7473-87F9-49E8-9B85-E125207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82BAD-7008-41E4-AFF6-E9657813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2CD8-707A-405E-9B02-F079F915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2E3-D611-4D54-991B-F8FB113B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F806-A413-4E4D-BD6B-F682FC7B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4F9E1-C13A-4388-B315-9064C6A2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72F04-ED42-4072-9F46-3D0262B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32A8E-6DBD-4D80-98D4-A1DB144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9898B-37D4-4AF5-9CCA-C6A08E5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67E16-3AD1-4F4E-A020-A7EFC3E3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62FC5-EF70-4BAE-B312-E806839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A8019-5A7D-4037-97B2-8DEAF07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CE837-0D1F-48C8-847A-77E4926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510CB-BB0D-4890-A591-A12CB4FE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54D-81F3-4E75-BA2B-D21D5B5B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241B8-1684-481B-9258-64613BE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8D686-105B-429D-B1F8-098BD251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20DFD-6C1D-484F-A6AD-A3A150E7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3DF6-B905-4999-B14C-ACEA4003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48D38-E7FF-4C67-8DC1-8024D367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1644E-EDD8-44A1-B99F-E9C9E2F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92DA-DEFE-4E0A-88D9-03231A9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1D4E-022F-41E6-9795-02AFA1B6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30E1-2386-44E4-BFBE-D9CC0CC1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8D94-EE70-4FFB-9100-6E4F333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1EF-ABD3-40CA-8B5D-2A9DAC6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6B122-1B84-4900-A24E-378C29D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202AB-8619-439C-8897-7AF0FE7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7619-09CA-4296-8F5D-699F743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5A457-6D69-4C1A-AD2B-7606DBBD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DEB2-0BCA-423C-899F-C2B174D6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487D0-D07A-4EE2-A170-C6CC9B4B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4C7B-2662-46C1-BDBD-16599E17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1A91A-5485-4962-8A89-5D20987B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91E9F-1B56-4BDF-8E7B-7CAF6DEC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D752A-0A83-4E2F-BB47-392D24D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5C5-C77C-49B2-B52A-DC53020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3EA17-4CDD-4FD8-B6C0-33382FE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F3B82-E2D2-4FFB-9C84-763CBF6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9716A-167F-4175-982D-22EDAFC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A8FD6-3D0A-459B-94B2-4206FBE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A044-A72C-43CA-BB32-60CDB0D2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34AA-9963-45D7-961B-6B591A98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CD23-EFDE-4AD8-8BB4-6DA6C8B1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1F23A-8217-4E7E-92BA-72D09B50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7E3DE-9519-4B14-8BE3-D2228D1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96066-568E-4F58-8000-E4FCF06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C1E-0183-4F59-824A-68322AE91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ED1C-BBCD-4EBF-AFEE-1B2555CCE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5E3-23F7-42AA-A940-935C1FAA256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0A39-0ED4-4AC7-BEE0-98A1660A337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31C-A3A2-4B42-BDDA-A9BEE97A7D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8EA8-FEE1-46AD-812E-B6DE3519083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8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4293-975E-466F-8BD6-A13EC931290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33249"/>
                </a:solidFill>
                <a:latin typeface="-머리굴림M"/>
              </a:rPr>
              <a:t>Click to edit the title text format</a:t>
            </a:r>
            <a:endParaRPr b="0" lang="en-US" sz="4600" spc="-1" strike="noStrike">
              <a:solidFill>
                <a:srgbClr val="233249"/>
              </a:solidFill>
              <a:latin typeface="-머리굴림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4d5b6d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Click to edit the outline text format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lvl="1" marL="743040" indent="-285840">
              <a:spcBef>
                <a:spcPts val="624"/>
              </a:spcBef>
              <a:buClr>
                <a:srgbClr val="4d5b6d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Second Outline Level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lvl="2" marL="1143000" indent="-228600">
              <a:spcBef>
                <a:spcPts val="624"/>
              </a:spcBef>
              <a:buClr>
                <a:srgbClr val="4d5b6d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Third Outline Level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lvl="3" marL="1600200" indent="-228600">
              <a:spcBef>
                <a:spcPts val="624"/>
              </a:spcBef>
              <a:buClr>
                <a:srgbClr val="4d5b6d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Fourth Outline Level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lvl="4" marL="2057400" indent="-228600">
              <a:spcBef>
                <a:spcPts val="624"/>
              </a:spcBef>
              <a:buClr>
                <a:srgbClr val="4d5b6d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Fifth Outline Level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Sixth Outline Level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-윤고딕140"/>
              </a:rPr>
              <a:t>Seventh Outline Level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911-092C-47D8-A917-C33133E07662}" type="slidenum"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33249"/>
                </a:solidFill>
                <a:latin typeface="-머리굴림M"/>
              </a:rPr>
              <a:t>Click to edit the title text format</a:t>
            </a:r>
            <a:endParaRPr b="0" lang="en-US" sz="5200" spc="-1" strike="noStrike">
              <a:solidFill>
                <a:srgbClr val="233249"/>
              </a:solidFill>
              <a:latin typeface="-머리굴림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-윤체M"/>
                <a:ea typeface="-윤체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-윤체M"/>
                <a:ea typeface="-윤체M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6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-윤체M"/>
                <a:ea typeface="-윤체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-윤체M"/>
                <a:ea typeface="-윤체M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-윤체M"/>
                <a:ea typeface="-윤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192B-BA69-4F93-8610-E20B410DA30F}" type="slidenum">
              <a:rPr b="0" lang="ko-KR" sz="1000" spc="-1" strike="noStrike">
                <a:solidFill>
                  <a:srgbClr val="000000"/>
                </a:solidFill>
                <a:latin typeface="-윤체M"/>
                <a:ea typeface="-윤체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97f"/>
                </a:solidFill>
                <a:latin typeface="-머리굴림M"/>
              </a:rPr>
              <a:t>Click to edit the outline text format</a:t>
            </a:r>
            <a:endParaRPr b="0" lang="en-US" sz="2000" spc="-1" strike="noStrike">
              <a:solidFill>
                <a:srgbClr val="59697f"/>
              </a:solidFill>
              <a:latin typeface="-머리굴림M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5b6d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4d5b6d"/>
              </a:solidFill>
              <a:latin typeface="-윤고딕140"/>
            </a:endParaRPr>
          </a:p>
          <a:p>
            <a:pPr lvl="2" marL="914400" algn="ctr">
              <a:spcBef>
                <a:spcPts val="451"/>
              </a:spcBef>
              <a:buClr>
                <a:srgbClr val="4d5b6d"/>
              </a:buClr>
              <a:buFont typeface="-윤고딕14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d"/>
                </a:solidFill>
                <a:latin typeface="-윤고딕140"/>
              </a:rPr>
              <a:t>Third Outline Level</a:t>
            </a:r>
            <a:endParaRPr b="0" lang="en-US" sz="1800" spc="-1" strike="noStrike">
              <a:solidFill>
                <a:srgbClr val="4d5b6d"/>
              </a:solidFill>
              <a:latin typeface="-윤고딕140"/>
            </a:endParaRPr>
          </a:p>
          <a:p>
            <a:pPr lvl="3" marL="1371600" algn="ctr">
              <a:spcBef>
                <a:spcPts val="374"/>
              </a:spcBef>
              <a:buClr>
                <a:srgbClr val="4d5b6d"/>
              </a:buClr>
              <a:buFont typeface="-윤고딕14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5b6d"/>
                </a:solidFill>
                <a:latin typeface="-윤고딕140"/>
              </a:rPr>
              <a:t>Fourth Outline Level</a:t>
            </a:r>
            <a:endParaRPr b="0" lang="en-US" sz="1500" spc="-1" strike="noStrike">
              <a:solidFill>
                <a:srgbClr val="4d5b6d"/>
              </a:solidFill>
              <a:latin typeface="-윤고딕140"/>
            </a:endParaRPr>
          </a:p>
          <a:p>
            <a:pPr lvl="4" marL="1828800" algn="ctr">
              <a:spcBef>
                <a:spcPts val="300"/>
              </a:spcBef>
              <a:buClr>
                <a:srgbClr val="4d5b6d"/>
              </a:buClr>
              <a:buFont typeface="-윤고딕140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5b6d"/>
                </a:solidFill>
                <a:latin typeface="-윤고딕140"/>
              </a:rPr>
              <a:t>Fifth Outline Level</a:t>
            </a:r>
            <a:endParaRPr b="0" lang="en-US" sz="1200" spc="-1" strike="noStrike">
              <a:solidFill>
                <a:srgbClr val="4d5b6d"/>
              </a:solidFill>
              <a:latin typeface="-윤고딕140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5b6d"/>
                </a:solidFill>
                <a:latin typeface="-윤고딕140"/>
              </a:rPr>
              <a:t>Sixth Outline Level</a:t>
            </a:r>
            <a:endParaRPr b="0" lang="en-US" sz="1200" spc="-1" strike="noStrike">
              <a:solidFill>
                <a:srgbClr val="4d5b6d"/>
              </a:solidFill>
              <a:latin typeface="-윤고딕140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5b6d"/>
                </a:solidFill>
                <a:latin typeface="-윤고딕140"/>
              </a:rPr>
              <a:t>Seventh Outline Level</a:t>
            </a:r>
            <a:endParaRPr b="0" lang="en-US" sz="1200" spc="-1" strike="noStrike">
              <a:solidFill>
                <a:srgbClr val="4d5b6d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10040" y="14130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中国古代诗歌散文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-285840" y="-233280"/>
            <a:ext cx="9715680" cy="7324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575080" y="21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43280" y="3357720"/>
            <a:ext cx="464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祭十二郎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8748720" y="6524640"/>
            <a:ext cx="21276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280" y="2637000"/>
            <a:ext cx="864252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6600"/>
                </a:solidFill>
                <a:latin typeface="隶书"/>
                <a:ea typeface="隶书"/>
              </a:rPr>
              <a:t>此文不拘常格：虽沿用四言，但破駢为散，文意曲折，气势飞动；打破了一般祭文为死者歌功颂德的陈腐旧套，</a:t>
            </a:r>
            <a:r>
              <a:rPr b="0" lang="zh-CN" sz="3200" spc="-1" strike="noStrike" u="sng">
                <a:solidFill>
                  <a:srgbClr val="006600"/>
                </a:solidFill>
                <a:uFillTx/>
                <a:latin typeface="隶书"/>
                <a:ea typeface="隶书"/>
              </a:rPr>
              <a:t>专从骨肉至情方面下笔</a:t>
            </a:r>
            <a:r>
              <a:rPr b="0" lang="zh-CN" sz="3200" spc="-1" strike="noStrike">
                <a:solidFill>
                  <a:srgbClr val="006600"/>
                </a:solidFill>
                <a:latin typeface="隶书"/>
                <a:ea typeface="隶书"/>
              </a:rPr>
              <a:t>，写亲人之间的日常琐事，在叙述中抒发苦情与悲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6600"/>
                </a:solidFill>
                <a:latin typeface="隶书"/>
                <a:ea typeface="隶书"/>
              </a:rPr>
              <a:t>整体上按“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回忆往事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寄托哀思—再回忆往事—再寄托哀思</a:t>
            </a:r>
            <a:r>
              <a:rPr b="0" lang="zh-CN" sz="3200" spc="-1" strike="noStrike">
                <a:solidFill>
                  <a:srgbClr val="006600"/>
                </a:solidFill>
                <a:latin typeface="隶书"/>
                <a:ea typeface="隶书"/>
              </a:rPr>
              <a:t>”展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65960" y="120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新魏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6640" y="14526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、此文与一般祭文的不同点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196000" y="1890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二、追叙往事的情感触发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由此分哪几个时段追述了哪些往事来寄托哀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78800" y="134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惊闻噩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419640" y="198900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16360" y="1989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2908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追叙往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6616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寄托哀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40360" y="2852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58960" y="155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发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22120" y="3357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少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602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成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02760" y="33764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相依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02760" y="40179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相别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02760" y="47386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相思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02400" y="55306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相隔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240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孤苦零丁、骨肉情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61880" y="4005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聚少离多、悔恨自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953680" y="4724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惊愕怀疑、凄苦悲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1880" y="5516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痛责内疚、沉痛之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19280" y="364500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71640" y="4149720"/>
            <a:ext cx="144720" cy="1655640"/>
          </a:xfrm>
          <a:custGeom>
            <a:avLst/>
            <a:gdLst>
              <a:gd name="textAreaLeft" fmla="*/ 92520 w 144720"/>
              <a:gd name="textAreaRight" fmla="*/ 145080 w 144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672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036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4800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7152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3516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1200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rId3" action="ppaction://hlinksldjump"/>
          </p:cNvPr>
          <p:cNvSpPr/>
          <p:nvPr/>
        </p:nvSpPr>
        <p:spPr>
          <a:xfrm>
            <a:off x="990720" y="1828800"/>
            <a:ext cx="185256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</a:rPr>
              <a:t>思念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4" action="ppaction://hlinksldjump"/>
          </p:cNvPr>
          <p:cNvSpPr/>
          <p:nvPr/>
        </p:nvSpPr>
        <p:spPr>
          <a:xfrm>
            <a:off x="685800" y="3200400"/>
            <a:ext cx="19414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</a:rPr>
              <a:t>痛悼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5" action="ppaction://hlinksldjump"/>
          </p:cNvPr>
          <p:cNvSpPr/>
          <p:nvPr/>
        </p:nvSpPr>
        <p:spPr>
          <a:xfrm>
            <a:off x="1433880" y="4648320"/>
            <a:ext cx="103428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 Unicode MS"/>
              </a:rPr>
              <a:t>骨肉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6" action="ppaction://hlinksldjump"/>
          </p:cNvPr>
          <p:cNvSpPr/>
          <p:nvPr/>
        </p:nvSpPr>
        <p:spPr>
          <a:xfrm>
            <a:off x="6324480" y="1752480"/>
            <a:ext cx="199260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</a:rPr>
              <a:t>追悔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rId7" action="ppaction://hlinksldjump"/>
          </p:cNvPr>
          <p:cNvSpPr/>
          <p:nvPr/>
        </p:nvSpPr>
        <p:spPr>
          <a:xfrm>
            <a:off x="6781680" y="3124080"/>
            <a:ext cx="189396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</a:rPr>
              <a:t>人生悲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8" action="ppaction://hlinksldjump"/>
          </p:cNvPr>
          <p:cNvSpPr/>
          <p:nvPr/>
        </p:nvSpPr>
        <p:spPr>
          <a:xfrm>
            <a:off x="6400800" y="4572000"/>
            <a:ext cx="20588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Unicode MS"/>
              </a:rPr>
              <a:t>宦海苦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260280"/>
            <a:ext cx="60958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至情之文</a:t>
            </a: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千古绝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2133720"/>
            <a:ext cx="106704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34290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819520" y="4190760"/>
            <a:ext cx="8380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181480" y="2057040"/>
            <a:ext cx="11430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86400" y="342900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4114800"/>
            <a:ext cx="11430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作者把抒情与叙事结合在一起，联系家庭、身世和生活琐事，反复抒写他对亡侄的无限哀痛之情。同时，也饱含着自己凄楚的宦海沉浮的人生感慨。全文以向死者诉说的口吻写成，哀家族之凋落，哀己身之未老先衰，哀死者之早夭，疑天理疑神明，疑生死之数，乃至疑后嗣之成立，极写内心的辛酸悲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朗读时宜用低沉的语调，平缓的语气，中慢速读出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42400" y="5032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  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1125360"/>
            <a:ext cx="45720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闻汝丧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ｓ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à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及长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ｚｈ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ǎ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不省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ｘ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ǐ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所怙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ｈ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兄殁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ｍ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ò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南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省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ｘ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ǐ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坟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归取其孥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ú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2895480"/>
            <a:ext cx="222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40360" y="1197000"/>
            <a:ext cx="47718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丞相薨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ｈ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ō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佐戎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ｒ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ó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徐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汝遽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ｊ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万乘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ｓｈ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è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之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相殒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ｙ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ǔ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其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窆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ｂｉ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ǎ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不临其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尚飨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ｘｉ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ǎ</a:t>
            </a:r>
            <a:r>
              <a:rPr b="1" lang="zh-CN" sz="3600" spc="-1" strike="noStrike">
                <a:solidFill>
                  <a:srgbClr val="ff0000"/>
                </a:solidFill>
                <a:latin typeface=""/>
                <a:ea typeface="方正魏碑简体"/>
              </a:rPr>
              <a:t>ｎｇ</a:t>
            </a:r>
            <a:r>
              <a:rPr b="1" lang="zh-CN" sz="3600" spc="-1" strike="noStrike">
                <a:solidFill>
                  <a:srgbClr val="000000"/>
                </a:solidFill>
                <a:latin typeface=""/>
                <a:ea typeface="方正魏碑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189000"/>
            <a:ext cx="50515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时注意下列字词读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484360" y="3068640"/>
            <a:ext cx="47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2205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295440" y="1916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段落分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440" y="-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73200"/>
            <a:ext cx="7696080" cy="320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、月、日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季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愈闻汝丧七日，乃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致诚，使建中远具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奠，告汝十二郎之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呜呼！吾少孤，及长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惟兄嫂是依。中年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方，吾与汝俱幼，从嫂归葬河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与汝就食江南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零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孤苦，未尝一日相离也。吾上有三兄，皆不幸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后者，在孙惟汝，在子惟吾，两世一身，形单影只。嫂尝抚汝指吾而言曰：“韩氏两世，惟此而已！”汝时幼小，当不复记忆，吾时虽能记忆，亦未知其言之悲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940360" y="1916280"/>
            <a:ext cx="762120" cy="457200"/>
          </a:xfrm>
          <a:prstGeom prst="wedgeRoundRectCallout">
            <a:avLst>
              <a:gd name="adj1" fmla="val -30625"/>
              <a:gd name="adj2" fmla="val 10000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57920" y="1981080"/>
            <a:ext cx="914400" cy="457200"/>
          </a:xfrm>
          <a:prstGeom prst="wedgeRoundRectCallout">
            <a:avLst>
              <a:gd name="adj1" fmla="val -29166"/>
              <a:gd name="adj2" fmla="val 104861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依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3600" y="1600200"/>
            <a:ext cx="3352680" cy="1143000"/>
          </a:xfrm>
          <a:prstGeom prst="wedgeRoundRectCallout">
            <a:avLst>
              <a:gd name="adj1" fmla="val -3833"/>
              <a:gd name="adj2" fmla="val 7430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形旁为歹，到阴间地下去，引申为不好。声旁是没字省写，合义为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80480" y="1700280"/>
            <a:ext cx="1271520" cy="2666880"/>
          </a:xfrm>
          <a:prstGeom prst="wedgeRoundRectCallout">
            <a:avLst>
              <a:gd name="adj1" fmla="val -121745"/>
              <a:gd name="adj2" fmla="val 2143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丁为小果实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零为落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取“树上落下小果实”与人合义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形容孤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0"/>
            <a:ext cx="2666880" cy="838080"/>
          </a:xfrm>
          <a:prstGeom prst="wedgeRoundRectCallout">
            <a:avLst>
              <a:gd name="adj1" fmla="val -126606"/>
              <a:gd name="adj2" fmla="val 47347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叔父，古代兄弟排行以伯仲叔季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7520" y="2057400"/>
            <a:ext cx="1676520" cy="533520"/>
          </a:xfrm>
          <a:prstGeom prst="wedgeRoundRectCallout">
            <a:avLst>
              <a:gd name="adj1" fmla="val 10509"/>
              <a:gd name="adj2" fmla="val -13720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含，怀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228600"/>
            <a:ext cx="1371600" cy="762120"/>
          </a:xfrm>
          <a:prstGeom prst="wedgeRoundRectCallout">
            <a:avLst>
              <a:gd name="adj1" fmla="val 315277"/>
              <a:gd name="adj2" fmla="val 103541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通馐，美味食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51640" y="4221000"/>
            <a:ext cx="1166760" cy="762120"/>
          </a:xfrm>
          <a:prstGeom prst="wedgeRoundRectCallout">
            <a:avLst>
              <a:gd name="adj1" fmla="val -375032"/>
              <a:gd name="adj2" fmla="val -108958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不久，后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14880" y="6248520"/>
            <a:ext cx="1220760" cy="609480"/>
          </a:xfrm>
          <a:prstGeom prst="wedgeRoundRectCallout">
            <a:avLst>
              <a:gd name="adj1" fmla="val -241939"/>
              <a:gd name="adj2" fmla="val -27994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通“逝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51640" y="5300640"/>
            <a:ext cx="1219320" cy="762120"/>
          </a:xfrm>
          <a:prstGeom prst="wedgeRoundRectCallout">
            <a:avLst>
              <a:gd name="adj1" fmla="val -388930"/>
              <a:gd name="adj2" fmla="val -11499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死去的长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80880" y="304920"/>
            <a:ext cx="708660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年十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始来京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后四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归视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四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往河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坟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汝从嫂丧来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二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佐董丞相幕于汴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来省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止一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归取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明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丞相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汴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又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取汝者始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又罢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又不果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念汝从于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亦客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可以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久远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如西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成家而致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呜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孰谓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吾而殁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与汝俱少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为虽暂相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当久相与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舍汝而旅食京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求升斗之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诚知其如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万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公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不以一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而就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78720" y="3429000"/>
            <a:ext cx="2465280" cy="457200"/>
          </a:xfrm>
          <a:prstGeom prst="wedgeRoundRectCallout">
            <a:avLst>
              <a:gd name="adj1" fmla="val -50805"/>
              <a:gd name="adj2" fmla="val -218402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手持戈代表军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62920" y="4267080"/>
            <a:ext cx="1981080" cy="990720"/>
          </a:xfrm>
          <a:prstGeom prst="wedgeRoundRectCallout">
            <a:avLst>
              <a:gd name="adj1" fmla="val -310013"/>
              <a:gd name="adj2" fmla="val -27402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取老虎追赶野兽表象，表急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突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611600" y="6134040"/>
            <a:ext cx="3975120" cy="723960"/>
          </a:xfrm>
          <a:prstGeom prst="wedgeRoundRectCallout">
            <a:avLst>
              <a:gd name="adj1" fmla="val 10263"/>
              <a:gd name="adj2" fmla="val -119958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古代四马拉的兵车为乘，万乘指天子的武备，即高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00360" y="6165720"/>
            <a:ext cx="838080" cy="457200"/>
          </a:xfrm>
          <a:prstGeom prst="wedgeRoundRectCallout">
            <a:avLst>
              <a:gd name="adj1" fmla="val 159657"/>
              <a:gd name="adj2" fmla="val -7326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64360" y="92160"/>
            <a:ext cx="990720" cy="457200"/>
          </a:xfrm>
          <a:prstGeom prst="wedgeRoundRectCallout">
            <a:avLst>
              <a:gd name="adj1" fmla="val -325962"/>
              <a:gd name="adj2" fmla="val 176388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探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87640" y="150840"/>
            <a:ext cx="1511280" cy="685800"/>
          </a:xfrm>
          <a:prstGeom prst="wedgeRoundRectCallout">
            <a:avLst>
              <a:gd name="adj1" fmla="val -78046"/>
              <a:gd name="adj2" fmla="val 220601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住了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08720" y="620640"/>
            <a:ext cx="1511280" cy="838440"/>
          </a:xfrm>
          <a:prstGeom prst="wedgeRoundRectCallout">
            <a:avLst>
              <a:gd name="adj1" fmla="val -195273"/>
              <a:gd name="adj2" fmla="val 11325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妻子儿女的统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48360" y="1557360"/>
            <a:ext cx="1271880" cy="380880"/>
          </a:xfrm>
          <a:prstGeom prst="wedgeRoundRectCallout">
            <a:avLst>
              <a:gd name="adj1" fmla="val -133856"/>
              <a:gd name="adj2" fmla="val 670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第二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260280"/>
            <a:ext cx="914400" cy="533520"/>
          </a:xfrm>
          <a:prstGeom prst="wedgeRoundRectCallout">
            <a:avLst>
              <a:gd name="adj1" fmla="val 66666"/>
              <a:gd name="adj2" fmla="val 33273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772400" y="2362320"/>
            <a:ext cx="1371600" cy="609480"/>
          </a:xfrm>
          <a:prstGeom prst="wedgeRoundRectCallout">
            <a:avLst>
              <a:gd name="adj1" fmla="val -346296"/>
              <a:gd name="adj2" fmla="val -494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成为事实，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111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620080" y="1557360"/>
            <a:ext cx="433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诗曰：月有阴晴圆缺，人有悲欢离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人生在世，离合聚散，甚至生离死别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是常事。可是，逝者已矣，却会给生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留下无尽的哀思和悲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种哀思和悲痛绵绵于千年之后。今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们依然可以在韩退之的“绝唱”之文中触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得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此文就是韩愈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" y="360360"/>
            <a:ext cx="754380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去年孟东野往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书与汝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年未四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视茫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发苍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齿牙动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念诸父与诸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康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早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衰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能久存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不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汝不肯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旦暮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汝抱无涯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孰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者殁而长者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强者夭而病者全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呜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信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梦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之非其真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兄之盛德而夭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汝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纯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蒙其泽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者强者而夭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者衰者而存全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未可以为信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梦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之非其真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东野之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耿兰之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在吾侧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呜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信然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兄之盛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夭其嗣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汝之纯明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家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不克蒙其泽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天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神者诚难明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理者不可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寿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知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951680" y="380880"/>
            <a:ext cx="914400" cy="457200"/>
          </a:xfrm>
          <a:prstGeom prst="wedgeRoundRectCallout">
            <a:avLst>
              <a:gd name="adj1" fmla="val -267537"/>
              <a:gd name="adj2" fmla="val 292708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忧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15200" y="1922400"/>
            <a:ext cx="1828800" cy="1219320"/>
          </a:xfrm>
          <a:prstGeom prst="wedgeRoundRectCallout">
            <a:avLst>
              <a:gd name="adj1" fmla="val -211717"/>
              <a:gd name="adj2" fmla="val 5468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接礼法或宗法册定继承人为“嗣”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-36360" y="380880"/>
            <a:ext cx="1392120" cy="533520"/>
          </a:xfrm>
          <a:prstGeom prst="wedgeRoundRectCallout">
            <a:avLst>
              <a:gd name="adj1" fmla="val 6212"/>
              <a:gd name="adj2" fmla="val 14791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健康强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6920" y="0"/>
            <a:ext cx="2210040" cy="609480"/>
          </a:xfrm>
          <a:prstGeom prst="wedgeRoundRectCallout">
            <a:avLst>
              <a:gd name="adj1" fmla="val 48203"/>
              <a:gd name="adj2" fmla="val 19400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取消句子独立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61160" y="1197000"/>
            <a:ext cx="1447920" cy="533520"/>
          </a:xfrm>
          <a:prstGeom prst="wedgeRoundRectCallout">
            <a:avLst>
              <a:gd name="adj1" fmla="val -71708"/>
              <a:gd name="adj2" fmla="val 1666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离开职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51640" y="2276640"/>
            <a:ext cx="1272960" cy="609480"/>
          </a:xfrm>
          <a:prstGeom prst="wedgeRoundRectCallout">
            <a:avLst>
              <a:gd name="adj1" fmla="val 28680"/>
              <a:gd name="adj2" fmla="val -8724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谁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340080" y="609480"/>
            <a:ext cx="1523880" cy="381240"/>
          </a:xfrm>
          <a:prstGeom prst="wedgeRoundRectCallout">
            <a:avLst>
              <a:gd name="adj1" fmla="val -91250"/>
              <a:gd name="adj2" fmla="val 5020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真实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确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24720" y="4038480"/>
            <a:ext cx="1447920" cy="381240"/>
          </a:xfrm>
          <a:prstGeom prst="wedgeRoundRectCallout">
            <a:avLst>
              <a:gd name="adj1" fmla="val -151314"/>
              <a:gd name="adj2" fmla="val -24291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纯正明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779600" y="3500280"/>
            <a:ext cx="1112760" cy="457200"/>
          </a:xfrm>
          <a:prstGeom prst="wedgeRoundRectCallout">
            <a:avLst>
              <a:gd name="adj1" fmla="val 85805"/>
              <a:gd name="adj2" fmla="val -11562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08000" y="5734080"/>
            <a:ext cx="914400" cy="533520"/>
          </a:xfrm>
          <a:prstGeom prst="wedgeRoundRectCallout">
            <a:avLst>
              <a:gd name="adj1" fmla="val -40972"/>
              <a:gd name="adj2" fmla="val -26726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为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08720" y="4876920"/>
            <a:ext cx="1828800" cy="838080"/>
          </a:xfrm>
          <a:prstGeom prst="wedgeRoundRectCallout">
            <a:avLst>
              <a:gd name="adj1" fmla="val -163370"/>
              <a:gd name="adj2" fmla="val -3522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动词，继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……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事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19960" y="5715000"/>
            <a:ext cx="1191960" cy="609480"/>
          </a:xfrm>
          <a:prstGeom prst="wedgeRoundRectCallout">
            <a:avLst>
              <a:gd name="adj1" fmla="val -292740"/>
              <a:gd name="adj2" fmla="val -101824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确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48000" y="5772240"/>
            <a:ext cx="1908360" cy="609480"/>
          </a:xfrm>
          <a:prstGeom prst="wedgeRoundRectCallout">
            <a:avLst>
              <a:gd name="adj1" fmla="val -83111"/>
              <a:gd name="adj2" fmla="val -11744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寿命的长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09480" y="380880"/>
            <a:ext cx="8001000" cy="327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虽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吾自今年来，苍苍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而为白矣；动摇者欲脱而落矣，毛血日益衰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志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益微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几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从汝而死也？死而有知，其几何离？其无知，悲不几时，而不悲者无穷期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之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岁，吾之子始五岁，少而强者不可保，如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孩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又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邪？呜呼哀哉！呜呼哀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汝去年书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软脚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往往而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也，江南之人，常常有之。”未始以为忧也。呜呼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竟以此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生乎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别有疾而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235080"/>
            <a:ext cx="1371600" cy="457200"/>
          </a:xfrm>
          <a:prstGeom prst="wedgeRoundRectCallout">
            <a:avLst>
              <a:gd name="adj1" fmla="val 62500"/>
              <a:gd name="adj2" fmla="val 7673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虽然这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83120" y="95400"/>
            <a:ext cx="609840" cy="380880"/>
          </a:xfrm>
          <a:prstGeom prst="wedgeRoundRectCallout">
            <a:avLst>
              <a:gd name="adj1" fmla="val 71875"/>
              <a:gd name="adj2" fmla="val 1220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229600" y="1268280"/>
            <a:ext cx="914400" cy="457200"/>
          </a:xfrm>
          <a:prstGeom prst="wedgeRoundRectCallout">
            <a:avLst>
              <a:gd name="adj1" fmla="val -92884"/>
              <a:gd name="adj2" fmla="val -4687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精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86080" y="227160"/>
            <a:ext cx="914400" cy="609480"/>
          </a:xfrm>
          <a:prstGeom prst="wedgeRoundRectCallout">
            <a:avLst>
              <a:gd name="adj1" fmla="val -16666"/>
              <a:gd name="adj2" fmla="val 15130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多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12880" y="2349360"/>
            <a:ext cx="914400" cy="381240"/>
          </a:xfrm>
          <a:prstGeom prst="wedgeRoundRectCallout">
            <a:avLst>
              <a:gd name="adj1" fmla="val 98611"/>
              <a:gd name="adj2" fmla="val 13750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16360" y="2421000"/>
            <a:ext cx="1447560" cy="533160"/>
          </a:xfrm>
          <a:prstGeom prst="wedgeRoundRectCallout">
            <a:avLst>
              <a:gd name="adj1" fmla="val 23027"/>
              <a:gd name="adj2" fmla="val 18362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幼儿儿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00720" y="2349360"/>
            <a:ext cx="914400" cy="533520"/>
          </a:xfrm>
          <a:prstGeom prst="wedgeRoundRectCallout">
            <a:avLst>
              <a:gd name="adj1" fmla="val 90578"/>
              <a:gd name="adj2" fmla="val 1895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希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2362320"/>
            <a:ext cx="1523880" cy="533160"/>
          </a:xfrm>
          <a:prstGeom prst="wedgeRoundRectCallout">
            <a:avLst>
              <a:gd name="adj1" fmla="val -47601"/>
              <a:gd name="adj2" fmla="val 17856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成长立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19720" y="4114800"/>
            <a:ext cx="914400" cy="380880"/>
          </a:xfrm>
          <a:prstGeom prst="wedgeRoundRectCallout">
            <a:avLst>
              <a:gd name="adj1" fmla="val -64583"/>
              <a:gd name="adj2" fmla="val 1020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近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81640" y="3962520"/>
            <a:ext cx="1905120" cy="457200"/>
          </a:xfrm>
          <a:prstGeom prst="wedgeRoundRectCallout">
            <a:avLst>
              <a:gd name="adj1" fmla="val 5000"/>
              <a:gd name="adj2" fmla="val 118402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时常疼得厉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74800" y="4648320"/>
            <a:ext cx="914400" cy="380880"/>
          </a:xfrm>
          <a:prstGeom prst="wedgeRoundRectCallout">
            <a:avLst>
              <a:gd name="adj1" fmla="val 131250"/>
              <a:gd name="adj2" fmla="val 1170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57800" y="6093000"/>
            <a:ext cx="2409840" cy="609480"/>
          </a:xfrm>
          <a:prstGeom prst="wedgeRoundRectCallout">
            <a:avLst>
              <a:gd name="adj1" fmla="val -71870"/>
              <a:gd name="adj2" fmla="val -80467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其…抑…选择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44000" y="5877000"/>
            <a:ext cx="761760" cy="685800"/>
          </a:xfrm>
          <a:prstGeom prst="wedgeRoundRectCallout">
            <a:avLst>
              <a:gd name="adj1" fmla="val -250000"/>
              <a:gd name="adj2" fmla="val -43287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11640" y="6093000"/>
            <a:ext cx="533520" cy="609480"/>
          </a:xfrm>
          <a:prstGeom prst="wedgeRoundRectCallout">
            <a:avLst>
              <a:gd name="adj1" fmla="val -190180"/>
              <a:gd name="adj2" fmla="val 286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380880"/>
            <a:ext cx="7772400" cy="229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之书，六月十七日也；东野云：汝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六月二日。耿兰之报，无月日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野之使者不知问家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日？如耿兰之报，不知当言月日？东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书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使者，使者妄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之乎？其然乎？其不然乎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457200"/>
            <a:ext cx="914400" cy="457200"/>
          </a:xfrm>
          <a:prstGeom prst="wedgeRoundRectCallout">
            <a:avLst>
              <a:gd name="adj1" fmla="val -2083"/>
              <a:gd name="adj2" fmla="val 8923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153280" y="1066680"/>
            <a:ext cx="739800" cy="685800"/>
          </a:xfrm>
          <a:prstGeom prst="wedgeRoundRectCallout">
            <a:avLst>
              <a:gd name="adj1" fmla="val -199356"/>
              <a:gd name="adj2" fmla="val -462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大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56720" y="1989000"/>
            <a:ext cx="457200" cy="381240"/>
          </a:xfrm>
          <a:prstGeom prst="wedgeRoundRectCallout">
            <a:avLst>
              <a:gd name="adj1" fmla="val -825000"/>
              <a:gd name="adj2" fmla="val -10291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03920" y="2971800"/>
            <a:ext cx="914400" cy="380880"/>
          </a:xfrm>
          <a:prstGeom prst="wedgeRoundRectCallout">
            <a:avLst>
              <a:gd name="adj1" fmla="val -181425"/>
              <a:gd name="adj2" fmla="val -23583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872480" y="3048120"/>
            <a:ext cx="914400" cy="380880"/>
          </a:xfrm>
          <a:prstGeom prst="wedgeRoundRectCallout">
            <a:avLst>
              <a:gd name="adj1" fmla="val -220833"/>
              <a:gd name="adj2" fmla="val -23916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195640" y="3408480"/>
            <a:ext cx="914400" cy="380880"/>
          </a:xfrm>
          <a:prstGeom prst="wedgeRoundRectCallout">
            <a:avLst>
              <a:gd name="adj1" fmla="val -16666"/>
              <a:gd name="adj2" fmla="val -20791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28600" y="762120"/>
            <a:ext cx="7467480" cy="37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吾使健中祭汝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汝之孤与汝之乳母。彼有食可守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终丧，则待终丧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取以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如不能守待终丧，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以来。其余奴婢，并令守汝丧。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改葬，终葬汝于先人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然后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呜呼！汝病吾不知时，汝殁吾不知日，生不能相养以共居，殁不能抚汝以尽哀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棺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得临其穴。吾行负神明，而使汝夭。不孝不慈，而不能与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养以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相守以死。一在天之涯，一在地之角，生而影不与吾形相依，死而魂不与吾梦相接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吾实为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又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“彼苍者天”，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曷其有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！自今已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0" y="2590920"/>
            <a:ext cx="3776760" cy="457200"/>
          </a:xfrm>
          <a:prstGeom prst="wedgeRoundRectCallout">
            <a:avLst>
              <a:gd name="adj1" fmla="val -121375"/>
              <a:gd name="adj2" fmla="val 320138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从穴乏声，即葬时下棺入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98840" y="304920"/>
            <a:ext cx="914400" cy="380880"/>
          </a:xfrm>
          <a:prstGeom prst="wedgeRoundRectCallout">
            <a:avLst>
              <a:gd name="adj1" fmla="val 30254"/>
              <a:gd name="adj2" fmla="val 13041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安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46320" y="380880"/>
            <a:ext cx="914400" cy="609840"/>
          </a:xfrm>
          <a:prstGeom prst="wedgeRoundRectCallout">
            <a:avLst>
              <a:gd name="adj1" fmla="val -3125"/>
              <a:gd name="adj2" fmla="val 15260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65600" y="457200"/>
            <a:ext cx="914400" cy="380880"/>
          </a:xfrm>
          <a:prstGeom prst="wedgeRoundRectCallout">
            <a:avLst>
              <a:gd name="adj1" fmla="val 85416"/>
              <a:gd name="adj2" fmla="val 22708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接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35320" y="457200"/>
            <a:ext cx="914400" cy="457200"/>
          </a:xfrm>
          <a:prstGeom prst="wedgeRoundRectCallout">
            <a:avLst>
              <a:gd name="adj1" fmla="val -86111"/>
              <a:gd name="adj2" fmla="val 243402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马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9640" y="404640"/>
            <a:ext cx="1219320" cy="609840"/>
          </a:xfrm>
          <a:prstGeom prst="wedgeRoundRectCallout">
            <a:avLst>
              <a:gd name="adj1" fmla="val 128125"/>
              <a:gd name="adj2" fmla="val 26093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有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40720" y="1125360"/>
            <a:ext cx="914400" cy="457200"/>
          </a:xfrm>
          <a:prstGeom prst="wedgeRoundRectCallout">
            <a:avLst>
              <a:gd name="adj1" fmla="val -118750"/>
              <a:gd name="adj2" fmla="val 20798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墓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27280" y="2852640"/>
            <a:ext cx="1371600" cy="457200"/>
          </a:xfrm>
          <a:prstGeom prst="wedgeRoundRectCallout">
            <a:avLst>
              <a:gd name="adj1" fmla="val -112268"/>
              <a:gd name="adj2" fmla="val -37847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代奴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2997360"/>
            <a:ext cx="914400" cy="609480"/>
          </a:xfrm>
          <a:prstGeom prst="wedgeRoundRectCallout">
            <a:avLst>
              <a:gd name="adj1" fmla="val -18921"/>
              <a:gd name="adj2" fmla="val 161981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467480" y="3124080"/>
            <a:ext cx="1676520" cy="685800"/>
          </a:xfrm>
          <a:prstGeom prst="wedgeRoundRectCallout">
            <a:avLst>
              <a:gd name="adj1" fmla="val -108333"/>
              <a:gd name="adj2" fmla="val 6250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殓，给死人穿衣入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0120" y="4038480"/>
            <a:ext cx="1523880" cy="838440"/>
          </a:xfrm>
          <a:prstGeom prst="wedgeRoundRectCallout">
            <a:avLst>
              <a:gd name="adj1" fmla="val -180625"/>
              <a:gd name="adj2" fmla="val 3125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互相照顾着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084640"/>
            <a:ext cx="1600200" cy="838440"/>
          </a:xfrm>
          <a:prstGeom prst="wedgeRoundRectCallout">
            <a:avLst>
              <a:gd name="adj1" fmla="val -138490"/>
              <a:gd name="adj2" fmla="val 12879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实在是我造成得灾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92360" y="6021360"/>
            <a:ext cx="914400" cy="609480"/>
          </a:xfrm>
          <a:prstGeom prst="wedgeRoundRectCallout">
            <a:avLst>
              <a:gd name="adj1" fmla="val -120314"/>
              <a:gd name="adj2" fmla="val -6224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抱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651640" y="5987880"/>
            <a:ext cx="2438280" cy="609840"/>
          </a:xfrm>
          <a:prstGeom prst="wedgeRoundRectCallout">
            <a:avLst>
              <a:gd name="adj1" fmla="val -77800"/>
              <a:gd name="adj2" fmla="val -4192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什么时候才有尽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124080" y="304920"/>
            <a:ext cx="5715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叙事和抒情完美的结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66880" y="1447920"/>
            <a:ext cx="6172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的来说，这篇祭文抒发生离死别之情，深沉真挚，悲哀凄楚，婉转曲折。这得力于作者将叙事、抒情有机地结合在一起：以事显情，融情于事，叙述平常琐事毫不觉得平淡单调，只觉一片哀情出自肺腑，读来催人泪下，这是间接抒情。作者感情不断积蓄，到高潮时，则直接抒情，感情的潮水喷涌而出，令人感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 rot="5400000">
            <a:off x="-305280" y="1371240"/>
            <a:ext cx="3581640" cy="20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分析小结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0880" y="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叙事于琐细中见沉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文作者在叙事时不是孤立叙写琐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而是放在宽阔背景中处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琐细中见沉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联系中见深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十二郎英年早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身足以使作者十分痛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系两人从小孤苦相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年别多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加家世凄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三兄早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世一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孙辈惟一的十二郎又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岂不悲痛之情更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催人泪下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文特点是直抒胸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抒情与叙事紧密结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絮絮切切诉说家常琐事同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情也表达得曲折入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如写与十二郎幼年时孤苦相依的一段艰难生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细致动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生死离别的反复重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而又说的抒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显出哀痛至深至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其说是写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如说是诉衷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709560" y="617400"/>
            <a:ext cx="7900560" cy="5622840"/>
            <a:chOff x="709560" y="617400"/>
            <a:chExt cx="7900560" cy="5622840"/>
          </a:xfrm>
        </p:grpSpPr>
        <p:sp>
          <p:nvSpPr>
            <p:cNvPr id="591" name=""/>
            <p:cNvSpPr/>
            <p:nvPr/>
          </p:nvSpPr>
          <p:spPr>
            <a:xfrm>
              <a:off x="709560" y="617400"/>
              <a:ext cx="790056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9560" y="617400"/>
              <a:ext cx="79005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4920" y="3049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．运用多种手法抒发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虽是直抒胸臆，但从写作角度看，作者还是运用了多种手法将感情抒发得酣畅淋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是从自身幼年讲起而又处处紧密联系十二郎的生活，突出叔侄孤苦相依、情深谊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是以“韩氏两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惟此而已”强调十二郎之死的惨痛之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是不厌其详地写叔侄相会又离别的经过，悔恨自己不该为求禄而使暂时相别竟成永别，以此加深抒发失侄之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是设想自己年老体弱本应早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会使十二郎忧伤万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衬出今日自己对十二郎早死的悲痛之情，使感情抒发又加深一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是因为悲痛至极而产生不合常情的想法，想去“从死”，以此来摆脱痛苦，使感情的抒发到达顶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后，作者以“呜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汝病吾不知时”一段，将上述种种悲痛作一总括，使人真正感受到作者“言有穷而情不可终”的哀痛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709560" y="617400"/>
            <a:ext cx="7824600" cy="5622840"/>
            <a:chOff x="709560" y="617400"/>
            <a:chExt cx="7824600" cy="5622840"/>
          </a:xfrm>
        </p:grpSpPr>
        <p:sp>
          <p:nvSpPr>
            <p:cNvPr id="595" name=""/>
            <p:cNvSpPr/>
            <p:nvPr/>
          </p:nvSpPr>
          <p:spPr>
            <a:xfrm>
              <a:off x="709560" y="617400"/>
              <a:ext cx="782460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560" y="617400"/>
              <a:ext cx="782460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504720" y="533520"/>
            <a:ext cx="81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．借助文言虚词表达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文除借助叙事表达思想感情，还极其准确地借助虚词来表达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如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：一开始连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疑问句，引起下文层层抒发极度悲痛之情。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“邪”表明作者难以接受十二郎死的事实，反诘语气有力强化了作者震惊程度。接下去几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“也”“乎”合用，写出作者不愿相信十二郎之死，以及不愿相信但事实俱在的矛盾心情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带“矣”的句子，迫使作者由疑而信，不得不信，写出了作者哀痛不已心情。最后，作者无力摆脱悲哀，只好归咎到天、神、理、寿，表示出对这噩耗的万般无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连用连词和语气词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重语气，使表达的感情更强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第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押韵和增强文章的节奏，从而增强作品感染力，更能打动读者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4064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点归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重要虚词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后四年 ，而归视汝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指示代词“那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止一岁 ，请归取其孥；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称代词“他的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葬汝于先人之兆 ，然后惟其所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称代词“我的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呜呼！其信然矣！吾其无意于人世矣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其然乎？其不然乎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[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其……其……”，“是……还是……”，表选择关系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其信然邪？其梦邪？其传之非其真邪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5640" y="544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反问语气：难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987640" y="544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500720" y="551664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选择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3132000" y="5013360"/>
            <a:ext cx="0" cy="216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>
            <a:off x="3132000" y="5229360"/>
            <a:ext cx="12956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4427640" y="5013360"/>
            <a:ext cx="0" cy="216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3708360" y="5229360"/>
            <a:ext cx="0" cy="50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2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1619280" y="5013360"/>
            <a:ext cx="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127080" y="620280"/>
            <a:ext cx="88646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虚词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乃：季父愈闻汝之七日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能衔哀致诚 ，使建中远具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时羞之奠 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东野与吾书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使者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（才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始：汝之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十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才，刚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吾年十九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来京城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初次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抑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竟以此而殒其生乎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有疾而至斯乎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或者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比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软脚病 ，往往而剧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近来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 rot="5400000">
            <a:off x="5644080" y="2645640"/>
            <a:ext cx="4335480" cy="143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祭十二郎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1"/>
          <p:cNvSpPr/>
          <p:nvPr/>
        </p:nvSpPr>
        <p:spPr>
          <a:xfrm>
            <a:off x="285840" y="116676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然：终葬汝于先人之兆 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后惟其所愿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，吾自今年来， 苍苍者或化而为白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这样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而：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知 ，其几何离（如果，表假设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其无知 ，悲不几时 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悲者无穷期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并且，表并列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比得软脚病 ，往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剧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表修饰，“往往”是“剧”的状语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吾年未四十 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茫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却，表转折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汝不肯来，恐旦暮死 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汝抱无涯之戚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因而，表原因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、重要实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85840" y="1700280"/>
            <a:ext cx="763416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乃能衔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致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表达心意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使建中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羞（备办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既又与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就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江南（谋生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归取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孥（家眷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吾去汴州 ，汝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来（实现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成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而致汝（安家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孰谓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去吾而殁乎（骤然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吾不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，汝不肯来（离开职守）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1"/>
          <p:cNvSpPr/>
          <p:nvPr/>
        </p:nvSpPr>
        <p:spPr>
          <a:xfrm>
            <a:off x="285840" y="71424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而汝抱无涯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也（悲哀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未可以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也。（真实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汝之纯明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家者（继承家业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克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矣（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继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福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者不可推（天理、自然规律）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几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从汝而死也（没多久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又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成立耶（希望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比得软脚病 ，往往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严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071720" y="1989000"/>
            <a:ext cx="764352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终葬汝于先人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墓地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吾实为之 ，其又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责怪、怨恨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吾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于人世矣（没有心思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敛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棺 （靠着）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临其穴。（下葬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6784920" cy="29638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682956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971640" y="260280"/>
            <a:ext cx="6829200" cy="865080"/>
            <a:chOff x="971640" y="260280"/>
            <a:chExt cx="6829200" cy="865080"/>
          </a:xfrm>
        </p:grpSpPr>
        <p:pic>
          <p:nvPicPr>
            <p:cNvPr id="618" name="" descr=""/>
            <p:cNvPicPr/>
            <p:nvPr/>
          </p:nvPicPr>
          <p:blipFill>
            <a:blip r:embed="rId3"/>
            <a:stretch/>
          </p:blipFill>
          <p:spPr>
            <a:xfrm>
              <a:off x="971640" y="260280"/>
              <a:ext cx="682920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743200" y="0"/>
            <a:ext cx="2819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83808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乃能衔哀致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诚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04920" y="1981080"/>
            <a:ext cx="198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不省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3124080"/>
            <a:ext cx="2666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汝又不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果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4267080"/>
            <a:ext cx="2209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莫如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5410080"/>
            <a:ext cx="2438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而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视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茫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5334120"/>
            <a:ext cx="3505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言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而情不可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838080"/>
            <a:ext cx="3886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汝之纯明宜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业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其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1905120"/>
            <a:ext cx="3733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苍苍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者欲化为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白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048120"/>
            <a:ext cx="3124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然后惟其所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2520" y="434340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吾女与汝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7200" y="1447920"/>
            <a:ext cx="16765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诚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3733920"/>
            <a:ext cx="35053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，实现，成为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2590920"/>
            <a:ext cx="182880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" y="4876920"/>
            <a:ext cx="19051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状，向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" y="5943600"/>
            <a:ext cx="19051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视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91120" y="1371600"/>
            <a:ext cx="251460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动，继承事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67080" y="3733920"/>
            <a:ext cx="16765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愿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67080" y="4876920"/>
            <a:ext cx="32767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使动，使……长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67080" y="5943600"/>
            <a:ext cx="190512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尽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2590920"/>
            <a:ext cx="4341600" cy="50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名，灰白的头发；白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3360" y="64260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三、重要句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699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兄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依。（只依靠兄嫂。“依”的宾语“兄嫂”前置。构成“唯……是……”格式，“是”起提宾作用。成语“唯才是举”、“唯你是问”、“惟利是图”都是这种格式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梦邪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传之非其真邪？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做梦呢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是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传送的消息不确实呢？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然乎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不然乎？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样呢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是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不是这样呢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以上两句是选择复句，构成“其……其……”格式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5"/>
          <p:cNvSpPr/>
          <p:nvPr/>
        </p:nvSpPr>
        <p:spPr>
          <a:xfrm>
            <a:off x="1258920" y="1197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状语后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1547640" y="2421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楷体_GB2312"/>
              </a:rPr>
              <a:t>吾佐董丞相于汴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1258920" y="3716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省略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1835280" y="458136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楷体_GB2312"/>
              </a:rPr>
              <a:t>吾念，汝从于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9"/>
          <p:cNvGrpSpPr/>
          <p:nvPr/>
        </p:nvGrpSpPr>
        <p:grpSpPr>
          <a:xfrm>
            <a:off x="2050920" y="2421000"/>
            <a:ext cx="3048120" cy="609480"/>
            <a:chOff x="2050920" y="2421000"/>
            <a:chExt cx="3048120" cy="609480"/>
          </a:xfrm>
        </p:grpSpPr>
        <p:grpSp>
          <p:nvGrpSpPr>
            <p:cNvPr id="647" name="Group 18"/>
            <p:cNvGrpSpPr/>
            <p:nvPr/>
          </p:nvGrpSpPr>
          <p:grpSpPr>
            <a:xfrm>
              <a:off x="2050920" y="2421000"/>
              <a:ext cx="1676520" cy="609480"/>
              <a:chOff x="2050920" y="2421000"/>
              <a:chExt cx="1676520" cy="609480"/>
            </a:xfrm>
          </p:grpSpPr>
          <p:sp>
            <p:nvSpPr>
              <p:cNvPr id="648" name="Line 15"/>
              <p:cNvSpPr/>
              <p:nvPr/>
            </p:nvSpPr>
            <p:spPr>
              <a:xfrm>
                <a:off x="2050920" y="2421000"/>
                <a:ext cx="16765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6"/>
              <p:cNvSpPr/>
              <p:nvPr/>
            </p:nvSpPr>
            <p:spPr>
              <a:xfrm>
                <a:off x="3727440" y="2421000"/>
                <a:ext cx="0" cy="6094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7"/>
            <p:cNvSpPr/>
            <p:nvPr/>
          </p:nvSpPr>
          <p:spPr>
            <a:xfrm>
              <a:off x="3727440" y="3030480"/>
              <a:ext cx="13716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23"/>
          <p:cNvSpPr/>
          <p:nvPr/>
        </p:nvSpPr>
        <p:spPr>
          <a:xfrm>
            <a:off x="3564000" y="4365720"/>
            <a:ext cx="380880" cy="4572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4"/>
          <p:cNvSpPr/>
          <p:nvPr/>
        </p:nvSpPr>
        <p:spPr>
          <a:xfrm flipV="1">
            <a:off x="3924360" y="4365720"/>
            <a:ext cx="533520" cy="4572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5"/>
          <p:cNvSpPr/>
          <p:nvPr/>
        </p:nvSpPr>
        <p:spPr>
          <a:xfrm>
            <a:off x="3564000" y="39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5450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292200" y="22050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巩固练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233249"/>
                </a:solidFill>
                <a:latin typeface="-머리굴림M"/>
                <a:ea typeface="楷体_GB2312"/>
              </a:rPr>
              <a:t>解释词语</a:t>
            </a:r>
            <a:endParaRPr b="0" lang="en-US" sz="4600" spc="-1" strike="noStrike">
              <a:solidFill>
                <a:srgbClr val="233249"/>
              </a:solidFill>
              <a:latin typeface="-머리굴림M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88840" y="1557000"/>
            <a:ext cx="323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衔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哀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致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诚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不省所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怙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止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一岁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汝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遽去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吾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辍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汝而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就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抱无涯之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戚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信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邪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不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克蒙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其泽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几何</a:t>
            </a:r>
            <a:r>
              <a:rPr b="1" lang="zh-CN" sz="28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离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</p:txBody>
      </p:sp>
      <p:sp>
        <p:nvSpPr>
          <p:cNvPr id="660" name=""/>
          <p:cNvSpPr/>
          <p:nvPr/>
        </p:nvSpPr>
        <p:spPr>
          <a:xfrm>
            <a:off x="3368520" y="148428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，怀着    表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19640" y="19162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依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19640" y="242100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留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349800" y="3146400"/>
            <a:ext cx="38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48000" y="2924280"/>
            <a:ext cx="41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、突然      离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348000" y="3429000"/>
            <a:ext cx="49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，离开  就职上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419640" y="393372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忧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348000" y="443700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真实、确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19640" y="48690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     承受、蒙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419640" y="537372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多少，不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5280" y="1052640"/>
            <a:ext cx="83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《古文观止》评论此文说：“情之至者，自然流为至文。读此等文，须想其一面哭，一面写，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字字是血，字字是泪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苏轼说：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读韩退之《祭十二郎文》而不堕泪者，其人必不友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44720" y="530064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千百年来为人们传诵不绝，是祭文中的“千古绝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233249"/>
                </a:solidFill>
                <a:latin typeface="楷体_GB2312"/>
                <a:ea typeface="楷体_GB2312"/>
              </a:rPr>
              <a:t>解释词语</a:t>
            </a:r>
            <a:endParaRPr b="0" lang="en-US" sz="4600" spc="-1" strike="noStrike">
              <a:solidFill>
                <a:srgbClr val="233249"/>
              </a:solidFill>
              <a:latin typeface="-머리굴림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64800" y="1483920"/>
            <a:ext cx="2760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冀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其成立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比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得软脚病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抑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别有疾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吊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汝之孤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遂取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以来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窆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不临其穴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其又何</a:t>
            </a: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尤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曷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其有</a:t>
            </a: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极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幸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其成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长</a:t>
            </a:r>
            <a:r>
              <a:rPr b="1" lang="zh-CN" sz="25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吾女与汝女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</p:txBody>
      </p:sp>
      <p:sp>
        <p:nvSpPr>
          <p:cNvPr id="672" name=""/>
          <p:cNvSpPr/>
          <p:nvPr/>
        </p:nvSpPr>
        <p:spPr>
          <a:xfrm>
            <a:off x="4100400" y="1346040"/>
            <a:ext cx="16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700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11640" y="20606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40360" y="2492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抚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995640" y="2924280"/>
            <a:ext cx="36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    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067280" y="3284640"/>
            <a:ext cx="38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葬时下棺入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40360" y="371628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怨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40360" y="4149720"/>
            <a:ext cx="42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，什么    尽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40360" y="458136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40360" y="501336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233249"/>
                </a:solidFill>
                <a:latin typeface="-머리굴림M"/>
                <a:ea typeface="楷体_GB2312"/>
              </a:rPr>
              <a:t>指出通假字</a:t>
            </a:r>
            <a:endParaRPr b="0" lang="en-US" sz="3300" spc="-1" strike="noStrike">
              <a:solidFill>
                <a:srgbClr val="233249"/>
              </a:solidFill>
              <a:latin typeface="-머리굴림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565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远具时羞之奠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零丁孤苦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不幸早世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先人之兆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敛不凭其棺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d5b6d"/>
                </a:solidFill>
                <a:latin typeface="-윤고딕140"/>
                <a:ea typeface="楷体_GB2312"/>
              </a:rPr>
              <a:t>自今已往</a:t>
            </a:r>
            <a:endParaRPr b="0" lang="en-US" sz="2500" spc="-1" strike="noStrike">
              <a:solidFill>
                <a:srgbClr val="4d5b6d"/>
              </a:solidFill>
              <a:latin typeface="-윤고딕140"/>
            </a:endParaRPr>
          </a:p>
        </p:txBody>
      </p:sp>
      <p:sp>
        <p:nvSpPr>
          <p:cNvPr id="684" name=""/>
          <p:cNvSpPr/>
          <p:nvPr/>
        </p:nvSpPr>
        <p:spPr>
          <a:xfrm>
            <a:off x="1332000" y="2276640"/>
            <a:ext cx="37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8360" y="2708280"/>
            <a:ext cx="67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403280" y="357336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95280" y="4076640"/>
            <a:ext cx="37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042920" y="458136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3213000"/>
            <a:ext cx="37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1280" y="15573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100400" y="2066760"/>
            <a:ext cx="14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伶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21280" y="2637000"/>
            <a:ext cx="17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100400" y="3290760"/>
            <a:ext cx="23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100400" y="393876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121280" y="4508640"/>
            <a:ext cx="17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795240" y="609120"/>
            <a:ext cx="3811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不省所怙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汝来省吾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始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始来京城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汝之子始十岁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虽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虽暂相别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虽万乘之公相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-윤고딕140"/>
                <a:ea typeface="楷体_GB2312"/>
              </a:rPr>
              <a:t>如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如吾之衰者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如耿兰之报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如不能守以终丧</a:t>
            </a:r>
            <a:endParaRPr b="0" lang="en-US" sz="2400" spc="-1" strike="noStrike">
              <a:solidFill>
                <a:srgbClr val="4d5b6d"/>
              </a:solidFill>
              <a:latin typeface="-윤고딕140"/>
            </a:endParaRPr>
          </a:p>
        </p:txBody>
      </p:sp>
      <p:sp>
        <p:nvSpPr>
          <p:cNvPr id="697" name=""/>
          <p:cNvSpPr/>
          <p:nvPr/>
        </p:nvSpPr>
        <p:spPr>
          <a:xfrm>
            <a:off x="4427640" y="105264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27640" y="141300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572000" y="22766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43280" y="2708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27640" y="4005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95240" y="4608360"/>
            <a:ext cx="373716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00720" y="4941720"/>
            <a:ext cx="127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00720" y="5445000"/>
            <a:ext cx="95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52840" y="5865840"/>
            <a:ext cx="143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326088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6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6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6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233249"/>
                </a:solidFill>
                <a:latin typeface="楷体_GB2312"/>
                <a:ea typeface="楷体_GB2312"/>
              </a:rPr>
              <a:t>其</a:t>
            </a:r>
            <a:endParaRPr b="0" lang="en-US" sz="4600" spc="-1" strike="noStrike">
              <a:solidFill>
                <a:srgbClr val="233249"/>
              </a:solidFill>
              <a:latin typeface="-머리굴림M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88600" y="1413000"/>
            <a:ext cx="435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未知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言之悲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后四年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如吾之衰者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能久存乎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死而有之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几何离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竟以此而殒其生乎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又何尤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信然邪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其传之非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真邪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吾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无意于人世矣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无知，悲不几时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然乎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4d5b6d"/>
                </a:solidFill>
                <a:latin typeface="楷体_GB2312"/>
                <a:ea typeface="楷体_GB2312"/>
              </a:rPr>
              <a:t>不然乎</a:t>
            </a:r>
            <a:endParaRPr b="0" lang="en-US" sz="2800" spc="-1" strike="noStrike">
              <a:solidFill>
                <a:srgbClr val="4d5b6d"/>
              </a:solidFill>
              <a:latin typeface="-윤고딕140"/>
            </a:endParaRPr>
          </a:p>
        </p:txBody>
      </p:sp>
      <p:sp>
        <p:nvSpPr>
          <p:cNvPr id="710" name=""/>
          <p:cNvSpPr/>
          <p:nvPr/>
        </p:nvSpPr>
        <p:spPr>
          <a:xfrm>
            <a:off x="4849920" y="1143000"/>
            <a:ext cx="28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代词，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407200" y="167652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代词，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849920" y="2819520"/>
            <a:ext cx="39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副词，表反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25880" y="2641680"/>
            <a:ext cx="235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29120" y="2819520"/>
            <a:ext cx="30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925880" y="2714760"/>
            <a:ext cx="332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33720" y="3886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副词，表揣测、推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9252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连词，表假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48440" y="5715000"/>
            <a:ext cx="27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41208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25400" y="155736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请你以书信的形式，写一段话劝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劝慰处于极度悲痛中的韩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908520" y="3860640"/>
            <a:ext cx="109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要点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勇敢地面对孤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理智地看待生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必须战胜自己，跨过人生这道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改变不了环境，那就改变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人生不如意事常八九，多思那一二，昂头再向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1187280" y="299736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66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祭文――也称“悼词”，通常是祭奠死者，抒发悼念哀痛之情的一种文体，也有用以祭神祭物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祭文一般先简介死者逝世情况（职务、时间、地点、死因、享年等），表示哀悼之情；然后介绍死者的生平事迹，评价死者的功德贡献；最后向死者亲属表示吊唁慰问，号召生者学习死者的精神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1"/>
          <p:cNvSpPr/>
          <p:nvPr/>
        </p:nvSpPr>
        <p:spPr>
          <a:xfrm>
            <a:off x="0" y="83664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位来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今天，我们怀着无比悲痛的心情，沉痛悼念我们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志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生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在 度过了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代，并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毕业后的他，从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作。为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需要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，他去。。。。。不幸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 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 ，离开了我们，年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志在工作上，他认真负责，……，有较强的敬业精神，并多次为他人排忧解难，对同事的事情认真对待。他的随和、热情，对工作负责的精神，永远值得我们学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志不仅对工作有极端负责的精神，对家庭的关心负责，同样让我们敬佩。他热爱他的家庭，爱护他的妻子，关心他的孩子，无论是他的亲人，还是他的朋友都把他当作心目中最可信任的人。他重义气、重友情，他可以为朋友奉献一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现在，他不幸离开了我们，我们深感震惊、悲痛。我们为失去这样好的朋友、这样好的同志而悲痛，为他的家庭失去这样好的丈夫、这样好的父亲而惋惜！但人死不能复生，我们只能控制自己的感情，抑制自己的悲痛，以更加高昂的热情投入到工作中去，做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志未做完的事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志安息！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90520" y="580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基本结构形式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2972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祭文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403280" y="1628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47640" y="1844640"/>
            <a:ext cx="936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484360" y="184428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19640" y="1916280"/>
            <a:ext cx="936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356000" y="184464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6720" y="1844640"/>
            <a:ext cx="8636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940360" y="549000"/>
            <a:ext cx="9367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600" y="1700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触发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47480" y="34225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过去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A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922560" y="3475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过去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B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280" y="3475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过去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C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2920" y="1316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现在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A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43280" y="13874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现在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B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72000" y="1459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现在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19640" y="3078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将来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4400" y="4941720"/>
            <a:ext cx="12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《祭十二郎文》却与一般祭文不同。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情况和作者非同一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与背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韩愈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768——82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，字退之，河南河阳（今孟县）人，祖籍昌黎，世称韩昌黎，晚年任吏部侍郎，又称韩吏部。自幼孤苦好学，锐意上进，贞观八年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79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中进士。元和十二年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81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迁刑部侍郎。因阻谏唐宪宗奉迎佛骨贬潮州刺史。穆宗时，官至吏部侍郎。韩愈一生，在政治、文学方面都有所建树，而主要成就是文学。他反对魏晋以来的骈文，提倡古文，进行长期的激烈斗争。“韩愈奋不顾流俗，犯笑侮，收召后学”； 由于他和柳宗元等人的倡导，终于形成了唐代古文运动，开辟了唐宋以来古文的发展道路，韩愈也成了唐代古文运动的领袖人物。其文众体兼长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多有创新，语言自由朴实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87400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韩愈两岁时就死了父亲，不久他的母亲又死去。幼时依靠他哥哥韩会和嫂嫂郑夫人过活。韩会有一个嗣子（愈次兄介之子，出继与长兄会为嗣）叫老成，排行十二，所以小名叫十二郎，年纪此韩愈小一点。后来韩会四十二岁的时候，因宰相元载的事，贬为韶州刺史，不到几个月就病死在韶州，这时韩愈只有十一岁，十二郎也很小。韩愈虽然有三个哥哥，却都很早离开了人世。这时，继承祖先后代的，只有韩愈和他的侄子十二郎两个人，零丁孤苦，没有一天离开过。韩愈十九岁时自宜城前往京城，以后十年的时间中，只和十二郎见过三次面。当他正打算西归和十二郎永远生活在一起的时候，不幸十二郎就在这时死去了。韩愈知道消息，悲痛欲绝，写了“祭十二郎文”，叫建中备了一些时下的物品从老远的地方去致祭他。这篇祭文，一字一泪，读来令人心酸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03040" y="578160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现在就让我们来读此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5:12:19Z</dcterms:created>
  <dc:creator>User</dc:creator>
  <dc:description/>
  <dc:language>en-US</dc:language>
  <cp:lastModifiedBy>Lenovo User</cp:lastModifiedBy>
  <dcterms:modified xsi:type="dcterms:W3CDTF">2013-03-04T23:49:37Z</dcterms:modified>
  <cp:revision>23</cp:revision>
  <dc:subject/>
  <dc:title>幻灯片 1</dc:title>
</cp:coreProperties>
</file>