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2F63-573C-4AF0-92A3-40846535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D1D7-C39A-4721-8419-BAA71C55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4676-27CC-4F21-971E-FD9ADDA7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5A66-F1EE-4064-A1B7-4965DC97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78DD-12BC-46B6-A5D6-3517104B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1C2-7AD2-4EF1-949A-04070BC3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FABC-7352-43B0-9EFC-944F1B55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2AB9-20ED-4C5B-92B3-18B574CF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196-ED6E-4A26-9348-FCDF66FC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9724-1F21-40F1-A3E6-27FCF3FE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CB26-F645-4753-BEC7-4723BD38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0070-AB53-442A-9947-F74F0177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0D0C-6D9A-479E-BB0B-8D09F8F3E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268,14,&#24187;&#28783;&#29255; 14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265,12,&#24187;&#28783;&#29255; 12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678120" cy="5257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343400" y="609480"/>
            <a:ext cx="4419720" cy="326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29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汉鼎繁淡古"/>
              </a:rPr>
              <a:t>祭十二郎文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汉鼎繁淡古"/>
              <a:ea typeface="汉鼎繁淡古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219640" y="4076640"/>
            <a:ext cx="23767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韩愈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62120" y="304920"/>
            <a:ext cx="7229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这篇祭文表达了作者怎样的感情</a:t>
            </a:r>
            <a:r>
              <a:rPr b="1" lang="en-US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76240" y="2590920"/>
            <a:ext cx="722952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文章反复抒写自己对十二郎的怀念与叔侄之间生离死别的哀痛。于萦纡中见深挚，于呜咽处见沉痛，话语从肺腑流出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8686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篇祭文是怎样把叙事和抒情完美的结合在一起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523880"/>
            <a:ext cx="8474040" cy="704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方正姚体"/>
                <a:ea typeface="方正姚体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方正姚体"/>
                <a:ea typeface="方正姚体"/>
              </a:rPr>
              <a:t>总的来说，这篇祭文抒发生离死别之情，深沉真挚，悲哀凄楚，婉转曲折。这得力于作者将叙事、抒情有机地结合在一起：以事显情，融情于事，叙述平常琐事毫不觉得平淡单调，只觉一片哀情出自肺腑，读来催人泪下，这是间接抒情。作者感情不断积蓄，到高潮时，则直接抒情，感情的潮水喷涌而出，令人感动。如课文第</a:t>
            </a:r>
            <a:r>
              <a:rPr b="1" lang="en-US" sz="3600" spc="-1" strike="noStrike">
                <a:solidFill>
                  <a:srgbClr val="cc0000"/>
                </a:solidFill>
                <a:latin typeface="方正姚体"/>
                <a:ea typeface="方正姚体"/>
              </a:rPr>
              <a:t>5</a:t>
            </a:r>
            <a:r>
              <a:rPr b="1" lang="zh-CN" sz="3600" spc="-1" strike="noStrike">
                <a:solidFill>
                  <a:srgbClr val="cc0000"/>
                </a:solidFill>
                <a:latin typeface="方正姚体"/>
                <a:ea typeface="方正姚体"/>
              </a:rPr>
              <a:t>自然段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方正姚体"/>
                <a:ea typeface="方正姚体"/>
                <a:hlinkClick r:id="rId3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228600"/>
            <a:ext cx="8381880" cy="11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第</a:t>
            </a:r>
            <a:r>
              <a:rPr b="1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自然段中的“邪”、“也”、“乎”、“矣”的用法，体会它们在表达感情上的作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828800"/>
            <a:ext cx="78483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个“邪”表明作者难以接受十二郎夭亡的事实，所以用反诘的语气，强化作者极度震惊的心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4327560"/>
            <a:ext cx="7925040" cy="11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五句“也”“乎”合用，表明作者仍不相信事实，所以用推断来排除现实的可能性，整个一句用的是假设语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BJ_0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533520"/>
            <a:ext cx="83822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方正姚体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方正姚体"/>
              </a:rPr>
              <a:t>第六七句末尾用“乎”，来表示作者的质疑，不愿接受残酷的现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905120"/>
            <a:ext cx="838188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第八句末尾用“也”，表明作者始终难以接受事实，陷入了极度的痛苦之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3657600"/>
            <a:ext cx="8229600" cy="130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第九句前两个“也”连用，表假设，后一个“也”表反问，作者清醒地明白，眼前这一切是事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BJ_02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0880" y="685800"/>
            <a:ext cx="8382240" cy="117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第十一、十二、十三句连用“矣”来表明自己的不解与迷惑，作者实在无法接受残酷的事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886200"/>
            <a:ext cx="8229600" cy="138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最后两句末尾用“矣”，相当于“了”，表明天道难测，神机难明，天理不可推究，人的寿命难以预知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方正姚体"/>
                <a:hlinkClick r:id="rId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640" y="907920"/>
            <a:ext cx="8013960" cy="191016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方正姚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方正姚体"/>
              </a:rPr>
              <a:t>感人心者莫先乎情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方正姚体"/>
              </a:rPr>
              <a:t>”，一切最动人的文字都是从心底里流淌出来的。今天我们要学习的《祭十二郎文》就是一篇字字含泪，句句动情的抒情散文，千百年来为人们传诵不绝，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方正姚体"/>
              </a:rPr>
              <a:t>成了祭文中的“千古绝调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方正姚体"/>
              </a:rPr>
              <a:t>”。大家在读课文时要注意体会作者在文中所表达的深挚感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背景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304920"/>
            <a:ext cx="2819160" cy="637920"/>
          </a:xfrm>
          <a:custGeom>
            <a:avLst/>
            <a:gdLst>
              <a:gd name="textAreaLeft" fmla="*/ 104760 w 2819160"/>
              <a:gd name="textAreaRight" fmla="*/ 2714400 w 2819160"/>
              <a:gd name="textAreaTop" fmla="*/ 104760 h 637920"/>
              <a:gd name="textAreaBottom" fmla="*/ 533160 h 637920"/>
            </a:gdLst>
            <a:ahLst/>
            <a:rect l="textAreaLeft" t="textAreaTop" r="textAreaRight" b="textAreaBottom"/>
            <a:pathLst>
              <a:path w="95415" h="21600">
                <a:moveTo>
                  <a:pt x="5019" y="0"/>
                </a:moveTo>
                <a:arcTo wR="5019" hR="5019" stAng="0" swAng="5400000"/>
                <a:lnTo>
                  <a:pt x="0" y="16581"/>
                </a:lnTo>
                <a:arcTo wR="5019" hR="5019" stAng="16200000" swAng="5400000"/>
                <a:lnTo>
                  <a:pt x="90396" y="21600"/>
                </a:lnTo>
                <a:arcTo wR="5019" hR="5019" stAng="10800000" swAng="5400000"/>
                <a:lnTo>
                  <a:pt x="95415" y="5019"/>
                </a:lnTo>
                <a:arcTo wR="5019" hR="5019" stAng="5400000" swAng="5400000"/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04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1447920"/>
            <a:ext cx="65725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900" spc="-1" strike="noStrike">
                <a:solidFill>
                  <a:srgbClr val="3333cc"/>
                </a:solidFill>
                <a:latin typeface="华文行楷"/>
                <a:ea typeface="华文行楷"/>
              </a:rPr>
              <a:t>1</a:t>
            </a:r>
            <a:r>
              <a:rPr b="0" lang="zh-CN" sz="39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、体会叙事中抒情的特点。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2438280"/>
            <a:ext cx="64994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900" spc="-1" strike="noStrike">
                <a:solidFill>
                  <a:srgbClr val="3333cc"/>
                </a:solidFill>
                <a:latin typeface="华文行楷"/>
                <a:ea typeface="华文行楷"/>
              </a:rPr>
              <a:t>2</a:t>
            </a:r>
            <a:r>
              <a:rPr b="0" lang="zh-CN" sz="39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、体会作者对十二郎深切的痛惜和怀念之情。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4114800"/>
            <a:ext cx="65725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900" spc="-1" strike="noStrike">
                <a:solidFill>
                  <a:srgbClr val="3333cc"/>
                </a:solidFill>
                <a:latin typeface="华文行楷"/>
                <a:ea typeface="华文行楷"/>
              </a:rPr>
              <a:t>3</a:t>
            </a:r>
            <a:r>
              <a:rPr b="0" lang="zh-CN" sz="39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、学习本文破骈为散，不拘常格的创新精神。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22200" y="5562720"/>
            <a:ext cx="67183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900" spc="-1" strike="noStrike" u="sng">
                <a:solidFill>
                  <a:srgbClr val="ff0000"/>
                </a:solidFill>
                <a:uFillTx/>
                <a:latin typeface="方正姚体"/>
                <a:ea typeface="方正姚体"/>
              </a:rPr>
              <a:t>重点：领会叙事中抒情的特点。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3333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祭文通常是祭奠亲友的有固定形式的文辞。形式多为骈文或四言韵文，内容多为对死者生平的追述和赞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2666880"/>
            <a:ext cx="8458200" cy="14770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《祭十二郎文》打破了这一常规，形式上破骈为散，内容上一任情感的激荡，通篇追叙他与十二郎的共同生活和深厚情谊，宣泄十二郎之死带给他的莫大哀痛，形成了“以情胜”的鲜明艺术特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895480" y="160020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华文新魏"/>
              </a:rPr>
              <a:t>字退之，河内河阳（今河南孟州市）人，有“韩昌黎”、“韩侍郎”之称。中唐文坛的领袖，“唐宋八大家”之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9625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华文新魏"/>
              </a:rPr>
              <a:t>倡导“古文运动”。主张恢复先秦、两汉的优秀散文传统，摒弃南北朝以来矫揉造作的骈体文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54100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华文新魏"/>
              </a:rPr>
              <a:t>其作品集有《韩昌黎文集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3733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29000" y="457200"/>
            <a:ext cx="2590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华文新魏"/>
              </a:rPr>
              <a:t>韩愈简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1219320"/>
            <a:ext cx="25146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907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韩愈三岁丧父，由兄嫂抚养长大，与十二郎自幼相守，共经患难，感情极为深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421000"/>
            <a:ext cx="8458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成年后，韩愈仕途不顺，多次遭贬，四处漂泊而很少与十二郎见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386064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后韩愈官运好转，叔侄二人能够相聚之时，突然传来十二郎病亡噩号，韩愈悲痛欲绝，也勾起他辛酸的回忆，于是写下这篇散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43800" y="5715000"/>
            <a:ext cx="1066680" cy="59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07840" y="0"/>
            <a:ext cx="1521720" cy="76428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背景介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861048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隶书简体"/>
                <a:ea typeface="方正姚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方正康体简体"/>
                <a:ea typeface="方正姚体"/>
              </a:rPr>
              <a:t>带感情的朗读全文</a:t>
            </a:r>
            <a:r>
              <a:rPr b="1" lang="en-US" sz="3500" spc="-1" strike="noStrike">
                <a:solidFill>
                  <a:srgbClr val="000000"/>
                </a:solidFill>
                <a:latin typeface="方正康体简体"/>
                <a:ea typeface="方正姚体"/>
              </a:rPr>
              <a:t>,</a:t>
            </a:r>
            <a:r>
              <a:rPr b="1" lang="zh-CN" sz="3500" spc="-1" strike="noStrike">
                <a:solidFill>
                  <a:srgbClr val="000000"/>
                </a:solidFill>
                <a:latin typeface="方正康体简体"/>
                <a:ea typeface="方正姚体"/>
              </a:rPr>
              <a:t>梳理主要字、词、句的意思、特点，给下列黑体字注音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523880"/>
            <a:ext cx="25146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闻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丧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及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不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殁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南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省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坟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归取其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1523880"/>
            <a:ext cx="274320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丞相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戎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徐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遽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万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乘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之公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殒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其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窆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不临其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44240" y="1447920"/>
            <a:ext cx="202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(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宋体"/>
              </a:rPr>
              <a:t>ｓ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à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宋体"/>
              </a:rPr>
              <a:t>ｎｇ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13000" y="2133720"/>
            <a:ext cx="18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(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宋体"/>
              </a:rPr>
              <a:t>ｘ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ǐ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宋体"/>
              </a:rPr>
              <a:t>ｎｇ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9720" y="2971800"/>
            <a:ext cx="1285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(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宋体"/>
              </a:rPr>
              <a:t>ｈ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ù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65400" y="3581280"/>
            <a:ext cx="12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(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宋体"/>
              </a:rPr>
              <a:t>ｍ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ò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80160" y="4267080"/>
            <a:ext cx="208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宋体"/>
              </a:rPr>
              <a:t>(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宋体"/>
              </a:rPr>
              <a:t>ｘ</a:t>
            </a:r>
            <a:r>
              <a:rPr b="1" lang="en-US" sz="4000" spc="-1" strike="noStrike" u="sng">
                <a:solidFill>
                  <a:srgbClr val="3333cc"/>
                </a:solidFill>
                <a:uFillTx/>
                <a:latin typeface="宋体"/>
              </a:rPr>
              <a:t>ǐ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宋体"/>
              </a:rPr>
              <a:t>ｎｇ</a:t>
            </a:r>
            <a:r>
              <a:rPr b="1" lang="en-US" sz="4000" spc="-1" strike="noStrike" u="sng">
                <a:solidFill>
                  <a:srgbClr val="3333cc"/>
                </a:solidFill>
                <a:uFillTx/>
                <a:latin typeface="宋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45680" y="5105520"/>
            <a:ext cx="12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(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宋体"/>
              </a:rPr>
              <a:t>ｎ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ú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08440" y="1371600"/>
            <a:ext cx="20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(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宋体"/>
              </a:rPr>
              <a:t>ｈ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ō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宋体"/>
              </a:rPr>
              <a:t>ｎｇ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07720" y="2133720"/>
            <a:ext cx="20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(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宋体"/>
              </a:rPr>
              <a:t>ｒ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ó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宋体"/>
              </a:rPr>
              <a:t>ｎｇ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36800" y="2895480"/>
            <a:ext cx="1285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(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宋体"/>
              </a:rPr>
              <a:t>ｊ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ù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54240" y="3581280"/>
            <a:ext cx="22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(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宋体"/>
              </a:rPr>
              <a:t>ｓｈ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è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宋体"/>
              </a:rPr>
              <a:t>ｎｇ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83960" y="4343400"/>
            <a:ext cx="1778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(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宋体"/>
              </a:rPr>
              <a:t>ｙ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ǔ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宋体"/>
              </a:rPr>
              <a:t>ｎ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88360" y="5029200"/>
            <a:ext cx="2028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(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宋体"/>
              </a:rPr>
              <a:t>ｂｉ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ǎ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宋体"/>
              </a:rPr>
              <a:t>ｎ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37680" y="5715000"/>
            <a:ext cx="2302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(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宋体"/>
              </a:rPr>
              <a:t>ｘｉ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ǎ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宋体"/>
              </a:rPr>
              <a:t>ｎｇ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812000" y="620640"/>
            <a:ext cx="647640" cy="504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60508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BJ_0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04920" y="0"/>
            <a:ext cx="2921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cc99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华文行楷"/>
              </a:rPr>
              <a:t>文章结构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cc99"/>
                  </a:gs>
                  <a:gs pos="100000">
                    <a:srgbClr val="ffffff"/>
                  </a:gs>
                </a:gsLst>
                <a:lin ang="8100000"/>
              </a:gradFill>
              <a:latin typeface="华文行楷"/>
              <a:ea typeface="华文行楷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066680"/>
            <a:ext cx="834840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祭文的开头文字，固定形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交代写祭文的时间、情况及致祭的对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276720"/>
            <a:ext cx="822960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第一部分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写两人之间的深厚情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191120"/>
            <a:ext cx="8305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先从身世和家世的不幸，写幼时孤苦相依；后叙两人的三别三会，终于不得会合而成永别，使作者悔恨无穷，抱憾终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SC_0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762120"/>
            <a:ext cx="6477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宋体"/>
                <a:ea typeface="方正姚体"/>
              </a:rPr>
              <a:t>第二部分，写十二郎之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1752480"/>
            <a:ext cx="83818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方正魏碑简体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方正魏碑简体"/>
                <a:ea typeface="华文行楷"/>
              </a:rPr>
              <a:t>先写对十二郎之死的悲痛，再详叙死因和死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352680"/>
            <a:ext cx="8458200" cy="9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第三部分，写对十二郎及其遗孤的吊慰，交代迁葬及教养遗孤等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3:21:55Z</dcterms:created>
  <dc:creator>新城中学语文组张敏涛</dc:creator>
  <dc:description>《祭十二郎文》课件</dc:description>
  <cp:keywords>祭十二郎文</cp:keywords>
  <dc:language>en-US</dc:language>
  <cp:lastModifiedBy>微软用户</cp:lastModifiedBy>
  <dcterms:modified xsi:type="dcterms:W3CDTF">2013-12-16T02:00:22Z</dcterms:modified>
  <cp:revision>12</cp:revision>
  <dc:subject>祭十二郎文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