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8BE-09CC-483B-8356-D86CA0D2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178-963A-441D-B736-070A198B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5A4-7BF7-43DA-B8C7-5C65F4DA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13A-8130-4C25-9173-69B83BC3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0B9-84DA-46BE-ADBF-871F204E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E3F-F137-452B-8B42-630FE206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95B-7655-485E-B0F1-9ED64976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B0B-050B-4374-84EE-7F2E2C82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944-8A07-43F7-9216-629A3E6E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B1D-5CC0-498D-83FE-27EE5FE0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F08-9391-4634-BD20-20B4DF8C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0A4-E75F-4DC1-927A-4A7E1176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95F0-53EB-4E1F-B4FA-A7701A3A4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1916280"/>
            <a:ext cx="5184720" cy="18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精神的三间小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96000" y="41497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毕淑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80360" y="4437000"/>
            <a:ext cx="1495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76440" y="260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堂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12536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散文的主题：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篇议论、描写、抒情于一体的说理性散文，通过对精神的三间小屋的描写、议论、抒情，表现了关注个性、关注自我、关注人的精神生活的思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707640" y="1628640"/>
            <a:ext cx="1771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作特点：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集议论、描写、抒情于一体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构思新颖独特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语言朴实，意蕴深厚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笔细腻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6440" y="260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堂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35400" y="409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765000"/>
            <a:ext cx="837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阅读选文，完成各题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间，盛着我们的爱和恨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父母的尊爱、对伴侣的情爱、对子女的疼爱、对朋友的关爱、对万物的慈爱、对生命的珍爱……对丑恶的仇恨、对污浊的厌烦、对虚伪的憎恶、对卑劣的蔑视……这些复杂对立的情感林林总总，会将这间小屋挤得满满，间不容发。你的一生经历过的所有悲欢离合、喜怒哀乐，仿佛以木石制作的古老乐器，铺陈在精神小屋的几案上，一任岁月飘逝，在某一个金戈铁血之夜，它们会无师自通与天地呼应，铮铮作响。假若爱比恨多，小屋就光明温暖，像一座金色池塘，有红色的鲤鱼游弋，那是你的大福气；假若恨比爱多，小屋就阴风惨惨，厉鬼出没，你的精神悲凄压抑，形销骨立。如果想重温祥和，就得净手焚香，洒扫庭院，销毁你的精神垃圾，重塑你的精神天花板，让一束圣洁的阳光，从天窗洒入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间，盛放我们的事业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适合你的事业，白桦林不靠天赐，主要靠自我寻找。这不但因为相宜的事业，并非像雨后的菌子一样俯拾即是，而且因为我们对自身的认识也是抽丝剥茧，需要水落石出的流程。你很难预知，将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还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甚至更沧桑的时分，才真正触摸到倾心的爱好。当我们太年轻的时候，因为尚无法真正独立，受种种条件的制约，那附着在事业外壳上的金钱地位，或是其他显赫的光环，也许会灼晃了我们的眼睛。当我们有了足够的定力，将事业之外的赘物一一剥除，露出它单纯可爱的本质时，可能已耗费半生。然费时弥久，精神的小屋，也定需住进你所爱好的事业。否则，鸠占鹊巢，李代桃僵，那屋内必是鸡飞狗跳，不得安宁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76200" y="1130400"/>
            <a:ext cx="8156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们的事业，是我们的田野。我们背负着它，播种着、耕耘着、收获着，欣喜地走向生命的远方。规划自己的事业生涯，使事业和人生，呈现缤纷和谐相得益彰的局面，是第二间精神小屋坚固优雅的要诀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给加点字注音。　　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憎恶 游弋 俯拾即是 灼晃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附着 赘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解释词语的意思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鸠占鹊巢：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李代桃僵：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907920"/>
            <a:ext cx="693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分析“假若爱比恨多，小屋就光明温暖，像一座金色池塘，有红色的鲤鱼游弋”的表达效果。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分析“否则，鸠占鹊巢，李代桃僵，那屋内必是鸡飞狗跳，不得安宁。”语句的含义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试题答案】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ēng wù yì jí huǎng fù zhuó zhuì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比喻强占别人的房屋、土地、产业等。本文指事业以外的赘生物占据了事业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喻互相顶替或代人受过。文中指事业因事业之外的赘生物而不得发展或荒废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用了比喻句，把有爱的小屋比作金色的池塘，生动形象地写出了小屋的美好，幸福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如果事业以外的赘生物占据了事业的位置，或者事业为其他方面所替代，家必定不会稳定安宁。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7840" y="784080"/>
            <a:ext cx="830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作者简介：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毕淑敏，女，祖籍山东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5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生于新疆伊宁，长在北京，就读于北京外语学院附属学校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赴西藏高原阿里地区当兵，在海拔五千米的高原部队服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。历任卫生员，军医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转业回北京。从事医学工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后，开始专业写作。共发表作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余万字，主要有中、短篇小说集《女人之约》《昆仑殇》《预约死亡》，散文集《素面朝天》《提醒幸福》《保持惊奇》等。著有《毕淑敏文集》四卷，长篇小说《红处方》。曾获庄重文文学奖、小说月报第四、五、六届百花奖、当代文学奖、北京文学奖、昆仑文学奖、解放军文艺奖、青年文学奖、台湾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届中国时报文学奖、台湾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届联合报文学奖等各种文学奖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余次。国内一级作家，内科主治医师。北京师范大学文学硕士。毕淑敏真正取得全国性声誉是在短篇小说《预约死亡》发表后，这篇作品被誉为是“新体验小说”的代表作，它以作者在临终关怀医院的亲历为素材，对面对死亡的当事者及其身边人的内心进行了探索，十分精彩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17120" y="333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初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0560" y="1916280"/>
            <a:ext cx="44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说的是哪三间精神的小屋呢？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第一间，盛着我们的爱与恨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第二间小屋，盛放我们的事业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第三间安放我们的自身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996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再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8200" y="1216080"/>
            <a:ext cx="707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—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写的是什么？与后文写的精神的三间小屋有什么关联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—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：是全文的引子，表达了作者对两句名言的感慨与思考。引出对精神空间的理解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—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：由身体活动的空间引出人心灵活动的空间的思考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17120" y="333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2200" y="1720800"/>
            <a:ext cx="822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间精神小屋是什么样的？作者是怎样写的？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间，盛着我们的爱与恨。作者首先选用两组带有对立情感的排比句，说明这种对比鲜明的爱和恨会将小屋挤得满满的，接着又用了几个比喻句形象地写出人生爱恨交织的经历。接下来用一个假设句，告诉人们精神的小屋应多装爱。充分体现了作者如大地、海洋、天空般深广的胸怀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17120" y="333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25360"/>
            <a:ext cx="801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间小屋盛放我们的事业，作者是怎样描述的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先列出一组庞大的数字，给人们一个对事业的时间概念。揭示出一个道理：不要小看人们所从事的事业对人产生的深远影响。并告诫人们适合自己的事业要自己寻找，只有规划好自己的事业，才能使事业和人生相得益彰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126828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适合的事业，文中：“白桦林不靠天赐，主要靠自我寻找”。要干一番大事业，如何寻找。也许王国维的《三境界》能给我们启发：古今之成大事业，大学问者，必经过三种之境界：昨夜西风凋碧树。独上高楼，望尽天涯路。”此第一境也。“衣带渐宽终不悔，为伊消得人憔悴。”此第二境也。“众里寻他千百度，蓦然回首，那人正在，灯火阑珊处。”此第三境也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3360" y="404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981000"/>
            <a:ext cx="7940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可以这样来理解：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一境界是寻找阶段，站在高处向远方望去，高瞻远瞩，确立远大目标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境界是耕耘阶段，再苦再累，在所不惜，只要努力达成目标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境界是收获阶段，已经为追寻目标精疲力尽，快要放弃时，却在最不起眼的地方获得了成功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以成功是偶然的，也是必然的，只要我们努力！努力了，我们容易找到合适的事业，否则鸠占鹊巢，李代桃僵，那屋内必是鸡飞狗跳，不得安宁。所以努力是关键，而“空谈雄心壮志”、“等待一鸣惊人”是不可取的。所以对待我们的学习、事业要认真、努力，乐于其中，因为“知之不如好之，好之不如乐之”。只有选择了自己喜欢的，你才会乐于其中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3360" y="404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6000" y="1197000"/>
            <a:ext cx="721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间，安放我们自身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首先用一个反问句引出下文，接着用了两个比喻句说明没有自己的悲哀。告诫人们：做人不能迷失了自我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概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的内容：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全文，指出建立精神栖息地是我们的义务和权利，提出扩大精神空间的建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3360" y="404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01:12:24Z</dcterms:created>
  <dc:creator>www.21cnjy.com</dc:creator>
  <dc:description/>
  <dc:language>en-US</dc:language>
  <cp:lastModifiedBy>微软用户</cp:lastModifiedBy>
  <dcterms:modified xsi:type="dcterms:W3CDTF">2009-07-25T01:21:23Z</dcterms:modified>
  <cp:revision>2</cp:revision>
  <dc:subject/>
  <dc:title>21世纪教育网</dc:title>
</cp:coreProperties>
</file>