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chimes.wav" ContentType="audio/x-wav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97F-4006-4EDB-9D8B-FF76CFAE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F7D-AA96-4620-811B-1AAA6449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0C5-302C-4DF0-BDAC-5D21A351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54F-8308-459B-9B02-991C7438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C7C-1393-4F14-BACD-240988C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869-AB86-4F16-B0A4-CF374348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142-C4C3-4DD5-904F-C7A873F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272-7B7B-46EE-8D8E-DC91143C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C9D-297B-4EA8-B43B-408943F5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C87-FB8F-421F-9540-F5859CB8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DE3-13D0-41D2-96AE-1B8B5A1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674-00D0-4774-987F-39ED1C3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6F4F-5EC8-409A-9AAF-48295CF6A5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76520" y="609480"/>
            <a:ext cx="5486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/>
                  </a:outerShdw>
                </a:effectLst>
                <a:latin typeface="华文新魏"/>
              </a:rPr>
              <a:t>假如生活欺骗了你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5747040" y="29718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普希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通过展示他的生活态度，要告诫我们的是：当越过艰难困苦之后再回首那段往事时，那过去的一切便会变得美好起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387180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105264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是一首脍炙人口的名篇，许多人把它记在自己的笔记本上，作为鼓励自己的座右铭，你读了之后，喜欢这首诗吗？为什么？请同学们自由讨论，各持己见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 rot="5400000">
            <a:off x="6053400" y="2812320"/>
            <a:ext cx="45262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体验反思</a:t>
            </a:r>
            <a:endParaRPr b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0"/>
            <a:ext cx="1656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3300"/>
                </a:solidFill>
                <a:latin typeface="Times New Roman"/>
                <a:ea typeface="宋体-方正超大字符集"/>
              </a:rPr>
              <a:t>？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27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44680"/>
            <a:ext cx="4356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zh-CN" sz="4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假如你觉得生活欺骗了你，你将如何面对？联系自己的生活体验谈谈你的体会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71500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1902960"/>
            <a:ext cx="8642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仿句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仿照《假如生活欺骗了你》第一节，续写下面的诗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假如生活捉弄了你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背诵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79640" y="333360"/>
            <a:ext cx="540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课堂练习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052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隶书"/>
                <a:ea typeface="隶书"/>
              </a:rPr>
              <a:t>课外收集有关“路”的名言、警句或诗句、歌词（不少于</a:t>
            </a:r>
            <a:r>
              <a:rPr b="1" lang="zh-CN" sz="72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7200" spc="-1" strike="noStrike">
                <a:solidFill>
                  <a:srgbClr val="3333cc"/>
                </a:solidFill>
                <a:latin typeface="隶书"/>
                <a:ea typeface="隶书"/>
              </a:rPr>
              <a:t>条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-153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Times New Roman"/>
              <a:ea typeface="华文新魏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普希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俄罗斯伟大的民族诗人、小说家，史称“俄罗斯文学之父”。他被认为是俄罗斯文学语言的创建者和奠基人。他出身于贵族地主家庭，一生倾向革命，与黑暗专制惊醒着不屈不挠的斗争，他的思想与诗作，引起了沙皇俄国统治者的不满和仇恨，他曾两度被流放，始终不肯屈服，最终在沙皇政府的阴谋策划下与人决斗而死，年仅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98100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其代表作有：著名诗歌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《自由颂》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《致大海》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《致恰达耶夫》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等，以及诗体小说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《叶普盖尼、奥涅金》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，长篇小说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《上校的女儿》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333000"/>
            <a:ext cx="88200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《假如生活欺骗了你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写于普希金被沙皇流放的日子里。那时俄国革命如火如荼，诗人却被迫与世隔绝。在这样的处境下，诗人仍没有丧失希望和斗志，他热爱生活，执著地追求理想，相信光明必将到来，正义必将胜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问题一、假如生活欺骗了你，诗人给了你怎样的叮嘱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882000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答：不要悲伤，不要心急，需要镇静，相信快乐的日子将会来临，忧郁将会过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问题二、你认为“假如生活欺骗了你”一句中的“欺骗”所指的是什么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3213000"/>
            <a:ext cx="87487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答：指生活中所有不顺利，碰到挫折、困难的事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问题三、“忧郁的日子里需要镇静”一句中的“忧郁”还可以用什么词来代替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3490560"/>
            <a:ext cx="777240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答：烦闷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问题四、“相信吧，快乐的日子将会来临”一句，语气上有什么特点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3200" y="3644640"/>
            <a:ext cx="874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答、委婉、含蓄的劝说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全文作者所表现出来的人生态度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当生活欺骗了你时，不要悲伤，不要心急；在苦恼之时要善于忍耐，一切都过去，未来是幸福、美好的。（积极乐观的态度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08:32:50Z</dcterms:created>
  <dc:creator>xx</dc:creator>
  <dc:description/>
  <dc:language>en-US</dc:language>
  <cp:lastModifiedBy>谭艳花</cp:lastModifiedBy>
  <dcterms:modified xsi:type="dcterms:W3CDTF">2006-03-01T13:39:16Z</dcterms:modified>
  <cp:revision>32</cp:revision>
  <dc:subject/>
  <dc:title>诗两首</dc:title>
</cp:coreProperties>
</file>