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885F-8AD3-4D3C-B077-9BACF68F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1B0-6A1B-467C-920B-F9FECEB2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C12-CE43-4A1B-88E2-56788C1E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FF00-B60E-437E-9DB9-2D8E2373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B28-1AA4-48FE-923C-6C62ED60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376-CDC1-41B4-A75D-3B8098A8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B501-CED6-4D1B-932B-8082F54B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51F-B850-4D83-BCF8-81B3EA09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AF1-4E84-4272-BCA5-5D90ABD9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0C9-AA83-45F2-A62E-0A13894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70D-5A6C-48ED-924D-43AF9E0A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642-EDD7-4550-862B-93C85249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6E52-3DC7-4814-9E6D-8B9BB160A3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01080" y="6922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彩云"/>
              </a:rPr>
              <a:t>巨人的花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200" y="981000"/>
            <a:ext cx="1036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巨人终于明白，没有孩子的地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就没有春天。他不禁抱住了那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孩子：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唤来寒冬的，是我那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任性、冷酷的心啊！要不是你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醒，春天将永远被我赶走了。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谢你！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78240" y="907920"/>
            <a:ext cx="6057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洋溢   允许   围墙   训斥   冷酷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愉快   隆冬   孤独   覆盖   凝视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拆除      告示牌      火辣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狂风大作  雪花飞舞   鲜花盛开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绿树成阴  鲜果飘香   草翠花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5000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447920"/>
            <a:ext cx="190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179280" y="981000"/>
          <a:ext cx="3886200" cy="4632480"/>
        </p:xfrm>
        <a:graphic>
          <a:graphicData uri="http://schemas.openxmlformats.org/drawingml/2006/table">
            <a:tbl>
              <a:tblPr/>
              <a:tblGrid>
                <a:gridCol w="1752840"/>
                <a:gridCol w="2133360"/>
              </a:tblGrid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作者：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王尔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国籍：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英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地位</a:t>
                      </a:r>
                      <a:r>
                        <a:rPr b="0" lang="zh-CN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：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十九世纪后期英国著名作家、   诗人、 剧作家，唯美主义的代表人物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4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代表作品</a:t>
                      </a:r>
                      <a:r>
                        <a:rPr b="0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长篇小说：《道林格雷的肖像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诗集：《里丁监狱之歌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童话剧：《快乐王子》《少年国王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   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《夜莺与玫瑰》 《星孩》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6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后人评价</a:t>
                      </a:r>
                      <a:r>
                        <a:rPr b="0" lang="zh-CN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一位对社会对艺术有过激思想的伟大作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在英文中找不出来能够跟它们相比的童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755640" y="2602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名人档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80440" y="438120"/>
            <a:ext cx="54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他见到孩子们在花园里玩耍，很生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谁允许你们到这儿来玩的！都滚出去！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15200" y="1628640"/>
            <a:ext cx="47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可是巨人又发脾气了：“好容易才盼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春天，你们又来胡闹。滚出去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31480" y="2852640"/>
            <a:ext cx="29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喂！你赶快滚出去！”巨人大声叱责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7240" y="3495600"/>
            <a:ext cx="5288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噢！是这么回事呀！”巨人终于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了，没有孩子的地方就没有春天。他不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抱住了那个孩子：“唤来寒冬的，是我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颗任性、冷酷的心啊！要不是你提醒，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天将永远被我赶走了。谢谢你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4941720"/>
            <a:ext cx="129708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23200" y="917640"/>
            <a:ext cx="5938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噢！是这么回事呀！”巨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终于明白了，没有孩子的地方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没有春天。他不禁抱住了那个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子：“唤来寒冬的，是我那颗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性、冷酷的心啊！要不是你提醒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春天将永远被我赶走了。谢谢你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7:56:10Z</dcterms:created>
  <dc:creator>ZZHXX</dc:creator>
  <dc:description/>
  <dc:language>en-US</dc:language>
  <cp:lastModifiedBy>ZZHXX</cp:lastModifiedBy>
  <dcterms:modified xsi:type="dcterms:W3CDTF">2006-09-20T06:16:40Z</dcterms:modified>
  <cp:revision>11</cp:revision>
  <dc:subject/>
  <dc:title>幻灯片 1</dc:title>
</cp:coreProperties>
</file>