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06FC-D3D2-4521-B7AE-D72A2191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5AB0-CB07-476C-AF02-ED36F1A1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A80-C1AE-4C50-A007-AA03C9A9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E7E8-E15D-4BF7-871B-93081A8E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361-0BF2-47AA-8B61-280A9276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21B2-00F5-443C-9F1D-5E019AE6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C1F0-80B1-431D-A923-DCE46EF3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27F-8D25-4D6C-A86B-F8E8134B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1897-DC53-4B2E-84D7-1AA30EFB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D225-75E9-4056-B0DD-F803FF1A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A25-1866-4354-9819-E9CBCC48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9403-B3C1-4982-BC58-B0F0EDCF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9352-ECA9-43EA-8E32-E28FB2339A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924680" y="0"/>
            <a:ext cx="685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就任北京大学校长之演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4038480"/>
            <a:ext cx="838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行楷"/>
              </a:rPr>
              <a:t>关于作者和北京大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北京大学的前身是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京师大学堂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创办于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1898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年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中国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第一所现代意义上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大学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。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1912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年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5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改名为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北京大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■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蔡元培（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868---1940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，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字鹤卿，号孑民，绍兴人。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近代著名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民主革命家、教育家、思想家。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898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戊戌变法失败后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投身教育，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917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起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任北大校长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前后共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。不拘一格，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奠定了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北大的学术地位，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其成为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新文化运动的中心和五四运动的策源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毛泽东称之为</a:t>
            </a:r>
            <a:r>
              <a:rPr b="0" lang="zh-CN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:</a:t>
            </a:r>
            <a:r>
              <a:rPr b="0" lang="zh-CN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学界泰斗</a:t>
            </a:r>
            <a:r>
              <a:rPr b="0" lang="zh-CN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人世楷模</a:t>
            </a:r>
            <a:r>
              <a:rPr b="0" lang="zh-CN" sz="2800" spc="-1" strike="noStrike">
                <a:solidFill>
                  <a:srgbClr val="ff00ff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整体把握，理解文章的思想文化内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行楷"/>
              </a:rPr>
              <a:t>诵读课文，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身为北大校长的蔡元培先生对青年学生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行楷"/>
              </a:rPr>
              <a:t>提出了哪些殷切希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确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抱定宗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砥砺德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敬爱师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25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二、蔡元培先生是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行楷"/>
              </a:rPr>
              <a:t>针对当时怎样的社会现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提出以上三点要求的？（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行楷"/>
              </a:rPr>
              <a:t>筛选出文中相关信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447920"/>
            <a:ext cx="9144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人每指摘本校之腐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盖为将来毕业有人提携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时则放荡冶游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岂非与求学初衷大相背驰乎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今风俗日偷，道德沦丧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鲜不为流俗所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确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以上信息可以看出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时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社会非常腐败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道德沦丧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便是北大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难脱俗流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多学生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不以学业为重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把大学当成了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升官发财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阶梯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时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敷衍塞责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</a:t>
            </a:r>
            <a:r>
              <a:rPr b="0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突击讲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77160" y="-3818160"/>
            <a:ext cx="759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3300"/>
              </a:solidFill>
              <a:latin typeface="Arial"/>
              <a:ea typeface="华文行楷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3809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在蔡元培提出的三点要求中，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能触动你心灵的是哪一点？谈谈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的感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62520" y="228600"/>
            <a:ext cx="3657600" cy="1600200"/>
          </a:xfrm>
          <a:prstGeom prst="cloudCallout">
            <a:avLst>
              <a:gd name="adj1" fmla="val -80467"/>
              <a:gd name="adj2" fmla="val 39185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609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拓展与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800"/>
                            </p:stCondLst>
                            <p:childTnLst>
                              <p:par>
                                <p:cTn id="13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300"/>
                            </p:stCondLst>
                            <p:childTnLst>
                              <p:par>
                                <p:cTn id="1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-529524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1920"/>
            <a:ext cx="86868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■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赏对联，猜名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）纵马驰欧亚，弯弓射雁雕。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                          </a:t>
            </a: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成吉思汗</a:t>
            </a: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一代文章推《子夜》，毕生心血似《春蚕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                                         </a:t>
            </a: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茅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）一代悲歌成国史，满腔忧愤铸诗魂。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                            </a:t>
            </a: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杜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写鬼写妖高人一等，刺贪刺虐入骨三分。</a:t>
            </a: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                                        </a:t>
            </a: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蒲松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）铁血空流，三字罪罗千古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金牌难拒，十年功废万民嗟。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                            </a:t>
            </a: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岳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何处招魂？香草还生三户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当年呵壁，湘流应识九歌心。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                                         </a:t>
            </a:r>
            <a:r>
              <a:rPr b="0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屈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5" dur="20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2000"/>
                                        <p:tgtEl>
                                          <p:spTgt spid="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2000"/>
                                        <p:tgtEl>
                                          <p:spTgt spid="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1" dur="2000"/>
                                        <p:tgtEl>
                                          <p:spTgt spid="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685800"/>
            <a:ext cx="739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60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关于立志、道德、交往的名人名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）三军可夺帅也，匹夫不可夺志也。      孔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志不强者智不达。                    墨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）燕雀安知鸿鹄之志哉！                陈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穷且益坚，不坠青云之志。            王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）生当做人杰，死亦为鬼雄。            李清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为中华之崛起而读书。                周恩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）勿以恶小而为之，勿以善小而不为。     刘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如烟往事俱忘却，心底无私天地宽。     陶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）嫉妒是心灵的肿瘤。                   艾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人不尊敬，首先就是对自己的不尊敬。惠特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  <a:ea typeface="华文行楷"/>
              </a:rPr>
              <a:t>小结本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蔡元培先生的这篇就职演说，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吹响了北大改革的号角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，他“循思想自由原则，取兼容并包主义”，对北京大学进行了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思想解放和学术繁荣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，使北大成为最早传播马克思主义和民主科学思想的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发祥地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，今天，北京大学不仅是国家的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知识库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，民族的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智囊团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，更是一座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学术思想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高峰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</cp:lastModifiedBy>
  <dcterms:modified xsi:type="dcterms:W3CDTF">2006-12-08T11:25:31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