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7167563" cy="537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21C-CE82-4383-AF91-4B67DD4E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6092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200" y="3238200"/>
            <a:ext cx="6092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D6E-8BCC-44C6-A850-D2B9EEEF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6012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8200" y="323820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60120" y="323820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F90-8273-4FF7-AE42-4BEAB6AE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8480" y="155232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8400" y="155232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8200" y="323820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8480" y="323820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58400" y="323820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124-C283-4719-8F26-0BE79C63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1397-1AC2-4353-954B-C9549755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8200" y="1552320"/>
            <a:ext cx="6092640" cy="32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A623-31CE-41B7-BA1F-B57A378B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6092640" cy="32274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E20D-CBE3-41C4-A2E5-216F12DA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2972880" cy="32274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60120" y="1552320"/>
            <a:ext cx="2972880" cy="32274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1D01-B089-48B0-9992-812C1437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579F-C55C-4EEA-AA87-E15620E2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8200" y="477720"/>
            <a:ext cx="6092640" cy="415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EA62-4225-4211-9A39-87D2B7F5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60120" y="1552320"/>
            <a:ext cx="2972880" cy="32274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8200" y="323820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F883-FEE1-4334-8451-40CE10A8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8200" y="1552320"/>
            <a:ext cx="6092640" cy="32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B0B-6426-4AAA-921A-8F43B65D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2972880" cy="32274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6012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60120" y="323820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6AAB-54CE-4F1E-B8C5-CEF0B1A9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6012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8200" y="3238200"/>
            <a:ext cx="6092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A450-8C3B-4F81-899C-17DFE280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6092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200" y="3238200"/>
            <a:ext cx="6092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5504-3B95-4870-BED8-05C78716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6012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8200" y="323820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60120" y="323820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1ECC-479E-4AEC-AE51-6093A5E1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98480" y="155232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8400" y="155232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8200" y="323820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98480" y="323820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658400" y="323820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D428-5102-47BC-A32A-B31C7E4E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0B68D-18CA-4612-AB66-D8EA1C13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8200" y="1552320"/>
            <a:ext cx="6092640" cy="32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95450-515E-41F9-BD0F-980D8006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6092640" cy="32274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B3F3D-84FF-4BE4-85B7-CA4CB954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2972880" cy="32274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60120" y="1552320"/>
            <a:ext cx="2972880" cy="32274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F06D1-993D-4740-A2EC-DFB6DBD5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1980C-5FD1-47A2-8E29-9BD868B3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6092640" cy="32274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E5E-3BF3-4957-A383-093E107E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8200" y="477720"/>
            <a:ext cx="6092640" cy="415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B41FA-D4BC-4A1D-B41A-5987A5B0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60120" y="1552320"/>
            <a:ext cx="2972880" cy="32274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8200" y="323820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788BA-5FFF-4FD6-82D9-E48E9F42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2972880" cy="32274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6012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60120" y="323820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61235-F58D-4C7E-B260-4CE68831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6012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8200" y="3238200"/>
            <a:ext cx="6092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64B2-A3BD-4CBD-AD23-06B5AF48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6092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8200" y="3238200"/>
            <a:ext cx="6092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8884B-CEC0-43BB-A667-339BE539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6012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8200" y="323820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660120" y="323820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1D78-67BF-488C-B81B-EEDF8D5A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598480" y="155232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58400" y="155232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8200" y="323820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598480" y="323820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4658400" y="3238200"/>
            <a:ext cx="1961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0CC3A-AFC2-48E9-BEB7-1A87D29B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2972880" cy="32274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60120" y="1552320"/>
            <a:ext cx="2972880" cy="32274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E17-B451-4FD1-BE0D-E178E41E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01C-26D5-4E9B-BD7E-BAC40731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8200" y="477720"/>
            <a:ext cx="6092640" cy="415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71D-D33A-45F0-8913-2CEDDDE0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60120" y="1552320"/>
            <a:ext cx="2972880" cy="32274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8200" y="323820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47A-2C71-436A-803F-D0528DE9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2972880" cy="32274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6012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60120" y="323820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5C1-0727-40AF-B0C0-6DCE7134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820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60120" y="1552320"/>
            <a:ext cx="297288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200" y="3238200"/>
            <a:ext cx="6092640" cy="1539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83F-E062-4952-9FB8-A6EB603C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8200" y="1552320"/>
            <a:ext cx="6092640" cy="32274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82480" indent="-22356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895320" indent="-1778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-1796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612800" indent="-17928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5" marL="1612800" indent="-17928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6" marL="1612800" indent="-17928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7840" y="4898520"/>
            <a:ext cx="1493640" cy="35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Autofit/>
          </a:bodyPr>
          <a:lstStyle>
            <a:lvl1pPr indent="0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49440" y="4898520"/>
            <a:ext cx="2270160" cy="35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Autofit/>
          </a:bodyPr>
          <a:lstStyle>
            <a:lvl1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36840" y="4898520"/>
            <a:ext cx="1493640" cy="35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fld id="{7B835CF2-EB3B-45CC-BAF0-B739604CAC71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520" y="537840"/>
            <a:ext cx="669600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3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9760" y="1552680"/>
            <a:ext cx="6696000" cy="30477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 fontScale="94000"/>
          </a:bodyPr>
          <a:p>
            <a:pPr marL="252000" indent="-252000">
              <a:spcBef>
                <a:spcPts val="624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lvl="1" marL="547200" indent="-209880">
              <a:spcBef>
                <a:spcPts val="624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lvl="2" marL="841320" indent="-167040">
              <a:spcBef>
                <a:spcPts val="624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lvl="3" marL="1178640" indent="-168840">
              <a:spcBef>
                <a:spcPts val="624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lvl="4" marL="1515960" indent="-168480">
              <a:spcBef>
                <a:spcPts val="624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lvl="5" marL="1515960" indent="-168480">
              <a:spcBef>
                <a:spcPts val="624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lvl="6" marL="1515960" indent="-168480">
              <a:spcBef>
                <a:spcPts val="624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36160" y="4719600"/>
            <a:ext cx="1795320" cy="3729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  <a:defRPr b="0" lang="zh-CN" sz="11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1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449440" y="4719600"/>
            <a:ext cx="2270160" cy="3729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  <a:defRPr b="0" lang="zh-CN" sz="11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1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136840" y="4719600"/>
            <a:ext cx="1795320" cy="3729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  <a:defRPr b="0" lang="zh-CN" sz="11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fld id="{444B1FF3-FA85-45D4-A8D9-5EBF62BE2083}" type="slidenum">
              <a:rPr b="0" lang="zh-CN" sz="11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06440" y="836280"/>
            <a:ext cx="3645000" cy="15526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3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236160" y="4764240"/>
            <a:ext cx="1795320" cy="3729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  <a:defRPr b="0" lang="zh-CN" sz="11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1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2449440" y="4764240"/>
            <a:ext cx="2270160" cy="3729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  <a:defRPr b="0" lang="zh-CN" sz="11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1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5136840" y="4764240"/>
            <a:ext cx="1795320" cy="3729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  <a:defRPr b="0" lang="zh-CN" sz="11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fld id="{5CDCA9D9-7DD6-4D83-9DA8-45087075F0E6}" type="slidenum">
              <a:rPr b="0" lang="zh-CN" sz="11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438520" y="147600"/>
            <a:ext cx="1560600" cy="508176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 vert="eaVert">
            <a:spAutoFit/>
          </a:bodyPr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译书尚未成功，惊闻陨星，中国何人领</a:t>
            </a:r>
            <a:r>
              <a:rPr b="1" lang="zh-CN" sz="31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呐喊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？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319320" y="181080"/>
            <a:ext cx="1560600" cy="499104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先生已经作古，痛忆旧雨，文坛从此感</a:t>
            </a:r>
            <a:r>
              <a:rPr b="1" lang="zh-CN" sz="3100" spc="-1" strike="noStrike">
                <a:solidFill>
                  <a:srgbClr val="0000ff"/>
                </a:solidFill>
                <a:latin typeface="华文行楷"/>
                <a:ea typeface="华文行楷"/>
              </a:rPr>
              <a:t>彷徨</a:t>
            </a:r>
            <a:r>
              <a:rPr b="1" lang="zh-CN" sz="31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！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95440" y="0"/>
            <a:ext cx="419112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71440" y="239760"/>
            <a:ext cx="6697800" cy="621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者还提到了哪几类人？他们在国难中有什么表现？对每一类人作者表达了怎样的情感？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1440" y="2255760"/>
            <a:ext cx="6697800" cy="18957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篇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声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动势力的战斗檄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曲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颂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为了中国而死的中国的青年”的悲壮战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唤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庸人大众的沉重呐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支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激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仁人志士“更奋然而前行”的深沉号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6464160" y="167940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19685" y="10800"/>
                </a:moveTo>
                <a:lnTo>
                  <a:pt x="9180" y="17806"/>
                </a:lnTo>
                <a:lnTo>
                  <a:pt x="9180" y="3794"/>
                </a:lnTo>
                <a:close/>
              </a:path>
              <a:path fill="darken" w="32373" h="21600">
                <a:moveTo>
                  <a:pt x="21531" y="3794"/>
                </a:moveTo>
                <a:lnTo>
                  <a:pt x="21531" y="17806"/>
                </a:lnTo>
                <a:lnTo>
                  <a:pt x="23193" y="17806"/>
                </a:lnTo>
                <a:lnTo>
                  <a:pt x="23193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254240"/>
            <a:ext cx="2209680" cy="3882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60520" y="96480"/>
            <a:ext cx="6092640" cy="8967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</a:rPr>
              <a:t>芸芸众生都几许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800" y="1254240"/>
            <a:ext cx="2390760" cy="3705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spcBef>
                <a:spcPts val="624"/>
              </a:spcBef>
              <a:buClr>
                <a:srgbClr val="ff0000"/>
              </a:buClr>
              <a:buFont typeface="Times New Roman"/>
              <a:buChar char="•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爱国青年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24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500" spc="-1" strike="noStrike">
                <a:solidFill>
                  <a:srgbClr val="cc00ff"/>
                </a:solidFill>
                <a:latin typeface="Times New Roman"/>
              </a:rPr>
              <a:t>欣然请愿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spcBef>
                <a:spcPts val="624"/>
              </a:spcBef>
              <a:buClr>
                <a:srgbClr val="ff0000"/>
              </a:buClr>
              <a:buFont typeface="Times New Roman"/>
              <a:buChar char="•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反动势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24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spcBef>
                <a:spcPts val="624"/>
              </a:spcBef>
              <a:buClr>
                <a:srgbClr val="ff0000"/>
              </a:buClr>
              <a:buFont typeface="Times New Roman"/>
              <a:buChar char="•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庸人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24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500" spc="-1" strike="noStrike">
                <a:solidFill>
                  <a:srgbClr val="cc00ff"/>
                </a:solidFill>
                <a:latin typeface="Times New Roman"/>
              </a:rPr>
              <a:t>饭后谈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spcBef>
                <a:spcPts val="624"/>
              </a:spcBef>
              <a:buClr>
                <a:srgbClr val="ff0000"/>
              </a:buClr>
              <a:buFont typeface="Times New Roman"/>
              <a:buChar char="•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苟活者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24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500" spc="-1" strike="noStrike">
                <a:solidFill>
                  <a:srgbClr val="cc00ff"/>
                </a:solidFill>
                <a:latin typeface="Times New Roman"/>
              </a:rPr>
              <a:t>微茫的希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689200" y="1254240"/>
            <a:ext cx="2389320" cy="598320"/>
            <a:chOff x="2689200" y="1254240"/>
            <a:chExt cx="2389320" cy="598320"/>
          </a:xfrm>
        </p:grpSpPr>
        <p:sp>
          <p:nvSpPr>
            <p:cNvPr id="159" name=""/>
            <p:cNvSpPr/>
            <p:nvPr/>
          </p:nvSpPr>
          <p:spPr>
            <a:xfrm>
              <a:off x="2689200" y="1254240"/>
              <a:ext cx="2389320" cy="598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8600" y="1314000"/>
              <a:ext cx="22701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以刘和珍、杨德群、张静淑为代表的情愿群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689200" y="3225960"/>
            <a:ext cx="2389320" cy="896400"/>
            <a:chOff x="2689200" y="3225960"/>
            <a:chExt cx="2389320" cy="896400"/>
          </a:xfrm>
        </p:grpSpPr>
        <p:sp>
          <p:nvSpPr>
            <p:cNvPr id="162" name=""/>
            <p:cNvSpPr/>
            <p:nvPr/>
          </p:nvSpPr>
          <p:spPr>
            <a:xfrm>
              <a:off x="2689200" y="3225960"/>
              <a:ext cx="2389320" cy="89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8600" y="3225960"/>
              <a:ext cx="19713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无恶意的闲人、麻木的民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689200" y="4122720"/>
            <a:ext cx="2389320" cy="1014480"/>
            <a:chOff x="2689200" y="4122720"/>
            <a:chExt cx="2389320" cy="1014480"/>
          </a:xfrm>
        </p:grpSpPr>
        <p:sp>
          <p:nvSpPr>
            <p:cNvPr id="165" name=""/>
            <p:cNvSpPr/>
            <p:nvPr/>
          </p:nvSpPr>
          <p:spPr>
            <a:xfrm>
              <a:off x="2689200" y="4122720"/>
              <a:ext cx="2389320" cy="1014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89200" y="4480560"/>
              <a:ext cx="1792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有正义感的知识分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689200" y="1792440"/>
            <a:ext cx="2389320" cy="1480320"/>
            <a:chOff x="2689200" y="1792440"/>
            <a:chExt cx="2389320" cy="1480320"/>
          </a:xfrm>
        </p:grpSpPr>
        <p:sp>
          <p:nvSpPr>
            <p:cNvPr id="168" name=""/>
            <p:cNvSpPr/>
            <p:nvPr/>
          </p:nvSpPr>
          <p:spPr>
            <a:xfrm>
              <a:off x="2689200" y="1852200"/>
              <a:ext cx="2389320" cy="1374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07160" y="1852200"/>
              <a:ext cx="119520" cy="1134720"/>
            </a:xfrm>
            <a:custGeom>
              <a:avLst/>
              <a:gdLst>
                <a:gd name="textAreaLeft" fmla="*/ 76320 w 119520"/>
                <a:gd name="textAreaRight" fmla="*/ 119880 w 119520"/>
                <a:gd name="textAreaTop" fmla="*/ 29520 h 1134720"/>
                <a:gd name="textAreaBottom" fmla="*/ 1105200 h 113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46200" y="1792440"/>
              <a:ext cx="16128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段祺瑞政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46200" y="2270160"/>
              <a:ext cx="16128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八国联军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46200" y="2748240"/>
              <a:ext cx="16128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帮闲文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79720" y="1852200"/>
              <a:ext cx="59760" cy="597240"/>
            </a:xfrm>
            <a:custGeom>
              <a:avLst/>
              <a:gdLst>
                <a:gd name="textAreaLeft" fmla="*/ 0 w 59760"/>
                <a:gd name="textAreaRight" fmla="*/ 21600 w 59760"/>
                <a:gd name="textAreaTop" fmla="*/ 15480 h 597240"/>
                <a:gd name="textAreaBottom" fmla="*/ 581760 h 59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05960" y="2987280"/>
              <a:ext cx="1493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zh-CN" sz="1400" spc="-1" strike="noStrike">
                  <a:solidFill>
                    <a:srgbClr val="cc00ff"/>
                  </a:solidFill>
                  <a:latin typeface="Arial"/>
                </a:rPr>
                <a:t>散布流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46200" y="2031480"/>
              <a:ext cx="1493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zh-CN" sz="1400" spc="-1" strike="noStrike">
                  <a:solidFill>
                    <a:srgbClr val="cc00ff"/>
                  </a:solidFill>
                  <a:latin typeface="Arial"/>
                </a:rPr>
                <a:t>开枪杀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616720" y="4241880"/>
            <a:ext cx="1373040" cy="657000"/>
            <a:chOff x="5616720" y="4241880"/>
            <a:chExt cx="1373040" cy="657000"/>
          </a:xfrm>
        </p:grpSpPr>
        <p:sp>
          <p:nvSpPr>
            <p:cNvPr id="177" name=""/>
            <p:cNvSpPr/>
            <p:nvPr/>
          </p:nvSpPr>
          <p:spPr>
            <a:xfrm>
              <a:off x="5616720" y="4241880"/>
              <a:ext cx="1373040" cy="657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34320" y="4420800"/>
              <a:ext cx="6566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zh-CN" sz="2000" spc="-1" strike="noStrike">
                  <a:solidFill>
                    <a:srgbClr val="0066ff"/>
                  </a:solidFill>
                  <a:latin typeface="Arial"/>
                </a:rPr>
                <a:t>剖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616720" y="3405240"/>
            <a:ext cx="1373040" cy="657000"/>
            <a:chOff x="5616720" y="3405240"/>
            <a:chExt cx="1373040" cy="657000"/>
          </a:xfrm>
        </p:grpSpPr>
        <p:sp>
          <p:nvSpPr>
            <p:cNvPr id="180" name=""/>
            <p:cNvSpPr/>
            <p:nvPr/>
          </p:nvSpPr>
          <p:spPr>
            <a:xfrm>
              <a:off x="5616720" y="3405240"/>
              <a:ext cx="1373040" cy="657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34320" y="3584160"/>
              <a:ext cx="6566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zh-CN" sz="2000" spc="-1" strike="noStrike">
                  <a:solidFill>
                    <a:srgbClr val="0066ff"/>
                  </a:solidFill>
                  <a:latin typeface="Arial"/>
                </a:rPr>
                <a:t>警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616720" y="2629080"/>
            <a:ext cx="1373040" cy="657000"/>
            <a:chOff x="5616720" y="2629080"/>
            <a:chExt cx="1373040" cy="657000"/>
          </a:xfrm>
        </p:grpSpPr>
        <p:sp>
          <p:nvSpPr>
            <p:cNvPr id="183" name=""/>
            <p:cNvSpPr/>
            <p:nvPr/>
          </p:nvSpPr>
          <p:spPr>
            <a:xfrm>
              <a:off x="5616720" y="2629080"/>
              <a:ext cx="1373040" cy="657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4320" y="2808000"/>
              <a:ext cx="6566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zh-CN" sz="2000" spc="-1" strike="noStrike">
                  <a:solidFill>
                    <a:srgbClr val="0066ff"/>
                  </a:solidFill>
                  <a:latin typeface="Arial"/>
                </a:rPr>
                <a:t>怒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600880" y="1897200"/>
            <a:ext cx="1373040" cy="657000"/>
            <a:chOff x="5600880" y="1897200"/>
            <a:chExt cx="1373040" cy="657000"/>
          </a:xfrm>
        </p:grpSpPr>
        <p:sp>
          <p:nvSpPr>
            <p:cNvPr id="186" name=""/>
            <p:cNvSpPr/>
            <p:nvPr/>
          </p:nvSpPr>
          <p:spPr>
            <a:xfrm>
              <a:off x="5600880" y="1897200"/>
              <a:ext cx="1373040" cy="657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18480" y="2076120"/>
              <a:ext cx="6566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zh-CN" sz="2000" spc="-1" strike="noStrike">
                  <a:solidFill>
                    <a:srgbClr val="0066ff"/>
                  </a:solidFill>
                  <a:latin typeface="Arial"/>
                </a:rPr>
                <a:t>控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19160" y="1852560"/>
            <a:ext cx="1852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600880" y="1176480"/>
            <a:ext cx="1373040" cy="657000"/>
            <a:chOff x="5600880" y="1176480"/>
            <a:chExt cx="1373040" cy="657000"/>
          </a:xfrm>
        </p:grpSpPr>
        <p:grpSp>
          <p:nvGrpSpPr>
            <p:cNvPr id="190" name=""/>
            <p:cNvGrpSpPr/>
            <p:nvPr/>
          </p:nvGrpSpPr>
          <p:grpSpPr>
            <a:xfrm>
              <a:off x="5600880" y="1176480"/>
              <a:ext cx="1373040" cy="657000"/>
              <a:chOff x="5600880" y="1176480"/>
              <a:chExt cx="1373040" cy="657000"/>
            </a:xfrm>
          </p:grpSpPr>
          <p:sp>
            <p:nvSpPr>
              <p:cNvPr id="191" name=""/>
              <p:cNvSpPr/>
              <p:nvPr/>
            </p:nvSpPr>
            <p:spPr>
              <a:xfrm>
                <a:off x="5600880" y="1176480"/>
                <a:ext cx="1373040" cy="65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018480" y="1355400"/>
                <a:ext cx="656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640" rIns="71640" tIns="36000" bIns="36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5961240" y="1320840"/>
              <a:ext cx="8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zh-CN" sz="2000" spc="-1" strike="noStrike">
                  <a:solidFill>
                    <a:srgbClr val="0066ff"/>
                  </a:solidFill>
                  <a:latin typeface="Times New Roman"/>
                </a:rPr>
                <a:t>激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849400" y="0"/>
            <a:ext cx="186372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含英咀华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5" name=""/>
          <p:cNvSpPr/>
          <p:nvPr/>
        </p:nvSpPr>
        <p:spPr>
          <a:xfrm>
            <a:off x="196920" y="1104840"/>
            <a:ext cx="697212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2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200" spc="-1" strike="noStrike">
                <a:solidFill>
                  <a:srgbClr val="6600cc"/>
                </a:solidFill>
                <a:latin typeface="黑体"/>
                <a:ea typeface="黑体"/>
              </a:rPr>
              <a:t>1</a:t>
            </a:r>
            <a:r>
              <a:rPr b="1" lang="zh-CN" sz="2200" spc="-1" strike="noStrike">
                <a:solidFill>
                  <a:srgbClr val="6600cc"/>
                </a:solidFill>
                <a:latin typeface="黑体"/>
                <a:ea typeface="黑体"/>
              </a:rPr>
              <a:t>、作者一方面说，“我也早觉得有写一点东西的必要了”，另一方面又说“可是我实在无话可说”，类似的话文中一共有八处，请找出来，体会作者每处的用意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黑体"/>
                <a:ea typeface="黑体"/>
              </a:rPr>
              <a:t>  </a:t>
            </a:r>
            <a:r>
              <a:rPr b="1" lang="zh-CN" sz="22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2200" spc="-1" strike="noStrike">
                <a:solidFill>
                  <a:srgbClr val="cc0000"/>
                </a:solidFill>
                <a:latin typeface="黑体"/>
                <a:ea typeface="黑体"/>
              </a:rPr>
              <a:t>、“真的猛士，敢于直面惨淡的人生，敢于正视淋漓的鲜血。这是怎样的哀痛者和幸福者？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黑体"/>
                <a:ea typeface="黑体"/>
              </a:rPr>
              <a:t>        “</a:t>
            </a:r>
            <a:r>
              <a:rPr b="1" lang="zh-CN" sz="2200" spc="-1" strike="noStrike">
                <a:solidFill>
                  <a:srgbClr val="cc0000"/>
                </a:solidFill>
                <a:latin typeface="黑体"/>
                <a:ea typeface="黑体"/>
              </a:rPr>
              <a:t>哀痛者和幸福者”矛盾吗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黑体"/>
                <a:ea typeface="黑体"/>
              </a:rPr>
              <a:t>  </a:t>
            </a:r>
            <a:r>
              <a:rPr b="1" lang="zh-CN" sz="2200" spc="-1" strike="noStrike">
                <a:solidFill>
                  <a:srgbClr val="006600"/>
                </a:solidFill>
                <a:latin typeface="黑体"/>
                <a:ea typeface="黑体"/>
              </a:rPr>
              <a:t>3</a:t>
            </a:r>
            <a:r>
              <a:rPr b="1" lang="zh-CN" sz="2200" spc="-1" strike="noStrike">
                <a:solidFill>
                  <a:srgbClr val="006600"/>
                </a:solidFill>
                <a:latin typeface="黑体"/>
                <a:ea typeface="黑体"/>
              </a:rPr>
              <a:t>、品味第四节最后一段，思考：</a:t>
            </a:r>
            <a:r>
              <a:rPr b="1" lang="zh-CN" sz="1900" spc="-1" strike="noStrike">
                <a:solidFill>
                  <a:srgbClr val="006600"/>
                </a:solidFill>
                <a:latin typeface="黑体"/>
                <a:ea typeface="黑体"/>
              </a:rPr>
              <a:t>①</a:t>
            </a:r>
            <a:r>
              <a:rPr b="1" lang="zh-CN" sz="2200" spc="-1" strike="noStrike">
                <a:solidFill>
                  <a:srgbClr val="006600"/>
                </a:solidFill>
                <a:latin typeface="黑体"/>
                <a:ea typeface="黑体"/>
              </a:rPr>
              <a:t>衰亡民族默无声息的缘由是什么？</a:t>
            </a:r>
            <a:r>
              <a:rPr b="1" lang="zh-CN" sz="1900" spc="-1" strike="noStrike">
                <a:solidFill>
                  <a:srgbClr val="006600"/>
                </a:solidFill>
                <a:latin typeface="黑体"/>
                <a:ea typeface="黑体"/>
              </a:rPr>
              <a:t>②</a:t>
            </a:r>
            <a:r>
              <a:rPr b="1" lang="zh-CN" sz="2200" spc="-1" strike="noStrike">
                <a:solidFill>
                  <a:srgbClr val="006600"/>
                </a:solidFill>
                <a:latin typeface="黑体"/>
                <a:ea typeface="黑体"/>
              </a:rPr>
              <a:t>鲁迅先生的“我还有什么话可说呢”的沉默和“衰亡民族”的“默无声息”一样吗？③如何理解“不在沉默中爆发</a:t>
            </a:r>
            <a:r>
              <a:rPr b="1" lang="zh-CN" sz="2200" spc="-1" strike="noStrike">
                <a:solidFill>
                  <a:srgbClr val="006600"/>
                </a:solidFill>
                <a:latin typeface="黑体"/>
                <a:ea typeface="黑体"/>
              </a:rPr>
              <a:t>,</a:t>
            </a:r>
            <a:r>
              <a:rPr b="1" lang="zh-CN" sz="2200" spc="-1" strike="noStrike">
                <a:solidFill>
                  <a:srgbClr val="006600"/>
                </a:solidFill>
                <a:latin typeface="黑体"/>
                <a:ea typeface="黑体"/>
              </a:rPr>
              <a:t>就在沉默中灭亡”</a:t>
            </a:r>
            <a:r>
              <a:rPr b="0" lang="zh-CN" sz="22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1" lang="zh-CN" sz="2200" spc="-1" strike="noStrike">
                <a:solidFill>
                  <a:srgbClr val="006600"/>
                </a:solidFill>
                <a:latin typeface="黑体"/>
                <a:ea typeface="黑体"/>
              </a:rPr>
              <a:t>这句话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71440" y="312840"/>
            <a:ext cx="122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思考探究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4160" y="731880"/>
            <a:ext cx="649116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2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除了要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悼念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在惨案中牺牲的爱国者刘和珍等人外，更深远的意义是在于述评“三</a:t>
            </a:r>
            <a:r>
              <a:rPr b="1" lang="zh-CN" sz="19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一八”惨案，以此来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鼓励生者、激励猛士，揭露敌人，唤醒庸人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，评述惨案的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教训和意义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等。而纪念刘和珍正是本文写作目的的切入点。鲁迅先生借记念刘和珍作为切入的角度，笔触涉及了三个方面的对象，即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爱国青年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、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反动势力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以及处在中间状态的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“庸人”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，在对三者的分析中表明了自己的立场、观点和态度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89080" y="147600"/>
            <a:ext cx="4952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500" spc="-1" strike="noStrike">
                <a:solidFill>
                  <a:srgbClr val="6600cc"/>
                </a:solidFill>
                <a:latin typeface="Times New Roman"/>
                <a:ea typeface="黑体"/>
              </a:rPr>
              <a:t>鲁迅先生写作本文的意图是</a:t>
            </a:r>
            <a:r>
              <a:rPr b="1" lang="zh-CN" sz="2500" spc="-1" strike="noStrike">
                <a:solidFill>
                  <a:srgbClr val="6600cc"/>
                </a:solidFill>
                <a:latin typeface="Times New Roman"/>
                <a:ea typeface="黑体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8520" y="0"/>
            <a:ext cx="1003320" cy="777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57360" y="3581280"/>
            <a:ext cx="15523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爱国青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7360" y="4792680"/>
            <a:ext cx="137448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反动势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6760" y="4172040"/>
            <a:ext cx="7765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庸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54440" y="3522600"/>
            <a:ext cx="1353960" cy="478080"/>
          </a:xfrm>
          <a:custGeom>
            <a:avLst/>
            <a:gdLst>
              <a:gd name="textAreaLeft" fmla="*/ 318240 w 1353960"/>
              <a:gd name="textAreaRight" fmla="*/ 1035000 w 1353960"/>
              <a:gd name="textAreaTop" fmla="*/ 56160 h 478080"/>
              <a:gd name="textAreaBottom" fmla="*/ 299880 h 47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33ff">
              <a:alpha val="78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6000" bIns="36000" anchor="ctr">
            <a:noAutofit/>
          </a:bodyPr>
          <a:p>
            <a:pPr algn="ctr"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Times New Roman"/>
                <a:ea typeface="黑体"/>
              </a:rPr>
              <a:t>悼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228760" y="3747960"/>
            <a:ext cx="1015560" cy="1314360"/>
            <a:chOff x="2228760" y="3747960"/>
            <a:chExt cx="1015560" cy="1314360"/>
          </a:xfrm>
        </p:grpSpPr>
        <p:sp>
          <p:nvSpPr>
            <p:cNvPr id="205" name=""/>
            <p:cNvSpPr/>
            <p:nvPr/>
          </p:nvSpPr>
          <p:spPr>
            <a:xfrm>
              <a:off x="2288160" y="3747960"/>
              <a:ext cx="956160" cy="119160"/>
            </a:xfrm>
            <a:prstGeom prst="leftRightArrow">
              <a:avLst>
                <a:gd name="adj1" fmla="val 50000"/>
                <a:gd name="adj2" fmla="val 15974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28760" y="4285440"/>
              <a:ext cx="955800" cy="119160"/>
            </a:xfrm>
            <a:prstGeom prst="leftRightArrow">
              <a:avLst>
                <a:gd name="adj1" fmla="val 50000"/>
                <a:gd name="adj2" fmla="val 15968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28760" y="4942800"/>
              <a:ext cx="955800" cy="119520"/>
            </a:xfrm>
            <a:prstGeom prst="leftRightArrow">
              <a:avLst>
                <a:gd name="adj1" fmla="val 50000"/>
                <a:gd name="adj2" fmla="val 15919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09880" y="4183200"/>
            <a:ext cx="1241640" cy="29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6000" bIns="36000" anchor="ctr">
            <a:noAutofit/>
          </a:bodyPr>
          <a:p>
            <a:pPr algn="ctr"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Times New Roman"/>
                <a:ea typeface="黑体"/>
              </a:rPr>
              <a:t>唤醒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803840"/>
            <a:ext cx="1355760" cy="419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6000" bIns="36000" anchor="ctr">
            <a:noAutofit/>
          </a:bodyPr>
          <a:p>
            <a:pPr algn="ctr"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Times New Roman"/>
                <a:ea typeface="黑体"/>
              </a:rPr>
              <a:t>控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8200" y="3701880"/>
            <a:ext cx="179280" cy="1433520"/>
          </a:xfrm>
          <a:custGeom>
            <a:avLst/>
            <a:gdLst>
              <a:gd name="textAreaLeft" fmla="*/ 114480 w 179280"/>
              <a:gd name="textAreaRight" fmla="*/ 179640 w 179280"/>
              <a:gd name="textAreaTop" fmla="*/ 37080 h 1433520"/>
              <a:gd name="textAreaBottom" fmla="*/ 1396440 h 14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495760" y="3768840"/>
            <a:ext cx="1673280" cy="14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71440" y="3336840"/>
            <a:ext cx="6550200" cy="110772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死者倘不埋在活人心中，那就真的死掉了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—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迅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1440" y="455760"/>
            <a:ext cx="6626160" cy="106884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记念刘和珍君》真是一字一血泪，是用血泪写出了心坎里的同声一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许广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84520" y="1679400"/>
            <a:ext cx="3030480" cy="3522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71440" y="168120"/>
            <a:ext cx="662616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请你为刘和珍写一幅挽联，以寄哀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890720" y="542880"/>
            <a:ext cx="3500280" cy="4121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663520" y="204840"/>
            <a:ext cx="1088280" cy="4910040"/>
          </a:xfrm>
          <a:prstGeom prst="rect">
            <a:avLst/>
          </a:prstGeom>
          <a:noFill/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华文行楷"/>
                <a:ea typeface="华文行楷"/>
              </a:rPr>
              <a:t>赴国难真猛士显真精神，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1960" y="147600"/>
            <a:ext cx="615960" cy="5081760"/>
          </a:xfrm>
          <a:prstGeom prst="rect">
            <a:avLst/>
          </a:prstGeom>
          <a:noFill/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悼芳魂小女子铸大勇毅。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890720" y="938160"/>
            <a:ext cx="3500280" cy="41212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70320" y="825480"/>
            <a:ext cx="1667160" cy="4289400"/>
          </a:xfrm>
          <a:prstGeom prst="rect">
            <a:avLst/>
          </a:prstGeom>
          <a:noFill/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死了倒也罢了</a:t>
            </a:r>
            <a:r>
              <a:rPr b="1" lang="zh-CN" sz="25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华文行楷"/>
                <a:ea typeface="华文行楷"/>
              </a:rPr>
              <a:t>若不想到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位有老母倚闾</a:t>
            </a:r>
            <a:r>
              <a:rPr b="1" lang="zh-CN" sz="25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亲朋盼信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6280" y="907920"/>
            <a:ext cx="905400" cy="4264200"/>
          </a:xfrm>
          <a:prstGeom prst="rect">
            <a:avLst/>
          </a:prstGeom>
          <a:noFill/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行楷"/>
                <a:ea typeface="华文行楷"/>
              </a:rPr>
              <a:t>活着又怎么着</a:t>
            </a:r>
            <a:r>
              <a:rPr b="1" lang="zh-CN" sz="25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非多经几番的枪声震耳</a:t>
            </a:r>
            <a:r>
              <a:rPr b="1" lang="zh-CN" sz="25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弹雨淋头。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99800" y="312480"/>
            <a:ext cx="4392360" cy="482436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txBody>
          <a:bodyPr lIns="71640" rIns="71640" tIns="36000" bIns="36000" anchor="t">
            <a:normAutofit/>
          </a:bodyPr>
          <a:p>
            <a:pPr marL="26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鲁迅，原名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周树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浙江绍兴人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去日本留学，原在仙台医学院学医，后目睹中国人的麻木愚昧，遂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弃医从文，立志于医治国民精神上的疾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代表作有：小说集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《呐喊》、《彷徨》、《故事新编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散文集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朝花夕拾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散文诗集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《野草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杂文集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坟》、《南腔北调集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79800" y="671400"/>
            <a:ext cx="22892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1600" y="167760"/>
            <a:ext cx="6337080" cy="520884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txBody>
          <a:bodyPr lIns="71640" rIns="71640" tIns="36000" bIns="36000"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鲁迅是中国文化革命的主将，他不但是伟大的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文学家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而且是伟大的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思想家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伟大的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革命家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他的骨头是最硬的，他没有丝毫的奴颜和媚骨。 他是一位高明的医生，是一面旗帜，一盏明灯。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他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  <a:ea typeface="黑体"/>
              </a:rPr>
              <a:t>以笔代戈，战斗一生，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他时刻以深沉的情怀、睿智的目光关注着我们民族的生存状态和精神世界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他为民众的精神麻木而痛苦，他为民族的命运而担忧，他为青年一代的成长而费心。当他辞世时，宋庆龄亲自绣了“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民族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”三个字盖在他的身上。这是对鲁迅一生的高度评价，也是苦难的中国人民对这位向着敌人冲锋陷阵的斗士最高的褒奖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  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人说，鲁迅离我们太遥远，可北大教授钱理群说，鲁迅永远不会过时！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读鲁迅吧，你会感动于他不断呐喊为民请命的执着精神，你会经受一次次精神上的洗礼，你会变得深刻，你会越来越睿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0" y="37512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永远的斗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69040" cy="5376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298800" y="477360"/>
            <a:ext cx="5435640" cy="1135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4700" spc="-1" strike="noStrike">
                <a:solidFill>
                  <a:srgbClr val="ff0000"/>
                </a:solidFill>
                <a:latin typeface="Times New Roman"/>
              </a:rPr>
              <a:t>记 念 刘 和 珍 君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181400" y="3465000"/>
            <a:ext cx="1913040" cy="9558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鲁  迅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256860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556240" y="4719600"/>
            <a:ext cx="14335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900" spc="-1" strike="noStrike">
                <a:solidFill>
                  <a:srgbClr val="66ff33"/>
                </a:solidFill>
                <a:latin typeface="Arial"/>
                <a:ea typeface="隶书"/>
              </a:rPr>
              <a:t>三</a:t>
            </a:r>
            <a:r>
              <a:rPr b="1" lang="zh-CN" sz="1900" spc="-1" strike="noStrike">
                <a:solidFill>
                  <a:srgbClr val="66ff33"/>
                </a:solidFill>
                <a:latin typeface="Arial"/>
                <a:ea typeface="隶书"/>
              </a:rPr>
              <a:t>·</a:t>
            </a:r>
            <a:r>
              <a:rPr b="1" lang="zh-CN" sz="1900" spc="-1" strike="noStrike">
                <a:solidFill>
                  <a:srgbClr val="66ff33"/>
                </a:solidFill>
                <a:latin typeface="Arial"/>
                <a:ea typeface="隶书"/>
              </a:rPr>
              <a:t>一八惨案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808520" y="0"/>
            <a:ext cx="2360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398680" y="0"/>
            <a:ext cx="220176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预习检测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6" name=""/>
          <p:cNvSpPr/>
          <p:nvPr/>
        </p:nvSpPr>
        <p:spPr>
          <a:xfrm>
            <a:off x="309600" y="770040"/>
            <a:ext cx="669924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寥落         长歌当哭        菲薄        洗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赁屋         黯然泣下        喋血        蹀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屠戮         殒身不恤        绯红        不惮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浸渍         惩创                尸骸        桀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攒射         立仆           抹杀      托体同山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398680" y="0"/>
            <a:ext cx="22017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预习检测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8" name=""/>
          <p:cNvSpPr/>
          <p:nvPr/>
        </p:nvSpPr>
        <p:spPr>
          <a:xfrm>
            <a:off x="196920" y="655560"/>
            <a:ext cx="669924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liáo                        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ng               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i                     d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落         长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哭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薄        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lìn                  àn                          dié               di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屋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然泣下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lù              yǔn                        fēi                    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身不恤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红        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zì                chuāng                      hái         jié   à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惩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桀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Cuán                 pū                mǒ                                  ē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射         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杀      托体同山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955440"/>
            <a:ext cx="7169040" cy="38480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76"/>
              </a:spcBef>
              <a:buClr>
                <a:srgbClr val="00ffff"/>
              </a:buClr>
              <a:buFont typeface="华文行楷"/>
              <a:buChar char="•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900" spc="-1" strike="noStrike">
                <a:solidFill>
                  <a:srgbClr val="00ffff"/>
                </a:solidFill>
                <a:latin typeface="华文行楷"/>
                <a:ea typeface="华文行楷"/>
              </a:rPr>
              <a:t>1926</a:t>
            </a:r>
            <a:r>
              <a:rPr b="0" lang="zh-CN" sz="1900" spc="-1" strike="noStrike">
                <a:solidFill>
                  <a:srgbClr val="00ffff"/>
                </a:solidFill>
                <a:latin typeface="华文行楷"/>
                <a:ea typeface="华文行楷"/>
              </a:rPr>
              <a:t>年</a:t>
            </a:r>
            <a:r>
              <a:rPr b="0" lang="zh-CN" sz="1900" spc="-1" strike="noStrike">
                <a:solidFill>
                  <a:srgbClr val="00ffff"/>
                </a:solidFill>
                <a:latin typeface="华文行楷"/>
                <a:ea typeface="华文行楷"/>
              </a:rPr>
              <a:t>3</a:t>
            </a:r>
            <a:r>
              <a:rPr b="0" lang="zh-CN" sz="1900" spc="-1" strike="noStrike">
                <a:solidFill>
                  <a:srgbClr val="00ffff"/>
                </a:solidFill>
                <a:latin typeface="华文行楷"/>
                <a:ea typeface="华文行楷"/>
              </a:rPr>
              <a:t>月，奉军在日帝支持下进兵关内，冯玉祥率国民军队同奉军作战。日帝公开援助奉军，派军舰驶入大沽口，并炮击国民军，守军死伤十余名。国民军开炮还击，将日本军舰逐出大沽口。事后，日本纠集英、美、法、意、荷、比、西等</a:t>
            </a:r>
            <a:r>
              <a:rPr b="0" lang="zh-CN" sz="1900" spc="-1" strike="noStrike">
                <a:solidFill>
                  <a:srgbClr val="00ffff"/>
                </a:solidFill>
                <a:latin typeface="华文行楷"/>
                <a:ea typeface="华文行楷"/>
              </a:rPr>
              <a:t>8</a:t>
            </a:r>
            <a:r>
              <a:rPr b="0" lang="zh-CN" sz="1900" spc="-1" strike="noStrike">
                <a:solidFill>
                  <a:srgbClr val="00ffff"/>
                </a:solidFill>
                <a:latin typeface="华文行楷"/>
                <a:ea typeface="华文行楷"/>
              </a:rPr>
              <a:t>国公使，于</a:t>
            </a:r>
            <a:r>
              <a:rPr b="0" lang="zh-CN" sz="1900" spc="-1" strike="noStrike">
                <a:solidFill>
                  <a:srgbClr val="00ffff"/>
                </a:solidFill>
                <a:latin typeface="华文行楷"/>
                <a:ea typeface="华文行楷"/>
              </a:rPr>
              <a:t>16</a:t>
            </a:r>
            <a:r>
              <a:rPr b="0" lang="zh-CN" sz="1900" spc="-1" strike="noStrike">
                <a:solidFill>
                  <a:srgbClr val="00ffff"/>
                </a:solidFill>
                <a:latin typeface="华文行楷"/>
                <a:ea typeface="华文行楷"/>
              </a:rPr>
              <a:t>日向北洋军阀段祺瑞执政府发出最后通牒，提出拆除大沽口国防设施等种种无理的要求，并限令</a:t>
            </a:r>
            <a:r>
              <a:rPr b="0" lang="zh-CN" sz="1900" spc="-1" strike="noStrike">
                <a:solidFill>
                  <a:srgbClr val="00ffff"/>
                </a:solidFill>
                <a:latin typeface="华文行楷"/>
                <a:ea typeface="华文行楷"/>
              </a:rPr>
              <a:t>48</a:t>
            </a:r>
            <a:r>
              <a:rPr b="0" lang="zh-CN" sz="1900" spc="-1" strike="noStrike">
                <a:solidFill>
                  <a:srgbClr val="00ffff"/>
                </a:solidFill>
                <a:latin typeface="华文行楷"/>
                <a:ea typeface="华文行楷"/>
              </a:rPr>
              <a:t>小时内答复，否则以武力解决。同时各国派军舰云集大沽口，用武力威胁北洋政府。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80000"/>
              </a:lnSpc>
              <a:spcBef>
                <a:spcPts val="476"/>
              </a:spcBef>
              <a:buClr>
                <a:srgbClr val="00ffff"/>
              </a:buClr>
              <a:buFont typeface="华文行楷"/>
              <a:buChar char="•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900" spc="-1" strike="noStrike">
                <a:solidFill>
                  <a:srgbClr val="00ffff"/>
                </a:solidFill>
                <a:latin typeface="华文行楷"/>
                <a:ea typeface="华文行楷"/>
              </a:rPr>
              <a:t>天津大沽口事件激起中国人民极大愤慨。 </a:t>
            </a:r>
            <a:r>
              <a:rPr b="0" lang="zh-CN" sz="1900" spc="-1" strike="noStrike">
                <a:solidFill>
                  <a:srgbClr val="00ffff"/>
                </a:solidFill>
                <a:latin typeface="华文行楷"/>
                <a:ea typeface="华文行楷"/>
              </a:rPr>
              <a:t>1926</a:t>
            </a:r>
            <a:r>
              <a:rPr b="0" lang="zh-CN" sz="1900" spc="-1" strike="noStrike">
                <a:solidFill>
                  <a:srgbClr val="00ffff"/>
                </a:solidFill>
                <a:latin typeface="华文行楷"/>
                <a:ea typeface="华文行楷"/>
              </a:rPr>
              <a:t>年</a:t>
            </a:r>
            <a:r>
              <a:rPr b="0" lang="zh-CN" sz="1900" spc="-1" strike="noStrike">
                <a:solidFill>
                  <a:srgbClr val="00ffff"/>
                </a:solidFill>
                <a:latin typeface="华文行楷"/>
                <a:ea typeface="华文行楷"/>
              </a:rPr>
              <a:t>3</a:t>
            </a:r>
            <a:r>
              <a:rPr b="0" lang="zh-CN" sz="1900" spc="-1" strike="noStrike">
                <a:solidFill>
                  <a:srgbClr val="00ffff"/>
                </a:solidFill>
                <a:latin typeface="华文行楷"/>
                <a:ea typeface="华文行楷"/>
              </a:rPr>
              <a:t>月</a:t>
            </a:r>
            <a:r>
              <a:rPr b="0" lang="zh-CN" sz="1900" spc="-1" strike="noStrike">
                <a:solidFill>
                  <a:srgbClr val="00ffff"/>
                </a:solidFill>
                <a:latin typeface="华文行楷"/>
                <a:ea typeface="华文行楷"/>
              </a:rPr>
              <a:t>18</a:t>
            </a:r>
            <a:r>
              <a:rPr b="0" lang="zh-CN" sz="1900" spc="-1" strike="noStrike">
                <a:solidFill>
                  <a:srgbClr val="00ffff"/>
                </a:solidFill>
                <a:latin typeface="华文行楷"/>
                <a:ea typeface="华文行楷"/>
              </a:rPr>
              <a:t>日， 中共北方区委</a:t>
            </a:r>
            <a:r>
              <a:rPr b="0" lang="zh-CN" sz="1900" spc="-1" strike="noStrike">
                <a:solidFill>
                  <a:srgbClr val="ff0000"/>
                </a:solidFill>
                <a:latin typeface="华文行楷"/>
                <a:ea typeface="华文行楷"/>
              </a:rPr>
              <a:t>组织北京总工会、学生联合会等</a:t>
            </a:r>
            <a:r>
              <a:rPr b="0" lang="zh-CN" sz="1900" spc="-1" strike="noStrike">
                <a:solidFill>
                  <a:srgbClr val="ff0000"/>
                </a:solidFill>
                <a:latin typeface="华文行楷"/>
                <a:ea typeface="华文行楷"/>
              </a:rPr>
              <a:t>60</a:t>
            </a:r>
            <a:r>
              <a:rPr b="0" lang="zh-CN" sz="19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多个团体和</a:t>
            </a:r>
            <a:r>
              <a:rPr b="0" lang="zh-CN" sz="1900" spc="-1" strike="noStrike">
                <a:solidFill>
                  <a:srgbClr val="ff0000"/>
                </a:solidFill>
                <a:latin typeface="华文行楷"/>
                <a:ea typeface="华文行楷"/>
              </a:rPr>
              <a:t>80</a:t>
            </a:r>
            <a:r>
              <a:rPr b="0" lang="zh-CN" sz="19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多所学校共约</a:t>
            </a:r>
            <a:r>
              <a:rPr b="0" lang="zh-CN" sz="1900" spc="-1" strike="noStrike">
                <a:solidFill>
                  <a:srgbClr val="ff0000"/>
                </a:solidFill>
                <a:latin typeface="华文行楷"/>
                <a:ea typeface="华文行楷"/>
              </a:rPr>
              <a:t>5000</a:t>
            </a:r>
            <a:r>
              <a:rPr b="0" lang="zh-CN" sz="19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多人，在天安门前举行“反对八国最后通牒国民大会”，抗议日本军舰侵入大沽口、炮轰国民军，声讨英美日等八国无理通牒中国的罪行。大会决定：通电全国一致反对八国通牒，驱逐八国公使，废除一切不平等条约；撤退外国军舰，电请国民军为反对帝国主义侵略而战。 会后，群众结队前往段祺瑞执政府请愿。当队伍来到段政府国务院门前时，遭到埋伏的军警排枪射击和大刀砍杀，当场打死</a:t>
            </a:r>
            <a:r>
              <a:rPr b="0" lang="zh-CN" sz="1900" spc="-1" strike="noStrike">
                <a:solidFill>
                  <a:srgbClr val="ff0000"/>
                </a:solidFill>
                <a:latin typeface="华文行楷"/>
                <a:ea typeface="华文行楷"/>
              </a:rPr>
              <a:t>47</a:t>
            </a:r>
            <a:r>
              <a:rPr b="0" lang="zh-CN" sz="19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人，伤</a:t>
            </a:r>
            <a:r>
              <a:rPr b="0" lang="zh-CN" sz="19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zh-CN" sz="19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多人。 鲁迅把这一天称作“民国以来最黑暗的一天”。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25960" y="0"/>
            <a:ext cx="3943080" cy="2816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52960" cy="5376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25960" y="3405240"/>
            <a:ext cx="3943080" cy="1971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538200" y="477720"/>
            <a:ext cx="6092640" cy="89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大沽口事件和三一八惨案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225960" y="1612800"/>
            <a:ext cx="394308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320840"/>
            <a:ext cx="2792520" cy="3605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3584520" y="0"/>
            <a:ext cx="248436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走近刘和珍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7" name=""/>
          <p:cNvSpPr/>
          <p:nvPr/>
        </p:nvSpPr>
        <p:spPr>
          <a:xfrm>
            <a:off x="2720880" y="1220760"/>
            <a:ext cx="44481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文中叙述了刘和珍的哪些事情，从中可以看出刘和珍是怎样一个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92520" y="3121200"/>
            <a:ext cx="42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假如刘和珍的家乡要为刘和珍塑像，请你作设计师，你该如何设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</a:rPr>
              <a:t>（提示：塑像材料、人物姿态、内在神韵）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6808680" y="2328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152880" y="744480"/>
            <a:ext cx="3262320" cy="34560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Arial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向往革命，追求真理，敢于斗争，有责任心，关心母校和国家前途的和蔼可亲的热血青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28520" y="455760"/>
            <a:ext cx="27925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19:00:40Z</dcterms:created>
  <dc:creator>RDFZ</dc:creator>
  <dc:description/>
  <dc:language>en-US</dc:language>
  <cp:lastModifiedBy>Lenovo User</cp:lastModifiedBy>
  <dcterms:modified xsi:type="dcterms:W3CDTF">2009-10-20T02:43:04Z</dcterms:modified>
  <cp:revision>115</cp:revision>
  <dc:subject/>
  <dc:title>PowerPoint 演示文稿</dc:title>
</cp:coreProperties>
</file>