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3.gif" ContentType="image/gif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AC1-C54A-4EFB-BBAC-AEEF6B49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566-EDD1-4843-9676-A5445718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8E6-20B1-46CB-88FE-271B591A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CE7-5BAC-4F96-A1E0-C1F41DE1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3D2-2586-432E-9595-D41C022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EA8-DE8C-40EC-A2F7-8CD11FC7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BE4-71C6-433C-B223-B2EAC857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6A0-51E7-4BC0-A3DD-B99608DC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C1C-3535-49EA-A9A2-EA825888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DB4-80FB-4D1E-BF72-7755E2C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92B-2290-4C29-9937-05AC1085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B1C-F7E2-42F1-A29D-4CB813A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8FD-FD8F-4436-86D6-0D6A3CCD24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rcRect l="0" t="0" r="0" b="115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5400000">
            <a:off x="-1386000" y="2744640"/>
            <a:ext cx="5616720" cy="122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济南的冬天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556000" y="5029200"/>
            <a:ext cx="171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老舍</a:t>
            </a:r>
            <a:endParaRPr b="0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未命名"/>
          <p:cNvPicPr/>
          <p:nvPr/>
        </p:nvPicPr>
        <p:blipFill>
          <a:blip r:embed="rId1"/>
          <a:stretch/>
        </p:blipFill>
        <p:spPr>
          <a:xfrm>
            <a:off x="-14400" y="42840"/>
            <a:ext cx="9172800" cy="6772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23840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山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63000" y="50148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露粉色（害羞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未命名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806840" y="838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薄雪覆盖下的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976280" y="76212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娇美秀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24680" y="1523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（按空间顺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未命名"/>
          <p:cNvPicPr/>
          <p:nvPr/>
        </p:nvPicPr>
        <p:blipFill>
          <a:blip r:embed="rId1"/>
          <a:stretch/>
        </p:blipFill>
        <p:spPr>
          <a:xfrm>
            <a:off x="-14400" y="23760"/>
            <a:ext cx="9172800" cy="6810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67560" y="914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城外远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466360" y="99072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卧 （小水墨画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155360" y="99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素淡雅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未命名"/>
          <p:cNvPicPr/>
          <p:nvPr/>
        </p:nvPicPr>
        <p:blipFill>
          <a:blip r:embed="rId1"/>
          <a:stretch/>
        </p:blipFill>
        <p:spPr>
          <a:xfrm>
            <a:off x="4648320" y="3484440"/>
            <a:ext cx="4495680" cy="337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4724280" cy="3624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6241320" y="5335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Matisse ITC"/>
                <a:ea typeface="黑体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Matisse ITC"/>
                <a:ea typeface="黑体"/>
              </a:rPr>
              <a:t>绿萍、绿水藻、绿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38200" y="41911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Matisse ITC"/>
                <a:ea typeface="黑体"/>
              </a:rPr>
              <a:t>澄清、清亮、蓝汪汪（蓝水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61720" y="495288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“</a:t>
            </a: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活”</a:t>
            </a:r>
            <a:r>
              <a:rPr b="1" lang="en-US" sz="2800" spc="-1" strike="noStrike">
                <a:solidFill>
                  <a:srgbClr val="3366ff"/>
                </a:solidFill>
                <a:latin typeface="Arial Black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冬水清澈通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425200" y="198108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“</a:t>
            </a: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绿”</a:t>
            </a:r>
            <a:r>
              <a:rPr b="1" lang="en-US" sz="2800" spc="-1" strike="noStrike">
                <a:solidFill>
                  <a:srgbClr val="3366ff"/>
                </a:solidFill>
                <a:latin typeface="Arial Black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冬水温暖多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富于生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3809880" y="2133720"/>
            <a:ext cx="1752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ddd303"/>
                    </a:gs>
                    <a:gs pos="50000">
                      <a:srgbClr val="ff6600"/>
                    </a:gs>
                    <a:gs pos="100000">
                      <a:srgbClr val="ddd303"/>
                    </a:gs>
                  </a:gsLst>
                  <a:lin ang="2700000"/>
                </a:gradFill>
                <a:latin typeface="隶书"/>
              </a:rPr>
              <a:t>冬水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ddd303"/>
                  </a:gs>
                  <a:gs pos="50000">
                    <a:srgbClr val="ff6600"/>
                  </a:gs>
                  <a:gs pos="100000">
                    <a:srgbClr val="ddd303"/>
                  </a:gs>
                </a:gsLst>
                <a:lin ang="2700000"/>
              </a:gradFill>
              <a:latin typeface="隶书"/>
              <a:ea typeface="隶书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60360" y="1219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 Black"/>
                <a:ea typeface="黑体"/>
              </a:rPr>
              <a:t>（衬托水的绿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五：理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---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三幅山景图，还写了水色，各突出什么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阳光朗照下的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薄雪覆盖下的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具体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城外的远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--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具体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水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724360" y="2349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温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932360" y="3789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秀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24360" y="465300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淡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51280" y="54259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绿和清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节和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写景顺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有何不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412640"/>
            <a:ext cx="8785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写山景：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自上而下的顺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山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山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山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山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写水色：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自下而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顺序：水面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空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半空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：为什么济南的冬景会如此动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细致观察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抓住特点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安排顺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运用修辞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情景交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外拓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640" y="69192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假如你是导游，冬季带领游客来济南，追随老舍的足迹，请你设计一下导游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提示：用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第一人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方式，就先介绍济南的历史、地理位置、气候特点及与其有联系的几们名人（李清照、辛弃疾等），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游览千佛山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大明湖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趵突泉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济南的冬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为参照，介绍冬季美景，设计行程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：作者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553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老舍，现代著名作家，原名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舒庆春，字舍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满族人。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年赴英国，任伦敦大学东方学院中文讲师，并进行文学创作。先后任济南齐鲁大学、青岛山东大学教授。代表作是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骆驼祥子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，被称为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人民艺术家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二：关于济南的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197000"/>
            <a:ext cx="849132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在济南南面，距市中心五里有著名的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千佛山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它东接佛懋山，西连马鞍山、四里山，它们确实都是小山，千佛山的主峰也只有海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8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米。它们形成了济南的天然屏障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所以它冬天不冷，这是地理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：关于济南的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30200" y="140652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济南称为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泉城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多水。名泉有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个，最早见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春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大致为趵突泉、黑虎泉、珍珠泉、五龙潭四大泉群。其中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趵突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名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泉之首，济南全城的三分之一为湖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所以清人有名句说：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四面荷花三面柳，一城山色半城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未命名"/>
          <p:cNvPicPr/>
          <p:nvPr/>
        </p:nvPicPr>
        <p:blipFill>
          <a:blip r:embed="rId1"/>
          <a:stretch/>
        </p:blipFill>
        <p:spPr>
          <a:xfrm>
            <a:off x="-166680" y="0"/>
            <a:ext cx="9477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86640" y="838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异地之冬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83360" y="2362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（多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412160" y="2362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（多雾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232320" y="2362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（日光毒，响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16880" y="16002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 “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奇迹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122000" y="16002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 “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怪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716520" y="160020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害怕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79880" y="3124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济南的冬天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327672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844560" y="2057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↓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844560" y="15238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↓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8" descr="弹跳蓝"/>
          <p:cNvPicPr/>
          <p:nvPr/>
        </p:nvPicPr>
        <p:blipFill>
          <a:blip r:embed="rId2"/>
          <a:stretch/>
        </p:blipFill>
        <p:spPr>
          <a:xfrm>
            <a:off x="304920" y="0"/>
            <a:ext cx="36504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9"/>
          <p:cNvSpPr/>
          <p:nvPr/>
        </p:nvSpPr>
        <p:spPr>
          <a:xfrm>
            <a:off x="2388600" y="158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作者从哪几个方面写出济南的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88920" y="20574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对      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769320" y="76212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北平           伦敦              热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795400" y="3095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无风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75956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响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719820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温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-243360"/>
            <a:ext cx="777240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四：掌握课文大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为什么说济南是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宝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济南是有山有水的地方，文中写了哪三幅山景图？写水是从什么角度写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第一小节与第二、三、四、五节之间是什么关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文中渗透作者对济南的冬天什么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标题可否换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冬天的济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38636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小城：晒  睡 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76920" y="8380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小山：围  保暖   小摇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80400" y="1523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人们：含笑 不着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506280" y="2286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暖和舒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42680" y="76212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可爱 充满温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7"/>
          <p:cNvSpPr txBox="1"/>
          <p:nvPr/>
        </p:nvSpPr>
        <p:spPr>
          <a:xfrm rot="5400000">
            <a:off x="-1143000" y="11430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阳光朗照下的山</a:t>
            </a:r>
            <a:endParaRPr b="0" i="1" lang="en-US" sz="4400" spc="1" strike="noStrike">
              <a:ln w="9360">
                <a:solidFill>
                  <a:srgbClr val="ff99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506280" y="152388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冬天慈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未命名"/>
          <p:cNvPicPr/>
          <p:nvPr/>
        </p:nvPicPr>
        <p:blipFill>
          <a:blip r:embed="rId1"/>
          <a:stretch/>
        </p:blipFill>
        <p:spPr>
          <a:xfrm>
            <a:off x="-28440" y="2266920"/>
            <a:ext cx="9172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命名"/>
          <p:cNvPicPr/>
          <p:nvPr/>
        </p:nvPicPr>
        <p:blipFill>
          <a:blip r:embed="rId1"/>
          <a:stretch/>
        </p:blipFill>
        <p:spPr>
          <a:xfrm>
            <a:off x="-14400" y="23760"/>
            <a:ext cx="9172800" cy="6810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109880" y="30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薄雪覆盖下的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44760" y="1066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山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75720" y="106668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顶白花（像看护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未命名"/>
          <p:cNvPicPr/>
          <p:nvPr/>
        </p:nvPicPr>
        <p:blipFill>
          <a:blip r:embed="rId1"/>
          <a:stretch/>
        </p:blipFill>
        <p:spPr>
          <a:xfrm>
            <a:off x="-14400" y="23760"/>
            <a:ext cx="9172800" cy="681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933840" y="-60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山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55000" y="-3168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全白（镶银边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49680" y="533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山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780640" y="60948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白雪黄草（穿花衣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2:09:33Z</dcterms:created>
  <dc:creator/>
  <dc:description>第一PPT模板网-WWW.1PPT.COM
</dc:description>
  <dc:language>en-US</dc:language>
  <cp:lastModifiedBy>Administrator</cp:lastModifiedBy>
  <dcterms:modified xsi:type="dcterms:W3CDTF">2017-08-03T02:09:45Z</dcterms:modified>
  <cp:revision>28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