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63D-BD74-431C-9A3B-6EC8755E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B90-58A9-41CE-925A-0789DD33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8BD-74E6-48C0-A15C-0D6DD922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276-335D-40CF-ADB6-DFCB08A6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D3C-63C9-464E-A265-8C22373F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E46-19D0-413E-9390-0523401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206-8F9D-43A6-8BA1-72B6FFB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C26-9F79-424D-877E-5D839999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44B-9F2B-4551-B2C8-B55775A8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88E-63C2-4699-A6BF-2C14EE8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475-203B-42DA-AE5F-86B5632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958-B465-4669-B541-3BB882C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8C68-EEBB-4B46-82C2-BDB98DE603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le365.com/eat/msp/457350.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365.com/eat/msp/457350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348000" y="333360"/>
            <a:ext cx="579600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洁，我国现当代著名的女作家，被国务院授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特殊贡献的作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号。作品以浓烈的感情笔触探索人的心灵世界，细腻深挚，优雅醇美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幼年丧父，从母姓。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酷爱文艺，尤其是诗歌和音乐。她的作品初期特点是婉约清丽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创作主题。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以童年生活为主的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雁系列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作者描述了一个憨厚、纯朴的女孩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雁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逐美好的人与事的故事，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拣麦穗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其中的一篇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39640" y="404640"/>
            <a:ext cx="324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336600"/>
                </a:solidFill>
                <a:latin typeface="隶书"/>
                <a:ea typeface="隶书"/>
              </a:rPr>
              <a:t>爱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336600"/>
                </a:solidFill>
                <a:latin typeface="隶书"/>
                <a:ea typeface="隶书"/>
              </a:rPr>
              <a:t>的作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100745_zhangjie"/>
          <p:cNvPicPr/>
          <p:nvPr/>
        </p:nvPicPr>
        <p:blipFill>
          <a:blip r:embed="rId1"/>
          <a:stretch/>
        </p:blipFill>
        <p:spPr>
          <a:xfrm>
            <a:off x="324000" y="1484280"/>
            <a:ext cx="2844720" cy="424836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44" name="Oval 9"/>
          <p:cNvSpPr/>
          <p:nvPr/>
        </p:nvSpPr>
        <p:spPr>
          <a:xfrm>
            <a:off x="250920" y="260280"/>
            <a:ext cx="338436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004125161258676"/>
          <p:cNvPicPr/>
          <p:nvPr/>
        </p:nvPicPr>
        <p:blipFill>
          <a:blip r:embed="rId1"/>
          <a:stretch/>
        </p:blipFill>
        <p:spPr>
          <a:xfrm>
            <a:off x="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716360" y="620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细黑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烟荷包</a:t>
            </a:r>
            <a:r>
              <a:rPr b="1" lang="zh-CN" sz="4400" spc="-1" strike="noStrike">
                <a:solidFill>
                  <a:srgbClr val="cc0000"/>
                </a:solidFill>
                <a:latin typeface="华文细黑"/>
                <a:ea typeface="华文新魏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148360" y="1844640"/>
            <a:ext cx="2232000" cy="581400"/>
          </a:xfrm>
          <a:prstGeom prst="rect">
            <a:avLst/>
          </a:prstGeom>
          <a:solidFill>
            <a:srgbClr val="ffff99">
              <a:alpha val="55000"/>
            </a:srgbClr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细黑"/>
              </a:rPr>
              <a:t>编织梦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48360" y="3213000"/>
            <a:ext cx="2232000" cy="581400"/>
          </a:xfrm>
          <a:prstGeom prst="rect">
            <a:avLst/>
          </a:prstGeom>
          <a:solidFill>
            <a:srgbClr val="ffff99">
              <a:alpha val="55000"/>
            </a:srgbClr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细黑"/>
              </a:rPr>
              <a:t>梦想破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148360" y="4581360"/>
            <a:ext cx="2303280" cy="1068840"/>
          </a:xfrm>
          <a:prstGeom prst="rect">
            <a:avLst/>
          </a:prstGeom>
          <a:solidFill>
            <a:srgbClr val="ffff99">
              <a:alpha val="55000"/>
            </a:srgbClr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细黑"/>
              </a:rPr>
              <a:t>梦想犹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细黑"/>
              </a:rPr>
              <a:t>信念不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6012000" y="2492280"/>
            <a:ext cx="485640" cy="649440"/>
          </a:xfrm>
          <a:prstGeom prst="downArrow">
            <a:avLst>
              <a:gd name="adj1" fmla="val 50000"/>
              <a:gd name="adj2" fmla="val 33432"/>
            </a:avLst>
          </a:prstGeom>
          <a:solidFill>
            <a:srgbClr val="cc0000">
              <a:alpha val="55000"/>
            </a:srgbClr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012000" y="3860640"/>
            <a:ext cx="485640" cy="649440"/>
          </a:xfrm>
          <a:prstGeom prst="downArrow">
            <a:avLst>
              <a:gd name="adj1" fmla="val 50000"/>
              <a:gd name="adj2" fmla="val 33432"/>
            </a:avLst>
          </a:prstGeom>
          <a:solidFill>
            <a:srgbClr val="cc0000">
              <a:alpha val="55000"/>
            </a:srgbClr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580000" y="5950080"/>
            <a:ext cx="1297080" cy="642600"/>
          </a:xfrm>
          <a:prstGeom prst="rect">
            <a:avLst/>
          </a:prstGeom>
          <a:solidFill>
            <a:srgbClr val="ffff99">
              <a:alpha val="55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象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3924360" y="2133720"/>
            <a:ext cx="48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华文新魏"/>
                <a:ea typeface="华文新魏"/>
              </a:rPr>
              <a:t>文章结尾对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火柿子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”</a:t>
            </a:r>
            <a:r>
              <a:rPr b="1" lang="zh-CN" sz="5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特写在文中有何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mg222511582"/>
          <p:cNvPicPr/>
          <p:nvPr/>
        </p:nvPicPr>
        <p:blipFill>
          <a:blip r:embed="rId1"/>
          <a:srcRect l="0" t="0" r="0" b="16141"/>
          <a:stretch/>
        </p:blipFill>
        <p:spPr>
          <a:xfrm>
            <a:off x="755640" y="206064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2916360" y="260280"/>
            <a:ext cx="3456000" cy="1359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探究“景语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369720"/>
            <a:ext cx="8153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棵树的顶梢梢上，还挂着一个小火柿子。小火柿子让冬日的太阳一照，更是红得透亮。那个柿子多半是因为长在太高的枝子上，才没有让人摘下来。真怪，也没让风刮下来、让雨打下来、让雪压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仍旧站在那棵柿子树下，望着树梢上的那个孤零零的小火柿子。它那红得透亮的色泽，依然给人一种喜盈盈的感觉。可是我却哭了。哭那陌生的，但却疼爱我的卖灶糖的老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116000" y="765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41360" y="1546200"/>
            <a:ext cx="8234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象征着人间真情经得住时间的考验，永不褪色。作者以此表明自己将始终坚守和追求这份人间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57200" y="3716280"/>
            <a:ext cx="8686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反衬，用乐景写哀情。反衬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听到老汉去世时极度孤独、悲哀和失落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059280" y="47628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小火柿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989080" y="620640"/>
            <a:ext cx="25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真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50920" y="2133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2124000" y="476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20" name="Rectangle 6"/>
          <p:cNvSpPr/>
          <p:nvPr/>
        </p:nvSpPr>
        <p:spPr>
          <a:xfrm>
            <a:off x="3036240" y="1844640"/>
            <a:ext cx="31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思考并归纳主题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84360" y="285264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      “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我”为什么会对几十年前的那段童年往事刻骨铭心，终身难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250920" y="1484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258920" y="1557360"/>
            <a:ext cx="6840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以微带感伤的情调，从旧时的农村拣麦穗的特定风情写起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描述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姑娘们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想的破灭，从而向人们展现了一个充满爱与美的童年世界，同时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表达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美好感情与美好事物逝去的惆怅，以及对真、善、美不灭的信念与追求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042920" y="20689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学对我不是一种消愁解闷的爱好，而是对种种尚未实现的理想的追求，愿生活更加像人们向往的那个样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2124000" y="476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989080" y="620640"/>
            <a:ext cx="25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真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45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隶书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拣麦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透了我们生命的无限，让我们领悟了时间的无限，这就是我们忧伤的源头。但当你失去之后，你学会了加倍珍惜，学会了发现爱，这时生命和生活的美丽也就被发现了。散文还发现了人性的美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荒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拣麦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张洁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拣麦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既有清纯美好的感受，又有一种想哭的感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论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2627280" y="62064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真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50920" y="2133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2124000" y="476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8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34" name="Text Box 10"/>
          <p:cNvSpPr/>
          <p:nvPr/>
        </p:nvSpPr>
        <p:spPr>
          <a:xfrm>
            <a:off x="324000" y="1916280"/>
            <a:ext cx="73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歌颂并呼唤人与人之间那种朴素而纯真的关爱；歌颂人性的善良、纯真与美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代在变，生活在变，不变的是人们对真、善、美的执着与追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与人间需要真诚相待，互相关爱，这种爱是可以传递的，人间真情靠着这种传递、传承而永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627280" y="62064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传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50920" y="2133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2124000" y="476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39" name="Rectangle 7"/>
          <p:cNvSpPr/>
          <p:nvPr/>
        </p:nvSpPr>
        <p:spPr>
          <a:xfrm>
            <a:off x="539640" y="213372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990000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宋体"/>
                <a:ea typeface="宋体"/>
              </a:rPr>
              <a:t>没有任何希求，也没有任何企望”的朴素的爱在我们现实生活中是否存在？结合例子谈谈你的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宋体"/>
                <a:ea typeface="宋体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341360"/>
            <a:ext cx="8353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一千张糖纸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华文新魏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（作者：铁凝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用精炼的语言归纳本文的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选取其中最令你感动的一个片段进行片段赏析或写下你的点滴感悟。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( 100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字左右，发送到班级语文博客上互相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flower187_150"/>
          <p:cNvPicPr/>
          <p:nvPr/>
        </p:nvPicPr>
        <p:blipFill>
          <a:blip r:embed="rId1"/>
          <a:stretch/>
        </p:blipFill>
        <p:spPr>
          <a:xfrm>
            <a:off x="5076720" y="4941720"/>
            <a:ext cx="4067280" cy="1916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267200" y="268200"/>
            <a:ext cx="266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课外拓展阅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B1_2"/>
          <p:cNvPicPr/>
          <p:nvPr/>
        </p:nvPicPr>
        <p:blipFill>
          <a:blip r:embed="rId1"/>
          <a:stretch/>
        </p:blipFill>
        <p:spPr>
          <a:xfrm>
            <a:off x="3635280" y="2924280"/>
            <a:ext cx="2165400" cy="280836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46" name="WordArt 9" descr=""/>
          <p:cNvPicPr/>
          <p:nvPr/>
        </p:nvPicPr>
        <p:blipFill>
          <a:blip r:embed="rId2"/>
          <a:stretch/>
        </p:blipFill>
        <p:spPr>
          <a:xfrm>
            <a:off x="1109520" y="324000"/>
            <a:ext cx="7401240" cy="1412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1332000" y="184464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新魏"/>
              </a:rPr>
              <a:t>——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拣麦穗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主题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pic28bb7gh1">
            <a:hlinkClick r:id="rId3"/>
          </p:cNvPr>
          <p:cNvPicPr/>
          <p:nvPr/>
        </p:nvPicPr>
        <p:blipFill>
          <a:blip r:embed="rId4"/>
          <a:srcRect l="0" t="0" r="4708" b="0"/>
          <a:stretch/>
        </p:blipFill>
        <p:spPr>
          <a:xfrm>
            <a:off x="6227640" y="2924280"/>
            <a:ext cx="2160720" cy="280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49" name="Picture 12" descr="图片1"/>
          <p:cNvPicPr/>
          <p:nvPr/>
        </p:nvPicPr>
        <p:blipFill>
          <a:blip r:embed="rId5"/>
          <a:srcRect l="35036" t="12097" r="29536" b="826"/>
          <a:stretch/>
        </p:blipFill>
        <p:spPr>
          <a:xfrm>
            <a:off x="900000" y="2924280"/>
            <a:ext cx="2160720" cy="285408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50" name="Text Box 13"/>
          <p:cNvSpPr/>
          <p:nvPr/>
        </p:nvSpPr>
        <p:spPr>
          <a:xfrm>
            <a:off x="1979640" y="5950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广州市玉岩中学  肖亮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908000" y="404640"/>
            <a:ext cx="60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疼 惜       追 求       依 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拣麦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望柿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忆荷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2916360" y="1268280"/>
            <a:ext cx="3671640" cy="252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ordArt 7" descr=""/>
          <p:cNvPicPr/>
          <p:nvPr/>
        </p:nvPicPr>
        <p:blipFill>
          <a:blip r:embed="rId1"/>
          <a:stretch/>
        </p:blipFill>
        <p:spPr>
          <a:xfrm>
            <a:off x="2146320" y="5200560"/>
            <a:ext cx="5602320" cy="1322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8"/>
          <p:cNvSpPr/>
          <p:nvPr/>
        </p:nvSpPr>
        <p:spPr>
          <a:xfrm>
            <a:off x="250920" y="189000"/>
            <a:ext cx="2808360" cy="1341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板书设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图片1"/>
          <p:cNvPicPr/>
          <p:nvPr/>
        </p:nvPicPr>
        <p:blipFill>
          <a:blip r:embed="rId2"/>
          <a:srcRect l="35036" t="12097" r="29536" b="826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0908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识与能力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鉴赏生动传神的外貌、动作、语言 描写，剖析人物形象，把握象征手法，探究文章主旨，体会作者情感，培养学生自主欣赏、合作探究、表达交流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程与方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体感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品读感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作探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拓展升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感与态度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悟文中人与人之间淳朴、无私的关爱，领会作者对真、善、美的人性的讴歌，并主动探寻爱的真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1989000"/>
            <a:ext cx="861048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结合文章标题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3"/>
          <p:cNvSpPr/>
          <p:nvPr/>
        </p:nvSpPr>
        <p:spPr>
          <a:xfrm>
            <a:off x="1476360" y="33336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47628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姿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926320" y="260280"/>
            <a:ext cx="18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拣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575000" y="28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谁拣麦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116000" y="357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拣麦穗时她们有着什么样的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666440" y="4365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梦实现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397960" y="51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两者对梦的态度有怎样的不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395280" y="2205000"/>
            <a:ext cx="1989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拣麦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292720" y="3860640"/>
            <a:ext cx="2362320" cy="116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姑娘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换取嫁妆幸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6"/>
          <p:cNvSpPr/>
          <p:nvPr/>
        </p:nvSpPr>
        <p:spPr>
          <a:xfrm flipH="1">
            <a:off x="3708360" y="2997360"/>
            <a:ext cx="137160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763640" y="3789360"/>
            <a:ext cx="2514600" cy="1230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嫁卖灶糖老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5435640" y="2997360"/>
            <a:ext cx="144792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4572000" y="5229360"/>
            <a:ext cx="106668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破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6300720" y="5445000"/>
            <a:ext cx="1079640" cy="1169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1619280" y="5589720"/>
            <a:ext cx="2305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寄托真、善、美的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5"/>
          <p:cNvSpPr/>
          <p:nvPr/>
        </p:nvSpPr>
        <p:spPr>
          <a:xfrm>
            <a:off x="3851280" y="2060640"/>
            <a:ext cx="338472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拣梦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5651640" y="5734080"/>
            <a:ext cx="60948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4066920" y="57340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148360" y="30686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2411280" y="24922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1"/>
          <p:cNvSpPr/>
          <p:nvPr/>
        </p:nvSpPr>
        <p:spPr>
          <a:xfrm>
            <a:off x="2484360" y="404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字初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033"/>
          <p:cNvSpPr/>
          <p:nvPr/>
        </p:nvSpPr>
        <p:spPr>
          <a:xfrm>
            <a:off x="1908000" y="33336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34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7380360" y="765000"/>
            <a:ext cx="1187280" cy="2421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7"/>
          <p:cNvSpPr txBox="1"/>
          <p:nvPr/>
        </p:nvSpPr>
        <p:spPr>
          <a:xfrm>
            <a:off x="1547640" y="1844640"/>
            <a:ext cx="5896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分角色朗读第二段中的对话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627280" y="62064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意赏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900000" y="30686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    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思考：形象的描写和传神的对话中，我们可以看到两个怎样的形象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124000" y="476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7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2556000" y="5382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询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1916280"/>
            <a:ext cx="770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是真的想嫁给卖灶糖的老汉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2124000" y="476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图片1"/>
          <p:cNvPicPr/>
          <p:nvPr/>
        </p:nvPicPr>
        <p:blipFill>
          <a:blip r:embed="rId1"/>
          <a:srcRect l="35036" t="12097" r="29536" b="826"/>
          <a:stretch/>
        </p:blipFill>
        <p:spPr>
          <a:xfrm>
            <a:off x="8172360" y="0"/>
            <a:ext cx="971640" cy="6858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8" name="Text Box 7"/>
          <p:cNvSpPr/>
          <p:nvPr/>
        </p:nvSpPr>
        <p:spPr>
          <a:xfrm>
            <a:off x="0" y="2708280"/>
            <a:ext cx="78120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卖灶糖老汉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什么疼爱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为了要娶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吗？</a:t>
            </a:r>
            <a:r>
              <a:rPr b="0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755640" y="48956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为什么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长大后懂得了说过的话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都是让人害臊的话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的时候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反而会越来越依恋他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pic28bb7gh1">
            <a:hlinkClick r:id="rId1"/>
          </p:cNvPr>
          <p:cNvPicPr/>
          <p:nvPr/>
        </p:nvPicPr>
        <p:blipFill>
          <a:blip r:embed="rId2"/>
          <a:srcRect l="0" t="0" r="4708" b="0"/>
          <a:stretch/>
        </p:blipFill>
        <p:spPr>
          <a:xfrm>
            <a:off x="539640" y="1773360"/>
            <a:ext cx="4248360" cy="4032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1" name="Text Box 4"/>
          <p:cNvSpPr/>
          <p:nvPr/>
        </p:nvSpPr>
        <p:spPr>
          <a:xfrm>
            <a:off x="3132000" y="404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爱”的解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148360" y="2421000"/>
            <a:ext cx="3600360" cy="21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探究“物语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探究“景语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2627280" y="260280"/>
            <a:ext cx="4319640" cy="10810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3419640" y="2133720"/>
            <a:ext cx="489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为什么</a:t>
            </a:r>
            <a:r>
              <a:rPr b="1" lang="zh-CN" sz="4000" spc="-1" strike="noStrike">
                <a:solidFill>
                  <a:srgbClr val="cc0000"/>
                </a:solidFill>
                <a:latin typeface="华文细黑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我</a:t>
            </a:r>
            <a:r>
              <a:rPr b="1" lang="zh-CN" sz="4000" spc="-1" strike="noStrike">
                <a:solidFill>
                  <a:srgbClr val="cc0000"/>
                </a:solidFill>
                <a:latin typeface="华文细黑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常常想找到那个象猪肚子样的烟荷包，</a:t>
            </a:r>
            <a:r>
              <a:rPr b="1" lang="zh-CN" sz="4000" spc="-1" strike="noStrike">
                <a:solidFill>
                  <a:srgbClr val="cc0000"/>
                </a:solidFill>
                <a:latin typeface="华文细黑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烟荷包</a:t>
            </a:r>
            <a:r>
              <a:rPr b="1" lang="zh-CN" sz="4000" spc="-1" strike="noStrike">
                <a:solidFill>
                  <a:srgbClr val="cc0000"/>
                </a:solidFill>
                <a:latin typeface="华文细黑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在文中寄托了作者怎样的情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700360" y="260280"/>
            <a:ext cx="3456000" cy="1359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探究“物语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2004125161258676"/>
          <p:cNvPicPr/>
          <p:nvPr/>
        </p:nvPicPr>
        <p:blipFill>
          <a:blip r:embed="rId1"/>
          <a:srcRect l="7495" t="0" r="12429" b="0"/>
          <a:stretch/>
        </p:blipFill>
        <p:spPr>
          <a:xfrm>
            <a:off x="324000" y="1916280"/>
            <a:ext cx="2447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31:47Z</dcterms:modified>
  <cp:revision>64</cp:revision>
  <dc:subject/>
  <dc:title>PowerPoint 演示文稿</dc:title>
</cp:coreProperties>
</file>