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click.wav" ContentType="audio/x-wav"/>
  <Override PartName="/ppt/media/hammer.wav" ContentType="audio/x-wav"/>
  <Override PartName="/ppt/media/image12.jpeg" ContentType="image/jpeg"/>
  <Override PartName="/ppt/media/image14.jpeg" ContentType="image/jpeg"/>
  <Override PartName="/ppt/media/type.wav" ContentType="audio/x-wav"/>
  <Override PartName="/ppt/media/image1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chimes.wav" ContentType="audio/x-wav"/>
  <Override PartName="/ppt/media/wind.wav" ContentType="audio/x-wav"/>
  <Override PartName="/ppt/media/camera.wav" ContentType="audio/x-wav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FA6F-6A7F-4C85-8A5B-53ABC6F2D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2B9C-2C4E-42D4-ABB2-62DC5CE00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A5D0-6D57-4910-9603-FE2A2E7C4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894D-C6B9-4649-AA77-266178602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DCE16-2CCE-4BF6-A56E-5A5D71A11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74C7E-6270-4FD5-BA9A-43C76FE0B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C3BAF-F730-4CDA-86A0-88B138324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1CCD2-31E0-4C94-BB39-E13DAF6C7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1A37D-F62C-419A-BCB4-8091F2856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8F512-CF8F-4151-A4D1-4E592F056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0AF67-130B-422D-8B8C-9CB1605B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D59B-FE08-4098-9BE3-6D8C32B08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269B0-8613-44C6-BED3-83AE0D9A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2C7F3-DC63-4920-A1C7-A8C5F300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D8558-FD74-4F59-B760-C54AADE54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286DD-7460-4A02-A50D-150EE1202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D0C1E-B0C3-43AF-8B41-976024FF2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A053A-7BAD-4B4B-9775-995DF18E0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44303-065A-42B6-AA4A-03BB73EA4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BEA9C-BE13-46FF-A2E7-82236466B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C14A2-5E36-4647-82A0-4E4F6E60B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7F74C-8A0C-4682-A4D0-0DCE78BDB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8B31-4EFC-4699-A19E-6F44F255B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1C9F9-7A51-4E17-AF14-543A2D303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D7819-3E2B-47B9-9AE9-BB016532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0DDF1-E2EC-4AB6-91AC-3D043352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EE2AA-71FF-40E5-9580-4796AA64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DF407-4AD1-45C7-8BAB-E3DBF08DA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14431-FC0E-4BD3-A568-1C60B01BA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5D37B-382A-479D-91F2-154B03071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1A66F-36EF-4CE7-8E6C-E4C2CB398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83685-4326-4D5B-8E47-3F2CEB56D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588AD-CF87-4ADE-9FEA-FDA97C740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AA30-7355-4307-B072-3C40B2E1E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46EF9-564B-4A62-BF0E-73C0BBCDC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AE394-FC64-4767-90EF-96A378074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4728D-4CDE-40F6-9547-EBB1676EB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2DBF2-5020-4E43-A1DB-E130CD71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DF609-18B5-452A-825B-F3E7E2D3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A00F3-E97B-499F-8DC4-1BCF1D25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05194-08B6-45C2-9650-A36790070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E12B7-6466-4463-8E6F-E63162659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E9729-2855-48F7-81B0-DDA0B4F0D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41942-ED68-423E-B647-CC1BDAB4F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D484-1F29-46C4-A011-0D4551BFE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DAE24-9625-40FC-AD19-0E0155B05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26B26-319C-4820-B582-85B74124C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7D1E9-C121-4CD7-B005-6E9FA5462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CA25E-A61F-4F92-B3BB-5D6DC55EA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24F98-B5F4-4113-8819-7C7272D6D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F6DB8-6A45-4E0C-B569-961A3C78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47BB0-8F06-4B9D-A8C1-305C6468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19CE1-3D06-48DF-9A77-EE4FD65E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2CB13-65D2-4A6B-969D-ACC9A3A4B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043D5-8428-42AF-B31E-E70E08205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30C8-24B0-41C1-ACA0-93EB31019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D874C-7830-4AF1-B479-1748A3B5F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41B7-DAEC-43A8-BD6A-615B110B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6B79-0F65-4E07-81D3-7B33F796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4DE8-0995-4B69-81DE-5A8FC5A5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4D25A-5074-4AB3-AC5D-D099C03560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5842F-08AF-4FB8-9C49-6C402237E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83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EDF1B-AF3C-42ED-95FB-9AE725635B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582EC-B002-4BEE-8CD1-F9761AD92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84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3F3E4-AEEB-48C2-948B-D624E6C38B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baike.baidu.com/image/d35a10f42747294cddc47491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hammer.wav"/><Relationship Id="rId3" Type="http://schemas.openxmlformats.org/officeDocument/2006/relationships/audio" Target="../media/hammer.wav"/><Relationship Id="rId4" Type="http://schemas.openxmlformats.org/officeDocument/2006/relationships/audio" Target="../media/hammer.wav"/><Relationship Id="rId5" Type="http://schemas.openxmlformats.org/officeDocument/2006/relationships/audio" Target="../media/hammer.wav"/><Relationship Id="rId6" Type="http://schemas.openxmlformats.org/officeDocument/2006/relationships/audio" Target="../media/hammer.wav"/><Relationship Id="rId7" Type="http://schemas.openxmlformats.org/officeDocument/2006/relationships/audio" Target="../media/hammer.wav"/><Relationship Id="rId8" Type="http://schemas.openxmlformats.org/officeDocument/2006/relationships/audio" Target="../media/hammer.wav"/><Relationship Id="rId9" Type="http://schemas.openxmlformats.org/officeDocument/2006/relationships/audio" Target="../media/hammer.wav"/><Relationship Id="rId10" Type="http://schemas.openxmlformats.org/officeDocument/2006/relationships/audio" Target="../media/hammer.wav"/><Relationship Id="rId11" Type="http://schemas.openxmlformats.org/officeDocument/2006/relationships/audio" Target="../media/hammer.wav"/><Relationship Id="rId1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hammer.wav"/><Relationship Id="rId3" Type="http://schemas.openxmlformats.org/officeDocument/2006/relationships/audio" Target="../media/hammer.wav"/><Relationship Id="rId4" Type="http://schemas.openxmlformats.org/officeDocument/2006/relationships/audio" Target="../media/hammer.wav"/><Relationship Id="rId5" Type="http://schemas.openxmlformats.org/officeDocument/2006/relationships/audio" Target="../media/hammer.wav"/><Relationship Id="rId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hammer.wav"/><Relationship Id="rId3" Type="http://schemas.openxmlformats.org/officeDocument/2006/relationships/audio" Target="../media/hammer.wav"/><Relationship Id="rId4" Type="http://schemas.openxmlformats.org/officeDocument/2006/relationships/audio" Target="../media/hammer.wav"/><Relationship Id="rId5" Type="http://schemas.openxmlformats.org/officeDocument/2006/relationships/audio" Target="../media/hammer.wav"/><Relationship Id="rId6" Type="http://schemas.openxmlformats.org/officeDocument/2006/relationships/audio" Target="../media/hammer.wav"/><Relationship Id="rId7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amera.wav"/><Relationship Id="rId3" Type="http://schemas.openxmlformats.org/officeDocument/2006/relationships/audio" Target="../media/hammer.wav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hammer.wav"/><Relationship Id="rId3" Type="http://schemas.openxmlformats.org/officeDocument/2006/relationships/audio" Target="../media/hammer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amera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hammer.wav"/><Relationship Id="rId3" Type="http://schemas.openxmlformats.org/officeDocument/2006/relationships/audio" Target="../media/hammer.wav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baike.baidu.com/image/d35a10f42747294cddc47491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baike.baidu.com/image/d35a10f42747294cddc47491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baike.baidu.com/image/d35a10f42747294cddc47491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baike.baidu.com/image/d35a10f42747294cddc47491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图片 82945" descr="keji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560" y="380880"/>
            <a:ext cx="8305560" cy="647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早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4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，意大利的索伯莱格就发明了一种烈性炸药，叫硝化甘油。它的爆炸力是历史上任何炸药所不能比拟的。</a:t>
            </a:r>
            <a:r>
              <a:rPr b="0" lang="zh-CN" sz="2400" spc="-1" strike="noStrike">
                <a:solidFill>
                  <a:srgbClr val="ff3399"/>
                </a:solidFill>
                <a:latin typeface="Arial"/>
              </a:rPr>
              <a:t>但是这种炸药极不安全，稍不留神，就会使操作人员粉身碎骨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许多人因为意外的爆炸事件而血肉横飞，连尸体也找不到。诺贝尔决心把这种烈性炸药改造成安全炸药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6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夏天，他开始了对硝化甘油的研究。这是一个充满危险和牺牲的艰苦历程。死亡时刻都在陪伴着他。在一次进行炸药实验时发生了爆炸事件，实验室被炸的无影无踪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助手全部牺牲，连他最小的弟弟也未能幸免。这次惊人的爆炸事故，使诺贝尔的父亲受到了十分沉重的打击，没有多久就去世了。他的邻居们出于恐惧，也纷纷向政府控告诺贝尔，此后，政府不准诺贝尔在市内进行实验。但是，诺贝尔百折不挠，他把实验室搬到市郊湖中的一艘船上继续实验。经过长期的研究，他终于发现了一种非常容易引起爆炸的物质－－雷酸汞，他用雷酸汞做成炸药的引爆物，成功地解决了炸药的引爆问题，这就是雷管的发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图片 81922" descr="d35a10f42747294cddc4749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531720"/>
            <a:ext cx="9144000" cy="7118280"/>
          </a:xfrm>
          <a:prstGeom prst="rect">
            <a:avLst/>
          </a:prstGeom>
          <a:ln w="0">
            <a:noFill/>
          </a:ln>
        </p:spPr>
      </p:pic>
      <p:sp>
        <p:nvSpPr>
          <p:cNvPr id="271" name="矩形 81923"/>
          <p:cNvSpPr/>
          <p:nvPr/>
        </p:nvSpPr>
        <p:spPr>
          <a:xfrm>
            <a:off x="0" y="476280"/>
            <a:ext cx="8317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诺贝尔奖自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90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年颁发以来，共有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六位华人获得诺贝尔科学奖，他们分别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是李政道、杨振宁、丁肇中、李远哲、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朱棣文和崔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99"/>
                </a:solidFill>
                <a:latin typeface="Arial"/>
              </a:rPr>
              <a:t>教学目标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字词基础知识的掌握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通过文章所记之事了解并学习居里夫人的高贵品质，以修养品德，滋养灵魂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pull dir="d"/>
    <p:sndAc>
      <p:stSnd>
        <p:snd r:embed="rId1" name="camera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99"/>
                </a:solidFill>
                <a:latin typeface="Arial"/>
              </a:rPr>
              <a:t>准确认读下列词语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1680" y="1905120"/>
            <a:ext cx="419400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荫蔽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荫庇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器皿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清癯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生死攸关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714920" y="1856880"/>
            <a:ext cx="419400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憎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眩晕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收敛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觐见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箴言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7" name="TextBox 5"/>
          <p:cNvSpPr/>
          <p:nvPr/>
        </p:nvSpPr>
        <p:spPr>
          <a:xfrm>
            <a:off x="6500880" y="478620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hē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6"/>
          <p:cNvSpPr/>
          <p:nvPr/>
        </p:nvSpPr>
        <p:spPr>
          <a:xfrm>
            <a:off x="6500880" y="4071960"/>
            <a:ext cx="100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ì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7"/>
          <p:cNvSpPr/>
          <p:nvPr/>
        </p:nvSpPr>
        <p:spPr>
          <a:xfrm>
            <a:off x="6429240" y="32860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ǎ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8"/>
          <p:cNvSpPr/>
          <p:nvPr/>
        </p:nvSpPr>
        <p:spPr>
          <a:xfrm>
            <a:off x="6357960" y="2500200"/>
            <a:ext cx="19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uànyù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9"/>
          <p:cNvSpPr/>
          <p:nvPr/>
        </p:nvSpPr>
        <p:spPr>
          <a:xfrm>
            <a:off x="6429240" y="1785960"/>
            <a:ext cx="15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ē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0"/>
          <p:cNvSpPr/>
          <p:nvPr/>
        </p:nvSpPr>
        <p:spPr>
          <a:xfrm>
            <a:off x="3000240" y="478620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ō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1"/>
          <p:cNvSpPr/>
          <p:nvPr/>
        </p:nvSpPr>
        <p:spPr>
          <a:xfrm>
            <a:off x="2214720" y="407196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2"/>
          <p:cNvSpPr/>
          <p:nvPr/>
        </p:nvSpPr>
        <p:spPr>
          <a:xfrm>
            <a:off x="2071800" y="3357720"/>
            <a:ext cx="13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ǐ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13"/>
          <p:cNvSpPr/>
          <p:nvPr/>
        </p:nvSpPr>
        <p:spPr>
          <a:xfrm>
            <a:off x="2071800" y="26431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ì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4"/>
          <p:cNvSpPr/>
          <p:nvPr/>
        </p:nvSpPr>
        <p:spPr>
          <a:xfrm>
            <a:off x="2143080" y="19288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ī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  <p:sndAc>
      <p:stSnd>
        <p:snd r:embed="rId1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85840" y="857160"/>
            <a:ext cx="854064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标宋体"/>
              </a:rPr>
              <a:t>近义词辨析</a:t>
            </a:r>
            <a:br>
              <a:rPr sz="5400"/>
            </a:b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  <a:ea typeface="黑体"/>
              </a:rPr>
              <a:t>漫不经心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  <a:ea typeface="黑体"/>
              </a:rPr>
              <a:t>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  <a:ea typeface="黑体"/>
              </a:rPr>
              <a:t>漠不关心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  <a:ea typeface="黑体"/>
              </a:rPr>
              <a:t>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  <a:ea typeface="黑体"/>
              </a:rPr>
              <a:t>化妆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  <a:ea typeface="黑体"/>
              </a:rPr>
              <a:t>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  <a:ea typeface="黑体"/>
              </a:rPr>
              <a:t>化装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  <a:ea typeface="黑体"/>
              </a:rPr>
              <a:t>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9" name="左大括号 3"/>
          <p:cNvSpPr/>
          <p:nvPr/>
        </p:nvSpPr>
        <p:spPr>
          <a:xfrm>
            <a:off x="500040" y="2143080"/>
            <a:ext cx="142920" cy="78588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785880"/>
              <a:gd name="textAreaBottom" fmla="*/ 782280 h 785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4"/>
                  <a:pt x="10800" y="327"/>
                </a:cubicBezTo>
                <a:lnTo>
                  <a:pt x="10800" y="10473"/>
                </a:lnTo>
                <a:cubicBezTo>
                  <a:pt x="10800" y="10637"/>
                  <a:pt x="5400" y="10800"/>
                  <a:pt x="0" y="10800"/>
                </a:cubicBezTo>
                <a:cubicBezTo>
                  <a:pt x="5400" y="10800"/>
                  <a:pt x="10800" y="10964"/>
                  <a:pt x="10800" y="11127"/>
                </a:cubicBezTo>
                <a:lnTo>
                  <a:pt x="10800" y="21273"/>
                </a:lnTo>
                <a:cubicBezTo>
                  <a:pt x="10800" y="21437"/>
                  <a:pt x="16200" y="21600"/>
                  <a:pt x="21600" y="21600"/>
                </a:cubicBezTo>
              </a:path>
            </a:pathLst>
          </a:custGeom>
          <a:solidFill>
            <a:srgbClr val="007a77"/>
          </a:solidFill>
          <a:ln w="19080">
            <a:solidFill>
              <a:srgbClr val="007a77"/>
            </a:solidFill>
            <a:round/>
          </a:ln>
          <a:effectLst>
            <a:outerShdw dist="50760" dir="5400000" blurRad="0" rotWithShape="0">
              <a:srgbClr val="007a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左大括号 4"/>
          <p:cNvSpPr/>
          <p:nvPr/>
        </p:nvSpPr>
        <p:spPr>
          <a:xfrm>
            <a:off x="500040" y="3500280"/>
            <a:ext cx="142920" cy="107172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1071720"/>
              <a:gd name="textAreaBottom" fmla="*/ 1068120 h 1071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0"/>
                  <a:pt x="10800" y="239"/>
                </a:cubicBezTo>
                <a:lnTo>
                  <a:pt x="10800" y="10561"/>
                </a:lnTo>
                <a:cubicBezTo>
                  <a:pt x="10800" y="10681"/>
                  <a:pt x="5400" y="10800"/>
                  <a:pt x="0" y="10800"/>
                </a:cubicBezTo>
                <a:cubicBezTo>
                  <a:pt x="5400" y="10800"/>
                  <a:pt x="10800" y="10920"/>
                  <a:pt x="10800" y="11039"/>
                </a:cubicBezTo>
                <a:lnTo>
                  <a:pt x="10800" y="21361"/>
                </a:lnTo>
                <a:cubicBezTo>
                  <a:pt x="10800" y="21481"/>
                  <a:pt x="16200" y="21600"/>
                  <a:pt x="21600" y="21600"/>
                </a:cubicBezTo>
              </a:path>
            </a:pathLst>
          </a:custGeom>
          <a:solidFill>
            <a:srgbClr val="007a77"/>
          </a:solidFill>
          <a:ln w="9360">
            <a:solidFill>
              <a:srgbClr val="007a77"/>
            </a:solidFill>
            <a:round/>
          </a:ln>
          <a:effectLst>
            <a:outerShdw dist="50760" dir="5400000" blurRad="0" rotWithShape="0">
              <a:srgbClr val="007a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5"/>
          <p:cNvSpPr/>
          <p:nvPr/>
        </p:nvSpPr>
        <p:spPr>
          <a:xfrm>
            <a:off x="3071880" y="1928880"/>
            <a:ext cx="485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  <a:ea typeface="黑体"/>
              </a:rPr>
              <a:t>随随便便，不放在心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矩形 8"/>
          <p:cNvSpPr/>
          <p:nvPr/>
        </p:nvSpPr>
        <p:spPr>
          <a:xfrm>
            <a:off x="5908680" y="26431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  <a:ea typeface="黑体"/>
              </a:rPr>
              <a:t>形容对人或事物冷淡，不关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9"/>
          <p:cNvSpPr/>
          <p:nvPr/>
        </p:nvSpPr>
        <p:spPr>
          <a:xfrm>
            <a:off x="2143080" y="3357720"/>
            <a:ext cx="52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  <a:ea typeface="黑体"/>
              </a:rPr>
              <a:t>指使用脂粉等使容貌美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0"/>
          <p:cNvSpPr/>
          <p:nvPr/>
        </p:nvSpPr>
        <p:spPr>
          <a:xfrm>
            <a:off x="1928880" y="4071960"/>
            <a:ext cx="72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  <a:ea typeface="黑体"/>
              </a:rPr>
              <a:t>①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  <a:ea typeface="黑体"/>
              </a:rPr>
              <a:t>演员为了适合所扮演的角色的形象而修饰容貌。②改变装束、容貌；假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理清文章思路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539280" y="765000"/>
            <a:ext cx="8145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第一部分：写居里夫妇获得诺贝尔奖之后，世俗的喧嚣打破了他们宁静和沉思的生活，并介绍了实验室环境的荒僻、实验室的简陋、居里夫妇对工作的狂热及工作上的忧虑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第二部分：作者大量引用居里夫妇给朋友的信件，说明荣誉对他们工作的影响以及给他们带来的不安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第三部分：写居里夫妇拒绝荣誉的其他原因：他们的天性使然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第四部分：写居里夫人对权贵的态度，展现她对荣誉的不在乎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第五部分：详细叙述了居里夫人和一个美国记者的谈话过程，展现了她高尚的品格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wheel spokes="3"/>
    <p:sndAc>
      <p:stSnd>
        <p:snd r:embed="rId1" name="camera.wav"/>
      </p:stSnd>
    </p:sndAc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4"/>
          <p:cNvSpPr/>
          <p:nvPr/>
        </p:nvSpPr>
        <p:spPr>
          <a:xfrm>
            <a:off x="1839960" y="92700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标宋体"/>
              </a:rPr>
              <a:t>本文主要写了什么内容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755640" y="2349360"/>
            <a:ext cx="772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黑体"/>
                <a:ea typeface="黑体"/>
              </a:rPr>
              <a:t>    </a:t>
            </a:r>
            <a:r>
              <a:rPr b="0" lang="zh-CN" sz="4000" spc="-1" strike="noStrike">
                <a:solidFill>
                  <a:srgbClr val="003399"/>
                </a:solidFill>
                <a:latin typeface="黑体"/>
                <a:ea typeface="黑体"/>
              </a:rPr>
              <a:t>课文没有记述居里夫人获奖的经历，而是重点讲述了居里夫人获得诺贝尔物理奖后，面对荣誉和未来的生活态度与内心状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  <p:sndAc>
      <p:stSnd>
        <p:snd r:embed="rId1" name="camera.wav"/>
      </p:stSnd>
    </p:sndAc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5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5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5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4" descr="article_a5_1053"/>
          <p:cNvPicPr/>
          <p:nvPr/>
        </p:nvPicPr>
        <p:blipFill>
          <a:blip r:embed="rId1"/>
          <a:stretch/>
        </p:blipFill>
        <p:spPr>
          <a:xfrm>
            <a:off x="395280" y="836640"/>
            <a:ext cx="4211640" cy="453564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5"/>
          <p:cNvSpPr/>
          <p:nvPr/>
        </p:nvSpPr>
        <p:spPr>
          <a:xfrm>
            <a:off x="4932360" y="907920"/>
            <a:ext cx="388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标宋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标宋体"/>
              </a:rPr>
              <a:t>爱因斯坦说过：“在所有的著名人物中，居里夫人是唯一不被荣誉所腐蚀的人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。”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标宋体"/>
              </a:rPr>
              <a:t>根据课文的记述，说说居里夫人拒绝荣誉的原因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  <p:sndAc>
      <p:stSnd>
        <p:snd r:embed="rId2" name="camera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4" descr="4a09445e020005f5"/>
          <p:cNvPicPr/>
          <p:nvPr/>
        </p:nvPicPr>
        <p:blipFill>
          <a:blip r:embed="rId1"/>
          <a:stretch/>
        </p:blipFill>
        <p:spPr>
          <a:xfrm>
            <a:off x="468360" y="1052640"/>
            <a:ext cx="3402000" cy="446400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5"/>
          <p:cNvSpPr/>
          <p:nvPr/>
        </p:nvSpPr>
        <p:spPr>
          <a:xfrm>
            <a:off x="993600" y="571356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居里夫人求学时的巴黎大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3924360" y="1204920"/>
            <a:ext cx="468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黑体"/>
                <a:ea typeface="黑体"/>
              </a:rPr>
              <a:t>（</a:t>
            </a:r>
            <a:r>
              <a:rPr b="1" lang="en-US" sz="4400" spc="-1" strike="noStrike">
                <a:solidFill>
                  <a:srgbClr val="003399"/>
                </a:solidFill>
                <a:latin typeface="黑体"/>
                <a:ea typeface="黑体"/>
              </a:rPr>
              <a:t>1</a:t>
            </a:r>
            <a:r>
              <a:rPr b="1" lang="zh-CN" sz="4400" spc="-1" strike="noStrike">
                <a:solidFill>
                  <a:srgbClr val="003399"/>
                </a:solidFill>
                <a:latin typeface="黑体"/>
                <a:ea typeface="黑体"/>
              </a:rPr>
              <a:t>）</a:t>
            </a:r>
            <a:r>
              <a:rPr b="1" lang="zh-CN" sz="4400" spc="-1" strike="noStrike">
                <a:solidFill>
                  <a:srgbClr val="003399"/>
                </a:solidFill>
                <a:latin typeface="标宋体"/>
                <a:ea typeface="标宋体"/>
              </a:rPr>
              <a:t>对工作的狂热恐怕荒废时间。</a:t>
            </a:r>
            <a:r>
              <a:rPr b="1" lang="en-US" sz="4400" spc="-1" strike="noStrike">
                <a:solidFill>
                  <a:srgbClr val="003399"/>
                </a:solidFill>
                <a:latin typeface="标宋体"/>
                <a:ea typeface="标宋体"/>
              </a:rPr>
              <a:t>p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8"/>
          <p:cNvSpPr/>
          <p:nvPr/>
        </p:nvSpPr>
        <p:spPr>
          <a:xfrm>
            <a:off x="4067280" y="3236760"/>
            <a:ext cx="47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黑体"/>
                <a:ea typeface="黑体"/>
              </a:rPr>
              <a:t>（</a:t>
            </a:r>
            <a:r>
              <a:rPr b="1" lang="en-US" sz="4000" spc="-1" strike="noStrike">
                <a:solidFill>
                  <a:srgbClr val="003399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3399"/>
                </a:solidFill>
                <a:latin typeface="黑体"/>
                <a:ea typeface="黑体"/>
              </a:rPr>
              <a:t>）</a:t>
            </a:r>
            <a:r>
              <a:rPr b="1" lang="zh-CN" sz="4000" spc="-1" strike="noStrike">
                <a:solidFill>
                  <a:srgbClr val="003399"/>
                </a:solidFill>
                <a:latin typeface="标宋体"/>
                <a:ea typeface="标宋体"/>
              </a:rPr>
              <a:t>反抗荣誉不是居里夫人的原则，而是她的天性。</a:t>
            </a:r>
            <a:r>
              <a:rPr b="1" lang="en-US" sz="4000" spc="-1" strike="noStrike">
                <a:solidFill>
                  <a:srgbClr val="003399"/>
                </a:solidFill>
                <a:latin typeface="标宋体"/>
                <a:ea typeface="标宋体"/>
              </a:rPr>
              <a:t>p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  <p:sndAc>
      <p:stSnd>
        <p:snd r:embed="rId2" name="camera.wav"/>
      </p:stSnd>
    </p:sndAc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5"/>
          <p:cNvSpPr/>
          <p:nvPr/>
        </p:nvSpPr>
        <p:spPr>
          <a:xfrm>
            <a:off x="4356000" y="549360"/>
            <a:ext cx="4319640" cy="703440"/>
          </a:xfrm>
          <a:prstGeom prst="rect">
            <a:avLst/>
          </a:prstGeom>
          <a:solidFill>
            <a:srgbClr val="ffffff">
              <a:alpha val="91000"/>
            </a:srgbClr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标宋体"/>
                <a:ea typeface="标宋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标宋体"/>
                <a:ea typeface="标宋体"/>
              </a:rPr>
              <a:t>课文中引用了大量的私人信件和报道，还生动地记述了一些具有代表性的事件，从以上三个方面的内容中各举一例，说一说其在表达中有什么作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6" descr="article_7_1113"/>
          <p:cNvPicPr/>
          <p:nvPr/>
        </p:nvPicPr>
        <p:blipFill>
          <a:blip r:embed="rId1"/>
          <a:stretch/>
        </p:blipFill>
        <p:spPr>
          <a:xfrm>
            <a:off x="395280" y="620640"/>
            <a:ext cx="3576600" cy="540072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7"/>
          <p:cNvSpPr/>
          <p:nvPr/>
        </p:nvSpPr>
        <p:spPr>
          <a:xfrm>
            <a:off x="1187280" y="595008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居里夫妇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  <p:sndAc>
      <p:stSnd>
        <p:snd r:embed="rId2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46" name="图片 62467" descr="nobe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85840" y="785880"/>
            <a:ext cx="854064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标宋体"/>
                <a:ea typeface="标宋体"/>
              </a:rPr>
              <a:t>引用</a:t>
            </a:r>
            <a:r>
              <a:rPr b="1" lang="en-US" sz="4000" spc="-1" strike="noStrike">
                <a:solidFill>
                  <a:srgbClr val="000000"/>
                </a:solidFill>
                <a:latin typeface="标宋体"/>
                <a:ea typeface="标宋体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标宋体"/>
                <a:ea typeface="标宋体"/>
              </a:rPr>
              <a:t>巴黎回声报</a:t>
            </a:r>
            <a:r>
              <a:rPr b="1" lang="en-US" sz="4000" spc="-1" strike="noStrike">
                <a:solidFill>
                  <a:srgbClr val="000000"/>
                </a:solidFill>
                <a:latin typeface="标宋体"/>
                <a:ea typeface="标宋体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标宋体"/>
                <a:ea typeface="标宋体"/>
              </a:rPr>
              <a:t>的报道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标宋体"/>
              </a:rPr>
              <a:t>……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611280" y="2421000"/>
            <a:ext cx="770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标宋体"/>
                <a:ea typeface="标宋体"/>
              </a:rPr>
              <a:t>引用居里夫人给约瑟夫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标宋体"/>
              </a:rPr>
              <a:t>·</a:t>
            </a:r>
            <a:r>
              <a:rPr b="1" lang="zh-CN" sz="4000" spc="-1" strike="noStrike">
                <a:solidFill>
                  <a:srgbClr val="000000"/>
                </a:solidFill>
                <a:latin typeface="标宋体"/>
                <a:ea typeface="标宋体"/>
              </a:rPr>
              <a:t>斯可罗多夫斯基的信件内容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标宋体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7"/>
          <p:cNvSpPr/>
          <p:nvPr/>
        </p:nvSpPr>
        <p:spPr>
          <a:xfrm>
            <a:off x="611280" y="4365720"/>
            <a:ext cx="770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标宋体"/>
                <a:ea typeface="标宋体"/>
              </a:rPr>
              <a:t>记述居里夫人和贝卢夫人的谈话过程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标宋体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6"/>
          <p:cNvSpPr/>
          <p:nvPr/>
        </p:nvSpPr>
        <p:spPr>
          <a:xfrm>
            <a:off x="2357280" y="1500120"/>
            <a:ext cx="64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标宋体"/>
              </a:rPr>
              <a:t>表现了居里夫妇所受的打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7"/>
          <p:cNvSpPr/>
          <p:nvPr/>
        </p:nvSpPr>
        <p:spPr>
          <a:xfrm>
            <a:off x="857160" y="3714840"/>
            <a:ext cx="742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表现了居里夫人对荣誉的态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8"/>
          <p:cNvSpPr/>
          <p:nvPr/>
        </p:nvSpPr>
        <p:spPr>
          <a:xfrm>
            <a:off x="4143240" y="5072040"/>
            <a:ext cx="217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同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  <p:sndAc>
      <p:stSnd>
        <p:snd r:embed="rId1" name="camera.wav"/>
      </p:stSnd>
    </p:sndAc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4"/>
          <p:cNvSpPr/>
          <p:nvPr/>
        </p:nvSpPr>
        <p:spPr>
          <a:xfrm>
            <a:off x="5003640" y="1341360"/>
            <a:ext cx="3426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  <a:ea typeface="标宋体"/>
              </a:rPr>
              <a:t>       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标宋体"/>
              </a:rPr>
              <a:t>作者在客观的叙述当中包含了一种怎样的感情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5" descr="bkbk411108"/>
          <p:cNvPicPr/>
          <p:nvPr/>
        </p:nvPicPr>
        <p:blipFill>
          <a:blip r:embed="rId1"/>
          <a:stretch/>
        </p:blipFill>
        <p:spPr>
          <a:xfrm>
            <a:off x="900000" y="693720"/>
            <a:ext cx="3611520" cy="5472000"/>
          </a:xfrm>
          <a:prstGeom prst="rect">
            <a:avLst/>
          </a:prstGeom>
          <a:ln w="0">
            <a:noFill/>
          </a:ln>
        </p:spPr>
      </p:pic>
    </p:spTree>
  </p:cSld>
  <p:transition>
    <p:pull dir="d"/>
    <p:sndAc>
      <p:stSnd>
        <p:snd r:embed="rId2" name="camera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6"/>
          <p:cNvSpPr/>
          <p:nvPr/>
        </p:nvSpPr>
        <p:spPr>
          <a:xfrm>
            <a:off x="468360" y="692280"/>
            <a:ext cx="802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00"/>
                </a:solidFill>
                <a:latin typeface="黑体"/>
                <a:ea typeface="黑体"/>
              </a:rPr>
              <a:t>对母亲的赞佩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4"/>
          <p:cNvSpPr/>
          <p:nvPr/>
        </p:nvSpPr>
        <p:spPr>
          <a:xfrm>
            <a:off x="395280" y="2421000"/>
            <a:ext cx="8034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黑体"/>
                <a:ea typeface="黑体"/>
              </a:rPr>
              <a:t> </a:t>
            </a:r>
            <a:r>
              <a:rPr b="0" lang="zh-CN" sz="4400" spc="-1" strike="noStrike">
                <a:solidFill>
                  <a:srgbClr val="009900"/>
                </a:solidFill>
                <a:latin typeface="黑体"/>
                <a:ea typeface="黑体"/>
              </a:rPr>
              <a:t>对母亲受人打扰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00"/>
                </a:solidFill>
                <a:latin typeface="黑体"/>
                <a:ea typeface="黑体"/>
              </a:rPr>
              <a:t>感叹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5"/>
          <p:cNvSpPr/>
          <p:nvPr/>
        </p:nvSpPr>
        <p:spPr>
          <a:xfrm>
            <a:off x="324000" y="4437000"/>
            <a:ext cx="8248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00"/>
                </a:solidFill>
                <a:latin typeface="黑体"/>
                <a:ea typeface="黑体"/>
              </a:rPr>
              <a:t>对打扰母亲的人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00"/>
                </a:solidFill>
                <a:latin typeface="黑体"/>
                <a:ea typeface="黑体"/>
              </a:rPr>
              <a:t>不满与讽刺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图片 19462" descr="d35a10f42747294cddc47491"/>
          <p:cNvPicPr/>
          <p:nvPr/>
        </p:nvPicPr>
        <p:blipFill>
          <a:blip r:embed="rId1"/>
          <a:stretch/>
        </p:blipFill>
        <p:spPr>
          <a:xfrm>
            <a:off x="5724360" y="620640"/>
            <a:ext cx="3419640" cy="5329440"/>
          </a:xfrm>
          <a:prstGeom prst="rect">
            <a:avLst/>
          </a:prstGeom>
          <a:ln w="0">
            <a:noFill/>
          </a:ln>
        </p:spPr>
      </p:pic>
    </p:spTree>
  </p:cSld>
  <p:transition>
    <p:pull dir="d"/>
    <p:sndAc>
      <p:stSnd>
        <p:snd r:embed="rId2" name="camera.wav"/>
      </p:stSnd>
    </p:sndAc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85840" y="4996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Times New Roman"/>
                <a:ea typeface="黑体"/>
              </a:rPr>
              <a:t>本文的写作特点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01680" y="1643040"/>
            <a:ext cx="854064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 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．引用了大量的事实材料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作者力求客观真实地讲述居里夫人的生活，在课文中引用了大量的私人信件和公开的采访报道，还生动地记述了一些具有代表性的事件，真实地表现了居里夫人的精神境界和高尚品格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Times New Roman"/>
              </a:rPr>
              <a:t> 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．饱含了作者浓烈的主观情感。（有时难免有失公允。如对崇仰居里夫人的人们的讽刺）</a:t>
            </a:r>
            <a:br>
              <a:rPr sz="3200"/>
            </a:b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pull dir="d"/>
    <p:sndAc>
      <p:stSnd>
        <p:snd r:embed="rId1" name="camera.wav"/>
      </p:stSnd>
    </p:sndAc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2" descr="撒打算"/>
          <p:cNvPicPr/>
          <p:nvPr/>
        </p:nvPicPr>
        <p:blipFill>
          <a:blip r:embed="rId1"/>
          <a:stretch/>
        </p:blipFill>
        <p:spPr>
          <a:xfrm>
            <a:off x="2357280" y="428760"/>
            <a:ext cx="3657600" cy="335268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3"/>
          <p:cNvSpPr/>
          <p:nvPr/>
        </p:nvSpPr>
        <p:spPr>
          <a:xfrm>
            <a:off x="971640" y="4149720"/>
            <a:ext cx="69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1934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年</a:t>
            </a:r>
            <a:r>
              <a:rPr b="1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7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月</a:t>
            </a:r>
            <a:r>
              <a:rPr b="1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日，居里夫人辛勤的一生结束了。回顾居里夫人的一生，她是一位具有春蚕品格的漠视荣誉的伟人，她永远是我们青年一代学习的榜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3"/>
          <p:cNvSpPr/>
          <p:nvPr/>
        </p:nvSpPr>
        <p:spPr>
          <a:xfrm rot="20868600">
            <a:off x="940680" y="1427400"/>
            <a:ext cx="1003320" cy="23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宋体"/>
              </a:rPr>
              <a:t>以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7"/>
          <p:cNvSpPr/>
          <p:nvPr/>
        </p:nvSpPr>
        <p:spPr>
          <a:xfrm rot="1023600">
            <a:off x="6441840" y="1431000"/>
            <a:ext cx="10033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宋体"/>
              </a:rPr>
              <a:t>论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2" name="chimes.wav"/>
      </p:stSnd>
    </p:sndAc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99"/>
                </a:solidFill>
                <a:latin typeface="Arial"/>
              </a:rPr>
              <a:t>课下作业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、掌握文中的字词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、写一篇人物传记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、处理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活页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上习题及单元练习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split dir="out" orient="horz"/>
    <p:sndAc>
      <p:stSnd>
        <p:snd r:embed="rId1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8" descr="220053251701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11456344352122483"/>
          <p:cNvPicPr/>
          <p:nvPr/>
        </p:nvPicPr>
        <p:blipFill>
          <a:blip r:embed="rId2"/>
          <a:stretch/>
        </p:blipFill>
        <p:spPr>
          <a:xfrm>
            <a:off x="638280" y="331920"/>
            <a:ext cx="4654440" cy="612144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6"/>
          <p:cNvSpPr/>
          <p:nvPr/>
        </p:nvSpPr>
        <p:spPr>
          <a:xfrm>
            <a:off x="6664320" y="221760"/>
            <a:ext cx="1185840" cy="58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标宋体"/>
              </a:rPr>
              <a:t>居里夫人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5728320" y="3429360"/>
            <a:ext cx="789840" cy="32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艾芙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·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居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3" name="wind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4"/>
          <p:cNvSpPr/>
          <p:nvPr/>
        </p:nvSpPr>
        <p:spPr>
          <a:xfrm>
            <a:off x="1187280" y="1628640"/>
            <a:ext cx="741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  <a:ea typeface="标宋体"/>
              </a:rPr>
              <a:t>      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标宋体"/>
              </a:rPr>
              <a:t>在所有的著名人物中，居里夫人是唯一不被荣誉所腐蚀的人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3240000" y="436572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（美国物理学家）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仿宋_GB2312"/>
              </a:rPr>
              <a:t>爱因斯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图片 68610" descr="d35a10f42747294cddc4749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765000"/>
            <a:ext cx="9144000" cy="5256360"/>
          </a:xfrm>
          <a:prstGeom prst="rect">
            <a:avLst/>
          </a:prstGeom>
          <a:ln w="0">
            <a:noFill/>
          </a:ln>
        </p:spPr>
      </p:pic>
      <p:sp>
        <p:nvSpPr>
          <p:cNvPr id="255" name="矩形 68611"/>
          <p:cNvSpPr/>
          <p:nvPr/>
        </p:nvSpPr>
        <p:spPr>
          <a:xfrm>
            <a:off x="324000" y="1125360"/>
            <a:ext cx="79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     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故   事   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1895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年，居里夫人和比埃尔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·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居里结婚时，新房里只有两把椅子，正好两人各一把。比埃尔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·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居里觉得椅子太少，建议多添几把，以免客人来了没地方坐，居里夫人却说：“有椅子是好的，可是，客人坐下来就不走啦。为了多一点时间搞研究，还是算了吧。”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图片 74754" descr="d35a10f42747294cddc4749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矩形 74755"/>
          <p:cNvSpPr/>
          <p:nvPr/>
        </p:nvSpPr>
        <p:spPr>
          <a:xfrm>
            <a:off x="0" y="620640"/>
            <a:ext cx="828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                     </a:t>
            </a: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故    事     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从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953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年起，居里夫人的年薪已增至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万法郎，但她照样“吝啬”。她每次从国外回来，总要带回一些宴会上的菜单，因为这些菜单都是很厚很好的纸片，在背面写字很方便。难怪有人说居里夫人一直到死都“像一个匆忙的贫穷妇人”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图片 77826" descr="d35a10f42747294cddc4749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</p:spPr>
      </p:pic>
      <p:sp>
        <p:nvSpPr>
          <p:cNvPr id="261" name="矩形 77827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故   事   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居里夫人天下闻名，但她既不求名也不求利。她一生获得各种奖金</a:t>
            </a: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10</a:t>
            </a: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次，各种奖章</a:t>
            </a: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16</a:t>
            </a: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枚，各种名誉头衔</a:t>
            </a: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117</a:t>
            </a: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个，却全不在意。有一天，她的一位朋友来她家做客，忽然看见她的小女儿正在玩英国皇家学会刚刚颁发给她的金质奖章，于是惊讶地说“居里夫人，得到一枚英国皇家学会的奖章，是极高的荣誉，你怎么能给孩子玩呢</a:t>
            </a: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?”</a:t>
            </a: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居里夫人笑了笑说：“我是想让孩子从小就知道，荣誉就像玩具，只能玩玩而已，绝不能看得太重，否则就将一事无成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-360" y="907560"/>
            <a:ext cx="8893080" cy="572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居里夫人有两个女儿。“把握智力发展的年龄优势”是居里夫人开发孩子智力的重要“诀窍”。早在女儿不足周岁的时候，居里夫人就引导孩子进行幼儿智力体操训练，引导孩子广泛接触陌生人，去动物园观赏动物，让孩子学游泳，欣赏大自然的美景。孩子稍大一些，她就教她们做一种带艺术色彩的智力体操，教她们唱儿歌、讲童话。再大一些，就让孩子进行智力训练，教她们识字、弹琴、搞手工制作等等，还教她们骑车、骑马。 继居里夫人和她的丈夫获诺贝尔奖之后，由居里夫人培养成才的两对后辈也相继获得诺贝尔奖：长女伊伦娜，核物理学家，她与丈夫约里奥因发现人工放射物质而共同获得诺贝尔化学奖。次女艾芙，音乐家、传记作家，其丈夫曾以联合国儿童基金组织总干事的身份荣获</a:t>
            </a:r>
            <a:r>
              <a:rPr b="1" lang="en-US" sz="2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956</a:t>
            </a:r>
            <a:r>
              <a:rPr b="1" lang="zh-CN" sz="2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诺贝尔和平奖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1523880" y="0"/>
            <a:ext cx="4572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故   事  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图片 79874" descr="d35a10f42747294cddc4749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</p:spPr>
      </p:pic>
      <p:sp>
        <p:nvSpPr>
          <p:cNvPr id="266" name="矩形 79875"/>
          <p:cNvSpPr txBox="1"/>
          <p:nvPr/>
        </p:nvSpPr>
        <p:spPr>
          <a:xfrm>
            <a:off x="1835280" y="2708280"/>
            <a:ext cx="47242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楷体_GB2312"/>
              </a:rPr>
              <a:t>诺贝尔奖</a:t>
            </a:r>
            <a:endParaRPr b="0" lang="en-US" sz="18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5T23:51:35Z</dcterms:created>
  <dc:creator>HEDY</dc:creator>
  <dc:description/>
  <dc:language>en-US</dc:language>
  <cp:lastModifiedBy>admin</cp:lastModifiedBy>
  <dcterms:modified xsi:type="dcterms:W3CDTF">2019-04-22T03:54:38Z</dcterms:modified>
  <cp:revision>4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612</vt:lpwstr>
  </property>
  <property fmtid="{D5CDD505-2E9C-101B-9397-08002B2CF9AE}" pid="3" name="NXTAG2">
    <vt:lpwstr>0008004a0a000000000001024120</vt:lpwstr>
  </property>
</Properties>
</file>