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B40A-424F-42CB-8C39-724AE9C9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5693-BD78-4789-B683-A606E5CA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559F-5249-474B-8665-284085BB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CF0A-9D9A-40DE-A2AD-0310AFBA2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0F55-A801-4A18-8702-24F27425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CB71-B5FC-407D-893E-CC9A9F12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62C9-6FA1-4EB6-A60B-486BBCF9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FA6F-182E-4888-9BA8-127C4EFD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CECE-D6AC-4675-9E88-E2608336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8E0A-E0B3-4D95-8AC3-FFE75AEC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6599-AA59-4AEF-8EEC-2CF61F8B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FB55-12E1-4827-9E95-0921F21B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3194-6723-4869-BBAE-F84AD2FB0D1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5543D19-F493-4D2A-AED6-EBAC6B0C9E34}" type="datetime10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18:2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C9C8-2650-4D6D-99BD-5DAEACBF5D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8120" y="184464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cc"/>
                </a:solidFill>
                <a:latin typeface="华文彩云"/>
                <a:ea typeface="华文彩云"/>
              </a:rPr>
              <a:t>解    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82600" y="350028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金陵十二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9BFF7-6CEA-43D8-86A5-8A8A014E5974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三、    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</a:rPr>
              <a:t>妙玉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出身于苏州一个“读书仕宦之家”，因自小多病才出家当了尼姑。她“文墨也极通”，“模样又极好”，也是大观园中的一位姣姣者。说她“洁”，是因她嫌世俗社会纷纷扰扰不清净才遁人空门，这是一层含义；她又有“洁癖”，她想一尘不染，但那个社会不会给她准备那样的条件，命运将把她安排到最不洁净的地方去。按规矩，出家就要“六根净除”，可她偏要“带发修行”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是她尘心末断的一个根据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20E1EF-93FC-4ED6-B288-FDC74AD3534F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181440" y="-360"/>
            <a:ext cx="50770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凡鸟偏从末世来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,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都知爱慕此生才； 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从二令三人木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,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哭向金陵事更哀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3353C-6B65-4251-A3C9-4E84FBD1D647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3581280"/>
            <a:ext cx="8424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王熙凤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机关算尽太聪明，反算了卿卿性命！生前心已碎，死后性空灵。家富人宁；终有个，家亡人散各奔腾。枉费了意悬悬半世心，好一似，荡悠悠三更梦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忽喇喇似大厦倾，昏惨惨似灯将尽。呀！一场欢喜忽悲辛。叹人世，终难定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3CE2D-DE76-44FE-AA1C-52FA499B5D7A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三、   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王熙凤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是“护官符”说的“龙王来请金陵王”的王家的小姐；嫁给荣府贾琏为妻。她的姑母是贾政的妻子，即宝玉之母王夫人。 王熙风掌荣府管家大权的时代，已是这个家族走下坡路的时期了。王熙风实际上是荣国府日常生活的轴心。她姿容美丽，秉性聪明，口齿伶俐，精明干练，秦可卿托梦时说她：“你是脂粉队里的英雄，连那些束带顶冠的男子也不能过你。”有日理万机的才干。然而她心性歹毒，为了满足无止境的贪欲，克扣月银，放高利贷，接受巨额贿赂，为此可以杀人不眨眼，什么缺德的事全干得出来，是个吃人不吐骨头的女魔王。她的才能和她的罪恶像水和面揉在了一起。因此当贾家败落时，第一个倒霉的就是她，将要凄惨地结束其短暂的一生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3131F-9DE2-44EC-A6E6-C9EDC3FBECE9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0036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才自清明志自高，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生于末世运偏消； 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清明涕泣江边望，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千里东风一梦遥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8BA6E-34ED-4CF4-92F2-B3BA4D64CBD8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00720" y="98100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探春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帆风雨路三千，把骨肉家园，齐来抛闪。恐哭损残年。告爹娘，休把儿悬念：自古穷通皆有定，离合岂无缘？从今分两地，各自保平安。奴去也，莫牵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D71D7-7B0B-4EB5-8F8A-75A203EFFA41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四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探春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是贾政的小老婆赵姨娘生的。在贾家四姊妹中她排行老三，是最聪明、最有才干的一个。说她志向高，是她想有一番作为。“敏探春兴利除宿弊”一回，写她代凤姐管理一段大观园，把那么纷繁的事务，一宗一件管理得井井有条，表现出不一般的才干，其精明几乎不在凤姐之下。 她在封建观念影响下，以自己是“庶出”为耻；加上赵姨娘为人卑琐，她就干脆不认她作娘。她同姐姐迎春懦弱的性格截然相反，人称“玫瑰花”，又鲜艳又有刺。这样一个才貌双全的娇小姐，随着家族末落，命运也一样令人悲哀，年轻轻的就远嫁异乡，路远山遥，断绝了与家人的联系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FA459F-0D52-4C2A-8A03-C814B69FB4A2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788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二十年来辨是非，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榴花开处照宫闱； 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三春争及初春景，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虎兔相逢大梦归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0C532-4371-44B7-A4BD-6D87D4BECB3D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636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140360" y="1268280"/>
            <a:ext cx="50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元春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喜荣华正好，恨无常又到。眼睁睁，把万事全抛。荡悠悠，芳魂销耗。望家乡，路远山高。故向爹娘梦里相寻告：儿命已入黄泉，天伦啊，须要退步抽身早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EC7E0-DAA7-4E16-88DC-7498418BD015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六、    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Times New Roman"/>
              </a:rPr>
              <a:t>元春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是贾家的大小姐，贾政的长女。她以“贤孝才德”被选进宫里做了女史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女官名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，后来又被晋封为“风藻宫尚书”，加封“贤德纪”，是荣府女性中地位最高的一位。贾家煊赫的势力，除靠祖宗功名基业外，还靠着家里出了“皇娘”这层重要关系。元春一死，靠山倒了，这个赫赫扬扬经历百载的贵族之家就要迅速土崩瓦解。元春虽然在书中出现的机会很少，但她的存在与否与这个大家族的兴衰紧紧联系着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D9674-86BD-4884-A1E8-9CB718B10E40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4140360" cy="48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可叹停机德，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堪怜咏絮才！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玉带林中挂，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金簪雪里埋！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13760" y="609480"/>
            <a:ext cx="5493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73244-EDAC-4415-924F-E0395F1E2372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007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子系中山狼，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得志便猖狂； 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金闺花柳质，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载赴黄梁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B811E-3833-4087-86A1-CFA796A63DD5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488960"/>
            <a:ext cx="50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迎春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中山狼，无情兽。全不念当日根由。一味的，骄奢淫荡贪欢媾。觑着那，侯门艳质同蒲柳；作践的，公府千金似下流。叹芳魂艳魄，一载荡悠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E1263-B4FE-44F0-B604-05301C9481D3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五、    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</a:rPr>
              <a:t>迎春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是荣府大老爷贾赦的妾所生的女儿。她长得很美，虽然没有才华，但心地纯洁善良。因性格懦弱，又排行老二，人称“二木头”。后来她被其父许配给孙绍祖。孙绍祖的先人因有“不能了结之事”，才拜在贾家门下，靠贾家的势力起家的。这个孙绍祖家资饶富，并且“应酬权变”，在官场中很走运，正在兵部等待提升，所以贾赦就选他做了“东床快婿”。孙绍祖品质恶劣，连贾政都不同意这门亲事，但贾赦不听。迎春嫁过去之后，受尽种种虐待，一年之内就被折磨死了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28CE6-326E-4E62-A2B7-7A582D295184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7163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8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勘破三春景不长，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缁衣顿改昔年妆； 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可怜绣户候门女，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独卧青灯古佛旁。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62459-3BE9-4B30-974D-B8ADCD538006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4920" y="1044720"/>
            <a:ext cx="648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惜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将那三春看破，桃红柳绿待如何？把这韶华打灭，觅那清淡天和。说什么天上夭桃盛，云中杏蕊多？到头来，谁见把秋捱过？则看那，白杨村里人呜咽，青枫林下鬼吟哦。更兼着，连天衰草遮坟墓，这的是，昨贫今富人劳碌，春荣秋谢花折磨。似这般，生关死劫谁能躲？闻说道，西方宝树唤婆娑，上结着长生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03280" y="5664240"/>
            <a:ext cx="482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897FC-48EE-4F0E-BB6D-BA68D1381501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七、    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Times New Roman"/>
              </a:rPr>
              <a:t>惜春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是宁国府贾敬的女儿，贾珍的胞妹。她是贾家四位千金中最小的一个，从小就厌恶世俗，向往当尼姑，小时爱和馒头庵的小尼姑智能儿玩，后来又和妙玉成了朋友。惜春眼看着当了娘娘的大姐元春短命天亡，二姐迎春出嫁不久被折磨死，三姐探春远嫁异国他乡音信渺茫，都没有好遭遇，所以才“看破红尘”毅然出家的。据脂砚斋的批语说，她将来要有“绍衣乞食”的经历，也就是要靠沿门托钵乞讨生活，真够可怜了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1D0B1-B976-4EC2-B098-2959708DD76B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4680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幼圆"/>
                <a:ea typeface="幼圆"/>
              </a:rPr>
              <a:t>9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幼圆"/>
                <a:ea typeface="幼圆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幼圆"/>
                <a:ea typeface="幼圆"/>
              </a:rPr>
              <a:t>势败休云贵，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幼圆"/>
                <a:ea typeface="幼圆"/>
              </a:rPr>
              <a:t>   家亡莫论亲； 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幼圆"/>
                <a:ea typeface="幼圆"/>
              </a:rPr>
              <a:t>   偶因济村妇，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幼圆"/>
                <a:ea typeface="幼圆"/>
              </a:rPr>
              <a:t> 巧得遇恩人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2A777-773C-411C-8777-A4AB5E88CD03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140360" y="765000"/>
            <a:ext cx="47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巧姐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留余庆，留余庆，忽遇恩人；幸娘亲，幸娘亲，积得阴功。劝人生，济困扶穷。休似俺那爱银钱、忘骨肉的狠舅奸兄！正是乘除加减，上有苍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F1CA7-1BD8-4491-B50B-AA8D9A03F08C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十一、 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巧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是王熙凤的独生女。判词前的画面暗示她将嫁给一个庄稼汉，成为做饭纺织的农村妇女。从锦衣玉食的公府千金，沦为喂猪打狗的农妇，这是多么大的变化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!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在作者看来，这也是命运的戏弄。有人根据甄士隐＜好了歌解注＞里“择膏粱，谁承望流落在烟花巷”一句的提示，推测巧姐要被卖到妓院为娼，后被刘姥姥救出，同刘姥姥的外孙板儿结为夫妇。这个推测从书中可以找到根据。第四十一回写巧姐和板儿交换柚子和佛手的情节，很可能是预示他们未来的关系。板儿是农家孩子，将来是农民无疑，嫁给他才能纺线织布。　　“势败休云贵，家亡莫论亲”，正是对上层社会人情冷暖、世态炎凉的慨叹。倒是刘姥姥这个穷老太婆，受人滴水之恩，常思涌泉以报，使人感到人性善良的一面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1187F8-F1A0-4D11-8712-8B9E3D1A0849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672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宝贵又何为？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襁褓之间父母违； 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展眼吊斜辉，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湘江水逝楚云飞。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A8F9C-B71E-464C-AEE5-E20AF7241B1F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346040"/>
            <a:ext cx="51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一个是阆苑仙葩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一个是美玉无瑕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若说没奇缘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今生偏又遇着他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若说有奇缘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如何心事终虚化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一个枉自嗟呀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一个空劳牵挂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一个是水中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一个是镜中花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想眼中能有多少泪珠儿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怎经得秋流到冬尽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春流到夏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7E86B-4A3B-47D3-A36B-D75D8DA63144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87280" y="115920"/>
            <a:ext cx="889308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史湘云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襁褓中，父母叹双亡。纵居那绮罗丛，谁知娇养？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幸生来，英豪阔大宽宏量，从未将儿女私情，略萦心上。好一似，霁月光风耀玉堂。厮配得才貌仙郎，博得个地久天长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准折得幼年时坎坷形状。终久是云散高唐，水涸湘江：这是尘寰中消长数应当，何必枉悲伤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3051E-DC36-4A48-B290-3DA68BD7D14C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八、    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</a:rPr>
              <a:t>湘云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是保龄侯尚书令史家的姑娘，即史太君的侄孙女。她生下不久，就失去父母慈爱，成为孤儿，在叔婶跟前长大。她到大观园来，是她最高兴的时刻，这时她大说大笑，又活泼，又调皮；可是一到不得不回家时，情绪就顿时冷落下来，一再嘱咐宝玉提醒贾母常去接她，凄凄惶惶地洒泪而去，可见在家时日子过得很不痛快。这样一个健美开朗的女儿，结局就是她婚后的生活犹如美丽的晚霞转瞬间即失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58999-0E90-4F0D-91A4-04B1CE2CB7DC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356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11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情天情海幻情深，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情既相逢必主淫；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漫言不肖皆荣出，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造衅开端实在宁。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389AD5-1C63-4620-9FDF-D3BBDFF1DA8F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382920" y="1916280"/>
            <a:ext cx="5726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秦可卿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画梁春尽落香尘。擅风情，秉月貌，便是败家的根本。箕裘颓堕皆从敬，家事消亡首罪宁。宿孽总因情！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3ECB9-AC96-4D05-B1F1-63F2C1B089BF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  秦可卿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父亲秦业现任营缮郎，年近七十，人早亡。 因当年无儿女，便向养生堂抱了一个儿子并一个女 儿。谁知儿子又死了，只剩女儿，小名唤可儿，长 大时，生得形容袅娜，性格风流。因与贾家有些瓜葛，故结了亲，许与贾蓉为妻。因她生得袅娜纤巧，行事又温柔和平，乃重孙媳中第一得意之人秦可卿在《红楼梦》中的“戏”并不多，其形像也并不丰满；她的重要性在于体现全书的主旨。秦可卿者， “情可轻”也。“情天情海幻情深，情既相逢必主淫”；“擅风情，秉月貌，便是败家的根本”。这便是对她的性格的本质概括。作者意在通过她与贾珍的私通乱伦，以表现贾府在精神道德上的腐败，亦即“败家的根本”；通过她那豪奢至极的丧事，写贾府豪华中的衰败。她托梦凤姐的那些话，是贾府较为清醒的统治者的共同预感和隐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0AD7F-EFFD-4BED-A903-4AACC1AB20EF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196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桃李春风结子完，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到头谁似一盆兰； 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如冰水好空相妒，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枉与他人作笑谈。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48B3C-1171-4ABD-B053-61F7B0EF580B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620640"/>
            <a:ext cx="52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李纨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镜里恩情，更那堪梦里功名！那美韶华去之何讯！再休提绣帐鸳衾。只这戴珠冠，披凤袄，也抵不了无常性命。虽说是，人生莫受老来贫，也须要阴骘积儿孙。气昂昂，头戴簪缨，光灿灿，胸悬金印，威赫赫，爵禄高登，——昏惨惨，黄泉路近！问古来将相可还存？也只是虚名儿后人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4F331-C75B-4982-A7B6-3CF8DC15716B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十二、    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</a:rPr>
              <a:t>李纨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是宝玉的亲嫂子。她与其夫贾珠婚后生了贾兰，不久丈夫就死了。李纨同其姻娌王熙凤为人恰恰相反。王熙凤像一团烈火，她像一堆死灰；王熙凤像一把利刃，她像一块面团；王熙凤贪求无厌，她与世无争。在大观园诸女性中，她是最默默无闻的一个，她不注意别人，别人也不注意她。贾家没落后，贾兰要靠读书求取功名，“头戴簪缨”，“胸悬金印”，当一个大大的官；李纨要因此受诰封，“戴珠冠，披风袄”，荣耀一番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E0C24-6BF3-4223-8BF6-0D1CADAE6415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213760" y="609480"/>
            <a:ext cx="5493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-38088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3520" y="380880"/>
            <a:ext cx="5490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640" y="457200"/>
            <a:ext cx="12776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感谢光临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E573F-FD93-45DA-8A73-345239C4F3DE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一、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Times New Roman"/>
              </a:rPr>
              <a:t>林黛玉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是个绝顶聪慧的才女。她的才华是大观园群芳之冠，是智慧的女神。她从小失去父母，寄养在外祖母家，尽管是贾母的“心肝肉”，可是以她的敏感，总摆脱不了一种孤独感。特别是在对宝玉的爱情上，几乎到了神经过敏的程度。在荣国府那样的环境里，越敏感的人就越忍受不了。黛玉的悲剧就在于她不会像宝钗那样会装“糊涂”，她太聪明了。锋芒毕露，最后凄凄惨惨地不幸天折 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43451-3D9B-4BC6-B108-CE7CF641FC66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4284720" cy="48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可叹停机德，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堪怜咏絮才！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玉带林中挂，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金簪雪里埋！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213760" y="609480"/>
            <a:ext cx="5493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988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A5C8C-2C72-4C87-AC2B-B7DCA950D238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9280" y="620640"/>
            <a:ext cx="43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薛宝钗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都道是金玉良缘，俺只念木石前盟。空对着，山中高士晶莹雪；终不忘，世外仙姝寂寞林。叹人间，美中不足今方信：纵然是齐眉举案，到底意难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AF4FA-FD7B-479E-9C46-FE6A2A2D9B92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二、   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Times New Roman"/>
              </a:rPr>
              <a:t>宝钗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有封建阶级女性最标准的品德。她“品格端方，容貌丰美”，“行为豁达，随分从时”，荣府主奴上下都喜欢她。作者又说她“罕言寡语，人谓藏愚；安分随时，自云守拙”，按当时贤惠女子的标准，她几乎达到无可挑剔的“完美”程度。但她对周围恶浊的环境太适应了，并且有时还不自觉地为恶势力帮一点小忙。她自己既是封建礼教的卫道士，又是个封建道德的受害者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0D6BD-E17F-46A4-889F-0278ECA146DB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6432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欲洁何曾洁，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  云空未必空。 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  可怜金玉质，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  终陷淖泥中。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6D6ED-CD38-4E6D-BC1B-D94915645DF4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859280" y="476280"/>
            <a:ext cx="42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妙玉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气质美如兰，才华馥比仙。天生成孤僻人皆罕。你道是啖肉食腥膻，视绮罗俗厌；却不知好高人愈妒，过洁世同嫌。可叹这，青灯古殿人将老，孤负了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红粉朱楼春色阑！到头来，依旧是风尘肮脏违心愿；好一似，无瑕白玉遭泥陷；又何须，王孙公子叹无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老Q课件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9A528-04E1-486E-9A12-47FAF3445CE7}" type="datetime8">
              <a:rPr lang="en-US"/>
              <a:t>07/30/26 18: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7T07:45:30Z</dcterms:created>
  <dc:creator>田东海伦</dc:creator>
  <dc:description/>
  <dc:language>en-US</dc:language>
  <cp:lastModifiedBy>GYSZ</cp:lastModifiedBy>
  <dcterms:modified xsi:type="dcterms:W3CDTF">2005-03-10T08:48:09Z</dcterms:modified>
  <cp:revision>15</cp:revision>
  <dc:subject/>
  <dc:title>PowerPoint 演示文稿</dc:title>
</cp:coreProperties>
</file>