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E37-3DE6-47E4-891A-1112F699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BED-D8A1-4075-B5F8-FBED53DB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A39-1FEB-4424-88F1-2C2CE28B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A51-3341-413D-990C-345DF254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D6E-ECF7-4BF0-BB1B-ED792FCC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865-8BEF-4D5F-941A-250A2C4D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633-138A-43CB-BBB7-7521551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112-B14B-47AC-8A4E-4BE05016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D3D-82C2-438E-8DD3-3686F952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703-30EF-4DBA-AD38-6AA61F7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6C8-2CBE-4DE5-8295-CD1F448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328-3051-4969-9DE3-96AA976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7695-BF62-4ED8-9BD5-F4F81543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j_yuxiang.r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_AC505BF6BD78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4"/>
          <p:cNvSpPr txBox="1"/>
          <p:nvPr/>
        </p:nvSpPr>
        <p:spPr>
          <a:xfrm rot="5400000">
            <a:off x="-432000" y="2104920"/>
            <a:ext cx="5330880" cy="20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ff00"/>
                </a:solidFill>
                <a:latin typeface="华文彩云"/>
              </a:rPr>
              <a:t>蒹葭</a:t>
            </a:r>
            <a:endParaRPr b="1" lang="en-US" sz="4400" spc="1" strike="noStrike">
              <a:ln w="9360">
                <a:solidFill>
                  <a:srgbClr val="ff6600"/>
                </a:solidFill>
                <a:round/>
              </a:ln>
              <a:solidFill>
                <a:srgbClr val="ffff00"/>
              </a:solidFill>
              <a:latin typeface="华文彩云"/>
              <a:ea typeface="华文彩云"/>
            </a:endParaRPr>
          </a:p>
        </p:txBody>
      </p:sp>
      <p:pic>
        <p:nvPicPr>
          <p:cNvPr id="43" name="jj_jj.MP3" descr=""/>
          <p:cNvPicPr/>
          <p:nvPr/>
        </p:nvPicPr>
        <p:blipFill>
          <a:blip r:embed="rId2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1979640" y="2421000"/>
            <a:ext cx="590544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彩云"/>
              </a:rPr>
              <a:t>在水一方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50920" y="62064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苍苍　白雾茫茫　有位佳人　在水一方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萋萋　白雾迷离　有位佳人　靠水而居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逆流而上　依偎在她身旁　无奈前有险滩　道路又远又长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顺流而下　找寻她的方向　却见依稀彷佛　她在水的中央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苍苍　白雾茫茫　有位佳人　在水一方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逆流而上　与她轻言细语　无奈前有险滩　道路曲折无已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顺流而下　找寻她的踪迹　却见彷佛依稀　她在水中伫立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苍苍　白雾茫茫　有位佳人　在水一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030"/>
          <p:cNvSpPr/>
          <p:nvPr/>
        </p:nvSpPr>
        <p:spPr>
          <a:xfrm>
            <a:off x="-252360" y="189000"/>
            <a:ext cx="3635280" cy="3600360"/>
          </a:xfrm>
          <a:prstGeom prst="verticalScroll">
            <a:avLst>
              <a:gd name="adj" fmla="val 1116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31"/>
          <p:cNvSpPr/>
          <p:nvPr/>
        </p:nvSpPr>
        <p:spPr>
          <a:xfrm>
            <a:off x="3166920" y="260280"/>
            <a:ext cx="597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我国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第一部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歌总集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共收入自西周初年至春秋中叶大约五百多年的诗歌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5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。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共有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风、雅、颂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个部分。其中风包括十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国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有诗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；雅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大雅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雅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有诗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05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；颂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周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鲁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商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有诗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。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我国文学光辉的起点，是我国文学发达很早的标志，它所表现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饥者歌其食，劳者歌其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现实主义精神对后世文学影响最大。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我国乃至世界文化史上都占有极高的地位。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32"/>
          <p:cNvSpPr/>
          <p:nvPr/>
        </p:nvSpPr>
        <p:spPr>
          <a:xfrm>
            <a:off x="0" y="465300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表现手法，前人概括为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赋、比、兴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朱熹在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集传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解释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赋者，敷陈其事而直言之者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比者，以此物比彼物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兴者，先言他物以引起所咏之词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这种解释比较通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33">
            <a:hlinkClick r:id="" action="ppaction://hlinkshowjump?jump=first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无标题"/>
          <p:cNvPicPr/>
          <p:nvPr/>
        </p:nvPicPr>
        <p:blipFill>
          <a:blip r:embed="rId1"/>
          <a:stretch/>
        </p:blipFill>
        <p:spPr>
          <a:xfrm>
            <a:off x="4280040" y="0"/>
            <a:ext cx="4863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0" y="0"/>
            <a:ext cx="640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苍苍，白露为霜。所谓伊人，在水一方。溯洄从之，道阻且长。溯游从之，宛在水中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萋萋，白露未晞。所谓伊人，在水之湄。溯洄从之，道阻且跻。溯游从之，宛在水中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采采，白露未已。所谓伊人，在水之泗。 溯洄从之，道阻且右。溯游从之，宛在水中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无标题"/>
          <p:cNvPicPr/>
          <p:nvPr/>
        </p:nvPicPr>
        <p:blipFill>
          <a:blip r:embed="rId1"/>
          <a:stretch/>
        </p:blipFill>
        <p:spPr>
          <a:xfrm>
            <a:off x="4280040" y="0"/>
            <a:ext cx="4863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27"/>
          <p:cNvSpPr/>
          <p:nvPr/>
        </p:nvSpPr>
        <p:spPr>
          <a:xfrm>
            <a:off x="0" y="0"/>
            <a:ext cx="64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隶书"/>
              </a:rPr>
              <a:t>苍苍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，白露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为霜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所谓伊人，在水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一方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洄从之，道阻且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长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游从之，宛在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水中央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隶书"/>
              </a:rPr>
              <a:t>萋萋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，白露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未晞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所谓伊人，在水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之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洄从之，道阻且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跻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游从之，宛在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水中坻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隶书"/>
              </a:rPr>
              <a:t>采采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，白露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未已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所谓伊人，在水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之涘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 溯洄从之，道阻且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右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游从之，宛在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水中沚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889308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雨 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撑着油纸伞，独自彷徨在悠长，悠长 又寂寥的雨巷，我希望逢着一个丁香一样地 结着愁怨的姑娘。 她是有丁香一样的颜色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丁香一样的芬芳，丁香一样的忧愁， 在雨中哀怨， 哀怨又彷徨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彷徨在这寂寥的雨巷 撑着油纸伞像我一样， 像我一样地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默行着 冷漠，凄清，又惆怅。 她静默地走近 走近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投出太息一般的眼光， 她飘过 像梦一般地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梦一般地凄婉迷茫。 像梦中飘过 一枝丁香地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身旁飘过这女郎； 她静默地远了，远了， 到了颓圮的篱墙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尽这雨巷。 在雨的哀曲里，消了她的颜色， 散了她的芬芳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散了，甚至她的 太息般的眼光， 丁香般的惆怅。撑着油纸伞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自 彷徨在悠长，悠长 又寂寥的雨巷， 我希望飘过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丁香一样地结着愁怨的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79280" y="69228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                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关     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求之不得，寤寐思服。悠哉悠哉。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参差荇菜，左右毛之。窈窕淑女。钟鼓乐之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2:29:54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8:52:47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