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type.wav" ContentType="audio/x-wav"/>
  <Override PartName="/ppt/media/image17.png" ContentType="image/png"/>
  <Override PartName="/ppt/media/image7.png" ContentType="image/png"/>
  <Override PartName="/ppt/media/image1.jpeg" ContentType="image/jpeg"/>
  <Override PartName="/ppt/media/cashreg.wav" ContentType="audio/x-wav"/>
  <Override PartName="/ppt/media/image12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5.jpeg" ContentType="image/jpeg"/>
  <Override PartName="/ppt/media/image20.jpeg" ContentType="image/jpeg"/>
  <Override PartName="/ppt/media/image19.jpeg" ContentType="image/jpeg"/>
  <Override PartName="/ppt/media/camera.wav" ContentType="audio/x-wav"/>
  <Override PartName="/ppt/media/image21.jpeg" ContentType="image/jpeg"/>
  <Override PartName="/ppt/media/image22.png" ContentType="image/png"/>
  <Override PartName="/ppt/media/image18.jpeg" ContentType="image/jpeg"/>
  <Override PartName="/ppt/media/image15.gif" ContentType="image/gif"/>
  <Override PartName="/ppt/media/image3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1.jpeg" ContentType="image/jpeg"/>
  <Override PartName="/ppt/media/image2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782B-52CE-4B2A-A988-A2A1893C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F275-1923-4621-A474-A9449C8C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418-B056-440B-AF6C-FB0DE5E6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417E-6B1F-40F4-ACAC-3B3CC55C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1103-4247-4EC1-B1F7-54E6FA19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B89C-26B8-4A00-A8C9-A943C80B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1862-6845-4483-A392-948FA564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6911-2224-47C9-B23E-79A32699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D576-C3C1-4EBC-8D42-D87CE58F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11F7-A34D-4A09-843A-277D9BFC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4F2B-983F-419D-AA85-86C4959F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8A8D-6EDD-4565-934D-B9AC1B38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9BBF-D6B6-41B9-A03B-52B8971B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884B-486F-4FC4-B075-4B000279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ECF3-418C-4DB4-A4CF-1574B2D6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0628-75AE-4C8A-B250-DDA17829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DDA7-0CB0-438D-A57A-6DEFB1E2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D8D-E241-4F69-B084-2A43087B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DF6C-D31A-4560-8CD0-0CB92376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A73-A01A-467E-B60C-521AC113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C68-B2A8-41A9-99D7-DF531A8B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662-0178-45B6-9350-13AB60D8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423B-2151-4650-A108-EC7DC605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E17-3845-45D2-A20F-F0C9F74C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1179-84EE-4F56-B4F1-2DEFF7D91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A7AB-B45D-4C0C-8D41-C1F56303AF21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5900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2_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矩形 4" descr=""/>
          <p:cNvPicPr/>
          <p:nvPr/>
        </p:nvPicPr>
        <p:blipFill>
          <a:blip r:embed="rId2"/>
          <a:stretch/>
        </p:blipFill>
        <p:spPr>
          <a:xfrm>
            <a:off x="1619280" y="1197000"/>
            <a:ext cx="62229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心《背景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6"/>
          <p:cNvGrpSpPr/>
          <p:nvPr/>
        </p:nvGrpSpPr>
        <p:grpSpPr>
          <a:xfrm>
            <a:off x="838080" y="1981080"/>
            <a:ext cx="8047080" cy="866880"/>
            <a:chOff x="838080" y="1981080"/>
            <a:chExt cx="8047080" cy="866880"/>
          </a:xfrm>
        </p:grpSpPr>
        <p:sp>
          <p:nvSpPr>
            <p:cNvPr id="111" name="Rectangle 5"/>
            <p:cNvSpPr/>
            <p:nvPr/>
          </p:nvSpPr>
          <p:spPr>
            <a:xfrm>
              <a:off x="838080" y="1981080"/>
              <a:ext cx="8047080" cy="86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2" name="Rectangle 4"/>
            <p:cNvSpPr/>
            <p:nvPr/>
          </p:nvSpPr>
          <p:spPr>
            <a:xfrm>
              <a:off x="838080" y="1981080"/>
              <a:ext cx="8047080" cy="86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诗人用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移情于物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的手法，借落花翻出新意，为我们展示了一个极为瑰丽的境界：在诗人看来，落花作为个体，它的生命是终止了；但一当它化作春泥，就能保护、滋养出新的花枝，它的生命就在下一代群体身上得以延续，体现出真正的生命价值－－终将孕育出一个繁花似锦、绚丽灿烂的春天！这分明是一首新生命的赞歌！ </a:t>
              </a:r>
              <a:br>
                <a:rPr sz="2400"/>
              </a:b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13" name="Rectangle 7"/>
          <p:cNvSpPr/>
          <p:nvPr/>
        </p:nvSpPr>
        <p:spPr>
          <a:xfrm>
            <a:off x="2286720" y="1371600"/>
            <a:ext cx="50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落红不是无情物，化做春泥更护花”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733920" y="609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Times New Roman"/>
                <a:ea typeface="华文行楷"/>
              </a:rPr>
              <a:t>重点句赏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5" name="Picture 9" descr="荡秋千"/>
          <p:cNvPicPr/>
          <p:nvPr/>
        </p:nvPicPr>
        <p:blipFill>
          <a:blip r:embed="rId2"/>
          <a:stretch/>
        </p:blipFill>
        <p:spPr>
          <a:xfrm>
            <a:off x="0" y="0"/>
            <a:ext cx="2286000" cy="1463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荡秋千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463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落花《荷》"/>
          <p:cNvPicPr/>
          <p:nvPr/>
        </p:nvPicPr>
        <p:blipFill>
          <a:blip r:embed="rId4"/>
          <a:stretch/>
        </p:blipFill>
        <p:spPr>
          <a:xfrm>
            <a:off x="533520" y="4267080"/>
            <a:ext cx="830556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971640" y="1844640"/>
            <a:ext cx="7416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主题意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对国家民族的那份执著的忠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甘于沉沦，为国家民族贡献力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牺牲自己，培养后人的无私奉献精神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落红”的形象，就成了崇高献身精神的象征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26" descr="作品《龚"/>
          <p:cNvPicPr/>
          <p:nvPr/>
        </p:nvPicPr>
        <p:blipFill>
          <a:blip r:embed="rId1"/>
          <a:stretch/>
        </p:blipFill>
        <p:spPr>
          <a:xfrm>
            <a:off x="2050920" y="549360"/>
            <a:ext cx="48769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1" name="Picture 3" descr="ziri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468360" y="515772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浩荡离愁白日斜，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D1702-01b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7254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900000" y="404640"/>
            <a:ext cx="73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吟鞭东指即天涯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2484360" y="170028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吟鞭东指即天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1403280" y="2708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离京标志着龚自珍政治生涯的终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1403280" y="3716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离愁别绪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华文中宋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回归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喜悦交织一起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0" name="Picture 4" descr="1025434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-677160" y="620640"/>
            <a:ext cx="200916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bf7ff"/>
                </a:solidFill>
                <a:latin typeface="Arial"/>
                <a:ea typeface="宋体"/>
              </a:rPr>
              <a:t>落红不是无情物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宋体"/>
              </a:rPr>
              <a:t>，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3" name="Picture 3" descr="1027100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7134840" y="0"/>
            <a:ext cx="20091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bf7ff"/>
                </a:solidFill>
                <a:latin typeface="Arial"/>
              </a:rPr>
              <a:t>落红不是无情物，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Picture 3" descr="无标题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971640" y="907920"/>
            <a:ext cx="748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bf7ff"/>
                </a:solidFill>
                <a:latin typeface="Arial"/>
              </a:rPr>
              <a:t>化作春泥更护花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</a:rPr>
              <a:t>小结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满载离愁，远归故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自比落红，仍可护花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508720" y="1916280"/>
            <a:ext cx="324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虽辞官归乡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仍心系报国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5219640" y="1989000"/>
            <a:ext cx="289080" cy="1224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-1189080" y="3284640"/>
            <a:ext cx="8496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名句：落红不是无情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化作春泥更护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84360" y="465300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意思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虽辞官回乡，仍思为国效力，希望有新奉献的思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755640" y="476280"/>
            <a:ext cx="82090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已亥杂诗（其五）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龚自珍</a:t>
            </a:r>
            <a:br>
              <a:rPr sz="3600"/>
            </a:b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浩荡离愁白日斜，</a:t>
            </a:r>
            <a:br>
              <a:rPr sz="4800"/>
            </a:b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吟鞭东指即天涯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落红不是无情物，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化做春泥更护花。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以下问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54200" y="1917720"/>
            <a:ext cx="77738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诗中哪句表现了诗人犹豫孤独和悲壮豪迈复杂心情交织一起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诗中哪句表现了虽辞官，但仍关心国家前途命运的诗词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诗中写了几种心境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43120" y="3357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116000" y="2924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浩荡离愁白日斜，吟鞭东指即天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900000" y="4724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落红不是无情物，化作春泥更护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79280" y="602136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离别忧伤；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回归的愉快；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积极的人生态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古代诗人描写落花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一种是怨啼鸟，怪东风，叹年华，面对落花嘘唏感叹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流水落花春去也，天上人间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”－李煜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花自飘零水自流，一种相思，两处闲愁”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－李清照；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侬今葬花人笑痴，他年葬侬知是谁？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”－林黛玉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另一种把落花作为自然景物来描写，其中不少昂扬向上的精神。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落春仍在”“夜来风雨声，花落知多少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”－孟浩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9"/>
          <p:cNvSpPr/>
          <p:nvPr/>
        </p:nvSpPr>
        <p:spPr>
          <a:xfrm>
            <a:off x="247680" y="12445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6" name="Picture 2" descr="龚其人"/>
          <p:cNvPicPr/>
          <p:nvPr/>
        </p:nvPicPr>
        <p:blipFill>
          <a:blip r:embed="rId1"/>
          <a:stretch/>
        </p:blipFill>
        <p:spPr>
          <a:xfrm>
            <a:off x="4114800" y="228600"/>
            <a:ext cx="4721400" cy="1246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龚像"/>
          <p:cNvPicPr/>
          <p:nvPr/>
        </p:nvPicPr>
        <p:blipFill>
          <a:blip r:embed="rId2"/>
          <a:stretch/>
        </p:blipFill>
        <p:spPr>
          <a:xfrm>
            <a:off x="0" y="914400"/>
            <a:ext cx="2819520" cy="56386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6"/>
          <p:cNvGrpSpPr/>
          <p:nvPr/>
        </p:nvGrpSpPr>
        <p:grpSpPr>
          <a:xfrm>
            <a:off x="2819520" y="1600200"/>
            <a:ext cx="6324480" cy="3784680"/>
            <a:chOff x="2819520" y="1600200"/>
            <a:chExt cx="6324480" cy="3784680"/>
          </a:xfrm>
        </p:grpSpPr>
        <p:sp>
          <p:nvSpPr>
            <p:cNvPr id="89" name="Rectangle 5"/>
            <p:cNvSpPr/>
            <p:nvPr/>
          </p:nvSpPr>
          <p:spPr>
            <a:xfrm>
              <a:off x="2819520" y="1600200"/>
              <a:ext cx="6324480" cy="378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2819520" y="1600200"/>
              <a:ext cx="6324480" cy="378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（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1792--1841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） 清思想家、文学家。浙江仁和（今杭州）人。道光进士，官礼部主事。学务博览，重经世济民。主张从事政治和经济改革，以解决当时日益深入的社会危机，并热切要求抵抗资本主义国家的经济和军事侵略，维护国家主权。提倡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“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通经致用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”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的今文经学派的重要人物。并强调万事万物都处于变化之中。所作诗文，极力提倡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“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更法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”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、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“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改图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”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，深刻揭露清王朝统治的腐朽，反映社会阶级矛盾的日益尖锐，洋溢着受国热情。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《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明良论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》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、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《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病梅馆记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》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等文，和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《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己亥杂诗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·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九州生气恃风雷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》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等诗篇，皆为其代表作。散文奥博纵横，自成一家，诗尤瑰丽奇肆，有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“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龚派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”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之称。著有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《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龚自珍全集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》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。</a:t>
              </a:r>
              <a:br>
                <a:rPr sz="2400"/>
              </a:b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北龚纪馆"/>
          <p:cNvPicPr/>
          <p:nvPr/>
        </p:nvPicPr>
        <p:blipFill>
          <a:blip r:embed="rId1"/>
          <a:stretch/>
        </p:blipFill>
        <p:spPr>
          <a:xfrm>
            <a:off x="4724280" y="304920"/>
            <a:ext cx="4267440" cy="6324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龚纪錧"/>
          <p:cNvPicPr/>
          <p:nvPr/>
        </p:nvPicPr>
        <p:blipFill>
          <a:blip r:embed="rId2"/>
          <a:stretch/>
        </p:blipFill>
        <p:spPr>
          <a:xfrm>
            <a:off x="152280" y="228600"/>
            <a:ext cx="4496040" cy="6324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5033520" y="685800"/>
            <a:ext cx="606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龚自珍纪念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172200" y="5638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北　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143000" y="5638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浙　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7" name="Picture 3" descr="115681_10567971568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126B1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落红不是无情物"/>
          <p:cNvPicPr/>
          <p:nvPr/>
        </p:nvPicPr>
        <p:blipFill>
          <a:blip r:embed="rId1"/>
          <a:stretch/>
        </p:blipFill>
        <p:spPr>
          <a:xfrm>
            <a:off x="380880" y="457200"/>
            <a:ext cx="8763120" cy="609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落》书"/>
          <p:cNvPicPr/>
          <p:nvPr/>
        </p:nvPicPr>
        <p:blipFill>
          <a:blip r:embed="rId2"/>
          <a:stretch/>
        </p:blipFill>
        <p:spPr>
          <a:xfrm>
            <a:off x="6629400" y="304920"/>
            <a:ext cx="2514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24000" y="260280"/>
            <a:ext cx="34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注释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浩荡：广阔深远的样子，也就是浩茫之意。</a:t>
            </a:r>
            <a:br>
              <a:rPr sz="2400"/>
            </a:b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    白日斜：夕阳西下的黄昏时分。</a:t>
            </a:r>
            <a:br>
              <a:rPr sz="2400"/>
            </a:b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    吟鞭：即马鞭；作者在途中，一边策马行进，一边吟诗，故言。</a:t>
            </a:r>
            <a:br>
              <a:rPr sz="2400"/>
            </a:b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    东指：出城门向东；</a:t>
            </a:r>
            <a:br>
              <a:rPr sz="2400"/>
            </a:b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    天涯：原意是天边，此指遥远的地方。 </a:t>
            </a:r>
            <a:br>
              <a:rPr sz="2400"/>
            </a:b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    落红：落花，作者自况。龚自珍因被迫辞官回乡，故自比为落花。后一“花”字，当指一代新人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356000" y="836640"/>
            <a:ext cx="41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译诗、诗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]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满怀离愁而对夕阳西下，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    鸣鞭东指从此浪迹天涯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    凋落的花朵仍然有情有意，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    化作春泥培育出新的鲜花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995640" y="4941720"/>
            <a:ext cx="417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</a:rPr>
              <a:t>已亥杂诗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</a:rPr>
              <a:t>浩荡离愁白日斜，吟鞭东指即天涯。</a:t>
            </a:r>
            <a:br>
              <a:rPr sz="1800"/>
            </a:br>
            <a:r>
              <a:rPr b="1" lang="zh-CN" sz="1800" spc="-1" strike="noStrike">
                <a:solidFill>
                  <a:srgbClr val="003399"/>
                </a:solidFill>
                <a:latin typeface="Arial"/>
              </a:rPr>
              <a:t>　　　　</a:t>
            </a:r>
            <a:br>
              <a:rPr sz="1800"/>
            </a:br>
            <a:r>
              <a:rPr b="1" lang="zh-CN" sz="1800" spc="-1" strike="noStrike">
                <a:solidFill>
                  <a:srgbClr val="003399"/>
                </a:solidFill>
                <a:latin typeface="Arial"/>
              </a:rPr>
              <a:t>落红不是无情物，化做春泥更护花。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5900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u=2239864145,3216131111&amp;gp=3"/>
          <p:cNvPicPr/>
          <p:nvPr/>
        </p:nvPicPr>
        <p:blipFill>
          <a:blip r:embed="rId1"/>
          <a:stretch/>
        </p:blipFill>
        <p:spPr>
          <a:xfrm>
            <a:off x="4062240" y="228600"/>
            <a:ext cx="4929480" cy="6477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027800" y="7621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浩荡离愁白日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11280" y="170028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浩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字，极为凝练地写出离愁的深广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95280" y="3213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强化了诗人离京时的眷恋、怅惘、失落、孤独的种种情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95280" y="4869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白日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三字一笔勾勒景物，以夕阳西沉、暮色苍茫的气氛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6T17:00:18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7-06-21T01:18:49Z</dcterms:modified>
  <cp:revision>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