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75B-D938-4B70-A223-FF417B9E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525-DE6B-405F-805C-07A36E0D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4AE69-15C0-4E97-B060-8E2159D1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C0845-B71E-4676-8384-844A988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042F1-ED90-4DCE-B056-01BF179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24B46-A471-465A-88E0-1D36115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46DB4-71BA-4AEA-A0B1-E542081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854CF-BEC6-4077-AD67-DFDB476F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D48F1-AA02-49FF-A6AD-9458C1B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6BD89-F522-4B06-B78E-93631208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9F0F9-58E5-4F00-8051-8D8CAF5A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1DC7B-99B5-4C81-B2D2-31016BD3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26F-B505-4FDD-AA66-EAA6750A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3A0E2-BDD2-4EF3-AF54-33ED4A32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0A3D6-0150-433C-A635-1EBDE6E8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AA98E-E191-44ED-ADFC-BD10DBC6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D9802-D433-4C49-9B6C-7C52C801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02F0E-E30E-4EA1-B3AF-E015D48C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C9A79-B5DA-4D43-9503-7CC48F7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FF88C-716C-4FB3-BB85-B6329FD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61E5B-8F94-4066-BADF-6F86B8C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0E14F-A8E3-4E8B-8B9E-9411BC85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EFFD7-1277-4B63-AA30-9484CD66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033-0D52-4336-9647-E42A620C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67101-8373-4399-A838-C6AC6A27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672-35C8-4736-A8FC-636B6037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E8F-DA1C-4F52-AE46-16FF92E1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9FDD-81B6-4AE0-A088-75E7E745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45D-1CB9-4355-9A17-0DD2747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DA9A-30E0-4922-9799-FF8B8765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91FD-7F66-4FC8-AF51-0D1A554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601-5B4A-4B9C-B974-D677AA5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F40-0B88-49BA-979B-8F8743E3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A06-945C-4E81-BAEF-A937C61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AA3D-0226-45CB-BD04-EFF2054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BDEA-204E-4233-92B8-B0CA0834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A0C-F893-4EC7-9664-1EBF5F5A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0DFA-12F8-43FF-BCF6-9970274B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790C-5024-4C5D-9E83-35BE29E9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3A82-05EF-4EA6-826F-B43EBC1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80C2-EF7E-4D79-9177-2FEB27D9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78B2-0BAB-4B1A-8FD1-25ACE1E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413D-85DF-4A4E-9A79-07E53BD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40A-85B8-4D3A-B88B-872997CD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9424-F992-48AB-9D6B-E9924B27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C56F-3CA9-4B8F-B80E-195CA483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3F59-F37C-4EED-8216-2F39937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B6B9-B142-4013-B2D7-04FF0D5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A1AC-7242-46A9-9E6E-D843679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ABA7-08E3-4CDC-A55A-A726A78F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F327-52CB-45AE-9F33-0F03B221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5DE0-4C31-4F8B-8D4D-CEFEE386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05BA-4357-4C08-88AA-DB1B868B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1AD1-A6ED-45B1-BDD6-403ECD07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01C-A8EF-4DEB-B4F6-9B01E05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DC86-D541-46BC-8287-B349259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6E5C-2814-4F66-B774-191C432E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998F-AF17-4841-B51E-D3AD20E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718A-B7A3-4B72-833A-84912C2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DEB9-29EE-412B-B3B2-0A7A5429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4443-D51D-4385-B7A6-388E612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4D85-9B4F-4B1C-AF4B-98EF5757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E94A-0C98-463C-8AD9-A58AACDA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BD07-3130-41B4-9F11-91A6CA27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6F58-458D-49E8-A455-7F95C575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9F1-8C1A-4505-B96F-8295A23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B958-10F0-492C-A63C-B348C5FC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05A0-ECC5-4C83-8959-57A3218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CE1C-53C5-4C8B-B8B3-36A33210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E15C-BD48-492C-9C62-1FB8AE1E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7072-FDAA-4FFE-B088-B7F9E287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77E9A-13BC-44D9-8EC0-6865B0B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14E02-EB54-42A6-BEA4-FED1FAC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23F2-95BA-4499-82F4-D037262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3C14-BDA3-4E2D-B91B-E955138B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1945-4C15-4934-BE22-D6D4FB82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AC3-9C1F-4D01-8CFA-9A171BAE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7CE9-04DE-49BB-9A21-5665BA40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C26D-CFD4-4436-8BD6-1F1CE12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67A4-A0DB-46A1-A53E-D2D4B34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F937-70A2-4D61-8040-A08C5A75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9DE1-5DED-444C-A8E8-3459AC1E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2932-A165-48A4-B948-4B56AA8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F5E5-FC14-4394-9C48-8D502A7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2EC2C-1A4B-4A2F-9772-B93CE1A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D6724-1D91-4EA4-975B-3244073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2055-6C7B-4DD2-8BDE-CF6EE52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465-BC07-4B2A-BC78-760FBAB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4C9F-35D7-4505-8FBF-D89EBC6B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00BD6-C3A8-4C77-B5F0-274FF3FE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E191-4840-4B1B-B7A0-177A1B27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CF58-DBF4-4229-A2DC-4172533A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BC672-9B29-42C4-AEF5-220B4D46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4D17-1FD5-4789-8E60-8146D279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13AF-9CE4-4B26-B1FC-1BDA617E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995C-A54D-44FE-9789-611F773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F7C38-FD3F-458E-9E39-6E5B6B65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ED30-C5E8-4840-AAB1-D0DC0BD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D0F-D271-4FC8-93E5-EA3DEF8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85B3A-CCA7-437E-B06A-469D3D6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3745-927B-42F5-A7A2-0503090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F45B-EB0B-40AB-807C-D2D5BD72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983A-EF01-4CC0-AE78-FEE6CE7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34F8-FFA4-4E94-9908-4366DF4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0CF7A-F74E-4202-9B15-02363E49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4439-1690-4BF8-B31F-15712C2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F0B10-B9F4-4F3A-9CC9-FD65FB53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C84B-5629-41CF-A140-F3D00FD5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8EEE-AFC4-4304-BE78-0979C54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F24-AD1D-4669-8594-955FE9C0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E0CAA-8786-4E0E-9D86-2F110608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AB19-82DF-455B-AAED-632237F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76772-7168-41DE-AAFC-A2B8527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1BC54-A2A9-4A19-AFAB-A0B278E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9B39-1DEA-4AB3-8A7B-9A3B9E8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722B-C1E5-4762-AD38-482C61BA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0BF3F-726F-46C5-BDD1-0C5FF17B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36C9D-7F53-4411-8B8E-3540176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C23F5-7ABD-4008-B504-94935B75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4BBD5-0238-4536-8668-BD514B4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C80-21AF-4CB2-9C37-368407A8416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256-77B3-46E4-ACE7-B71F9B41D4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751-8CE8-4602-8589-E1FD12EF57C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B1B-69B7-43C6-BE1A-36BB397B54FC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DC2B-573E-4F2B-80E9-19C601A3A44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B1DF-7B5F-4B73-80FD-BB4B1F67E27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F639-F689-4EC9-8D23-8972D1697A1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7D8D-675C-4D12-B4DE-1AD90FF7F07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F5D-8374-472F-8659-98F9A97D3D79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527B-E7A0-4BD2-88B5-20022108A03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54792.htm" TargetMode="External"/><Relationship Id="rId3" Type="http://schemas.openxmlformats.org/officeDocument/2006/relationships/hyperlink" Target="http://baike.baidu.com/view/530681.htm" TargetMode="External"/><Relationship Id="rId4" Type="http://schemas.openxmlformats.org/officeDocument/2006/relationships/slideLayout" Target="../slideLayouts/slideLayout1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49633.htm" TargetMode="External"/><Relationship Id="rId3" Type="http://schemas.openxmlformats.org/officeDocument/2006/relationships/hyperlink" Target="http://baike.baidu.com/view/15168.htm" TargetMode="External"/><Relationship Id="rId4" Type="http://schemas.openxmlformats.org/officeDocument/2006/relationships/hyperlink" Target="http://baike.baidu.com/view/656.htm" TargetMode="External"/><Relationship Id="rId5" Type="http://schemas.openxmlformats.org/officeDocument/2006/relationships/hyperlink" Target="http://baike.baidu.com/view/431189.htm" TargetMode="External"/><Relationship Id="rId6" Type="http://schemas.openxmlformats.org/officeDocument/2006/relationships/hyperlink" Target="http://baike.baidu.com/view/965334.htm" TargetMode="External"/><Relationship Id="rId7" Type="http://schemas.openxmlformats.org/officeDocument/2006/relationships/hyperlink" Target="http://baike.baidu.com/view/2094357.htm" TargetMode="External"/><Relationship Id="rId8" Type="http://schemas.openxmlformats.org/officeDocument/2006/relationships/hyperlink" Target="http://baike.baidu.com/view/1588260.htm" TargetMode="External"/><Relationship Id="rId9" Type="http://schemas.openxmlformats.org/officeDocument/2006/relationships/hyperlink" Target="http://baike.baidu.com/view/14445.htm" TargetMode="Externa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61891.htm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78920" cy="6048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1692360" y="4149720"/>
            <a:ext cx="57150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金黄的稻束 郑敏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宋体"/>
              </a:rPr>
              <a:t>品味鉴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1484280"/>
            <a:ext cx="835344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黑体"/>
                <a:ea typeface="宋体"/>
              </a:rPr>
              <a:t>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站”运用拟人修辞，写出了稻束挺立秋天田野的身姿，是收获的见证和象征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疲倦”“皱”写出了母亲的辛勤和衰老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美丽”写出了母亲精神伟大，意志的坚韧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满月”写出了母亲内心的满足、欣喜，烘托了母亲的无私胸怀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宋体"/>
              </a:rPr>
              <a:t>品味鉴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暮色”  “远山”“满月挂在树巅”等勾勒了苍茫辽远的背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这”指金黄的稻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 “</a:t>
            </a:r>
            <a:r>
              <a:rPr b="1" lang="zh-CN" sz="3600" spc="-1" strike="noStrike">
                <a:solidFill>
                  <a:srgbClr val="cc0099"/>
                </a:solidFill>
                <a:latin typeface="宋体"/>
                <a:ea typeface="宋体"/>
              </a:rPr>
              <a:t>静默的雕像”表明这种母亲的疲倦、美丽、坚韧超出了一切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5445000"/>
            <a:ext cx="8280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第一部分：作者由稻束联想到收获联想到生产的母亲（劳动者），歌颂了劳动者的美丽坚韧和无私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肩荷着那伟大的疲倦，你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　　在这伸向远远的一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　　秋天的田里低首沉思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　　静默。静默。历史也不过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　　脚下一条流去的小河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　　而你们，站在那儿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黑体"/>
              </a:rPr>
              <a:t>　　将成了人类的一个思想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宋体"/>
              </a:rPr>
              <a:t>品味鉴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伟大的疲倦”写出了作者对劳动者的辛勤和坚强的赞美，紧承上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低首沉思”指稻束沉思，暗示作者沉思，自然过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那儿”代历史的小河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宋体"/>
              </a:rPr>
              <a:t>品味鉴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不过”“而”的语气表明稻束（母亲）的精神超越了历史，这种坚韧美丽的精神是人类历史进程中的一种永恒的思想结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1280" y="4076640"/>
            <a:ext cx="81360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宋体"/>
              </a:rPr>
              <a:t>第二部分：母亲无言的坚韧和美丽激起我们对生命和历史作深刻的思考，深刻阐释了金黄的稻束的象征意义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宋体"/>
                <a:ea typeface="宋体"/>
              </a:rPr>
              <a:t>“</a:t>
            </a:r>
            <a:r>
              <a:rPr b="1" lang="zh-CN" sz="4800" spc="-1" strike="noStrike">
                <a:solidFill>
                  <a:srgbClr val="cc0000"/>
                </a:solidFill>
                <a:latin typeface="宋体"/>
                <a:ea typeface="宋体"/>
              </a:rPr>
              <a:t>金黄的稻束”象征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金黄的稻束”在诗中有深邃的意蕴。它不仅是自然意义上的稻束，而是象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它是收获的象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它是母亲的象征。诗人将收获与创造丰收成果的劳动者联系起来，尤其突出了作为孕育者和劳动者的母亲的形象。母亲是典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母亲成为诗人表达敬意的对象，成为诗歌当中既真又美的意象，通过这个意象，诗人启发人们重新思考平凡与伟大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宋体"/>
                <a:ea typeface="宋体"/>
              </a:rPr>
              <a:t>知识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对这首诗的解说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不恰当的一项是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A.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金黄的稻束站在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割过的秋天的田里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一句涉及的时间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从全诗看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除了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秋天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外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还隐指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暮色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降临之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B.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黄昏路上我看见那皱了的美丽的脸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把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皱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与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美丽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并列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寓有讴歌母亲的劳动和感叹时光流逝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C.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你们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在这伸向远远的一片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……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的诗句中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你们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指诗歌的主要形象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金黄的稻束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D.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历史也不过是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脚下一条流去的小河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这实际上就是稻束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低首沉思</a:t>
            </a:r>
            <a:r>
              <a:rPr b="1" lang="en-US" sz="2400" spc="-1" strike="noStrike">
                <a:solidFill>
                  <a:srgbClr val="99cc00"/>
                </a:solidFill>
                <a:latin typeface="黑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08720" y="119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"/>
          <p:cNvSpPr/>
          <p:nvPr/>
        </p:nvSpPr>
        <p:spPr>
          <a:xfrm>
            <a:off x="611280" y="4724280"/>
            <a:ext cx="8146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（把“历史也不过是／脚下一条流去的小河”解说为稻束“低首深思”的内容则显然不恰当。整首诗所出现的形象以及有关形象的感受，都是诗人“我”心中所想、眼中所见。它本是诗人的“旁白”，不能理解为“稻束”沉思的内容。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宋体"/>
                <a:ea typeface="宋体"/>
              </a:rPr>
              <a:t>知识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对这首诗的赏析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不恰当的一项是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诗歌以“金黄的稻束”为中心形象展开联想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通过稻田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路上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天空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远山等空间性的位移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传达一个时间性的主题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---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对劳动中生命力的消逝的沉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诗歌赋予“金黄的稻束”以积极、强烈的视觉印象和消极、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静默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无言的听觉感受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意在利用两者的不协调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把关注点从外在画面转向内在的生命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C.“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金黄的稻束”“收获日的满月”等形象都具有圆满意味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但诗歌未写收获日的快慰和满足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却引人思考劳动者母亲的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疲倦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D.“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肩荷着那伟大的疲倦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一句中的主体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应该是美丽的母亲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而不是如雕像一样站在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秋天的田里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沉思的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稻束</a:t>
            </a:r>
            <a:r>
              <a:rPr b="1" lang="en-US" sz="2400" spc="-1" strike="noStrike">
                <a:solidFill>
                  <a:srgbClr val="99cc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8360" y="5597640"/>
            <a:ext cx="821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</a:rPr>
              <a:t>D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</a:rPr>
              <a:t>（“肩荷着那伟大的疲倦”一句中的主体只能是“你们”即“稻束”。虽然那伟大的疲倦的主体是劳动者母亲，但“肩荷”了这种“疲倦”的主体，却只能是母亲劳动的结晶──“金黄的稻束”。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"/>
          <p:cNvSpPr/>
          <p:nvPr/>
        </p:nvSpPr>
        <p:spPr>
          <a:xfrm>
            <a:off x="6588000" y="134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宋体"/>
                <a:ea typeface="宋体"/>
              </a:rPr>
              <a:t>一 代 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宋体"/>
              </a:rPr>
              <a:t>顾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黑夜给了我黑色的眼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我却用它寻找光明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3960720" cy="597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492360" y="62784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顾 城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053240" y="0"/>
            <a:ext cx="16437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仔细品读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44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宋体"/>
              </a:rPr>
              <a:t>顾城的帽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顾城总是戴着一顶用裤腿改造成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2"/>
              </a:rPr>
              <a:t>帽子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，他为什么戴帽子按照他的解释是为了避免尘世间污染了他思想。因为他的灵魂告诉我们，他的诗歌告诉我们，他眼中的世界，总会蒙上了一层薄薄的灰尘，而他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/>
              </a:rPr>
              <a:t>高洁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却是与生俱来的。那顶帽子，让他远离了世界，也亲近了世界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宋体"/>
              </a:rPr>
              <a:t>鉴赏诗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一代人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一诗既是这一代人的自我阐释，又是这一代人不屈精神的写照。十年浩劫，是漫漫长夜，没有星斗，没有月光，甚至连磷火也没有。黑暗要扼杀一个人明亮的眼睛，但黑暗的扼杀却没有达到它的目的反而创造了它的对立物；黑色的眼睛；是黑暗使一代人觉醒，使一代人产生更强烈的寻找光明的愿望与毅力。正是这坚毅的寻找，才使他们看到掩盖在生活表象之下的、使人难以接受的本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5183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顾城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(1956-1993)</a:t>
            </a:r>
            <a:r>
              <a:rPr b="0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2"/>
              </a:rPr>
              <a:t>朦胧诗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主要代表人物，顾城被称为当代的唯灵浪漫主义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/>
              </a:rPr>
              <a:t>诗人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，早期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4"/>
              </a:rPr>
              <a:t>诗歌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有孩子般的纯稚风格、梦幻情绪，用直觉和印象式的语句来咏唱童话般的少年生活。其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/>
              </a:rPr>
              <a:t>一代人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中的一句“黑夜给了我黑色的眼睛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我却用它寻找光明”成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/>
              </a:rPr>
              <a:t>中国新诗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的经典名句。后期隐居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7"/>
              </a:rPr>
              <a:t>激流岛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1993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年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月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  <a:ea typeface="宋体"/>
              </a:rPr>
              <a:t>8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日在其新西兰寓所因婚变杀死妻子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8"/>
              </a:rPr>
              <a:t>谢烨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后自杀。留下大量诗、文、书法、绘画等作品。作品译成英、法、德、西班牙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/>
              </a:rPr>
              <a:t>瑞典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等十多种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0"/>
          <a:stretch/>
        </p:blipFill>
        <p:spPr>
          <a:xfrm>
            <a:off x="2484360" y="260280"/>
            <a:ext cx="419580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4319640" cy="59054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564000" y="6156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宋体"/>
              </a:rPr>
              <a:t>谢 烨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谢烨生前是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2"/>
              </a:rPr>
              <a:t>中国</a:t>
            </a: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著名诗人顾城的妻子，出生于</a:t>
            </a: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宋体"/>
              </a:rPr>
              <a:t>1958</a:t>
            </a: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年。在</a:t>
            </a: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宋体"/>
              </a:rPr>
              <a:t>1983</a:t>
            </a: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年与顾城结婚，后生子“小木耳”。在公元</a:t>
            </a: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宋体"/>
              </a:rPr>
              <a:t>1993</a:t>
            </a: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年</a:t>
            </a: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宋体"/>
              </a:rPr>
              <a:t>10</a:t>
            </a: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月</a:t>
            </a:r>
            <a:r>
              <a:rPr b="1" lang="en-US" sz="4400" spc="-1" strike="noStrike">
                <a:solidFill>
                  <a:srgbClr val="99cc00"/>
                </a:solidFill>
                <a:latin typeface="宋体"/>
                <a:ea typeface="宋体"/>
              </a:rPr>
              <a:t>8</a:t>
            </a:r>
            <a:r>
              <a:rPr b="1" lang="zh-CN" sz="4400" spc="-1" strike="noStrike">
                <a:solidFill>
                  <a:srgbClr val="99cc00"/>
                </a:solidFill>
                <a:latin typeface="宋体"/>
                <a:ea typeface="宋体"/>
              </a:rPr>
              <a:t>日在新西兰被顾城杀死，顾城旋即自杀身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2484360" y="404640"/>
            <a:ext cx="419580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4465440" cy="6048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700360" y="621648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顾城和谢烨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835280" y="2205000"/>
            <a:ext cx="540072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6000" spc="1" strike="noStrike">
              <a:ln w="12600">
                <a:solidFill>
                  <a:srgbClr val="99cc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78920" y="1125360"/>
            <a:ext cx="8642520" cy="50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郑敏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(1920---)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，福建闽侯人，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943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年毕业于西南联大哲学系。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952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年在美国布朗大学研究院获英国文学硕士学位。回国后曾在中国社会科学院文学研究所工作。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960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年后在北京师范大学外语系讲授英美文学至今。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949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年出版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诗集：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942--1947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，成为“九叶”诗派中一位重要女诗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4195800" cy="14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4464000" cy="60483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564000" y="6216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郑 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0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</a:rPr>
              <a:t>郑敏是在冯至的引领下与里尔克的诗结下一生的情缘。她嗜读里尔克的诗，特别是对里尔克的名作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</a:rPr>
              <a:t>豹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</a:rPr>
              <a:t>更是情有独钟。她与里尔克一样，总是从日常事物引发对宇宙与生命的思索，并将其凝定于静态而又灵动的意境里。每一个画面都仿佛是一幅静物写生，而在雕塑般的意象中凝结着诗人澄明的智慧与静默的哲思，建国前写的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</a:rPr>
              <a:t>金黄的稻束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</a:rPr>
              <a:t>就是这样的作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4195800" cy="14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九叶诗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九位诗人分别为曹辛之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杭约赫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)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、辛笛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王馨迪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)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、陈敬容、郑敏、唐祈、唐湜、杜运燮、穆旦和袁可嘉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  <a:ea typeface="宋体"/>
              </a:rPr>
              <a:t>他们于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  <a:ea typeface="宋体"/>
              </a:rPr>
              <a:t>1981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  <a:ea typeface="宋体"/>
              </a:rPr>
              <a:t>年出版了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  <a:ea typeface="宋体"/>
              </a:rPr>
              <a:t>九叶集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  <a:ea typeface="宋体"/>
              </a:rPr>
              <a:t>，因此被称为九叶诗人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九叶诗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c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宋体"/>
                <a:ea typeface="宋体"/>
              </a:rPr>
              <a:t>它们强调反映现实与挖掘内心的统一，诗作视野开阔，具有强烈的时代感、历史感和现实精神。在艺术上，他们自觉追求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  <a:ea typeface="宋体"/>
              </a:rPr>
              <a:t>现实主义与现代派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  <a:ea typeface="宋体"/>
              </a:rPr>
              <a:t>的结合，注重在诗歌里营造新颖奇特的意象和境界。他们承接了中国新诗现代主义的传统，为新诗的发展做出了贡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971640" y="1844640"/>
            <a:ext cx="496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朗读《金黄的稻束》</a:t>
            </a:r>
            <a:endParaRPr b="1" lang="en-US" sz="60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2017800" cy="1655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7696080" cy="250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38533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47280" y="1341000"/>
            <a:ext cx="8496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金黄的稻束站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割过的秋天的田里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我想起无数个疲倦的母亲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黄昏路上我看见那皱了的美丽的脸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收获日的满月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高耸的树巅上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暮色里，远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围着我们的心边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　　没有一个雕像能比这更静默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39640" y="404640"/>
            <a:ext cx="8064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金黄的稻束 第一节</a:t>
            </a:r>
            <a:endParaRPr b="1" lang="en-US" sz="6000" spc="1" strike="noStrike">
              <a:ln w="9360">
                <a:solidFill>
                  <a:srgbClr val="339966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3:02:06Z</dcterms:created>
  <dc:creator>www.1kejian.com</dc:creator>
  <dc:description>www.1kejian.com</dc:description>
  <dc:language>en-US</dc:language>
  <cp:lastModifiedBy>User</cp:lastModifiedBy>
  <dcterms:modified xsi:type="dcterms:W3CDTF">2013-01-15T08:27:48Z</dcterms:modified>
  <cp:revision>65</cp:revision>
  <dc:subject/>
  <dc:title>第一课件网www.1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16000000000001024120</vt:lpwstr>
  </property>
</Properties>
</file>