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4B38-2EAE-4E1E-9870-00FA1979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C7E4-AFC2-4057-ABE7-062B23AC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324-F663-4E76-AC53-8C8F7567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6F3-F4F5-44F6-968D-6AFE153E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D127-1EE0-4AFE-B839-37D9A98B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D451-EB42-4C1F-91C7-2F5E860D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D16-AD26-47D1-837A-8CA7B17F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2BC-C171-41D2-BDE3-4CAE04AE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4EC6-0364-4EAE-B40D-DE5C972C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DDB4-C322-4BF6-A768-99BF737B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25BB-1326-4898-BD64-85D21B8E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C613-CE11-427D-B3CA-C931D4C0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B0E6-0079-41AD-984E-88084672E1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321158350&amp;tn=baiduimagedetail&amp;word=&#22681;&#32440;&amp;in=2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694581301&amp;tn=baiduimagedetail&amp;word=&#22681;&#32440;&amp;in=4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317655703&amp;tn=baiduimagedetail&amp;word=&#33487;&#36732;&amp;in=8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.baidu.com/i?ct=503316480&amp;z=566353851&amp;tn=baiduimagedetail&amp;word=&#33487;&#36732;&amp;in=9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.baidu.com/i?ct=503316480&amp;z=68861403&amp;tn=baiduimagedetail&amp;word=&#33487;&#36732;&amp;in=21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.baidu.com/i?ct=503316480&amp;z=515758403&amp;tn=baiduimagedetail&amp;word=&#33487;&#36732;&amp;in=25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91992300&amp;tn=baiduimagedetail&amp;word=&#25554;&#30011;&amp;in=2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584442103&amp;tn=baiduimagedetail&amp;word=&#34593;&#31508;&#23567;&#26032;&amp;in=28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76591150&amp;tn=baiduimagedetail&amp;word=&#20154;&#22411;&#30005;&#33041;&#22825;&#20351;&#24515;&amp;in=5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897688900&amp;tn=baiduimagedetail&amp;word=3d&#22721;&#32440;&amp;in=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247681352&amp;tn=baiduimagedetail&amp;word=3d&#22721;&#32440;&amp;in=9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916286201&amp;tn=baiduimagedetail&amp;word=3d&#22721;&#32440;&amp;in=20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江城子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密州出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苏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研讨与练习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文中“亲射虎”，“谴冯唐‘，”射天郎“的典故分别表达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亲射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看孙郎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孙郎即孙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&lt;&l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国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记载孙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一次出行中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坐椅为虎所伤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镇定地在马前击毙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老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词人的意思是他要像当年的孙权那样挽弓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前射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突出地展现了作者虽然年纪已经不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但是仍有着少年狂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 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遣冯唐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据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史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张释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冯唐列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记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汉文帝时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魏尚为云中太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抵御匈奴有功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只因报功时多报了六个首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而获罪削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文帝采纳了冯唐的劝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冯唐持符节到云中去赦免魏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里作者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以魏尚自喻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表达希望朝廷能像派冯唐赦魏尚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样重用自己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 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射天狼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天狼星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据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晋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天文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说是“主侵掠”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里用以代指从西北来进扰的西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军队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苏轼在结句表达了自己要报效国家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抵御入侵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建功立业的决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333360"/>
            <a:ext cx="2303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答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谢谢观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苏轼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3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，字子瞻，号东坡居士，四川眉山人，北宋杰出文学家、书画家，与父苏洵、弟苏辙并称“三苏”。苏轼二十一岁中进士，神宗时期曾在凤翔、杭州、密州、徐州、湖州等地任职。元丰三年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8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因“乌台诗案”受诬陷被贬黄州任团练副使，在黄州四年多曾于城东之东 坡开荒种田，故自号“东坡居士”。哲宗即位后，曾任翰林学士、侍读学士、礼部尚书等职，并出知杭州、颍州、扬州、定州等地，晚年被贬惠州、儋州。大赦北还，途中病死在常州，葬于河南郏县，追谥文忠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在任地方长官期间，苏轼关心民众疾苦，做了许多利民的好事，深受民众拥戴。苏轼博学多才，是著名的散文家，为唐宋八大家之一，其文学作品标志着北宋文学创作的最高成就；苏轼是著名诗人，他同宋代著名诗人黄庭坚并称为“苏黄”；苏轼为杰出的词人，开辟了豪放词风，他同杰出词人辛弃疾并称为“苏辛”，对后世产生了很大的影响；苏轼是著名的书法家，他同黄庭坚、米芾、蔡襄并称“宋四家”；苏轼还是著名的画家。此外，在农田水利、教育、音乐、医药、数学、金石、美学、烹饪等方面也都取得了重要的成就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89000"/>
            <a:ext cx="2411280" cy="4508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0360" y="404640"/>
            <a:ext cx="2016000" cy="388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476280"/>
            <a:ext cx="2950920" cy="208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4360" y="3429000"/>
            <a:ext cx="2950920" cy="2016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716360" y="53737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苏轼的画像及字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Arial"/>
              </a:rPr>
              <a:t>背景资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苏轼是豪放词派的创始人，但细数《东坡乐府》，３４０多首传世之作中，真正称得上“豪放”的也不过十分之一．实际上，苏轼是豪放婉约两擅长的大家．这首《江城子　密州出猎》，就是他写的第一首，也是最为典型的一首豪放词．宋神宗熙宁八年，是苏轼到密州上任的第二年．当时，密州蝗旱相连，而西北方的西夏和辽不断袭扰边境．作为爱国心切、一贯主张抗敌御侮的苏轼，年届“不惑而雄心勃勃”，在贬官外任中，不但尽力解除人民的疾苦，而且时刻准备要驰骋疆场，为国效力．他在这年十月中，祭常山回来，与同僚猎于铁沟、黄茅冈，作此词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配乐朗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ｑｉｎ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锦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ｄｉａ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ｑｉｕ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微霜（ｂｉ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ｈａ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ｆａｎ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ｑｉａ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867280" y="620640"/>
            <a:ext cx="228600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加色字读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533760" y="175320"/>
            <a:ext cx="354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江城子 密州出猎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苏轼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夫聊发少年狂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左牵黄，右擎苍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锦帽貂裘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骑卷平冈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报倾城随太守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亲射虎，看孙郎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酒酣胸胆尚开张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鬓微霜，又何妨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持节云中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何日遣冯唐？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会挽雕弓如满月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西北望，射天狼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Arial"/>
              </a:rPr>
              <a:t>正文解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老夫姑且发一发少年疯狂，左手牵黄狗，右手举苍鹰，戴锦帽，披貂裘，千骑驰骋，犹如疾风席卷山冈．为了报酬满城的人跟随太守观的盛情，我要亲手射杀猛虎，像三国的孙郎那样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痛饮美酒，心胸开阔，胆气更为豪壮．鬓间虽已染白霜，那又有何妨！手持符节前往云中，何时朝廷才能再谴冯唐？（召我奔赴战场）（到那时）我定将手中的雕弓拉成满月的形状，朝着西北方，射杀犯界的天狼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4T05:02:26Z</dcterms:created>
  <dc:creator>XZY</dc:creator>
  <dc:description/>
  <dc:language>en-US</dc:language>
  <cp:lastModifiedBy>陈泽滨</cp:lastModifiedBy>
  <dcterms:modified xsi:type="dcterms:W3CDTF">2005-09-06T01:04:39Z</dcterms:modified>
  <cp:revision>5</cp:revision>
  <dc:subject/>
  <dc:title>江城子 密州出猎</dc:title>
</cp:coreProperties>
</file>