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1A5-FABF-4452-9B1A-83A2124E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DD0-37C9-4ECF-A222-3ACC2E6F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B51-9C02-4FDD-8B5D-36900318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AFB-C87F-46A9-9864-15F38C1A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F22-A885-4649-97A0-798EC9EB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71C-1CDD-4830-BEE5-234383EB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4CA-D5CB-4BB6-9169-3409EC4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EB6-2972-47A9-AC74-096AAEA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D6A-486D-426F-B663-AB9B35E6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3E5-FF38-46C2-B4C7-914BBB34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A00-6472-4517-AFEB-37FCD72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562-7584-4AC6-93C9-43C250F9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EAD3-7D45-46F6-BBCF-C7A3EA9D26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7" descr="C:\Documents and Settings\sss1\My Documents\My Pictures\苏轼2.jpg"/>
          <p:cNvPicPr/>
          <p:nvPr/>
        </p:nvPicPr>
        <p:blipFill>
          <a:blip r:embed="rId1"/>
          <a:stretch/>
        </p:blipFill>
        <p:spPr>
          <a:xfrm>
            <a:off x="16002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099"/>
          <p:cNvSpPr txBox="1"/>
          <p:nvPr/>
        </p:nvSpPr>
        <p:spPr>
          <a:xfrm rot="5400000">
            <a:off x="5562360" y="289548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记承天寺夜游</a:t>
            </a:r>
            <a:endParaRPr b="1" i="1" lang="en-US" sz="3600" spc="1" strike="noStrike">
              <a:ln w="9360">
                <a:solidFill>
                  <a:srgbClr val="8000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邓丽君-但愿人长久.MP3" descr=""/>
          <p:cNvPicPr/>
          <p:nvPr/>
        </p:nvPicPr>
        <p:blipFill>
          <a:blip r:embed="rId2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145" descr="C:\Documents and Settings\sss1\My Documents\My Pictures\0092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6146"/>
          <p:cNvSpPr/>
          <p:nvPr/>
        </p:nvSpPr>
        <p:spPr>
          <a:xfrm>
            <a:off x="0" y="6094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头望明月，低头思故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6148"/>
          <p:cNvSpPr/>
          <p:nvPr/>
        </p:nvSpPr>
        <p:spPr>
          <a:xfrm>
            <a:off x="0" y="1828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上升明月，天涯共此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6149"/>
          <p:cNvSpPr/>
          <p:nvPr/>
        </p:nvSpPr>
        <p:spPr>
          <a:xfrm>
            <a:off x="1232640" y="3200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寄愁心与明月，随君直到夜郎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6150"/>
          <p:cNvSpPr/>
          <p:nvPr/>
        </p:nvSpPr>
        <p:spPr>
          <a:xfrm>
            <a:off x="0" y="43434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上柳梢头，人约黄昏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6151"/>
          <p:cNvSpPr/>
          <p:nvPr/>
        </p:nvSpPr>
        <p:spPr>
          <a:xfrm>
            <a:off x="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愿人长久，千里共婵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6153"/>
          <p:cNvSpPr txBox="1"/>
          <p:nvPr/>
        </p:nvSpPr>
        <p:spPr>
          <a:xfrm rot="5400000">
            <a:off x="5181120" y="259056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多情的月儿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8193" descr="C:\Documents and Settings\sss1\My Documents\My Pictures\苏轼.jpg"/>
          <p:cNvPicPr/>
          <p:nvPr/>
        </p:nvPicPr>
        <p:blipFill>
          <a:blip r:embed="rId1"/>
          <a:stretch/>
        </p:blipFill>
        <p:spPr>
          <a:xfrm>
            <a:off x="236232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8197"/>
          <p:cNvSpPr/>
          <p:nvPr/>
        </p:nvSpPr>
        <p:spPr>
          <a:xfrm>
            <a:off x="142200" y="304920"/>
            <a:ext cx="1826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宋  才华横溢   诗词文书  “三苏”　“唐宋八大家”　　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8198"/>
          <p:cNvSpPr/>
          <p:nvPr/>
        </p:nvSpPr>
        <p:spPr>
          <a:xfrm>
            <a:off x="5999040" y="228600"/>
            <a:ext cx="26607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乌台诗案”　被贬黄州　有职无权　痛苦孤独悲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8201"/>
          <p:cNvSpPr txBox="1"/>
          <p:nvPr/>
        </p:nvSpPr>
        <p:spPr>
          <a:xfrm>
            <a:off x="2895480" y="762120"/>
            <a:ext cx="2476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人识文</a:t>
            </a:r>
            <a:endParaRPr b="1" lang="en-US" sz="4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5122"/>
          <p:cNvSpPr txBox="1"/>
          <p:nvPr/>
        </p:nvSpPr>
        <p:spPr>
          <a:xfrm>
            <a:off x="380880" y="22860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0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重点词语</a:t>
            </a:r>
            <a:endParaRPr b="1" lang="en-US" sz="3600" spc="1" strike="noStrike">
              <a:ln w="9360">
                <a:solidFill>
                  <a:srgbClr val="ff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" name="文本框 5125"/>
          <p:cNvSpPr/>
          <p:nvPr/>
        </p:nvSpPr>
        <p:spPr>
          <a:xfrm>
            <a:off x="762120" y="29718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5126"/>
          <p:cNvSpPr/>
          <p:nvPr/>
        </p:nvSpPr>
        <p:spPr>
          <a:xfrm>
            <a:off x="65520" y="1523880"/>
            <a:ext cx="1277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念  遂  寻  寝  盖  但  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5127"/>
          <p:cNvSpPr/>
          <p:nvPr/>
        </p:nvSpPr>
        <p:spPr>
          <a:xfrm>
            <a:off x="4876920" y="144792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5128"/>
          <p:cNvSpPr/>
          <p:nvPr/>
        </p:nvSpPr>
        <p:spPr>
          <a:xfrm>
            <a:off x="4800600" y="1523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欣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5129"/>
          <p:cNvSpPr/>
          <p:nvPr/>
        </p:nvSpPr>
        <p:spPr>
          <a:xfrm>
            <a:off x="4800600" y="3200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5130"/>
          <p:cNvSpPr/>
          <p:nvPr/>
        </p:nvSpPr>
        <p:spPr>
          <a:xfrm>
            <a:off x="480060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5131"/>
          <p:cNvSpPr/>
          <p:nvPr/>
        </p:nvSpPr>
        <p:spPr>
          <a:xfrm>
            <a:off x="2227680" y="1463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考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5132"/>
          <p:cNvSpPr/>
          <p:nvPr/>
        </p:nvSpPr>
        <p:spPr>
          <a:xfrm>
            <a:off x="2057400" y="2209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于是，就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5133"/>
          <p:cNvSpPr/>
          <p:nvPr/>
        </p:nvSpPr>
        <p:spPr>
          <a:xfrm>
            <a:off x="1981080" y="2971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寻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5134"/>
          <p:cNvSpPr/>
          <p:nvPr/>
        </p:nvSpPr>
        <p:spPr>
          <a:xfrm>
            <a:off x="2133720" y="3657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睡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5135"/>
          <p:cNvSpPr/>
          <p:nvPr/>
        </p:nvSpPr>
        <p:spPr>
          <a:xfrm>
            <a:off x="21337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原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5136"/>
          <p:cNvSpPr/>
          <p:nvPr/>
        </p:nvSpPr>
        <p:spPr>
          <a:xfrm>
            <a:off x="2057400" y="5105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只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5137"/>
          <p:cNvSpPr/>
          <p:nvPr/>
        </p:nvSpPr>
        <p:spPr>
          <a:xfrm>
            <a:off x="2133720" y="563868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5138"/>
          <p:cNvSpPr/>
          <p:nvPr/>
        </p:nvSpPr>
        <p:spPr>
          <a:xfrm>
            <a:off x="4572000" y="21337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愉快的样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5140"/>
          <p:cNvSpPr/>
          <p:nvPr/>
        </p:nvSpPr>
        <p:spPr>
          <a:xfrm>
            <a:off x="4784760" y="3749760"/>
            <a:ext cx="245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5141"/>
          <p:cNvSpPr/>
          <p:nvPr/>
        </p:nvSpPr>
        <p:spPr>
          <a:xfrm>
            <a:off x="4648320" y="3809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5142"/>
          <p:cNvSpPr/>
          <p:nvPr/>
        </p:nvSpPr>
        <p:spPr>
          <a:xfrm>
            <a:off x="3048120" y="5181480"/>
            <a:ext cx="6095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汲汲于名利而能从容流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连光景的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9217"/>
          <p:cNvSpPr txBox="1"/>
          <p:nvPr/>
        </p:nvSpPr>
        <p:spPr>
          <a:xfrm>
            <a:off x="304920" y="0"/>
            <a:ext cx="3314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讨论探讨</a:t>
            </a:r>
            <a:endParaRPr b="1" lang="en-US" sz="4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文本框 9220"/>
          <p:cNvSpPr/>
          <p:nvPr/>
        </p:nvSpPr>
        <p:spPr>
          <a:xfrm>
            <a:off x="0" y="1828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夜游时他见到了什么？作者描绘的这幅月夜图有什么特点？给你怎样的感受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9221"/>
          <p:cNvSpPr/>
          <p:nvPr/>
        </p:nvSpPr>
        <p:spPr>
          <a:xfrm>
            <a:off x="1101600" y="3505320"/>
            <a:ext cx="49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中哪些句子表达了作者的情感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9222"/>
          <p:cNvSpPr/>
          <p:nvPr/>
        </p:nvSpPr>
        <p:spPr>
          <a:xfrm>
            <a:off x="0" y="4724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章结尾句流露出作者怎样的情绪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动作按钮: 前进或下一项 9223">
            <a:hlinkClick r:id="" action="ppaction://hlinkshowjump?jump=nextslide"/>
          </p:cNvPr>
          <p:cNvSpPr/>
          <p:nvPr/>
        </p:nvSpPr>
        <p:spPr>
          <a:xfrm>
            <a:off x="8381880" y="2743200"/>
            <a:ext cx="433440" cy="53352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33520"/>
              <a:gd name="textAreaBottom" fmla="*/ 505440 h 533520"/>
            </a:gdLst>
            <a:ahLst/>
            <a:rect l="textAreaLeft" t="textAreaTop" r="textAreaRight" b="textAreaBottom"/>
            <a:pathLst>
              <a:path w="21600" h="26583">
                <a:moveTo>
                  <a:pt x="0" y="0"/>
                </a:moveTo>
                <a:lnTo>
                  <a:pt x="21600" y="0"/>
                </a:lnTo>
                <a:lnTo>
                  <a:pt x="21600" y="26583"/>
                </a:lnTo>
                <a:lnTo>
                  <a:pt x="0" y="26583"/>
                </a:lnTo>
                <a:close/>
              </a:path>
              <a:path fill="lightenLess" w="21600" h="26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83">
                <a:moveTo>
                  <a:pt x="21600" y="0"/>
                </a:moveTo>
                <a:lnTo>
                  <a:pt x="21600" y="26583"/>
                </a:lnTo>
                <a:lnTo>
                  <a:pt x="20200" y="25183"/>
                </a:lnTo>
                <a:lnTo>
                  <a:pt x="20200" y="1400"/>
                </a:lnTo>
                <a:close/>
              </a:path>
              <a:path fill="darkenLess" w="21600" h="26583">
                <a:moveTo>
                  <a:pt x="21600" y="26583"/>
                </a:moveTo>
                <a:lnTo>
                  <a:pt x="0" y="26583"/>
                </a:lnTo>
                <a:lnTo>
                  <a:pt x="1400" y="25183"/>
                </a:lnTo>
                <a:lnTo>
                  <a:pt x="20200" y="25183"/>
                </a:lnTo>
                <a:close/>
              </a:path>
              <a:path fill="lighten" w="21600" h="26583">
                <a:moveTo>
                  <a:pt x="0" y="26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83"/>
                </a:lnTo>
                <a:close/>
              </a:path>
              <a:path fill="darken" w="21600" h="26583">
                <a:moveTo>
                  <a:pt x="3794" y="6285"/>
                </a:moveTo>
                <a:lnTo>
                  <a:pt x="17806" y="13292"/>
                </a:lnTo>
                <a:lnTo>
                  <a:pt x="3794" y="20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动作按钮: 结束 9224"/>
          <p:cNvSpPr/>
          <p:nvPr/>
        </p:nvSpPr>
        <p:spPr>
          <a:xfrm>
            <a:off x="8381880" y="3962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4299" y="14394"/>
                </a:moveTo>
                <a:lnTo>
                  <a:pt x="3794" y="21401"/>
                </a:lnTo>
                <a:lnTo>
                  <a:pt x="3794" y="7388"/>
                </a:lnTo>
                <a:close/>
              </a:path>
              <a:path fill="darken" w="21600" h="28789">
                <a:moveTo>
                  <a:pt x="16144" y="7388"/>
                </a:moveTo>
                <a:lnTo>
                  <a:pt x="16144" y="21401"/>
                </a:lnTo>
                <a:lnTo>
                  <a:pt x="17806" y="21401"/>
                </a:lnTo>
                <a:lnTo>
                  <a:pt x="17806" y="73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1267"/>
          <p:cNvSpPr txBox="1"/>
          <p:nvPr/>
        </p:nvSpPr>
        <p:spPr>
          <a:xfrm>
            <a:off x="914400" y="457200"/>
            <a:ext cx="247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精彩赏析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文本框 11268"/>
          <p:cNvSpPr/>
          <p:nvPr/>
        </p:nvSpPr>
        <p:spPr>
          <a:xfrm>
            <a:off x="0" y="20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说说你对“庭下如积水空明，水中藻、荇交横，盖竹柏影也”一句中景物描写的理解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3313"/>
          <p:cNvSpPr/>
          <p:nvPr/>
        </p:nvSpPr>
        <p:spPr>
          <a:xfrm>
            <a:off x="457200" y="762120"/>
            <a:ext cx="71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月色入户，欣然起行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13314"/>
          <p:cNvSpPr/>
          <p:nvPr/>
        </p:nvSpPr>
        <p:spPr>
          <a:xfrm>
            <a:off x="380880" y="24382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念无与乐者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13315"/>
          <p:cNvSpPr/>
          <p:nvPr/>
        </p:nvSpPr>
        <p:spPr>
          <a:xfrm>
            <a:off x="457200" y="42670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何夜无月？何处无竹柏？但少闲人如两人者耳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0246"/>
          <p:cNvSpPr txBox="1"/>
          <p:nvPr/>
        </p:nvSpPr>
        <p:spPr>
          <a:xfrm>
            <a:off x="838080" y="685800"/>
            <a:ext cx="24768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学学改编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文本框 10248"/>
          <p:cNvSpPr/>
          <p:nvPr/>
        </p:nvSpPr>
        <p:spPr>
          <a:xfrm>
            <a:off x="0" y="1539720"/>
            <a:ext cx="91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此文是作者在生活中随意摄取的一个片断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写成的，只寥寥</a:t>
            </a:r>
            <a:r>
              <a:rPr b="1" lang="en-US" sz="3600" spc="-1" strike="noStrike">
                <a:solidFill>
                  <a:srgbClr val="ccff33"/>
                </a:solidFill>
                <a:latin typeface="Times New Roman"/>
              </a:rPr>
              <a:t>84</a:t>
            </a: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字。若直写，就会一泻无余，没有韵味，所以作者着意去写月色与心情的对应变化。请同学们结合作者当时的处境，发挥想象，对文章进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扩写或改写</a:t>
            </a: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，用自己的语言描摹那个月夜，走进苏轼的内心世界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2291" descr="C:\Documents and Settings\sss1\My Documents\My Pictures\意境图2.jpg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2292"/>
          <p:cNvSpPr/>
          <p:nvPr/>
        </p:nvSpPr>
        <p:spPr>
          <a:xfrm>
            <a:off x="974880" y="777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12294"/>
          <p:cNvSpPr/>
          <p:nvPr/>
        </p:nvSpPr>
        <p:spPr>
          <a:xfrm>
            <a:off x="-1152360" y="0"/>
            <a:ext cx="404784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家时它能给你以慰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烦恼时它能抚平你受伤的心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闲暇时请你也来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赏月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3:13:28Z</dcterms:created>
  <dc:creator>sss</dc:creator>
  <dc:description/>
  <dc:language>en-US</dc:language>
  <cp:lastModifiedBy>admin</cp:lastModifiedBy>
  <dcterms:modified xsi:type="dcterms:W3CDTF">2019-03-25T06:20:52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