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5.gif" ContentType="image/gif"/>
  <Override PartName="/ppt/media/type.wav" ContentType="audio/x-wav"/>
  <Override PartName="/ppt/media/bomb.wav" ContentType="audio/x-wav"/>
  <Override PartName="/ppt/media/image24.png" ContentType="image/png"/>
  <Override PartName="/ppt/media/image11.jpeg" ContentType="image/jpeg"/>
  <Override PartName="/ppt/media/image21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chimes.wav" ContentType="audio/x-wav"/>
  <Override PartName="/ppt/media/image29.png" ContentType="image/png"/>
  <Override PartName="/ppt/media/image16.jpeg" ContentType="image/jpeg"/>
  <Override PartName="/ppt/media/image5.wmf" ContentType="image/x-wmf"/>
  <Override PartName="/ppt/media/image15.jpeg" ContentType="image/jpeg"/>
  <Override PartName="/ppt/media/image14.jpeg" ContentType="image/jpeg"/>
  <Override PartName="/ppt/media/image41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10.wmf" ContentType="image/x-wmf"/>
  <Override PartName="/ppt/media/image30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ROOSTER.WAV" ContentType="audio/x-wav"/>
  <Override PartName="/ppt/media/image39.jpeg" ContentType="image/jpeg"/>
  <Override PartName="/ppt/media/image37.gif" ContentType="image/gif"/>
  <Override PartName="/ppt/media/image45.png" ContentType="image/png"/>
  <Override PartName="/ppt/media/image33.jpeg" ContentType="image/jpeg"/>
  <Override PartName="/ppt/media/image27.png" ContentType="image/png"/>
  <Override PartName="/ppt/media/image43.jpeg" ContentType="image/jpeg"/>
  <Override PartName="/ppt/media/image44.wmf" ContentType="image/x-wmf"/>
  <Override PartName="/ppt/media/image4.jpeg" ContentType="image/jpeg"/>
  <Override PartName="/ppt/media/image8.wmf" ContentType="image/x-wmf"/>
  <Override PartName="/ppt/media/image7.jpeg" ContentType="image/jpeg"/>
  <Override PartName="/ppt/media/image38.jpeg" ContentType="image/jpeg"/>
  <Override PartName="/ppt/media/image6.png" ContentType="image/png"/>
  <Override PartName="/ppt/media/image40.gif" ContentType="image/gif"/>
  <Override PartName="/ppt/media/image3.png" ContentType="image/png"/>
  <Override PartName="/ppt/media/image12.gif" ContentType="image/gif"/>
  <Override PartName="/ppt/media/image17.jpeg" ContentType="image/jpeg"/>
  <Override PartName="/ppt/media/image2.jpeg" ContentType="image/jpeg"/>
  <Override PartName="/ppt/media/image36.jpeg" ContentType="image/jpe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B894-F3E9-4DD2-8805-C7D9D2DE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35D-3337-4731-86CE-F481B5E1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0D7-52AB-4443-BEAA-EBA6DD07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C54-EBE4-43A6-B7E2-8176A8A4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073-1196-484D-A4C1-75050DD7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E023-9A2C-415F-9CF6-E29EC876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1866-1061-4609-A3C5-85AB6B5C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C57-9C96-4F7E-B2DB-1359FABD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291-D0D6-4CFC-AAD4-0CDCC432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9AA-3A38-4021-8D5A-E1C2B128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9EBC-8A79-4267-A206-8AB55617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533-8CF5-4FB1-907B-9725E6B1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6FB5-5EEF-4A20-9238-BB749809D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ROOSTER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gif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入：这篇讲了一个故事：有一个庙靠近河，庙门倒塌之后，门旁的两只石狮也掉到了河里。后来要修庙，决定要把石狮打捞上来。有人说，到下游去找，因为石狮被水冲走了，结果在下游没找到。一个读书人说，石狮肯定沉到沙泥里去了，因为石头重，沙泥轻，结果在庙前的沙泥里也没找到。一个老水手最后说，这两个石狮在上游，结果果然在上游打捞到了。 怎么会到上游去呢？阅读完课文后我们便知道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971640" y="692280"/>
            <a:ext cx="258444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新课导入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p_large_rr63_04a6000191a32d12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719928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一讲学家设帐寺中，闻之笑曰：“尔辈不能究 物理。是非木杮（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fèi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68360" y="1341360"/>
            <a:ext cx="83534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位教书先生在寺中开设学馆教学，听了这件事笑着说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这些人不能推究客观事物的道理。这两尊石兽不是木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34920" y="2781360"/>
            <a:ext cx="8209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岂能为暴涨携之去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?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乃石性坚重，沙性松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68360" y="3284640"/>
            <a:ext cx="784872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么能够被洪水携带走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不过石头的性质坚硬沉重，沙子的性质疏松漂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539640" y="4292640"/>
            <a:ext cx="7920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湮（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yān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）于沙上，渐沉渐深耳。沿河求之，不亦颠乎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?”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众服为确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826920" y="5229360"/>
            <a:ext cx="7488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兽埋没在沙中，逐渐沉到深处罢了。顺着河水寻找它们，不是弄颠倒了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家信服，认为是确定不移的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57200" y="380880"/>
            <a:ext cx="8915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老河兵闻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又笑曰：“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河中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求之于上游。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性坚重，沙性松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水不能冲石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反激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力，必于石下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水处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啮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沙 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为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坎穴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渐激渐深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之半，石必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倒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坎穴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676520" y="8380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讲学家的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562720" y="914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凡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10280" y="914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失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57200" y="2057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应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276720" y="20574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上下句之间表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276720" y="3124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4648320" y="3124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2590920" y="4267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形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380988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坑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731520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等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352680" y="5410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摔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p_large_rr63_04a6000191a32d12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719928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一老河兵闻之，又笑曰：“凡河中失石，当求之于上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57200" y="1295280"/>
            <a:ext cx="83534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位镇守河防的老兵听到了这件事，又笑着说：“凡是河水中丢失的石头，应当到上游去寻找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457200" y="213372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盖石性坚重，沙性松浮，水不能冲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其反激之力，必于石下迎水处啮沙为坎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渐激渐深，至石之半，石必倒掷坎穴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57200" y="3733920"/>
            <a:ext cx="8001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正因为石头的性质坚硬沉重，沙子的性质疏松漂浮，（所以）河水不能冲走石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它相反的冲刷力量，一定在石头下面迎水的地方冲走沙子形成陷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越冲刷坑越深，到了石头的一半那么深，石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定倒转栽倒在洞坑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53352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如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再啮，石又再转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转转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反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流逆上矣。求之下流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颠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求之地中，不更颠乎？”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如   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言，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于数里外。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然则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天下之事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知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，不知其二者多矣，可据理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臆断    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28600" y="990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像这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495680" y="9907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一再翻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705720" y="990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停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0" y="2057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于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523880" y="12193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219320" y="2057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逆流而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6248520" y="213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固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952880" y="3124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按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6019920" y="3200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他，指老河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找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05740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既然这样，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6858000" y="4343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638680" y="54100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主观武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7772400" y="5410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p_large_rr63_04a6000191a32d12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719928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如是再啮，石又再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57200" y="838080"/>
            <a:ext cx="83534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此这般又一次冲刷，石头又往后翻转一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80880" y="1371600"/>
            <a:ext cx="82090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转转不已， 遂反溯（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sù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）流逆上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求之下流，固颠； 求之地中，不更颠乎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?”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609480" y="2362320"/>
            <a:ext cx="784872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翻来翻去停不下来，石头于是反而逆着河水朝相反的方向移到上游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下游寻找石头，固然颠倒了；在河底寻找，不更加颠倒吗？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p_large_rr63_04a6000191a32d12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199280" cy="11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如其言， 果得于数里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68360" y="1484280"/>
            <a:ext cx="83534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按照他说的那样去找，果然在上游几里外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到了石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539640" y="2781360"/>
            <a:ext cx="8209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然则天下之事，但知其一，不知其二者多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可据理臆断欤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468360" y="4076640"/>
            <a:ext cx="7848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么说来，天下的事，只知道其中一点、不知其中第二点的多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凭据常理主观地推断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1" descr="p_large_rr63_04a6000191a32d12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2"/>
          <p:cNvSpPr/>
          <p:nvPr/>
        </p:nvSpPr>
        <p:spPr>
          <a:xfrm>
            <a:off x="2971800" y="152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80880" y="3124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838080" y="990720"/>
            <a:ext cx="381240" cy="5105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132840 h 5105160"/>
              <a:gd name="textAreaBottom" fmla="*/ 4972320 h 510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143000" y="685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笑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733920" y="7621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代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顺流而下寻找石兽这件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143000" y="1752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沿河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733920" y="17524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代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石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990720" y="2286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老河兵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733920" y="2286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代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讲学家的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990720" y="28195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上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733920" y="2819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代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石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1066680" y="3352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反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809880" y="3352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1066680" y="39625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至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809880" y="3886200"/>
            <a:ext cx="7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990720" y="449568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流、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3657600" y="47242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代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石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1066680" y="55627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然则天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3809880" y="5562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3124080" y="380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2214720" y="10717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古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214720" y="178596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今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285920" y="1214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3000240" y="1071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2928960" y="17146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不潮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857160" y="27147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2786040" y="2428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经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3000240" y="3071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28760" y="392904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2500200" y="37148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事物的道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2643120" y="4429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一门学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4857840" y="1285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6715080" y="1143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6172200" y="18572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表判断的动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928800" y="542916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2786040" y="5072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停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2786040" y="5786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已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785960" y="24289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古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785960" y="371484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古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715000" y="11430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古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928880" y="500076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古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857240" y="30718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今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714680" y="428616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今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928880" y="57862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今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5643720" y="185724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今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左大括号 28"/>
          <p:cNvSpPr/>
          <p:nvPr/>
        </p:nvSpPr>
        <p:spPr>
          <a:xfrm>
            <a:off x="2143080" y="121428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左大括号 29"/>
          <p:cNvSpPr/>
          <p:nvPr/>
        </p:nvSpPr>
        <p:spPr>
          <a:xfrm>
            <a:off x="5572080" y="135720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左大括号 30"/>
          <p:cNvSpPr/>
          <p:nvPr/>
        </p:nvSpPr>
        <p:spPr>
          <a:xfrm>
            <a:off x="1571760" y="2571840"/>
            <a:ext cx="214200" cy="10573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1057320"/>
              <a:gd name="textAreaBottom" fmla="*/ 1051920 h 105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左大括号 31"/>
          <p:cNvSpPr/>
          <p:nvPr/>
        </p:nvSpPr>
        <p:spPr>
          <a:xfrm>
            <a:off x="1643040" y="392904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左大括号 32"/>
          <p:cNvSpPr/>
          <p:nvPr/>
        </p:nvSpPr>
        <p:spPr>
          <a:xfrm>
            <a:off x="1785960" y="521496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Object 2"/>
          <p:cNvGraphicFramePr/>
          <p:nvPr/>
        </p:nvGraphicFramePr>
        <p:xfrm>
          <a:off x="6934320" y="4572000"/>
          <a:ext cx="146988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4572000"/>
                    <a:ext cx="146988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Picture 3" descr="宽形长板1"/>
          <p:cNvPicPr/>
          <p:nvPr/>
        </p:nvPicPr>
        <p:blipFill>
          <a:blip r:embed="rId3"/>
          <a:stretch/>
        </p:blipFill>
        <p:spPr>
          <a:xfrm>
            <a:off x="2819520" y="152280"/>
            <a:ext cx="3429000" cy="14036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课堂测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5"/>
          <p:cNvGraphicFramePr/>
          <p:nvPr/>
        </p:nvGraphicFramePr>
        <p:xfrm>
          <a:off x="2514600" y="2209680"/>
          <a:ext cx="4038480" cy="311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2209680"/>
                    <a:ext cx="403848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Text Box 6"/>
          <p:cNvSpPr/>
          <p:nvPr/>
        </p:nvSpPr>
        <p:spPr>
          <a:xfrm rot="231600">
            <a:off x="7089840" y="4114800"/>
            <a:ext cx="8506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00"/>
                </a:solidFill>
                <a:latin typeface="Arial"/>
                <a:ea typeface="黑体"/>
              </a:rPr>
              <a:t>考考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3124080" y="25909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河中石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p_large_M58j_39a7000106862d12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66680" y="1142640"/>
            <a:ext cx="7010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文中主要说出了几位主要人物，概括他们各自寻找河中石兽的四种方法及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文中找出他们寻找石兽的理由有什么不 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讲学家与老河兵推理的前提都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性坚重，沙性松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为什么结论不一样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什么前三种方法是错的，只有老河兵的方法是对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问号"/>
          <p:cNvPicPr/>
          <p:nvPr/>
        </p:nvPicPr>
        <p:blipFill>
          <a:blip r:embed="rId2"/>
          <a:stretch/>
        </p:blipFill>
        <p:spPr>
          <a:xfrm>
            <a:off x="6553080" y="4952880"/>
            <a:ext cx="1441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_large_7uOH_34133m0160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 rot="5400000">
            <a:off x="-952200" y="2781000"/>
            <a:ext cx="525780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河中石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7" name="WordArt 6"/>
          <p:cNvSpPr txBox="1"/>
          <p:nvPr/>
        </p:nvSpPr>
        <p:spPr>
          <a:xfrm rot="5400000">
            <a:off x="2095200" y="567684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纪 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large_AOxG_6441d1320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1066680" y="114300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总结四种寻找石兽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5257800" y="12952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990720" y="1905120"/>
          <a:ext cx="7238880" cy="4343400"/>
        </p:xfrm>
        <a:graphic>
          <a:graphicData uri="http://schemas.openxmlformats.org/drawingml/2006/table">
            <a:tbl>
              <a:tblPr/>
              <a:tblGrid>
                <a:gridCol w="1809720"/>
                <a:gridCol w="1542960"/>
                <a:gridCol w="2076480"/>
                <a:gridCol w="18097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寻找经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寻找的地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Text Box 39"/>
          <p:cNvSpPr/>
          <p:nvPr/>
        </p:nvSpPr>
        <p:spPr>
          <a:xfrm>
            <a:off x="1066680" y="29718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0"/>
          <p:cNvSpPr/>
          <p:nvPr/>
        </p:nvSpPr>
        <p:spPr>
          <a:xfrm>
            <a:off x="3124080" y="2895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1"/>
          <p:cNvSpPr/>
          <p:nvPr/>
        </p:nvSpPr>
        <p:spPr>
          <a:xfrm>
            <a:off x="1066680" y="36576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2971800" y="36576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4419720" y="3733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顺流而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990720" y="4572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5"/>
          <p:cNvSpPr/>
          <p:nvPr/>
        </p:nvSpPr>
        <p:spPr>
          <a:xfrm>
            <a:off x="2819520" y="4495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讲学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44197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原地沙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7"/>
          <p:cNvSpPr/>
          <p:nvPr/>
        </p:nvSpPr>
        <p:spPr>
          <a:xfrm>
            <a:off x="1143000" y="5638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四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8"/>
          <p:cNvSpPr/>
          <p:nvPr/>
        </p:nvSpPr>
        <p:spPr>
          <a:xfrm>
            <a:off x="2819520" y="5486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老河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9"/>
          <p:cNvSpPr/>
          <p:nvPr/>
        </p:nvSpPr>
        <p:spPr>
          <a:xfrm>
            <a:off x="4827960" y="548640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之于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0"/>
          <p:cNvSpPr/>
          <p:nvPr/>
        </p:nvSpPr>
        <p:spPr>
          <a:xfrm>
            <a:off x="6629400" y="5181480"/>
            <a:ext cx="14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果得于数里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1"/>
          <p:cNvSpPr/>
          <p:nvPr/>
        </p:nvSpPr>
        <p:spPr>
          <a:xfrm>
            <a:off x="6629400" y="4495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失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2"/>
          <p:cNvSpPr/>
          <p:nvPr/>
        </p:nvSpPr>
        <p:spPr>
          <a:xfrm>
            <a:off x="4343400" y="28954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原地水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3"/>
          <p:cNvSpPr/>
          <p:nvPr/>
        </p:nvSpPr>
        <p:spPr>
          <a:xfrm>
            <a:off x="6477120" y="2895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可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6553080" y="37339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5"/>
          <p:cNvSpPr/>
          <p:nvPr/>
        </p:nvSpPr>
        <p:spPr>
          <a:xfrm>
            <a:off x="4343400" y="62485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2"/>
          <p:cNvSpPr/>
          <p:nvPr/>
        </p:nvSpPr>
        <p:spPr>
          <a:xfrm>
            <a:off x="304920" y="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、文中主要说出了几位主要人物，概括他们各自寻找河中石兽的四种方法及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99"/>
          <p:cNvPicPr/>
          <p:nvPr/>
        </p:nvPicPr>
        <p:blipFill>
          <a:blip r:embed="rId1"/>
          <a:stretch/>
        </p:blipFill>
        <p:spPr>
          <a:xfrm rot="20470200">
            <a:off x="837720" y="3657600"/>
            <a:ext cx="924120" cy="1714680"/>
          </a:xfrm>
          <a:prstGeom prst="rect">
            <a:avLst/>
          </a:prstGeom>
          <a:ln w="0">
            <a:noFill/>
          </a:ln>
        </p:spPr>
      </p:pic>
      <p:sp>
        <p:nvSpPr>
          <p:cNvPr id="256" name="Line 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152280" y="472428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5867280" y="5029200"/>
            <a:ext cx="38124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6858000" y="4952880"/>
            <a:ext cx="53352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WordArt 12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grpSp>
        <p:nvGrpSpPr>
          <p:cNvPr id="265" name="Group 13"/>
          <p:cNvGrpSpPr/>
          <p:nvPr/>
        </p:nvGrpSpPr>
        <p:grpSpPr>
          <a:xfrm>
            <a:off x="0" y="1371600"/>
            <a:ext cx="2762280" cy="2338200"/>
            <a:chOff x="0" y="1371600"/>
            <a:chExt cx="2762280" cy="2338200"/>
          </a:xfrm>
        </p:grpSpPr>
        <p:pic>
          <p:nvPicPr>
            <p:cNvPr id="266" name="Picture 14" descr="77"/>
            <p:cNvPicPr/>
            <p:nvPr/>
          </p:nvPicPr>
          <p:blipFill>
            <a:blip r:embed="rId2"/>
            <a:stretch/>
          </p:blipFill>
          <p:spPr>
            <a:xfrm>
              <a:off x="0" y="2209680"/>
              <a:ext cx="276228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5" descr="44"/>
            <p:cNvPicPr/>
            <p:nvPr/>
          </p:nvPicPr>
          <p:blipFill>
            <a:blip r:embed="rId3"/>
            <a:stretch/>
          </p:blipFill>
          <p:spPr>
            <a:xfrm>
              <a:off x="838080" y="1371600"/>
              <a:ext cx="8082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Line 16"/>
            <p:cNvSpPr/>
            <p:nvPr/>
          </p:nvSpPr>
          <p:spPr>
            <a:xfrm flipH="1">
              <a:off x="228240" y="2057400"/>
              <a:ext cx="1523880" cy="1600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7"/>
            <p:cNvSpPr/>
            <p:nvPr/>
          </p:nvSpPr>
          <p:spPr>
            <a:xfrm rot="18808800">
              <a:off x="161640" y="3249360"/>
              <a:ext cx="9144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Picture 18" descr="u=4054640601,1650306011&amp;fm=21&amp;gp=0"/>
          <p:cNvPicPr/>
          <p:nvPr/>
        </p:nvPicPr>
        <p:blipFill>
          <a:blip r:embed="rId4"/>
          <a:stretch/>
        </p:blipFill>
        <p:spPr>
          <a:xfrm>
            <a:off x="7620120" y="0"/>
            <a:ext cx="1523880" cy="1619280"/>
          </a:xfrm>
          <a:prstGeom prst="rect">
            <a:avLst/>
          </a:prstGeom>
          <a:ln w="0">
            <a:noFill/>
          </a:ln>
        </p:spPr>
      </p:pic>
      <p:sp>
        <p:nvSpPr>
          <p:cNvPr id="271" name="矩形 18"/>
          <p:cNvSpPr/>
          <p:nvPr/>
        </p:nvSpPr>
        <p:spPr>
          <a:xfrm>
            <a:off x="22860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文中找出他们寻找石兽的理由有什么不 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0.00834 L 0.825 -3.33333E-006 E">
                                      <p:cBhvr>
                                        <p:cTn id="686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29 0.06899 C 0.15781 0.06667 0.15851 0.06412 0.1599 0.0625 C 0.16094 0.06112 0.16268 0.06181 0.16389 0.06088 C 0.16806 0.05787 0.17031 0.05579 0.17483 0.0544 C 0.18229 0.04838 0.19045 0.04746 0.19861 0.04653 C 0.20729 0.04676 0.21597 0.047 0.22448 0.04792 C 0.2382 0.04954 0.25243 0.05718 0.26615 0.06088 C 0.26806 0.06204 0.27049 0.0625 0.27205 0.06412 C 0.27743 0.06922 0.27934 0.08033 0.28507 0.0838 C 0.29271 0.09514 0.30695 0.08565 0.31684 0.0838 C 0.32292 0.08102 0.32952 0.07825 0.33559 0.07547 C 0.33872 0.07223 0.34011 0.06922 0.34358 0.06737 C 0.34445 0.06644 0.34531 0.06505 0.34653 0.06412 C 0.3474 0.06343 0.34879 0.06366 0.34948 0.0625 C 0.35018 0.06181 0.35052 0.05973 0.35156 0.05926 C 0.35504 0.05718 0.36528 0.05533 0.36945 0.0544 C 0.38646 0.05487 0.40382 0.0551 0.42101 0.05602 C 0.42847 0.05649 0.43524 0.06181 0.44271 0.0625 C 0.45139 0.06343 0.46007 0.06366 0.46875 0.06412 C 0.47031 0.06505 0.47518 0.0676 0.47743 0.06899 C 0.47847 0.06945 0.48038 0.07061 0.48038 0.07084 C 0.48542 0.07848 0.49202 0.08102 0.49844 0.0838 C 0.5033 0.08565 0.50712 0.09005 0.51215 0.0919 C 0.51997 0.09491 0.52743 0.097 0.53524 0.1 C 0.55625 0.09908 0.57379 0.10325 0.59271 0.09352 C 0.59601 0.08959 0.59948 0.08912 0.60347 0.08681 C 0.61111 0.07871 0.60729 0.08125 0.61459 0.07871 C 0.65417 0.0801 0.65538 0.07338 0.67813 0.08542 C 0.6809 0.08843 0.68368 0.08982 0.68715 0.0919 C 0.69167 0.09931 0.68802 0.09514 0.69514 0.09838 C 0.69688 0.09931 0.70087 0.10162 0.70087 0.10186 C 0.70469 0.10787 0.71163 0.10903 0.71684 0.11158 C 0.72726 0.11019 0.73906 0.11065 0.74931 0.10649 C 0.75313 0.10255 0.7566 0.10047 0.76042 0.09838 C 0.7632 0.09352 0.76667 0.08982 0.76945 0.08542 C 0.77188 0.07292 0.76823 0.08774 0.77344 0.07732 C 0.77396 0.07593 0.77361 0.07362 0.77448 0.07223 C 0.77587 0.06922 0.77952 0.06667 0.78125 0.06412 C 0.78976 0.05301 0.79601 0.05278 0.80729 0.05278 E">
                                      <p:cBhvr>
                                        <p:cTn id="690" dur="3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1523880" y="4267080"/>
            <a:ext cx="5715000" cy="7632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152280" y="472428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9"/>
          <p:cNvSpPr/>
          <p:nvPr/>
        </p:nvSpPr>
        <p:spPr>
          <a:xfrm>
            <a:off x="6781680" y="4800600"/>
            <a:ext cx="2057400" cy="9144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WordArt 10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1" name="WordArt 11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282" name="Picture 12" descr="99"/>
          <p:cNvPicPr/>
          <p:nvPr/>
        </p:nvPicPr>
        <p:blipFill>
          <a:blip r:embed="rId1"/>
          <a:stretch/>
        </p:blipFill>
        <p:spPr>
          <a:xfrm rot="20470200">
            <a:off x="6171840" y="5562720"/>
            <a:ext cx="923760" cy="1714320"/>
          </a:xfrm>
          <a:prstGeom prst="rect">
            <a:avLst/>
          </a:prstGeom>
          <a:ln w="0">
            <a:noFill/>
          </a:ln>
        </p:spPr>
      </p:pic>
      <p:sp>
        <p:nvSpPr>
          <p:cNvPr id="283" name="Oval 13"/>
          <p:cNvSpPr/>
          <p:nvPr/>
        </p:nvSpPr>
        <p:spPr>
          <a:xfrm rot="16200000">
            <a:off x="5410080" y="5943240"/>
            <a:ext cx="1143000" cy="6858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4"/>
          <p:cNvSpPr/>
          <p:nvPr/>
        </p:nvSpPr>
        <p:spPr>
          <a:xfrm>
            <a:off x="6858000" y="5715000"/>
            <a:ext cx="609480" cy="6094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5"/>
          <p:cNvSpPr/>
          <p:nvPr/>
        </p:nvSpPr>
        <p:spPr>
          <a:xfrm rot="16020600">
            <a:off x="5562360" y="4723920"/>
            <a:ext cx="609480" cy="9144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6"/>
          <p:cNvSpPr/>
          <p:nvPr/>
        </p:nvSpPr>
        <p:spPr>
          <a:xfrm>
            <a:off x="6019920" y="5562720"/>
            <a:ext cx="22860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7" descr="u=4054640601,1650306011&amp;fm=21&amp;gp=0"/>
          <p:cNvPicPr/>
          <p:nvPr/>
        </p:nvPicPr>
        <p:blipFill>
          <a:blip r:embed="rId2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8" descr="u=1981761599,2222145136&amp;fm=21&amp;gp=0"/>
          <p:cNvPicPr/>
          <p:nvPr/>
        </p:nvPicPr>
        <p:blipFill>
          <a:blip r:embed="rId3"/>
          <a:stretch/>
        </p:blipFill>
        <p:spPr>
          <a:xfrm>
            <a:off x="5791320" y="304920"/>
            <a:ext cx="3124080" cy="2766960"/>
          </a:xfrm>
          <a:prstGeom prst="rect">
            <a:avLst/>
          </a:prstGeom>
          <a:ln w="0">
            <a:noFill/>
          </a:ln>
        </p:spPr>
      </p:pic>
      <p:sp>
        <p:nvSpPr>
          <p:cNvPr id="289" name="Line 19"/>
          <p:cNvSpPr/>
          <p:nvPr/>
        </p:nvSpPr>
        <p:spPr>
          <a:xfrm>
            <a:off x="8001000" y="4572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0" y="2895480"/>
            <a:ext cx="9144000" cy="366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99"/>
          <p:cNvPicPr/>
          <p:nvPr/>
        </p:nvPicPr>
        <p:blipFill>
          <a:blip r:embed="rId1"/>
          <a:stretch/>
        </p:blipFill>
        <p:spPr>
          <a:xfrm rot="20470200">
            <a:off x="6019560" y="3962520"/>
            <a:ext cx="923760" cy="1714320"/>
          </a:xfrm>
          <a:prstGeom prst="rect">
            <a:avLst/>
          </a:prstGeom>
          <a:ln w="0">
            <a:noFill/>
          </a:ln>
        </p:spPr>
      </p:pic>
      <p:sp>
        <p:nvSpPr>
          <p:cNvPr id="292" name="Line 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152280" y="472428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0"/>
          <p:cNvSpPr/>
          <p:nvPr/>
        </p:nvSpPr>
        <p:spPr>
          <a:xfrm>
            <a:off x="5867280" y="5029200"/>
            <a:ext cx="38124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1"/>
          <p:cNvSpPr/>
          <p:nvPr/>
        </p:nvSpPr>
        <p:spPr>
          <a:xfrm>
            <a:off x="6858000" y="4952880"/>
            <a:ext cx="53352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12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1" name="WordArt 13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grpSp>
        <p:nvGrpSpPr>
          <p:cNvPr id="302" name="Group 14"/>
          <p:cNvGrpSpPr/>
          <p:nvPr/>
        </p:nvGrpSpPr>
        <p:grpSpPr>
          <a:xfrm>
            <a:off x="6381720" y="1143000"/>
            <a:ext cx="2762280" cy="2338200"/>
            <a:chOff x="6381720" y="1143000"/>
            <a:chExt cx="2762280" cy="2338200"/>
          </a:xfrm>
        </p:grpSpPr>
        <p:pic>
          <p:nvPicPr>
            <p:cNvPr id="303" name="Picture 15" descr="77"/>
            <p:cNvPicPr/>
            <p:nvPr/>
          </p:nvPicPr>
          <p:blipFill>
            <a:blip r:embed="rId2"/>
            <a:stretch/>
          </p:blipFill>
          <p:spPr>
            <a:xfrm>
              <a:off x="6381720" y="1981080"/>
              <a:ext cx="276228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6" descr="44"/>
            <p:cNvPicPr/>
            <p:nvPr/>
          </p:nvPicPr>
          <p:blipFill>
            <a:blip r:embed="rId3"/>
            <a:stretch/>
          </p:blipFill>
          <p:spPr>
            <a:xfrm>
              <a:off x="7219800" y="1143000"/>
              <a:ext cx="8082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Line 17"/>
            <p:cNvSpPr/>
            <p:nvPr/>
          </p:nvSpPr>
          <p:spPr>
            <a:xfrm flipH="1">
              <a:off x="6609960" y="1828800"/>
              <a:ext cx="1523880" cy="1600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 rot="18808800">
              <a:off x="6543360" y="3020760"/>
              <a:ext cx="9144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19" descr="u=4054640601,1650306011&amp;fm=21&amp;gp=0"/>
          <p:cNvPicPr/>
          <p:nvPr/>
        </p:nvPicPr>
        <p:blipFill>
          <a:blip r:embed="rId4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5 4.44444E-006 E">
                                      <p:cBhvr>
                                        <p:cTn id="696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375 0.05301 C 0.08368 0.04722 0.0743 0.03982 0.06476 0.0338 C 0.06302 0.03287 0.06163 0.03264 0.05989 0.03195 C 0.05764 0.03079 0.05312 0.02824 0.05312 0.02847 C 0.04826 0.02986 0.04427 0.0338 0.03923 0.03565 C 0.02691 0.04028 0.01476 0.04607 0.00243 0.05093 C -0.00747 0.05023 -0.01754 0.0507 -0.02761 0.04908 C -0.03004 0.04861 -0.03177 0.03843 -0.03316 0.03565 C -0.03594 0.03125 -0.04254 0.02431 -0.04254 0.02454 C -0.05452 0.02546 -0.0625 0.02523 -0.07361 0.02824 C -0.07917 0.02963 -0.0842 0.03495 -0.08976 0.03565 C -0.10521 0.0375 -0.14288 0.03889 -0.15556 0.03958 C -0.15729 0.04005 -0.16354 0.0412 -0.16597 0.04329 C -0.16823 0.0456 -0.17031 0.04977 -0.17292 0.05093 C -0.17865 0.05347 -0.17604 0.05208 -0.18073 0.05486 C -0.2007 0.0537 -0.21823 0.05185 -0.23733 0.04908 C -0.24514 0.04653 -0.24983 0.0412 -0.25712 0.03773 C -0.25851 0.03704 -0.2599 0.03634 -0.26163 0.03565 C -0.26389 0.03449 -0.26858 0.03195 -0.26858 0.03218 C -0.2783 0.03264 -0.2875 0.03264 -0.29722 0.0338 C -0.30278 0.03449 -0.30799 0.04051 -0.31354 0.04144 C -0.32014 0.04259 -0.32726 0.04259 -0.3342 0.04329 C -0.34288 0.04306 -0.38229 0.0463 -0.39879 0.03773 C -0.40191 0.03195 -0.40452 0.02662 -0.40903 0.02431 C -0.41754 0.00208 -0.43785 0.01482 -0.45174 0.02245 C -0.45868 0.0331 -0.44774 0.01736 -0.45886 0.03009 C -0.46215 0.03426 -0.46528 0.03958 -0.4691 0.04329 C -0.47361 0.04815 -0.4809 0.0507 -0.48611 0.05301 C -0.5217 0.0507 -0.5092 0.05093 -0.53004 0.04537 C -0.53854 0.04005 -0.55104 0.03588 -0.56024 0.0338 C -0.56511 0.03449 -0.57014 0.03426 -0.575 0.03565 C -0.57882 0.03681 -0.58368 0.04167 -0.58768 0.04329 C -0.59132 0.04954 -0.60104 0.05394 -0.60608 0.05671 C -0.60851 0.05787 -0.61302 0.06042 -0.61302 0.06065 C -0.63785 0.05926 -0.65729 0.05764 -0.6809 0.05301 C -0.73264 0.02963 -0.80469 0.04537 -0.84896 0.04537 E">
                                      <p:cBhvr>
                                        <p:cTn id="700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54831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Arial"/>
                <a:ea typeface="隶书"/>
              </a:rPr>
              <a:t>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85800" y="914400"/>
          <a:ext cx="5410080" cy="4714920"/>
        </p:xfrm>
        <a:graphic>
          <a:graphicData uri="http://schemas.openxmlformats.org/drawingml/2006/table">
            <a:tbl>
              <a:tblPr/>
              <a:tblGrid>
                <a:gridCol w="1533600"/>
                <a:gridCol w="38764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理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寺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66"/>
                          </a:solidFill>
                          <a:latin typeface="Arial"/>
                          <a:ea typeface="楷体_GB2312"/>
                        </a:rPr>
                        <a:t>以为顺流下矣</a:t>
                      </a:r>
                      <a:r>
                        <a:rPr b="1" lang="zh-CN" sz="2400" spc="-1" strike="noStrike">
                          <a:solidFill>
                            <a:srgbClr val="ff9999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讲学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66"/>
                          </a:solidFill>
                          <a:latin typeface="Arial"/>
                          <a:ea typeface="楷体_GB2312"/>
                        </a:rPr>
                        <a:t>石性坚重，沙性松浮，湮于沙上，渐沉渐深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</a:tr>
              <a:tr h="26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老河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66"/>
                          </a:solidFill>
                          <a:latin typeface="Arial"/>
                          <a:ea typeface="楷体_GB2312"/>
                        </a:rPr>
                        <a:t>石性坚重，沙性松浮，水不能冲石，其反激之力，必于石下迎水处啮沙为坎穴。渐激渐深，至石之半，石必倒掷坎穴中。如是再啮，石又再转。转转不已，遂反溯流逆上矣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p_large_qCjV_4057000a812d2d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228600" y="1676520"/>
            <a:ext cx="31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981080" y="16765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没考虑流水、石兽、泥沙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28600" y="236232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僧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1905120" y="23623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考虑了流水，没考虑石兽、泥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380880" y="28954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228600" y="3429000"/>
            <a:ext cx="41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讲学家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2666880" y="32767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考虑了石兽和泥沙的关系，忽略了流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380880" y="449568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、老河兵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2819520" y="441972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既有理论又有实践，准确把握了三者的性质及相互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2" descr="1"/>
          <p:cNvPicPr/>
          <p:nvPr/>
        </p:nvPicPr>
        <p:blipFill>
          <a:blip r:embed="rId2"/>
          <a:stretch/>
        </p:blipFill>
        <p:spPr>
          <a:xfrm>
            <a:off x="7467480" y="4572000"/>
            <a:ext cx="1295640" cy="1150920"/>
          </a:xfrm>
          <a:prstGeom prst="rect">
            <a:avLst/>
          </a:prstGeom>
          <a:ln w="0">
            <a:noFill/>
          </a:ln>
        </p:spPr>
      </p:pic>
      <p:sp>
        <p:nvSpPr>
          <p:cNvPr id="322" name="矩形 12"/>
          <p:cNvSpPr/>
          <p:nvPr/>
        </p:nvSpPr>
        <p:spPr>
          <a:xfrm>
            <a:off x="304920" y="0"/>
            <a:ext cx="78483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讲学家与老河兵推理的前提都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性坚重，沙性松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为什么结论不一样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u=4054640601,1650306011&amp;fm=21&amp;gp=0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99"/>
          <p:cNvPicPr/>
          <p:nvPr/>
        </p:nvPicPr>
        <p:blipFill>
          <a:blip r:embed="rId2"/>
          <a:stretch/>
        </p:blipFill>
        <p:spPr>
          <a:xfrm rot="20418600">
            <a:off x="6019920" y="838080"/>
            <a:ext cx="923760" cy="1714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4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5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8"/>
          <p:cNvSpPr/>
          <p:nvPr/>
        </p:nvSpPr>
        <p:spPr>
          <a:xfrm>
            <a:off x="6858000" y="4952880"/>
            <a:ext cx="53352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9"/>
          <p:cNvSpPr/>
          <p:nvPr/>
        </p:nvSpPr>
        <p:spPr>
          <a:xfrm>
            <a:off x="5867280" y="5029200"/>
            <a:ext cx="38124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WordArt 10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2" name="WordArt 11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33" name="Picture 12" descr="u=1981761599,2222145136&amp;fm=21&amp;gp=0"/>
          <p:cNvPicPr/>
          <p:nvPr/>
        </p:nvPicPr>
        <p:blipFill>
          <a:blip r:embed="rId3"/>
          <a:stretch/>
        </p:blipFill>
        <p:spPr>
          <a:xfrm>
            <a:off x="5715000" y="53352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u=4054640601,1650306011&amp;fm=21&amp;gp=0"/>
          <p:cNvPicPr/>
          <p:nvPr/>
        </p:nvPicPr>
        <p:blipFill>
          <a:blip r:embed="rId4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  <p:sp>
        <p:nvSpPr>
          <p:cNvPr id="335" name="矩形 13"/>
          <p:cNvSpPr/>
          <p:nvPr/>
        </p:nvSpPr>
        <p:spPr>
          <a:xfrm>
            <a:off x="1447920" y="228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什么前三种方法是错的，只有老河兵的方法是对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8611 L -0.00052 0.41945 E">
                                      <p:cBhvr>
                                        <p:cTn id="732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99"/>
          <p:cNvPicPr/>
          <p:nvPr/>
        </p:nvPicPr>
        <p:blipFill>
          <a:blip r:embed="rId1"/>
          <a:stretch/>
        </p:blipFill>
        <p:spPr>
          <a:xfrm rot="20470200">
            <a:off x="5866920" y="3886200"/>
            <a:ext cx="924120" cy="1714680"/>
          </a:xfrm>
          <a:prstGeom prst="rect">
            <a:avLst/>
          </a:prstGeom>
          <a:ln w="0">
            <a:noFill/>
          </a:ln>
        </p:spPr>
      </p:pic>
      <p:sp>
        <p:nvSpPr>
          <p:cNvPr id="338" name="Line 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152280" y="472428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7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0"/>
          <p:cNvSpPr/>
          <p:nvPr/>
        </p:nvSpPr>
        <p:spPr>
          <a:xfrm>
            <a:off x="5867280" y="5029200"/>
            <a:ext cx="38124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1"/>
          <p:cNvSpPr/>
          <p:nvPr/>
        </p:nvSpPr>
        <p:spPr>
          <a:xfrm>
            <a:off x="6858000" y="4952880"/>
            <a:ext cx="53352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WordArt 12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7" name="WordArt 13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48" name="Picture 14" descr="u=4054640601,1650306011&amp;fm=21&amp;gp=0"/>
          <p:cNvPicPr/>
          <p:nvPr/>
        </p:nvPicPr>
        <p:blipFill>
          <a:blip r:embed="rId2"/>
          <a:stretch/>
        </p:blipFill>
        <p:spPr>
          <a:xfrm>
            <a:off x="152280" y="0"/>
            <a:ext cx="1524240" cy="1619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5" descr="u=1981761599,2222145136&amp;fm=21&amp;gp=0"/>
          <p:cNvPicPr/>
          <p:nvPr/>
        </p:nvPicPr>
        <p:blipFill>
          <a:blip r:embed="rId3"/>
          <a:stretch/>
        </p:blipFill>
        <p:spPr>
          <a:xfrm>
            <a:off x="5562720" y="83808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6" descr="u=4054640601,1650306011&amp;fm=21&amp;gp=0"/>
          <p:cNvPicPr/>
          <p:nvPr/>
        </p:nvPicPr>
        <p:blipFill>
          <a:blip r:embed="rId4"/>
          <a:stretch/>
        </p:blipFill>
        <p:spPr>
          <a:xfrm>
            <a:off x="7848720" y="0"/>
            <a:ext cx="1523880" cy="16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99"/>
          <p:cNvPicPr/>
          <p:nvPr/>
        </p:nvPicPr>
        <p:blipFill>
          <a:blip r:embed="rId1"/>
          <a:stretch/>
        </p:blipFill>
        <p:spPr>
          <a:xfrm rot="20502000">
            <a:off x="6019560" y="3885840"/>
            <a:ext cx="923760" cy="1714680"/>
          </a:xfrm>
          <a:prstGeom prst="rect">
            <a:avLst/>
          </a:prstGeom>
          <a:ln w="0">
            <a:noFill/>
          </a:ln>
        </p:spPr>
      </p:pic>
      <p:sp>
        <p:nvSpPr>
          <p:cNvPr id="353" name="Line 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6"/>
          <p:cNvSpPr/>
          <p:nvPr/>
        </p:nvSpPr>
        <p:spPr>
          <a:xfrm>
            <a:off x="152280" y="472428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7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4267080" y="4876920"/>
            <a:ext cx="19051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1"/>
          <p:cNvSpPr/>
          <p:nvPr/>
        </p:nvSpPr>
        <p:spPr>
          <a:xfrm>
            <a:off x="7010280" y="4800600"/>
            <a:ext cx="121932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12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62" name="WordArt 13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63" name="Picture 14" descr="u=1981761599,2222145136&amp;fm=21&amp;gp=0"/>
          <p:cNvPicPr/>
          <p:nvPr/>
        </p:nvPicPr>
        <p:blipFill>
          <a:blip r:embed="rId2"/>
          <a:stretch/>
        </p:blipFill>
        <p:spPr>
          <a:xfrm>
            <a:off x="6019920" y="38088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5" descr="u=4054640601,1650306011&amp;fm=21&amp;gp=0"/>
          <p:cNvPicPr/>
          <p:nvPr/>
        </p:nvPicPr>
        <p:blipFill>
          <a:blip r:embed="rId3"/>
          <a:stretch/>
        </p:blipFill>
        <p:spPr>
          <a:xfrm>
            <a:off x="487692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6" descr="u=4054640601,1650306011&amp;fm=21&amp;gp=0"/>
          <p:cNvPicPr/>
          <p:nvPr/>
        </p:nvPicPr>
        <p:blipFill>
          <a:blip r:embed="rId4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  <p:sp>
        <p:nvSpPr>
          <p:cNvPr id="366" name="Line 17"/>
          <p:cNvSpPr/>
          <p:nvPr/>
        </p:nvSpPr>
        <p:spPr>
          <a:xfrm flipH="1">
            <a:off x="5562720" y="46483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8"/>
          <p:cNvSpPr/>
          <p:nvPr/>
        </p:nvSpPr>
        <p:spPr>
          <a:xfrm flipH="1">
            <a:off x="5486400" y="42670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5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8"/>
          <p:cNvSpPr/>
          <p:nvPr/>
        </p:nvSpPr>
        <p:spPr>
          <a:xfrm>
            <a:off x="4267080" y="4952880"/>
            <a:ext cx="19051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9" descr="99"/>
          <p:cNvPicPr/>
          <p:nvPr/>
        </p:nvPicPr>
        <p:blipFill>
          <a:blip r:embed="rId1"/>
          <a:stretch/>
        </p:blipFill>
        <p:spPr>
          <a:xfrm>
            <a:off x="4343400" y="4572000"/>
            <a:ext cx="1714680" cy="923760"/>
          </a:xfrm>
          <a:prstGeom prst="rect">
            <a:avLst/>
          </a:prstGeom>
          <a:ln w="0">
            <a:noFill/>
          </a:ln>
        </p:spPr>
      </p:pic>
      <p:sp>
        <p:nvSpPr>
          <p:cNvPr id="376" name="Line 10"/>
          <p:cNvSpPr/>
          <p:nvPr/>
        </p:nvSpPr>
        <p:spPr>
          <a:xfrm>
            <a:off x="-1219320" y="480060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1"/>
          <p:cNvSpPr/>
          <p:nvPr/>
        </p:nvSpPr>
        <p:spPr>
          <a:xfrm rot="21073800">
            <a:off x="6095880" y="4800240"/>
            <a:ext cx="121932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2"/>
          <p:cNvSpPr/>
          <p:nvPr/>
        </p:nvSpPr>
        <p:spPr>
          <a:xfrm rot="21073800">
            <a:off x="3873600" y="5257800"/>
            <a:ext cx="1218960" cy="5335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3"/>
          <p:cNvSpPr/>
          <p:nvPr/>
        </p:nvSpPr>
        <p:spPr>
          <a:xfrm rot="1768800">
            <a:off x="6019920" y="4876560"/>
            <a:ext cx="121896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WordArt 14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1" name="WordArt 15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82" name="Picture 16" descr="u=1981761599,2222145136&amp;fm=21&amp;gp=0"/>
          <p:cNvPicPr/>
          <p:nvPr/>
        </p:nvPicPr>
        <p:blipFill>
          <a:blip r:embed="rId2"/>
          <a:stretch/>
        </p:blipFill>
        <p:spPr>
          <a:xfrm>
            <a:off x="6019920" y="22860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7" descr="u=4054640601,1650306011&amp;fm=21&amp;gp=0"/>
          <p:cNvPicPr/>
          <p:nvPr/>
        </p:nvPicPr>
        <p:blipFill>
          <a:blip r:embed="rId3"/>
          <a:stretch/>
        </p:blipFill>
        <p:spPr>
          <a:xfrm>
            <a:off x="4952880" y="0"/>
            <a:ext cx="1524240" cy="16192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8" descr="u=4054640601,1650306011&amp;fm=21&amp;gp=0"/>
          <p:cNvPicPr/>
          <p:nvPr/>
        </p:nvPicPr>
        <p:blipFill>
          <a:blip r:embed="rId4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  <a:ea typeface="华文彩云"/>
              </a:rPr>
              <a:t>二、作者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5"/>
          <p:cNvSpPr/>
          <p:nvPr/>
        </p:nvSpPr>
        <p:spPr>
          <a:xfrm>
            <a:off x="500040" y="1357200"/>
            <a:ext cx="542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纪昀（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724-1805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，清代学者、文学家。清代有名的才子，学识渊博，自幼聪慧过人，再加之后来对人情事故之通达，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便中进士，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成为翰林院大学士。他为人为官刚直不阿，机智善辩，其渊博学识和管理才能深受乾隆帝赏识，成为卷帙浩繁的四库全书的总纂官，其作品涉猎文学、历史、哲学、政治、经济、地理等各个领域。撰有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阅微草堂笔记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6" descr="30091297443031705.jpg"/>
          <p:cNvPicPr/>
          <p:nvPr/>
        </p:nvPicPr>
        <p:blipFill>
          <a:blip r:embed="rId1"/>
          <a:stretch/>
        </p:blipFill>
        <p:spPr>
          <a:xfrm>
            <a:off x="6215040" y="1071720"/>
            <a:ext cx="2571840" cy="53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4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5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8"/>
          <p:cNvSpPr/>
          <p:nvPr/>
        </p:nvSpPr>
        <p:spPr>
          <a:xfrm>
            <a:off x="4267080" y="4952880"/>
            <a:ext cx="19051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99"/>
          <p:cNvPicPr/>
          <p:nvPr/>
        </p:nvPicPr>
        <p:blipFill>
          <a:blip r:embed="rId1"/>
          <a:stretch/>
        </p:blipFill>
        <p:spPr>
          <a:xfrm>
            <a:off x="4343400" y="4572000"/>
            <a:ext cx="1714680" cy="923760"/>
          </a:xfrm>
          <a:prstGeom prst="rect">
            <a:avLst/>
          </a:prstGeom>
          <a:ln w="0">
            <a:noFill/>
          </a:ln>
        </p:spPr>
      </p:pic>
      <p:sp>
        <p:nvSpPr>
          <p:cNvPr id="393" name="Oval 10"/>
          <p:cNvSpPr/>
          <p:nvPr/>
        </p:nvSpPr>
        <p:spPr>
          <a:xfrm>
            <a:off x="2971800" y="4495680"/>
            <a:ext cx="13716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 rot="20733000">
            <a:off x="5714640" y="4648320"/>
            <a:ext cx="1752480" cy="10317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2"/>
          <p:cNvSpPr/>
          <p:nvPr/>
        </p:nvSpPr>
        <p:spPr>
          <a:xfrm>
            <a:off x="-1066680" y="4724280"/>
            <a:ext cx="51051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3"/>
          <p:cNvSpPr/>
          <p:nvPr/>
        </p:nvSpPr>
        <p:spPr>
          <a:xfrm>
            <a:off x="3809880" y="5334120"/>
            <a:ext cx="147816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WordArt 14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98" name="WordArt 15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99" name="Picture 16" descr="u=1981761599,2222145136&amp;fm=21&amp;gp=0"/>
          <p:cNvPicPr/>
          <p:nvPr/>
        </p:nvPicPr>
        <p:blipFill>
          <a:blip r:embed="rId2"/>
          <a:stretch/>
        </p:blipFill>
        <p:spPr>
          <a:xfrm>
            <a:off x="6019920" y="22860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u=4054640601,1650306011&amp;fm=21&amp;gp=0"/>
          <p:cNvPicPr/>
          <p:nvPr/>
        </p:nvPicPr>
        <p:blipFill>
          <a:blip r:embed="rId3"/>
          <a:stretch/>
        </p:blipFill>
        <p:spPr>
          <a:xfrm>
            <a:off x="510552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u=4054640601,1650306011&amp;fm=21&amp;gp=0"/>
          <p:cNvPicPr/>
          <p:nvPr/>
        </p:nvPicPr>
        <p:blipFill>
          <a:blip r:embed="rId4"/>
          <a:stretch/>
        </p:blipFill>
        <p:spPr>
          <a:xfrm>
            <a:off x="228600" y="0"/>
            <a:ext cx="1523880" cy="1619280"/>
          </a:xfrm>
          <a:prstGeom prst="rect">
            <a:avLst/>
          </a:prstGeom>
          <a:ln w="0">
            <a:noFill/>
          </a:ln>
        </p:spPr>
      </p:pic>
      <p:sp>
        <p:nvSpPr>
          <p:cNvPr id="402" name="Line 19"/>
          <p:cNvSpPr/>
          <p:nvPr/>
        </p:nvSpPr>
        <p:spPr>
          <a:xfrm flipH="1">
            <a:off x="3962160" y="51055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0"/>
          <p:cNvSpPr/>
          <p:nvPr/>
        </p:nvSpPr>
        <p:spPr>
          <a:xfrm flipH="1">
            <a:off x="3581280" y="48006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4"/>
          <p:cNvSpPr/>
          <p:nvPr/>
        </p:nvSpPr>
        <p:spPr>
          <a:xfrm>
            <a:off x="-609480" y="4267080"/>
            <a:ext cx="37335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5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8"/>
          <p:cNvSpPr/>
          <p:nvPr/>
        </p:nvSpPr>
        <p:spPr>
          <a:xfrm>
            <a:off x="3048120" y="4572000"/>
            <a:ext cx="10666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9"/>
          <p:cNvSpPr/>
          <p:nvPr/>
        </p:nvSpPr>
        <p:spPr>
          <a:xfrm>
            <a:off x="-2552760" y="487692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0" descr="99"/>
          <p:cNvPicPr/>
          <p:nvPr/>
        </p:nvPicPr>
        <p:blipFill>
          <a:blip r:embed="rId1"/>
          <a:stretch/>
        </p:blipFill>
        <p:spPr>
          <a:xfrm rot="17391600">
            <a:off x="2881080" y="4433760"/>
            <a:ext cx="1714680" cy="923760"/>
          </a:xfrm>
          <a:prstGeom prst="rect">
            <a:avLst/>
          </a:prstGeom>
          <a:ln w="0">
            <a:noFill/>
          </a:ln>
        </p:spPr>
      </p:pic>
      <p:sp>
        <p:nvSpPr>
          <p:cNvPr id="413" name="Oval 11"/>
          <p:cNvSpPr/>
          <p:nvPr/>
        </p:nvSpPr>
        <p:spPr>
          <a:xfrm rot="8533200">
            <a:off x="3580920" y="5028480"/>
            <a:ext cx="137160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2"/>
          <p:cNvSpPr/>
          <p:nvPr/>
        </p:nvSpPr>
        <p:spPr>
          <a:xfrm rot="2296800">
            <a:off x="4572000" y="5181480"/>
            <a:ext cx="76212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3"/>
          <p:cNvSpPr/>
          <p:nvPr/>
        </p:nvSpPr>
        <p:spPr>
          <a:xfrm rot="7696800">
            <a:off x="2438280" y="5181480"/>
            <a:ext cx="76212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4800600" y="4343400"/>
            <a:ext cx="3809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WordArt 15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18" name="WordArt 16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419" name="Picture 17" descr="u=1981761599,2222145136&amp;fm=21&amp;gp=0"/>
          <p:cNvPicPr/>
          <p:nvPr/>
        </p:nvPicPr>
        <p:blipFill>
          <a:blip r:embed="rId2"/>
          <a:stretch/>
        </p:blipFill>
        <p:spPr>
          <a:xfrm>
            <a:off x="6019920" y="22860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8" descr="u=4054640601,1650306011&amp;fm=21&amp;gp=0"/>
          <p:cNvPicPr/>
          <p:nvPr/>
        </p:nvPicPr>
        <p:blipFill>
          <a:blip r:embed="rId3"/>
          <a:stretch/>
        </p:blipFill>
        <p:spPr>
          <a:xfrm>
            <a:off x="510552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9" descr="u=4054640601,1650306011&amp;fm=21&amp;gp=0"/>
          <p:cNvPicPr/>
          <p:nvPr/>
        </p:nvPicPr>
        <p:blipFill>
          <a:blip r:embed="rId4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"/>
          <p:cNvSpPr/>
          <p:nvPr/>
        </p:nvSpPr>
        <p:spPr>
          <a:xfrm>
            <a:off x="-1866960" y="441972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5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8"/>
          <p:cNvSpPr/>
          <p:nvPr/>
        </p:nvSpPr>
        <p:spPr>
          <a:xfrm>
            <a:off x="3048120" y="4572000"/>
            <a:ext cx="10666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99"/>
          <p:cNvPicPr/>
          <p:nvPr/>
        </p:nvPicPr>
        <p:blipFill>
          <a:blip r:embed="rId1"/>
          <a:stretch/>
        </p:blipFill>
        <p:spPr>
          <a:xfrm rot="14756400">
            <a:off x="2500200" y="4357440"/>
            <a:ext cx="1714320" cy="924120"/>
          </a:xfrm>
          <a:prstGeom prst="rect">
            <a:avLst/>
          </a:prstGeom>
          <a:ln w="0">
            <a:noFill/>
          </a:ln>
        </p:spPr>
      </p:pic>
      <p:sp>
        <p:nvSpPr>
          <p:cNvPr id="430" name="Oval 10"/>
          <p:cNvSpPr/>
          <p:nvPr/>
        </p:nvSpPr>
        <p:spPr>
          <a:xfrm rot="9360600">
            <a:off x="3701160" y="4882320"/>
            <a:ext cx="160020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1"/>
          <p:cNvSpPr/>
          <p:nvPr/>
        </p:nvSpPr>
        <p:spPr>
          <a:xfrm rot="2296800">
            <a:off x="4572000" y="5181480"/>
            <a:ext cx="76212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2"/>
          <p:cNvSpPr/>
          <p:nvPr/>
        </p:nvSpPr>
        <p:spPr>
          <a:xfrm rot="11535000">
            <a:off x="1515600" y="4866840"/>
            <a:ext cx="16765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3"/>
          <p:cNvSpPr/>
          <p:nvPr/>
        </p:nvSpPr>
        <p:spPr>
          <a:xfrm rot="2296800">
            <a:off x="3657240" y="4952880"/>
            <a:ext cx="1143000" cy="6098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4"/>
          <p:cNvSpPr/>
          <p:nvPr/>
        </p:nvSpPr>
        <p:spPr>
          <a:xfrm>
            <a:off x="-2971800" y="487692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WordArt 15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6" name="WordArt 16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437" name="Picture 17" descr="u=1981761599,2222145136&amp;fm=21&amp;gp=0"/>
          <p:cNvPicPr/>
          <p:nvPr/>
        </p:nvPicPr>
        <p:blipFill>
          <a:blip r:embed="rId2"/>
          <a:stretch/>
        </p:blipFill>
        <p:spPr>
          <a:xfrm>
            <a:off x="6019920" y="30492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8" descr="u=4054640601,1650306011&amp;fm=21&amp;gp=0"/>
          <p:cNvPicPr/>
          <p:nvPr/>
        </p:nvPicPr>
        <p:blipFill>
          <a:blip r:embed="rId3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9" descr="u=4054640601,1650306011&amp;fm=21&amp;gp=0"/>
          <p:cNvPicPr/>
          <p:nvPr/>
        </p:nvPicPr>
        <p:blipFill>
          <a:blip r:embed="rId4"/>
          <a:stretch/>
        </p:blipFill>
        <p:spPr>
          <a:xfrm>
            <a:off x="5562720" y="0"/>
            <a:ext cx="1523880" cy="1619280"/>
          </a:xfrm>
          <a:prstGeom prst="rect">
            <a:avLst/>
          </a:prstGeom>
          <a:ln w="0">
            <a:noFill/>
          </a:ln>
        </p:spPr>
      </p:pic>
      <p:sp>
        <p:nvSpPr>
          <p:cNvPr id="440" name="Line 20"/>
          <p:cNvSpPr/>
          <p:nvPr/>
        </p:nvSpPr>
        <p:spPr>
          <a:xfrm flipH="1">
            <a:off x="2209680" y="5029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1"/>
          <p:cNvSpPr/>
          <p:nvPr/>
        </p:nvSpPr>
        <p:spPr>
          <a:xfrm flipH="1">
            <a:off x="2286000" y="47242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8"/>
          <p:cNvSpPr/>
          <p:nvPr/>
        </p:nvSpPr>
        <p:spPr>
          <a:xfrm>
            <a:off x="3048120" y="4572000"/>
            <a:ext cx="10666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-228600" y="4800600"/>
            <a:ext cx="19810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10"/>
          <p:cNvSpPr/>
          <p:nvPr/>
        </p:nvSpPr>
        <p:spPr>
          <a:xfrm rot="7696800">
            <a:off x="2362320" y="5029200"/>
            <a:ext cx="7617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"/>
          <p:cNvSpPr/>
          <p:nvPr/>
        </p:nvSpPr>
        <p:spPr>
          <a:xfrm rot="11535000">
            <a:off x="1599840" y="4842000"/>
            <a:ext cx="103500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12" descr="99"/>
          <p:cNvPicPr/>
          <p:nvPr/>
        </p:nvPicPr>
        <p:blipFill>
          <a:blip r:embed="rId1"/>
          <a:stretch/>
        </p:blipFill>
        <p:spPr>
          <a:xfrm rot="11653800">
            <a:off x="1828440" y="4723560"/>
            <a:ext cx="1714680" cy="924120"/>
          </a:xfrm>
          <a:prstGeom prst="rect">
            <a:avLst/>
          </a:prstGeom>
          <a:ln w="0">
            <a:noFill/>
          </a:ln>
        </p:spPr>
      </p:pic>
      <p:sp>
        <p:nvSpPr>
          <p:cNvPr id="453" name="Oval 13"/>
          <p:cNvSpPr/>
          <p:nvPr/>
        </p:nvSpPr>
        <p:spPr>
          <a:xfrm rot="2296800">
            <a:off x="1447560" y="5105160"/>
            <a:ext cx="303120" cy="322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4"/>
          <p:cNvSpPr/>
          <p:nvPr/>
        </p:nvSpPr>
        <p:spPr>
          <a:xfrm flipH="1">
            <a:off x="1447920" y="4724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"/>
          <p:cNvSpPr/>
          <p:nvPr/>
        </p:nvSpPr>
        <p:spPr>
          <a:xfrm flipH="1">
            <a:off x="1066680" y="457200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WordArt 16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57" name="WordArt 17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458" name="Picture 18" descr="u=1981761599,2222145136&amp;fm=21&amp;gp=0"/>
          <p:cNvPicPr/>
          <p:nvPr/>
        </p:nvPicPr>
        <p:blipFill>
          <a:blip r:embed="rId2"/>
          <a:stretch/>
        </p:blipFill>
        <p:spPr>
          <a:xfrm>
            <a:off x="6019920" y="22860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9" descr="u=4054640601,1650306011&amp;fm=21&amp;gp=0"/>
          <p:cNvPicPr/>
          <p:nvPr/>
        </p:nvPicPr>
        <p:blipFill>
          <a:blip r:embed="rId3"/>
          <a:stretch/>
        </p:blipFill>
        <p:spPr>
          <a:xfrm>
            <a:off x="5410080" y="0"/>
            <a:ext cx="1524240" cy="16192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0" descr="u=4054640601,1650306011&amp;fm=21&amp;gp=0"/>
          <p:cNvPicPr/>
          <p:nvPr/>
        </p:nvPicPr>
        <p:blipFill>
          <a:blip r:embed="rId4"/>
          <a:stretch/>
        </p:blipFill>
        <p:spPr>
          <a:xfrm>
            <a:off x="228600" y="0"/>
            <a:ext cx="1523880" cy="16192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21"/>
          <p:cNvSpPr/>
          <p:nvPr/>
        </p:nvSpPr>
        <p:spPr>
          <a:xfrm>
            <a:off x="3505320" y="5105520"/>
            <a:ext cx="761760" cy="60948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22"/>
          <p:cNvSpPr/>
          <p:nvPr/>
        </p:nvSpPr>
        <p:spPr>
          <a:xfrm>
            <a:off x="3505320" y="4800600"/>
            <a:ext cx="961920" cy="914400"/>
          </a:xfrm>
          <a:prstGeom prst="pentagon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3"/>
          <p:cNvSpPr/>
          <p:nvPr/>
        </p:nvSpPr>
        <p:spPr>
          <a:xfrm>
            <a:off x="3657600" y="4724280"/>
            <a:ext cx="1295280" cy="10670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4"/>
          <p:cNvSpPr/>
          <p:nvPr/>
        </p:nvSpPr>
        <p:spPr>
          <a:xfrm>
            <a:off x="380988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5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8"/>
          <p:cNvSpPr/>
          <p:nvPr/>
        </p:nvSpPr>
        <p:spPr>
          <a:xfrm>
            <a:off x="3657600" y="464832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9"/>
          <p:cNvSpPr/>
          <p:nvPr/>
        </p:nvSpPr>
        <p:spPr>
          <a:xfrm rot="7696800">
            <a:off x="2362320" y="5029200"/>
            <a:ext cx="7617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0"/>
          <p:cNvSpPr/>
          <p:nvPr/>
        </p:nvSpPr>
        <p:spPr>
          <a:xfrm rot="11535000">
            <a:off x="1599840" y="4842000"/>
            <a:ext cx="103500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1"/>
          <p:cNvSpPr/>
          <p:nvPr/>
        </p:nvSpPr>
        <p:spPr>
          <a:xfrm rot="2296800">
            <a:off x="2477880" y="4635000"/>
            <a:ext cx="968400" cy="10670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2" descr="99"/>
          <p:cNvPicPr/>
          <p:nvPr/>
        </p:nvPicPr>
        <p:blipFill>
          <a:blip r:embed="rId1"/>
          <a:stretch/>
        </p:blipFill>
        <p:spPr>
          <a:xfrm rot="7502400">
            <a:off x="1281240" y="4357440"/>
            <a:ext cx="1714320" cy="923760"/>
          </a:xfrm>
          <a:prstGeom prst="rect">
            <a:avLst/>
          </a:prstGeom>
          <a:ln w="0">
            <a:noFill/>
          </a:ln>
        </p:spPr>
      </p:pic>
      <p:sp>
        <p:nvSpPr>
          <p:cNvPr id="475" name="Oval 13"/>
          <p:cNvSpPr/>
          <p:nvPr/>
        </p:nvSpPr>
        <p:spPr>
          <a:xfrm rot="2296800">
            <a:off x="2307960" y="4844880"/>
            <a:ext cx="414360" cy="10494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4"/>
          <p:cNvSpPr/>
          <p:nvPr/>
        </p:nvSpPr>
        <p:spPr>
          <a:xfrm>
            <a:off x="0" y="4419720"/>
            <a:ext cx="160020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5"/>
          <p:cNvSpPr/>
          <p:nvPr/>
        </p:nvSpPr>
        <p:spPr>
          <a:xfrm>
            <a:off x="-304920" y="4876920"/>
            <a:ext cx="160020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6"/>
          <p:cNvSpPr/>
          <p:nvPr/>
        </p:nvSpPr>
        <p:spPr>
          <a:xfrm flipH="1">
            <a:off x="837720" y="45720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7"/>
          <p:cNvSpPr/>
          <p:nvPr/>
        </p:nvSpPr>
        <p:spPr>
          <a:xfrm flipH="1">
            <a:off x="838080" y="48006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WordArt 18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81" name="WordArt 19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482" name="Picture 20" descr="u=1981761599,2222145136&amp;fm=21&amp;gp=0"/>
          <p:cNvPicPr/>
          <p:nvPr/>
        </p:nvPicPr>
        <p:blipFill>
          <a:blip r:embed="rId2"/>
          <a:stretch/>
        </p:blipFill>
        <p:spPr>
          <a:xfrm>
            <a:off x="6019920" y="15228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1" descr="u=4054640601,1650306011&amp;fm=21&amp;gp=0"/>
          <p:cNvPicPr/>
          <p:nvPr/>
        </p:nvPicPr>
        <p:blipFill>
          <a:blip r:embed="rId3"/>
          <a:stretch/>
        </p:blipFill>
        <p:spPr>
          <a:xfrm>
            <a:off x="5410080" y="0"/>
            <a:ext cx="1524240" cy="1619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2" descr="u=4054640601,1650306011&amp;fm=21&amp;gp=0"/>
          <p:cNvPicPr/>
          <p:nvPr/>
        </p:nvPicPr>
        <p:blipFill>
          <a:blip r:embed="rId4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4"/>
          <p:cNvSpPr/>
          <p:nvPr/>
        </p:nvSpPr>
        <p:spPr>
          <a:xfrm>
            <a:off x="3809880" y="419112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5"/>
          <p:cNvSpPr/>
          <p:nvPr/>
        </p:nvSpPr>
        <p:spPr>
          <a:xfrm>
            <a:off x="36576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8"/>
          <p:cNvSpPr/>
          <p:nvPr/>
        </p:nvSpPr>
        <p:spPr>
          <a:xfrm>
            <a:off x="1523880" y="4419720"/>
            <a:ext cx="1067040" cy="14475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9"/>
          <p:cNvSpPr/>
          <p:nvPr/>
        </p:nvSpPr>
        <p:spPr>
          <a:xfrm>
            <a:off x="2133720" y="4572000"/>
            <a:ext cx="51051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0"/>
          <p:cNvSpPr/>
          <p:nvPr/>
        </p:nvSpPr>
        <p:spPr>
          <a:xfrm rot="7696800">
            <a:off x="2133720" y="5029200"/>
            <a:ext cx="76176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11"/>
          <p:cNvSpPr/>
          <p:nvPr/>
        </p:nvSpPr>
        <p:spPr>
          <a:xfrm rot="11535000">
            <a:off x="1599840" y="4842000"/>
            <a:ext cx="1035000" cy="7617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2"/>
          <p:cNvSpPr/>
          <p:nvPr/>
        </p:nvSpPr>
        <p:spPr>
          <a:xfrm rot="2296800">
            <a:off x="1371600" y="4952880"/>
            <a:ext cx="1219320" cy="6098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3" descr="99"/>
          <p:cNvPicPr/>
          <p:nvPr/>
        </p:nvPicPr>
        <p:blipFill>
          <a:blip r:embed="rId1"/>
          <a:stretch/>
        </p:blipFill>
        <p:spPr>
          <a:xfrm rot="5203800">
            <a:off x="137880" y="4205160"/>
            <a:ext cx="1714680" cy="923760"/>
          </a:xfrm>
          <a:prstGeom prst="rect">
            <a:avLst/>
          </a:prstGeom>
          <a:ln w="0">
            <a:noFill/>
          </a:ln>
        </p:spPr>
      </p:pic>
      <p:sp>
        <p:nvSpPr>
          <p:cNvPr id="497" name="Line 14"/>
          <p:cNvSpPr/>
          <p:nvPr/>
        </p:nvSpPr>
        <p:spPr>
          <a:xfrm>
            <a:off x="-914400" y="4343400"/>
            <a:ext cx="1447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>
            <a:off x="-1066680" y="4724280"/>
            <a:ext cx="14475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6"/>
          <p:cNvSpPr/>
          <p:nvPr/>
        </p:nvSpPr>
        <p:spPr>
          <a:xfrm flipH="1">
            <a:off x="0" y="4419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7"/>
          <p:cNvSpPr/>
          <p:nvPr/>
        </p:nvSpPr>
        <p:spPr>
          <a:xfrm flipH="1">
            <a:off x="151920" y="4724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18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02" name="WordArt 19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503" name="Picture 20" descr="u=1981761599,2222145136&amp;fm=21&amp;gp=0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1" descr="u=4054640601,1650306011&amp;fm=21&amp;gp=0"/>
          <p:cNvPicPr/>
          <p:nvPr/>
        </p:nvPicPr>
        <p:blipFill>
          <a:blip r:embed="rId3"/>
          <a:stretch/>
        </p:blipFill>
        <p:spPr>
          <a:xfrm>
            <a:off x="533412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2" descr="u=4054640601,1650306011&amp;fm=21&amp;gp=0"/>
          <p:cNvPicPr/>
          <p:nvPr/>
        </p:nvPicPr>
        <p:blipFill>
          <a:blip r:embed="rId4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"/>
          <p:cNvSpPr/>
          <p:nvPr/>
        </p:nvSpPr>
        <p:spPr>
          <a:xfrm>
            <a:off x="3809880" y="419112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5"/>
          <p:cNvSpPr/>
          <p:nvPr/>
        </p:nvSpPr>
        <p:spPr>
          <a:xfrm>
            <a:off x="36576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133720" y="4572000"/>
            <a:ext cx="51051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9"/>
          <p:cNvSpPr/>
          <p:nvPr/>
        </p:nvSpPr>
        <p:spPr>
          <a:xfrm rot="7696800">
            <a:off x="2209680" y="4876560"/>
            <a:ext cx="76212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0"/>
          <p:cNvSpPr/>
          <p:nvPr/>
        </p:nvSpPr>
        <p:spPr>
          <a:xfrm rot="11535000">
            <a:off x="1371240" y="4571640"/>
            <a:ext cx="1035000" cy="762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11"/>
          <p:cNvSpPr/>
          <p:nvPr/>
        </p:nvSpPr>
        <p:spPr>
          <a:xfrm rot="2296800">
            <a:off x="1066320" y="4876920"/>
            <a:ext cx="1219320" cy="6094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2"/>
          <p:cNvSpPr/>
          <p:nvPr/>
        </p:nvSpPr>
        <p:spPr>
          <a:xfrm>
            <a:off x="-914400" y="4343400"/>
            <a:ext cx="1447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3"/>
          <p:cNvSpPr/>
          <p:nvPr/>
        </p:nvSpPr>
        <p:spPr>
          <a:xfrm>
            <a:off x="-1066680" y="4724280"/>
            <a:ext cx="14475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4"/>
          <p:cNvSpPr/>
          <p:nvPr/>
        </p:nvSpPr>
        <p:spPr>
          <a:xfrm flipH="1">
            <a:off x="0" y="4419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5"/>
          <p:cNvSpPr/>
          <p:nvPr/>
        </p:nvSpPr>
        <p:spPr>
          <a:xfrm flipH="1">
            <a:off x="151920" y="4724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6"/>
          <p:cNvSpPr/>
          <p:nvPr/>
        </p:nvSpPr>
        <p:spPr>
          <a:xfrm rot="2296800">
            <a:off x="1294920" y="5257800"/>
            <a:ext cx="609840" cy="5335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7"/>
          <p:cNvSpPr/>
          <p:nvPr/>
        </p:nvSpPr>
        <p:spPr>
          <a:xfrm rot="2296800">
            <a:off x="380880" y="5410080"/>
            <a:ext cx="457200" cy="304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8" descr="99"/>
          <p:cNvPicPr/>
          <p:nvPr/>
        </p:nvPicPr>
        <p:blipFill>
          <a:blip r:embed="rId1"/>
          <a:stretch/>
        </p:blipFill>
        <p:spPr>
          <a:xfrm rot="3631800">
            <a:off x="-394920" y="4205160"/>
            <a:ext cx="1714680" cy="923760"/>
          </a:xfrm>
          <a:prstGeom prst="rect">
            <a:avLst/>
          </a:prstGeom>
          <a:ln w="0">
            <a:noFill/>
          </a:ln>
        </p:spPr>
      </p:pic>
      <p:sp>
        <p:nvSpPr>
          <p:cNvPr id="523" name="Oval 19"/>
          <p:cNvSpPr/>
          <p:nvPr/>
        </p:nvSpPr>
        <p:spPr>
          <a:xfrm rot="2296800">
            <a:off x="304560" y="5486400"/>
            <a:ext cx="45720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20"/>
          <p:cNvSpPr/>
          <p:nvPr/>
        </p:nvSpPr>
        <p:spPr>
          <a:xfrm rot="2296800">
            <a:off x="-214200" y="4984920"/>
            <a:ext cx="5331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21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6" name="WordArt 22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527" name="Picture 23" descr="u=1981761599,2222145136&amp;fm=21&amp;gp=0"/>
          <p:cNvPicPr/>
          <p:nvPr/>
        </p:nvPicPr>
        <p:blipFill>
          <a:blip r:embed="rId2"/>
          <a:stretch/>
        </p:blipFill>
        <p:spPr>
          <a:xfrm>
            <a:off x="6019920" y="22860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4" descr="u=4054640601,1650306011&amp;fm=21&amp;gp=0"/>
          <p:cNvPicPr/>
          <p:nvPr/>
        </p:nvPicPr>
        <p:blipFill>
          <a:blip r:embed="rId3"/>
          <a:stretch/>
        </p:blipFill>
        <p:spPr>
          <a:xfrm>
            <a:off x="548640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5" descr="u=4054640601,1650306011&amp;fm=21&amp;gp=0"/>
          <p:cNvPicPr/>
          <p:nvPr/>
        </p:nvPicPr>
        <p:blipFill>
          <a:blip r:embed="rId4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4"/>
          <p:cNvSpPr/>
          <p:nvPr/>
        </p:nvSpPr>
        <p:spPr>
          <a:xfrm>
            <a:off x="3809880" y="419112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5"/>
          <p:cNvSpPr/>
          <p:nvPr/>
        </p:nvSpPr>
        <p:spPr>
          <a:xfrm>
            <a:off x="36576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219320" y="5105520"/>
            <a:ext cx="84582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0" y="586728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8"/>
          <p:cNvSpPr/>
          <p:nvPr/>
        </p:nvSpPr>
        <p:spPr>
          <a:xfrm>
            <a:off x="2133720" y="4572000"/>
            <a:ext cx="51051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9"/>
          <p:cNvSpPr/>
          <p:nvPr/>
        </p:nvSpPr>
        <p:spPr>
          <a:xfrm rot="9360600">
            <a:off x="3257280" y="5266800"/>
            <a:ext cx="1228680" cy="3812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0"/>
          <p:cNvSpPr/>
          <p:nvPr/>
        </p:nvSpPr>
        <p:spPr>
          <a:xfrm rot="11535000">
            <a:off x="1371240" y="4952520"/>
            <a:ext cx="1035000" cy="762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11"/>
          <p:cNvSpPr/>
          <p:nvPr/>
        </p:nvSpPr>
        <p:spPr>
          <a:xfrm rot="2296800">
            <a:off x="1425240" y="4584600"/>
            <a:ext cx="1141560" cy="1533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2"/>
          <p:cNvSpPr/>
          <p:nvPr/>
        </p:nvSpPr>
        <p:spPr>
          <a:xfrm>
            <a:off x="-914400" y="4343400"/>
            <a:ext cx="1447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3"/>
          <p:cNvSpPr/>
          <p:nvPr/>
        </p:nvSpPr>
        <p:spPr>
          <a:xfrm>
            <a:off x="-1066680" y="4724280"/>
            <a:ext cx="14475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4"/>
          <p:cNvSpPr/>
          <p:nvPr/>
        </p:nvSpPr>
        <p:spPr>
          <a:xfrm flipH="1">
            <a:off x="0" y="4419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5"/>
          <p:cNvSpPr/>
          <p:nvPr/>
        </p:nvSpPr>
        <p:spPr>
          <a:xfrm flipH="1">
            <a:off x="151920" y="4724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16"/>
          <p:cNvSpPr/>
          <p:nvPr/>
        </p:nvSpPr>
        <p:spPr>
          <a:xfrm rot="2296800">
            <a:off x="632880" y="5389560"/>
            <a:ext cx="609840" cy="5335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7"/>
          <p:cNvSpPr/>
          <p:nvPr/>
        </p:nvSpPr>
        <p:spPr>
          <a:xfrm rot="2296800">
            <a:off x="46080" y="5595840"/>
            <a:ext cx="457200" cy="304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8" descr="99"/>
          <p:cNvPicPr/>
          <p:nvPr/>
        </p:nvPicPr>
        <p:blipFill>
          <a:blip r:embed="rId1"/>
          <a:stretch/>
        </p:blipFill>
        <p:spPr>
          <a:xfrm rot="1107000">
            <a:off x="-130320" y="4732200"/>
            <a:ext cx="1641600" cy="885960"/>
          </a:xfrm>
          <a:prstGeom prst="rect">
            <a:avLst/>
          </a:prstGeom>
          <a:ln w="0">
            <a:noFill/>
          </a:ln>
        </p:spPr>
      </p:pic>
      <p:sp>
        <p:nvSpPr>
          <p:cNvPr id="547" name="Oval 19"/>
          <p:cNvSpPr/>
          <p:nvPr/>
        </p:nvSpPr>
        <p:spPr>
          <a:xfrm rot="2296800">
            <a:off x="402840" y="5603760"/>
            <a:ext cx="45720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WordArt 20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9" name="WordArt 21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550" name="Picture 22" descr="u=1981761599,2222145136&amp;fm=21&amp;gp=0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3" descr="u=4054640601,1650306011&amp;fm=21&amp;gp=0"/>
          <p:cNvPicPr/>
          <p:nvPr/>
        </p:nvPicPr>
        <p:blipFill>
          <a:blip r:embed="rId3"/>
          <a:stretch/>
        </p:blipFill>
        <p:spPr>
          <a:xfrm>
            <a:off x="533412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4" descr="u=4054640601,1650306011&amp;fm=21&amp;gp=0"/>
          <p:cNvPicPr/>
          <p:nvPr/>
        </p:nvPicPr>
        <p:blipFill>
          <a:blip r:embed="rId4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图片2"/>
          <p:cNvPicPr/>
          <p:nvPr/>
        </p:nvPicPr>
        <p:blipFill>
          <a:blip r:embed="rId1"/>
          <a:stretch/>
        </p:blipFill>
        <p:spPr>
          <a:xfrm>
            <a:off x="838080" y="533520"/>
            <a:ext cx="1730520" cy="24382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图片22"/>
          <p:cNvPicPr/>
          <p:nvPr/>
        </p:nvPicPr>
        <p:blipFill>
          <a:blip r:embed="rId2"/>
          <a:stretch/>
        </p:blipFill>
        <p:spPr>
          <a:xfrm>
            <a:off x="6629400" y="2514600"/>
            <a:ext cx="1871640" cy="2147760"/>
          </a:xfrm>
          <a:prstGeom prst="rect">
            <a:avLst/>
          </a:prstGeom>
          <a:ln w="0">
            <a:noFill/>
          </a:ln>
        </p:spPr>
      </p:pic>
      <p:sp>
        <p:nvSpPr>
          <p:cNvPr id="555" name="AutoShape 4"/>
          <p:cNvSpPr/>
          <p:nvPr/>
        </p:nvSpPr>
        <p:spPr>
          <a:xfrm>
            <a:off x="3505320" y="1295280"/>
            <a:ext cx="4572000" cy="1143000"/>
          </a:xfrm>
          <a:prstGeom prst="wedgeRectCallout">
            <a:avLst>
              <a:gd name="adj1" fmla="val -71458"/>
              <a:gd name="adj2" fmla="val 5152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仿宋_GB2312"/>
                <a:ea typeface="仿宋_GB2312"/>
              </a:rPr>
              <a:t>阅十余岁，僧募金重修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可见其毅力坚定但经验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5" descr="小花-2"/>
          <p:cNvPicPr/>
          <p:nvPr/>
        </p:nvPicPr>
        <p:blipFill>
          <a:blip r:embed="rId3"/>
          <a:stretch/>
        </p:blipFill>
        <p:spPr>
          <a:xfrm>
            <a:off x="0" y="6334200"/>
            <a:ext cx="1447920" cy="523800"/>
          </a:xfrm>
          <a:prstGeom prst="rect">
            <a:avLst/>
          </a:prstGeom>
          <a:ln w="0">
            <a:noFill/>
          </a:ln>
        </p:spPr>
      </p:pic>
      <p:sp>
        <p:nvSpPr>
          <p:cNvPr id="557" name="AutoShape 6"/>
          <p:cNvSpPr/>
          <p:nvPr/>
        </p:nvSpPr>
        <p:spPr>
          <a:xfrm>
            <a:off x="914400" y="3048120"/>
            <a:ext cx="4264200" cy="1600200"/>
          </a:xfrm>
          <a:prstGeom prst="wedgeRectCallout">
            <a:avLst>
              <a:gd name="adj1" fmla="val 81981"/>
              <a:gd name="adj2" fmla="val -1458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仿宋_GB2312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仿宋_GB2312"/>
              </a:rPr>
              <a:t>笑曰”“尔辈不能究物理”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仿宋_GB2312"/>
              </a:rPr>
              <a:t>足显其一知半解而好为人师，自视清高而轻视他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WordArt 7"/>
          <p:cNvSpPr txBox="1"/>
          <p:nvPr/>
        </p:nvSpPr>
        <p:spPr>
          <a:xfrm>
            <a:off x="609480" y="53341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老河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59" name="AutoShape 8"/>
          <p:cNvSpPr/>
          <p:nvPr/>
        </p:nvSpPr>
        <p:spPr>
          <a:xfrm>
            <a:off x="2666880" y="5257800"/>
            <a:ext cx="5791320" cy="838080"/>
          </a:xfrm>
          <a:prstGeom prst="wedgeRectCallout">
            <a:avLst>
              <a:gd name="adj1" fmla="val -61675"/>
              <a:gd name="adj2" fmla="val -7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仿宋_GB2312"/>
              </a:rPr>
              <a:t>有实际经验，自信满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8"/>
          <p:cNvSpPr/>
          <p:nvPr/>
        </p:nvSpPr>
        <p:spPr>
          <a:xfrm>
            <a:off x="2057400" y="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什么前三种方法是错的，只有老河兵的方法是对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yugangfa.blog-city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0" y="292428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老河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2340000" y="2924280"/>
            <a:ext cx="641988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成功的原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能综合各种现实因素，提出符合实际的结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179280" y="260280"/>
            <a:ext cx="9144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幼圆"/>
              </a:rPr>
              <a:t>寺僧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：    不深思熟虑而盲目行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幼圆"/>
              </a:rPr>
              <a:t>讲学家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：空谈事理，不切合实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1281240" y="836640"/>
            <a:ext cx="68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1" dur="2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4" dur="20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9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4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9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2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img84683_1"/>
          <p:cNvPicPr/>
          <p:nvPr/>
        </p:nvPicPr>
        <p:blipFill>
          <a:blip r:embed="rId1"/>
          <a:stretch/>
        </p:blipFill>
        <p:spPr>
          <a:xfrm>
            <a:off x="380880" y="1600200"/>
            <a:ext cx="2667240" cy="36576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1676520" y="457200"/>
            <a:ext cx="67863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132000" y="260280"/>
            <a:ext cx="51181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971800" y="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阅微草堂笔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纪昀晚年所作的一部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文言笔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说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题材以妖怪鬼狐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但于人事异闻、名物典故等也有记述，内容相当广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048120" y="2743200"/>
            <a:ext cx="54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四库全书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古今图书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经、史、子、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档，总名为“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四库全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0" y="1213920"/>
            <a:ext cx="8858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寺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按一般的思维模式和惯例，认为水的流动会把石兽带到下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9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阅十余岁，僧募金重修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可见其毅力坚定但经验不足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讲学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自认为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究物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石性坚重，沙性松浮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的理论知识推断石兽在原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渐沉渐深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笑曰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”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尔辈不能究物理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足显其一知半解而好为人师，自视清高而轻视他人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老河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常年在河边劳动，了解水、沙、石等自然事物特性，根据多年经验认为：那石兽很重，而河沙又松，西来的河水冲不动石兽，反而把石兽下面的沙子冲走了，还冲成一个坑，时间一久，石兽势必向西倒去，掉进坑中。如此年复一年地倒，就好像石兽往河水上游翻跟头一样，当求之于上流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有实际经验，沾沾自喜。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华文彩云"/>
                <a:ea typeface="华文彩云"/>
              </a:rPr>
              <a:t>认识不同的原因及性格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图片1"/>
          <p:cNvPicPr/>
          <p:nvPr/>
        </p:nvPicPr>
        <p:blipFill>
          <a:blip r:embed="rId1"/>
          <a:stretch/>
        </p:blipFill>
        <p:spPr>
          <a:xfrm>
            <a:off x="76320" y="-380880"/>
            <a:ext cx="9144000" cy="716256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问题一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对同一个现象，产生不同的认识，这在生活中是很常见的。请你举一个例子，并简单说说为什么会有这种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p_large_bIFW_22dd00002b452d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问题二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是怎样结构的，这个故事说有了一个什么道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4" descr="18"/>
          <p:cNvPicPr/>
          <p:nvPr/>
        </p:nvPicPr>
        <p:blipFill>
          <a:blip r:embed="rId2"/>
          <a:stretch/>
        </p:blipFill>
        <p:spPr>
          <a:xfrm>
            <a:off x="2124000" y="5715000"/>
            <a:ext cx="7020000" cy="1143000"/>
          </a:xfrm>
          <a:prstGeom prst="rect">
            <a:avLst/>
          </a:prstGeom>
          <a:ln w="0">
            <a:noFill/>
          </a:ln>
        </p:spPr>
      </p:pic>
      <p:sp>
        <p:nvSpPr>
          <p:cNvPr id="573" name="WordArt 5"/>
          <p:cNvSpPr txBox="1"/>
          <p:nvPr/>
        </p:nvSpPr>
        <p:spPr>
          <a:xfrm>
            <a:off x="533520" y="52578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请思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457200" y="2209680"/>
            <a:ext cx="82296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课文中所阐述的事理对我们平时的生活、学习有什么启示？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2560" y="-734400"/>
            <a:ext cx="13050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cc0099"/>
              </a:solidFill>
              <a:latin typeface="华文彩云"/>
              <a:ea typeface="华文彩云"/>
            </a:endParaRPr>
          </a:p>
        </p:txBody>
      </p:sp>
      <p:sp>
        <p:nvSpPr>
          <p:cNvPr id="576" name="矩形 3"/>
          <p:cNvSpPr/>
          <p:nvPr/>
        </p:nvSpPr>
        <p:spPr>
          <a:xfrm>
            <a:off x="0" y="762120"/>
            <a:ext cx="9144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  <a:ea typeface="楷体_GB2312"/>
              </a:rPr>
              <a:t>本文围绕寻找河中石兽这一线索，展开戏剧性的情节，在前三段通过寺僧、讲学家、老河兵对寻找石兽的不同见解的叙述，寓理于事，作者在文末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楷体_GB2312"/>
              </a:rPr>
              <a:t>以议论的方式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  <a:ea typeface="楷体_GB2312"/>
              </a:rPr>
              <a:t>点明自己的观点</a:t>
            </a:r>
            <a:r>
              <a:rPr b="1" lang="zh-CN" sz="3200" spc="-1" strike="noStrike">
                <a:solidFill>
                  <a:srgbClr val="00b050"/>
                </a:solidFill>
                <a:latin typeface="宋体"/>
                <a:ea typeface="楷体_GB2312"/>
              </a:rPr>
              <a:t>：“</a:t>
            </a:r>
            <a:r>
              <a:rPr b="1" i="1" lang="zh-CN" sz="3200" spc="-1" strike="noStrike">
                <a:solidFill>
                  <a:srgbClr val="00b050"/>
                </a:solidFill>
                <a:latin typeface="Arial"/>
                <a:ea typeface="楷体_GB2312"/>
              </a:rPr>
              <a:t>然则天下之事，但知其一，不知其二者多矣，可据理臆断欤？”</a:t>
            </a:r>
            <a:r>
              <a:rPr b="1" i="1" lang="zh-CN" sz="3200" spc="-1" strike="noStrike">
                <a:solidFill>
                  <a:srgbClr val="00b050"/>
                </a:solidFill>
                <a:latin typeface="宋体"/>
                <a:ea typeface="楷体_GB2312"/>
              </a:rPr>
              <a:t>这句话，既是对讲学家之类一知半解而又自以为是的人的辛辣嘲讽，</a:t>
            </a:r>
            <a:r>
              <a:rPr b="1" lang="zh-CN" sz="3200" spc="-1" strike="noStrike" u="sng">
                <a:solidFill>
                  <a:srgbClr val="c00000"/>
                </a:solidFill>
                <a:uFillTx/>
                <a:latin typeface="宋体"/>
                <a:ea typeface="楷体_GB2312"/>
              </a:rPr>
              <a:t>又指明了认识事物的方法和途径：不能片面地理解，而要全面深入地调查探究事物的特性；更不能主观臆断，而应当遵循客观事物的规律。同时也诠释了生活学习中要注意理论联系实际，不可做空头理论家的哲理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宋体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4"/>
          <p:cNvSpPr/>
          <p:nvPr/>
        </p:nvSpPr>
        <p:spPr>
          <a:xfrm>
            <a:off x="1066680" y="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课文是怎样结构的？阐述的事理对我们平时的生活、学习有什么启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yugangfa.blog-city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-360" y="692280"/>
            <a:ext cx="828036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课文阐述的事理对我们平时的生活、学习有什么启示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不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片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地理解，而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全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深入地调查探究事物的特性；更不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主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臆断，而应当遵循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客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事物的规律。同时也诠释了生活学习中要注意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理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联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实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，不可做空头理论家的哲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yugangfa.blog-city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"/>
          <p:cNvSpPr/>
          <p:nvPr/>
        </p:nvSpPr>
        <p:spPr>
          <a:xfrm>
            <a:off x="1371600" y="20574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许多自然现象的发生往往有着复杂的原因，我们不能只知其一，不知其二，仅仅根据自己的一知半解就根据常情主观作出判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WordArt 3"/>
          <p:cNvSpPr txBox="1"/>
          <p:nvPr/>
        </p:nvSpPr>
        <p:spPr>
          <a:xfrm>
            <a:off x="3048120" y="685800"/>
            <a:ext cx="24382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文章主旨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华文彩云"/>
                <a:ea typeface="华文彩云"/>
              </a:rPr>
              <a:t>写法探究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3"/>
          <p:cNvSpPr/>
          <p:nvPr/>
        </p:nvSpPr>
        <p:spPr>
          <a:xfrm>
            <a:off x="609480" y="914400"/>
            <a:ext cx="80726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隶书"/>
              </a:rPr>
              <a:t>1.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层层铺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最先以寺僧的做法为讲学家的看法做铺垫，以突出讲学家的看法“众服为确论”，并且通过讲学家对寺僧的评价“颠”来写出讲学家对自己的看法的自信。最后写老河兵，老河兵的一番话，加上“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果得于数里外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”的结果，巧妙地表现自信的讲学“不更颠乎”，极具戏剧性和讽刺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隶书"/>
              </a:rPr>
              <a:t>2.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具有较强的思辨色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管讲学家的观点是否与实际相符，其阐述的道理是能“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究物理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”的，所以人们能信服；老河兵的观点处看上去似乎不合常理，但其分析有着不可辩驳的说服力，事情的结果也验证其看法的科学性和推理的合理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隶书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细节描写增加了文采和可读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讲学家的“笑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包含了讲学家对寺僧的嘲讽和一种自信，刻画出讲学家自恃博才的心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老河兵的“笑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流露出了老河兵对讲学家自恃博才的一种否定，也表现出老河兵的自信和沾沾自喜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yugangfa.blog-city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还知道哪些“但知其一，不知其二”却主观臆断，以致犯下错误或闹出笑话事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0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yugangfa.blog-city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刻舟求剑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掩耳盗铃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瞎子摸象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》 《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从三到万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说的就是“但知其一，不知其二”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4" descr="p_large_zTKW_1736000205982d1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4" name="WordArt 5"/>
          <p:cNvSpPr txBox="1"/>
          <p:nvPr/>
        </p:nvSpPr>
        <p:spPr>
          <a:xfrm rot="5400000">
            <a:off x="-304560" y="2819160"/>
            <a:ext cx="441972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巩固提高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p_large_PpYE_79c0000761652d12"/>
          <p:cNvPicPr/>
          <p:nvPr/>
        </p:nvPicPr>
        <p:blipFill>
          <a:blip r:embed="rId1"/>
          <a:stretch/>
        </p:blipFill>
        <p:spPr>
          <a:xfrm>
            <a:off x="0" y="0"/>
            <a:ext cx="9144000" cy="8153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65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99"/>
                </a:solidFill>
                <a:latin typeface="Arial"/>
                <a:ea typeface="楷体_GB2312"/>
              </a:rPr>
              <a:t>河中石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74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沧州南，一寺临河干，山门圮于河，二石兽并沉焉。阅十余岁，僧募金重修，求石兽于水中，竟不可得。以为顺流下矣。棹数小舟，曳铁钯，寻十余里，无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讲学家设帐寺中，闻之笑曰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尔辈不能究物理。是非木柿，岂能为暴涨携之去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乃石性坚重，沙性松浮，湮于沙上，渐沉渐深耳。沿河求之，不亦颠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众服为确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老河兵闻之，又笑曰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凡河中失石，当求之于上流。盖石性坚重，沙性松浮，水不能冲石，其反激之力，必于石下迎水处啮沙为坎穴。渐激渐深，至石之半，石必倒掷坎穴中。如是再啮，石又再转。转转不已，遂反溯流逆上矣。求之下流固颠，求之地中，不更颠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其言，果得于数里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则天下之事，但知其一，不知其二者多矣。可据理臆断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图片2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1511280" cy="170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图片2"/>
          <p:cNvPicPr/>
          <p:nvPr/>
        </p:nvPicPr>
        <p:blipFill>
          <a:blip r:embed="rId3"/>
          <a:stretch/>
        </p:blipFill>
        <p:spPr>
          <a:xfrm>
            <a:off x="7632720" y="6477120"/>
            <a:ext cx="1511280" cy="1699920"/>
          </a:xfrm>
          <a:prstGeom prst="rect">
            <a:avLst/>
          </a:prstGeom>
          <a:ln w="0">
            <a:noFill/>
          </a:ln>
        </p:spPr>
      </p:pic>
      <p:pic>
        <p:nvPicPr>
          <p:cNvPr id="61" name="河中石兽.mp3" descr=""/>
          <p:cNvPicPr/>
          <p:nvPr/>
        </p:nvPicPr>
        <p:blipFill>
          <a:blip r:embed="rId4"/>
          <a:stretch/>
        </p:blipFill>
        <p:spPr>
          <a:xfrm>
            <a:off x="6324480" y="380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1217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getCA1B18UX"/>
          <p:cNvPicPr/>
          <p:nvPr/>
        </p:nvPicPr>
        <p:blipFill>
          <a:blip r:embed="rId1"/>
          <a:stretch/>
        </p:blipFill>
        <p:spPr>
          <a:xfrm>
            <a:off x="6019920" y="3581280"/>
            <a:ext cx="2819160" cy="30481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getCA7WLAON"/>
          <p:cNvPicPr/>
          <p:nvPr/>
        </p:nvPicPr>
        <p:blipFill>
          <a:blip r:embed="rId2"/>
          <a:stretch/>
        </p:blipFill>
        <p:spPr>
          <a:xfrm>
            <a:off x="304920" y="3581280"/>
            <a:ext cx="2895480" cy="30481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" descr="getCAMPQ1RR"/>
          <p:cNvPicPr/>
          <p:nvPr/>
        </p:nvPicPr>
        <p:blipFill>
          <a:blip r:embed="rId3"/>
          <a:stretch/>
        </p:blipFill>
        <p:spPr>
          <a:xfrm>
            <a:off x="3200400" y="3581280"/>
            <a:ext cx="2819520" cy="3048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getCAUAO8XW"/>
          <p:cNvPicPr/>
          <p:nvPr/>
        </p:nvPicPr>
        <p:blipFill>
          <a:blip r:embed="rId4"/>
          <a:stretch/>
        </p:blipFill>
        <p:spPr>
          <a:xfrm>
            <a:off x="304920" y="22860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6" descr="getCAZHTASA"/>
          <p:cNvPicPr/>
          <p:nvPr/>
        </p:nvPicPr>
        <p:blipFill>
          <a:blip r:embed="rId5"/>
          <a:stretch/>
        </p:blipFill>
        <p:spPr>
          <a:xfrm>
            <a:off x="3200400" y="228600"/>
            <a:ext cx="3117960" cy="31240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1"/>
          <p:cNvPicPr/>
          <p:nvPr/>
        </p:nvPicPr>
        <p:blipFill>
          <a:blip r:embed="rId6"/>
          <a:stretch/>
        </p:blipFill>
        <p:spPr>
          <a:xfrm>
            <a:off x="6019920" y="228600"/>
            <a:ext cx="2819160" cy="3124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1112"/>
          <p:cNvPicPr/>
          <p:nvPr/>
        </p:nvPicPr>
        <p:blipFill>
          <a:blip r:embed="rId7"/>
          <a:stretch/>
        </p:blipFill>
        <p:spPr>
          <a:xfrm flipH="1" rot="5649600">
            <a:off x="8178840" y="290520"/>
            <a:ext cx="922320" cy="100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p_large_qmi9_16ec000755932d0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3"/>
          <p:cNvSpPr/>
          <p:nvPr/>
        </p:nvSpPr>
        <p:spPr>
          <a:xfrm>
            <a:off x="533520" y="533520"/>
            <a:ext cx="784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下列句子中加点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所指代的意思，理解正确的一项是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讲学者设帐寺中，闻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沿河求之，不亦颠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老河兵闻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果得之于数里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①和②句相同，③和④句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①和③句相同，②和④句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. ①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和③句不同，②和④句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. ①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和④句相同，②和③句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2744640" y="990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5" descr="1"/>
          <p:cNvPicPr/>
          <p:nvPr/>
        </p:nvPicPr>
        <p:blipFill>
          <a:blip r:embed="rId2"/>
          <a:stretch/>
        </p:blipFill>
        <p:spPr>
          <a:xfrm>
            <a:off x="6858000" y="2438280"/>
            <a:ext cx="198108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4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4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p_large_rr63_04a6000191a32d12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609120" y="10666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用自己的话写出下列代词指代的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至石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指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求</a:t>
            </a:r>
            <a:r>
              <a:rPr b="1" lang="zh-CN" sz="3200" spc="-1" strike="noStrike">
                <a:solidFill>
                  <a:srgbClr val="ff3399"/>
                </a:solidFill>
                <a:latin typeface="仿宋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下流，固颠；求</a:t>
            </a:r>
            <a:r>
              <a:rPr b="1" lang="zh-CN" sz="3200" spc="-1" strike="noStrike">
                <a:solidFill>
                  <a:srgbClr val="ff3399"/>
                </a:solidFill>
                <a:latin typeface="仿宋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地中，不更颠乎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指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反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指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4" descr="小花-2"/>
          <p:cNvPicPr/>
          <p:nvPr/>
        </p:nvPicPr>
        <p:blipFill>
          <a:blip r:embed="rId2"/>
          <a:stretch/>
        </p:blipFill>
        <p:spPr>
          <a:xfrm>
            <a:off x="7696080" y="6019920"/>
            <a:ext cx="14479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4" descr="p_large_UGmE_58380002570b2d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5"/>
          <p:cNvSpPr/>
          <p:nvPr/>
        </p:nvSpPr>
        <p:spPr>
          <a:xfrm>
            <a:off x="533520" y="2070360"/>
            <a:ext cx="822960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讲学家和老河兵都说到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石性坚重，沙性松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但他们对沉在河中的石兽作出的结论是完全不同的。讲学家据此得出的最终结论是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___________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尔辈不能究物理；</a:t>
            </a:r>
            <a:r>
              <a:rPr b="1" lang="en-US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是非木柿，岂能为暴涨携之去？</a:t>
            </a:r>
            <a:r>
              <a:rPr b="1" lang="en-US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湮于沙上，渐沉渐深耳；</a:t>
            </a:r>
            <a:r>
              <a:rPr b="1" lang="en-US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沿河求之，不亦颠乎？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老河兵的最终结论则为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_________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水不能冲石；</a:t>
            </a:r>
            <a:r>
              <a:rPr b="1" lang="en-US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再转不已，遂反朔流逆上矣；</a:t>
            </a:r>
            <a:r>
              <a:rPr b="1" lang="en-US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求之下流，固颠；</a:t>
            </a:r>
            <a:r>
              <a:rPr b="1" lang="en-US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石必倒掷坎穴中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1477800" y="1773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7"/>
          <p:cNvSpPr/>
          <p:nvPr/>
        </p:nvSpPr>
        <p:spPr>
          <a:xfrm>
            <a:off x="5581440" y="3645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8" descr="back2"/>
          <p:cNvPicPr/>
          <p:nvPr/>
        </p:nvPicPr>
        <p:blipFill>
          <a:blip r:embed="rId2"/>
          <a:stretch/>
        </p:blipFill>
        <p:spPr>
          <a:xfrm>
            <a:off x="7391520" y="5715000"/>
            <a:ext cx="114300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4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4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4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4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p_large_wcPE_275100002c0d2d0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</a:rPr>
              <a:t>下列叙述不符合原文意思的一项是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</a:rPr>
              <a:t>、一种见解是从石性和沙性角度作分析，认为应在石兽落水处寻找石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</a:rPr>
              <a:t>、一种见解是从水暴涨冲击石兽而走作分析，认为应该到河的下游去寻找石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</a:rPr>
              <a:t>、一种见解是从石性、沙性和水冲击角度作综合分析，认为应到兽落水的上游去寻石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</a:rPr>
              <a:t>、三种见解都是正确的，只不过实践更重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1026" descr="238"/>
          <p:cNvPicPr/>
          <p:nvPr/>
        </p:nvPicPr>
        <p:blipFill>
          <a:blip r:embed="rId2"/>
          <a:stretch/>
        </p:blipFill>
        <p:spPr>
          <a:xfrm>
            <a:off x="0" y="5950080"/>
            <a:ext cx="2057400" cy="90792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5"/>
          <p:cNvSpPr/>
          <p:nvPr/>
        </p:nvSpPr>
        <p:spPr>
          <a:xfrm>
            <a:off x="6706800" y="15238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4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4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4" descr="p_large_SaLS_40510008a41c2d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5"/>
          <p:cNvSpPr/>
          <p:nvPr/>
        </p:nvSpPr>
        <p:spPr>
          <a:xfrm>
            <a:off x="990720" y="1066680"/>
            <a:ext cx="746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下列句中划横线的词古义和今义相同的是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.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仿宋_GB2312"/>
                <a:ea typeface="仿宋_GB2312"/>
              </a:rPr>
              <a:t>但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知其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.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仿宋_GB2312"/>
                <a:ea typeface="仿宋_GB2312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非木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岂能为暴涨携之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仿宋_GB2312"/>
                <a:ea typeface="仿宋_GB2312"/>
              </a:rPr>
              <a:t>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讲学家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仿宋_GB2312"/>
                <a:ea typeface="仿宋_GB2312"/>
              </a:rPr>
              <a:t>设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帐寺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838080" y="441972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：古义：只；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今义：但是，表转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：古义：代词，此，这，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今义：判断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：古义：离开；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今义：到某个地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2363400" y="16002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8" descr="NA00864_"/>
          <p:cNvPicPr/>
          <p:nvPr/>
        </p:nvPicPr>
        <p:blipFill>
          <a:blip r:embed="rId2"/>
          <a:stretch/>
        </p:blipFill>
        <p:spPr>
          <a:xfrm>
            <a:off x="7848720" y="5954760"/>
            <a:ext cx="129528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4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4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5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6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4" descr="917ab03955184500b8998fa5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5"/>
          <p:cNvSpPr/>
          <p:nvPr/>
        </p:nvSpPr>
        <p:spPr>
          <a:xfrm>
            <a:off x="1295280" y="1371600"/>
            <a:ext cx="4343400" cy="581400"/>
          </a:xfrm>
          <a:prstGeom prst="rect">
            <a:avLst/>
          </a:prstGeom>
          <a:noFill/>
          <a:ln cap="rnd" w="2844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许多自然现象的发生往往有着复杂的原因，我们不能只知其一，不知其二，仅根据自己的一知半解就作出主观判断，而要根据实践情况作出判断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毕业生.mp3" descr=""/>
          <p:cNvPicPr/>
          <p:nvPr/>
        </p:nvPicPr>
        <p:blipFill>
          <a:blip r:embed="rId2"/>
          <a:stretch/>
        </p:blipFill>
        <p:spPr>
          <a:xfrm>
            <a:off x="883908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0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5.0)">
                                      <p:cBhvr>
                                        <p:cTn id="1003" dur="1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yugangfa.blog-city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宋体"/>
              </a:rPr>
              <a:t>纪昀</a:t>
            </a:r>
            <a:r>
              <a:rPr b="1" i="1" lang="en-US" sz="3200" spc="-1" strike="noStrike">
                <a:solidFill>
                  <a:srgbClr val="000000"/>
                </a:solidFill>
                <a:latin typeface="宋体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河</a:t>
            </a:r>
            <a:r>
              <a:rPr b="1" i="1" lang="zh-CN" sz="3600" spc="-1" strike="noStrike">
                <a:solidFill>
                  <a:srgbClr val="000000"/>
                </a:solidFill>
                <a:latin typeface="宋体"/>
              </a:rPr>
              <a:t>干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）   </a:t>
            </a:r>
            <a:r>
              <a:rPr b="1" i="1" lang="zh-CN" sz="3600" spc="-1" strike="noStrike">
                <a:solidFill>
                  <a:srgbClr val="000000"/>
                </a:solidFill>
                <a:latin typeface="宋体"/>
              </a:rPr>
              <a:t>圮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宋体"/>
              </a:rPr>
              <a:t>棹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   )     </a:t>
            </a:r>
            <a:r>
              <a:rPr b="1" i="1" lang="zh-CN" sz="3600" spc="-1" strike="noStrike">
                <a:solidFill>
                  <a:srgbClr val="000000"/>
                </a:solidFill>
                <a:latin typeface="宋体"/>
              </a:rPr>
              <a:t>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 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铁</a:t>
            </a: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）   木</a:t>
            </a:r>
            <a:r>
              <a:rPr b="1" i="1" lang="zh-CN" sz="3600" spc="-1" strike="noStrike">
                <a:solidFill>
                  <a:srgbClr val="000000"/>
                </a:solidFill>
                <a:latin typeface="宋体"/>
              </a:rPr>
              <a:t>杮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宋体"/>
              </a:rPr>
              <a:t>湮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 )     </a:t>
            </a:r>
            <a:r>
              <a:rPr b="1" i="1" lang="zh-CN" sz="3600" spc="-1" strike="noStrike">
                <a:solidFill>
                  <a:srgbClr val="000000"/>
                </a:solidFill>
                <a:latin typeface="宋体"/>
              </a:rPr>
              <a:t>啮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宋体"/>
              </a:rPr>
              <a:t>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)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i="1" lang="zh-CN" sz="3600" spc="-1" strike="noStrike">
                <a:solidFill>
                  <a:srgbClr val="000000"/>
                </a:solidFill>
                <a:latin typeface="宋体"/>
              </a:rPr>
              <a:t>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 )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宋体"/>
              </a:rPr>
              <a:t>欤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坎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"/>
          <p:cNvSpPr/>
          <p:nvPr/>
        </p:nvSpPr>
        <p:spPr>
          <a:xfrm>
            <a:off x="1609560" y="762120"/>
            <a:ext cx="14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ǐ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yún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074680" y="1295280"/>
            <a:ext cx="10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g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080320" y="1295280"/>
            <a:ext cx="5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1701000" y="198108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zh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"/>
          <p:cNvSpPr/>
          <p:nvPr/>
        </p:nvSpPr>
        <p:spPr>
          <a:xfrm>
            <a:off x="5170320" y="1981080"/>
            <a:ext cx="6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2107800" y="2514600"/>
            <a:ext cx="7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p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0"/>
          <p:cNvSpPr/>
          <p:nvPr/>
        </p:nvSpPr>
        <p:spPr>
          <a:xfrm>
            <a:off x="5563440" y="2514600"/>
            <a:ext cx="7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f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1"/>
          <p:cNvSpPr/>
          <p:nvPr/>
        </p:nvSpPr>
        <p:spPr>
          <a:xfrm>
            <a:off x="1676520" y="3200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2"/>
          <p:cNvSpPr/>
          <p:nvPr/>
        </p:nvSpPr>
        <p:spPr>
          <a:xfrm>
            <a:off x="4930200" y="312408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ni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3"/>
          <p:cNvSpPr/>
          <p:nvPr/>
        </p:nvSpPr>
        <p:spPr>
          <a:xfrm>
            <a:off x="1453680" y="3657600"/>
            <a:ext cx="6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s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4"/>
          <p:cNvSpPr/>
          <p:nvPr/>
        </p:nvSpPr>
        <p:spPr>
          <a:xfrm>
            <a:off x="4942080" y="365760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5"/>
          <p:cNvSpPr/>
          <p:nvPr/>
        </p:nvSpPr>
        <p:spPr>
          <a:xfrm>
            <a:off x="1513080" y="4267080"/>
            <a:ext cx="7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6"/>
          <p:cNvSpPr/>
          <p:nvPr/>
        </p:nvSpPr>
        <p:spPr>
          <a:xfrm>
            <a:off x="5034600" y="426708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xu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1757880" y="495288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z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457200" y="685800"/>
            <a:ext cx="8077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沧州南一寺   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临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河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山门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 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于河，二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兽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沉焉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十余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岁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僧 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金重修， 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石兽于水中， 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不可得，以为顺流下矣，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数小舟，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铁钯，寻十余里无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362320" y="1066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靠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564000" y="1052640"/>
            <a:ext cx="13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河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791320" y="228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5508720" y="105264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倒塌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685800" y="2514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一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438280" y="2514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经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809880" y="2514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876920" y="2514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募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7086600" y="2514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寻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2743200" y="4267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竟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7467480" y="3124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zh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6732720" y="3962520"/>
            <a:ext cx="225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船桨，这里指划（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1981080" y="4572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y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1905120" y="5486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拖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54864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踪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p_large_rr63_04a6000191a32d12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719928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沧州南一寺临河干，山门 圮（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ǐ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）于河，二石兽并沉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24000" y="1197000"/>
            <a:ext cx="8353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沧州南边有一座寺庙就在河岸上，寺院的大门倒塌在河中，（门前）两只石兽一起陷入水中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84360" y="2133720"/>
            <a:ext cx="7200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阅十余岁，僧募金重修，求二石兽于水中，竟不可得，以为顺流下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24000" y="3068640"/>
            <a:ext cx="7848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过了十多年，僧人募集资金重新修缮寺庙，在水中寻找石兽，竟然无法找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就认为石兽顺着河水流到下游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755640" y="4508640"/>
            <a:ext cx="7129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</a:rPr>
              <a:t>棹（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宋体"/>
              </a:rPr>
              <a:t>zhào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</a:rPr>
              <a:t>）数小舟，曳（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宋体"/>
              </a:rPr>
              <a:t>yè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</a:rPr>
              <a:t>）铁钯，寻十余里无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11280" y="5445000"/>
            <a:ext cx="7488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划着几只小船，拖着铁耙，往下游找了十几里地，不见石兽的踪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28600" y="228600"/>
            <a:ext cx="9448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讲学家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设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寺中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闻  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笑曰：“  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尔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能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究   物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         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非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木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能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暴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之去？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性</a:t>
            </a:r>
            <a:r>
              <a:rPr b="1" i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黑体"/>
              </a:rPr>
              <a:t>坚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             沙性</a:t>
            </a:r>
            <a:r>
              <a:rPr b="1" i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黑体"/>
              </a:rPr>
              <a:t>松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于沙上，渐沉渐深耳。   沿河求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亦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乎？”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众服为确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85800" y="685800"/>
            <a:ext cx="30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设馆授徒，即教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86200" y="609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听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876920" y="6094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顺流打捞石兽这件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467480" y="609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你们这些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28600" y="2286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推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295280" y="2286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事物的道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962520" y="2286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410080" y="1523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fè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105520" y="2286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木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6172200" y="2286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怎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7391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28600" y="342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81080" y="34290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3124080" y="34290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坚硬沉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6705720" y="35053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松散轻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83808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ā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60948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埋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914400" y="56386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荒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514600" y="5667480"/>
            <a:ext cx="55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众人佩服他的话，认为是精当的言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x</dc:creator>
  <dc:description/>
  <dc:language>en-US</dc:language>
  <cp:lastModifiedBy>Administrator</cp:lastModifiedBy>
  <dcterms:modified xsi:type="dcterms:W3CDTF">2014-04-14T02:36:22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