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gif" ContentType="image/gif"/>
  <Override PartName="/ppt/media/ROOSTER.WAV" ContentType="audio/x-wav"/>
  <Override PartName="/ppt/media/image14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jpeg" ContentType="image/jpeg"/>
  <Override PartName="/ppt/media/image11.jpeg" ContentType="image/jpeg"/>
  <Override PartName="/ppt/media/chimes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521-4FBB-48E8-80CB-7903F7D5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17D-6C6B-4462-8693-6C403AFD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497FC-3347-4924-8E15-AB562386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6B394-B485-445B-AF09-EE1745C4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819B9-991A-4748-AD6F-E5B6DB7E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B2FFA-4128-4ABD-A203-0F5B9CBA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1822B-2D69-4BC4-8123-4A52C52D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4B9A2-5CEB-4D28-8018-A9C65A09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2EC47-35F5-4B25-B8F2-0BF6F446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61915-4141-4D42-9C31-2048C24D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A6657-CC2C-49A1-A5F5-DCF1E461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3CBF7-6D7A-4654-80F3-BEC9FB02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C08-E77A-482D-AB69-29F8240B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32D5E-9E1C-42F9-97DC-ECA0DA41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F2388-0EBF-4883-9FE4-93A3571A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24CDE-BB05-42AB-8001-C778D37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E9CC7-C208-4201-A808-5B63006F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B0F1D-1175-4BB6-A35C-23FD7597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35DE2-DB6B-405A-8EEB-F36D519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A4AE0-D108-4CC7-8D55-D63AA15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CE367-FE93-485D-8DC0-1874F92E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E07C2-8B5B-4704-8EEB-A41C3110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97FD2-1A70-4C07-8EE1-53333010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931-3D66-4D68-9F2A-2BEAB690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FFF7D-E161-4AAE-B559-250D59CA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64E67-BB33-4282-8742-7DD9F131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FF61E-2791-4ECF-B11E-63C8562D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0A276-52B8-4924-86A9-FEBE787D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8E900-2827-4922-94F7-3BD67C3A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B8174-6B63-45FE-BBA8-0B159A62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5C47F-D30C-4A70-AAC8-23E1C282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ADAE4-5ECA-47C8-A656-7B6E0D1B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6EC69-290A-497C-BD60-6A2D5845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94B7-DF44-4B7D-9740-722EE0E8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AC7C-CD17-4E04-ACD1-BF96DC77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D7532-48B2-4CB8-AB37-27AFA39A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AFE7C-22F8-4A67-8BB0-D3D012D6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3DD42-26B3-4491-9A9F-8D6496DF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391F-DD46-4108-A56E-92A5B284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567-E2B2-43BB-84B1-9996F00B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8A76-3FA0-49F5-A5DF-03AA8123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3606-7265-4FC2-89E1-D96F0EAD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EEEF-CF48-4872-B8C1-3FCD3654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DF08-9A61-4F74-B341-A88BB0CB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F4C-7035-4DCC-85A3-8E0FFD47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160C-F52A-4123-BE32-4738EF9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C3A0-572D-4DDF-BE97-7E092AE7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0071-3F72-4BCF-8F62-6B76DC4F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78D1-D090-4E16-9149-3D4D2827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4712-9784-45AB-8C10-68785A24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FB2AA-E6D7-4742-A6F0-9149685D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9055-2B65-467A-B79B-4338CB80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8D4F-77AB-43EA-9FDA-F16EED8B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12EE-457E-429F-AF36-64379D96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547A-87B5-439E-9804-85CD52A6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476-A259-4179-B173-A3B8E95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432FD-B446-4E6D-843E-1DF6A35A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C47B-BE7C-4562-8B9E-374E7F1B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C45E-3669-476D-BD9E-32983E7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691E-6329-46BA-9914-53EB6B1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B70C-6394-4639-8E57-945341E4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4399-7073-42D8-83D2-D02B180E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6A5E-9E6F-445B-ACB5-2B1358EB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D6281-4152-4A55-825A-97BFE870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D2E8-F9A1-405A-90A7-FB01D0A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C2EB7-E6B3-4B89-A7F5-F0C4176C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8F9-B35D-4E74-B54D-D028C1B4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F678-EC5B-4A5B-8135-CE29A059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5763D-461F-463E-ADC1-039C269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7C24F-5F36-4282-A1F7-8EC96A97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12B3-82F3-439F-B505-D8B8E83C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A551-5482-42AA-A40D-EF4990D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39FA-3007-464F-977A-6B49F912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9DBB-ED8E-425B-9011-2904A4DC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0D28-F251-4C01-9897-12F4F854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9A16-BBE5-4E5D-8DCF-62EED1E4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FC08-0DF9-44E6-8A0C-F985591B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5A6-A2F1-42C6-85C5-105C907F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2A866-DF24-494A-A9F6-5332CC8A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347D7-1474-4321-B07D-23EF15C0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CE93-1CC2-48C7-AFA5-5C8617F0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0F81D-72C4-4ED5-8D29-D8B303F5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3602-0FCA-4F46-932F-319E9589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C00A6-E057-4539-B451-5931D335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A7B9F-1A43-4F83-8AB7-4F59CDF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C2582-D695-424A-9C30-E563BD6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214A9-A852-4317-9CD0-6D5F7DC0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2F10E-8E68-4570-BD49-9B6C9E26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945-6747-4515-ACAC-AEA6DA2A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2AA3-BF92-418E-8687-6C1B5687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84327-5D33-41D9-9651-A2029330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6563-420B-4028-9105-0C56C055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01D3-15DB-48C4-AAE2-32E6397C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52C32-96F1-4595-94F2-A1C3DA88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97438-7F34-497E-909B-2AA93F7E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74FC1-7C0D-4D7D-89A0-2A0213A6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4E575-B08B-456A-9508-0CE6B7E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C48C4-2F51-4033-8C68-A05EC1C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5BE8F-DD72-49F3-9F7C-6B4E93B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525-13E2-4192-B269-70725FB7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B7B5C-398F-412C-84FA-932AE0F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0C69-EB38-4139-9D34-9B072010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6B3F7-68E1-41E8-9949-2CFB19DF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D467E-4A66-415F-AE4E-AB846EE7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7EE7A-6F12-47E6-BE00-91AB759A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24D2C-0A25-4FBE-AD92-290DE71D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09CE4-E4A5-4583-BCD1-006A586D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D9F0-0ECB-4684-8C17-4D3F4CA9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42B85-12A5-4B1A-B54C-7C7FE72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787F2-0621-4648-A133-A7A58216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C0C-F081-46FE-85BF-2B03388C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C583-DAB2-4E2B-84F6-D485C509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836AF-7A6A-4B18-8AFC-ABAD2FFC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F2158-E1C5-429D-B7BE-35D56A13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413F-49D8-4E39-93D6-ECB2C9BA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9FB12-389B-4A9D-AD9A-B358B00E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BBE85-E8CD-42F4-B3EB-2001071F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571EC-EB91-493F-A948-BD4819DD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4B0D6-3EBA-493D-9C37-6BEEA634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291EC-951F-4B56-91B1-90AB526D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00688-2C1A-43AA-93F9-42F03D95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670-B881-4792-9CA6-42DF4DB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5168-0C60-4942-817A-0EA9F22D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7CEE4-AEC3-4C75-85A7-43FC722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DCA21-CC33-40CE-99E6-6438194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B5AAA-6EB2-46A8-8092-48F2467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D207-F2FE-4BF5-B439-8AC8F6EC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12C4E-36CD-40E4-BE33-CD984AA2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1840D-CD6A-4CF3-9CD3-EC7E0920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3BDD6-CE32-4639-8737-F580D5C1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1826A-CE2F-48C5-A003-40D838C4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85360-890A-4912-9BF3-4F27D8D3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F748-8B06-4969-AB99-7A89A3326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7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48BA-5E1F-437B-B5EB-E7C291E34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图片 7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D3F6-F3FC-406E-9799-A7697DB36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8E3D-F75A-4917-9F72-867F1883D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AFF3-2AEA-4EED-AEC6-A97E37053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9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D588-2B17-492E-9CF7-8FB9B2F58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5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7B7D-F420-43C5-BF26-0F3216E5B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37F1-7B90-4224-94D1-2D63296F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8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2E3A-7E0C-49AA-B05F-E40AA4221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8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992-C73F-47EA-8772-C4C1D352D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7" descr="图片1"/>
          <p:cNvPicPr/>
          <p:nvPr/>
        </p:nvPicPr>
        <p:blipFill>
          <a:blip r:embed="rId2"/>
          <a:stretch/>
        </p:blipFill>
        <p:spPr>
          <a:xfrm>
            <a:off x="-44280" y="-34920"/>
            <a:ext cx="9232560" cy="6927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8F9B-B784-4357-AA62-FE1A6FE5E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78,21,&#24187;&#28783;&#29255; 21" TargetMode="External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ROOSTER.WAV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p_large_7uOH_34133m0160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WordArt 5"/>
          <p:cNvSpPr txBox="1"/>
          <p:nvPr/>
        </p:nvSpPr>
        <p:spPr>
          <a:xfrm rot="5400000">
            <a:off x="-952200" y="278100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河中石兽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5" name="WordArt 6"/>
          <p:cNvSpPr txBox="1"/>
          <p:nvPr/>
        </p:nvSpPr>
        <p:spPr>
          <a:xfrm rot="5400000">
            <a:off x="2095200" y="567684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纪 昀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457200" y="38088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老河兵闻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又笑曰：“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中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于上游。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坚重，沙性松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不能冲石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激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力，必于石下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处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啮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沙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为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坎穴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渐激渐深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之半，石必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倒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坎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1676520" y="8380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讲学家的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562720" y="914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凡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01028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45720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应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3276720" y="20574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上下句之间表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3276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259092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38098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坑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73152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等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3352680" y="5410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倾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105264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冲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6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334440" cy="71629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684000" y="28440"/>
            <a:ext cx="79866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老河兵闻之，又笑曰：“凡河中失石，当求之于上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187200" y="1011240"/>
            <a:ext cx="9342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一位镇守河防的老兵听到了这件事，又笑着说：“凡是河水中丢失的石头，应当到上游去寻找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457200" y="1981080"/>
            <a:ext cx="929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盖石性坚重，沙性松浮，水不能冲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其反激之力，必于石下迎水处啮沙为坎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渐激渐深，至石之半，石必倒掷坎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457200" y="3733920"/>
            <a:ext cx="8877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正因为石头的性质坚硬沉重，沙子的性质疏松漂浮，（所以）河水不能冲走石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它相反的冲刷力量，一定在石头下面迎水的地方冲走沙子形成陷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越冲刷坑越深，到了石头的一半那么深，石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一定倒转栽倒在洞坑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457200" y="53352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如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再啮，石又再转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转转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流逆上矣。求之下流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地中，不更颠乎？”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如   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言，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数里外。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然则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天下之事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知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，不知其二者多矣，可据理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臆断    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228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像这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4495680" y="990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一再翻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670572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于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523880" y="1219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12193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逆流而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624852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固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49528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按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6019920" y="3200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他，指老河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找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05740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既然这样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685800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5638680" y="5410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主观武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1371600" y="5572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6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684360" y="333360"/>
            <a:ext cx="719928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是再啮，石又再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57200" y="838080"/>
            <a:ext cx="8353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如此这般又一次冲刷，石头又往后翻转一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380880" y="2057400"/>
            <a:ext cx="82090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转不已， 遂反溯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逆上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之下流，固颠； 求之地中，不更颠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380880" y="3962520"/>
            <a:ext cx="811548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翻来翻去停不下来，石头于是反而逆着河水朝相反的方向移到上游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到下游寻找石头，固然颠倒了；在河底寻找，不更加颠倒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755640" y="607680"/>
            <a:ext cx="719928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其言， 果得于数里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468360" y="1332000"/>
            <a:ext cx="8675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按照他说的那样去找，果然在上游几里外找到了石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539640" y="2552760"/>
            <a:ext cx="820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则天下之事，但知其一，不知其二者多矣，可据理臆断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468360" y="3924360"/>
            <a:ext cx="7848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既然这样，那么天下的事，只知道其中一点、不知其中第二点的多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可以凭据常理主观地推断吗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1" descr="p_large_rr63_04a6000191a32d12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2"/>
          <p:cNvSpPr/>
          <p:nvPr/>
        </p:nvSpPr>
        <p:spPr>
          <a:xfrm>
            <a:off x="297180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38088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838080" y="990720"/>
            <a:ext cx="381240" cy="5105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1143000" y="685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笑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733920" y="7621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顺流而下寻找石兽这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11430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沿河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733920" y="17524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老河兵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3733920" y="2286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讲学家的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990720" y="2819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上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733920" y="2819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106668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反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4"/>
          <p:cNvSpPr/>
          <p:nvPr/>
        </p:nvSpPr>
        <p:spPr>
          <a:xfrm>
            <a:off x="3809880" y="3352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5"/>
          <p:cNvSpPr/>
          <p:nvPr/>
        </p:nvSpPr>
        <p:spPr>
          <a:xfrm>
            <a:off x="1066680" y="3962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"/>
          <p:cNvSpPr/>
          <p:nvPr/>
        </p:nvSpPr>
        <p:spPr>
          <a:xfrm>
            <a:off x="3809880" y="388620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7"/>
          <p:cNvSpPr/>
          <p:nvPr/>
        </p:nvSpPr>
        <p:spPr>
          <a:xfrm>
            <a:off x="990720" y="44956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流、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8"/>
          <p:cNvSpPr/>
          <p:nvPr/>
        </p:nvSpPr>
        <p:spPr>
          <a:xfrm>
            <a:off x="3657600" y="4724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9"/>
          <p:cNvSpPr/>
          <p:nvPr/>
        </p:nvSpPr>
        <p:spPr>
          <a:xfrm>
            <a:off x="1066680" y="55627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则天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0"/>
          <p:cNvSpPr/>
          <p:nvPr/>
        </p:nvSpPr>
        <p:spPr>
          <a:xfrm>
            <a:off x="3809880" y="556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1" descr="p_large_rr63_04a6000191a32d12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2"/>
          <p:cNvSpPr/>
          <p:nvPr/>
        </p:nvSpPr>
        <p:spPr>
          <a:xfrm>
            <a:off x="3124080" y="380880"/>
            <a:ext cx="337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古今异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1528920" y="13003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1528920" y="20145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600120" y="1442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2314440" y="1300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2243160" y="1943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不潮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628560" y="35528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2557440" y="3267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2771640" y="39099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4390920" y="33195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6462720" y="310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6605640" y="3819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门学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4629240" y="1285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5"/>
          <p:cNvSpPr/>
          <p:nvPr/>
        </p:nvSpPr>
        <p:spPr>
          <a:xfrm>
            <a:off x="6486480" y="1143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6"/>
          <p:cNvSpPr/>
          <p:nvPr/>
        </p:nvSpPr>
        <p:spPr>
          <a:xfrm>
            <a:off x="5943600" y="18572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表判断的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7"/>
          <p:cNvSpPr/>
          <p:nvPr/>
        </p:nvSpPr>
        <p:spPr>
          <a:xfrm>
            <a:off x="623880" y="54291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8"/>
          <p:cNvSpPr/>
          <p:nvPr/>
        </p:nvSpPr>
        <p:spPr>
          <a:xfrm>
            <a:off x="2481120" y="5072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9"/>
          <p:cNvSpPr/>
          <p:nvPr/>
        </p:nvSpPr>
        <p:spPr>
          <a:xfrm>
            <a:off x="2481120" y="5786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已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557360" y="3267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5748480" y="3105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5486400" y="1143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1623960" y="50007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1628640" y="39099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676840" y="36766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623960" y="57862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5415120" y="185724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左大括号 28"/>
          <p:cNvSpPr/>
          <p:nvPr/>
        </p:nvSpPr>
        <p:spPr>
          <a:xfrm>
            <a:off x="1457280" y="144288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左大括号 29"/>
          <p:cNvSpPr/>
          <p:nvPr/>
        </p:nvSpPr>
        <p:spPr>
          <a:xfrm>
            <a:off x="5343480" y="13572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左大括号 30"/>
          <p:cNvSpPr/>
          <p:nvPr/>
        </p:nvSpPr>
        <p:spPr>
          <a:xfrm>
            <a:off x="1343160" y="3409920"/>
            <a:ext cx="214200" cy="10573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057320"/>
              <a:gd name="textAreaBottom" fmla="*/ 105192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2"/>
                  <a:pt x="10800" y="364"/>
                </a:cubicBezTo>
                <a:lnTo>
                  <a:pt x="10800" y="10436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2"/>
                  <a:pt x="10800" y="11164"/>
                </a:cubicBezTo>
                <a:lnTo>
                  <a:pt x="10800" y="21236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左大括号 31"/>
          <p:cNvSpPr/>
          <p:nvPr/>
        </p:nvSpPr>
        <p:spPr>
          <a:xfrm>
            <a:off x="5605560" y="33195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左大括号 32"/>
          <p:cNvSpPr/>
          <p:nvPr/>
        </p:nvSpPr>
        <p:spPr>
          <a:xfrm>
            <a:off x="1481040" y="52149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395280" y="105264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细读课文，概括四种寻找石兽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5257800" y="1739880"/>
            <a:ext cx="1828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250920" y="1773360"/>
          <a:ext cx="8642160" cy="4800600"/>
        </p:xfrm>
        <a:graphic>
          <a:graphicData uri="http://schemas.openxmlformats.org/drawingml/2006/table">
            <a:tbl>
              <a:tblPr/>
              <a:tblGrid>
                <a:gridCol w="2347560"/>
                <a:gridCol w="1789200"/>
                <a:gridCol w="2489040"/>
                <a:gridCol w="2016360"/>
              </a:tblGrid>
              <a:tr h="122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寻找经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寻找的地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结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一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二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三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四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Text Box 38"/>
          <p:cNvSpPr/>
          <p:nvPr/>
        </p:nvSpPr>
        <p:spPr>
          <a:xfrm>
            <a:off x="3132000" y="3152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9"/>
          <p:cNvSpPr/>
          <p:nvPr/>
        </p:nvSpPr>
        <p:spPr>
          <a:xfrm>
            <a:off x="3203640" y="40165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0"/>
          <p:cNvSpPr/>
          <p:nvPr/>
        </p:nvSpPr>
        <p:spPr>
          <a:xfrm>
            <a:off x="4530600" y="4016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顺流而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1"/>
          <p:cNvSpPr/>
          <p:nvPr/>
        </p:nvSpPr>
        <p:spPr>
          <a:xfrm>
            <a:off x="2773440" y="480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讲学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2"/>
          <p:cNvSpPr/>
          <p:nvPr/>
        </p:nvSpPr>
        <p:spPr>
          <a:xfrm>
            <a:off x="4602240" y="4808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原地沙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3"/>
          <p:cNvSpPr/>
          <p:nvPr/>
        </p:nvSpPr>
        <p:spPr>
          <a:xfrm>
            <a:off x="2700360" y="56721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老河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4"/>
          <p:cNvSpPr/>
          <p:nvPr/>
        </p:nvSpPr>
        <p:spPr>
          <a:xfrm>
            <a:off x="4890240" y="57452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求之于上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151760" y="5452920"/>
            <a:ext cx="18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果得于数里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6"/>
          <p:cNvSpPr/>
          <p:nvPr/>
        </p:nvSpPr>
        <p:spPr>
          <a:xfrm>
            <a:off x="7151760" y="4808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失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7"/>
          <p:cNvSpPr/>
          <p:nvPr/>
        </p:nvSpPr>
        <p:spPr>
          <a:xfrm>
            <a:off x="4972680" y="306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原地水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8"/>
          <p:cNvSpPr/>
          <p:nvPr/>
        </p:nvSpPr>
        <p:spPr>
          <a:xfrm>
            <a:off x="7072200" y="306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可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9"/>
          <p:cNvSpPr/>
          <p:nvPr/>
        </p:nvSpPr>
        <p:spPr>
          <a:xfrm>
            <a:off x="7224840" y="3944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无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1"/>
          <p:cNvSpPr/>
          <p:nvPr/>
        </p:nvSpPr>
        <p:spPr>
          <a:xfrm>
            <a:off x="45720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合作探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18"/>
          <p:cNvSpPr/>
          <p:nvPr/>
        </p:nvSpPr>
        <p:spPr>
          <a:xfrm>
            <a:off x="546120" y="19303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文中找出他们寻找石兽的理由有什么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图片2"/>
          <p:cNvPicPr/>
          <p:nvPr/>
        </p:nvPicPr>
        <p:blipFill>
          <a:blip r:embed="rId1"/>
          <a:stretch/>
        </p:blipFill>
        <p:spPr>
          <a:xfrm>
            <a:off x="609480" y="0"/>
            <a:ext cx="9153720" cy="68673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18520" y="914040"/>
            <a:ext cx="6062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比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-165240" y="88920"/>
          <a:ext cx="8238960" cy="6657840"/>
        </p:xfrm>
        <a:graphic>
          <a:graphicData uri="http://schemas.openxmlformats.org/drawingml/2006/table">
            <a:tbl>
              <a:tblPr/>
              <a:tblGrid>
                <a:gridCol w="1300320"/>
                <a:gridCol w="693864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66"/>
                          </a:solidFill>
                          <a:latin typeface="Arial"/>
                          <a:ea typeface="宋体"/>
                        </a:rPr>
                        <a:t>理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寺僧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66"/>
                          </a:solidFill>
                          <a:latin typeface="Arial"/>
                          <a:ea typeface="楷体_GB2312"/>
                        </a:rPr>
                        <a:t>石兽于水中；以为顺流下矣</a:t>
                      </a:r>
                      <a:r>
                        <a:rPr b="1" lang="zh-CN" sz="4000" spc="-1" strike="noStrike">
                          <a:solidFill>
                            <a:srgbClr val="ff9999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139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讲学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66"/>
                          </a:solidFill>
                          <a:latin typeface="Arial"/>
                          <a:ea typeface="楷体_GB2312"/>
                        </a:rPr>
                        <a:t>石性坚重，沙性松浮，湮于沙上，渐沉渐深耳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老河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66"/>
                          </a:solidFill>
                          <a:latin typeface="Arial"/>
                          <a:ea typeface="楷体_GB2312"/>
                        </a:rPr>
                        <a:t>石性坚重，沙性松浮，水不能冲石，其反激之力，必于石下迎水处啮沙为坎穴。渐激渐深，至石之半，石必倒掷坎穴中。如是再啮，石又再转。转转不已，遂反溯流逆上矣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彩云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5"/>
          <p:cNvSpPr/>
          <p:nvPr/>
        </p:nvSpPr>
        <p:spPr>
          <a:xfrm>
            <a:off x="500040" y="135720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纪昀（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724-1805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清代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者、文学家。清代有名的才子，学识渊博，自幼聪慧过人，再加之后来对人情事故之通达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便中进士，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成为翰林院大学士。他为人为官刚直不阿，机智善辩，其渊博学识和管理才能深受乾隆帝赏识，成为卷帙浩繁的四库全书的总纂官，其作品涉猎文学、历史、哲学、政治、经济、地理等各个领域。撰有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阅微草堂笔记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图片 16" descr="30091297443031705.jpg"/>
          <p:cNvPicPr/>
          <p:nvPr/>
        </p:nvPicPr>
        <p:blipFill>
          <a:blip r:embed="rId1"/>
          <a:stretch/>
        </p:blipFill>
        <p:spPr>
          <a:xfrm>
            <a:off x="6215040" y="1071720"/>
            <a:ext cx="2571840" cy="53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p_large_qCjV_4057000a812d2d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3"/>
          <p:cNvSpPr/>
          <p:nvPr/>
        </p:nvSpPr>
        <p:spPr>
          <a:xfrm>
            <a:off x="228600" y="1676520"/>
            <a:ext cx="31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1981080" y="16765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考虑流水、石兽、泥沙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228600" y="236232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僧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1905120" y="23623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考虑了流水，没考虑石兽、泥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380880" y="28954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228600" y="3124080"/>
            <a:ext cx="41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讲学家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2362320" y="3124080"/>
            <a:ext cx="65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考虑了石兽和泥沙的关系，忽略了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0"/>
          <p:cNvSpPr/>
          <p:nvPr/>
        </p:nvSpPr>
        <p:spPr>
          <a:xfrm>
            <a:off x="380880" y="44956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老河兵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2819520" y="44197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既有理论又有实践，准确把握了三者的性质及相互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2" descr="1"/>
          <p:cNvPicPr/>
          <p:nvPr/>
        </p:nvPicPr>
        <p:blipFill>
          <a:blip r:embed="rId2"/>
          <a:stretch/>
        </p:blipFill>
        <p:spPr>
          <a:xfrm>
            <a:off x="7467480" y="4572000"/>
            <a:ext cx="1295640" cy="1150920"/>
          </a:xfrm>
          <a:prstGeom prst="rect">
            <a:avLst/>
          </a:prstGeom>
          <a:ln w="0">
            <a:noFill/>
          </a:ln>
        </p:spPr>
      </p:pic>
      <p:sp>
        <p:nvSpPr>
          <p:cNvPr id="669" name="矩形 12"/>
          <p:cNvSpPr/>
          <p:nvPr/>
        </p:nvSpPr>
        <p:spPr>
          <a:xfrm>
            <a:off x="592200" y="228600"/>
            <a:ext cx="77104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前三种方法是错的，只有老河兵的方法是对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2"/>
          <p:cNvSpPr/>
          <p:nvPr/>
        </p:nvSpPr>
        <p:spPr>
          <a:xfrm>
            <a:off x="3565440" y="3673440"/>
            <a:ext cx="5197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空谈事理，不切合实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u=4054640601,1650306011&amp;fm=21&amp;gp=0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99"/>
          <p:cNvPicPr/>
          <p:nvPr/>
        </p:nvPicPr>
        <p:blipFill>
          <a:blip r:embed="rId2"/>
          <a:stretch/>
        </p:blipFill>
        <p:spPr>
          <a:xfrm rot="20418600">
            <a:off x="6019920" y="838080"/>
            <a:ext cx="923760" cy="171468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4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5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8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WordArt 10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80" name="WordArt 11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681" name="Picture 12" descr="u=1981761599,2222145136&amp;fm=21&amp;gp=0"/>
          <p:cNvPicPr/>
          <p:nvPr/>
        </p:nvPicPr>
        <p:blipFill>
          <a:blip r:embed="rId3"/>
          <a:stretch/>
        </p:blipFill>
        <p:spPr>
          <a:xfrm>
            <a:off x="5715000" y="53352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3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8611 L -0.00052 0.41945 E">
                                      <p:cBhvr>
                                        <p:cTn id="728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1"/>
                            </p:stCondLst>
                            <p:childTnLst>
                              <p:par>
                                <p:cTn id="7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99"/>
          <p:cNvPicPr/>
          <p:nvPr/>
        </p:nvPicPr>
        <p:blipFill>
          <a:blip r:embed="rId1"/>
          <a:stretch/>
        </p:blipFill>
        <p:spPr>
          <a:xfrm rot="20470200">
            <a:off x="5866920" y="3886200"/>
            <a:ext cx="924120" cy="1714680"/>
          </a:xfrm>
          <a:prstGeom prst="rect">
            <a:avLst/>
          </a:prstGeom>
          <a:ln w="0">
            <a:noFill/>
          </a:ln>
        </p:spPr>
      </p:pic>
      <p:sp>
        <p:nvSpPr>
          <p:cNvPr id="685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6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7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0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11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WordArt 12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94" name="WordArt 13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695" name="Picture 14" descr="u=4054640601,1650306011&amp;fm=21&amp;gp=0"/>
          <p:cNvPicPr/>
          <p:nvPr/>
        </p:nvPicPr>
        <p:blipFill>
          <a:blip r:embed="rId2"/>
          <a:stretch/>
        </p:blipFill>
        <p:spPr>
          <a:xfrm>
            <a:off x="152280" y="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5562720" y="8380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6" descr="u=4054640601,1650306011&amp;fm=21&amp;gp=0"/>
          <p:cNvPicPr/>
          <p:nvPr/>
        </p:nvPicPr>
        <p:blipFill>
          <a:blip r:embed="rId4"/>
          <a:stretch/>
        </p:blipFill>
        <p:spPr>
          <a:xfrm>
            <a:off x="784872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3" descr="99"/>
          <p:cNvPicPr/>
          <p:nvPr/>
        </p:nvPicPr>
        <p:blipFill>
          <a:blip r:embed="rId1"/>
          <a:stretch/>
        </p:blipFill>
        <p:spPr>
          <a:xfrm rot="20502000">
            <a:off x="6019560" y="3885840"/>
            <a:ext cx="923760" cy="171468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10"/>
          <p:cNvSpPr/>
          <p:nvPr/>
        </p:nvSpPr>
        <p:spPr>
          <a:xfrm>
            <a:off x="4267080" y="487692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1"/>
          <p:cNvSpPr/>
          <p:nvPr/>
        </p:nvSpPr>
        <p:spPr>
          <a:xfrm>
            <a:off x="7010280" y="4800600"/>
            <a:ext cx="12193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12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09" name="WordArt 13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710" name="Picture 14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3808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5" descr="u=4054640601,1650306011&amp;fm=21&amp;gp=0"/>
          <p:cNvPicPr/>
          <p:nvPr/>
        </p:nvPicPr>
        <p:blipFill>
          <a:blip r:embed="rId3"/>
          <a:stretch/>
        </p:blipFill>
        <p:spPr>
          <a:xfrm>
            <a:off x="48769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6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713" name="Line 17"/>
          <p:cNvSpPr/>
          <p:nvPr/>
        </p:nvSpPr>
        <p:spPr>
          <a:xfrm flipH="1">
            <a:off x="5562720" y="46483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8"/>
          <p:cNvSpPr/>
          <p:nvPr/>
        </p:nvSpPr>
        <p:spPr>
          <a:xfrm flipH="1">
            <a:off x="548640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8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9" descr="99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723" name="Line 10"/>
          <p:cNvSpPr/>
          <p:nvPr/>
        </p:nvSpPr>
        <p:spPr>
          <a:xfrm>
            <a:off x="-1219320" y="480060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1"/>
          <p:cNvSpPr/>
          <p:nvPr/>
        </p:nvSpPr>
        <p:spPr>
          <a:xfrm rot="21073800">
            <a:off x="6095880" y="4800240"/>
            <a:ext cx="12193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12"/>
          <p:cNvSpPr/>
          <p:nvPr/>
        </p:nvSpPr>
        <p:spPr>
          <a:xfrm rot="21073800">
            <a:off x="3873600" y="5257800"/>
            <a:ext cx="121896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3"/>
          <p:cNvSpPr/>
          <p:nvPr/>
        </p:nvSpPr>
        <p:spPr>
          <a:xfrm rot="1768800">
            <a:off x="6019920" y="4876560"/>
            <a:ext cx="121896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WordArt 14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28" name="WordArt 15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729" name="Picture 16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7" descr="u=4054640601,1650306011&amp;fm=21&amp;gp=0"/>
          <p:cNvPicPr/>
          <p:nvPr/>
        </p:nvPicPr>
        <p:blipFill>
          <a:blip r:embed="rId3"/>
          <a:stretch/>
        </p:blipFill>
        <p:spPr>
          <a:xfrm>
            <a:off x="4952880" y="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8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8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9" descr="99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740" name="Oval 10"/>
          <p:cNvSpPr/>
          <p:nvPr/>
        </p:nvSpPr>
        <p:spPr>
          <a:xfrm>
            <a:off x="2971800" y="4495680"/>
            <a:ext cx="13716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11"/>
          <p:cNvSpPr/>
          <p:nvPr/>
        </p:nvSpPr>
        <p:spPr>
          <a:xfrm rot="20733000">
            <a:off x="5714640" y="4648320"/>
            <a:ext cx="1752480" cy="10317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2"/>
          <p:cNvSpPr/>
          <p:nvPr/>
        </p:nvSpPr>
        <p:spPr>
          <a:xfrm>
            <a:off x="-1066680" y="472428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3"/>
          <p:cNvSpPr/>
          <p:nvPr/>
        </p:nvSpPr>
        <p:spPr>
          <a:xfrm>
            <a:off x="3809880" y="5334120"/>
            <a:ext cx="14781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WordArt 14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45" name="WordArt 15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746" name="Picture 16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7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105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8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749" name="Line 19"/>
          <p:cNvSpPr/>
          <p:nvPr/>
        </p:nvSpPr>
        <p:spPr>
          <a:xfrm flipH="1">
            <a:off x="3962160" y="5105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0"/>
          <p:cNvSpPr/>
          <p:nvPr/>
        </p:nvSpPr>
        <p:spPr>
          <a:xfrm flipH="1">
            <a:off x="3581280" y="48006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"/>
          <p:cNvSpPr/>
          <p:nvPr/>
        </p:nvSpPr>
        <p:spPr>
          <a:xfrm>
            <a:off x="-609480" y="4267080"/>
            <a:ext cx="3733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9"/>
          <p:cNvSpPr/>
          <p:nvPr/>
        </p:nvSpPr>
        <p:spPr>
          <a:xfrm>
            <a:off x="-2552760" y="48769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10" descr="99"/>
          <p:cNvPicPr/>
          <p:nvPr/>
        </p:nvPicPr>
        <p:blipFill>
          <a:blip r:embed="rId1"/>
          <a:stretch/>
        </p:blipFill>
        <p:spPr>
          <a:xfrm rot="17391600">
            <a:off x="2881080" y="44337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760" name="Oval 11"/>
          <p:cNvSpPr/>
          <p:nvPr/>
        </p:nvSpPr>
        <p:spPr>
          <a:xfrm rot="8533200">
            <a:off x="3580920" y="5028480"/>
            <a:ext cx="13716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2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3"/>
          <p:cNvSpPr/>
          <p:nvPr/>
        </p:nvSpPr>
        <p:spPr>
          <a:xfrm rot="7696800">
            <a:off x="243828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4"/>
          <p:cNvSpPr/>
          <p:nvPr/>
        </p:nvSpPr>
        <p:spPr>
          <a:xfrm>
            <a:off x="4800600" y="4343400"/>
            <a:ext cx="3809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WordArt 15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65" name="WordArt 16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766" name="Picture 17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8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1055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9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4"/>
          <p:cNvSpPr/>
          <p:nvPr/>
        </p:nvSpPr>
        <p:spPr>
          <a:xfrm>
            <a:off x="-1866960" y="44197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9" descr="99"/>
          <p:cNvPicPr/>
          <p:nvPr/>
        </p:nvPicPr>
        <p:blipFill>
          <a:blip r:embed="rId1"/>
          <a:stretch/>
        </p:blipFill>
        <p:spPr>
          <a:xfrm rot="14756400">
            <a:off x="2500200" y="4357440"/>
            <a:ext cx="1714320" cy="924120"/>
          </a:xfrm>
          <a:prstGeom prst="rect">
            <a:avLst/>
          </a:prstGeom>
          <a:ln w="0">
            <a:noFill/>
          </a:ln>
        </p:spPr>
      </p:pic>
      <p:sp>
        <p:nvSpPr>
          <p:cNvPr id="777" name="Oval 10"/>
          <p:cNvSpPr/>
          <p:nvPr/>
        </p:nvSpPr>
        <p:spPr>
          <a:xfrm rot="9360600">
            <a:off x="3701160" y="4882320"/>
            <a:ext cx="16002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11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12"/>
          <p:cNvSpPr/>
          <p:nvPr/>
        </p:nvSpPr>
        <p:spPr>
          <a:xfrm rot="11535000">
            <a:off x="1515600" y="4866840"/>
            <a:ext cx="16765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13"/>
          <p:cNvSpPr/>
          <p:nvPr/>
        </p:nvSpPr>
        <p:spPr>
          <a:xfrm rot="2296800">
            <a:off x="3657240" y="4952880"/>
            <a:ext cx="1143000" cy="60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"/>
          <p:cNvSpPr/>
          <p:nvPr/>
        </p:nvSpPr>
        <p:spPr>
          <a:xfrm>
            <a:off x="-2971800" y="48769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WordArt 15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783" name="WordArt 16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784" name="Picture 17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30492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8" descr="u=4054640601,1650306011&amp;fm=21&amp;gp=0"/>
          <p:cNvPicPr/>
          <p:nvPr/>
        </p:nvPicPr>
        <p:blipFill>
          <a:blip r:embed="rId3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9" descr="u=4054640601,1650306011&amp;fm=21&amp;gp=0"/>
          <p:cNvPicPr/>
          <p:nvPr/>
        </p:nvPicPr>
        <p:blipFill>
          <a:blip r:embed="rId4"/>
          <a:stretch/>
        </p:blipFill>
        <p:spPr>
          <a:xfrm>
            <a:off x="556272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787" name="Line 20"/>
          <p:cNvSpPr/>
          <p:nvPr/>
        </p:nvSpPr>
        <p:spPr>
          <a:xfrm flipH="1">
            <a:off x="2209680" y="5029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1"/>
          <p:cNvSpPr/>
          <p:nvPr/>
        </p:nvSpPr>
        <p:spPr>
          <a:xfrm flipH="1">
            <a:off x="2286000" y="4724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4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9"/>
          <p:cNvSpPr/>
          <p:nvPr/>
        </p:nvSpPr>
        <p:spPr>
          <a:xfrm>
            <a:off x="-228600" y="4800600"/>
            <a:ext cx="19810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0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11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12" descr="99"/>
          <p:cNvPicPr/>
          <p:nvPr/>
        </p:nvPicPr>
        <p:blipFill>
          <a:blip r:embed="rId1"/>
          <a:stretch/>
        </p:blipFill>
        <p:spPr>
          <a:xfrm rot="11653800">
            <a:off x="1828440" y="4723560"/>
            <a:ext cx="1714680" cy="924120"/>
          </a:xfrm>
          <a:prstGeom prst="rect">
            <a:avLst/>
          </a:prstGeom>
          <a:ln w="0">
            <a:noFill/>
          </a:ln>
        </p:spPr>
      </p:pic>
      <p:sp>
        <p:nvSpPr>
          <p:cNvPr id="800" name="Oval 13"/>
          <p:cNvSpPr/>
          <p:nvPr/>
        </p:nvSpPr>
        <p:spPr>
          <a:xfrm rot="2296800">
            <a:off x="1447560" y="5105160"/>
            <a:ext cx="303120" cy="322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4"/>
          <p:cNvSpPr/>
          <p:nvPr/>
        </p:nvSpPr>
        <p:spPr>
          <a:xfrm flipH="1">
            <a:off x="1447920" y="4724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5"/>
          <p:cNvSpPr/>
          <p:nvPr/>
        </p:nvSpPr>
        <p:spPr>
          <a:xfrm flipH="1">
            <a:off x="1066680" y="45720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WordArt 16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04" name="WordArt 17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805" name="Picture 18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9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410080" y="0"/>
            <a:ext cx="1524240" cy="1619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0" descr="u=4054640601,1650306011&amp;fm=21&amp;gp=0"/>
          <p:cNvPicPr/>
          <p:nvPr/>
        </p:nvPicPr>
        <p:blipFill>
          <a:blip r:embed="rId4"/>
          <a:stretch/>
        </p:blipFill>
        <p:spPr>
          <a:xfrm>
            <a:off x="22860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21"/>
          <p:cNvSpPr/>
          <p:nvPr/>
        </p:nvSpPr>
        <p:spPr>
          <a:xfrm>
            <a:off x="3505320" y="5105520"/>
            <a:ext cx="76176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22"/>
          <p:cNvSpPr/>
          <p:nvPr/>
        </p:nvSpPr>
        <p:spPr>
          <a:xfrm>
            <a:off x="3505320" y="4800600"/>
            <a:ext cx="961920" cy="914400"/>
          </a:xfrm>
          <a:prstGeom prst="pentagon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3"/>
          <p:cNvSpPr/>
          <p:nvPr/>
        </p:nvSpPr>
        <p:spPr>
          <a:xfrm>
            <a:off x="3657600" y="4724280"/>
            <a:ext cx="1295280" cy="1067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380988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8"/>
          <p:cNvSpPr/>
          <p:nvPr/>
        </p:nvSpPr>
        <p:spPr>
          <a:xfrm>
            <a:off x="3657600" y="46483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9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10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11"/>
          <p:cNvSpPr/>
          <p:nvPr/>
        </p:nvSpPr>
        <p:spPr>
          <a:xfrm rot="2296800">
            <a:off x="2477880" y="4635000"/>
            <a:ext cx="968400" cy="1067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12" descr="99"/>
          <p:cNvPicPr/>
          <p:nvPr/>
        </p:nvPicPr>
        <p:blipFill>
          <a:blip r:embed="rId1"/>
          <a:stretch/>
        </p:blipFill>
        <p:spPr>
          <a:xfrm rot="7502400">
            <a:off x="1281240" y="4357440"/>
            <a:ext cx="1714320" cy="923760"/>
          </a:xfrm>
          <a:prstGeom prst="rect">
            <a:avLst/>
          </a:prstGeom>
          <a:ln w="0">
            <a:noFill/>
          </a:ln>
        </p:spPr>
      </p:pic>
      <p:sp>
        <p:nvSpPr>
          <p:cNvPr id="822" name="Oval 13"/>
          <p:cNvSpPr/>
          <p:nvPr/>
        </p:nvSpPr>
        <p:spPr>
          <a:xfrm rot="2296800">
            <a:off x="2307960" y="4844880"/>
            <a:ext cx="414360" cy="10494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4"/>
          <p:cNvSpPr/>
          <p:nvPr/>
        </p:nvSpPr>
        <p:spPr>
          <a:xfrm>
            <a:off x="0" y="4419720"/>
            <a:ext cx="160020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5"/>
          <p:cNvSpPr/>
          <p:nvPr/>
        </p:nvSpPr>
        <p:spPr>
          <a:xfrm>
            <a:off x="-304920" y="4876920"/>
            <a:ext cx="160020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6"/>
          <p:cNvSpPr/>
          <p:nvPr/>
        </p:nvSpPr>
        <p:spPr>
          <a:xfrm flipH="1">
            <a:off x="837720" y="45720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7"/>
          <p:cNvSpPr/>
          <p:nvPr/>
        </p:nvSpPr>
        <p:spPr>
          <a:xfrm flipH="1">
            <a:off x="838080" y="48006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WordArt 18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28" name="WordArt 19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829" name="Picture 20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15228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22" descr="u=4054640601,1650306011&amp;fm=21&amp;gp=0"/>
          <p:cNvPicPr/>
          <p:nvPr/>
        </p:nvPicPr>
        <p:blipFill>
          <a:blip r:embed="rId3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1" descr="u=4054640601,1650306011&amp;fm=21&amp;gp=0"/>
          <p:cNvPicPr/>
          <p:nvPr/>
        </p:nvPicPr>
        <p:blipFill>
          <a:blip r:embed="rId4"/>
          <a:stretch/>
        </p:blipFill>
        <p:spPr>
          <a:xfrm>
            <a:off x="4660920" y="0"/>
            <a:ext cx="227340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img84683_1"/>
          <p:cNvPicPr/>
          <p:nvPr/>
        </p:nvPicPr>
        <p:blipFill>
          <a:blip r:embed="rId1"/>
          <a:stretch/>
        </p:blipFill>
        <p:spPr>
          <a:xfrm>
            <a:off x="228600" y="1600200"/>
            <a:ext cx="2666880" cy="365760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"/>
          <p:cNvSpPr/>
          <p:nvPr/>
        </p:nvSpPr>
        <p:spPr>
          <a:xfrm>
            <a:off x="1590840" y="457200"/>
            <a:ext cx="67863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3132000" y="260280"/>
            <a:ext cx="5118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3189240" y="457200"/>
            <a:ext cx="59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微草堂笔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纪昀晚年所作的一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文言笔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说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题材以妖怪鬼狐为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但于人事异闻、名物典故等也有记述，内容相当广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3133800" y="4191120"/>
            <a:ext cx="59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四库全书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古今图书为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经、史、子、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档，总名为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四库全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4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5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8"/>
          <p:cNvSpPr/>
          <p:nvPr/>
        </p:nvSpPr>
        <p:spPr>
          <a:xfrm>
            <a:off x="1523880" y="4419720"/>
            <a:ext cx="1067040" cy="1447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9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0"/>
          <p:cNvSpPr/>
          <p:nvPr/>
        </p:nvSpPr>
        <p:spPr>
          <a:xfrm rot="7696800">
            <a:off x="2133720" y="5029200"/>
            <a:ext cx="7617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11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12"/>
          <p:cNvSpPr/>
          <p:nvPr/>
        </p:nvSpPr>
        <p:spPr>
          <a:xfrm rot="2296800">
            <a:off x="1371600" y="4952880"/>
            <a:ext cx="1219320" cy="60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13" descr="99"/>
          <p:cNvPicPr/>
          <p:nvPr/>
        </p:nvPicPr>
        <p:blipFill>
          <a:blip r:embed="rId1"/>
          <a:stretch/>
        </p:blipFill>
        <p:spPr>
          <a:xfrm rot="5203800">
            <a:off x="137880" y="42051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844" name="Line 14"/>
          <p:cNvSpPr/>
          <p:nvPr/>
        </p:nvSpPr>
        <p:spPr>
          <a:xfrm>
            <a:off x="-914400" y="434340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5"/>
          <p:cNvSpPr/>
          <p:nvPr/>
        </p:nvSpPr>
        <p:spPr>
          <a:xfrm>
            <a:off x="-1066680" y="4724280"/>
            <a:ext cx="1447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16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7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WordArt 18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49" name="WordArt 19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850" name="Picture 20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1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3341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22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4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8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9"/>
          <p:cNvSpPr/>
          <p:nvPr/>
        </p:nvSpPr>
        <p:spPr>
          <a:xfrm rot="7696800">
            <a:off x="2209680" y="487656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0"/>
          <p:cNvSpPr/>
          <p:nvPr/>
        </p:nvSpPr>
        <p:spPr>
          <a:xfrm rot="11535000">
            <a:off x="1371240" y="4571640"/>
            <a:ext cx="1035000" cy="762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1"/>
          <p:cNvSpPr/>
          <p:nvPr/>
        </p:nvSpPr>
        <p:spPr>
          <a:xfrm rot="2296800">
            <a:off x="1066320" y="4876920"/>
            <a:ext cx="1219320" cy="609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2"/>
          <p:cNvSpPr/>
          <p:nvPr/>
        </p:nvSpPr>
        <p:spPr>
          <a:xfrm>
            <a:off x="-914400" y="434340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3"/>
          <p:cNvSpPr/>
          <p:nvPr/>
        </p:nvSpPr>
        <p:spPr>
          <a:xfrm>
            <a:off x="-1066680" y="4724280"/>
            <a:ext cx="1447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4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5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16"/>
          <p:cNvSpPr/>
          <p:nvPr/>
        </p:nvSpPr>
        <p:spPr>
          <a:xfrm rot="2296800">
            <a:off x="1294920" y="5257800"/>
            <a:ext cx="60984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17"/>
          <p:cNvSpPr/>
          <p:nvPr/>
        </p:nvSpPr>
        <p:spPr>
          <a:xfrm rot="2296800">
            <a:off x="380880" y="5410080"/>
            <a:ext cx="45720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18" descr="99"/>
          <p:cNvPicPr/>
          <p:nvPr/>
        </p:nvPicPr>
        <p:blipFill>
          <a:blip r:embed="rId1"/>
          <a:stretch/>
        </p:blipFill>
        <p:spPr>
          <a:xfrm rot="3631800">
            <a:off x="-394920" y="42051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870" name="Oval 19"/>
          <p:cNvSpPr/>
          <p:nvPr/>
        </p:nvSpPr>
        <p:spPr>
          <a:xfrm rot="2296800">
            <a:off x="304560" y="5486400"/>
            <a:ext cx="4572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20"/>
          <p:cNvSpPr/>
          <p:nvPr/>
        </p:nvSpPr>
        <p:spPr>
          <a:xfrm rot="2296800">
            <a:off x="-214200" y="4984920"/>
            <a:ext cx="5331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WordArt 21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73" name="WordArt 22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874" name="Picture 23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22860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4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48640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25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2"/>
          <p:cNvSpPr/>
          <p:nvPr/>
        </p:nvSpPr>
        <p:spPr>
          <a:xfrm>
            <a:off x="0" y="2819520"/>
            <a:ext cx="9144000" cy="36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4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5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1219320" y="5105520"/>
            <a:ext cx="84582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"/>
          <p:cNvSpPr/>
          <p:nvPr/>
        </p:nvSpPr>
        <p:spPr>
          <a:xfrm>
            <a:off x="0" y="586728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9"/>
          <p:cNvSpPr/>
          <p:nvPr/>
        </p:nvSpPr>
        <p:spPr>
          <a:xfrm rot="9360600">
            <a:off x="3257280" y="5266800"/>
            <a:ext cx="1228680" cy="3812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10"/>
          <p:cNvSpPr/>
          <p:nvPr/>
        </p:nvSpPr>
        <p:spPr>
          <a:xfrm rot="11535000">
            <a:off x="1371240" y="4952520"/>
            <a:ext cx="1035000" cy="762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11"/>
          <p:cNvSpPr/>
          <p:nvPr/>
        </p:nvSpPr>
        <p:spPr>
          <a:xfrm rot="2296800">
            <a:off x="1425240" y="4584600"/>
            <a:ext cx="1141560" cy="1533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12"/>
          <p:cNvSpPr/>
          <p:nvPr/>
        </p:nvSpPr>
        <p:spPr>
          <a:xfrm>
            <a:off x="-914400" y="434340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3"/>
          <p:cNvSpPr/>
          <p:nvPr/>
        </p:nvSpPr>
        <p:spPr>
          <a:xfrm>
            <a:off x="-1066680" y="4724280"/>
            <a:ext cx="1447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4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15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6"/>
          <p:cNvSpPr/>
          <p:nvPr/>
        </p:nvSpPr>
        <p:spPr>
          <a:xfrm rot="2296800">
            <a:off x="632880" y="5389560"/>
            <a:ext cx="60984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7"/>
          <p:cNvSpPr/>
          <p:nvPr/>
        </p:nvSpPr>
        <p:spPr>
          <a:xfrm rot="2296800">
            <a:off x="46080" y="5595840"/>
            <a:ext cx="45720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18" descr="99"/>
          <p:cNvPicPr/>
          <p:nvPr/>
        </p:nvPicPr>
        <p:blipFill>
          <a:blip r:embed="rId1"/>
          <a:stretch/>
        </p:blipFill>
        <p:spPr>
          <a:xfrm rot="1107000">
            <a:off x="-130320" y="4732200"/>
            <a:ext cx="1641600" cy="885960"/>
          </a:xfrm>
          <a:prstGeom prst="rect">
            <a:avLst/>
          </a:prstGeom>
          <a:ln w="0">
            <a:noFill/>
          </a:ln>
        </p:spPr>
      </p:pic>
      <p:sp>
        <p:nvSpPr>
          <p:cNvPr id="894" name="Oval 19"/>
          <p:cNvSpPr/>
          <p:nvPr/>
        </p:nvSpPr>
        <p:spPr>
          <a:xfrm rot="2296800">
            <a:off x="402840" y="5603760"/>
            <a:ext cx="4572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WordArt 20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6" name="WordArt 21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897" name="Picture 22" descr="u=1981761599,2222145136&amp;fm=21&amp;gp=0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7669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3" descr="u=4054640601,1650306011&amp;fm=21&amp;gp=0"/>
          <p:cNvPicPr/>
          <p:nvPr/>
        </p:nvPicPr>
        <p:blipFill>
          <a:blip r:embed="rId3"/>
          <a:stretch/>
        </p:blipFill>
        <p:spPr>
          <a:xfrm>
            <a:off x="533412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4" descr="u=4054640601,1650306011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900" name="Text Box 4"/>
          <p:cNvSpPr/>
          <p:nvPr/>
        </p:nvSpPr>
        <p:spPr>
          <a:xfrm>
            <a:off x="1609560" y="307800"/>
            <a:ext cx="6419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功的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综合各种现实因素，提出符合实际的结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p_large_bIFW_22dd00002b452d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 txBox="1"/>
          <p:nvPr/>
        </p:nvSpPr>
        <p:spPr>
          <a:xfrm>
            <a:off x="457200" y="6094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故事说明了一个什么道理？文中哪句话揭示了这个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4" descr="18"/>
          <p:cNvPicPr/>
          <p:nvPr/>
        </p:nvPicPr>
        <p:blipFill>
          <a:blip r:embed="rId2"/>
          <a:stretch/>
        </p:blipFill>
        <p:spPr>
          <a:xfrm>
            <a:off x="2124000" y="5715000"/>
            <a:ext cx="7020000" cy="1143000"/>
          </a:xfrm>
          <a:prstGeom prst="rect">
            <a:avLst/>
          </a:prstGeom>
          <a:ln w="0">
            <a:noFill/>
          </a:ln>
        </p:spPr>
      </p:pic>
      <p:sp>
        <p:nvSpPr>
          <p:cNvPr id="904" name="WordArt 5"/>
          <p:cNvSpPr txBox="1"/>
          <p:nvPr/>
        </p:nvSpPr>
        <p:spPr>
          <a:xfrm>
            <a:off x="533520" y="5257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请思考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5" name="Text Box 9"/>
          <p:cNvSpPr/>
          <p:nvPr/>
        </p:nvSpPr>
        <p:spPr>
          <a:xfrm>
            <a:off x="1447920" y="3657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考虑问题不能想当然，没做一件事情之前，不要妄下结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914400" y="2286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然则天下之事，但知其一，不知其二者多矣，可据理臆断欤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12240" y="310680"/>
            <a:ext cx="82803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课文阐述的事理对我们平时的生活、学习有什么启示？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不能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片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地理解，而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全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深入地调查探究事物的特性；更不能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主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臆断，而应当遵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客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事物的规律。同时也诠释了生活学习中要注意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理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联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实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，不可做空头理论家的哲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333440" y="230184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许多自然现象的发生往往有着复杂的原因，我们不能只知其一，不知其二，仅仅根据自己的一知半解就根据常情主观作出判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WordArt 3"/>
          <p:cNvSpPr txBox="1"/>
          <p:nvPr/>
        </p:nvSpPr>
        <p:spPr>
          <a:xfrm>
            <a:off x="3048120" y="685800"/>
            <a:ext cx="2438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文章主旨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1483920"/>
            <a:ext cx="82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读准字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河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铁</a:t>
            </a: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木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欤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814040" y="2263680"/>
            <a:ext cx="9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4137480" y="2190600"/>
            <a:ext cx="5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6747840" y="2282760"/>
            <a:ext cx="12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zh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à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226160" y="3141720"/>
            <a:ext cx="6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4264560" y="3068640"/>
            <a:ext cx="6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7160040" y="3141720"/>
            <a:ext cx="7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f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1"/>
          <p:cNvSpPr/>
          <p:nvPr/>
        </p:nvSpPr>
        <p:spPr>
          <a:xfrm>
            <a:off x="1325160" y="3848040"/>
            <a:ext cx="9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3770640" y="394020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n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7094160" y="3940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x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3745800" y="473220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6775920" y="4732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160020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1568520" y="472428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4920" y="2403000"/>
            <a:ext cx="907416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听课文朗读录音，注意录音中的读音、节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宋体"/>
              </a:rPr>
              <a:t>自主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《河中石兽》" descr=""/>
          <p:cNvPicPr/>
          <p:nvPr/>
        </p:nvPicPr>
        <p:blipFill>
          <a:blip r:embed="rId1"/>
          <a:stretch/>
        </p:blipFill>
        <p:spPr>
          <a:xfrm>
            <a:off x="3984480" y="409896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0057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-50760" y="380880"/>
            <a:ext cx="922032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沧州南一寺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临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山门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 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河，二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沉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十余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岁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僧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金重修，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兽于水中，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可得，以为顺流下矣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数小舟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铁钯，寻十余里无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2666880" y="914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靠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868560" y="90000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河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5791320" y="228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6041880" y="900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倒塌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63360" y="273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2286000" y="2743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"/>
          <p:cNvSpPr/>
          <p:nvPr/>
        </p:nvSpPr>
        <p:spPr>
          <a:xfrm>
            <a:off x="386856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5105520" y="2666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募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7543800" y="2666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274320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终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7848720" y="3473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6821640" y="4572000"/>
            <a:ext cx="22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船桨，这里指划（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1905120" y="4844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1905120" y="5410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拖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4864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踪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57160" y="1687680"/>
            <a:ext cx="36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于此。在这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" descr="p_large_rr63_04a6000191a32d12"/>
          <p:cNvPicPr/>
          <p:nvPr/>
        </p:nvPicPr>
        <p:blipFill>
          <a:blip r:embed="rId1"/>
          <a:stretch/>
        </p:blipFill>
        <p:spPr>
          <a:xfrm>
            <a:off x="0" y="-63360"/>
            <a:ext cx="9671040" cy="72262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506160" y="36360"/>
            <a:ext cx="761508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沧州南一寺临河干，山门 圮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p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于河，二石兽并沉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171360" y="1057320"/>
            <a:ext cx="8836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沧州南边有一座寺庙就在河岸上，寺院的大门倒塌在河中，（门前）两只石兽一起陷入水中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531720" y="1981080"/>
            <a:ext cx="76168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阅十余岁，僧募金重修，求二石兽于水中，竟不可得，以为顺流下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324000" y="3068640"/>
            <a:ext cx="83008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过了十多年，僧人募集资金重新修缮寺庙，在水中寻找石兽，最后还是无法找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就认为石兽顺着河水流到下游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603360" y="4597560"/>
            <a:ext cx="7927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棹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à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小舟，曳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铁钯，寻十余里无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611280" y="5673600"/>
            <a:ext cx="7920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划着几只小船，拖着铁耙，往下游找了十几里地，不见石兽的踪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28600" y="228600"/>
            <a:ext cx="9448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讲学家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设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寺中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闻  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笑曰：“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尔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究   物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非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木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暴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去？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</a:t>
            </a:r>
            <a:r>
              <a:rPr b="1" i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黑体"/>
              </a:rPr>
              <a:t>坚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   沙性</a:t>
            </a:r>
            <a:r>
              <a:rPr b="1" i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黑体"/>
              </a:rPr>
              <a:t>松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沙上，渐沉渐深耳。  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求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亦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乎？”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众服为确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685800" y="685800"/>
            <a:ext cx="30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设馆授徒，即教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3886200" y="609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听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4876920" y="609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顺流打捞石兽这件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7467480" y="609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你们这些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22860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推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584360" y="1447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962520" y="2286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541008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105520" y="2286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木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6172200" y="2286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91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2286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19810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3124080" y="3429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坚硬沉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6705720" y="3505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松散轻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8"/>
          <p:cNvSpPr/>
          <p:nvPr/>
        </p:nvSpPr>
        <p:spPr>
          <a:xfrm>
            <a:off x="83808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ā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6094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埋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36360" y="5638680"/>
            <a:ext cx="25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颠倒，错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2514600" y="5667480"/>
            <a:ext cx="55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众人信服他的话，认为是精当的言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6107040" y="4546440"/>
            <a:ext cx="25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顺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8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269280" cy="71629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684000" y="28440"/>
            <a:ext cx="729756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讲学家设帐寺中，闻之笑曰：“尔辈不能究 物理。是非木杮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èi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16080" y="1112760"/>
            <a:ext cx="84675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一位教书先生在寺中开设学馆教学，听了这件事笑着说： “你们这些人不能推究客观事物的道理。这两尊石兽不是木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934920" y="2629080"/>
            <a:ext cx="8320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岂能为暴涨携之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石性坚重，沙性松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68360" y="3284640"/>
            <a:ext cx="7956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怎么能够被洪水携带走呢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?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只不过石头的性质坚硬沉重，沙子的性质疏松漂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539640" y="4292640"/>
            <a:ext cx="802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湮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ā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于沙上，渐沉渐深耳。沿河求之，不亦颠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服为确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826920" y="5305320"/>
            <a:ext cx="75898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石兽埋没在沙中，逐渐沉到深处罢了。顺着河水寻找它们，不是弄颠倒了吗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大家信服，认为是他的话是精当确切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00:01:00Z</dcterms:created>
  <dc:creator>lx</dc:creator>
  <dc:description/>
  <dc:language>en-US</dc:language>
  <cp:lastModifiedBy>xgh035</cp:lastModifiedBy>
  <dcterms:modified xsi:type="dcterms:W3CDTF">2018-06-04T10:46:55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  <property fmtid="{D5CDD505-2E9C-101B-9397-08002B2CF9AE}" pid="3" name="Version">
    <vt:r8>1</vt:r8>
  </property>
</Properties>
</file>