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2.jpeg" ContentType="image/jpeg"/>
  <Override PartName="/ppt/media/BIRD3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bomb.wav" ContentType="audio/x-wav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6FA-B3B9-413C-BEA5-99D2ABC3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7FE-6343-4AC3-87BF-FEC9A5A8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C01-137C-47D0-80FA-09DBC91F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1C1-8328-4F78-87FC-2F5E2A45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BE56-9440-4926-BF85-54F30D29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8E99-7A39-4026-9535-DAF8C8F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3F1-519F-44FD-89C9-562537DB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EC70-25A0-424C-8471-A36CC703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19C-7C85-46BB-971D-0E10680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B265-F2F3-4999-B11B-E61B7A3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82A5-304A-49ED-95BC-649FCA1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177-B40A-4BE1-AFF8-9BA3B92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60CE-EBCF-42CD-B59C-285FD5E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EDBD-947A-40A1-BFAD-147F57C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454D-D4DC-4556-880B-BC80445B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386-B76A-4BC7-9A9F-095D47DD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138B-C658-4442-BEA6-6206478B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A3D-6CB6-4D2D-9ABD-31FF438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E57-2C26-4D94-8744-F5619C1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C1F-4262-4650-9F0C-2021EAC5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EB6-AD7F-4A11-91CE-83EE64D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C14-2AC0-43D3-90D1-3823C17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3C7-C3BA-40DE-B6A0-735B26A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089-9C02-4F11-946E-8699690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693D-AEE0-4609-8A23-F8AADAB0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427-E978-4778-BC66-6C043EEE0DF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752480" y="144792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楷体"/>
              </a:rPr>
              <a:t>河中石兽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楷体"/>
              <a:ea typeface="楷体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2895480" y="3809880"/>
            <a:ext cx="3048120" cy="1295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纪</a:t>
            </a:r>
            <a:r>
              <a:rPr b="1" lang="en-US" sz="6000" spc="-1" strike="noStrike">
                <a:solidFill>
                  <a:srgbClr val="007a77"/>
                </a:solidFill>
                <a:latin typeface="Times New Roman"/>
                <a:ea typeface="宋体"/>
              </a:rPr>
              <a:t>jǐ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昀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50920" y="76500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一讲学家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寺中，闻之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：“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尔辈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物理，是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非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能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携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之去？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石性</a:t>
            </a:r>
            <a:r>
              <a:rPr b="1" lang="en-US" sz="4400" spc="-1" strike="noStrike">
                <a:solidFill>
                  <a:srgbClr val="dc59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沙性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渐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耳。沿河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不亦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？”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众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9280" y="191628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一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闻之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：“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尔辈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，是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非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能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？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en-US" sz="4400" spc="-1" strike="noStrike">
                <a:solidFill>
                  <a:srgbClr val="dc59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沙性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渐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。沿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不亦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？”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众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533520" y="4572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老河兵闻之，又笑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河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之于上流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水不能冲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反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水处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沙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坎穴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渐激渐深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石之半，石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86280" y="92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凡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失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71680" y="1071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应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143080" y="20718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上下句之间表原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形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坑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等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倾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53352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再啮，石又再转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转转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流逆上矣。求之下流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之地中，不更颠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其言，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于数里外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然则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天下之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臆断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欤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像这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一再翻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于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逆流而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固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依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19920" y="320040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找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既然这样，那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219640" y="541008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主观地判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533520" y="457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老河兵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又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凡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之于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石性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沙性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力，必于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处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沙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渐激渐深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至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石必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68360" y="2997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是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石又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转转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遂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逆上矣。求之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；求之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不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果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然则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知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不知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可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82692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课文，概括寻找石兽的方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257800" y="12952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1628640"/>
          <a:ext cx="7238880" cy="4645080"/>
        </p:xfrm>
        <a:graphic>
          <a:graphicData uri="http://schemas.openxmlformats.org/drawingml/2006/table">
            <a:tbl>
              <a:tblPr/>
              <a:tblGrid>
                <a:gridCol w="1809720"/>
                <a:gridCol w="1542960"/>
                <a:gridCol w="2076480"/>
                <a:gridCol w="1809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  经过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的地点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种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种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种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种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38"/>
          <p:cNvSpPr/>
          <p:nvPr/>
        </p:nvSpPr>
        <p:spPr>
          <a:xfrm>
            <a:off x="3132000" y="2781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3203640" y="3645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4356000" y="364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流而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2916360" y="4437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学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4427640" y="4437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沙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843280" y="5300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河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4839480" y="5373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之于上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6659640" y="51577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果得于数里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6659640" y="4437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失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479808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水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6588000" y="285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可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9"/>
          <p:cNvSpPr/>
          <p:nvPr/>
        </p:nvSpPr>
        <p:spPr>
          <a:xfrm>
            <a:off x="6732720" y="3573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你怎样理解寺僧、讲学家、老河兵这三个人物形象？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寺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“阅十余岁，僧募金重修 ”可见其毅力坚定，但不深思熟虑而盲目行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讲学家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空谈事理，不切合实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老河兵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能综合考虑各种现实因素，提出符合实际的结论，实事求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440" y="837720"/>
            <a:ext cx="827892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老河兵为什么能提出正确的判断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常年在河边劳动，了解水、沙、石等自然事物特性，把理论知识和多年经验结合起来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u=4054640601,1650306011&amp;fm=21&amp;gp=0"/>
          <p:cNvPicPr/>
          <p:nvPr/>
        </p:nvPicPr>
        <p:blipFill>
          <a:blip r:embed="rId1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9"/>
          <p:cNvPicPr/>
          <p:nvPr/>
        </p:nvPicPr>
        <p:blipFill>
          <a:blip r:embed="rId2"/>
          <a:stretch/>
        </p:blipFill>
        <p:spPr>
          <a:xfrm rot="20418600">
            <a:off x="6019920" y="83808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194" name="Line 5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02" name="Picture 12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8611 L -0.00052 0.41945 E">
                                      <p:cBhvr>
                                        <p:cTn id="485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1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5" name="Picture 3" descr="99"/>
          <p:cNvPicPr/>
          <p:nvPr/>
        </p:nvPicPr>
        <p:blipFill>
          <a:blip r:embed="rId1"/>
          <a:stretch/>
        </p:blipFill>
        <p:spPr>
          <a:xfrm rot="20470200">
            <a:off x="5866920" y="3886200"/>
            <a:ext cx="924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207" name="Line 4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43000" y="4267080"/>
            <a:ext cx="3733920" cy="360"/>
            <a:chOff x="1143000" y="4267080"/>
            <a:chExt cx="3733920" cy="360"/>
          </a:xfrm>
        </p:grpSpPr>
        <p:sp>
          <p:nvSpPr>
            <p:cNvPr id="210" name="Line 5"/>
            <p:cNvSpPr/>
            <p:nvPr/>
          </p:nvSpPr>
          <p:spPr>
            <a:xfrm>
              <a:off x="114300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14300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2280" y="4724280"/>
            <a:ext cx="5105520" cy="360"/>
            <a:chOff x="152280" y="4724280"/>
            <a:chExt cx="5105520" cy="360"/>
          </a:xfrm>
        </p:grpSpPr>
        <p:sp>
          <p:nvSpPr>
            <p:cNvPr id="213" name="Line 6"/>
            <p:cNvSpPr/>
            <p:nvPr/>
          </p:nvSpPr>
          <p:spPr>
            <a:xfrm>
              <a:off x="152280" y="472428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52280" y="472428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216" name="Line 7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8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3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24" name="Picture 14" descr="u=4054640601,1650306011&amp;fm=21&amp;gp=0"/>
          <p:cNvPicPr/>
          <p:nvPr/>
        </p:nvPicPr>
        <p:blipFill>
          <a:blip r:embed="rId2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8" name="Picture 3" descr="99"/>
          <p:cNvPicPr/>
          <p:nvPr/>
        </p:nvPicPr>
        <p:blipFill>
          <a:blip r:embed="rId1"/>
          <a:stretch/>
        </p:blipFill>
        <p:spPr>
          <a:xfrm rot="20502000">
            <a:off x="6019560" y="3885840"/>
            <a:ext cx="9237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230" name="Line 4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43000" y="4267080"/>
            <a:ext cx="3733920" cy="360"/>
            <a:chOff x="1143000" y="4267080"/>
            <a:chExt cx="3733920" cy="360"/>
          </a:xfrm>
        </p:grpSpPr>
        <p:sp>
          <p:nvSpPr>
            <p:cNvPr id="233" name="Line 5"/>
            <p:cNvSpPr/>
            <p:nvPr/>
          </p:nvSpPr>
          <p:spPr>
            <a:xfrm>
              <a:off x="114300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14300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52280" y="4724280"/>
            <a:ext cx="5105520" cy="360"/>
            <a:chOff x="152280" y="4724280"/>
            <a:chExt cx="5105520" cy="360"/>
          </a:xfrm>
        </p:grpSpPr>
        <p:sp>
          <p:nvSpPr>
            <p:cNvPr id="236" name="Line 6"/>
            <p:cNvSpPr/>
            <p:nvPr/>
          </p:nvSpPr>
          <p:spPr>
            <a:xfrm>
              <a:off x="152280" y="472428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52280" y="472428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239" name="Line 7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1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4267080" y="487692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7010280" y="480060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47" name="Picture 14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5562720" y="4648320"/>
            <a:ext cx="457200" cy="609480"/>
            <a:chOff x="5562720" y="4648320"/>
            <a:chExt cx="457200" cy="609480"/>
          </a:xfrm>
        </p:grpSpPr>
        <p:sp>
          <p:nvSpPr>
            <p:cNvPr id="251" name="Line 17"/>
            <p:cNvSpPr/>
            <p:nvPr/>
          </p:nvSpPr>
          <p:spPr>
            <a:xfrm flipH="1">
              <a:off x="5562720" y="4648320"/>
              <a:ext cx="457200" cy="60948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5562720" y="46483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86400" y="4267080"/>
            <a:ext cx="457200" cy="609840"/>
            <a:chOff x="5486400" y="4267080"/>
            <a:chExt cx="457200" cy="609840"/>
          </a:xfrm>
        </p:grpSpPr>
        <p:sp>
          <p:nvSpPr>
            <p:cNvPr id="254" name="Line 18"/>
            <p:cNvSpPr/>
            <p:nvPr/>
          </p:nvSpPr>
          <p:spPr>
            <a:xfrm flipH="1">
              <a:off x="5486400" y="4267080"/>
              <a:ext cx="457200" cy="60984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5486400" y="42670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785520"/>
            <a:ext cx="469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楷体"/>
                <a:ea typeface="楷体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借助注释和工具书阅读课文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文章内容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够用自己的话讲述寻找石兽的故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理解课文中心内容，把握课文所阐述的事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实践出真知的道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258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4267080"/>
            <a:ext cx="3733920" cy="360"/>
            <a:chOff x="1143000" y="4267080"/>
            <a:chExt cx="3733920" cy="360"/>
          </a:xfrm>
        </p:grpSpPr>
        <p:sp>
          <p:nvSpPr>
            <p:cNvPr id="261" name="Line 4"/>
            <p:cNvSpPr/>
            <p:nvPr/>
          </p:nvSpPr>
          <p:spPr>
            <a:xfrm>
              <a:off x="114300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14300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264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9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-1219320" y="4800600"/>
            <a:ext cx="5105520" cy="360"/>
            <a:chOff x="-1219320" y="4800600"/>
            <a:chExt cx="5105520" cy="360"/>
          </a:xfrm>
        </p:grpSpPr>
        <p:sp>
          <p:nvSpPr>
            <p:cNvPr id="271" name="Line 10"/>
            <p:cNvSpPr/>
            <p:nvPr/>
          </p:nvSpPr>
          <p:spPr>
            <a:xfrm>
              <a:off x="-1219320" y="480060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-1219320" y="480060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3" name="Oval 11"/>
          <p:cNvSpPr/>
          <p:nvPr/>
        </p:nvSpPr>
        <p:spPr>
          <a:xfrm rot="21073800">
            <a:off x="6095880" y="480024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 rot="21073800">
            <a:off x="3873600" y="5257800"/>
            <a:ext cx="12189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 rot="1768800">
            <a:off x="6019920" y="4876560"/>
            <a:ext cx="121896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78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283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43000" y="4267080"/>
            <a:ext cx="3733920" cy="360"/>
            <a:chOff x="1143000" y="4267080"/>
            <a:chExt cx="3733920" cy="360"/>
          </a:xfrm>
        </p:grpSpPr>
        <p:sp>
          <p:nvSpPr>
            <p:cNvPr id="286" name="Line 4"/>
            <p:cNvSpPr/>
            <p:nvPr/>
          </p:nvSpPr>
          <p:spPr>
            <a:xfrm>
              <a:off x="114300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14300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289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1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4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295" name="Oval 10"/>
          <p:cNvSpPr/>
          <p:nvPr/>
        </p:nvSpPr>
        <p:spPr>
          <a:xfrm>
            <a:off x="2971800" y="4495680"/>
            <a:ext cx="13716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Oval 11"/>
          <p:cNvSpPr/>
          <p:nvPr/>
        </p:nvSpPr>
        <p:spPr>
          <a:xfrm rot="20733000">
            <a:off x="5714640" y="4648320"/>
            <a:ext cx="1752480" cy="103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1066680" y="4724280"/>
            <a:ext cx="5105160" cy="360"/>
            <a:chOff x="-1066680" y="4724280"/>
            <a:chExt cx="5105160" cy="360"/>
          </a:xfrm>
        </p:grpSpPr>
        <p:sp>
          <p:nvSpPr>
            <p:cNvPr id="298" name="Line 12"/>
            <p:cNvSpPr/>
            <p:nvPr/>
          </p:nvSpPr>
          <p:spPr>
            <a:xfrm>
              <a:off x="-1066680" y="4724280"/>
              <a:ext cx="510516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-1066680" y="472428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0" name="Oval 13"/>
          <p:cNvSpPr/>
          <p:nvPr/>
        </p:nvSpPr>
        <p:spPr>
          <a:xfrm>
            <a:off x="3809880" y="5334120"/>
            <a:ext cx="1478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2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3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3962160" y="5105520"/>
            <a:ext cx="228960" cy="152280"/>
            <a:chOff x="3962160" y="5105520"/>
            <a:chExt cx="228960" cy="152280"/>
          </a:xfrm>
        </p:grpSpPr>
        <p:sp>
          <p:nvSpPr>
            <p:cNvPr id="307" name="Line 19"/>
            <p:cNvSpPr/>
            <p:nvPr/>
          </p:nvSpPr>
          <p:spPr>
            <a:xfrm flipH="1">
              <a:off x="3962160" y="5105520"/>
              <a:ext cx="228600" cy="15228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3962520" y="51055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581280" y="4800600"/>
            <a:ext cx="609840" cy="304920"/>
            <a:chOff x="3581280" y="4800600"/>
            <a:chExt cx="609840" cy="304920"/>
          </a:xfrm>
        </p:grpSpPr>
        <p:sp>
          <p:nvSpPr>
            <p:cNvPr id="310" name="Line 20"/>
            <p:cNvSpPr/>
            <p:nvPr/>
          </p:nvSpPr>
          <p:spPr>
            <a:xfrm flipH="1">
              <a:off x="3581280" y="4800600"/>
              <a:ext cx="609840" cy="30492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581280" y="480060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314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-609480" y="4267080"/>
            <a:ext cx="3733560" cy="360"/>
            <a:chOff x="-609480" y="4267080"/>
            <a:chExt cx="3733560" cy="360"/>
          </a:xfrm>
        </p:grpSpPr>
        <p:sp>
          <p:nvSpPr>
            <p:cNvPr id="317" name="Line 4"/>
            <p:cNvSpPr/>
            <p:nvPr/>
          </p:nvSpPr>
          <p:spPr>
            <a:xfrm>
              <a:off x="-609480" y="4267080"/>
              <a:ext cx="373356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-609480" y="4267080"/>
              <a:ext cx="37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320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2552760" y="4876920"/>
            <a:ext cx="5105520" cy="360"/>
            <a:chOff x="-2552760" y="4876920"/>
            <a:chExt cx="5105520" cy="360"/>
          </a:xfrm>
        </p:grpSpPr>
        <p:sp>
          <p:nvSpPr>
            <p:cNvPr id="326" name="Line 9"/>
            <p:cNvSpPr/>
            <p:nvPr/>
          </p:nvSpPr>
          <p:spPr>
            <a:xfrm>
              <a:off x="-2552760" y="487692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-2552760" y="487692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328" name="Picture 10" descr="99"/>
          <p:cNvPicPr/>
          <p:nvPr/>
        </p:nvPicPr>
        <p:blipFill>
          <a:blip r:embed="rId1"/>
          <a:stretch/>
        </p:blipFill>
        <p:spPr>
          <a:xfrm rot="17391600">
            <a:off x="2881080" y="44337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29" name="Oval 11"/>
          <p:cNvSpPr/>
          <p:nvPr/>
        </p:nvSpPr>
        <p:spPr>
          <a:xfrm rot="8533200">
            <a:off x="3580920" y="5028480"/>
            <a:ext cx="13716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Oval 13"/>
          <p:cNvSpPr/>
          <p:nvPr/>
        </p:nvSpPr>
        <p:spPr>
          <a:xfrm rot="7696800">
            <a:off x="243828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800600" y="4343400"/>
            <a:ext cx="3809880" cy="360"/>
            <a:chOff x="4800600" y="4343400"/>
            <a:chExt cx="3809880" cy="360"/>
          </a:xfrm>
        </p:grpSpPr>
        <p:sp>
          <p:nvSpPr>
            <p:cNvPr id="333" name="Line 14"/>
            <p:cNvSpPr/>
            <p:nvPr/>
          </p:nvSpPr>
          <p:spPr>
            <a:xfrm>
              <a:off x="4800600" y="4343400"/>
              <a:ext cx="3809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800600" y="4343400"/>
              <a:ext cx="38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5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6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37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342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-1866960" y="4419720"/>
            <a:ext cx="3733920" cy="360"/>
            <a:chOff x="-1866960" y="4419720"/>
            <a:chExt cx="3733920" cy="360"/>
          </a:xfrm>
        </p:grpSpPr>
        <p:sp>
          <p:nvSpPr>
            <p:cNvPr id="345" name="Line 4"/>
            <p:cNvSpPr/>
            <p:nvPr/>
          </p:nvSpPr>
          <p:spPr>
            <a:xfrm>
              <a:off x="-1866960" y="441972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-1866960" y="441972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348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3" name="Picture 9" descr="99"/>
          <p:cNvPicPr/>
          <p:nvPr/>
        </p:nvPicPr>
        <p:blipFill>
          <a:blip r:embed="rId1"/>
          <a:stretch/>
        </p:blipFill>
        <p:spPr>
          <a:xfrm rot="14756400">
            <a:off x="2500200" y="435744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354" name="Oval 10"/>
          <p:cNvSpPr/>
          <p:nvPr/>
        </p:nvSpPr>
        <p:spPr>
          <a:xfrm rot="9360600">
            <a:off x="3701160" y="4882320"/>
            <a:ext cx="16002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 rot="11535000">
            <a:off x="1515600" y="486684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 rot="2296800">
            <a:off x="3657240" y="4952880"/>
            <a:ext cx="114300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-2971800" y="4876920"/>
            <a:ext cx="5105520" cy="360"/>
            <a:chOff x="-2971800" y="4876920"/>
            <a:chExt cx="5105520" cy="360"/>
          </a:xfrm>
        </p:grpSpPr>
        <p:sp>
          <p:nvSpPr>
            <p:cNvPr id="359" name="Line 14"/>
            <p:cNvSpPr/>
            <p:nvPr/>
          </p:nvSpPr>
          <p:spPr>
            <a:xfrm>
              <a:off x="-2971800" y="487692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-2971800" y="487692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1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63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09680" y="5029200"/>
            <a:ext cx="533520" cy="380880"/>
            <a:chOff x="2209680" y="5029200"/>
            <a:chExt cx="533520" cy="380880"/>
          </a:xfrm>
        </p:grpSpPr>
        <p:sp>
          <p:nvSpPr>
            <p:cNvPr id="367" name="Line 20"/>
            <p:cNvSpPr/>
            <p:nvPr/>
          </p:nvSpPr>
          <p:spPr>
            <a:xfrm flipH="1">
              <a:off x="2209680" y="5029200"/>
              <a:ext cx="533520" cy="38088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2209680" y="502920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286000" y="4724280"/>
            <a:ext cx="457200" cy="381240"/>
            <a:chOff x="2286000" y="4724280"/>
            <a:chExt cx="457200" cy="381240"/>
          </a:xfrm>
        </p:grpSpPr>
        <p:sp>
          <p:nvSpPr>
            <p:cNvPr id="370" name="Line 21"/>
            <p:cNvSpPr/>
            <p:nvPr/>
          </p:nvSpPr>
          <p:spPr>
            <a:xfrm flipH="1">
              <a:off x="2286000" y="4724280"/>
              <a:ext cx="457200" cy="38124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286000" y="47242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374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143000" y="4267080"/>
            <a:ext cx="3733920" cy="360"/>
            <a:chOff x="1143000" y="4267080"/>
            <a:chExt cx="3733920" cy="360"/>
          </a:xfrm>
        </p:grpSpPr>
        <p:sp>
          <p:nvSpPr>
            <p:cNvPr id="377" name="Line 4"/>
            <p:cNvSpPr/>
            <p:nvPr/>
          </p:nvSpPr>
          <p:spPr>
            <a:xfrm>
              <a:off x="114300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4300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380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2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228600" y="4800600"/>
            <a:ext cx="1981080" cy="360"/>
            <a:chOff x="-228600" y="4800600"/>
            <a:chExt cx="1981080" cy="360"/>
          </a:xfrm>
        </p:grpSpPr>
        <p:sp>
          <p:nvSpPr>
            <p:cNvPr id="386" name="Line 9"/>
            <p:cNvSpPr/>
            <p:nvPr/>
          </p:nvSpPr>
          <p:spPr>
            <a:xfrm>
              <a:off x="-228600" y="4800600"/>
              <a:ext cx="19810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-228600" y="48006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8" name="Oval 10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0" name="Picture 12" descr="99"/>
          <p:cNvPicPr/>
          <p:nvPr/>
        </p:nvPicPr>
        <p:blipFill>
          <a:blip r:embed="rId1"/>
          <a:stretch/>
        </p:blipFill>
        <p:spPr>
          <a:xfrm rot="11653800">
            <a:off x="1828440" y="4723560"/>
            <a:ext cx="1714680" cy="924120"/>
          </a:xfrm>
          <a:prstGeom prst="rect">
            <a:avLst/>
          </a:prstGeom>
          <a:ln w="0">
            <a:noFill/>
          </a:ln>
        </p:spPr>
      </p:pic>
      <p:sp>
        <p:nvSpPr>
          <p:cNvPr id="391" name="Oval 13"/>
          <p:cNvSpPr/>
          <p:nvPr/>
        </p:nvSpPr>
        <p:spPr>
          <a:xfrm rot="2296800">
            <a:off x="1447560" y="5105160"/>
            <a:ext cx="303120" cy="322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447920" y="4724280"/>
            <a:ext cx="380880" cy="304920"/>
            <a:chOff x="1447920" y="4724280"/>
            <a:chExt cx="380880" cy="304920"/>
          </a:xfrm>
        </p:grpSpPr>
        <p:sp>
          <p:nvSpPr>
            <p:cNvPr id="393" name="Line 14"/>
            <p:cNvSpPr/>
            <p:nvPr/>
          </p:nvSpPr>
          <p:spPr>
            <a:xfrm flipH="1">
              <a:off x="1447920" y="4724280"/>
              <a:ext cx="380880" cy="30492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1447920" y="472428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066680" y="4572000"/>
            <a:ext cx="609840" cy="533520"/>
            <a:chOff x="1066680" y="4572000"/>
            <a:chExt cx="609840" cy="533520"/>
          </a:xfrm>
        </p:grpSpPr>
        <p:sp>
          <p:nvSpPr>
            <p:cNvPr id="396" name="Line 15"/>
            <p:cNvSpPr/>
            <p:nvPr/>
          </p:nvSpPr>
          <p:spPr>
            <a:xfrm flipH="1">
              <a:off x="1066680" y="4572000"/>
              <a:ext cx="609840" cy="53352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066680" y="45720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8" name="WordArt 16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9" name="WordArt 17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00" name="Picture 18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9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0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1"/>
          <p:cNvSpPr/>
          <p:nvPr/>
        </p:nvSpPr>
        <p:spPr>
          <a:xfrm>
            <a:off x="3505320" y="5105520"/>
            <a:ext cx="76176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3505320" y="4800600"/>
            <a:ext cx="961920" cy="914400"/>
          </a:xfrm>
          <a:prstGeom prst="pentagon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Oval 23"/>
          <p:cNvSpPr/>
          <p:nvPr/>
        </p:nvSpPr>
        <p:spPr>
          <a:xfrm>
            <a:off x="3657600" y="4724280"/>
            <a:ext cx="129528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408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09880" y="4267080"/>
            <a:ext cx="3733920" cy="360"/>
            <a:chOff x="3809880" y="4267080"/>
            <a:chExt cx="3733920" cy="360"/>
          </a:xfrm>
        </p:grpSpPr>
        <p:sp>
          <p:nvSpPr>
            <p:cNvPr id="411" name="Line 4"/>
            <p:cNvSpPr/>
            <p:nvPr/>
          </p:nvSpPr>
          <p:spPr>
            <a:xfrm>
              <a:off x="3809880" y="426708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809880" y="426708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914400" y="3809880"/>
            <a:ext cx="4952880" cy="360"/>
            <a:chOff x="914400" y="3809880"/>
            <a:chExt cx="4952880" cy="360"/>
          </a:xfrm>
        </p:grpSpPr>
        <p:sp>
          <p:nvSpPr>
            <p:cNvPr id="414" name="Line 5"/>
            <p:cNvSpPr/>
            <p:nvPr/>
          </p:nvSpPr>
          <p:spPr>
            <a:xfrm>
              <a:off x="9144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9144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657600" y="4648320"/>
            <a:ext cx="5105520" cy="360"/>
            <a:chOff x="3657600" y="4648320"/>
            <a:chExt cx="5105520" cy="360"/>
          </a:xfrm>
        </p:grpSpPr>
        <p:sp>
          <p:nvSpPr>
            <p:cNvPr id="419" name="Line 8"/>
            <p:cNvSpPr/>
            <p:nvPr/>
          </p:nvSpPr>
          <p:spPr>
            <a:xfrm>
              <a:off x="3657600" y="4648320"/>
              <a:ext cx="51055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657600" y="464832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21" name="Oval 9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 rot="2296800">
            <a:off x="2477880" y="4635000"/>
            <a:ext cx="96840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4" name="Picture 12" descr="99"/>
          <p:cNvPicPr/>
          <p:nvPr/>
        </p:nvPicPr>
        <p:blipFill>
          <a:blip r:embed="rId1"/>
          <a:stretch/>
        </p:blipFill>
        <p:spPr>
          <a:xfrm rot="7502400">
            <a:off x="1281240" y="4357440"/>
            <a:ext cx="1714320" cy="923760"/>
          </a:xfrm>
          <a:prstGeom prst="rect">
            <a:avLst/>
          </a:prstGeom>
          <a:ln w="0">
            <a:noFill/>
          </a:ln>
        </p:spPr>
      </p:pic>
      <p:sp>
        <p:nvSpPr>
          <p:cNvPr id="425" name="Oval 13"/>
          <p:cNvSpPr/>
          <p:nvPr/>
        </p:nvSpPr>
        <p:spPr>
          <a:xfrm rot="2296800">
            <a:off x="2307960" y="4844880"/>
            <a:ext cx="414360" cy="1049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0" y="4419720"/>
            <a:ext cx="1600200" cy="360"/>
            <a:chOff x="0" y="4419720"/>
            <a:chExt cx="1600200" cy="360"/>
          </a:xfrm>
        </p:grpSpPr>
        <p:sp>
          <p:nvSpPr>
            <p:cNvPr id="427" name="Line 14"/>
            <p:cNvSpPr/>
            <p:nvPr/>
          </p:nvSpPr>
          <p:spPr>
            <a:xfrm>
              <a:off x="0" y="4419720"/>
              <a:ext cx="160020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0" y="4419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304920" y="4876920"/>
            <a:ext cx="1600200" cy="360"/>
            <a:chOff x="-304920" y="4876920"/>
            <a:chExt cx="1600200" cy="360"/>
          </a:xfrm>
        </p:grpSpPr>
        <p:sp>
          <p:nvSpPr>
            <p:cNvPr id="430" name="Line 15"/>
            <p:cNvSpPr/>
            <p:nvPr/>
          </p:nvSpPr>
          <p:spPr>
            <a:xfrm>
              <a:off x="-304920" y="4876920"/>
              <a:ext cx="160020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-304920" y="48769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837720" y="4572000"/>
            <a:ext cx="762480" cy="380880"/>
            <a:chOff x="837720" y="4572000"/>
            <a:chExt cx="762480" cy="380880"/>
          </a:xfrm>
        </p:grpSpPr>
        <p:sp>
          <p:nvSpPr>
            <p:cNvPr id="433" name="Line 16"/>
            <p:cNvSpPr/>
            <p:nvPr/>
          </p:nvSpPr>
          <p:spPr>
            <a:xfrm flipH="1">
              <a:off x="837720" y="4572000"/>
              <a:ext cx="762120" cy="38088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838080" y="45720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38080" y="4800600"/>
            <a:ext cx="533520" cy="228600"/>
            <a:chOff x="838080" y="4800600"/>
            <a:chExt cx="533520" cy="228600"/>
          </a:xfrm>
        </p:grpSpPr>
        <p:sp>
          <p:nvSpPr>
            <p:cNvPr id="436" name="Line 17"/>
            <p:cNvSpPr/>
            <p:nvPr/>
          </p:nvSpPr>
          <p:spPr>
            <a:xfrm flipH="1">
              <a:off x="838080" y="4800600"/>
              <a:ext cx="533520" cy="22860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838080" y="48006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8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9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40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1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2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5105520"/>
            <a:ext cx="9144000" cy="360"/>
            <a:chOff x="0" y="5105520"/>
            <a:chExt cx="9144000" cy="360"/>
          </a:xfrm>
        </p:grpSpPr>
        <p:sp>
          <p:nvSpPr>
            <p:cNvPr id="445" name="Line 3"/>
            <p:cNvSpPr/>
            <p:nvPr/>
          </p:nvSpPr>
          <p:spPr>
            <a:xfrm>
              <a:off x="0" y="5105520"/>
              <a:ext cx="914400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0" y="5105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809880" y="4191120"/>
            <a:ext cx="3733920" cy="360"/>
            <a:chOff x="3809880" y="4191120"/>
            <a:chExt cx="3733920" cy="360"/>
          </a:xfrm>
        </p:grpSpPr>
        <p:sp>
          <p:nvSpPr>
            <p:cNvPr id="448" name="Line 4"/>
            <p:cNvSpPr/>
            <p:nvPr/>
          </p:nvSpPr>
          <p:spPr>
            <a:xfrm>
              <a:off x="3809880" y="4191120"/>
              <a:ext cx="3733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3809880" y="4191120"/>
              <a:ext cx="373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657600" y="3809880"/>
            <a:ext cx="4952880" cy="360"/>
            <a:chOff x="3657600" y="3809880"/>
            <a:chExt cx="4952880" cy="360"/>
          </a:xfrm>
        </p:grpSpPr>
        <p:sp>
          <p:nvSpPr>
            <p:cNvPr id="451" name="Line 5"/>
            <p:cNvSpPr/>
            <p:nvPr/>
          </p:nvSpPr>
          <p:spPr>
            <a:xfrm>
              <a:off x="3657600" y="3809880"/>
              <a:ext cx="495288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657600" y="380988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53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1523880" y="4419720"/>
            <a:ext cx="1067040" cy="1447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133720" y="4572000"/>
            <a:ext cx="5105160" cy="360"/>
            <a:chOff x="2133720" y="4572000"/>
            <a:chExt cx="5105160" cy="360"/>
          </a:xfrm>
        </p:grpSpPr>
        <p:sp>
          <p:nvSpPr>
            <p:cNvPr id="457" name="Line 9"/>
            <p:cNvSpPr/>
            <p:nvPr/>
          </p:nvSpPr>
          <p:spPr>
            <a:xfrm>
              <a:off x="2133720" y="4572000"/>
              <a:ext cx="510516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2133720" y="457200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59" name="Oval 10"/>
          <p:cNvSpPr/>
          <p:nvPr/>
        </p:nvSpPr>
        <p:spPr>
          <a:xfrm rot="7696800">
            <a:off x="2133720" y="5029200"/>
            <a:ext cx="7617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Oval 12"/>
          <p:cNvSpPr/>
          <p:nvPr/>
        </p:nvSpPr>
        <p:spPr>
          <a:xfrm rot="2296800">
            <a:off x="1371600" y="4952880"/>
            <a:ext cx="121932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2" name="Picture 13" descr="99"/>
          <p:cNvPicPr/>
          <p:nvPr/>
        </p:nvPicPr>
        <p:blipFill>
          <a:blip r:embed="rId1"/>
          <a:stretch/>
        </p:blipFill>
        <p:spPr>
          <a:xfrm rot="5203800">
            <a:off x="137880" y="4205160"/>
            <a:ext cx="1714680" cy="92376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-914400" y="4343400"/>
            <a:ext cx="1447920" cy="360"/>
            <a:chOff x="-914400" y="4343400"/>
            <a:chExt cx="1447920" cy="360"/>
          </a:xfrm>
        </p:grpSpPr>
        <p:sp>
          <p:nvSpPr>
            <p:cNvPr id="464" name="Line 14"/>
            <p:cNvSpPr/>
            <p:nvPr/>
          </p:nvSpPr>
          <p:spPr>
            <a:xfrm>
              <a:off x="-914400" y="4343400"/>
              <a:ext cx="144792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-914400" y="43434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-1066680" y="4724280"/>
            <a:ext cx="1447560" cy="360"/>
            <a:chOff x="-1066680" y="4724280"/>
            <a:chExt cx="1447560" cy="360"/>
          </a:xfrm>
        </p:grpSpPr>
        <p:sp>
          <p:nvSpPr>
            <p:cNvPr id="467" name="Line 15"/>
            <p:cNvSpPr/>
            <p:nvPr/>
          </p:nvSpPr>
          <p:spPr>
            <a:xfrm>
              <a:off x="-1066680" y="4724280"/>
              <a:ext cx="1447560" cy="0"/>
            </a:xfrm>
            <a:prstGeom prst="line">
              <a:avLst/>
            </a:prstGeom>
            <a:ln w="38160">
              <a:solidFill>
                <a:srgbClr val="66cc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-1066680" y="472428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0" y="4419720"/>
            <a:ext cx="533520" cy="457200"/>
            <a:chOff x="0" y="4419720"/>
            <a:chExt cx="533520" cy="457200"/>
          </a:xfrm>
        </p:grpSpPr>
        <p:sp>
          <p:nvSpPr>
            <p:cNvPr id="470" name="Line 16"/>
            <p:cNvSpPr/>
            <p:nvPr/>
          </p:nvSpPr>
          <p:spPr>
            <a:xfrm flipH="1">
              <a:off x="0" y="4419720"/>
              <a:ext cx="533520" cy="45720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0" y="44197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51920" y="4724280"/>
            <a:ext cx="305280" cy="304920"/>
            <a:chOff x="151920" y="4724280"/>
            <a:chExt cx="305280" cy="304920"/>
          </a:xfrm>
        </p:grpSpPr>
        <p:sp>
          <p:nvSpPr>
            <p:cNvPr id="473" name="Line 17"/>
            <p:cNvSpPr/>
            <p:nvPr/>
          </p:nvSpPr>
          <p:spPr>
            <a:xfrm flipH="1">
              <a:off x="151920" y="4724280"/>
              <a:ext cx="304920" cy="30492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152280" y="47242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5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77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1" descr="u=4054640601,1650306011&amp;fm=21&amp;gp=0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2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-80964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隶书"/>
              </a:rPr>
              <a:t>细节描写增加文章的可读性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4000" y="1483920"/>
            <a:ext cx="85183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讲学家的“笑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包含了讲学家对寺僧的嘲讽和一种自信，刻画出讲学家自恃博才的心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老河兵的“笑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流露出了老河兵对讲学家自恃博才的一种否定，也表现出老河兵的自信和沾沾自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故事说明了一个什么道理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许多自然现象的发生往往有着复杂的原因，我们不能只知其一，不知其二，仅仅根据自己的一知半解，就主观臆断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要根据实际情况做出判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78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022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ee022f"/>
                </a:solidFill>
                <a:latin typeface="楷体_GB2312"/>
                <a:ea typeface="楷体_GB2312"/>
              </a:rPr>
              <a:t>本文阐述的事理对我们平时的生活、学习有什么启示</a:t>
            </a:r>
            <a:r>
              <a:rPr b="1" lang="en-US" sz="4000" spc="-1" strike="noStrike">
                <a:solidFill>
                  <a:srgbClr val="ee022f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9280" y="1989000"/>
            <a:ext cx="830268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生活学习中要注意理论联系实际，不能片面地理解</a:t>
            </a:r>
            <a:r>
              <a:rPr b="0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而要全面深入地调查探究事物的特性；更不能主观臆断，</a:t>
            </a:r>
            <a:r>
              <a:rPr b="0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而应当遵循客观事物的规律，不做空头理论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49910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纪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1628640"/>
            <a:ext cx="52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纪昀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724-180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，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晓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一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春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晚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石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道号观弈道人。清代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文学家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卒后谥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文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四库全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总纂官，著有文言笔记小说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阅微草堂笔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图片 16" descr="30091297443031705.jpg"/>
          <p:cNvPicPr/>
          <p:nvPr/>
        </p:nvPicPr>
        <p:blipFill>
          <a:blip r:embed="rId1"/>
          <a:stretch/>
        </p:blipFill>
        <p:spPr>
          <a:xfrm>
            <a:off x="5651640" y="620640"/>
            <a:ext cx="2685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12408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1240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4100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2193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124080" y="2362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50292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不潮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2193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289548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5410080" y="2971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10666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362320" y="3657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502920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一门学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1295280" y="44197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1240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464832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表判断的动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1371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30481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548640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已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笑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顺流而下寻找石兽这件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石兽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讲学家的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于上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石头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99072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地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石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  <a:ea typeface="楷体_GB2312"/>
              </a:rPr>
              <a:t>课内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文围绕寻找河中石兽这一线索，在前三段通过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寺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讲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老河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寻找石兽的不同见解的叙述，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寓理于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在文末以议论的方式点明自己的观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说明了任何事都不能主观臆断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实践出真知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希望我们遇事要多动脑筋，分析各方面的因素，不做空头理论家，少闹和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讲学家一样的笑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49910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纪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8920" y="1628640"/>
            <a:ext cx="52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纪昀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724-180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，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一字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晚号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道号观弈道人。清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卒后谥号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四库全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总纂官，著有文言笔记小说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《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______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图片 16" descr="30091297443031705.jpg"/>
          <p:cNvPicPr/>
          <p:nvPr/>
        </p:nvPicPr>
        <p:blipFill>
          <a:blip r:embed="rId1"/>
          <a:stretch/>
        </p:blipFill>
        <p:spPr>
          <a:xfrm>
            <a:off x="5651640" y="620640"/>
            <a:ext cx="2685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0241"/>
          <p:cNvSpPr/>
          <p:nvPr/>
        </p:nvSpPr>
        <p:spPr>
          <a:xfrm>
            <a:off x="167652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矩形 10242"/>
          <p:cNvSpPr/>
          <p:nvPr/>
        </p:nvSpPr>
        <p:spPr>
          <a:xfrm>
            <a:off x="1042920" y="685800"/>
            <a:ext cx="7186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矩形 10243"/>
          <p:cNvSpPr/>
          <p:nvPr/>
        </p:nvSpPr>
        <p:spPr>
          <a:xfrm>
            <a:off x="971640" y="907920"/>
            <a:ext cx="711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5F_x000B__x005F_x000C_"/>
              </a:rPr>
              <a:t>《阅微草堂笔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纪昀晚年所作的一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文言笔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5F_x000B__x005F_x000C_"/>
              </a:rPr>
              <a:t>以记述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_x005F_x000B__x005F_x000C_"/>
              </a:rPr>
              <a:t>狐鬼故事、奇特见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5F_x000B__x005F_x000C_"/>
              </a:rPr>
              <a:t>为主，是以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_x005F_x000B__x005F_x000C_"/>
              </a:rPr>
              <a:t>笔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5F_x000B__x005F_x000C_"/>
              </a:rPr>
              <a:t>形式写成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_x005F_x000B__x005F_x000C_"/>
              </a:rPr>
              <a:t>志怪小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5F_x000B__x005F_x000C_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6" name="动作按钮: 前进或下一项 1" descr=""/>
          <p:cNvPicPr/>
          <p:nvPr/>
        </p:nvPicPr>
        <p:blipFill>
          <a:blip r:embed="rId1"/>
          <a:stretch/>
        </p:blipFill>
        <p:spPr>
          <a:xfrm>
            <a:off x="6719760" y="4640400"/>
            <a:ext cx="601920" cy="385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0" y="431640"/>
            <a:ext cx="778500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59080"/>
            <a:ext cx="853272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宋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圮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pǐ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）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棹 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zhào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</a:t>
            </a: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曳 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y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</a:t>
            </a: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湮 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yān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</a:t>
            </a: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钯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pá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）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啮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ni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 </a:t>
            </a: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溯 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sù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</a:t>
            </a:r>
            <a:r>
              <a:rPr b="1" lang="en-US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  <a:ea typeface="华文楷体"/>
              </a:rPr>
              <a:t>臆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GB Pinyinok-C"/>
                <a:ea typeface="GB Pinyinok-C"/>
              </a:rPr>
              <a:t>yì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华文楷体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68580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沧州南一寺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临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干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，山门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圮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于河，二石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并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沉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阅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十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，僧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募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金重修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石兽于水中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竟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不可得，以为顺流下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数小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铁钯，寻十余里，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迹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62320" y="1066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靠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564000" y="105264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河边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79132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08720" y="10526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倒塌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580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一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4382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经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8098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8769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募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08660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寻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743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终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467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6732720" y="3962520"/>
            <a:ext cx="22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船桨，这里指划（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9810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905120" y="5486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拖着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踪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右箭头 2"/>
          <p:cNvSpPr/>
          <p:nvPr/>
        </p:nvSpPr>
        <p:spPr>
          <a:xfrm>
            <a:off x="7885080" y="5661000"/>
            <a:ext cx="719280" cy="289080"/>
          </a:xfrm>
          <a:prstGeom prst="rightArrow">
            <a:avLst>
              <a:gd name="adj1" fmla="val 50000"/>
              <a:gd name="adj2" fmla="val 49798"/>
            </a:avLst>
          </a:prstGeom>
          <a:solidFill>
            <a:srgbClr val="ebf7ff"/>
          </a:solidFill>
          <a:ln w="25560">
            <a:solidFill>
              <a:srgbClr val="adb6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68360" y="1197000"/>
            <a:ext cx="8408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沧州南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临河干，山门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二石 兽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阅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僧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求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.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于水中，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竟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以为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寻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，无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左箭头 2"/>
          <p:cNvSpPr/>
          <p:nvPr/>
        </p:nvSpPr>
        <p:spPr>
          <a:xfrm>
            <a:off x="6732720" y="5013360"/>
            <a:ext cx="1368360" cy="57636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ebf7ff"/>
          </a:solidFill>
          <a:ln w="25560">
            <a:solidFill>
              <a:srgbClr val="adb6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7928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沧州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山门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阅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僧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求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..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竟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以为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寻</a:t>
            </a:r>
            <a:r>
              <a:rPr b="1" lang="en-US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，无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......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28600" y="22860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讲学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设帐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寺中，闻之笑曰：“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非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能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之去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石性</a:t>
            </a:r>
            <a:r>
              <a:rPr b="1" lang="zh-CN" sz="3600" spc="-1" strike="noStrike">
                <a:solidFill>
                  <a:srgbClr val="dc5900"/>
                </a:solidFill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             沙性松浮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于沙上，渐沉渐深耳。   沿河求之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不亦颠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55640" y="68580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讲学，教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86200" y="6094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你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推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2952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木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怎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286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坚硬沉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埋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2514600" y="5667480"/>
            <a:ext cx="55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众人佩服他的话，认为是正确的言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3:20:09Z</dcterms:created>
  <dc:creator/>
  <dc:description/>
  <dc:language>en-US</dc:language>
  <cp:lastModifiedBy>Administrator</cp:lastModifiedBy>
  <dcterms:modified xsi:type="dcterms:W3CDTF">2015-11-19T13:14:05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72</vt:lpwstr>
  </property>
  <property fmtid="{D5CDD505-2E9C-101B-9397-08002B2CF9AE}" pid="3" name="NXTAG2">
    <vt:lpwstr>000800ec0b000000000001024120</vt:lpwstr>
  </property>
</Properties>
</file>