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7.jpeg" ContentType="image/jpeg"/>
  <Override PartName="/ppt/media/BIRD3.WAV" ContentType="audio/x-wav"/>
  <Override PartName="/ppt/media/bomb.wav" ContentType="audio/x-wav"/>
  <Override PartName="/ppt/media/image8.png" ContentType="image/png"/>
  <Override PartName="/ppt/media/image14.jpeg" ContentType="image/jpeg"/>
  <Override PartName="/ppt/media/image17.jpeg" ContentType="image/jpeg"/>
  <Override PartName="/ppt/media/image15.jpeg" ContentType="image/jpeg"/>
  <Override PartName="/ppt/media/image18.gif" ContentType="image/gif"/>
  <Override PartName="/ppt/media/image13.jpeg" ContentType="image/jpeg"/>
  <Override PartName="/ppt/media/image11.jpeg" ContentType="image/jpe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175-CF68-495E-81AC-5FEC0851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633-95C6-4A84-BD90-6F72AF9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B66-758F-43A6-9559-A6C6BCD2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CBB-58DB-45DF-B57E-01CBB673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51A-7800-46C1-8C44-CA7F4B1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FFE-6EA6-40FD-9E90-D5238AB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FC4-E6CA-4FBF-BC29-46480D94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275-B052-4C29-BA01-46D1324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9D4-C6D1-4354-9987-2F72E148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9C8-32D1-4879-8AE5-363E4FC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315-06FF-4EE5-84DF-3CEFC7F9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130-28ED-4360-A737-9C3CCE3C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F883-E59A-4021-9371-55ED9776E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05520" y="5181480"/>
            <a:ext cx="3733560" cy="12956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纪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45720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河中石兽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765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676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考虑了流水，没考虑石兽、泥沙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51460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讲学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438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虑了石兽和泥沙的关系，忽略了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5053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老河兵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35053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既有理论又有实践，准确把握了三者的性质及相互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71080" y="7614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只有老河兵的方法是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63244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河兵的判断为什么是正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常年在河边劳动，了解水、沙、石等自然事物特性，把理论知识和多年经验结合起来分析。石兽落水之后对水流形成阻力，使周围水速更快，冲刷力更强，其下面迎水流一侧的泥沙逐渐被水冲走，成为空穴。久之，石兽因重力作用朝着迎水流的方向倾倒，如此再三，便向上游移动了一段。可见，老河兵的判断是正确的，流水的侵蚀和搬运作用，使石兽能逆水而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20418600">
            <a:off x="3851280" y="1413000"/>
            <a:ext cx="923760" cy="1714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124080" cy="27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8611 L -0.00052 0.41945 E">
                                      <p:cBhvr>
                                        <p:cTn id="21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1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0470200">
            <a:off x="5866920" y="38862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808200"/>
            <a:ext cx="1523880" cy="1617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92720" y="115920"/>
            <a:ext cx="312408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rot="20502000">
            <a:off x="6019560" y="388584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876920"/>
            <a:ext cx="1905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800600"/>
            <a:ext cx="12193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58196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8600" y="-808200"/>
            <a:ext cx="1523880" cy="1617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5562720" y="4648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40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1920" y="4800600"/>
            <a:ext cx="51037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1073800">
            <a:off x="6095880" y="4800240"/>
            <a:ext cx="12193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1073800">
            <a:off x="3873600" y="5257800"/>
            <a:ext cx="12189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68800">
            <a:off x="6019920" y="4876560"/>
            <a:ext cx="121896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12408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71800" y="4495680"/>
            <a:ext cx="13716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0733000">
            <a:off x="5714640" y="4648320"/>
            <a:ext cx="1752480" cy="103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7560" y="4724280"/>
            <a:ext cx="51040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5334120"/>
            <a:ext cx="1478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24080" cy="27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96216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81280" y="4800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292640"/>
            <a:ext cx="3732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0280" y="4724280"/>
            <a:ext cx="51037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 rot="17391600">
            <a:off x="2881080" y="44337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8533200">
            <a:off x="3580920" y="5028480"/>
            <a:ext cx="13716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7696800">
            <a:off x="2438280" y="518148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343400"/>
            <a:ext cx="3809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9920" y="189000"/>
            <a:ext cx="312408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4437000"/>
            <a:ext cx="3732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 rot="14756400">
            <a:off x="2500200" y="435744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9360600">
            <a:off x="3701160" y="4882320"/>
            <a:ext cx="16002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1535000">
            <a:off x="1515600" y="4866840"/>
            <a:ext cx="167652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296800">
            <a:off x="3657240" y="4952880"/>
            <a:ext cx="11430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4869000"/>
            <a:ext cx="51037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019920" y="105264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1524240" cy="1617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132000" y="98100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86000" y="4724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797360"/>
            <a:ext cx="197964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 rot="11653800">
            <a:off x="1828440" y="4723560"/>
            <a:ext cx="1714680" cy="924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2296800">
            <a:off x="1447560" y="5105160"/>
            <a:ext cx="303120" cy="322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479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066680" y="45720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3124080" cy="2767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05320" y="510552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800600"/>
            <a:ext cx="961920" cy="91440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724280"/>
            <a:ext cx="129528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952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河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                   山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河：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余岁：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兽于水中：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可得：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小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沙上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尔辈不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究物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乎：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坎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逆上：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臆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828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1828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倒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经过，过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2286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寻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终于，到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2666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划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讲学，教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124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埋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3505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推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505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物理，事物的道理、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9625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通“癫”，疯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343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侵蚀、冲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343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坎穴，坑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逆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00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主观地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296800">
            <a:off x="2477880" y="4635000"/>
            <a:ext cx="9684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 rot="7502400">
            <a:off x="1281240" y="4357440"/>
            <a:ext cx="1714320" cy="923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rot="2296800">
            <a:off x="2307960" y="4844880"/>
            <a:ext cx="414360" cy="1049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4197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869000"/>
            <a:ext cx="15984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37720" y="4572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38080" y="48006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124080" cy="27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4419720"/>
            <a:ext cx="106704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7696800">
            <a:off x="2133720" y="5029200"/>
            <a:ext cx="7617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296800">
            <a:off x="1371600" y="4952880"/>
            <a:ext cx="121932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203800">
            <a:off x="13788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4292640"/>
            <a:ext cx="1446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724280"/>
            <a:ext cx="1446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124080" cy="27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7696800">
            <a:off x="2209680" y="487656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535000">
            <a:off x="1371240" y="4571640"/>
            <a:ext cx="10350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296800">
            <a:off x="1066320" y="4876920"/>
            <a:ext cx="12193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4365720"/>
            <a:ext cx="14464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24280"/>
            <a:ext cx="1446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 rot="3631800">
            <a:off x="1440720" y="4255200"/>
            <a:ext cx="1713240" cy="9237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296800">
            <a:off x="-212400" y="4984920"/>
            <a:ext cx="53172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019920" y="333360"/>
            <a:ext cx="312408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360600">
            <a:off x="3257280" y="5266800"/>
            <a:ext cx="122868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1535000">
            <a:off x="1371240" y="4952520"/>
            <a:ext cx="10350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2296800">
            <a:off x="650520" y="4611600"/>
            <a:ext cx="12193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4149720"/>
            <a:ext cx="14464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724280"/>
            <a:ext cx="14461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 rot="1107000">
            <a:off x="755280" y="3860280"/>
            <a:ext cx="1712880" cy="92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3124080" cy="2766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8458200" y="6477120"/>
            <a:ext cx="228600" cy="304560"/>
          </a:xfrm>
          <a:prstGeom prst="lef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理解讲学家的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讲学家的“笑”包含了他对寺僧的嘲笑和对自己的一种自信，刻画出讲学家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自恃清高而骄傲自满，轻视他人的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讲学家有怎样的性格特点？是从哪些语句体现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讲学家的性格特点是：好为人师，自视清高而骄傲自满，轻视他人。从“闻之笑曰“”尔辈不能究物理“”是非木杮，岂能为暴涨携之去”“不亦颠乎”这些语句可以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理解老河兵的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老河兵的“笑”，流露出了老河兵对讲学家自恃博才的一种否定，也表现出老河兵的自信和沾沾自喜的心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1730520" cy="2438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629400" y="2514600"/>
            <a:ext cx="1871640" cy="2147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743200" y="457200"/>
            <a:ext cx="4572000" cy="762120"/>
          </a:xfrm>
          <a:prstGeom prst="wedgeRectCallout">
            <a:avLst>
              <a:gd name="adj1" fmla="val -54791"/>
              <a:gd name="adj2" fmla="val 12229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见其毅力坚定但经验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0" y="6334200"/>
            <a:ext cx="1447920" cy="523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14400" y="3048120"/>
            <a:ext cx="4800600" cy="1600200"/>
          </a:xfrm>
          <a:prstGeom prst="wedgeRectCallout">
            <a:avLst>
              <a:gd name="adj1" fmla="val 67226"/>
              <a:gd name="adj2" fmla="val -1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知半解好为人师的“空头理论家”，自恃清高而骄傲自满，轻视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480" y="5334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老河兵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5257800"/>
            <a:ext cx="5791320" cy="838080"/>
          </a:xfrm>
          <a:prstGeom prst="wedgeRectCallout">
            <a:avLst>
              <a:gd name="adj1" fmla="val -61675"/>
              <a:gd name="adj2" fmla="val -70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有实际经验，沾沾自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104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580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探究升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84284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晓岚讲述“河中石兽”的故事，仅仅是为了让我们了解生活中的“神异”之事吗？文中哪句话表达出作者的观点？带给我们怎样的生活哲理和人生思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4068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然则天下之事，但知其一，不知其二者多矣，可据理臆断欤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222732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启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句话，既是对讲学家之类一知半解而又自以为是的人的辛辣嘲讽，又指明了认识事物的方法和途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下事物虽有共同的规律，但又有各自特殊的性质原理，我们切不可不加分析，拘泥于一般的道理而主观臆断，不能片面地理解，而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全面深入地调查探究事物的特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遵循客观规律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理论联系实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不可做空头理论家。用我们的头脑，用一种科学精神去认识这个纷繁复杂的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896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你能用简洁的语言概括这个“神异”故事的主要内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延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62120" y="838080"/>
            <a:ext cx="6324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夜读书示子聿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  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人学问无遗力，少壮工夫老始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上得来终觉浅，绝知此事要躬行。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819160" cy="3048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3200400" y="228600"/>
            <a:ext cx="3117960" cy="3124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6019920" y="228600"/>
            <a:ext cx="2819160" cy="31240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 flipH="1" rot="5649600">
            <a:off x="8178840" y="290520"/>
            <a:ext cx="922320" cy="10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42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任选“寺僧”、“讲学家”、“老河兵”其中之一，简要的概括三人寻找河中石兽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286000"/>
          <a:ext cx="7162920" cy="3797280"/>
        </p:xfrm>
        <a:graphic>
          <a:graphicData uri="http://schemas.openxmlformats.org/drawingml/2006/table">
            <a:tbl>
              <a:tblPr/>
              <a:tblGrid>
                <a:gridCol w="3341520"/>
                <a:gridCol w="382140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  物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寻找的方法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 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924920" y="35053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寺  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66400" y="4419720"/>
            <a:ext cx="13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讲学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90440" y="5257800"/>
            <a:ext cx="13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河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200400"/>
            <a:ext cx="297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原地水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下流求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6640" y="4495680"/>
            <a:ext cx="1400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原地沙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14320" y="5257800"/>
            <a:ext cx="1704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求之于上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8686800" y="6477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20470200">
            <a:off x="837720" y="36576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001000" y="335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55640" y="692280"/>
            <a:ext cx="2760840" cy="2337840"/>
            <a:chOff x="755640" y="692280"/>
            <a:chExt cx="2760840" cy="23378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755640" y="1530360"/>
              <a:ext cx="276084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1593000" y="692280"/>
              <a:ext cx="80748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flipH="1">
              <a:off x="983880" y="1378080"/>
              <a:ext cx="1522800" cy="160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8808800">
              <a:off x="916560" y="2570040"/>
              <a:ext cx="91440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pull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14 0.00833 L 0.74114 0.00833 E">
                                      <p:cBhvr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45 0.05064 C 0.2165 0.0481 0.21719 0.04509 0.21893 0.04301 C 0.22066 0.04139 0.22275 0.04232 0.22448 0.04116 C 0.23004 0.03769 0.23281 0.03538 0.23906 0.03353 C 0.24913 0.02659 0.2599 0.02543 0.27084 0.02428 C 0.28229 0.02474 0.29393 0.02497 0.30521 0.02613 C 0.32361 0.02798 0.34288 0.037 0.36111 0.04116 C 0.36354 0.04255 0.36667 0.04301 0.36893 0.04509 C 0.37604 0.05087 0.37865 0.06406 0.38629 0.06799 C 0.39636 0.0814 0.41563 0.0703 0.42882 0.06799 C 0.43715 0.06475 0.44566 0.06151 0.45382 0.05827 C 0.45799 0.05457 0.4599 0.05087 0.46441 0.04879 C 0.4658 0.04764 0.46684 0.04602 0.4684 0.04509 C 0.46979 0.04417 0.47153 0.0444 0.47257 0.04301 C 0.47344 0.04232 0.47379 0.03977 0.47518 0.03931 C 0.47986 0.037 0.49358 0.03469 0.49913 0.03353 C 0.52205 0.03422 0.54514 0.03445 0.56788 0.03561 C 0.57795 0.03607 0.58698 0.04232 0.59705 0.04301 C 0.60868 0.04417 0.62031 0.0444 0.63177 0.04509 C 0.63403 0.04602 0.64028 0.04902 0.64358 0.05064 C 0.64479 0.05134 0.6474 0.05249 0.6474 0.05296 C 0.65417 0.06174 0.66285 0.06475 0.67136 0.06799 C 0.67795 0.0703 0.68316 0.07539 0.68976 0.07747 C 0.70018 0.08094 0.71007 0.08348 0.72066 0.08695 C 0.74879 0.0858 0.77205 0.09088 0.7974 0.07932 C 0.80191 0.07469 0.8066 0.07423 0.81181 0.07146 C 0.82205 0.06197 0.81702 0.06498 0.82656 0.06197 C 0.87952 0.06359 0.88108 0.05573 0.91163 0.06984 C 0.91545 0.07354 0.91927 0.07516 0.92361 0.07747 C 0.92969 0.08626 0.925 0.0814 0.9342 0.0851 C 0.93698 0.08626 0.94202 0.0888 0.94202 0.08903 C 0.94705 0.0962 0.95643 0.09759 0.96337 0.10037 C 0.97743 0.09898 0.99306 0.09944 1.00695 0.09458 C 1.01181 0.08996 1.0165 0.08741 1.0217 0.0851 C 1.02518 0.07932 1.02986 0.07516 1.03368 0.06984 C 1.03681 0.05527 1.03195 0.07261 1.03906 0.06036 C 1.03976 0.05874 1.03924 0.05619 1.04028 0.05457 C 1.04219 0.05087 1.04688 0.0481 1.04948 0.04509 C 1.06077 0.03191 1.06927 0.03168 1.08403 0.03168 E">
                                      <p:cBhvr>
                                        <p:cTn id="136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267080"/>
            <a:ext cx="5715000" cy="7632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4800600"/>
            <a:ext cx="2057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470200">
            <a:off x="5724000" y="4869000"/>
            <a:ext cx="92412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6200000">
            <a:off x="5410080" y="5943240"/>
            <a:ext cx="11430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715000"/>
            <a:ext cx="609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020600">
            <a:off x="5562360" y="4723920"/>
            <a:ext cx="609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55627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23880" cy="1617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124440" cy="2766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00100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610480" y="655308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895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0470200">
            <a:off x="6019560" y="3962520"/>
            <a:ext cx="923760" cy="1714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940360" y="1125360"/>
            <a:ext cx="2762280" cy="2338200"/>
            <a:chOff x="5940360" y="1125360"/>
            <a:chExt cx="2762280" cy="23382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940360" y="1963440"/>
              <a:ext cx="27622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6778440" y="1125360"/>
              <a:ext cx="808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flipH="1">
              <a:off x="6168600" y="1811160"/>
              <a:ext cx="1523880" cy="160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8808800">
              <a:off x="6102000" y="300312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1523880" cy="1617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8686800" y="6705720"/>
            <a:ext cx="228600" cy="152280"/>
          </a:xfrm>
          <a:prstGeom prst="leftArrow">
            <a:avLst>
              <a:gd name="adj1" fmla="val 50000"/>
              <a:gd name="adj2" fmla="val 37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5 4.44444E-006 E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0419 C -0.1184 0.03611 -0.12778 0.02871 -0.13732 0.02269 C -0.13906 0.02176 -0.14045 0.02153 -0.14219 0.02084 C -0.14444 0.01968 -0.14896 0.01713 -0.14896 0.01736 C -0.15382 0.01875 -0.15781 0.02269 -0.16285 0.02454 C -0.17517 0.02917 -0.18732 0.03496 -0.19965 0.03982 C -0.20955 0.03912 -0.21962 0.03959 -0.22969 0.03797 C -0.23212 0.0375 -0.23385 0.02732 -0.23524 0.02454 C -0.23802 0.02014 -0.24462 0.0132 -0.24462 0.01343 C -0.2566 0.01436 -0.26458 0.01412 -0.27569 0.01713 C -0.28125 0.01852 -0.28628 0.02385 -0.29184 0.02454 C -0.30729 0.02639 -0.34496 0.02778 -0.35764 0.02848 C -0.3592 0.02894 -0.36562 0.0301 -0.36805 0.03218 C -0.37031 0.03449 -0.37222 0.03866 -0.375 0.03982 C -0.38073 0.04236 -0.37795 0.04098 -0.38281 0.04375 C -0.40278 0.0426 -0.42014 0.04074 -0.43941 0.03797 C -0.44722 0.03542 -0.45191 0.0301 -0.4592 0.02662 C -0.46059 0.02593 -0.46198 0.02523 -0.46371 0.02454 C -0.46597 0.02338 -0.47066 0.02084 -0.47066 0.02107 C -0.48038 0.02153 -0.48958 0.02153 -0.4993 0.02269 C -0.50486 0.02338 -0.51007 0.0294 -0.51562 0.03033 C -0.52222 0.03148 -0.52934 0.03148 -0.53628 0.03218 C -0.54496 0.03195 -0.58437 0.03519 -0.60087 0.02662 C -0.60399 0.02084 -0.6066 0.01551 -0.61111 0.0132 C -0.61962 -0.00902 -0.63993 0.00371 -0.65382 0.01135 C -0.66076 0.02199 -0.64982 0.00625 -0.66094 0.01898 C -0.66423 0.02315 -0.66736 0.02848 -0.67118 0.03218 C -0.67569 0.03704 -0.68298 0.03959 -0.68819 0.0419 C -0.72361 0.03959 -0.71128 0.03982 -0.73212 0.03426 C -0.74045 0.02894 -0.75312 0.02477 -0.76215 0.02269 C -0.76719 0.02338 -0.77222 0.02315 -0.77708 0.02454 C -0.7809 0.0257 -0.78576 0.03056 -0.78976 0.03218 C -0.7934 0.03843 -0.80312 0.04283 -0.80816 0.04561 C -0.81059 0.04676 -0.8151 0.04931 -0.8151 0.04954 C -0.83993 0.04815 -0.85937 0.04653 -0.88298 0.0419 C -0.93472 0.01852 -1.00677 0.03426 -1.05104 0.03426 E">
                                      <p:cBhvr>
                                        <p:cTn id="146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品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680120"/>
            <a:ext cx="845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内讨论：他们寻找石兽的不同方法各自都有什么样的理由？请在文中找出相应的词语、句子，读出人物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情态和性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2438280"/>
          <a:ext cx="8534160" cy="4268880"/>
        </p:xfrm>
        <a:graphic>
          <a:graphicData uri="http://schemas.openxmlformats.org/drawingml/2006/table">
            <a:tbl>
              <a:tblPr/>
              <a:tblGrid>
                <a:gridCol w="1661760"/>
                <a:gridCol w="1900080"/>
                <a:gridCol w="4972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 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寻找的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理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寺  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地水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流求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讲学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地沙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老河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之于上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56336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以为顺流下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石性坚重，沙性松浮，湮于沙上，渐沉渐深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724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石性坚重，沙性松浮，水不能冲石，其反激之力，必于石下迎水处啮沙为坎穴。渐激渐深，至石之半，石必倒掷坎穴中。如是再啮，石又再转。转转不已，遂反溯流逆上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65530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11040" y="38016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种方法的结果如何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371600"/>
          <a:ext cx="8763120" cy="4911840"/>
        </p:xfrm>
        <a:graphic>
          <a:graphicData uri="http://schemas.openxmlformats.org/drawingml/2006/table">
            <a:tbl>
              <a:tblPr/>
              <a:tblGrid>
                <a:gridCol w="1066680"/>
                <a:gridCol w="1600200"/>
                <a:gridCol w="4038840"/>
                <a:gridCol w="2057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寻找的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理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寺  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地水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为顺流下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下流求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讲学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地沙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石性坚重，沙性松浮，湮于沙上，渐沉渐深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老河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之于上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石性坚重，沙性松浮，水不能冲石，其反激之力，必于石下迎水处啮沙为坎穴。渐激渐深，至石之半，石必倒掷坎穴中。如是再啮，石又再转。转转不已，遂反溯流逆上矣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397640" y="5029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果得于数里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3200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众服为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（实则找不到，失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21337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不可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无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>   </dc:description>
  <cp:keywords/>
  <dc:language>en-US</dc:language>
  <cp:lastModifiedBy>www</cp:lastModifiedBy>
  <dcterms:modified xsi:type="dcterms:W3CDTF">2015-03-29T14:46:25Z</dcterms:modified>
  <cp:revision>1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