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C8D-191F-4D38-B45D-B4936EA4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F4D-AC21-4626-9316-5F4BA025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9F1-7B75-41FA-BBDC-2997B288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C56-CAB0-4F8C-9B1D-69A986FC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A17-E5AC-495A-8869-FC409A2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BB9-E539-46C8-AAAC-9E73335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373-5F9E-4DED-87F3-53DCD3A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6DC-9BD2-4130-918D-E376EBD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0F9-CB0E-4513-9BCC-CEC21BA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57E-BA15-4E4B-B62F-90FB2BF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00A-49F7-4A79-9C0F-AA3F099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8AF-CACC-415D-953C-E355149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2A5-F047-405E-B7D3-C842DF62B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89000"/>
            <a:ext cx="3957480" cy="511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88160" y="549360"/>
            <a:ext cx="2384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黄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州快哉亭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苏    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300640"/>
            <a:ext cx="86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苏辙，字子由，年十九，与兄轼同登进士科，以同策制举。晚年定居颍水之滨，号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颍滨遗老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。读书学禅以终，谥号文定。与父苏洵、兄苏轼合称“三苏”，均列入“唐宋八大家”。其文章平稳朴实，亦如其人，作品集名为《栾城集》 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栾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luá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）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谈一谈，你对“使其中坦然，不以物伤性，将何适而非快”有何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1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君子以坦荡豁达的处世态度面对所有的不快，不以物喜，不以物悲，随遇而安，才能聆听自然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205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快哉亭为张怀民所建，苏轼所命名，苏辙作记。三人均遭贬官的命运（苏辙生性沉静淡泊，虽没有历经“乌台诗案”之屈辱，却也有贬官之累），故作者写做这篇文章寓勉人并自励之意，全文主旨在说明人心坦然自得，不受制于外物，便能无往而不快。与范仲淹写《岳阳楼记》“不以物喜，不以己悲”的情怀有异曲同工之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653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想一想，本课作者随缘自适的人生观，对你有何启发？请以自己的生活经验说出你在学习上或同伴、父母所遇到的挫折，以及你的自处之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260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907920"/>
            <a:ext cx="849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下列句子中红色词语的解释，不正确的一项是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将何往而非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病：忧愁，怨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穷耳目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自适          胜：胜景，景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将何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非快                 适：安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王披襟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之                    当：对着，迎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484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3573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到，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933720"/>
            <a:ext cx="504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-171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以下六句话，分别编为四组，全都表明作者对“快哉”看法的一组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……为亭，以览观江流之胜，而余兄子瞻名之曰“快哉” ②、今乃得玩之（胜景于）几席之上，举目而足③、曹孟德、孙仲谋……流风遗迹，亦足以称快世俗 ④、楚王之所以为乐，与庶人之所以为忧，此则人之变也⑤、快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此风！寡人所与庶人共者耶？⑥ 士生于世，使其中不自得，将何往而非病？使其中坦然，不以物伤性，将何适而非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 ② ④ ⑥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② ③ ④ 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③ ④ ⑤ ⑥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 ③ ⑤ 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46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是筑亭目的及亭的命名， ⑤是与亭名相关的典故，均不是作者对“快哉”的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60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对原文有关内容的分析概括不正确的一项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作者畅言“快哉”，不仅因为快哉亭所处地理位置的景象使人心旷神怡，而且因为宦途失意之人如果“不以物伤性”，则无论处于什么环境，都能“自放山水之间”而独得其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文中的“不以物伤性”与范仲淹的“不以物喜，不以己悲”表达的生活理想是一致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作文本意并不在提倡士人远离尘世、自寻其乐，而在以旷达之情来慰藉不得意的士人，希望他们能胸中坦然，生于世而无往不自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文章既写出了作者登临览胜的快意之情，又含有不平之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7002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解释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范仲淹“不以物喜，不以己悲”“先忧后乐”的思想境界显然远远高出一般的迁客骚人，苏辙以纵情山水，心胸旷达，随遇而安慰藉他人并自慰，也在一般迁客骚人之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49360"/>
            <a:ext cx="8496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辨析下列红色的名词在独特语言环境下的特殊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其流奔放肆大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合湘、沅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合汉、沔，其势益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而余兄子瞻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之曰“快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西望武昌诸山，冈陵起伏，草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行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烟消日出，渔夫樵父之舍，皆可指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将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蓬户瓮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无所不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60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220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南面／向北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29178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名，取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437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列成行成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5661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蓬草作门，用破瓮作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请阅读课文，翻译全文，并找出文章的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284720" y="105264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5621"/>
                </a:moveTo>
                <a:lnTo>
                  <a:pt x="17806" y="12627"/>
                </a:lnTo>
                <a:lnTo>
                  <a:pt x="3794" y="19633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244000" y="6021360"/>
            <a:ext cx="647640" cy="6494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60">
                <a:moveTo>
                  <a:pt x="0" y="0"/>
                </a:moveTo>
                <a:lnTo>
                  <a:pt x="21600" y="0"/>
                </a:lnTo>
                <a:lnTo>
                  <a:pt x="21600" y="21660"/>
                </a:lnTo>
                <a:lnTo>
                  <a:pt x="0" y="21660"/>
                </a:lnTo>
                <a:close/>
              </a:path>
              <a:path fill="lightenLess" w="21600" h="216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0">
                <a:moveTo>
                  <a:pt x="21600" y="0"/>
                </a:moveTo>
                <a:lnTo>
                  <a:pt x="21600" y="21660"/>
                </a:lnTo>
                <a:lnTo>
                  <a:pt x="20200" y="20260"/>
                </a:lnTo>
                <a:lnTo>
                  <a:pt x="20200" y="1400"/>
                </a:lnTo>
                <a:close/>
              </a:path>
              <a:path fill="darkenLess" w="21600" h="21660">
                <a:moveTo>
                  <a:pt x="21600" y="21660"/>
                </a:moveTo>
                <a:lnTo>
                  <a:pt x="0" y="21660"/>
                </a:lnTo>
                <a:lnTo>
                  <a:pt x="1400" y="20260"/>
                </a:lnTo>
                <a:lnTo>
                  <a:pt x="20200" y="20260"/>
                </a:lnTo>
                <a:close/>
              </a:path>
              <a:path fill="lighten" w="21600" h="21660">
                <a:moveTo>
                  <a:pt x="0" y="216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0"/>
                </a:lnTo>
                <a:close/>
              </a:path>
              <a:path fill="darken" w="21600" h="21660">
                <a:moveTo>
                  <a:pt x="3794" y="3824"/>
                </a:moveTo>
                <a:lnTo>
                  <a:pt x="17806" y="10830"/>
                </a:lnTo>
                <a:lnTo>
                  <a:pt x="3794" y="1783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73360"/>
            <a:ext cx="82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第一段：描写江流之胜，记叙快哉亭的建造和命名缘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第二段：写亭以“快哉”命名的意义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第三段：赞颂宋玉从《风赋》谈起，谈到了一般人的“忧乐观”——说明“快”与“不快”皆由心生，与外物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对张君人生态度的肯定——“快”与“不快”，关键在于内心之“得”与“不得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72428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旨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使其中坦然，不以物伤性，将何适而非快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89000"/>
            <a:ext cx="8353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江出西陵，始得平地。其流奔放肆大，南合湘、沅，北合汉、沔，其势益张。至于赤壁之下，波流浸灌，与海相若。清河张君梦得谪居齐安，即其庐之西南为亭，以览观江流之胜，而余兄子瞻名之曰“快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6560" y="3583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长江出了西陵峡，开始进入平地，水势奔腾浩荡。南边与湘水、沅水合流，北边与汉水汇聚，水势显得更加壮阔。流到赤壁之下，波浪滚滚，就像是无际的海洋。清河张梦得，贬官后居住在齐安，他在房舍的西南方修建了一座亭子，用来观赏长江的胜景。我的哥哥子瞻给这座亭子起名叫“快哉亭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565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一段：记叙快哉亭的建造和命名缘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3902040"/>
            <a:ext cx="4032000" cy="305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508640"/>
            <a:ext cx="4103640" cy="2160360"/>
          </a:xfrm>
          <a:prstGeom prst="wedgeRoundRectCallout">
            <a:avLst>
              <a:gd name="adj1" fmla="val 88106"/>
              <a:gd name="adj2" fmla="val -149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两句不仅点出了造亭的目的和题意，而且提示了作者一上来写江水的用意，造此亭是为了观赏长江流水的美景从而引起快感，从江水着笔自然顺理成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159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一段：记叙快哉亭的建造和命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14240"/>
            <a:ext cx="8785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江出西陵，始得平地。其流奔放肆大，南合湘、沅，北合汉、沔，其势益张。至于赤壁之下，波流浸灌，与海相若。清河张君梦得谪居齐安，即其庐之西南为亭，以览观江流之胜，而余兄子瞻名之曰“快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0700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找出本段描写“江流”的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92428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2852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江出西陵，始得平地。其流奔放肆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278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合湘、沅，北合汉、沔，其势益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37101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至于赤壁之下，波流浸灌，与海相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29973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8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三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3280" y="378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浩淼水面，壮阔气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357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80360" y="42670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2349360"/>
            <a:ext cx="2952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781360"/>
            <a:ext cx="26654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75280" y="4797360"/>
            <a:ext cx="352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开头真是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起笔不凡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不落俗套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2920" y="4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盖亭之所见，南北百里，东西一舍。涛澜汹涌，风云开阖。昼则舟楫出没于其前，夜则鱼龙悲啸于其下。变化倏忽，动心骇目，不可久视。今乃得玩之几席之上，举目而足。西望武昌诸山，冈陵起伏，草木行列，烟消日出，渔夫樵父之舍，皆可指数。此其所以为“快哉”者也。至于长洲之滨，故城之墟，曹孟德、孙仲谋之所睥睨，周瑜、陆逊之所骋骛，其风流遗迹，亦足以称快世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565360"/>
            <a:ext cx="878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亭子里能看到长江南北上百里、东西三十里。波涛汹涌，风云时而出现，时而消失。白天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船只在亭前往来如梭；夜间，鱼龙在亭下悲鸣。景色瞬息万变，令人触目惊心，不能长久地观看。现在我能在亭中的小桌旁席上赏玩这些景色，抬起眼来就看个够。向西眺望武昌的群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只见）山脉蜿蜒起伏，草木排列成行，烟云消散，阳光普照，捕鱼、打柴的村民的房舍都历历可数。这就是把亭子称为“快哉”的道理。至于沙洲的岸边，故城的废墟，是曹孟德、孙仲谋所傲视之处，是周瑜、陆逊率兵驰骋的地方，那些遗留下来的传说和痕迹也足以使一般人称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060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二段：写亭以“快哉”命名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200" y="1159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二段：写亭以“快哉”命名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2920" y="476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盖亭之所见，南北百里，东西一舍。涛澜汹涌，风云开阖。昼则舟楫出没于其前，夜则鱼龙悲啸于其下。变化倏忽，动心骇目，不可久视。今乃得玩之几席之上，举目而足。西望武昌诸山，冈陵起伏，草木行列，烟消日出，渔夫樵父之舍，皆可指数。此其所以为“快哉”者也。至于长洲之滨，故城之墟，曹孟德、孙仲谋之所睥睨，周瑜、陆逊之所骋骛，其风流遗迹，亦足以称快世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42900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命名“快哉”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3068640"/>
            <a:ext cx="360360" cy="151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色、山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306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临者“快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5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史遗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俗者“称快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11640" y="4149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532720" y="4149720"/>
            <a:ext cx="432000" cy="5047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33">
                <a:moveTo>
                  <a:pt x="0" y="0"/>
                </a:moveTo>
                <a:lnTo>
                  <a:pt x="21600" y="0"/>
                </a:lnTo>
                <a:lnTo>
                  <a:pt x="21600" y="25233"/>
                </a:lnTo>
                <a:lnTo>
                  <a:pt x="0" y="25233"/>
                </a:lnTo>
                <a:close/>
              </a:path>
              <a:path fill="lightenLess" w="21600" h="25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3">
                <a:moveTo>
                  <a:pt x="21600" y="0"/>
                </a:moveTo>
                <a:lnTo>
                  <a:pt x="21600" y="25233"/>
                </a:lnTo>
                <a:lnTo>
                  <a:pt x="20200" y="23833"/>
                </a:lnTo>
                <a:lnTo>
                  <a:pt x="20200" y="1400"/>
                </a:lnTo>
                <a:close/>
              </a:path>
              <a:path fill="darkenLess" w="21600" h="25233">
                <a:moveTo>
                  <a:pt x="21600" y="25233"/>
                </a:moveTo>
                <a:lnTo>
                  <a:pt x="0" y="25233"/>
                </a:lnTo>
                <a:lnTo>
                  <a:pt x="1400" y="23833"/>
                </a:lnTo>
                <a:lnTo>
                  <a:pt x="20200" y="23833"/>
                </a:lnTo>
                <a:close/>
              </a:path>
              <a:path fill="lighten" w="21600" h="25233">
                <a:moveTo>
                  <a:pt x="0" y="25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3"/>
                </a:lnTo>
                <a:close/>
              </a:path>
              <a:path fill="darken" w="21600" h="25233">
                <a:moveTo>
                  <a:pt x="3794" y="5610"/>
                </a:moveTo>
                <a:lnTo>
                  <a:pt x="17806" y="12616"/>
                </a:lnTo>
                <a:lnTo>
                  <a:pt x="3794" y="19623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其中坦然，不以物伤性，将何适而非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780000" y="479736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5621"/>
                </a:moveTo>
                <a:lnTo>
                  <a:pt x="17806" y="12627"/>
                </a:lnTo>
                <a:lnTo>
                  <a:pt x="3794" y="19633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53080" y="4915080"/>
            <a:ext cx="2627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2920" y="4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昔楚襄王从宋玉、景差于兰台之宫，有风飒然至者，王披襟当之曰：“快哉，此风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!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寡人所与庶人共者耶？”宋玉曰：“此独大王之雄风耳，庶人安得共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!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玉之言，盖有讽焉。夫风无雌雄之异，而人有遇、不遇之变。楚王之所以为乐，与庶人之所以为忧，此则人之变也，而风何与焉？士生于世，使其中不自得，将何往而非病？使其中坦然，不以物伤性，将何适而非快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068640"/>
            <a:ext cx="8785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前，楚襄王让宋玉、景差跟随着游兰台宫。一阵风吹来，飒飒作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楚王敞开衣襟，迎着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说：“这风多么使人快乐啊！这是我和百姓共有的吧。”宋玉说：“这只是大王的雄风，百姓怎么能和你共同享受它呢？”宋玉的话大概有讽喻的意味吧。风并没有雄雌的区别，而人有是否受到赏识的不同。楚王之所以感到快乐，而百姓之所以感到忧愁，正是由于人们的境遇不同，跟风又有什么关系呢？士人生活在世上，假使心中不坦然，那么，到哪里没有忧愁？假使胸怀坦荡，不因为外界的影响而妨害性情， 那么，到什么地方没有欢乐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773360"/>
            <a:ext cx="8785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三段：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赞颂宋玉从《风赋》谈起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，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谈到了一般人的“忧乐观”——说明“快”与“不快”皆由心生，与外物无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对张君人生态度的肯定——“快”与“不快”，关键在于内心之“得”与“不得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26028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第三段：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赞颂宋玉从《风赋》谈起，谈到了一般人的“忧乐观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2920" y="647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昔楚襄王从宋玉、景差于兰台之宫，有风飒然至者，王披襟当之曰：“快哉，此风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!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寡人所与庶人共者耶？”宋玉曰：“此独大王之雄风耳，庶人安得共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!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玉之言，盖有讽焉。夫风无雌雄之异，而人有遇、不遇之变。楚王之所以为乐，与庶人之所以为忧，此则人之变也，而风何与焉？士生于世，使其中不自得，将何往而非病？使其中坦然，不以物伤性，将何适而非快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1314400">
            <a:off x="394920" y="364500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忧乐观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247240" y="5329080"/>
            <a:ext cx="645840" cy="621000"/>
          </a:xfrm>
          <a:custGeom>
            <a:avLst/>
            <a:gdLst>
              <a:gd name="textAreaLeft" fmla="*/ 39960 w 645840"/>
              <a:gd name="textAreaRight" fmla="*/ 605880 w 6458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22463" h="21600">
                <a:moveTo>
                  <a:pt x="0" y="0"/>
                </a:moveTo>
                <a:lnTo>
                  <a:pt x="22463" y="0"/>
                </a:lnTo>
                <a:lnTo>
                  <a:pt x="22463" y="21600"/>
                </a:lnTo>
                <a:lnTo>
                  <a:pt x="0" y="21600"/>
                </a:lnTo>
                <a:close/>
              </a:path>
              <a:path fill="lightenLess" w="22463" h="21600">
                <a:moveTo>
                  <a:pt x="0" y="0"/>
                </a:moveTo>
                <a:lnTo>
                  <a:pt x="22463" y="0"/>
                </a:lnTo>
                <a:lnTo>
                  <a:pt x="21063" y="1400"/>
                </a:lnTo>
                <a:lnTo>
                  <a:pt x="1400" y="1400"/>
                </a:lnTo>
                <a:close/>
              </a:path>
              <a:path fill="darken" w="22463" h="21600">
                <a:moveTo>
                  <a:pt x="22463" y="0"/>
                </a:moveTo>
                <a:lnTo>
                  <a:pt x="22463" y="21600"/>
                </a:lnTo>
                <a:lnTo>
                  <a:pt x="21063" y="20200"/>
                </a:lnTo>
                <a:lnTo>
                  <a:pt x="21063" y="1400"/>
                </a:lnTo>
                <a:close/>
              </a:path>
              <a:path fill="darkenLess" w="22463" h="21600">
                <a:moveTo>
                  <a:pt x="22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3" y="20200"/>
                </a:lnTo>
                <a:close/>
              </a:path>
              <a:path fill="lighten" w="22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63" h="21600">
                <a:moveTo>
                  <a:pt x="4225" y="10800"/>
                </a:moveTo>
                <a:lnTo>
                  <a:pt x="18238" y="3794"/>
                </a:lnTo>
                <a:lnTo>
                  <a:pt x="18238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3500280"/>
            <a:ext cx="648000" cy="2016360"/>
          </a:xfrm>
          <a:custGeom>
            <a:avLst/>
            <a:gdLst>
              <a:gd name="textAreaLeft" fmla="*/ 414000 w 648000"/>
              <a:gd name="textAreaRight" fmla="*/ 648000 w 648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5"/>
                </a:lnTo>
                <a:cubicBezTo>
                  <a:pt x="10800" y="9705"/>
                  <a:pt x="5400" y="10605"/>
                  <a:pt x="0" y="10605"/>
                </a:cubicBezTo>
                <a:cubicBezTo>
                  <a:pt x="5400" y="10605"/>
                  <a:pt x="10800" y="11505"/>
                  <a:pt x="10800" y="124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213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般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人有遇、不遇之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3789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苏   辙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士生于世，使其中不自得，将何往而非病？使其中坦然，不以物伤性，将何适而非快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2920" y="3636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今张君不以谪为患，窃会计之余功，而自放山水之间，此其中宜有以过人者。将蓬户瓮牖无所不快，而况乎濯长江之清流，揖西山之白云，穷耳目之胜以自适也哉！不然，连山绝壑，长林古木，振之以清风，照之以明月，此皆骚人思士之所以悲伤憔悴而不能胜者，乌睹其为快也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068640"/>
            <a:ext cx="878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现在，张君不因为被贬官而忧愁，在办完了公务之后，便任情漫游山水之间，这大概是因为他的心胸有超过一般人的地方。像他这种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即使是过着用蓬草编门，以破瓦片做窗的苦日子，也没有什么不快乐的，更何况用长江的清水洗涤心灵，面对西山的白云与之交往，竭尽耳目所能欣赏长江美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而使自己畅快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不是这样，那么，连绵的峰峦，深陡的沟壑，辽阔的森林，参天的古木，以清风拂摇它们，以明月照耀它们，这些都会成为失意文人感到悲伤憔悴以至难以忍受的景物，怎见得这是能使人快乐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2050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对张君人生态度的肯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172360" y="2133720"/>
            <a:ext cx="646200" cy="620640"/>
          </a:xfrm>
          <a:custGeom>
            <a:avLst/>
            <a:gdLst>
              <a:gd name="textAreaLeft" fmla="*/ 39960 w 646200"/>
              <a:gd name="textAreaRight" fmla="*/ 606240 w 646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489" h="21600">
                <a:moveTo>
                  <a:pt x="0" y="0"/>
                </a:moveTo>
                <a:lnTo>
                  <a:pt x="22489" y="0"/>
                </a:lnTo>
                <a:lnTo>
                  <a:pt x="22489" y="21600"/>
                </a:lnTo>
                <a:lnTo>
                  <a:pt x="0" y="21600"/>
                </a:lnTo>
                <a:close/>
              </a:path>
              <a:path fill="lightenLess" w="22489" h="21600">
                <a:moveTo>
                  <a:pt x="0" y="0"/>
                </a:moveTo>
                <a:lnTo>
                  <a:pt x="22489" y="0"/>
                </a:lnTo>
                <a:lnTo>
                  <a:pt x="21089" y="1400"/>
                </a:lnTo>
                <a:lnTo>
                  <a:pt x="1400" y="1400"/>
                </a:lnTo>
                <a:close/>
              </a:path>
              <a:path fill="darken" w="22489" h="21600">
                <a:moveTo>
                  <a:pt x="22489" y="0"/>
                </a:moveTo>
                <a:lnTo>
                  <a:pt x="22489" y="21600"/>
                </a:lnTo>
                <a:lnTo>
                  <a:pt x="21089" y="20200"/>
                </a:lnTo>
                <a:lnTo>
                  <a:pt x="21089" y="1400"/>
                </a:lnTo>
                <a:close/>
              </a:path>
              <a:path fill="darkenLess" w="22489" h="21600">
                <a:moveTo>
                  <a:pt x="22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9" y="20200"/>
                </a:lnTo>
                <a:close/>
              </a:path>
              <a:path fill="lighten" w="22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9" h="21600">
                <a:moveTo>
                  <a:pt x="4238" y="10800"/>
                </a:moveTo>
                <a:lnTo>
                  <a:pt x="18251" y="3794"/>
                </a:lnTo>
                <a:lnTo>
                  <a:pt x="18251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3:16:03Z</dcterms:created>
  <dc:creator>蔡丰城</dc:creator>
  <dc:description/>
  <dc:language>en-US</dc:language>
  <cp:lastModifiedBy>雨林木风</cp:lastModifiedBy>
  <dcterms:modified xsi:type="dcterms:W3CDTF">2010-04-05T10:22:40Z</dcterms:modified>
  <cp:revision>68</cp:revision>
  <dc:subject/>
  <dc:title>黃州快哉亭記</dc:title>
</cp:coreProperties>
</file>