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3A1-0E79-4CFE-9C93-7C780D85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FE0-4E93-4C74-A8A8-707BC768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AA8-B733-4139-9F9C-6699D300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F41-5F0A-4202-9FCC-1F989B64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735-B56D-48E3-A276-06A53AB3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90D-4A59-4DA9-A4A4-3FFA4795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AE7-885E-4B77-94F4-ACB2D689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B49-C0BF-493D-9649-493EFA32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860-2C5B-4A81-BF65-68BB5037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796-E849-4662-882F-87A2AC39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A75-97AE-4F50-AF0C-B7988D9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73C-A304-47A7-A0DB-0A5268AB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CE9B-17A0-4363-8860-06C566058D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file:///tmp/home/.config/libreoffice/4/user/gallery/breeze.wav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1736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77280" y="0"/>
            <a:ext cx="1566720" cy="1773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411280" y="0"/>
            <a:ext cx="2881440" cy="17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19640" y="0"/>
            <a:ext cx="2336760" cy="177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4941720"/>
            <a:ext cx="2771640" cy="191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227640" y="5013360"/>
            <a:ext cx="2916360" cy="184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557360"/>
            <a:ext cx="9144000" cy="338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79280" y="2276640"/>
            <a:ext cx="8713800" cy="122364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>
                    <a:alpha val="26000"/>
                  </a:srgbClr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妈妈你在哪儿，哪儿就是最快乐的地方。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>
                  <a:alpha val="26000"/>
                </a:srgbClr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771640" y="4923000"/>
            <a:ext cx="3600720" cy="193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0" y="476280"/>
            <a:ext cx="62276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. </a:t>
            </a: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暗指人生路上的风风雨雨和坎坷磨难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700280"/>
            <a:ext cx="86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只有母亲是保护自己度过人生路上坎坷与磨难的人。母亲是伟大的，可以使我在痛苦时得到安慰，在孤独时得到快乐，在失望中得到希望，在冷落中得到幸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01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简单几笔点明了主旨，深化了中心。曲终见主旨，总结宕开一笔，留给读者更多想象空间，自然界的雨点是有形的，而“心中的雨点”涉及面及广，内容纷繁。谁来荫蔽？这就把母爱推向高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55640" y="0"/>
            <a:ext cx="51116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究乐园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1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雨不住的打着，只能在那用过慈怜的荷叶上面，聚了些流转无力的水珠。我心中深深受了感动。”作者看到“红莲旁边的一共大荷叶，慢慢的倾侧了下来，正覆盖在红莲上面”而深受感动，这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50920" y="907920"/>
            <a:ext cx="223344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明确：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76640"/>
            <a:ext cx="922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因为荷叶倾侧下来覆盖红莲，无畏的为红莲遮蔽，正如母亲为自己遮风挡雨。作者内心的温柔被深深触动，感受母亲为自己的付出，意思是自己困难的时候，只有母亲无私地帮助自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50920" y="260280"/>
            <a:ext cx="324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写一写……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1916280"/>
            <a:ext cx="8642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这首诗借助一种具体的形象抒发对母亲的爱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2708280"/>
            <a:ext cx="882000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请你也用这种手法写一段话或一首诗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3429000"/>
            <a:ext cx="42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表现对妈妈的爱……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547640" y="4365720"/>
            <a:ext cx="12240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84720" y="4797360"/>
            <a:ext cx="129564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89647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宋体"/>
              </a:rPr>
              <a:t>文章的写作重点是对荷叶护卫红莲的描写，</a:t>
            </a:r>
            <a:r>
              <a:rPr b="0" lang="zh-CN" sz="6000" spc="-1" strike="noStrike">
                <a:solidFill>
                  <a:srgbClr val="6600cc"/>
                </a:solidFill>
                <a:latin typeface="Arial"/>
                <a:ea typeface="宋体"/>
              </a:rPr>
              <a:t>那么为什么还要提及九年前祖父和我的赏莲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788000" y="836640"/>
            <a:ext cx="388764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763640" y="1989000"/>
            <a:ext cx="172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荷叶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56000" y="2708280"/>
            <a:ext cx="2087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8000">
                    <a:alpha val="56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母亲</a:t>
            </a:r>
            <a:endParaRPr b="0" lang="en-US" sz="1800" spc="1" strike="noStrike">
              <a:ln w="0">
                <a:noFill/>
              </a:ln>
              <a:solidFill>
                <a:srgbClr val="008000">
                  <a:alpha val="56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 txBox="1"/>
          <p:nvPr/>
        </p:nvSpPr>
        <p:spPr>
          <a:xfrm rot="5400000">
            <a:off x="4535280" y="4905000"/>
            <a:ext cx="129708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99cc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冰心</a:t>
            </a:r>
            <a:endParaRPr b="0" lang="en-US" sz="1800" spc="1" strike="noStrike">
              <a:ln w="12600">
                <a:solidFill>
                  <a:srgbClr val="ff99cc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3211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2286000" cy="364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84360" y="33336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230d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(1900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1999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原名谢婉莹，中国现代史上第一位著名女作家，儿童文学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代表作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散文集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《寄小读者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诗集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《繁星》、《春水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冰心的创作内容大致包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母爱、童真、自然三个方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以宣扬“爱的哲学”著称，而母爱，就是“爱的哲学”的根本出发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40000" y="189000"/>
            <a:ext cx="11239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冰心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999"/>
                </a:solidFill>
                <a:latin typeface="Arial"/>
              </a:rPr>
              <a:t>字词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ǐ mèi        hàndàn     qī x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姊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妹     </a:t>
            </a:r>
            <a:r>
              <a:rPr b="0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菡萏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īn bì        páihuái          bìng  d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6000" y="2565360"/>
            <a:ext cx="12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细黑"/>
              </a:rPr>
              <a:t>奇支  斜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29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荫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4437000"/>
            <a:ext cx="138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徘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4370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并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8360" y="333360"/>
            <a:ext cx="302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朗读感受 审美感知：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41300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、请概括文章的主要内容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916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这是一篇借景写人，托荷赞母的散文。写荷花是为了写”我“，写荷叶是为了写母亲。文中将“我”比作风吹雨打的荷花，将母亲比作替荷花抵挡风雨的荷叶，进而歌颂了父母对子女无私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920" y="4221000"/>
            <a:ext cx="468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、本文重点描写什么？采用什么手法？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08464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重点描写自家院中雨打红莲，荷叶护莲的情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采用触景生情的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659640" y="2997360"/>
            <a:ext cx="201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雨打红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732720" y="4508640"/>
            <a:ext cx="2044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荷叶护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9280" y="836640"/>
            <a:ext cx="2590920" cy="81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自由朗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3573360"/>
            <a:ext cx="23749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听读…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628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请同学们以自己最喜爱的方式朗读课文，在朗读中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注意把握作者的思想感情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324000" y="4508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注意她的停顿和语气、语调的处理，结合你对文章的理解，对她进行评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50920" y="404640"/>
            <a:ext cx="31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重点鉴赏 审美探究：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4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1d0b"/>
                </a:solidFill>
                <a:latin typeface="Arial"/>
              </a:rPr>
              <a:t>一、</a:t>
            </a:r>
            <a:r>
              <a:rPr b="0" lang="zh-CN" sz="3600" spc="-1" strike="noStrike">
                <a:solidFill>
                  <a:srgbClr val="051d0b"/>
                </a:solidFill>
                <a:latin typeface="黑体"/>
                <a:ea typeface="黑体"/>
              </a:rPr>
              <a:t>课文重点描写雨打红莲</a:t>
            </a:r>
            <a:r>
              <a:rPr b="0" lang="zh-CN" sz="3600" spc="-1" strike="noStrike">
                <a:solidFill>
                  <a:srgbClr val="051d0b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51d0b"/>
                </a:solidFill>
                <a:latin typeface="黑体"/>
                <a:ea typeface="黑体"/>
              </a:rPr>
              <a:t>荷叶护莲的情景</a:t>
            </a:r>
            <a:r>
              <a:rPr b="0" lang="zh-CN" sz="3600" spc="-1" strike="noStrike">
                <a:solidFill>
                  <a:srgbClr val="051d0b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51d0b"/>
                </a:solidFill>
                <a:latin typeface="黑体"/>
                <a:ea typeface="黑体"/>
              </a:rPr>
              <a:t>作者的心情有没有变化</a:t>
            </a:r>
            <a:r>
              <a:rPr b="0" lang="zh-CN" sz="3600" spc="-1" strike="noStrike">
                <a:solidFill>
                  <a:srgbClr val="051d0b"/>
                </a:solidFill>
                <a:latin typeface="黑体"/>
                <a:ea typeface="黑体"/>
              </a:rPr>
              <a:t>?</a:t>
            </a:r>
            <a:r>
              <a:rPr b="0" lang="zh-CN" sz="3600" spc="-1" strike="noStrike">
                <a:solidFill>
                  <a:srgbClr val="051d0b"/>
                </a:solidFill>
                <a:latin typeface="黑体"/>
                <a:ea typeface="黑体"/>
              </a:rPr>
              <a:t>请找出变化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64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4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 rot="5400000">
            <a:off x="-1513080" y="2744640"/>
            <a:ext cx="34560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三看红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404820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2641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00000" y="1052640"/>
            <a:ext cx="792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看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00000" y="2781360"/>
            <a:ext cx="7048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看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71640" y="4797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三看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79640" y="0"/>
            <a:ext cx="1368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环境描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635280" y="0"/>
            <a:ext cx="129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红莲情态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76720" y="0"/>
            <a:ext cx="136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者心态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640" y="1052640"/>
            <a:ext cx="136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繁杂的雨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浓荫的荫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35280" y="1052640"/>
            <a:ext cx="115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开满 亭亭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148360" y="105264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烦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63640" y="2492280"/>
            <a:ext cx="122400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雷声大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雨愈下愈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19640" y="2708280"/>
            <a:ext cx="143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左右奇支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292720" y="2708280"/>
            <a:ext cx="934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不适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63640" y="4292640"/>
            <a:ext cx="115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雨势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不减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64000" y="443700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不动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48360" y="429264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不宁静的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心绪散尽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、“母亲啊！你是荷叶，我是红莲，心中的雨点来了，除了你，谁是我在无遮拦天空下的荫蔽？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1. “</a:t>
            </a: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心中的雨点”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如何理解“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除了你，谁是我在无遮拦天空下的荫蔽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这一句在文章结构上有什么作      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8:39:42Z</dcterms:created>
  <dc:creator>USER</dc:creator>
  <dc:description/>
  <dc:language>en-US</dc:language>
  <cp:lastModifiedBy>zmj</cp:lastModifiedBy>
  <dcterms:modified xsi:type="dcterms:W3CDTF">2008-11-13T04:07:01Z</dcterms:modified>
  <cp:revision>28</cp:revision>
  <dc:subject/>
  <dc:title>幻灯片 1</dc:title>
</cp:coreProperties>
</file>