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283-D8FF-4816-9D11-1B0569CA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E3F-D6A5-4FB0-BCA2-270B7536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EBA-7A4F-4A1B-A5F6-FA342AA4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D6A-124F-4FEB-80FB-66351EF1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C479-DA04-4B3E-BB7C-9E21C366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19A-6917-44A4-89BD-E29E99D3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D64-D28B-4A1E-B066-FF2AE817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7F41-1957-490E-B4C5-3CCBCAAB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43D-8883-4E91-85E7-91B3766A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815C-0775-47DE-A0FB-8A0585DA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EF07-975F-4BB8-81AD-3DCC733A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2CD-24B9-4B10-AC92-EC00E77E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B7FB-69D4-4882-B9E6-687CC0DB1C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84360" y="62064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回忆鲁迅先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276720" y="272880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萧   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luxun2"/>
          <p:cNvPicPr/>
          <p:nvPr/>
        </p:nvPicPr>
        <p:blipFill>
          <a:blip r:embed="rId1"/>
          <a:stretch/>
        </p:blipFill>
        <p:spPr>
          <a:xfrm>
            <a:off x="5716440" y="2338560"/>
            <a:ext cx="2462400" cy="339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0" y="0"/>
            <a:ext cx="43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鲁迅故居按照鲁迅生前居住时的情形复原；屋前有小花圃，种植桃树、紫荆、石榴等花木。底层前间是客厅，中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张西餐桌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椅子。沿西墙放有书橱和瞿秋白留赠的书桌。南窗下是夫人许广平的缝纫机，靠东墙是儿子海婴的玩具橱和小桌椅。后间是餐室，正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张方桌，围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椅子，西北墙角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只双层餐具橱，东墙放着西式衣帽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楼的前间是鲁迅的卧室兼书斋。东面是张铁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沿西墙放着大衣柜、茶几、两把藤椅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镜台，镜台上陈设着外国版画。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幅海婴出生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luxunguju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284720" y="0"/>
            <a:ext cx="46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像挂在靠北墙的五斗橱的上端。南窗糊着彩色玻璃纸，窗下是书桌，桌上放着文具、烟具和花具。窗边壁上的日历维持着原状：民国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，镜台上的闹钟指针停在凌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显示着鲁迅逝世的日期和时间。后间是贮藏室，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只瞿秋白留下的红色破皮板箱，两边的木箱盛放着鲁迅举办版画展览时的镜框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只多层用品橱，内有鲁迅的修书工具、药品和医疗器皿等各种什物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楼前间有阳台，是海婴与褓姆的卧室，除一张大床外，室内陈设简单。后间是客房、放着简单的卧具、桌椅和书橱，在这里鲁迅掩护过瞿秋白、冯雪峰等共产党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luxunguju"/>
          <p:cNvPicPr/>
          <p:nvPr/>
        </p:nvPicPr>
        <p:blipFill>
          <a:blip r:embed="rId1"/>
          <a:stretch/>
        </p:blipFill>
        <p:spPr>
          <a:xfrm>
            <a:off x="0" y="0"/>
            <a:ext cx="421164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260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鲁迅故居内的家具，绝大部分是原物，鲁迅逝世后，许广平迁居淮海中路淮海坊时曾带走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5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恢复鲁迅故居时由许广平捐赠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鲁迅上海故居在抗日战争期间，被日侨占住。抗战胜利后，一度为茶叶专家吴觉农寓所的一部分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让与民生实业公司，作为该公司投资的太平洋轮船公司的职工宿舍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5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春，国家筹建上海鲁迅纪念馆时，决定恢复鲁迅故居。同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征用了大陆新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号，经政务院总理周恩来批准，鲁迅夫人许广平（时为政务院副秘书长）来沪指导筹建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5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作为上海鲁迅纪念馆的组成部分对外开放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5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改为内部开放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8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起对外开放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95280" y="19368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在现代所有的中国人中，鲁迅无疑是最为深刻而且最为独特的一个，他的遗嘱也是最为独特的一封。下面是遗嘱全文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只想到过写遗嘱，以为我倘曾贵为宫保，富有千万，儿子和女婿及其他一定早已逼我写好遗嘱了，现在却谁也不提起。但是，我也留下一张罢。当时好像很想定了一些，都是写给亲属的，其中有的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不是因为丧事，收受任何一文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但老朋友的，不在此例，赶快收敛、埋掉、拉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不要做任何关于纪念的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忘掉我，管自己的生活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倘不，那就真是胡涂虫。孩子长大，倘无才能，可寻点小事情过活，万不可去做空头文学家或美术家别人应许给你的事物，不可当真损着别人的牙眼，却反对报复，主张宽容的人，万勿和他接近此外自然还有，现在忘记了。只还记得在发热时，又曾想到欧洲人临死时，往往有一种仪式，是请别人宽恕，自己也宽恕了别人。我的怨敌可谓多矣，倘有新式的人问起我来，怎么回答呢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想了一想，决定的是：让他们怨恨去，我也一个都不宽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95280" y="333360"/>
            <a:ext cx="87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提起鲁迅，总会想起很多词语：深邃、沉重、严厉、倔强、勇毅、果敢……浓黑的一字须，根根向上的头发，吸着烟斗、面目严肃冷峻，这是鲁迅通常留给我们的印象，他似乎“对一切人都怀有忧虑和敌意”，但那却不是他的全部，他活着的时候，周围有许多文学青年愿意“亲近”他，萧红就是其中的一个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2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324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9"/>
          <p:cNvPicPr/>
          <p:nvPr/>
        </p:nvPicPr>
        <p:blipFill>
          <a:blip r:embed="rId2"/>
          <a:stretch/>
        </p:blipFill>
        <p:spPr>
          <a:xfrm>
            <a:off x="74520" y="0"/>
            <a:ext cx="4040280" cy="6172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4572000" y="685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52480" y="4800600"/>
            <a:ext cx="586764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萧           红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1911—1942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886200" y="-227160"/>
            <a:ext cx="5257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2602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萧红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1911-1942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），原名张廼莹，笔名萧红，悄吟，出生于黑龙江呼兰县一个地主家庭。为了反对包办婚姻，逃离家庭，困窘间向报社投稿，并因此结识萧军，两人相爱，萧红也从此走上写作之路，两人一同完成小说、散文集《跋涉》。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1934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年到上海，与鲁迅相识，同年完成长篇《生死场》，次年在鲁迅帮助下作为“奴隶丛书”之一出版，由此取得了在现代文学史上的地位。萧红带有左翼现实主义风格的小说还有一部长篇《马伯乐》，但质量不高。她更有成就的长篇是写于香港的回忆性长篇小说《呼兰河传》，以及一系列回忆故乡的中短篇如《牛车上》、，《小城三月》等。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1942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黑体"/>
              </a:rPr>
              <a:t>月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22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黑体"/>
              </a:rPr>
              <a:t>日死卒于香港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24000" y="476280"/>
            <a:ext cx="851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本文节选自萧红长篇回忆性叙事散文《回忆鲁迅先生》，作于鲁迅逝世三年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萧红是一位经常从记忆深处挖掘写作素材的作家，而这篇文章变是她这类作品的代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将自己与鲁迅交往过程中的所见所闻所感剪裁提炼，组织成文。节选部分共分八个生活片段叠加而成，自然空行成段。全文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布局自由随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女性独有的敏锐目光悉心观察，捕捉到了鲁迅先生许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灵动传神的细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质朴浅白清新隽永的语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于细微之处写出了一个真实的、充满人情味的活生生的鲁迅，彰显了一代伟人鲁迅的思想和人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187280" y="549360"/>
            <a:ext cx="698508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、文中描写了鲁迅的哪些生活片段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、你印象最深刻的是哪一个细节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（可以从内容和形式两方面着手来谈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24000" y="1125360"/>
            <a:ext cx="251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鲁迅先生的笑声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明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，是从心里的欢喜，若有人说了什么可笑的话，鲁迅先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笑得连烟卷都拿不住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常常是笑得咳嗽起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564000" y="1052640"/>
            <a:ext cx="36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鲁迅先生走路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轻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……他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抓起帽子拉往头上一扣，同时左腿就伸出去了，仿佛不顾一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走去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116000" y="333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灵动传神的细节，质朴浅白的语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900000" y="609300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爽朗乐观、率真可亲、平易近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524720" y="1413000"/>
            <a:ext cx="100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492360" y="4005360"/>
            <a:ext cx="56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饺子煮好，一上楼梯，就听到楼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明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鲁迅先生的笑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楼梯来，原来有几个朋友在楼上也正谈得热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7504200" y="1884240"/>
            <a:ext cx="124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敏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性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坚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28"/>
          <p:cNvPicPr/>
          <p:nvPr/>
        </p:nvPicPr>
        <p:blipFill>
          <a:blip r:embed="rId1"/>
          <a:stretch/>
        </p:blipFill>
        <p:spPr>
          <a:xfrm>
            <a:off x="7451640" y="4495680"/>
            <a:ext cx="16923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19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649440" y="476280"/>
            <a:ext cx="6802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方正姚体"/>
              </a:rPr>
              <a:t>自题小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方正姚体"/>
              </a:rPr>
              <a:t>灵台无计逃神矢，风雨如磐暗故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方正姚体"/>
              </a:rPr>
              <a:t>寄意寒星荃不察，我以我血荐轩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755640" y="5259240"/>
            <a:ext cx="692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方正姚体"/>
              </a:rPr>
              <a:t>无情未必真豪杰，怜子如何不丈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042920" y="3191040"/>
            <a:ext cx="4191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方正姚体"/>
              </a:rPr>
              <a:t>横眉冷对千夫指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方正姚体"/>
              </a:rPr>
              <a:t>俯首甘为孺子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8369280" y="457200"/>
            <a:ext cx="546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8292960" y="2514600"/>
            <a:ext cx="546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29"/>
          <p:cNvPicPr/>
          <p:nvPr/>
        </p:nvPicPr>
        <p:blipFill>
          <a:blip r:embed="rId3"/>
          <a:stretch/>
        </p:blipFill>
        <p:spPr>
          <a:xfrm>
            <a:off x="7451640" y="2276640"/>
            <a:ext cx="1692360" cy="2379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63480" y="333360"/>
            <a:ext cx="79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68360" y="47628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周先生在课堂上，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一生气就用眼睛往下一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看着她们，这种眼光鲁迅先生在记范爱农先生的文字里曾自己述说过，而曾经接触过这种眼光的人就会感到一个旷代的全智者的催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19120" y="3068640"/>
            <a:ext cx="808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青年人写信，写得太草率，鲁迅先生是深恶痛绝之的。……但他还是展读着每封由不同角落里投来的青年的信，眼睛不济时，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便戴起眼镜来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常常看到夜里很深的时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258920" y="5516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青年严格要求的同时又深切关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63480" y="333360"/>
            <a:ext cx="79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68360" y="47628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可是鲁迅先生还是在饭桌上举着筷子问许先生：“我再吃几个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11280" y="1700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好久不见，好就不见。”一边说着一边向我点头。……转身坐在躺椅上才自己笑起来，他是在开着玩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372360" y="1628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幽默风趣可爱可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11280" y="3933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许先生和鲁迅先生都笑着，一种对于冲破忧郁心境的展然的会心的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456000" y="5229360"/>
            <a:ext cx="54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鲁迅先生很有意思的在地板上走几步，而后向我说：“他是贩卖私货的商人，是贩卖精神上的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6713640" y="52164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910080" y="5504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坚定乐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619280" y="549360"/>
            <a:ext cx="390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小结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00000" y="1989000"/>
            <a:ext cx="64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语言质朴浅白清新隽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00000" y="306864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善于撷取生活琐事捕捉细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84360" y="4221000"/>
            <a:ext cx="76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印象中的鲁迅：生活平凡随意、为人宽厚仁爱，待友真诚悉心，意志坚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 flipH="1">
            <a:off x="5147640" y="5805360"/>
            <a:ext cx="374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伟大而平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667640" y="1413000"/>
            <a:ext cx="11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写作特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0"/>
            <a:ext cx="89154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怀鲁迅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郁达夫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是晴天的霹雳，在南台的宴会席上，忽而听到了鲁迅的死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发出了几通电报，会萃了一夜行李，第二天我就匆匆跳上了开往上海的轮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十二日上午十时船靠了岸，到家洗了一个澡，吞了两口饭，跑到胶州路万国殡仪馆去，遇见的只是真诚的脸，热烈的脸，悲愤的脸，和千千万万将要破裂似的青年男女的心肺与紧捏的拳头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不是寻常的丧事，这也不是沉郁的悲哀，这正象是大地震要来，或黎时将到时充塞在天地之间的一瞬间的寂静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395280" y="333360"/>
            <a:ext cx="8748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死，肉体，灵魂，眼泪，悲叹，这些问题与感觉，在此地似乎太渺小了，在鲁迅的死的彼岸，还照耀着一道更伟大，更猛烈的寂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没有伟大的人物出现的民族，是世界上最可怜的生物之群；有了伟大的人物，而不知拥护，爱戴，崇仰的国家，是没有希望的奴隶之邦。因鲁迅的一死，使人自觉出了民族的尚可以有为，也因鲁迅之一死，使人家看出了中国还是奴隶性很浓厚的半绝望的国家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鲁迅的灵柩，在夜阴里被埋入浅土中去了；西天角却出现了一片微红的新月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九三六年十月二十四日在上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载一九三六年十一月一日《文学》第七卷第五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24000" y="692280"/>
            <a:ext cx="82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作文题目：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X X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其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要求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、写身边熟悉的人，选取生活琐事，写得有血有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、综合运用多种表达方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、字数不少于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7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6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91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年在北京与全国儿童展览会会员合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60680" y="295200"/>
            <a:ext cx="611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193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年在北京师范大学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7470720" y="380880"/>
            <a:ext cx="546120" cy="69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6399360" y="4495680"/>
            <a:ext cx="610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8207640" y="0"/>
            <a:ext cx="14094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0" y="6019920"/>
            <a:ext cx="92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193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年在上海，和宋庆龄蔡元培等在一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2209680" y="2666880"/>
            <a:ext cx="3276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133720" y="6477120"/>
            <a:ext cx="4343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114800" y="5181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93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年在全国木刻展览会上和青年在一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791320" y="2666880"/>
            <a:ext cx="3124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4000" y="79704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93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日鲁迅在上海逝世。广大群众争相奔赴万国殡仪馆瞻仰遗容，中共中央也来电吊唁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日，送葬群众多达数万人。鲁迅遗体覆盖着上海民众所献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民族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旗子，安葬于虹桥万国公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029200" y="5943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 迅 遗 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图片1"/>
          <p:cNvPicPr/>
          <p:nvPr/>
        </p:nvPicPr>
        <p:blipFill>
          <a:blip r:embed="rId1"/>
          <a:stretch/>
        </p:blipFill>
        <p:spPr>
          <a:xfrm>
            <a:off x="1440" y="9360"/>
            <a:ext cx="7810560" cy="6848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7956720" y="692280"/>
            <a:ext cx="9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956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，鲁迅墓迁到上海虹口公园，由毛泽东题署墓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luxunguju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4932360" y="18900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关于鲁迅故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迅先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从广州来到上海，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逝世，在上海整整生活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。先后住在虬江路景云里和山阴路大陆新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号。大陆新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号，是鲁迅在上海最后的寓所。鲁迅在民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以内山书店职员的名义迁入，在这里，鲁迅从事了大量创作，翻译、编辑工作、还组织了“中国自由运动大同盟”和“左联”活动，直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在这里逝世。现屋内陈列着主人生前用过的珍贵物品和写作用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3:24:55Z</dcterms:created>
  <dc:creator>第一PPT模板网-WWW.1PPT.COM</dc:creator>
  <dc:description/>
  <dc:language>en-US</dc:language>
  <cp:lastModifiedBy>Administrator</cp:lastModifiedBy>
  <dcterms:modified xsi:type="dcterms:W3CDTF">2017-05-08T02:15:47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