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AFE-F0A9-4F6C-9858-A84C9627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106-D5AB-4E0A-9EFD-20680C7B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EF43-7C8E-4DBC-965B-CCC95A33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9B97-82A8-4332-A877-92854760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643-0659-4626-B25E-0BA61F61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B592-2A2A-4B1C-8643-FC10F85D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9822-22AE-4ADA-A695-6D9CB04B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21FB-9600-4A83-A192-578C9247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DF6C-E9CD-4EB8-B37B-F89DB3B1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F01-9C5E-4F01-928D-F4153507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35E-395C-4A33-A95A-4B0A121F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F04A-C481-40C8-A38E-1B931B77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6C4B-700E-49CB-8BA2-93358236AB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8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6480" y="0"/>
            <a:ext cx="2191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隶书"/>
              </a:rPr>
              <a:t>︻淮阴侯列传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511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始为布衣时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贫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不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推择为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贫：缺吃少穿；穷：不得志、不显贵。两者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品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能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常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从其下乡南昌亭长寄食，数月，亭长妻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，乃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晨炊蓐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通“尝”，曾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之为患，可译为“嫌恶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晨炊蓐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晨”“蓐”名作状。蓐通“褥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吾必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报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以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固定结构，有条件、有办法、有机会、能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信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之，俯出胯下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蒲伏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孰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通“熟”。仔细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蒲伏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通“匍匐”，跪在地上爬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990720" y="274320"/>
            <a:ext cx="79250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古 今 异 义 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5064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虽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长大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好带刀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贫无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不能治生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商贾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哀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王孙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进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35640" y="155736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（长得高大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227664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品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6000" y="2997360"/>
            <a:ext cx="3527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做生意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做买卖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年轻人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4437000"/>
            <a:ext cx="5219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577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、特殊句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信钓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于城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淮阴屠中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少年有侮信者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何为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斩壮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684360" y="0"/>
            <a:ext cx="5867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48000" y="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1484280"/>
            <a:ext cx="22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状语后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2781360"/>
            <a:ext cx="27716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定语后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386064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宾语前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880" y="333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文本研习：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一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文章开始的三小节写了韩信早年生活的三个小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、 请 同学们找到每个故事中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关键词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四个字概括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每个小故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、说说这三个小故事说明了韩信早年生活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境况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是怎样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260280"/>
            <a:ext cx="8137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们得出这样的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结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024360" cy="4176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1125360"/>
            <a:ext cx="43909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韩信早年身处社会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底层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，生活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贫苦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，且饱受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屈辱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9640" y="152280"/>
            <a:ext cx="7777440" cy="36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行楷"/>
              </a:rPr>
              <a:t>文本研习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楷体"/>
              </a:rPr>
              <a:t>二、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华文楷体"/>
              </a:rPr>
              <a:t>请仔细阅读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华文楷体"/>
              </a:rPr>
              <a:t>“怒绝亭长”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华文楷体"/>
              </a:rPr>
              <a:t>、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华文楷体"/>
              </a:rPr>
              <a:t>“漂母饭信”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华文楷体"/>
              </a:rPr>
              <a:t>、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华文楷体"/>
              </a:rPr>
              <a:t>“胯下受辱”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华文楷体"/>
              </a:rPr>
              <a:t>这三个小故事，找到每个故事中的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华文楷体"/>
              </a:rPr>
              <a:t>关键词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华文楷体"/>
              </a:rPr>
              <a:t>，分析其揭示了人物什么样的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华文楷体"/>
              </a:rPr>
              <a:t>个性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华文楷体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3068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怒绝亭长</a:t>
            </a:r>
            <a:r>
              <a:rPr b="0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----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屈辱之中的自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漂母饭信</a:t>
            </a:r>
            <a:r>
              <a:rPr b="0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----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自信和抱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胯下受辱</a:t>
            </a:r>
            <a:r>
              <a:rPr b="0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----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坚忍，忍辱负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6764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301160" y="907920"/>
            <a:ext cx="164268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淮安胯下桥遗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333360"/>
            <a:ext cx="374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导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我国古代有一个能忍受胯下之辱的人，这个人就是大名鼎鼎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韩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。韩信除了受胯下之辱外还有很多令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敬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的事迹。今天我们就通过学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《史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淮阴侯列传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来进一步了解韩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40360" y="1484280"/>
            <a:ext cx="4859280" cy="4032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9636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837200" y="1557360"/>
            <a:ext cx="911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漂母遗食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82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三、司马迁为什么单单从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韩信的早年生活中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挑选了这三个故事来写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89000"/>
            <a:ext cx="532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行楷"/>
              </a:rPr>
              <a:t>文本研习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61214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性格决定命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韩信的忍辱负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开阔胸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乐观自信正是他后来纵横天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所向披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立下盖世之功的前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;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他的知恩图报也是其悲剧的重要原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229600" cy="53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古之所谓豪杰之士，必有过人之节。人情有所不能忍者。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匹夫见辱</a:t>
            </a:r>
            <a:r>
              <a:rPr b="1" lang="zh-CN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，拔剑而起，挺身而斗，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此不足为勇也</a:t>
            </a:r>
            <a:r>
              <a:rPr b="1" lang="zh-CN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。天下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有大勇者</a:t>
            </a:r>
            <a:r>
              <a:rPr b="1" lang="zh-CN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，卒然临之而不惊，无故加之而不怒，此其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所挟持者甚大</a:t>
            </a:r>
            <a:r>
              <a:rPr b="1" lang="zh-CN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，而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其志甚远</a:t>
            </a:r>
            <a:r>
              <a:rPr b="1" lang="zh-CN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挟持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胸襟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气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            ——</a:t>
            </a:r>
            <a:r>
              <a:rPr b="1" lang="zh-CN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苏轼《留侯论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42920" y="549360"/>
            <a:ext cx="7201080" cy="38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三个故事的结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韩信被封为楚王）信至国，召所从食漂母，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赐千金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及下乡南昌亭长，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赐百钱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曰：“公，小人也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为德不卒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”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召辱己之少年令出胯下者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以为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楚中尉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告诸将相曰：“此壮士也。方辱我时，我宁不能杀之邪？杀之无名，故忍而就于此。”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79280" y="476280"/>
            <a:ext cx="8713800" cy="47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课后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预习课文中“井陉之战”等其他内容。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探讨韩信为什么能成为一代名将，又为什么</a:t>
            </a:r>
            <a:r>
              <a:rPr b="1" lang="zh-CN" sz="3600" spc="-1" strike="noStrike">
                <a:solidFill>
                  <a:srgbClr val="cc3300"/>
                </a:solidFill>
                <a:latin typeface="华文楷体"/>
                <a:ea typeface="华文楷体"/>
              </a:rPr>
              <a:t>只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成为一代名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推荐参考篇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①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胯下奇辱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朱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②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 无韵之离骚 ”解读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＜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史记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淮阴侯列传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＞ 》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谷定珍          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③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将无大为——读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＜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史记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淮阴侯列传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＞ 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整理所学课文内容中的文言知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9280" y="981000"/>
            <a:ext cx="4032360" cy="156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教师补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韩信“投项，不用，投刘，几死。无奈亡去。”幸遇“萧何追韩信”“拜为大将军”，才对刘邦“毕陈平生之画略，论楚之所以失，汉之所以得……”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等省略的内容。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067280" y="1700280"/>
            <a:ext cx="4859280" cy="3529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0920" y="0"/>
            <a:ext cx="8569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一、学习第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4—7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段：</a:t>
            </a: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井陉之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生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井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 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     传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前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井陉之战”中重点字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乘胜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远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其锋不可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去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离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远斗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远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愿陛下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假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臣奇兵三万人，从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间道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绝其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辎重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足下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深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沟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垒，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坚营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勿与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假：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间道：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隐蔽的小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辎重：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军用物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深，高：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名作动，深挖，加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坚营：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坚守军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致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戏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“麾”，营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能千里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而袭我，亦已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罢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极。今如此避而不击，后有大者，何以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加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：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竟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里：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跋涉千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罢：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通“疲”，疲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加：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对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将之旗鼓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出井陉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设置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鼓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名词做状语，大吹大擂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上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开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疾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打开（营门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入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动词的使动用法，使… …进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复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赵见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，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壁逐我，若疾入赵壁，罢赵帜，立汉赤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走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逃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空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“空”，使动，意思是“全营出击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于是有缚广武君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下者，信乃解其缚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东乡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，西乡对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师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戏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通“麾”，军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东乡坐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请他面向东面坐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师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名作状，象对待老师一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事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对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260280"/>
            <a:ext cx="849636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难句疏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愿陛下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假（借）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臣奇兵三万人，从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间道（小路）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绝其辎重；足下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深沟高垒（名作动，深挖战壕，加高营垒），坚营（坚守军营）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勿与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之）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今韩信兵号数万，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其实（它实际上）不过（超过）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千。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能千里（能够跋涉千里）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而袭我，亦已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罢（通“疲”，疲劳）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极。今如此避而不击，后有大者，何以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加（对付）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50920" y="260280"/>
            <a:ext cx="84978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( 3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赵见我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走（逃跑）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“空”，使动，意思是“全营出击”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逐我，若疾入赵壁，罢赵帜，立汉赤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是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缚（捆绑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广武君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致（送到）戏下（通“麾下”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者，信乃解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缚（绳子），东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请他面向东面坐下），西乡对（自己面向西面坐下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系古人的座次，如《鸿门宴》中“项王、项伯东向坐，亚父南向坐，沛公北向坐，张良西向侍”）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师（名作状，用对待老师的礼节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事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予之生地，皆走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宁尚（怎么还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得（能够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用之乎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189000"/>
            <a:ext cx="820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问题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） 韩信能取得井陉口这场战斗胜利有哪些主要原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356000" y="2205000"/>
            <a:ext cx="4103640" cy="3340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4000" y="2133720"/>
            <a:ext cx="3671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明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背水而阵，迷惑赵军；引蛇出洞，骑兵偷袭，内外夹击。关键是抓住了成安君迂腐、轻敌的弱点，做到了知己知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51640" y="5805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华文隶书"/>
              </a:rPr>
              <a:t>拜将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88930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） 作者在描写井陉之战时主要运用了什么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明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对比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成安君和广武军进行对比，广武君较机智，但计策没被采用；成安君和韩信进行对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衬托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如“诸将皆莫信，详应曰“诺”，反衬其料事如神；以赵军望见他的背水阵大笑，反衬出他的智谋；活捉广武君以后，对广武君的态度，衬托其胸襟气度；打完仗后对诸将的解释，反衬他高人一等的用兵机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可以与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《项羽本纪》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中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“巨鹿大战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以及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“垓下之战”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进行比较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89000"/>
            <a:ext cx="79218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一、学习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8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第段：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被贬之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教师补充省略的淮阴侯被贬的     有关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二、学习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9—10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段：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“谋反”被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教师补充项王手下武涉和齐人蒯通对韩信的游说以及韩信的回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784120" y="396864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《淮阴侯列传》自学研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763640" y="907920"/>
            <a:ext cx="5983200" cy="2231640"/>
            <a:chOff x="1763640" y="907920"/>
            <a:chExt cx="5983200" cy="2231640"/>
          </a:xfrm>
        </p:grpSpPr>
        <p:sp>
          <p:nvSpPr>
            <p:cNvPr id="145" name=""/>
            <p:cNvSpPr/>
            <p:nvPr/>
          </p:nvSpPr>
          <p:spPr>
            <a:xfrm>
              <a:off x="1763640" y="1150920"/>
              <a:ext cx="5710320" cy="1773360"/>
            </a:xfrm>
            <a:prstGeom prst="rect">
              <a:avLst/>
            </a:prstGeom>
            <a:solidFill>
              <a:srgbClr val="bbe0e3"/>
            </a:solidFill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11280" y="1397160"/>
              <a:ext cx="4392720" cy="1739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韩信之死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524720" y="907920"/>
              <a:ext cx="222120" cy="2231640"/>
              <a:chOff x="7524720" y="907920"/>
              <a:chExt cx="222120" cy="2231640"/>
            </a:xfrm>
          </p:grpSpPr>
          <p:sp>
            <p:nvSpPr>
              <p:cNvPr id="148" name=""/>
              <p:cNvSpPr/>
              <p:nvPr/>
            </p:nvSpPr>
            <p:spPr>
              <a:xfrm>
                <a:off x="7598880" y="907920"/>
                <a:ext cx="73800" cy="22316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524720" y="1101600"/>
                <a:ext cx="222120" cy="1843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0" y="549360"/>
            <a:ext cx="1692360" cy="2735280"/>
            <a:chOff x="0" y="549360"/>
            <a:chExt cx="1692360" cy="2735280"/>
          </a:xfrm>
        </p:grpSpPr>
        <p:grpSp>
          <p:nvGrpSpPr>
            <p:cNvPr id="151" name=""/>
            <p:cNvGrpSpPr/>
            <p:nvPr/>
          </p:nvGrpSpPr>
          <p:grpSpPr>
            <a:xfrm>
              <a:off x="1469880" y="907920"/>
              <a:ext cx="222480" cy="2231640"/>
              <a:chOff x="1469880" y="907920"/>
              <a:chExt cx="222480" cy="2231640"/>
            </a:xfrm>
          </p:grpSpPr>
          <p:sp>
            <p:nvSpPr>
              <p:cNvPr id="152" name=""/>
              <p:cNvSpPr/>
              <p:nvPr/>
            </p:nvSpPr>
            <p:spPr>
              <a:xfrm>
                <a:off x="1544040" y="907920"/>
                <a:ext cx="73800" cy="22316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469880" y="1101600"/>
                <a:ext cx="222480" cy="1843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549360"/>
              <a:ext cx="147636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08000" y="763560"/>
            <a:ext cx="3276360" cy="5329080"/>
            <a:chOff x="108000" y="763560"/>
            <a:chExt cx="3276360" cy="5329080"/>
          </a:xfrm>
        </p:grpSpPr>
        <p:sp>
          <p:nvSpPr>
            <p:cNvPr id="156" name=""/>
            <p:cNvSpPr/>
            <p:nvPr/>
          </p:nvSpPr>
          <p:spPr>
            <a:xfrm>
              <a:off x="396720" y="763560"/>
              <a:ext cx="2735280" cy="504216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539640" y="1268640"/>
              <a:ext cx="2448000" cy="403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" name=""/>
            <p:cNvGrpSpPr/>
            <p:nvPr/>
          </p:nvGrpSpPr>
          <p:grpSpPr>
            <a:xfrm>
              <a:off x="108000" y="5840640"/>
              <a:ext cx="3276360" cy="252000"/>
              <a:chOff x="108000" y="5840640"/>
              <a:chExt cx="3276360" cy="252000"/>
            </a:xfrm>
          </p:grpSpPr>
          <p:sp>
            <p:nvSpPr>
              <p:cNvPr id="159" name=""/>
              <p:cNvSpPr/>
              <p:nvPr/>
            </p:nvSpPr>
            <p:spPr>
              <a:xfrm>
                <a:off x="108000" y="5924880"/>
                <a:ext cx="3276360" cy="842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12480" y="5840640"/>
                <a:ext cx="2867040" cy="252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>
            <a:off x="3851280" y="981000"/>
            <a:ext cx="4699080" cy="34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易中天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韩信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一代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名将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旷世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功臣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他在困境中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挣扎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在草莽中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崛起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在战斗中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奋进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在胜利中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沉沦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他在最能够背叛刘邦的时候</a:t>
            </a:r>
            <a:r>
              <a:rPr b="1" lang="zh-CN" sz="3200" spc="-1" strike="noStrike">
                <a:solidFill>
                  <a:srgbClr val="ff3300"/>
                </a:solidFill>
                <a:latin typeface="华文楷体"/>
                <a:ea typeface="华文楷体"/>
              </a:rPr>
              <a:t>忠贞不贰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却在最不可能反叛时</a:t>
            </a:r>
            <a:r>
              <a:rPr b="1" lang="zh-CN" sz="3200" spc="-1" strike="noStrike">
                <a:solidFill>
                  <a:srgbClr val="ff3300"/>
                </a:solidFill>
                <a:latin typeface="华文楷体"/>
                <a:ea typeface="华文楷体"/>
              </a:rPr>
              <a:t>涉嫌谋反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0"/>
            <a:ext cx="3492360" cy="728280"/>
            <a:chOff x="0" y="0"/>
            <a:chExt cx="3492360" cy="728280"/>
          </a:xfrm>
        </p:grpSpPr>
        <p:grpSp>
          <p:nvGrpSpPr>
            <p:cNvPr id="163" name=""/>
            <p:cNvGrpSpPr/>
            <p:nvPr/>
          </p:nvGrpSpPr>
          <p:grpSpPr>
            <a:xfrm>
              <a:off x="142920" y="476280"/>
              <a:ext cx="3276360" cy="252000"/>
              <a:chOff x="142920" y="476280"/>
              <a:chExt cx="3276360" cy="252000"/>
            </a:xfrm>
          </p:grpSpPr>
          <p:sp>
            <p:nvSpPr>
              <p:cNvPr id="164" name=""/>
              <p:cNvSpPr/>
              <p:nvPr/>
            </p:nvSpPr>
            <p:spPr>
              <a:xfrm>
                <a:off x="142920" y="560520"/>
                <a:ext cx="3276360" cy="842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7400" y="476280"/>
                <a:ext cx="2867040" cy="252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0" y="0"/>
              <a:ext cx="34923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236000" y="0"/>
            <a:ext cx="18000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9280" y="260280"/>
            <a:ext cx="53294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问题探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韩信墓前有对联曰：“生死一知己，存亡两妇人。”联中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“一知己”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“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两妇人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分别指代什么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明确：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一知己”指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萧何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“两妇人”指的是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漂母和吕后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不仅概括了韩信一生，而且点出成败之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651640" y="1125360"/>
            <a:ext cx="3097080" cy="4143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588000" y="5661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漂母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51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154640" y="620640"/>
            <a:ext cx="1521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淮安韩信故里遗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186920" y="907560"/>
            <a:ext cx="499140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信由此日夜怨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相国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信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陛下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安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而夷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冤哉亨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91a00"/>
                </a:solidFill>
                <a:latin typeface="Arial"/>
                <a:ea typeface="黑体"/>
              </a:rPr>
              <a:t>余视其母冢</a:t>
            </a:r>
            <a:r>
              <a:rPr b="0" lang="zh-CN" sz="3600" spc="-1" strike="noStrike">
                <a:solidFill>
                  <a:srgbClr val="091a00"/>
                </a:solidFill>
                <a:latin typeface="Arial"/>
                <a:ea typeface="黑体"/>
              </a:rPr>
              <a:t>,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良</a:t>
            </a:r>
            <a:r>
              <a:rPr b="0" lang="zh-CN" sz="3600" spc="-1" strike="noStrike">
                <a:solidFill>
                  <a:srgbClr val="091a00"/>
                </a:solidFill>
                <a:latin typeface="Arial"/>
                <a:ea typeface="黑体"/>
              </a:rPr>
              <a:t>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不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已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不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其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227640" y="6524640"/>
            <a:ext cx="2880000" cy="333360"/>
            <a:chOff x="6227640" y="6524640"/>
            <a:chExt cx="2880000" cy="333360"/>
          </a:xfrm>
        </p:grpSpPr>
        <p:sp>
          <p:nvSpPr>
            <p:cNvPr id="173" name="">
              <a:hlinkClick r:id="" action="ppaction://hlinkshowjump?jump=firstslide"/>
            </p:cNvPr>
            <p:cNvSpPr/>
            <p:nvPr/>
          </p:nvSpPr>
          <p:spPr>
            <a:xfrm>
              <a:off x="6227640" y="6524640"/>
              <a:ext cx="719280" cy="333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91a00"/>
                  </a:solidFill>
                  <a:latin typeface="Arial"/>
                </a:rPr>
                <a:t>首 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>
              <a:hlinkClick r:id="" action="ppaction://hlinkshowjump?jump=previousslide"/>
            </p:cNvPr>
            <p:cNvSpPr/>
            <p:nvPr/>
          </p:nvSpPr>
          <p:spPr>
            <a:xfrm>
              <a:off x="6948360" y="6524640"/>
              <a:ext cx="719280" cy="333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91a00"/>
                  </a:solidFill>
                  <a:latin typeface="Arial"/>
                </a:rPr>
                <a:t>上一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>
              <a:hlinkClick r:id="" action="ppaction://hlinkshowjump?jump=nextslide"/>
            </p:cNvPr>
            <p:cNvSpPr/>
            <p:nvPr/>
          </p:nvSpPr>
          <p:spPr>
            <a:xfrm>
              <a:off x="7667640" y="6524640"/>
              <a:ext cx="719280" cy="333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91a00"/>
                  </a:solidFill>
                  <a:latin typeface="Arial"/>
                </a:rPr>
                <a:t>下一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>
              <a:hlinkClick r:id="" action="ppaction://hlinkshowjump?jump=endshow"/>
            </p:cNvPr>
            <p:cNvSpPr/>
            <p:nvPr/>
          </p:nvSpPr>
          <p:spPr>
            <a:xfrm>
              <a:off x="8388360" y="6524640"/>
              <a:ext cx="719280" cy="333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91a00"/>
                  </a:solidFill>
                  <a:latin typeface="Arial"/>
                </a:rPr>
                <a:t>退  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24000" y="260280"/>
            <a:ext cx="86407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难句疏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阴（暗中）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使人至豨所，曰：“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弟（只管）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举兵，吾从此助公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相国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绐（欺骗）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信曰：“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虽（即使）疾（生病）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强（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qiang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强打精神 ）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入贺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“秦之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纲绝维弛（法度败坏、政权瓦解）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山东（崤山以东六国诸侯）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扰，异姓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并（一同）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，英俊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乌集（像乌鸦一样聚集）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秦失其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鹿（帝位）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天下共逐之，于是高材疾足者先得焉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之）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且天下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锐精（磨快武器）持锋（手持利刃）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欲为陛下所为者甚众，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顾（只是）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力不及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9640" y="836640"/>
            <a:ext cx="7993080" cy="18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平回顾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个人的个性往往影响了一个人的一生。列传的开头写了怒绝亭长、漂母饭信、胯下受辱三个小故事，从中我们可以看出韩信是一个怎样个性的人？这些个性与韩信之死有什么关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0" name=""/>
            <p:cNvSpPr/>
            <p:nvPr/>
          </p:nvSpPr>
          <p:spPr>
            <a:xfrm>
              <a:off x="0" y="0"/>
              <a:ext cx="9144000" cy="333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333360"/>
              <a:ext cx="324000" cy="6191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6524640"/>
              <a:ext cx="9144000" cy="333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20000" y="333360"/>
              <a:ext cx="324000" cy="6191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227640" y="6524640"/>
            <a:ext cx="2880000" cy="333360"/>
            <a:chOff x="6227640" y="6524640"/>
            <a:chExt cx="2880000" cy="333360"/>
          </a:xfrm>
        </p:grpSpPr>
        <p:sp>
          <p:nvSpPr>
            <p:cNvPr id="185" name="">
              <a:hlinkClick r:id="" action="ppaction://hlinkshowjump?jump=firstslide"/>
            </p:cNvPr>
            <p:cNvSpPr/>
            <p:nvPr/>
          </p:nvSpPr>
          <p:spPr>
            <a:xfrm>
              <a:off x="6227640" y="6524640"/>
              <a:ext cx="719280" cy="333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91a00"/>
                  </a:solidFill>
                  <a:latin typeface="Arial"/>
                </a:rPr>
                <a:t>首 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>
              <a:hlinkClick r:id="" action="ppaction://hlinkshowjump?jump=previousslide"/>
            </p:cNvPr>
            <p:cNvSpPr/>
            <p:nvPr/>
          </p:nvSpPr>
          <p:spPr>
            <a:xfrm>
              <a:off x="6948360" y="6524640"/>
              <a:ext cx="719280" cy="333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91a00"/>
                  </a:solidFill>
                  <a:latin typeface="Arial"/>
                </a:rPr>
                <a:t>上一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>
              <a:hlinkClick r:id="" action="ppaction://hlinkshowjump?jump=nextslide"/>
            </p:cNvPr>
            <p:cNvSpPr/>
            <p:nvPr/>
          </p:nvSpPr>
          <p:spPr>
            <a:xfrm>
              <a:off x="7667640" y="6524640"/>
              <a:ext cx="719280" cy="333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91a00"/>
                  </a:solidFill>
                  <a:latin typeface="Arial"/>
                </a:rPr>
                <a:t>下一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>
              <a:hlinkClick r:id="" action="ppaction://hlinkshowjump?jump=endshow"/>
            </p:cNvPr>
            <p:cNvSpPr/>
            <p:nvPr/>
          </p:nvSpPr>
          <p:spPr>
            <a:xfrm>
              <a:off x="8388360" y="6524640"/>
              <a:ext cx="719280" cy="3333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91a00"/>
                  </a:solidFill>
                  <a:latin typeface="Arial"/>
                </a:rPr>
                <a:t>退  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"/>
            <p:cNvSpPr/>
            <p:nvPr/>
          </p:nvSpPr>
          <p:spPr>
            <a:xfrm>
              <a:off x="324000" y="333360"/>
              <a:ext cx="8496000" cy="6191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1280" y="765000"/>
              <a:ext cx="7921440" cy="53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93" name=""/>
              <p:cNvSpPr/>
              <p:nvPr/>
            </p:nvSpPr>
            <p:spPr>
              <a:xfrm>
                <a:off x="0" y="0"/>
                <a:ext cx="9144000" cy="3333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33360"/>
                <a:ext cx="324000" cy="61912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6524640"/>
                <a:ext cx="9144000" cy="3333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820000" y="333360"/>
                <a:ext cx="324000" cy="61912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991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研读课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韩信在死之前有什么反应？刘邦在韩信死之后有什么反应？如何理解这样的反应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关于蒯通游说，《淮阴侯列传》有这样一段记述，读完后你认为韩信对刘邦的是否忠心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227640" y="6524640"/>
            <a:ext cx="2880000" cy="333360"/>
            <a:chOff x="6227640" y="6524640"/>
            <a:chExt cx="2880000" cy="333360"/>
          </a:xfrm>
        </p:grpSpPr>
        <p:sp>
          <p:nvSpPr>
            <p:cNvPr id="199" name="">
              <a:hlinkClick r:id="" action="ppaction://hlinkshowjump?jump=firstslide"/>
            </p:cNvPr>
            <p:cNvSpPr/>
            <p:nvPr/>
          </p:nvSpPr>
          <p:spPr>
            <a:xfrm>
              <a:off x="6227640" y="6524640"/>
              <a:ext cx="719280" cy="333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91a00"/>
                  </a:solidFill>
                  <a:latin typeface="Arial"/>
                </a:rPr>
                <a:t>首 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>
              <a:hlinkClick r:id="" action="ppaction://hlinkshowjump?jump=previousslide"/>
            </p:cNvPr>
            <p:cNvSpPr/>
            <p:nvPr/>
          </p:nvSpPr>
          <p:spPr>
            <a:xfrm>
              <a:off x="6948360" y="6524640"/>
              <a:ext cx="719280" cy="333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91a00"/>
                  </a:solidFill>
                  <a:latin typeface="Arial"/>
                </a:rPr>
                <a:t>上一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>
              <a:hlinkClick r:id="" action="ppaction://hlinkshowjump?jump=nextslide"/>
            </p:cNvPr>
            <p:cNvSpPr/>
            <p:nvPr/>
          </p:nvSpPr>
          <p:spPr>
            <a:xfrm>
              <a:off x="7667640" y="6524640"/>
              <a:ext cx="719280" cy="3333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91a00"/>
                  </a:solidFill>
                  <a:latin typeface="Arial"/>
                </a:rPr>
                <a:t>下一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>
              <a:hlinkClick r:id="" action="ppaction://hlinkshowjump?jump=endshow"/>
            </p:cNvPr>
            <p:cNvSpPr/>
            <p:nvPr/>
          </p:nvSpPr>
          <p:spPr>
            <a:xfrm>
              <a:off x="8388360" y="6524640"/>
              <a:ext cx="719280" cy="3333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91a00"/>
                  </a:solidFill>
                  <a:latin typeface="Arial"/>
                </a:rPr>
                <a:t>退  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333360"/>
            <a:ext cx="9144000" cy="619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齐人蒯通以相人说韩信……韩信曰：“汉王遇我甚厚，载我以其车，衣我以其衣，食我以其食。吾闻之，乘人之车者载人之患，衣人之衣者怀人之忧，食人之食者死人之事，吾岂可以乡利倍义乎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蒯生曰：“臣以为足下必汉王之不危己，亦误矣。大夫种、范蠡存亡越，霸勾践，立功成名而身死亡。野兽已尽而猎狗亨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今足下戴震主之威，挟不赏之功，归楚，楚人不信；归汉，汉人震恐：足下欲持是安归乎？夫势在人臣之位而有震主之威，名高天下，窃为足下危之。”韩信谢曰：“先生且休矣，吾将念之。”后数日，蒯通复说曰……韩信犹豫不忍倍汉，又自以为功多，汉终不夺我齐，遂谢蒯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00720" y="1125360"/>
            <a:ext cx="215892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1557360"/>
            <a:ext cx="604836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3789360"/>
            <a:ext cx="194436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85080" y="3357720"/>
            <a:ext cx="125892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0920" y="2924280"/>
            <a:ext cx="55454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20000" y="4724280"/>
            <a:ext cx="194472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084640"/>
            <a:ext cx="36720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300720" y="6524640"/>
            <a:ext cx="2879280" cy="333360"/>
            <a:chOff x="6300720" y="6524640"/>
            <a:chExt cx="2879280" cy="333360"/>
          </a:xfrm>
        </p:grpSpPr>
        <p:sp>
          <p:nvSpPr>
            <p:cNvPr id="213" name="">
              <a:hlinkClick r:id="" action="ppaction://hlinkshowjump?jump=firstslide"/>
            </p:cNvPr>
            <p:cNvSpPr/>
            <p:nvPr/>
          </p:nvSpPr>
          <p:spPr>
            <a:xfrm>
              <a:off x="6300720" y="6524640"/>
              <a:ext cx="718920" cy="333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首 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>
              <a:hlinkClick r:id="" action="ppaction://hlinkshowjump?jump=previousslide"/>
            </p:cNvPr>
            <p:cNvSpPr/>
            <p:nvPr/>
          </p:nvSpPr>
          <p:spPr>
            <a:xfrm>
              <a:off x="7021080" y="6524640"/>
              <a:ext cx="718920" cy="333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上一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>
              <a:hlinkClick r:id="" action="ppaction://hlinkshowjump?jump=nextslide"/>
            </p:cNvPr>
            <p:cNvSpPr/>
            <p:nvPr/>
          </p:nvSpPr>
          <p:spPr>
            <a:xfrm>
              <a:off x="7740360" y="6524640"/>
              <a:ext cx="718920" cy="333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下一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>
              <a:hlinkClick r:id="" action="ppaction://hlinkshowjump?jump=endshow"/>
            </p:cNvPr>
            <p:cNvSpPr/>
            <p:nvPr/>
          </p:nvSpPr>
          <p:spPr>
            <a:xfrm>
              <a:off x="8461080" y="6524640"/>
              <a:ext cx="718920" cy="333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退  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333360"/>
            <a:ext cx="9144000" cy="619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8000" y="693720"/>
            <a:ext cx="8964720" cy="5040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900000" y="1341000"/>
            <a:ext cx="7129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韩信谋反，你觉得司马迁的写作有没有可疑之处？为什么要写刘邦抓蒯通的事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300720" y="6524640"/>
            <a:ext cx="2879280" cy="333360"/>
            <a:chOff x="6300720" y="6524640"/>
            <a:chExt cx="2879280" cy="333360"/>
          </a:xfrm>
        </p:grpSpPr>
        <p:sp>
          <p:nvSpPr>
            <p:cNvPr id="221" name="">
              <a:hlinkClick r:id="" action="ppaction://hlinkshowjump?jump=firstslide"/>
            </p:cNvPr>
            <p:cNvSpPr/>
            <p:nvPr/>
          </p:nvSpPr>
          <p:spPr>
            <a:xfrm>
              <a:off x="6300720" y="6524640"/>
              <a:ext cx="718920" cy="333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首 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7021080" y="6524640"/>
              <a:ext cx="718920" cy="333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上一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>
              <a:hlinkClick r:id="" action="ppaction://hlinkshowjump?jump=nextslide"/>
            </p:cNvPr>
            <p:cNvSpPr/>
            <p:nvPr/>
          </p:nvSpPr>
          <p:spPr>
            <a:xfrm>
              <a:off x="7740360" y="6524640"/>
              <a:ext cx="718920" cy="333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下一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>
              <a:hlinkClick r:id="" action="ppaction://hlinkshowjump?jump=endshow"/>
            </p:cNvPr>
            <p:cNvSpPr/>
            <p:nvPr/>
          </p:nvSpPr>
          <p:spPr>
            <a:xfrm>
              <a:off x="8461080" y="6524640"/>
              <a:ext cx="718920" cy="333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退  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838080"/>
            <a:ext cx="7619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陈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豨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造反，乃是因为宾客众多，太过招摇，由周昌密告引起，与韩信毫无关联，陈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豨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高祖七年得封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巨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鹿守，在此之前未見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韩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信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他有任何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过从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两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人 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关系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连点头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之交都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称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不上的情況下，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韩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信哪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里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有可能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贸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然要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陈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豨造反？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况陈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豨 乃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刘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邦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宠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臣，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韩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信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难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道不怕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陈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豨向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刘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邦告密？加上若是高祖七年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两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人的密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谈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真有 其事，直到高祖十年才起兵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谋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反，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旷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日已久，以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韩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信用兵之神，似不合常理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2280" y="0"/>
            <a:ext cx="8991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韩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信舍人之弟因其兄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为韩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信所 囚，向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吕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后告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发韩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信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准备谋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反的情況，其言是否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属实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尚未能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确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定，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吕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后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却单凭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一 面之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词轻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易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相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信，是其一；若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韩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信果真造反，有真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凭实据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在手，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吕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后大可正式下 令逮捕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韩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信，出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师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有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拒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则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天下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归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之，根本不需要提拔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韩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信的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萧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何去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将韩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信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骗进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宫斩杀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之。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当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是其有意嫁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祸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无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出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师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之光明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号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召，因而不敢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惊动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天下，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将韩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信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骗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进长乐钟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室暗中解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决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之。故知太史公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记韩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信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与陈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豨密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谋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此段，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实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乃其曲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笔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所在， 行文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运笔间无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一不在告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诉读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者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韩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信是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</a:rPr>
              <a:t>无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辜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995640" y="549360"/>
            <a:ext cx="50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、有人说韩信是被吕后等</a:t>
            </a: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设计陷害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死的；也有人认为他造反证据确凿，</a:t>
            </a: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咎由自取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还有人认为他是</a:t>
            </a: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被逼上梁山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对此你怎么看？请认真研读课文，收集有关资料，说说你的看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4360" y="537372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韩信点将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39956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50920" y="260280"/>
            <a:ext cx="87138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明确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三种说法各有道理，关键是联系文本，言之成理。一般多赞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楷体"/>
              </a:rPr>
              <a:t>“陷害说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。主要依据是：韩信临刑前的遗言：“恨不用蒯通计”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楷体"/>
              </a:rPr>
              <a:t>“恨”意思是“遗憾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，不是“怨恨”），蒯通的话：“竖子不用臣之策，故令自夷。”“不用”、“自夷”，反过来说明韩信不可能谋反。另外，与陈豨密谋叛逆，以及和在京城的内应，也显得很小儿科，一代大英雄竟如此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楷体"/>
              </a:rPr>
              <a:t>小儿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，不大可信，所以有人说这是吕后等人的诬告。密谋造反与事实不合。参照《陈豨传》中记载，陈豨并没有谋反，而是被逼迫造反，还有其他种种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39636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关于韩信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汉初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军事家。淮阴（今属江苏）人。陈胜、吴广起义后，韩信始投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项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继随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项羽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后从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刘邦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汉高祖元年（前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6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经丞相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萧何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力荐，始为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大将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协助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刘邦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制定了还定三秦以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夺天下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方略。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楚汉战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期间，韩信率兵数万，开辟北方战场。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破魏之战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针对魏军部署，佯作正面渡河之势，暗从侧后偷渡，攻其不备，俘获魏王豹。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井陉之战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背水为阵，大破赵军。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淮水之战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借助河水，分割楚军，将齐、楚联军各个击灭。四年二月，被封为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齐王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参与指挥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垓下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今安徽灵璧南）决战，击灭楚军。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韩信熟谙兵法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战功卓著，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为汉王朝的创建作出了重要贡献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刘邦虽用韩信而心存疑忌，故在项羽败亡后，即夺其兵权，徙为楚王，继又黜为淮阴侯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吕后知刘邦疑忌韩信，乃与萧何定计，于汉高祖十一年正月诱韩信至长乐宫，以谋反罪名杀之。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韩信著有兵书三篇，已失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95280" y="333360"/>
            <a:ext cx="82803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三、学习第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11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段：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论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诵读论赞，教师正音，纠正句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难句疏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假令韩信学道歉让，不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伐（夸耀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己功，不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矜（自满）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其能，则庶几哉，于汉家勋可以比周、召、太公之徒，后世血食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不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务（致力）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此，而天下已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集（通“辑”安定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乃（却）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谋叛逆，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夷灭（诛灭）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宗族，不亦宜乎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333360"/>
            <a:ext cx="9144000" cy="619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692280"/>
            <a:ext cx="8497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太史公评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一）这段“太史公曰”包含了哪些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其中“天下已集，乃谋叛逆”有什么言外之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三）有一个版本中，把“不亦宜乎”改成了“不亦惑乎”，你认为哪一种好，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300720" y="6524640"/>
            <a:ext cx="2879280" cy="333360"/>
            <a:chOff x="6300720" y="6524640"/>
            <a:chExt cx="2879280" cy="333360"/>
          </a:xfrm>
        </p:grpSpPr>
        <p:sp>
          <p:nvSpPr>
            <p:cNvPr id="235" name="">
              <a:hlinkClick r:id="" action="ppaction://hlinkshowjump?jump=firstslide"/>
            </p:cNvPr>
            <p:cNvSpPr/>
            <p:nvPr/>
          </p:nvSpPr>
          <p:spPr>
            <a:xfrm>
              <a:off x="6300720" y="6524640"/>
              <a:ext cx="718920" cy="333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首 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>
              <a:hlinkClick r:id="" action="ppaction://hlinkshowjump?jump=previousslide"/>
            </p:cNvPr>
            <p:cNvSpPr/>
            <p:nvPr/>
          </p:nvSpPr>
          <p:spPr>
            <a:xfrm>
              <a:off x="7021080" y="6524640"/>
              <a:ext cx="718920" cy="333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上一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>
              <a:hlinkClick r:id="" action="ppaction://hlinkshowjump?jump=nextslide"/>
            </p:cNvPr>
            <p:cNvSpPr/>
            <p:nvPr/>
          </p:nvSpPr>
          <p:spPr>
            <a:xfrm>
              <a:off x="7740360" y="6524640"/>
              <a:ext cx="718920" cy="333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下一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>
              <a:hlinkClick r:id="" action="ppaction://hlinkshowjump?jump=endshow"/>
            </p:cNvPr>
            <p:cNvSpPr/>
            <p:nvPr/>
          </p:nvSpPr>
          <p:spPr>
            <a:xfrm>
              <a:off x="8461080" y="6524640"/>
              <a:ext cx="718920" cy="333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退  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50920" y="333360"/>
            <a:ext cx="856908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问题探讨：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段“太史公曰”包含了哪些内容，其中“天下已集，乃谋叛逆”有什么言外之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明确：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三点内容：布衣时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志与众异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没有做到“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谦让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；在天下安定时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密谋叛逆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其中“天下已集，乃谋叛逆”一般认为是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反话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“谓淮阴之愚，必不至此也。”（李慈铭） “天下已集，岂可为逆于其必不可为叛之时？而夷其宗族，岂有心肝人所宜出哉！”（李笠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331920"/>
            <a:ext cx="9144000" cy="619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95280" y="2133720"/>
            <a:ext cx="8353440" cy="4032000"/>
            <a:chOff x="395280" y="2133720"/>
            <a:chExt cx="8353440" cy="4032000"/>
          </a:xfrm>
        </p:grpSpPr>
        <p:sp>
          <p:nvSpPr>
            <p:cNvPr id="242" name=""/>
            <p:cNvSpPr/>
            <p:nvPr/>
          </p:nvSpPr>
          <p:spPr>
            <a:xfrm>
              <a:off x="395280" y="2133720"/>
              <a:ext cx="8353440" cy="4032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4360" y="2441520"/>
              <a:ext cx="7920000" cy="20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请阅读《史记》的其他记述，古人与今人对韩信之死的评价，讨论交流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3399"/>
                  </a:solidFill>
                  <a:latin typeface="华文新魏"/>
                  <a:ea typeface="华文新魏"/>
                </a:rPr>
                <a:t>韩信为什么会被杀害？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50920" y="333360"/>
            <a:ext cx="3240000" cy="1800360"/>
            <a:chOff x="250920" y="333360"/>
            <a:chExt cx="3240000" cy="1800360"/>
          </a:xfrm>
        </p:grpSpPr>
        <p:sp>
          <p:nvSpPr>
            <p:cNvPr id="245" name=""/>
            <p:cNvSpPr/>
            <p:nvPr/>
          </p:nvSpPr>
          <p:spPr>
            <a:xfrm>
              <a:off x="250920" y="333360"/>
              <a:ext cx="3240000" cy="1800360"/>
            </a:xfrm>
            <a:prstGeom prst="irregularSeal1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00000" y="98100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讨论交流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300720" y="6524640"/>
            <a:ext cx="2879280" cy="333360"/>
            <a:chOff x="6300720" y="6524640"/>
            <a:chExt cx="2879280" cy="333360"/>
          </a:xfrm>
        </p:grpSpPr>
        <p:sp>
          <p:nvSpPr>
            <p:cNvPr id="248" name="">
              <a:hlinkClick r:id="" action="ppaction://hlinkshowjump?jump=firstslide"/>
            </p:cNvPr>
            <p:cNvSpPr/>
            <p:nvPr/>
          </p:nvSpPr>
          <p:spPr>
            <a:xfrm>
              <a:off x="6300720" y="6524640"/>
              <a:ext cx="718920" cy="333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首  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previousslide"/>
            </p:cNvPr>
            <p:cNvSpPr/>
            <p:nvPr/>
          </p:nvSpPr>
          <p:spPr>
            <a:xfrm>
              <a:off x="7021080" y="6524640"/>
              <a:ext cx="718920" cy="333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上一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nextslide"/>
            </p:cNvPr>
            <p:cNvSpPr/>
            <p:nvPr/>
          </p:nvSpPr>
          <p:spPr>
            <a:xfrm>
              <a:off x="7740360" y="6524640"/>
              <a:ext cx="718920" cy="333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下一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>
              <a:hlinkClick r:id="" action="ppaction://hlinkshowjump?jump=endshow"/>
            </p:cNvPr>
            <p:cNvSpPr/>
            <p:nvPr/>
          </p:nvSpPr>
          <p:spPr>
            <a:xfrm>
              <a:off x="8461080" y="6524640"/>
              <a:ext cx="718920" cy="333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退  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692280"/>
            <a:ext cx="5003640" cy="41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功高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震主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狂妄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傲慢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树敌太多，单枪匹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恃才放旷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君主对他早有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猜忌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杀功臣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封建社会的普遍现象。杀韩信是吕后和萧何等干的，刘邦并不知情，当他知道后“且喜且怜之”，心情很复杂，也很真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9280" y="115920"/>
            <a:ext cx="84250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四、思考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韩信为什么会被杀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4284720" cy="4176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724360" y="5805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琥珀"/>
                <a:ea typeface="华文琥珀"/>
              </a:rPr>
              <a:t>萧何追韩信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95280" y="189000"/>
            <a:ext cx="79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五、司马迁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借助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《淮阴侯列传》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要表达的一种独特的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历史观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148360" y="1989000"/>
            <a:ext cx="338436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统治者心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狠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手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毒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欲加之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罪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何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患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无辞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351320" cy="37242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547640" y="573408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华文隶书"/>
              </a:rPr>
              <a:t>韩  信   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39640" y="260280"/>
            <a:ext cx="8209080" cy="35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   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帅才不及帝王术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魏明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韩信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天才的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军事家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但不是成熟的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政治家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更不是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伟人典范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韩信好名，近似杨秀清。未央宫诛韩信虽是冤案，但也不乏韩信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身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致命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弱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后人同情他，却并不十分敬仰他。令人惋惜的是韩信的佼佼帅才和赫赫战功竟落得个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"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兔死狗烹，鸟尽弓藏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"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下场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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115920"/>
            <a:ext cx="8964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易中天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汉代风云人物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韩信成败之谜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韩信，一代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名将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旷世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功臣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他在困境中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挣扎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在草莽中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崛起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在战斗中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奋进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在胜利中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沉沦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他在最能够背叛刘邦的时候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忠贞不贰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却在最不可能反叛时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涉嫌谋反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正如司马迁所说：“天下已集，乃谋叛逆。”因此，有人认为韩信釜底抽薪谋反并不可能，也有人认为其造反证据确凿，还有人认为他是被逼上梁山。但这也许并不重要。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重要的是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韩信作为我们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英雄时代的英雄人物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他的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忍辱负重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他的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自强不息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他的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叱咤风云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甚至他的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犹豫狐疑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患得患失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都给我们留下了深刻的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印象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永久的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记忆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耐人寻味，发人深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5280" y="189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作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1" lang="zh-CN" sz="3600" spc="-1" strike="noStrike">
                <a:solidFill>
                  <a:srgbClr val="990000"/>
                </a:solidFill>
                <a:latin typeface="华文隶书"/>
                <a:ea typeface="华文隶书"/>
              </a:rPr>
              <a:t>、仿写：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读《游侠传》即欲轻生，读《屈原贾谊传》即欲流涕，读《庄周》、《鲁仲连传》即欲遗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16000" y="1844640"/>
            <a:ext cx="73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隶书"/>
                <a:ea typeface="华文隶书"/>
              </a:rPr>
              <a:t>初读《淮阴侯列传》即欲</a:t>
            </a:r>
            <a:r>
              <a:rPr b="1" lang="zh-CN" sz="3600" spc="-1" strike="noStrike">
                <a:solidFill>
                  <a:srgbClr val="0000ff"/>
                </a:solidFill>
                <a:latin typeface="华文隶书"/>
                <a:ea typeface="华文隶书"/>
              </a:rPr>
              <a:t>______</a:t>
            </a:r>
            <a:r>
              <a:rPr b="1" lang="zh-CN" sz="36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5761080" cy="40053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08000" y="3284640"/>
            <a:ext cx="2519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完成《学案测评》上的练习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26920" y="476280"/>
            <a:ext cx="777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然而以历史唯物主义观点看：韩信与刘邦、吕后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矛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完全反映了中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封建王朝更替之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开国帝王与开国元勋始而互相依存，继而互相戒备，终于无情屠杀功臣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普遍规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“拜将台埋伏着断头台，封侯路埋伏着葬身路。”是这种现象的真实写照，数千年历史，新朝代建立后未屠戳功臣的不过东汉、唐、宋而已，奈何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魏明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愧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巴蜀鬼才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其为电视剧《准阴候韩信》写的主题曲词大气潇洒，令人叫绝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韩信一生功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定三秦      虏魏王      擒夏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巧夺赵      胁燕国      平齐地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重创楚      围垓下      灭楚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-1692360" y="2421000"/>
            <a:ext cx="648036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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　　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亮煌煌几页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史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　   乱纷纷万马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逐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　　雄赳赳一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名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　　野茫茫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十面埋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　　山埋伏，水埋伏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　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将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战术传千古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　　云埋伏，雾埋伏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　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功臣末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断头颅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　　疑兵疑阵在何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92360" y="2276640"/>
            <a:ext cx="77040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　  战场埋伏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　  官场埋伏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　  朝廷埋伏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　  宫廷埋伏……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　　啊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　　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帅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及帝王术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　　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兵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如圣诏书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　　空留下《十面埋伏》古琴谱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　　让后人评述，功过何如？？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620640"/>
            <a:ext cx="7056360" cy="21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十面埋伏</a:t>
            </a:r>
            <a:br>
              <a:rPr sz="40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　　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——电视连续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行楷"/>
              </a:rPr>
              <a:t>《淮阴侯韩信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主题歌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2233800" cy="2781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995640" y="0"/>
            <a:ext cx="55450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楷体"/>
                <a:ea typeface="华文楷体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楷体"/>
                <a:ea typeface="华文楷体"/>
              </a:rPr>
              <a:t>  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404640"/>
            <a:ext cx="8604360" cy="61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六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整理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《史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·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淮阴侯列传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中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成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漂母之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胯下之辱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妇人之仁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解衣衣我，推食食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多多益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逐鹿中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成也萧何，败也萧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七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印发朱鸿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《胯下奇辱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进行课后阅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580000" y="1341360"/>
            <a:ext cx="3384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2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8" dur="20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3" dur="20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2" dur="5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211640" y="692280"/>
            <a:ext cx="44640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夫运筹策于帷帐之中，决胜于千里之外，吾不如</a:t>
            </a:r>
            <a:r>
              <a:rPr b="1" lang="zh-CN" sz="3200" spc="-1" strike="noStrike">
                <a:solidFill>
                  <a:srgbClr val="ff3300"/>
                </a:solidFill>
                <a:latin typeface="华文楷体"/>
                <a:ea typeface="华文楷体"/>
              </a:rPr>
              <a:t>子房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镇国家，抚百姓，给馈饷，不绝粮道，吾不如</a:t>
            </a:r>
            <a:r>
              <a:rPr b="1" lang="zh-CN" sz="3200" spc="-1" strike="noStrike">
                <a:solidFill>
                  <a:srgbClr val="ff3300"/>
                </a:solidFill>
                <a:latin typeface="华文楷体"/>
                <a:ea typeface="华文楷体"/>
              </a:rPr>
              <a:t>萧何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连百万之军，战必胜，攻必取，吾不如</a:t>
            </a:r>
            <a:r>
              <a:rPr b="1" lang="zh-CN" sz="3200" spc="-1" strike="noStrike">
                <a:solidFill>
                  <a:srgbClr val="ff3300"/>
                </a:solidFill>
                <a:latin typeface="华文楷体"/>
                <a:ea typeface="华文楷体"/>
              </a:rPr>
              <a:t>韩信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此三者，皆</a:t>
            </a:r>
            <a:r>
              <a:rPr b="1" lang="zh-CN" sz="3200" spc="-1" strike="noStrike">
                <a:solidFill>
                  <a:srgbClr val="ff3300"/>
                </a:solidFill>
                <a:latin typeface="华文楷体"/>
                <a:ea typeface="华文楷体"/>
              </a:rPr>
              <a:t>人杰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也，吾能用之，此吾所以取天下也。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——刘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3618000"/>
            <a:ext cx="2879640" cy="324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55640" y="115920"/>
            <a:ext cx="2879640" cy="3311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8000" y="1484280"/>
            <a:ext cx="5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刘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44640" y="4365720"/>
            <a:ext cx="729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吕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隶书"/>
              </a:rPr>
              <a:t>检查预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907920"/>
            <a:ext cx="856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781360"/>
            <a:ext cx="75614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二、通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从其下乡南昌亭长寄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晨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蓐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能死，出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袴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于是信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视之，俯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袴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蒲伏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49360"/>
            <a:ext cx="867564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容易读错的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贾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炊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诸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漂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能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食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若虽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长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3573360"/>
            <a:ext cx="50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蓐”通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楷体"/>
              </a:rPr>
              <a:t>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5300640"/>
            <a:ext cx="367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“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蒲伏”通“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匍匐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835280" y="1197000"/>
            <a:ext cx="8168760" cy="682200"/>
            <a:chOff x="1835280" y="1197000"/>
            <a:chExt cx="8168760" cy="682200"/>
          </a:xfrm>
        </p:grpSpPr>
        <p:sp>
          <p:nvSpPr>
            <p:cNvPr id="65" name=""/>
            <p:cNvSpPr/>
            <p:nvPr/>
          </p:nvSpPr>
          <p:spPr>
            <a:xfrm>
              <a:off x="1835280" y="1197000"/>
              <a:ext cx="90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g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120840" y="1238040"/>
              <a:ext cx="1134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09160" y="1197000"/>
              <a:ext cx="1132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78600" y="1197000"/>
              <a:ext cx="98460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643960" y="1238040"/>
              <a:ext cx="136008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700360" y="1989000"/>
            <a:ext cx="1388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BatangChe"/>
              </a:rPr>
              <a:t>s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64280" y="1989000"/>
            <a:ext cx="2979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ch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1268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黑体"/>
              </a:rPr>
              <a:t>pi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ă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36840" y="598320"/>
            <a:ext cx="854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1268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chu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80000" y="321300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常”通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楷体"/>
              </a:rPr>
              <a:t>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64200" y="4797360"/>
            <a:ext cx="31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袴”通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楷体"/>
              </a:rPr>
              <a:t>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2000" y="5734080"/>
            <a:ext cx="31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孰”通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楷体"/>
              </a:rPr>
              <a:t>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0920" y="47628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57200"/>
            <a:ext cx="638964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解释词语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一母见信饥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华文楷体"/>
                <a:ea typeface="华文楷体"/>
              </a:rPr>
              <a:t>饭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楷体"/>
                <a:ea typeface="华文楷体"/>
              </a:rPr>
              <a:t>众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辱之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350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00800" y="1197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楷体"/>
              </a:rPr>
              <a:t>给饭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楷体"/>
              </a:rPr>
              <a:t>送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00800" y="1916280"/>
            <a:ext cx="198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楷体"/>
              </a:rPr>
              <a:t>当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楷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楷体"/>
              </a:rPr>
              <a:t>厌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楷体"/>
              </a:rPr>
              <a:t>养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楷体"/>
              </a:rPr>
              <a:t>内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27840" y="602604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5638680"/>
            <a:ext cx="28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2708280"/>
            <a:ext cx="453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亭长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大丈夫不能自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中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怯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5084640"/>
            <a:ext cx="4824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16720" y="3429000"/>
            <a:ext cx="201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5373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07:08:59Z</dcterms:created>
  <dc:creator>sun_ehua</dc:creator>
  <dc:description/>
  <dc:language>en-US</dc:language>
  <cp:lastModifiedBy>xinyongmei</cp:lastModifiedBy>
  <dcterms:modified xsi:type="dcterms:W3CDTF">2007-01-10T12:46:18Z</dcterms:modified>
  <cp:revision>199</cp:revision>
  <dc:subject/>
  <dc:title>幻灯片 1</dc:title>
</cp:coreProperties>
</file>