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259-4529-4572-873D-B75E08C7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D821-CF9A-487A-8DF1-6B65695C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BDCA-065A-4CF8-885A-13A27245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059-1EE2-4976-8C96-1FECB94D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F16-F3CD-4B22-8B56-EAAA0789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93C-E56F-4F5A-A333-4309F092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5F7-E714-4C50-A784-94267005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C3E-7A21-450C-AFA7-23F329F2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0F3-879C-453E-AB60-56EC6AAD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8C0-12A8-449B-B8D0-35AF2C8A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42BD-3220-4E3F-97DF-B0C786D6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9B4-1CE6-4959-BBDE-D48F7FB6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83CB-8E92-45F9-9FC0-37F98095ED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回延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贺敬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贺敬之，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1924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年生于山东省峄县。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40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年代开始诗歌创作，已出版《放歌集》、《雷锋之歌》、《贺敬之诗选》、《回答今日的世界》等诗集。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1945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年在集体创作著名歌剧《白毛女》中 担任执笔，此剧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1951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年荣获斯大林文学奖。 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80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年代任中华人民共 和国文化部部长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贺敬之" descr=""/>
          <p:cNvPicPr/>
          <p:nvPr/>
        </p:nvPicPr>
        <p:blipFill>
          <a:blip r:embed="rId1"/>
          <a:stretch/>
        </p:blipFill>
        <p:spPr>
          <a:xfrm>
            <a:off x="5108400" y="1981080"/>
            <a:ext cx="2887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思路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（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1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）回延安，激动满情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（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）忆延安，圣地养育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（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3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）会亲人，欢聚话今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（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4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）逛新城，旧貌换新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（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5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）赞延安，圣地大贡献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毛主席在延安著作（辛莽）" descr=""/>
          <p:cNvPicPr/>
          <p:nvPr/>
        </p:nvPicPr>
        <p:blipFill>
          <a:blip r:embed="rId1"/>
          <a:stretch/>
        </p:blipFill>
        <p:spPr>
          <a:xfrm>
            <a:off x="4799160" y="1981080"/>
            <a:ext cx="3508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作品中的思想感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 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诗人自始至终把握住了对母亲延安的感情，通过回延安、爱延安、会亲人、寿延安、颂延安五部分内容来倾吐自己的激情。抒情方式上既有直接倾吐，又有间接抒情．或用动词，或描写，便感情抒发既酣畅淋漓，又生动形象，具有很强的感染力。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　　作品中思想感情一步步升华。诗人踏上延安的土地、见到延安的亲人，从“手抓黄土教不放，紧紧地贴在心窝上”“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头扑在亲人怀”等诗句看出，诗人产生的是激动、喜悦的感情；诗人回忆延安对自己的养育，描写和延安亲人欢聚畅谈的情景及看到延安的新面貌之后，爱延安、爱革命、爱人民的感情达到了高潮；当诗人又要离别延安时，从结尾两句诗可以领会到，诗人难舍难分的惜别之情上升到了巅峰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鲜明的地方色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诗中的枣园、窑洞、宝塔山、糜子等带有延安的色彩，诗中所采用的信天游形式，是陕北民歌；诗中“登时”‘莫要”“几根根”等，取自陕北方言。诗歌表达的是对延安的深厚感情，所以诗中景物的描写、形式的采用以及全诗的遣词造句，都带有鲜明的地方色彩，使诗的内容与形式达到了和谐统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白羊肚手巾红腰带" descr=""/>
          <p:cNvPicPr/>
          <p:nvPr/>
        </p:nvPicPr>
        <p:blipFill>
          <a:blip r:embed="rId1"/>
          <a:stretch/>
        </p:blipFill>
        <p:spPr>
          <a:xfrm>
            <a:off x="5097600" y="1981080"/>
            <a:ext cx="2911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夸张手法的运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　　　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诗里有这样的话：“一口口的米酒千万句话”，极言亲人重逢说话之多。又如：“双手接定宝塔山”“满窑里围得不透风”等等，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夸张的写法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淋漓尽致地表达出诗人热爱延安、热爱延安亲人的思想感情以及延安人民热烈欢迎诗人的真挚情景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cc"/>
                </a:solidFill>
                <a:latin typeface="Times New Roman"/>
                <a:ea typeface="_x000b__x000c_"/>
              </a:rPr>
              <a:t>　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　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（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图为今日延安街景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_x000b__x000c_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今日延安街景" descr=""/>
          <p:cNvPicPr/>
          <p:nvPr/>
        </p:nvPicPr>
        <p:blipFill>
          <a:blip r:embed="rId1"/>
          <a:stretch/>
        </p:blipFill>
        <p:spPr>
          <a:xfrm>
            <a:off x="5156280" y="1981080"/>
            <a:ext cx="2792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qing</cp:lastModifiedBy>
  <dcterms:modified xsi:type="dcterms:W3CDTF">2002-12-30T02:38:41Z</dcterms:modified>
  <cp:revision>24</cp:revision>
  <dc:subject/>
  <dc:title>PowerPoint Presentation</dc:title>
</cp:coreProperties>
</file>