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244-C4B7-4272-9360-A793AE7C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C0E-C094-47F8-B6DC-7BD8665C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6451-6188-4D93-AA7B-36B6E390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EF8-9D49-4B02-8BB9-B84FAC6B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AE1C-2B63-42D8-A1BC-99B6CF11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52F7-A6E5-4B38-B114-582AD4C1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5AD8-F0EE-4945-9269-A75F986C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1813-0811-4B7F-B21D-869D1103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68B5-8A77-4389-856C-B1C2DD63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1323-1C74-4965-8F5A-515F9112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5153-8258-4A7B-BF70-B1BDE06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DFB-561E-4378-A8ED-29EAEAF1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8561-9F15-4B2B-A29D-7E0C01AC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8313-74F5-419D-892D-F99A2005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343A-18E5-43F3-9B92-03ECD36B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9421-1D0F-4E17-8414-D3B76390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E459-7C49-4520-8128-766EFE665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2B9-ADE0-4C27-9F46-496D89EE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5BC3-1A3C-4672-B20F-A7A0D6A8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9C5-00E2-44F6-A3FD-88E67AFE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D06-97F3-4CBE-A244-0168ABC5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5AF-6EC1-4310-9F1E-7E169BE4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BB6-C040-4FE3-8D65-1A0FDF4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8B1-C355-418A-9E41-6ABCEE0F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F517-79C0-44F7-9AB0-B8C9F6A676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38280"/>
            <a:ext cx="9144000" cy="335304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56AC-AE6B-475C-91AA-E1ADE00F11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124080" y="1095480"/>
            <a:ext cx="5257800" cy="4543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00400" y="1295280"/>
            <a:ext cx="5029200" cy="4118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09280" y="4191120"/>
            <a:ext cx="729000" cy="35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贺敬之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2760" y="927720"/>
            <a:ext cx="91152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回  延  安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42900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465300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白羊肚手巾红腰带，亲人迎过延河来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76520" y="533520"/>
            <a:ext cx="5943600" cy="3886200"/>
          </a:xfrm>
          <a:prstGeom prst="rect">
            <a:avLst/>
          </a:prstGeom>
          <a:ln w="936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66680" y="914400"/>
            <a:ext cx="75438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一、回延安：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阔别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年后重回延安母亲的怀抱，与亲人相见的兴奋和喜悦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533520"/>
            <a:ext cx="7086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一开头，兴奋快乐的情感就像强有利的大手把人 牢牢抓住！接下去，那些具体而带有强烈特征性的句子，把眼前的景色和人物带到我们的跟前、心上来！真象一个久客他乡的游子一旦回到了故乡。延安啊，这革命的摇篮，这伟大的“母亲”，诗人带着多少情意倒入了你的怀抱！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                  ——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臧克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685800"/>
            <a:ext cx="5181840" cy="40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二十里铺送过柳林铺迎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分别十年又回家中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树梢树枝树根根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亲山亲水有亲人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羊羔羔吃奶眼望着妈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小米饭养活我长大。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23623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2743200"/>
            <a:ext cx="236232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比兴手法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4952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4572000"/>
            <a:ext cx="18288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养育之恩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2514600"/>
            <a:ext cx="5715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兴”者，起也；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取譬引类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，起发己心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38098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兴——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先从别的事物引起所咏之物，以为寄托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。委婉含蓄，寓意深远，文已尽而意有余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990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比——以彼物比此物也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28600"/>
            <a:ext cx="5181480" cy="66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东山的糜子西山的谷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肩膀上的红旗手中的书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手把手儿教会了我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母亲打发我们过黄河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革命的道路千万里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　　　　　　　　　　天南海北想着你……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228600"/>
            <a:ext cx="350532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火热的战斗和学习的生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2666880"/>
            <a:ext cx="29718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党的培育之恩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5029200"/>
            <a:ext cx="3124440" cy="11912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对母亲延安的怀念和感激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68580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二、忆延安：追忆当年在延安的战斗生活，表现了与延安母亲的血肉关系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200" y="3168720"/>
            <a:ext cx="213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感激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怀念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6858000" cy="66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米酒油馍木炭火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团团围定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炕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上坐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满窑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里围得不透风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脑畔上还响着脚步声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36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老爷爷进门气喘得紧：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“我梦见鸡毛信来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ts val="36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可真见亲人……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亲人见了亲人面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欢喜的眼泪眶眶里转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保卫延安你们费了心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白头发添了几根根。”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1219320"/>
            <a:ext cx="4114800" cy="855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选择有陕北地方特色的事物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渲染气氛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114800"/>
            <a:ext cx="32004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亲人欢聚的热烈场面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76920" y="3395520"/>
            <a:ext cx="4267080" cy="3462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343400" cy="3137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410080" y="762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米酒油馍木炭火，团团围定炕上坐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43434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满窑里围得不透风，脑畔上还响着脚步声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838080"/>
            <a:ext cx="56386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团支书又领进社主任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当年的放羊娃如今长成人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白生生的窗纸红窗花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娃娃们争抢来把手拉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一口口的米酒千万句话</a:t>
            </a:r>
            <a:br>
              <a:rPr sz="3600"/>
            </a:b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长江大河起浪花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十年来革命大发展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说不尽这三千六百天……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057400"/>
            <a:ext cx="27432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欢聚一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共叙新旧岁月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3733920"/>
            <a:ext cx="20574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比喻、夸张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5181480"/>
            <a:ext cx="25146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滔滔不绝、唾沫横飞的热烈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9880" y="45720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当代诗人、剧作家。山东峄县（今枣庄市）人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940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年到延安，进入鲁迅艺术文学院学习。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1945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年，鲁艺集体创作了歌剧《白毛女》，文学剧本由贺敬之、丁毅执笔。主要诗歌集有《朝阳花开》、《乡村的夜》、《放歌集》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雷锋之歌》、《贺敬之诗选》等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" descr="賀敬之"/>
          <p:cNvPicPr/>
          <p:nvPr/>
        </p:nvPicPr>
        <p:blipFill>
          <a:blip r:embed="rId2"/>
          <a:stretch/>
        </p:blipFill>
        <p:spPr>
          <a:xfrm>
            <a:off x="304920" y="609480"/>
            <a:ext cx="2781360" cy="3962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50896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贺敬之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581280" cy="2301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95880" y="304920"/>
            <a:ext cx="2667240" cy="2590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304920" y="3670200"/>
            <a:ext cx="3276360" cy="2874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019920" y="3657600"/>
            <a:ext cx="2724120" cy="281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971800" y="32767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87720" y="914400"/>
            <a:ext cx="2660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白生生的窗纸红窗花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娃娃们争抢来把手拉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29720" y="5273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（渲染）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16000" y="836640"/>
            <a:ext cx="6885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三、话延安：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</a:rPr>
              <a:t>描绘与亲人团聚的场面，表达了相互间深厚的情谊。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289080"/>
            <a:ext cx="541008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千万条腿来千万只眼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也不够我走来也不够我看！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头顶着蓝天大明镜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延安城照在我心中：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条条街道宽又平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座座楼房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披彩虹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盏盏电灯亮又明，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排排绿树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迎春风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对照过去我认不出了你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母亲延安</a:t>
            </a:r>
            <a:r>
              <a:rPr b="0" lang="zh-CN" sz="3200" spc="-1" strike="noStrike" u="sng">
                <a:solidFill>
                  <a:srgbClr val="ffff00"/>
                </a:solidFill>
                <a:uFillTx/>
                <a:latin typeface="Times New Roman"/>
              </a:rPr>
              <a:t>换新衣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533520"/>
            <a:ext cx="1218960" cy="703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夸张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1752480"/>
            <a:ext cx="11430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比喻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3581280"/>
            <a:ext cx="274320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排比、拟人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562720"/>
            <a:ext cx="243864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拟人、比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143000" y="122400"/>
            <a:ext cx="6858000" cy="2087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57200" y="4343400"/>
            <a:ext cx="3429000" cy="2114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5715000" y="4419720"/>
            <a:ext cx="3124080" cy="2057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590920" y="2940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延安旧貌换新颜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9320" y="1295280"/>
            <a:ext cx="723888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四、看延安：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描绘了延安新貌，赞美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年来党领导下延安的巨大变化。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4572000" cy="4280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5800" y="5257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杨家岭革命旧址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762120"/>
            <a:ext cx="3429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杨家岭的红旗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高高的飘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革命万里起高潮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114800"/>
            <a:ext cx="304812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从延安向全国扩展的大好的革命形势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42900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枣园毛泽东旧居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2440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4" name="you407" descr="枣园革命旧址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497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48320" y="1219320"/>
            <a:ext cx="4267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枣园的灯光照人心，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延河滚滚喊前进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3962520"/>
            <a:ext cx="3886200" cy="1739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回顾延安历史，延安人民前赴后继，似滚滚延河水不断向前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209680" y="1981080"/>
            <a:ext cx="1238400" cy="885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52480" y="838080"/>
            <a:ext cx="472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身长翅膀吧脚生云，</a:t>
            </a:r>
            <a:br>
              <a:rPr sz="4000"/>
            </a:b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再回延安看母亲！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352680"/>
            <a:ext cx="7543800" cy="1556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夸张的手法，再次抒发了对延安母亲的眷念之情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55640" y="1268280"/>
            <a:ext cx="76327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五、颂延安：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</a:rPr>
              <a:t>歌颂延安的光辉历史，展望美好的明天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思路结构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449568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回延安，激动满情怀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忆延安，圣地养育我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会亲人，欢聚话今昔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逛新城，旧貌换新颜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赞延安，圣地大贡献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350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449280"/>
            <a:ext cx="792468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_x000b__x000c_"/>
              </a:rPr>
              <a:t>写作背景：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“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0b__x000c_"/>
              </a:rPr>
              <a:t>1956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0b__x000c_"/>
              </a:rPr>
              <a:t>年，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我跟随当时团中央的一位领导回延安，参加西北五省青年工人造林大会。这时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0b__x000c_"/>
              </a:rPr>
              <a:t>我已经离开延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0b__x000c_"/>
              </a:rPr>
              <a:t>11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0b__x000c_"/>
              </a:rPr>
              <a:t>年了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，回去以后感觉很不一样。我本打算写几篇报告文学和一点新闻报道，青年大会要举行一个联欢晚会，说要我出个节目，我说我用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0b__x000c_"/>
              </a:rPr>
              <a:t>信天游的方式</a:t>
            </a:r>
            <a:r>
              <a:rPr b="0" lang="zh-CN" sz="3200" spc="-1" strike="noStrike">
                <a:solidFill>
                  <a:srgbClr val="ffffff"/>
                </a:solidFill>
                <a:latin typeface="_x000b__x000c_"/>
              </a:rPr>
              <a:t>写几句诗，抒发一下感情。夜里我就一边唱，一边写，写了一夜，……当时我是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_x000b__x000c_"/>
              </a:rPr>
              <a:t>在窑洞里面走着唱着，还流着眼泪。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作品中的思想感情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　　　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诗人自始至终把握住了对母亲延安的感情，通过回延安、爱延安、会亲人、逛延安、颂延安五部分内容来倾吐自己的激情。抒情方式上既有直接倾吐，又有间接抒情．或用动词，或描写，便感情抒发既酣畅淋漓，又生动形象，具有很强的感染力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作品中思想感情一步步升华。诗人踏上延安的土地、见到延安的亲人，从“手抓黄土教不放，紧紧地贴在心窝上”“一头扑在亲人怀”等诗句看出，诗人产生的是激动、喜悦的感情；诗人回忆延安对自己的养育，描写和延安亲人欢聚畅谈的情景及看到延安的新面貌之后，爱延安、爱革命、爱人民的感情达到了高潮；当诗人又要离别延安时，从结尾两句诗可以领会到，诗人难舍难分的惜别之情上升到了巅峰。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16002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是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陕北民歌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的一种形式，它的曲调纯朴、高亢、悠长，节奏自由。歌词通常为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两句一段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，长度由一段至几十段不等。每句字数不定，但基本上以七字句为主。句中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多用叠字句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。修辞上多用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比兴、夸张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等手法。歌手用同一曲调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反复演唱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，有时旋律上稍加变化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380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信天游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20760"/>
            <a:ext cx="430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采用多种修辞手法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1519200"/>
            <a:ext cx="544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比喻、拟人、夸张、排比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对偶、借代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18600" y="3652920"/>
            <a:ext cx="38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把诗歌的内容表现得形象、生动，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而且把作者的感情表现得亲切、热烈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夸张手法的运用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56516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诗里有这样的话：“一口口的米酒千万句话”，极言亲人重逢说话之多。又如：“双手接定宝塔山”“满窑里围得不透风”等等，夸张的写法淋漓尽致地表达出诗人热爱延安、热爱延安亲人的思想感情以及延安人民热烈欢迎诗人的真挚情景。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　　（图为今日延安街景）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867280" y="1268280"/>
            <a:ext cx="2792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鲜明的地方色彩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00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　　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诗中的枣园、窑洞、宝塔山、糜子等带有延安的色彩，诗中所采用的信天游形式，是陕北民歌；诗中“登时”‘莫要”“几根根”等，取自陕北方言。诗歌表达的是对延安的深厚感情，所以诗中景物的描写、形式的采用以及全诗的遣词造句，都带有鲜明的地方色彩，使诗的内容与形式达到了和谐统一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097600" y="1981080"/>
            <a:ext cx="291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2280" y="184320"/>
            <a:ext cx="8686800" cy="6673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7600" y="11376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3300"/>
                </a:solidFill>
                <a:latin typeface="Times New Roman"/>
                <a:ea typeface="方正隶书简体"/>
              </a:rPr>
              <a:t>回延安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</a:rPr>
              <a:t>思路结构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449568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回延安，激动满情怀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忆延安，圣地养育我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会亲人，欢聚话今昔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逛新城，旧貌换新颜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）赞延安，圣地大贡献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64000" y="1557360"/>
            <a:ext cx="350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09480"/>
            <a:ext cx="762012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心口呀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莫要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这么厉害地跳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灰尘呀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莫把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我眼睛挡住了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手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抓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黄土我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不放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紧紧儿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贴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在心窝上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…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几回回梦里回延安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双手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搂定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宝塔山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千声万声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呼唤你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——母亲延安就在这里！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41960" y="685800"/>
            <a:ext cx="140004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无法控制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内心的激动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971800"/>
            <a:ext cx="205740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对母亲延安的眷念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5029200"/>
            <a:ext cx="213372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夙愿已偿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10080" y="1600200"/>
            <a:ext cx="3200400" cy="4952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85800" y="30492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几回回梦里回延安，双手搂定宝塔山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429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宝塔山是革命圣地延安的重要标志和象征。登山凭眺，可纵观圣地全貌。 “只有登上宝塔山，才算真正到了延安”。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2440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you3" descr="宝 塔 山"/>
          <p:cNvPicPr/>
          <p:nvPr/>
        </p:nvPicPr>
        <p:blipFill>
          <a:blip r:embed="rId2"/>
          <a:stretch/>
        </p:blipFill>
        <p:spPr>
          <a:xfrm>
            <a:off x="1219320" y="685800"/>
            <a:ext cx="5486400" cy="3316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4724280"/>
            <a:ext cx="5486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千声万声呼唤你，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母亲延安就在这里！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449280"/>
            <a:ext cx="48006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杜甫川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唱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来柳林铺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笑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红旗飘飘把手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招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白羊肚手巾红腰带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亲人们迎过延河来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满心话登时说不出来，</a:t>
            </a:r>
            <a:br>
              <a:rPr sz="3600"/>
            </a:b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一头</a:t>
            </a:r>
            <a:r>
              <a:rPr b="0" lang="zh-CN" sz="3600" spc="-1" strike="noStrike" u="sng">
                <a:solidFill>
                  <a:srgbClr val="ffff00"/>
                </a:solidFill>
                <a:uFillTx/>
                <a:latin typeface="Times New Roman"/>
              </a:rPr>
              <a:t>扑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在亲人怀。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914400"/>
            <a:ext cx="129528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拟人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819520"/>
            <a:ext cx="2361960" cy="642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欢迎场面的热烈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ws</cp:lastModifiedBy>
  <dcterms:modified xsi:type="dcterms:W3CDTF">2010-06-07T02:24:58Z</dcterms:modified>
  <cp:revision>29</cp:revision>
  <dc:subject/>
  <dc:title>PowerPoint Presentation</dc:title>
</cp:coreProperties>
</file>