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833-5A9D-4252-9CE5-1B170115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ED3-BF98-4B19-A04A-A97BF8B6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ED5-E17A-4EB7-B719-4F2470B1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E77-905B-4455-B233-90FA9DE5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E3A-0119-4741-916F-5848C930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F6A-C484-46CA-A3F5-14BF8D4B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E18-800F-495F-AD25-7B12E35D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1F9-23AC-4945-88BE-86675DA8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221-665B-4190-B336-FB6A9A5E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FEB-46B1-41A7-9057-3A4073A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138-2C45-41AB-8711-7FD6B7C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406-BB3B-4574-9C6E-4C2EA04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3810-501F-49F0-B771-B81FC5AE24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我们积累的古诗词中，你们还记得哪些？能背给大家听听吗？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280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作者故地重临，怀旧自不可免，文中作者的感受是怎样的？仔细体会思考“夕阳西下几时回？”这句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9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样的暮春天气，一样的楼台亭阁，一样的清歌美酒，但人事却和去年大不相同了。“夕阳西下”是无法阻止的，只能寄希望它东升再起，而时光的流逝、人事的变更，却再也无法重复。细味“几时回”三字，所折射出的似乎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种期盼其返却又情知难返的细腻心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7489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名句“无可奈何花落去，似曾相识燕归来。” 中的“无可奈何“和“似曾相识”？从“花落去”到“燕归来”，作者想要表达的是怎样的感情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9228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花落去”、“燕归来”是现实生活中的常见现象，但与“无可奈何”、“似曾相识”的有机组合，普通的花和燕就不普通了，而变为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种美好、熟悉的事物或感情的象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首词作者书写了：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Arial"/>
              </a:rPr>
              <a:t>花的凋落，春的消逝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暗喻：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Arial"/>
              </a:rPr>
              <a:t>时光的流逝 一切必然要消逝的美好事物都无法阻止其消逝，但在消逝的同时仍然有美好事物的再现，生活不会因消逝而变得一片虚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《浣溪沙》这首词写的就是作者对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阴流逝的怅惘和对春天消失的惋惜之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虽然这是古代诗词中屡见不鲜的主题，但是，由于作者对此怀有独到的体会，有新颖的构思，有属对 工巧的名句，所以这首词也因之成为千古流传的名篇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56000" y="549360"/>
            <a:ext cx="424944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華康秀風體"/>
              </a:rPr>
              <a:t>整体中心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華康秀風體"/>
              <a:ea typeface="華康秀風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这是晏殊一首脍炙人口的小令，字面上明白如话，但历来人们对其内容的理解却很不一致，有的说是表现年华易逝的伤感，有的说是抒发故旧之情。你在学完本词后有怎样的感受和人生启迪？请大家课后思考一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627280" y="476280"/>
            <a:ext cx="4114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课后感悟</a:t>
            </a:r>
            <a:endParaRPr b="1" lang="en-US" sz="80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flipH="1">
            <a:off x="1187280" y="3141720"/>
            <a:ext cx="4251600" cy="2809800"/>
          </a:xfrm>
          <a:prstGeom prst="cloudCallout">
            <a:avLst>
              <a:gd name="adj1" fmla="val -48171"/>
              <a:gd name="adj2" fmla="val 2536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今天让我们一起来欣赏晏殊的一首《浣溪沙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54936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记得李白有诗《黄鹤楼》，其中有一句是“黄鹤一去不复返，白云千载空悠悠。”诗中表达了作者对世事的变迁、人生没有永恒的感慨。那么在曾经贵为一国宰相的晏殊笔下，会留给我们一些怎样的思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908000" y="765000"/>
            <a:ext cx="56883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浣溪沙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435640" y="3933720"/>
            <a:ext cx="2438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華康古印體"/>
              </a:rPr>
              <a:t>——</a:t>
            </a: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華康古印體"/>
              </a:rPr>
              <a:t>晏殊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華康古印體"/>
              <a:ea typeface="華康古印體"/>
            </a:endParaRPr>
          </a:p>
        </p:txBody>
      </p:sp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262560" y="0"/>
            <a:ext cx="2881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晏殊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991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55)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字同叔，北宋前期婉约派词人之一。汉族，抚州临川人。晏殊性刚简，自奉清俭。能荐拔人才，如范仲淹、欧阳修均出其门下。他的作品大多反映富贵悠闲的生活，但他的词艺术成就较高，能以疏淡闲雅的语言写出较深的含义，音韵和谐，意境清新。主要作品有《珠玉词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 rot="5400000">
            <a:off x="6030000" y="2402640"/>
            <a:ext cx="4824360" cy="97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作者简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《浣溪沙》是词牌名，即曲的谱子。《浣溪沙》是一首小令，其格式是分上下两片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也叫上下两阕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què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各有三个七字句，一、二、三、五、六句押同一个平声韵。这首词写作者在暮春时节的思绪，表现了年华易逝的伤感。其中“无可奈何花落去，似曾相识燕归来”更是传诵名句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58080" y="6058080"/>
            <a:ext cx="30859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词作简介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一曲新词酒一杯。  一曲：一首。新词：刚填好的词，意同新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去年天气旧亭台。  去年天气：是说跟去年此日相同的天气。旧亭台：曾经到过的或熟悉的亭台楼阁。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夕阳西下几时回？夕阳：落日。西下：向西方地平线落下。几时回：什么时候回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5688360" y="2456640"/>
            <a:ext cx="5112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新宋体"/>
              </a:rPr>
              <a:t>字词解释</a:t>
            </a:r>
            <a:endParaRPr b="1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468360" y="18864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无可奈何花落去。无可奈何：不得已。花落去：花谢，点明节令是暮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似曾相识：意思是好像曾经认识。形容见过的事物再度出现。燕归来：燕子从南方飞回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 小园香径独徘徊。  香径：花间小路。徘徊：来回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者一生历居显官要职，仕途平坦，但政绩平平。作品在歌酒风月、闲情逸致吟咏中，也常流露出官僚文人由精神空虚而产生的年华易逝、迟暮落寞的感伤。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404640"/>
            <a:ext cx="668664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你们知道作者的写作背景吗？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2:51:32Z</dcterms:created>
  <dc:creator>雨林木风</dc:creator>
  <dc:description/>
  <dc:language>en-US</dc:language>
  <cp:lastModifiedBy>雨林木风</cp:lastModifiedBy>
  <dcterms:modified xsi:type="dcterms:W3CDTF">2011-03-30T12:30:51Z</dcterms:modified>
  <cp:revision>6</cp:revision>
  <dc:subject/>
  <dc:title>幻灯片 1</dc:title>
</cp:coreProperties>
</file>