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3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1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517E-4F1B-448D-9F3D-09F54A15D8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新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A48-056B-40EC-A2A2-89AE944C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7E3-18F6-4937-9E61-D2D7F9F2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A9E-EA0B-4CE8-BAF7-5E49686D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A66-2634-4171-AC3F-34C5124D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DCB-5827-4221-B6F8-938F4212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DB7-BDB4-40D2-90FC-D6A58223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806-A591-4D01-BDCF-00849F11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E3B-5845-4564-A9A5-C91C5E19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774-82D5-4F09-834D-1ED29F04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A65-8584-4A11-99A3-E8780927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082-8F8D-4C7E-8A5F-EE5B1C2D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642-2EBD-40AE-A706-7EF0DF7B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4EBA-47CD-4EEB-81D7-04CD9274C5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浣溪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曲新词酒一杯》是宋代词人晏殊的代表作。此词虽含伤春惜时之意，却实为感慨抒怀之情，悼惜残春，感伤年华的飞逝，又暗寓怀人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词中对宇宙人生的深思，给人以哲理性的启迪和美的艺术享受。其中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无可奈何花落去，似曾相识燕归来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句历来为人们所称道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115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85080" y="5705640"/>
            <a:ext cx="125892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词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一支新曲喝一杯美酒，还是去年的天气旧日的亭台，西落的夕阳何时再回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花儿落去我也无可奈何，那归来的燕子似曾相识，在小园的花径上独自徘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析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曲新词酒一杯：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富贵闲适的生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去年天气旧亭台： 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光流逝的感慨  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夕阳西下几时回  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触景抒写情怀 。 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可奈何花落去： 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悼惜的情感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似曾相识燕归来：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感伤时光流逝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园香径独徘徊  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惆怅之情更为强烈  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5634000"/>
            <a:ext cx="9144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片：通过对眼前景物的咏叹，感伤年华易逝，将怀旧之感、伤今之情与惜时之意交织、融合在一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片：通过落花、归燕等具体事物和生活细节来深化上片的意境，惜念春光难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181080" y="4724280"/>
            <a:ext cx="932508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夕阳西下几时回”暗含了怎样的哲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夕阳西下，是无法阻止的，只能寄希望于它的东升再现，而时光的流逝、人事的变更，却再也无法重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“小园香径独徘徊”中“独”字的妙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道出孤寂之深，伤感之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首词传达了作者的什么思想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面对美好事物的流逝，作者表现出对美好事物的留恋，对时光流逝的怅惘，与及对美好事物重现的微茫的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词具有怎样的艺术魔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首词用语清新，明白如话，音律和谐。词意深广，从极为平常的时序转换中引出富含人生哲理的启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72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无可奈何花落去，似曾相识燕归来”是名句，请简析这两句好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仗工整，音韵和谐，情景交融，表达了作者对年华易逝的感叹和对友人的思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蕴含了一切要消逝的美好事物都无法阻止，但在消逝的同时仍有美好事物再现，生活不因为消逝而虚无的生活哲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晏殊词中最为脍炙人口的篇章。全词抒发了悼惜残春之情，表达了时光易逝，难以追挽的伤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476280"/>
            <a:ext cx="914400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浣溪沙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曲新词酒一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21337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北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晏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婉约，伤春，惜时，抒怀，人生，哲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有关晏殊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文言词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词的思想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全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16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走近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84000" y="0"/>
            <a:ext cx="665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晏殊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91-105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字同叔，著名词人、诗人、散文家，政治家。北宋抚州府临川城人（今江西进贤县文港镇沙河人，位于香楠峰下，其父为抚州府手力节级），是当时的抚州籍第一个宰相。晏殊与其第七子晏几道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37-11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在当时北宋词坛上，被称为“大晏”和“小晏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843280" cy="602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u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溪沙                  一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新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殊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hū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旧亭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í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阳西下                  无可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nà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似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é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识             小园香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ì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落去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ù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独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á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uá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67280" y="907920"/>
            <a:ext cx="114624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节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浣溪沙            晏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新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杯，去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亭台。夕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奈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去，似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来。小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香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徘徊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576360" cy="115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27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句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浣溪沙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唐玄宗时教坊曲名，后用为词调。沙，一作“纱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曲新词酒一杯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新词，刚填好的词，意指新歌。酒一杯，一杯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去年天气旧亭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说天气、亭台都和去年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夕阳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西下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向西方地平线落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几时回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什么时候回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可奈何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得已，没有办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似曾相识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好像曾经认识。形容见过的事物再度出现。后用作成语，即出自晏殊此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燕归来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燕子从南方飞回来。燕归来，春中常景，在有意无意之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园香径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草芳香的小径，或指落花散香的小径。因落花满径，幽香四溢，故云香径。香径，带着幽香的园中小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独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副词，用于谓语前，表示“独自”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徘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回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6149880"/>
            <a:ext cx="9144000" cy="70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4:24:23Z</dcterms:created>
  <dc:creator>未知用户</dc:creator>
  <dc:description/>
  <dc:language>en-US</dc:language>
  <cp:lastModifiedBy>未知用户</cp:lastModifiedBy>
  <dcterms:modified xsi:type="dcterms:W3CDTF">2017-11-01T07:38:03Z</dcterms:modified>
  <cp:revision>6</cp:revision>
  <dc:subject/>
  <dc:title>幻灯片 1</dc:title>
</cp:coreProperties>
</file>