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EC8-B30E-4489-8CD7-6487FB73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DAC-E0AD-4840-A4B9-DB8B9688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2A1-A427-4EF1-991E-663AA616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2B7-294E-4E98-8BCE-22AE24EB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5C01-79E2-4213-9522-9416823A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5B59-43E1-48AB-9119-6F182954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1266-884F-495B-9A52-EA870645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0797-7DD2-496F-A7BC-4F65DF03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D3F4-5298-4FA6-9939-1B423A8A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3113-E8CD-47CB-AA3C-B71D7585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4A62-C691-43AC-9E12-00AAFC77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D44-B6D1-444E-B16E-8D19D16E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E134-F752-47C9-95A1-C5226C0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AAFA-A751-4E91-8FB7-2CF10658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9BB1-5724-43F5-A915-386ABBE2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46C8-A128-4029-AFE9-37974A32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0C01-4792-48E0-9DB7-7465328C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890-4F32-4CF2-BE0C-39EC3C2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AA1-07FC-4472-93CB-35889F6C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BBE-8DA2-42CC-BE76-8CAEA9D0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471-7493-47E4-8372-5B951958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E6F-A08F-42FB-9EC3-92816C75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FC6-F172-4876-A5B9-20A2C3B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845-9F4B-49B6-87A0-84BC21B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073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矩形 3074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矩形 3075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矩形 3076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矩形 3077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矩形 3078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矩形 3079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5256-E056-4CF5-AD53-7DA268E154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097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组合 4098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矩形 4099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矩形 4100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组合 4101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矩形 4102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矩形 4103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矩形 4104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矩形 4105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矩形 4106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0798-246E-4995-BFBF-DBE6E2D435F1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cochet.wav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.jpeg"/><Relationship Id="rId5" Type="http://schemas.openxmlformats.org/officeDocument/2006/relationships/hyperlink" Target="file:///tmp/home/.config/libreoffice/4/user/gallery/ricochet.wav" TargetMode="External"/><Relationship Id="rId6" Type="http://schemas.openxmlformats.org/officeDocument/2006/relationships/image" Target="../media/image1.jpeg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cochet.wav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.jpeg"/><Relationship Id="rId5" Type="http://schemas.openxmlformats.org/officeDocument/2006/relationships/hyperlink" Target="file:///tmp/home/.config/libreoffice/4/user/gallery/ricochet.wav" TargetMode="External"/><Relationship Id="rId6" Type="http://schemas.openxmlformats.org/officeDocument/2006/relationships/image" Target="../media/image1.jpeg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cochet.wav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.jpeg"/><Relationship Id="rId5" Type="http://schemas.openxmlformats.org/officeDocument/2006/relationships/hyperlink" Target="file:///tmp/home/.config/libreoffice/4/user/gallery/ricochet.wav" TargetMode="External"/><Relationship Id="rId6" Type="http://schemas.openxmlformats.org/officeDocument/2006/relationships/image" Target="../media/image1.jpeg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cochet.wav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.jpeg"/><Relationship Id="rId5" Type="http://schemas.openxmlformats.org/officeDocument/2006/relationships/hyperlink" Target="file:///tmp/home/.config/libreoffice/4/user/gallery/ricochet.wav" TargetMode="External"/><Relationship Id="rId6" Type="http://schemas.openxmlformats.org/officeDocument/2006/relationships/image" Target="../media/image1.jpeg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cochet.wav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.jpeg"/><Relationship Id="rId5" Type="http://schemas.openxmlformats.org/officeDocument/2006/relationships/hyperlink" Target="file:///tmp/home/.config/libreoffice/4/user/gallery/ricochet.wav" TargetMode="External"/><Relationship Id="rId6" Type="http://schemas.openxmlformats.org/officeDocument/2006/relationships/image" Target="../media/image1.jpeg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hyperlink" Target="file:///tmp/home/.config/libreoffice/4/user/gallery/ricochet.wav" TargetMode="External"/><Relationship Id="rId11" Type="http://schemas.openxmlformats.org/officeDocument/2006/relationships/image" Target="../media/image1.jpeg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image" Target="../media/image1.jpeg"/><Relationship Id="rId14" Type="http://schemas.openxmlformats.org/officeDocument/2006/relationships/hyperlink" Target="file:///tmp/home/.config/libreoffice/4/user/gallery/ricochet.wav" TargetMode="External"/><Relationship Id="rId15" Type="http://schemas.openxmlformats.org/officeDocument/2006/relationships/image" Target="../media/image1.jpeg"/><Relationship Id="rId16" Type="http://schemas.openxmlformats.org/officeDocument/2006/relationships/hyperlink" Target="file:///tmp/home/.config/libreoffice/4/user/gallery/ricochet.wav" TargetMode="External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925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Tahoma"/>
                <a:ea typeface="隶书"/>
              </a:rPr>
              <a:t>虎   丘   记</a:t>
            </a:r>
            <a:br>
              <a:rPr sz="8000"/>
            </a:br>
            <a:r>
              <a:rPr b="1" lang="zh-CN" sz="6000" spc="-1" strike="noStrike">
                <a:solidFill>
                  <a:srgbClr val="333399"/>
                </a:solidFill>
                <a:latin typeface="Tahoma"/>
                <a:ea typeface="隶书"/>
              </a:rPr>
              <a:t>（袁宏道）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：疏通课文字词句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第二段） 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布席之初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百千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歌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曹部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竟以新艳相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角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部分  安排          较量、竞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未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摇首顿足者，得数十人而已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不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月浮空，石光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白色的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瓦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寂然停声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这里比喻粗俗的歌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和者，才三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连续、跟着           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深夜，月影横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等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字，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唱             用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布席之初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呕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者百千，声若聚蚊，不可辨识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曹部署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竟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以新艳相角，雅俗既陈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姸媸自别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未几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而摇首顿足者，得数十人而已。已而明月浮空，石光如练，一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瓦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寂然停声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560" y="32763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刚摆上酒菜时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唱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人成百上千，声音像蚊虫齐鸣，分不清（唱什么）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部安排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后，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竞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最新流行的歌曲一争高低，雅俗都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唱得好坏也自有分别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过了一会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摇头顿脚还在唱歌的人，就只剩数十人了。不久，明月高悬空中，山石反射着月光，如同白练，所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粗俗之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悄悄停了下来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而和者，才三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一箫，一寸管，一人缓板而歌，竹肉相发，清声亮彻，听者魂销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至深夜，月影横斜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荇藻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凌乱，则箫板亦不复用。一夫登场，四座屏息，音若细发，响彻云际，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一字，几尽一刻，飞鸟为之徘徊，壮士听而下泪矣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继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唱歌的只有三四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，他们伴着一支箫、一支笛，一人舒缓地敲着竹板在歌唱。管了和人的声音一起发出，清幽嘹亮，使听众陶醉不已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到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深夜，月硬疏疏落落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下树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斑驳，这时，连箫和歌板也不用了。一个人登场歌唱，四座的人都屏心静息地倾听。他的歌声细如发丝，直冲云霄。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字，差不多要一刻时间。飞鸟仿佛也为这舒缓悠长的歌声所感动，徘徊不忍离去；壮士听到这样的歌声，也忍不住要潸然泪下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五：归纳第二段文意 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34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重点描写了中秋月夜虎丘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游人斗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场面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2438280"/>
          <a:ext cx="7620120" cy="419400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  <a:gridCol w="1905120"/>
                <a:gridCol w="1905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歌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歌唱环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歌唱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布席之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呕者百千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声若聚蚊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曹部署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姸媸自别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未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得数十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摇首顿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已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才三四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明月浮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清声亮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瓦釜寂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听者魂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比至深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一夫登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月影横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飞鸟徘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四座屏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壮士下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六：疏通课文字词句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第三段） 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顷云得天池诸山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几案、桌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峦壑竞秀，最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本意是一种酒器，这里是“宴请”，名作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面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平远堂旧址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它面对的北面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余与江进之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之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的办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韦苏州、白乐天诸公于其中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建一个祠堂祭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不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恐进之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兴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矣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兴趣消失（衰落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兴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兴盛荒废    确实   时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剑泉深不可测，飞岩如削。千顷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得天池诸山作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峦壑竞秀，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觞客，但过午则日光射人，不堪久坐耳。文昌阁亦佳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晚树尤可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面北为平远堂旧址，空旷无际，仅虞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点在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0520" y="3352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剑泉伸不可测，飞耸的岩石像刀削一样矗立。千顷云好象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天池等山作几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山峦沟壑秀丽无比，这里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适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飨宴宾客。但中午过后，阳光强烈，无法久坐。文昌阁（景色）也好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傍晚的树更好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面对的北面是平远堂旧址，空旷无际，只有远处的虞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角遥遥在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堂废已久，余与江进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谋所以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欲祠韦苏州、白乐天诸公于其中，而病寻作，余既乞归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恐进之亦兴阑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山川兴废，信有时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平远堂荒废已久，我和江进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商量用什么办法修复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想在这里建一个祠堂来祭祀韦应物、白居易等先贤。但不久我就生病了，我已经请求辞官归去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恐怕江进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修复平远堂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兴致也大减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可见）山川景物的兴盛荒废，确实是有时运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六：归纳第三段文意 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4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本段用精炼而简洁的笔法描写了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虎丘景物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深不可测的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剑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摩天倚云的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千顷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虎丘景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秀丽无比的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千山万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晚景尤佳的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文昌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荒废已久的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平远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左大括号 77868"/>
          <p:cNvSpPr/>
          <p:nvPr/>
        </p:nvSpPr>
        <p:spPr>
          <a:xfrm>
            <a:off x="2895480" y="2743200"/>
            <a:ext cx="152640" cy="2362320"/>
          </a:xfrm>
          <a:custGeom>
            <a:avLst/>
            <a:gdLst>
              <a:gd name="textAreaLeft" fmla="*/ 97560 w 152640"/>
              <a:gd name="textAreaRight" fmla="*/ 15300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一、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关于袁宏道和“公安派”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5741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袁宏道，明代文学家，湖广公安人，万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中举人，万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中进士，万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任吴县县令，颇有政绩，不到两年就辞官归隐。后又出仕官场，官至吏部主事、稽勋郎中。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袁中郎全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袁宏道在明代文坛上占有重要地位。他与兄长袁宗道、弟弟袁中道合称“公安三袁”，被称为“公安派”。“公安派”在文学上反对形式主义和拟古主义，在思想上反对封建礼教和儒家道统。他们的作品也能打破传统诗文的陈规陋习，抒发个性，清新流畅。但由于不适当地强调表现自我表现，忽视社会现实，因而作品缺乏深厚的社会内容，思想比较贫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七：疏通课文字词句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第四段） 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吴两载，登虎丘者六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做官（名作动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歌者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，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避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县令，       躲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官 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辞去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知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余言否耶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吏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吴两载，登虎丘者六。最后与江进之、方子公同登，迟月生公石上，歌者闻令来，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避匿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去。余因谓进之曰：“甚矣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乌纱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横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皂隶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之俗哉！他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去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官，有不听曲此石上者，如月！”今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幸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得解官，称吴客矣，虎丘之月，不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识余言否耶？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560" y="32004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在吴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做了两年县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曾六次等上虎丘。最后一次是和江进之、方子公同去的。我们坐在生公石上等待月亮出来。唱歌的人听说县令来了，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躲开藏起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。我就对进之说：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官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横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差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庸俗，也太过分了啊！以后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官后，一定要在这生公石上听曲，以月为证。”现在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幸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免官职，客居吴地，虎丘的明月啊，不知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得我当年的话吗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七：归纳第四段文意 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本段重点写作者任吴县县令时最后一次游览虎丘的感受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乌纱之横、皂隶之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游览感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幸得解官，览虎丘之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左大括号 18435"/>
          <p:cNvSpPr/>
          <p:nvPr/>
        </p:nvSpPr>
        <p:spPr>
          <a:xfrm>
            <a:off x="2666880" y="335268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八、全文整体感知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本文虽然是一篇游记，但不是某一次游览的实录，也不是某一个中秋日的情景纪实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而是六次游览虎丘后的综合描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因此本文和一般的游记按游踪依次先后叙述不同，而是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重点突出写虎丘中秋之夜游人如织的盛况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同时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对虎丘景物和自己“吏吴”时最后一次游虎丘的心情作了概况性的描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表达出自己钟爱自然山水、名胜古迹的一往情深和对权势的鄙薄，同时也体现了作者追求的是人生的自然任性、是人生的真性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课堂小练习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34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列句没有通假字的一项是（    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每至是日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倾城阖户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布席之初，呕者百千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知尚识余言否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余既乞归，恐进之亦兴阑矣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动作按钮: 自定义 38916">
            <a:hlinkClick r:id="rId1"/>
          </p:cNvPr>
          <p:cNvSpPr/>
          <p:nvPr/>
        </p:nvSpPr>
        <p:spPr>
          <a:xfrm>
            <a:off x="838080" y="2438280"/>
            <a:ext cx="1447920" cy="522360"/>
          </a:xfrm>
          <a:custGeom>
            <a:avLst/>
            <a:gdLst>
              <a:gd name="textAreaLeft" fmla="*/ 33840 w 1447920"/>
              <a:gd name="textAreaRight" fmla="*/ 1414080 w 144792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动作按钮: 自定义 38918">
            <a:hlinkClick r:id="rId3"/>
          </p:cNvPr>
          <p:cNvSpPr/>
          <p:nvPr/>
        </p:nvSpPr>
        <p:spPr>
          <a:xfrm>
            <a:off x="838080" y="4202280"/>
            <a:ext cx="1447920" cy="522000"/>
          </a:xfrm>
          <a:custGeom>
            <a:avLst/>
            <a:gdLst>
              <a:gd name="textAreaLeft" fmla="*/ 33840 w 1447920"/>
              <a:gd name="textAreaRight" fmla="*/ 1414080 w 1447920"/>
              <a:gd name="textAreaTop" fmla="*/ 33840 h 522000"/>
              <a:gd name="textAreaBottom" fmla="*/ 488160 h 522000"/>
            </a:gdLst>
            <a:ahLst/>
            <a:rect l="textAreaLeft" t="textAreaTop" r="textAreaRight" b="textAreaBottom"/>
            <a:pathLst>
              <a:path w="59888" h="21600">
                <a:moveTo>
                  <a:pt x="0" y="0"/>
                </a:moveTo>
                <a:lnTo>
                  <a:pt x="59888" y="0"/>
                </a:lnTo>
                <a:lnTo>
                  <a:pt x="59888" y="21600"/>
                </a:lnTo>
                <a:lnTo>
                  <a:pt x="0" y="21600"/>
                </a:lnTo>
                <a:close/>
              </a:path>
              <a:path fill="lightenLess" w="59888" h="21600">
                <a:moveTo>
                  <a:pt x="0" y="0"/>
                </a:moveTo>
                <a:lnTo>
                  <a:pt x="59888" y="0"/>
                </a:lnTo>
                <a:lnTo>
                  <a:pt x="58488" y="1400"/>
                </a:lnTo>
                <a:lnTo>
                  <a:pt x="1400" y="1400"/>
                </a:lnTo>
                <a:close/>
              </a:path>
              <a:path fill="darken" w="59888" h="21600">
                <a:moveTo>
                  <a:pt x="59888" y="0"/>
                </a:moveTo>
                <a:lnTo>
                  <a:pt x="59888" y="21600"/>
                </a:lnTo>
                <a:lnTo>
                  <a:pt x="58488" y="20200"/>
                </a:lnTo>
                <a:lnTo>
                  <a:pt x="58488" y="1400"/>
                </a:lnTo>
                <a:close/>
              </a:path>
              <a:path fill="darkenLess" w="59888" h="21600">
                <a:moveTo>
                  <a:pt x="59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88" y="20200"/>
                </a:lnTo>
                <a:close/>
              </a:path>
              <a:path fill="lighten" w="59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动作按钮: 自定义 38919">
            <a:hlinkClick r:id="rId5"/>
          </p:cNvPr>
          <p:cNvSpPr/>
          <p:nvPr/>
        </p:nvSpPr>
        <p:spPr>
          <a:xfrm>
            <a:off x="838080" y="3614760"/>
            <a:ext cx="1447920" cy="522360"/>
          </a:xfrm>
          <a:custGeom>
            <a:avLst/>
            <a:gdLst>
              <a:gd name="textAreaLeft" fmla="*/ 33840 w 1447920"/>
              <a:gd name="textAreaRight" fmla="*/ 1414080 w 144792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动作按钮: 自定义 38920">
            <a:hlinkClick r:id="rId7"/>
          </p:cNvPr>
          <p:cNvSpPr/>
          <p:nvPr/>
        </p:nvSpPr>
        <p:spPr>
          <a:xfrm>
            <a:off x="838080" y="3025800"/>
            <a:ext cx="1447920" cy="522360"/>
          </a:xfrm>
          <a:custGeom>
            <a:avLst/>
            <a:gdLst>
              <a:gd name="textAreaLeft" fmla="*/ 33840 w 1447920"/>
              <a:gd name="textAreaRight" fmla="*/ 1414080 w 144792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文本框 38923"/>
          <p:cNvSpPr/>
          <p:nvPr/>
        </p:nvSpPr>
        <p:spPr>
          <a:xfrm>
            <a:off x="1143000" y="5334120"/>
            <a:ext cx="198108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彩云"/>
              </a:rPr>
              <a:t>答案：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动作按钮: 自定义 38925"/>
          <p:cNvSpPr/>
          <p:nvPr/>
        </p:nvSpPr>
        <p:spPr>
          <a:xfrm>
            <a:off x="3200400" y="5029200"/>
            <a:ext cx="1752480" cy="1219320"/>
          </a:xfrm>
          <a:custGeom>
            <a:avLst/>
            <a:gdLst>
              <a:gd name="textAreaLeft" fmla="*/ 78840 w 1752480"/>
              <a:gd name="textAreaRight" fmla="*/ 1673640 w 1752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2" h="21600">
                <a:moveTo>
                  <a:pt x="0" y="0"/>
                </a:moveTo>
                <a:lnTo>
                  <a:pt x="31042" y="0"/>
                </a:lnTo>
                <a:lnTo>
                  <a:pt x="31042" y="21600"/>
                </a:lnTo>
                <a:lnTo>
                  <a:pt x="0" y="21600"/>
                </a:lnTo>
                <a:close/>
              </a:path>
              <a:path fill="lightenLess" w="31042" h="21600">
                <a:moveTo>
                  <a:pt x="0" y="0"/>
                </a:moveTo>
                <a:lnTo>
                  <a:pt x="31042" y="0"/>
                </a:lnTo>
                <a:lnTo>
                  <a:pt x="29642" y="1400"/>
                </a:lnTo>
                <a:lnTo>
                  <a:pt x="1400" y="1400"/>
                </a:lnTo>
                <a:close/>
              </a:path>
              <a:path fill="darken" w="31042" h="21600">
                <a:moveTo>
                  <a:pt x="31042" y="0"/>
                </a:moveTo>
                <a:lnTo>
                  <a:pt x="31042" y="21600"/>
                </a:lnTo>
                <a:lnTo>
                  <a:pt x="29642" y="20200"/>
                </a:lnTo>
                <a:lnTo>
                  <a:pt x="29642" y="1400"/>
                </a:lnTo>
                <a:close/>
              </a:path>
              <a:path fill="darkenLess" w="31042" h="21600">
                <a:moveTo>
                  <a:pt x="31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2" y="20200"/>
                </a:lnTo>
                <a:close/>
              </a:path>
              <a:path fill="lighten" w="31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课堂小练习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57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红色字的意义判断正确的一项是（    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鳞，檀板丘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深夜，月影横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虎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城可七八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歌者闻令来，皆避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“比”相同，两个“去”不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“比”相同，两个“去”也相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“比”不同，两个“去”相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“比”不同，两个“去”也不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动作按钮: 自定义 81923">
            <a:hlinkClick r:id="rId1"/>
          </p:cNvPr>
          <p:cNvSpPr/>
          <p:nvPr/>
        </p:nvSpPr>
        <p:spPr>
          <a:xfrm>
            <a:off x="685800" y="3352680"/>
            <a:ext cx="1447920" cy="470160"/>
          </a:xfrm>
          <a:custGeom>
            <a:avLst/>
            <a:gdLst>
              <a:gd name="textAreaLeft" fmla="*/ 30240 w 1447920"/>
              <a:gd name="textAreaRight" fmla="*/ 1417680 w 1447920"/>
              <a:gd name="textAreaTop" fmla="*/ 30240 h 470160"/>
              <a:gd name="textAreaBottom" fmla="*/ 439920 h 470160"/>
            </a:gdLst>
            <a:ahLst/>
            <a:rect l="textAreaLeft" t="textAreaTop" r="textAreaRight" b="textAreaBottom"/>
            <a:pathLst>
              <a:path w="66486" h="21600">
                <a:moveTo>
                  <a:pt x="0" y="0"/>
                </a:moveTo>
                <a:lnTo>
                  <a:pt x="66486" y="0"/>
                </a:lnTo>
                <a:lnTo>
                  <a:pt x="66486" y="21600"/>
                </a:lnTo>
                <a:lnTo>
                  <a:pt x="0" y="21600"/>
                </a:lnTo>
                <a:close/>
              </a:path>
              <a:path fill="lightenLess" w="66486" h="21600">
                <a:moveTo>
                  <a:pt x="0" y="0"/>
                </a:moveTo>
                <a:lnTo>
                  <a:pt x="66486" y="0"/>
                </a:lnTo>
                <a:lnTo>
                  <a:pt x="65086" y="1400"/>
                </a:lnTo>
                <a:lnTo>
                  <a:pt x="1400" y="1400"/>
                </a:lnTo>
                <a:close/>
              </a:path>
              <a:path fill="darken" w="66486" h="21600">
                <a:moveTo>
                  <a:pt x="66486" y="0"/>
                </a:moveTo>
                <a:lnTo>
                  <a:pt x="66486" y="21600"/>
                </a:lnTo>
                <a:lnTo>
                  <a:pt x="65086" y="20200"/>
                </a:lnTo>
                <a:lnTo>
                  <a:pt x="65086" y="1400"/>
                </a:lnTo>
                <a:close/>
              </a:path>
              <a:path fill="darkenLess" w="66486" h="21600">
                <a:moveTo>
                  <a:pt x="66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086" y="20200"/>
                </a:lnTo>
                <a:close/>
              </a:path>
              <a:path fill="lighten" w="66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动作按钮: 自定义 81924">
            <a:hlinkClick r:id="rId3"/>
          </p:cNvPr>
          <p:cNvSpPr/>
          <p:nvPr/>
        </p:nvSpPr>
        <p:spPr>
          <a:xfrm>
            <a:off x="685800" y="4940280"/>
            <a:ext cx="1447920" cy="469800"/>
          </a:xfrm>
          <a:custGeom>
            <a:avLst/>
            <a:gdLst>
              <a:gd name="textAreaLeft" fmla="*/ 30240 w 1447920"/>
              <a:gd name="textAreaRight" fmla="*/ 1417680 w 144792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66537" h="21600">
                <a:moveTo>
                  <a:pt x="0" y="0"/>
                </a:moveTo>
                <a:lnTo>
                  <a:pt x="66537" y="0"/>
                </a:lnTo>
                <a:lnTo>
                  <a:pt x="66537" y="21600"/>
                </a:lnTo>
                <a:lnTo>
                  <a:pt x="0" y="21600"/>
                </a:lnTo>
                <a:close/>
              </a:path>
              <a:path fill="lightenLess" w="66537" h="21600">
                <a:moveTo>
                  <a:pt x="0" y="0"/>
                </a:moveTo>
                <a:lnTo>
                  <a:pt x="66537" y="0"/>
                </a:lnTo>
                <a:lnTo>
                  <a:pt x="65137" y="1400"/>
                </a:lnTo>
                <a:lnTo>
                  <a:pt x="1400" y="1400"/>
                </a:lnTo>
                <a:close/>
              </a:path>
              <a:path fill="darken" w="66537" h="21600">
                <a:moveTo>
                  <a:pt x="66537" y="0"/>
                </a:moveTo>
                <a:lnTo>
                  <a:pt x="66537" y="21600"/>
                </a:lnTo>
                <a:lnTo>
                  <a:pt x="65137" y="20200"/>
                </a:lnTo>
                <a:lnTo>
                  <a:pt x="65137" y="1400"/>
                </a:lnTo>
                <a:close/>
              </a:path>
              <a:path fill="darkenLess" w="66537" h="21600">
                <a:moveTo>
                  <a:pt x="66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37" y="20200"/>
                </a:lnTo>
                <a:close/>
              </a:path>
              <a:path fill="lighten" w="66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动作按钮: 自定义 81925">
            <a:hlinkClick r:id="rId5"/>
          </p:cNvPr>
          <p:cNvSpPr/>
          <p:nvPr/>
        </p:nvSpPr>
        <p:spPr>
          <a:xfrm>
            <a:off x="685800" y="4411800"/>
            <a:ext cx="1447920" cy="469800"/>
          </a:xfrm>
          <a:custGeom>
            <a:avLst/>
            <a:gdLst>
              <a:gd name="textAreaLeft" fmla="*/ 30240 w 1447920"/>
              <a:gd name="textAreaRight" fmla="*/ 1417680 w 144792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66537" h="21600">
                <a:moveTo>
                  <a:pt x="0" y="0"/>
                </a:moveTo>
                <a:lnTo>
                  <a:pt x="66537" y="0"/>
                </a:lnTo>
                <a:lnTo>
                  <a:pt x="66537" y="21600"/>
                </a:lnTo>
                <a:lnTo>
                  <a:pt x="0" y="21600"/>
                </a:lnTo>
                <a:close/>
              </a:path>
              <a:path fill="lightenLess" w="66537" h="21600">
                <a:moveTo>
                  <a:pt x="0" y="0"/>
                </a:moveTo>
                <a:lnTo>
                  <a:pt x="66537" y="0"/>
                </a:lnTo>
                <a:lnTo>
                  <a:pt x="65137" y="1400"/>
                </a:lnTo>
                <a:lnTo>
                  <a:pt x="1400" y="1400"/>
                </a:lnTo>
                <a:close/>
              </a:path>
              <a:path fill="darken" w="66537" h="21600">
                <a:moveTo>
                  <a:pt x="66537" y="0"/>
                </a:moveTo>
                <a:lnTo>
                  <a:pt x="66537" y="21600"/>
                </a:lnTo>
                <a:lnTo>
                  <a:pt x="65137" y="20200"/>
                </a:lnTo>
                <a:lnTo>
                  <a:pt x="65137" y="1400"/>
                </a:lnTo>
                <a:close/>
              </a:path>
              <a:path fill="darkenLess" w="66537" h="21600">
                <a:moveTo>
                  <a:pt x="66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37" y="20200"/>
                </a:lnTo>
                <a:close/>
              </a:path>
              <a:path fill="lighten" w="66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动作按钮: 自定义 81926">
            <a:hlinkClick r:id="rId7"/>
          </p:cNvPr>
          <p:cNvSpPr/>
          <p:nvPr/>
        </p:nvSpPr>
        <p:spPr>
          <a:xfrm>
            <a:off x="685800" y="3881520"/>
            <a:ext cx="1447920" cy="469800"/>
          </a:xfrm>
          <a:custGeom>
            <a:avLst/>
            <a:gdLst>
              <a:gd name="textAreaLeft" fmla="*/ 30240 w 1447920"/>
              <a:gd name="textAreaRight" fmla="*/ 1417680 w 144792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66537" h="21600">
                <a:moveTo>
                  <a:pt x="0" y="0"/>
                </a:moveTo>
                <a:lnTo>
                  <a:pt x="66537" y="0"/>
                </a:lnTo>
                <a:lnTo>
                  <a:pt x="66537" y="21600"/>
                </a:lnTo>
                <a:lnTo>
                  <a:pt x="0" y="21600"/>
                </a:lnTo>
                <a:close/>
              </a:path>
              <a:path fill="lightenLess" w="66537" h="21600">
                <a:moveTo>
                  <a:pt x="0" y="0"/>
                </a:moveTo>
                <a:lnTo>
                  <a:pt x="66537" y="0"/>
                </a:lnTo>
                <a:lnTo>
                  <a:pt x="65137" y="1400"/>
                </a:lnTo>
                <a:lnTo>
                  <a:pt x="1400" y="1400"/>
                </a:lnTo>
                <a:close/>
              </a:path>
              <a:path fill="darken" w="66537" h="21600">
                <a:moveTo>
                  <a:pt x="66537" y="0"/>
                </a:moveTo>
                <a:lnTo>
                  <a:pt x="66537" y="21600"/>
                </a:lnTo>
                <a:lnTo>
                  <a:pt x="65137" y="20200"/>
                </a:lnTo>
                <a:lnTo>
                  <a:pt x="65137" y="1400"/>
                </a:lnTo>
                <a:close/>
              </a:path>
              <a:path fill="darkenLess" w="66537" h="21600">
                <a:moveTo>
                  <a:pt x="66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37" y="20200"/>
                </a:lnTo>
                <a:close/>
              </a:path>
              <a:path fill="lighten" w="66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文本框 81927"/>
          <p:cNvSpPr/>
          <p:nvPr/>
        </p:nvSpPr>
        <p:spPr>
          <a:xfrm>
            <a:off x="1066680" y="5562720"/>
            <a:ext cx="19814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彩云"/>
              </a:rPr>
              <a:t>答案：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动作按钮: 自定义 81928"/>
          <p:cNvSpPr/>
          <p:nvPr/>
        </p:nvSpPr>
        <p:spPr>
          <a:xfrm>
            <a:off x="3200400" y="55627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课堂小练习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57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列红色词语的意思与现代汉语不相同的一项是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部署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雅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既陈，姸媸自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鸟为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徘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顷云得天池诸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作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动作按钮: 自定义 82947">
            <a:hlinkClick r:id="rId1"/>
          </p:cNvPr>
          <p:cNvSpPr/>
          <p:nvPr/>
        </p:nvSpPr>
        <p:spPr>
          <a:xfrm>
            <a:off x="838080" y="2895480"/>
            <a:ext cx="1447920" cy="540000"/>
          </a:xfrm>
          <a:custGeom>
            <a:avLst/>
            <a:gdLst>
              <a:gd name="textAreaLeft" fmla="*/ 34920 w 1447920"/>
              <a:gd name="textAreaRight" fmla="*/ 1413000 w 1447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7893" h="21600">
                <a:moveTo>
                  <a:pt x="0" y="0"/>
                </a:moveTo>
                <a:lnTo>
                  <a:pt x="57893" y="0"/>
                </a:lnTo>
                <a:lnTo>
                  <a:pt x="57893" y="21600"/>
                </a:lnTo>
                <a:lnTo>
                  <a:pt x="0" y="21600"/>
                </a:lnTo>
                <a:close/>
              </a:path>
              <a:path fill="lightenLess" w="57893" h="21600">
                <a:moveTo>
                  <a:pt x="0" y="0"/>
                </a:moveTo>
                <a:lnTo>
                  <a:pt x="57893" y="0"/>
                </a:lnTo>
                <a:lnTo>
                  <a:pt x="56493" y="1400"/>
                </a:lnTo>
                <a:lnTo>
                  <a:pt x="1400" y="1400"/>
                </a:lnTo>
                <a:close/>
              </a:path>
              <a:path fill="darken" w="57893" h="21600">
                <a:moveTo>
                  <a:pt x="57893" y="0"/>
                </a:moveTo>
                <a:lnTo>
                  <a:pt x="57893" y="21600"/>
                </a:lnTo>
                <a:lnTo>
                  <a:pt x="56493" y="20200"/>
                </a:lnTo>
                <a:lnTo>
                  <a:pt x="56493" y="1400"/>
                </a:lnTo>
                <a:close/>
              </a:path>
              <a:path fill="darkenLess" w="57893" h="21600">
                <a:moveTo>
                  <a:pt x="57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93" y="20200"/>
                </a:lnTo>
                <a:close/>
              </a:path>
              <a:path fill="lighten" w="57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动作按钮: 自定义 82948">
            <a:hlinkClick r:id="rId3"/>
          </p:cNvPr>
          <p:cNvSpPr/>
          <p:nvPr/>
        </p:nvSpPr>
        <p:spPr>
          <a:xfrm>
            <a:off x="838080" y="4718160"/>
            <a:ext cx="1447920" cy="539640"/>
          </a:xfrm>
          <a:custGeom>
            <a:avLst/>
            <a:gdLst>
              <a:gd name="textAreaLeft" fmla="*/ 34920 w 1447920"/>
              <a:gd name="textAreaRight" fmla="*/ 1413000 w 1447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57931" h="21600">
                <a:moveTo>
                  <a:pt x="0" y="0"/>
                </a:moveTo>
                <a:lnTo>
                  <a:pt x="57931" y="0"/>
                </a:lnTo>
                <a:lnTo>
                  <a:pt x="57931" y="21600"/>
                </a:lnTo>
                <a:lnTo>
                  <a:pt x="0" y="21600"/>
                </a:lnTo>
                <a:close/>
              </a:path>
              <a:path fill="lightenLess" w="57931" h="21600">
                <a:moveTo>
                  <a:pt x="0" y="0"/>
                </a:moveTo>
                <a:lnTo>
                  <a:pt x="57931" y="0"/>
                </a:lnTo>
                <a:lnTo>
                  <a:pt x="56531" y="1400"/>
                </a:lnTo>
                <a:lnTo>
                  <a:pt x="1400" y="1400"/>
                </a:lnTo>
                <a:close/>
              </a:path>
              <a:path fill="darken" w="57931" h="21600">
                <a:moveTo>
                  <a:pt x="57931" y="0"/>
                </a:moveTo>
                <a:lnTo>
                  <a:pt x="57931" y="21600"/>
                </a:lnTo>
                <a:lnTo>
                  <a:pt x="56531" y="20200"/>
                </a:lnTo>
                <a:lnTo>
                  <a:pt x="56531" y="1400"/>
                </a:lnTo>
                <a:close/>
              </a:path>
              <a:path fill="darkenLess" w="57931" h="21600">
                <a:moveTo>
                  <a:pt x="57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31" y="20200"/>
                </a:lnTo>
                <a:close/>
              </a:path>
              <a:path fill="lighten" w="57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动作按钮: 自定义 82949">
            <a:hlinkClick r:id="rId5"/>
          </p:cNvPr>
          <p:cNvSpPr/>
          <p:nvPr/>
        </p:nvSpPr>
        <p:spPr>
          <a:xfrm>
            <a:off x="838080" y="4111560"/>
            <a:ext cx="1447920" cy="539640"/>
          </a:xfrm>
          <a:custGeom>
            <a:avLst/>
            <a:gdLst>
              <a:gd name="textAreaLeft" fmla="*/ 34920 w 1447920"/>
              <a:gd name="textAreaRight" fmla="*/ 1413000 w 1447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57931" h="21600">
                <a:moveTo>
                  <a:pt x="0" y="0"/>
                </a:moveTo>
                <a:lnTo>
                  <a:pt x="57931" y="0"/>
                </a:lnTo>
                <a:lnTo>
                  <a:pt x="57931" y="21600"/>
                </a:lnTo>
                <a:lnTo>
                  <a:pt x="0" y="21600"/>
                </a:lnTo>
                <a:close/>
              </a:path>
              <a:path fill="lightenLess" w="57931" h="21600">
                <a:moveTo>
                  <a:pt x="0" y="0"/>
                </a:moveTo>
                <a:lnTo>
                  <a:pt x="57931" y="0"/>
                </a:lnTo>
                <a:lnTo>
                  <a:pt x="56531" y="1400"/>
                </a:lnTo>
                <a:lnTo>
                  <a:pt x="1400" y="1400"/>
                </a:lnTo>
                <a:close/>
              </a:path>
              <a:path fill="darken" w="57931" h="21600">
                <a:moveTo>
                  <a:pt x="57931" y="0"/>
                </a:moveTo>
                <a:lnTo>
                  <a:pt x="57931" y="21600"/>
                </a:lnTo>
                <a:lnTo>
                  <a:pt x="56531" y="20200"/>
                </a:lnTo>
                <a:lnTo>
                  <a:pt x="56531" y="1400"/>
                </a:lnTo>
                <a:close/>
              </a:path>
              <a:path fill="darkenLess" w="57931" h="21600">
                <a:moveTo>
                  <a:pt x="57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31" y="20200"/>
                </a:lnTo>
                <a:close/>
              </a:path>
              <a:path fill="lighten" w="57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动作按钮: 自定义 82950">
            <a:hlinkClick r:id="rId7"/>
          </p:cNvPr>
          <p:cNvSpPr/>
          <p:nvPr/>
        </p:nvSpPr>
        <p:spPr>
          <a:xfrm>
            <a:off x="838080" y="3502080"/>
            <a:ext cx="1447920" cy="539640"/>
          </a:xfrm>
          <a:custGeom>
            <a:avLst/>
            <a:gdLst>
              <a:gd name="textAreaLeft" fmla="*/ 34920 w 1447920"/>
              <a:gd name="textAreaRight" fmla="*/ 1413000 w 1447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57931" h="21600">
                <a:moveTo>
                  <a:pt x="0" y="0"/>
                </a:moveTo>
                <a:lnTo>
                  <a:pt x="57931" y="0"/>
                </a:lnTo>
                <a:lnTo>
                  <a:pt x="57931" y="21600"/>
                </a:lnTo>
                <a:lnTo>
                  <a:pt x="0" y="21600"/>
                </a:lnTo>
                <a:close/>
              </a:path>
              <a:path fill="lightenLess" w="57931" h="21600">
                <a:moveTo>
                  <a:pt x="0" y="0"/>
                </a:moveTo>
                <a:lnTo>
                  <a:pt x="57931" y="0"/>
                </a:lnTo>
                <a:lnTo>
                  <a:pt x="56531" y="1400"/>
                </a:lnTo>
                <a:lnTo>
                  <a:pt x="1400" y="1400"/>
                </a:lnTo>
                <a:close/>
              </a:path>
              <a:path fill="darken" w="57931" h="21600">
                <a:moveTo>
                  <a:pt x="57931" y="0"/>
                </a:moveTo>
                <a:lnTo>
                  <a:pt x="57931" y="21600"/>
                </a:lnTo>
                <a:lnTo>
                  <a:pt x="56531" y="20200"/>
                </a:lnTo>
                <a:lnTo>
                  <a:pt x="56531" y="1400"/>
                </a:lnTo>
                <a:close/>
              </a:path>
              <a:path fill="darkenLess" w="57931" h="21600">
                <a:moveTo>
                  <a:pt x="57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31" y="20200"/>
                </a:lnTo>
                <a:close/>
              </a:path>
              <a:path fill="lighten" w="57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文本框 82951"/>
          <p:cNvSpPr/>
          <p:nvPr/>
        </p:nvSpPr>
        <p:spPr>
          <a:xfrm>
            <a:off x="1066680" y="5562720"/>
            <a:ext cx="19814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彩云"/>
              </a:rPr>
              <a:t>答案：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动作按钮: 自定义 82952"/>
          <p:cNvSpPr/>
          <p:nvPr/>
        </p:nvSpPr>
        <p:spPr>
          <a:xfrm>
            <a:off x="3429000" y="5410080"/>
            <a:ext cx="1752480" cy="106704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5471" h="21600">
                <a:moveTo>
                  <a:pt x="0" y="0"/>
                </a:moveTo>
                <a:lnTo>
                  <a:pt x="35471" y="0"/>
                </a:lnTo>
                <a:lnTo>
                  <a:pt x="35471" y="21600"/>
                </a:lnTo>
                <a:lnTo>
                  <a:pt x="0" y="21600"/>
                </a:lnTo>
                <a:close/>
              </a:path>
              <a:path fill="lightenLess" w="35471" h="21600">
                <a:moveTo>
                  <a:pt x="0" y="0"/>
                </a:moveTo>
                <a:lnTo>
                  <a:pt x="35471" y="0"/>
                </a:lnTo>
                <a:lnTo>
                  <a:pt x="34071" y="1400"/>
                </a:lnTo>
                <a:lnTo>
                  <a:pt x="1400" y="1400"/>
                </a:lnTo>
                <a:close/>
              </a:path>
              <a:path fill="darken" w="35471" h="21600">
                <a:moveTo>
                  <a:pt x="35471" y="0"/>
                </a:moveTo>
                <a:lnTo>
                  <a:pt x="35471" y="21600"/>
                </a:lnTo>
                <a:lnTo>
                  <a:pt x="34071" y="20200"/>
                </a:lnTo>
                <a:lnTo>
                  <a:pt x="34071" y="1400"/>
                </a:lnTo>
                <a:close/>
              </a:path>
              <a:path fill="darkenLess" w="35471" h="21600">
                <a:moveTo>
                  <a:pt x="35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71" y="20200"/>
                </a:lnTo>
                <a:close/>
              </a:path>
              <a:path fill="lighten" w="35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课堂小练习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57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列“而”字作连词表示转折的一项是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未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摇首顿足者，得数十人而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壮士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泪矣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人缓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举世誉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加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动作按钮: 自定义 86020">
            <a:hlinkClick r:id="rId1"/>
          </p:cNvPr>
          <p:cNvSpPr/>
          <p:nvPr/>
        </p:nvSpPr>
        <p:spPr>
          <a:xfrm>
            <a:off x="914400" y="2438280"/>
            <a:ext cx="1447920" cy="522360"/>
          </a:xfrm>
          <a:custGeom>
            <a:avLst/>
            <a:gdLst>
              <a:gd name="textAreaLeft" fmla="*/ 33840 w 1447920"/>
              <a:gd name="textAreaRight" fmla="*/ 1414080 w 144792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动作按钮: 自定义 86021">
            <a:hlinkClick r:id="rId3"/>
          </p:cNvPr>
          <p:cNvSpPr/>
          <p:nvPr/>
        </p:nvSpPr>
        <p:spPr>
          <a:xfrm>
            <a:off x="914400" y="4202280"/>
            <a:ext cx="1447920" cy="522000"/>
          </a:xfrm>
          <a:custGeom>
            <a:avLst/>
            <a:gdLst>
              <a:gd name="textAreaLeft" fmla="*/ 33840 w 1447920"/>
              <a:gd name="textAreaRight" fmla="*/ 1414080 w 1447920"/>
              <a:gd name="textAreaTop" fmla="*/ 33840 h 522000"/>
              <a:gd name="textAreaBottom" fmla="*/ 488160 h 522000"/>
            </a:gdLst>
            <a:ahLst/>
            <a:rect l="textAreaLeft" t="textAreaTop" r="textAreaRight" b="textAreaBottom"/>
            <a:pathLst>
              <a:path w="59888" h="21600">
                <a:moveTo>
                  <a:pt x="0" y="0"/>
                </a:moveTo>
                <a:lnTo>
                  <a:pt x="59888" y="0"/>
                </a:lnTo>
                <a:lnTo>
                  <a:pt x="59888" y="21600"/>
                </a:lnTo>
                <a:lnTo>
                  <a:pt x="0" y="21600"/>
                </a:lnTo>
                <a:close/>
              </a:path>
              <a:path fill="lightenLess" w="59888" h="21600">
                <a:moveTo>
                  <a:pt x="0" y="0"/>
                </a:moveTo>
                <a:lnTo>
                  <a:pt x="59888" y="0"/>
                </a:lnTo>
                <a:lnTo>
                  <a:pt x="58488" y="1400"/>
                </a:lnTo>
                <a:lnTo>
                  <a:pt x="1400" y="1400"/>
                </a:lnTo>
                <a:close/>
              </a:path>
              <a:path fill="darken" w="59888" h="21600">
                <a:moveTo>
                  <a:pt x="59888" y="0"/>
                </a:moveTo>
                <a:lnTo>
                  <a:pt x="59888" y="21600"/>
                </a:lnTo>
                <a:lnTo>
                  <a:pt x="58488" y="20200"/>
                </a:lnTo>
                <a:lnTo>
                  <a:pt x="58488" y="1400"/>
                </a:lnTo>
                <a:close/>
              </a:path>
              <a:path fill="darkenLess" w="59888" h="21600">
                <a:moveTo>
                  <a:pt x="59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88" y="20200"/>
                </a:lnTo>
                <a:close/>
              </a:path>
              <a:path fill="lighten" w="59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动作按钮: 自定义 86022">
            <a:hlinkClick r:id="rId5"/>
          </p:cNvPr>
          <p:cNvSpPr/>
          <p:nvPr/>
        </p:nvSpPr>
        <p:spPr>
          <a:xfrm>
            <a:off x="914400" y="3614760"/>
            <a:ext cx="1447920" cy="522360"/>
          </a:xfrm>
          <a:custGeom>
            <a:avLst/>
            <a:gdLst>
              <a:gd name="textAreaLeft" fmla="*/ 33840 w 1447920"/>
              <a:gd name="textAreaRight" fmla="*/ 1414080 w 144792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动作按钮: 自定义 86023">
            <a:hlinkClick r:id="rId7"/>
          </p:cNvPr>
          <p:cNvSpPr/>
          <p:nvPr/>
        </p:nvSpPr>
        <p:spPr>
          <a:xfrm>
            <a:off x="914400" y="3025800"/>
            <a:ext cx="1447920" cy="522360"/>
          </a:xfrm>
          <a:custGeom>
            <a:avLst/>
            <a:gdLst>
              <a:gd name="textAreaLeft" fmla="*/ 33840 w 1447920"/>
              <a:gd name="textAreaRight" fmla="*/ 1414080 w 144792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文本框 86024"/>
          <p:cNvSpPr/>
          <p:nvPr/>
        </p:nvSpPr>
        <p:spPr>
          <a:xfrm>
            <a:off x="1066680" y="5562720"/>
            <a:ext cx="19814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彩云"/>
              </a:rPr>
              <a:t>答案：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动作按钮: 自定义 86025"/>
          <p:cNvSpPr/>
          <p:nvPr/>
        </p:nvSpPr>
        <p:spPr>
          <a:xfrm>
            <a:off x="3429000" y="5410080"/>
            <a:ext cx="1752480" cy="106704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5471" h="21600">
                <a:moveTo>
                  <a:pt x="0" y="0"/>
                </a:moveTo>
                <a:lnTo>
                  <a:pt x="35471" y="0"/>
                </a:lnTo>
                <a:lnTo>
                  <a:pt x="35471" y="21600"/>
                </a:lnTo>
                <a:lnTo>
                  <a:pt x="0" y="21600"/>
                </a:lnTo>
                <a:close/>
              </a:path>
              <a:path fill="lightenLess" w="35471" h="21600">
                <a:moveTo>
                  <a:pt x="0" y="0"/>
                </a:moveTo>
                <a:lnTo>
                  <a:pt x="35471" y="0"/>
                </a:lnTo>
                <a:lnTo>
                  <a:pt x="34071" y="1400"/>
                </a:lnTo>
                <a:lnTo>
                  <a:pt x="1400" y="1400"/>
                </a:lnTo>
                <a:close/>
              </a:path>
              <a:path fill="darken" w="35471" h="21600">
                <a:moveTo>
                  <a:pt x="35471" y="0"/>
                </a:moveTo>
                <a:lnTo>
                  <a:pt x="35471" y="21600"/>
                </a:lnTo>
                <a:lnTo>
                  <a:pt x="34071" y="20200"/>
                </a:lnTo>
                <a:lnTo>
                  <a:pt x="34071" y="1400"/>
                </a:lnTo>
                <a:close/>
              </a:path>
              <a:path fill="darkenLess" w="35471" h="21600">
                <a:moveTo>
                  <a:pt x="35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71" y="20200"/>
                </a:lnTo>
                <a:close/>
              </a:path>
              <a:path fill="lighten" w="35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课堂小练习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57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列红色词的用法与其它不同类的一项是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铺江上                        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夜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檀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                        樽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句子的句式与其它不同类的一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置酒交衢间                面北为平远堂旧址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迟月生公石上            欲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诸公其中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动作按钮: 自定义 87044">
            <a:hlinkClick r:id="rId1"/>
          </p:cNvPr>
          <p:cNvSpPr/>
          <p:nvPr/>
        </p:nvSpPr>
        <p:spPr>
          <a:xfrm>
            <a:off x="457200" y="2438280"/>
            <a:ext cx="1447920" cy="540000"/>
          </a:xfrm>
          <a:custGeom>
            <a:avLst/>
            <a:gdLst>
              <a:gd name="textAreaLeft" fmla="*/ 34920 w 1447920"/>
              <a:gd name="textAreaRight" fmla="*/ 1413000 w 1447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7893" h="21600">
                <a:moveTo>
                  <a:pt x="0" y="0"/>
                </a:moveTo>
                <a:lnTo>
                  <a:pt x="57893" y="0"/>
                </a:lnTo>
                <a:lnTo>
                  <a:pt x="57893" y="21600"/>
                </a:lnTo>
                <a:lnTo>
                  <a:pt x="0" y="21600"/>
                </a:lnTo>
                <a:close/>
              </a:path>
              <a:path fill="lightenLess" w="57893" h="21600">
                <a:moveTo>
                  <a:pt x="0" y="0"/>
                </a:moveTo>
                <a:lnTo>
                  <a:pt x="57893" y="0"/>
                </a:lnTo>
                <a:lnTo>
                  <a:pt x="56493" y="1400"/>
                </a:lnTo>
                <a:lnTo>
                  <a:pt x="1400" y="1400"/>
                </a:lnTo>
                <a:close/>
              </a:path>
              <a:path fill="darken" w="57893" h="21600">
                <a:moveTo>
                  <a:pt x="57893" y="0"/>
                </a:moveTo>
                <a:lnTo>
                  <a:pt x="57893" y="21600"/>
                </a:lnTo>
                <a:lnTo>
                  <a:pt x="56493" y="20200"/>
                </a:lnTo>
                <a:lnTo>
                  <a:pt x="56493" y="1400"/>
                </a:lnTo>
                <a:close/>
              </a:path>
              <a:path fill="darkenLess" w="57893" h="21600">
                <a:moveTo>
                  <a:pt x="57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93" y="20200"/>
                </a:lnTo>
                <a:close/>
              </a:path>
              <a:path fill="lighten" w="57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动作按钮: 自定义 87045">
            <a:hlinkClick r:id="rId3"/>
          </p:cNvPr>
          <p:cNvSpPr/>
          <p:nvPr/>
        </p:nvSpPr>
        <p:spPr>
          <a:xfrm>
            <a:off x="4495680" y="3048120"/>
            <a:ext cx="1447920" cy="539640"/>
          </a:xfrm>
          <a:custGeom>
            <a:avLst/>
            <a:gdLst>
              <a:gd name="textAreaLeft" fmla="*/ 34920 w 1447920"/>
              <a:gd name="textAreaRight" fmla="*/ 1413000 w 1447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57931" h="21600">
                <a:moveTo>
                  <a:pt x="0" y="0"/>
                </a:moveTo>
                <a:lnTo>
                  <a:pt x="57931" y="0"/>
                </a:lnTo>
                <a:lnTo>
                  <a:pt x="57931" y="21600"/>
                </a:lnTo>
                <a:lnTo>
                  <a:pt x="0" y="21600"/>
                </a:lnTo>
                <a:close/>
              </a:path>
              <a:path fill="lightenLess" w="57931" h="21600">
                <a:moveTo>
                  <a:pt x="0" y="0"/>
                </a:moveTo>
                <a:lnTo>
                  <a:pt x="57931" y="0"/>
                </a:lnTo>
                <a:lnTo>
                  <a:pt x="56531" y="1400"/>
                </a:lnTo>
                <a:lnTo>
                  <a:pt x="1400" y="1400"/>
                </a:lnTo>
                <a:close/>
              </a:path>
              <a:path fill="darken" w="57931" h="21600">
                <a:moveTo>
                  <a:pt x="57931" y="0"/>
                </a:moveTo>
                <a:lnTo>
                  <a:pt x="57931" y="21600"/>
                </a:lnTo>
                <a:lnTo>
                  <a:pt x="56531" y="20200"/>
                </a:lnTo>
                <a:lnTo>
                  <a:pt x="56531" y="1400"/>
                </a:lnTo>
                <a:close/>
              </a:path>
              <a:path fill="darkenLess" w="57931" h="21600">
                <a:moveTo>
                  <a:pt x="57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31" y="20200"/>
                </a:lnTo>
                <a:close/>
              </a:path>
              <a:path fill="lighten" w="57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动作按钮: 自定义 87046">
            <a:hlinkClick r:id="rId5"/>
          </p:cNvPr>
          <p:cNvSpPr/>
          <p:nvPr/>
        </p:nvSpPr>
        <p:spPr>
          <a:xfrm>
            <a:off x="457200" y="3048120"/>
            <a:ext cx="1447920" cy="539640"/>
          </a:xfrm>
          <a:custGeom>
            <a:avLst/>
            <a:gdLst>
              <a:gd name="textAreaLeft" fmla="*/ 34920 w 1447920"/>
              <a:gd name="textAreaRight" fmla="*/ 1413000 w 1447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57931" h="21600">
                <a:moveTo>
                  <a:pt x="0" y="0"/>
                </a:moveTo>
                <a:lnTo>
                  <a:pt x="57931" y="0"/>
                </a:lnTo>
                <a:lnTo>
                  <a:pt x="57931" y="21600"/>
                </a:lnTo>
                <a:lnTo>
                  <a:pt x="0" y="21600"/>
                </a:lnTo>
                <a:close/>
              </a:path>
              <a:path fill="lightenLess" w="57931" h="21600">
                <a:moveTo>
                  <a:pt x="0" y="0"/>
                </a:moveTo>
                <a:lnTo>
                  <a:pt x="57931" y="0"/>
                </a:lnTo>
                <a:lnTo>
                  <a:pt x="56531" y="1400"/>
                </a:lnTo>
                <a:lnTo>
                  <a:pt x="1400" y="1400"/>
                </a:lnTo>
                <a:close/>
              </a:path>
              <a:path fill="darken" w="57931" h="21600">
                <a:moveTo>
                  <a:pt x="57931" y="0"/>
                </a:moveTo>
                <a:lnTo>
                  <a:pt x="57931" y="21600"/>
                </a:lnTo>
                <a:lnTo>
                  <a:pt x="56531" y="20200"/>
                </a:lnTo>
                <a:lnTo>
                  <a:pt x="56531" y="1400"/>
                </a:lnTo>
                <a:close/>
              </a:path>
              <a:path fill="darkenLess" w="57931" h="21600">
                <a:moveTo>
                  <a:pt x="57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31" y="20200"/>
                </a:lnTo>
                <a:close/>
              </a:path>
              <a:path fill="lighten" w="57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动作按钮: 自定义 87047">
            <a:hlinkClick r:id="rId7"/>
          </p:cNvPr>
          <p:cNvSpPr/>
          <p:nvPr/>
        </p:nvSpPr>
        <p:spPr>
          <a:xfrm>
            <a:off x="4495680" y="2438280"/>
            <a:ext cx="1447920" cy="540000"/>
          </a:xfrm>
          <a:custGeom>
            <a:avLst/>
            <a:gdLst>
              <a:gd name="textAreaLeft" fmla="*/ 34920 w 1447920"/>
              <a:gd name="textAreaRight" fmla="*/ 1413000 w 1447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7893" h="21600">
                <a:moveTo>
                  <a:pt x="0" y="0"/>
                </a:moveTo>
                <a:lnTo>
                  <a:pt x="57893" y="0"/>
                </a:lnTo>
                <a:lnTo>
                  <a:pt x="57893" y="21600"/>
                </a:lnTo>
                <a:lnTo>
                  <a:pt x="0" y="21600"/>
                </a:lnTo>
                <a:close/>
              </a:path>
              <a:path fill="lightenLess" w="57893" h="21600">
                <a:moveTo>
                  <a:pt x="0" y="0"/>
                </a:moveTo>
                <a:lnTo>
                  <a:pt x="57893" y="0"/>
                </a:lnTo>
                <a:lnTo>
                  <a:pt x="56493" y="1400"/>
                </a:lnTo>
                <a:lnTo>
                  <a:pt x="1400" y="1400"/>
                </a:lnTo>
                <a:close/>
              </a:path>
              <a:path fill="darken" w="57893" h="21600">
                <a:moveTo>
                  <a:pt x="57893" y="0"/>
                </a:moveTo>
                <a:lnTo>
                  <a:pt x="57893" y="21600"/>
                </a:lnTo>
                <a:lnTo>
                  <a:pt x="56493" y="20200"/>
                </a:lnTo>
                <a:lnTo>
                  <a:pt x="56493" y="1400"/>
                </a:lnTo>
                <a:close/>
              </a:path>
              <a:path fill="darkenLess" w="57893" h="21600">
                <a:moveTo>
                  <a:pt x="57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93" y="20200"/>
                </a:lnTo>
                <a:close/>
              </a:path>
              <a:path fill="lighten" w="57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文本框 87048"/>
          <p:cNvSpPr/>
          <p:nvPr/>
        </p:nvSpPr>
        <p:spPr>
          <a:xfrm>
            <a:off x="1066680" y="5562720"/>
            <a:ext cx="19814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彩云"/>
              </a:rPr>
              <a:t>答案：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动作按钮: 自定义 87049"/>
          <p:cNvSpPr/>
          <p:nvPr/>
        </p:nvSpPr>
        <p:spPr>
          <a:xfrm>
            <a:off x="3429000" y="5715000"/>
            <a:ext cx="1752480" cy="762120"/>
          </a:xfrm>
          <a:custGeom>
            <a:avLst/>
            <a:gdLst>
              <a:gd name="textAreaLeft" fmla="*/ 49320 w 1752480"/>
              <a:gd name="textAreaRight" fmla="*/ 1703160 w 1752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56" h="21600">
                <a:moveTo>
                  <a:pt x="0" y="0"/>
                </a:moveTo>
                <a:lnTo>
                  <a:pt x="49656" y="0"/>
                </a:lnTo>
                <a:lnTo>
                  <a:pt x="49656" y="21600"/>
                </a:lnTo>
                <a:lnTo>
                  <a:pt x="0" y="21600"/>
                </a:lnTo>
                <a:close/>
              </a:path>
              <a:path fill="lightenLess" w="49656" h="21600">
                <a:moveTo>
                  <a:pt x="0" y="0"/>
                </a:moveTo>
                <a:lnTo>
                  <a:pt x="49656" y="0"/>
                </a:lnTo>
                <a:lnTo>
                  <a:pt x="48256" y="1400"/>
                </a:lnTo>
                <a:lnTo>
                  <a:pt x="1400" y="1400"/>
                </a:lnTo>
                <a:close/>
              </a:path>
              <a:path fill="darken" w="49656" h="21600">
                <a:moveTo>
                  <a:pt x="49656" y="0"/>
                </a:moveTo>
                <a:lnTo>
                  <a:pt x="49656" y="21600"/>
                </a:lnTo>
                <a:lnTo>
                  <a:pt x="48256" y="20200"/>
                </a:lnTo>
                <a:lnTo>
                  <a:pt x="48256" y="1400"/>
                </a:lnTo>
                <a:close/>
              </a:path>
              <a:path fill="darkenLess" w="49656" h="21600">
                <a:moveTo>
                  <a:pt x="49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56" y="20200"/>
                </a:lnTo>
                <a:close/>
              </a:path>
              <a:path fill="lighten" w="49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⑴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动作按钮: 自定义 87050">
            <a:hlinkClick r:id="rId10"/>
          </p:cNvPr>
          <p:cNvSpPr/>
          <p:nvPr/>
        </p:nvSpPr>
        <p:spPr>
          <a:xfrm>
            <a:off x="533520" y="4114800"/>
            <a:ext cx="990360" cy="539640"/>
          </a:xfrm>
          <a:custGeom>
            <a:avLst/>
            <a:gdLst>
              <a:gd name="textAreaLeft" fmla="*/ 34920 w 990360"/>
              <a:gd name="textAreaRight" fmla="*/ 955440 w 990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9629" h="21600">
                <a:moveTo>
                  <a:pt x="0" y="0"/>
                </a:moveTo>
                <a:lnTo>
                  <a:pt x="39629" y="0"/>
                </a:lnTo>
                <a:lnTo>
                  <a:pt x="39629" y="21600"/>
                </a:lnTo>
                <a:lnTo>
                  <a:pt x="0" y="21600"/>
                </a:lnTo>
                <a:close/>
              </a:path>
              <a:path fill="lightenLess" w="39629" h="21600">
                <a:moveTo>
                  <a:pt x="0" y="0"/>
                </a:moveTo>
                <a:lnTo>
                  <a:pt x="39629" y="0"/>
                </a:lnTo>
                <a:lnTo>
                  <a:pt x="38229" y="1400"/>
                </a:lnTo>
                <a:lnTo>
                  <a:pt x="1400" y="1400"/>
                </a:lnTo>
                <a:close/>
              </a:path>
              <a:path fill="darken" w="39629" h="21600">
                <a:moveTo>
                  <a:pt x="39629" y="0"/>
                </a:moveTo>
                <a:lnTo>
                  <a:pt x="39629" y="21600"/>
                </a:lnTo>
                <a:lnTo>
                  <a:pt x="38229" y="20200"/>
                </a:lnTo>
                <a:lnTo>
                  <a:pt x="38229" y="1400"/>
                </a:lnTo>
                <a:close/>
              </a:path>
              <a:path fill="darkenLess" w="39629" h="21600">
                <a:moveTo>
                  <a:pt x="39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9" y="20200"/>
                </a:lnTo>
                <a:close/>
              </a:path>
              <a:path fill="lighten" w="39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动作按钮: 自定义 87051">
            <a:hlinkClick r:id="rId12"/>
          </p:cNvPr>
          <p:cNvSpPr/>
          <p:nvPr/>
        </p:nvSpPr>
        <p:spPr>
          <a:xfrm>
            <a:off x="4191120" y="4724280"/>
            <a:ext cx="990360" cy="540000"/>
          </a:xfrm>
          <a:custGeom>
            <a:avLst/>
            <a:gdLst>
              <a:gd name="textAreaLeft" fmla="*/ 34920 w 990360"/>
              <a:gd name="textAreaRight" fmla="*/ 955440 w 99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9602" h="21600">
                <a:moveTo>
                  <a:pt x="0" y="0"/>
                </a:moveTo>
                <a:lnTo>
                  <a:pt x="39602" y="0"/>
                </a:lnTo>
                <a:lnTo>
                  <a:pt x="39602" y="21600"/>
                </a:lnTo>
                <a:lnTo>
                  <a:pt x="0" y="21600"/>
                </a:lnTo>
                <a:close/>
              </a:path>
              <a:path fill="lightenLess" w="39602" h="21600">
                <a:moveTo>
                  <a:pt x="0" y="0"/>
                </a:moveTo>
                <a:lnTo>
                  <a:pt x="39602" y="0"/>
                </a:lnTo>
                <a:lnTo>
                  <a:pt x="38202" y="1400"/>
                </a:lnTo>
                <a:lnTo>
                  <a:pt x="1400" y="1400"/>
                </a:lnTo>
                <a:close/>
              </a:path>
              <a:path fill="darken" w="39602" h="21600">
                <a:moveTo>
                  <a:pt x="39602" y="0"/>
                </a:moveTo>
                <a:lnTo>
                  <a:pt x="39602" y="21600"/>
                </a:lnTo>
                <a:lnTo>
                  <a:pt x="38202" y="20200"/>
                </a:lnTo>
                <a:lnTo>
                  <a:pt x="38202" y="1400"/>
                </a:lnTo>
                <a:close/>
              </a:path>
              <a:path fill="darkenLess" w="39602" h="21600">
                <a:moveTo>
                  <a:pt x="39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2" y="20200"/>
                </a:lnTo>
                <a:close/>
              </a:path>
              <a:path fill="lighten" w="39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动作按钮: 自定义 87052">
            <a:hlinkClick r:id="rId14"/>
          </p:cNvPr>
          <p:cNvSpPr/>
          <p:nvPr/>
        </p:nvSpPr>
        <p:spPr>
          <a:xfrm>
            <a:off x="533520" y="4724280"/>
            <a:ext cx="990360" cy="540000"/>
          </a:xfrm>
          <a:custGeom>
            <a:avLst/>
            <a:gdLst>
              <a:gd name="textAreaLeft" fmla="*/ 34920 w 990360"/>
              <a:gd name="textAreaRight" fmla="*/ 955440 w 99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9602" h="21600">
                <a:moveTo>
                  <a:pt x="0" y="0"/>
                </a:moveTo>
                <a:lnTo>
                  <a:pt x="39602" y="0"/>
                </a:lnTo>
                <a:lnTo>
                  <a:pt x="39602" y="21600"/>
                </a:lnTo>
                <a:lnTo>
                  <a:pt x="0" y="21600"/>
                </a:lnTo>
                <a:close/>
              </a:path>
              <a:path fill="lightenLess" w="39602" h="21600">
                <a:moveTo>
                  <a:pt x="0" y="0"/>
                </a:moveTo>
                <a:lnTo>
                  <a:pt x="39602" y="0"/>
                </a:lnTo>
                <a:lnTo>
                  <a:pt x="38202" y="1400"/>
                </a:lnTo>
                <a:lnTo>
                  <a:pt x="1400" y="1400"/>
                </a:lnTo>
                <a:close/>
              </a:path>
              <a:path fill="darken" w="39602" h="21600">
                <a:moveTo>
                  <a:pt x="39602" y="0"/>
                </a:moveTo>
                <a:lnTo>
                  <a:pt x="39602" y="21600"/>
                </a:lnTo>
                <a:lnTo>
                  <a:pt x="38202" y="20200"/>
                </a:lnTo>
                <a:lnTo>
                  <a:pt x="38202" y="1400"/>
                </a:lnTo>
                <a:close/>
              </a:path>
              <a:path fill="darkenLess" w="39602" h="21600">
                <a:moveTo>
                  <a:pt x="39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2" y="20200"/>
                </a:lnTo>
                <a:close/>
              </a:path>
              <a:path fill="lighten" w="39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动作按钮: 自定义 87053">
            <a:hlinkClick r:id="rId16"/>
          </p:cNvPr>
          <p:cNvSpPr/>
          <p:nvPr/>
        </p:nvSpPr>
        <p:spPr>
          <a:xfrm>
            <a:off x="4191120" y="4114800"/>
            <a:ext cx="990360" cy="539640"/>
          </a:xfrm>
          <a:custGeom>
            <a:avLst/>
            <a:gdLst>
              <a:gd name="textAreaLeft" fmla="*/ 34920 w 990360"/>
              <a:gd name="textAreaRight" fmla="*/ 955440 w 990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9629" h="21600">
                <a:moveTo>
                  <a:pt x="0" y="0"/>
                </a:moveTo>
                <a:lnTo>
                  <a:pt x="39629" y="0"/>
                </a:lnTo>
                <a:lnTo>
                  <a:pt x="39629" y="21600"/>
                </a:lnTo>
                <a:lnTo>
                  <a:pt x="0" y="21600"/>
                </a:lnTo>
                <a:close/>
              </a:path>
              <a:path fill="lightenLess" w="39629" h="21600">
                <a:moveTo>
                  <a:pt x="0" y="0"/>
                </a:moveTo>
                <a:lnTo>
                  <a:pt x="39629" y="0"/>
                </a:lnTo>
                <a:lnTo>
                  <a:pt x="38229" y="1400"/>
                </a:lnTo>
                <a:lnTo>
                  <a:pt x="1400" y="1400"/>
                </a:lnTo>
                <a:close/>
              </a:path>
              <a:path fill="darken" w="39629" h="21600">
                <a:moveTo>
                  <a:pt x="39629" y="0"/>
                </a:moveTo>
                <a:lnTo>
                  <a:pt x="39629" y="21600"/>
                </a:lnTo>
                <a:lnTo>
                  <a:pt x="38229" y="20200"/>
                </a:lnTo>
                <a:lnTo>
                  <a:pt x="38229" y="1400"/>
                </a:lnTo>
                <a:close/>
              </a:path>
              <a:path fill="darkenLess" w="39629" h="21600">
                <a:moveTo>
                  <a:pt x="39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9" y="20200"/>
                </a:lnTo>
                <a:close/>
              </a:path>
              <a:path fill="lighten" w="39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动作按钮: 自定义 87055"/>
          <p:cNvSpPr/>
          <p:nvPr/>
        </p:nvSpPr>
        <p:spPr>
          <a:xfrm>
            <a:off x="5638680" y="571500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⑵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本课学习小结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本课应掌握哪些内容？（本文重点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字词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作者的感情、简练的句式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你已经掌握了哪些内容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有哪些掌握得似是而非？有哪些完全没有掌握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对于没掌握或掌握得似是而非的内容将采取哪些措施来补救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二、关于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虎丘记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虎丘，山名，又名海涌山，在苏州西北七里。相传春秋时吴王阖闾曾埋葬于此地，三日后有虎踞其上，因而得名。此地有“吴中第一名胜”之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本文记述了中秋之夜虎丘游人如织的盛况，既有对虎丘月夜景色的生动描绘，也有对聚饮欢歌场面的描写。作品刻画细腻，情致盎然；语言浅显，清新流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隶书"/>
              </a:rPr>
              <a:t>语言是你思想的嫁衣，是你心灵独白的窗口，也你是感悟世界、表达情感的互连网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0666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ff"/>
                </a:solidFill>
                <a:latin typeface="Tahoma"/>
                <a:ea typeface="华文彩云"/>
              </a:rPr>
              <a:t>再     见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170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三、齐读课文：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注意下列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红色字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的注音：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680" y="1980720"/>
            <a:ext cx="49896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倾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户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迨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屋（   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霍（  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姸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别（  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（  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荇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凌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余言（ 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dài b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gǔ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yānch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zhǔ   h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xīngzǎ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980720" y="190512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樽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        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3544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lā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q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hā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f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zà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ìng lià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zūn lé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170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：疏通课文字词句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第一段） 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独以近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的缘故（原因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中秋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尤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更加盛况空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鳞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排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雷辊电霍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得而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没有办法形容那热闹的场面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虎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城可七八里。其山无高岩邃壑；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近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箫鼓楼船，无日无之。凡月之夜、花之晨、雪之夕，游人往来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纷错如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而中秋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尤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8052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译文：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虎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苏州城只有七八里，山上并没有险峻的高岩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幽深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谷壑，只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离城近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缘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（达官贵人）装饰豪华、满载歌声的游船，没有一天断过。凡有月的晚上，有花的早晨或雪天的傍晚，游人来来往往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像穿梭织布一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 （这景象）又以中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更为盛况空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倾城阖户，连臂而至。衣冠士女，下迨蔀屋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靓装丽服，重茵累席，置酒交衢间。从千人石上至山门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栉比如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檀板丘积，樽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云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远而望之，如雁落平沙、霞铺江上，雷辊电霍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得而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80520" y="29718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译文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每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天，苏州城家家户户倾城出动，肩挨肩，人挤人，接踵而来。无论是官宦人家的男男女女，还是平民百姓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没有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是打扮得漂漂亮亮的。很多人就在路边用垫子摆上酒菜，席地而坐。从千人石到山门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密密麻麻紧挨着的游客多如鱼鳞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檀木所制的歌板堆积得就像山丘，酒樽里盛的酒就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云彩一样奔流不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远远望去，就像无数大雁落在平坦的沙滩上，又像漫天的云霞铺在江面上一般。即使是电闪雷鸣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法形容那热闹的场面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：归纳第一段文意 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4440" y="1980720"/>
            <a:ext cx="7583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城可七八里，近城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虎丘位置地形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高岩邃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人往来，纷错如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倾城阖户，连臂而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秋游览盛况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茵累席，置酒交衢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檀板丘积，樽罍云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左大括号 66563"/>
          <p:cNvSpPr/>
          <p:nvPr/>
        </p:nvSpPr>
        <p:spPr>
          <a:xfrm>
            <a:off x="3886200" y="21337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左大括号 66564"/>
          <p:cNvSpPr/>
          <p:nvPr/>
        </p:nvSpPr>
        <p:spPr>
          <a:xfrm>
            <a:off x="3962520" y="3733920"/>
            <a:ext cx="75960" cy="2209680"/>
          </a:xfrm>
          <a:custGeom>
            <a:avLst/>
            <a:gdLst>
              <a:gd name="textAreaLeft" fmla="*/ 48600 w 75960"/>
              <a:gd name="textAreaRight" fmla="*/ 76320 w 7596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2:38:33Z</dcterms:created>
  <dc:creator>USER</dc:creator>
  <dc:description/>
  <dc:language>en-US</dc:language>
  <cp:lastModifiedBy>admin</cp:lastModifiedBy>
  <dcterms:modified xsi:type="dcterms:W3CDTF">2019-04-17T10:33:16Z</dcterms:modified>
  <cp:revision>31</cp:revision>
  <dc:subject/>
  <dc:title>逍   遥   游 （庄子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67</vt:lpwstr>
  </property>
</Properties>
</file>