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8BC-25A5-49D4-BDBD-62BEEED2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116-F021-41F2-8AC7-7B79585F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C2E-F437-409A-99F5-DF243619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90D-B1F3-4FCF-9B84-EF2ABFC0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3ABA-29A0-4379-BFB7-E34DF918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9228-D3AA-40C5-9E5E-43D2BBAE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10A7-DFF1-4ECB-82A9-7C4FA0FF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C266-A3E7-445F-8EFC-3C377197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C99-D4FA-48FF-A4FA-41192263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5A4D-9A79-413E-B592-D0F503E1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58F7-235D-4F7F-9BA0-7EF76EAC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F8D-20C5-451F-80E6-10C046FB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63EC-C6ED-4CA3-B639-853B24A7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DD99-EFE7-4DC2-976A-1D40AC82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1DE7-02CA-466A-B562-444B8483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CBBA-A2DF-4EED-A4E3-C55BF4E7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4C52-DE94-45B9-8097-02F490DF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EFF-F48F-4E3A-8842-FA653FA5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E12-0298-4873-8CCE-E44C5DE4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64A-47CC-43C1-933F-8673E53A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D6B-AB18-4893-83C1-4F905ECB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39E-596B-4315-A2BF-9AA4611D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A13-0BC2-4398-96E4-850A45C0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FF8-C439-4286-8B12-C830F9C3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4478-7370-4BB6-9F08-3F229E9979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B6F9-CD11-478C-A086-40A1269243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image" Target="../media/image2.pn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039_hhlk" descr="039_hhlk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400200" y="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黄河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03520" y="1387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cc"/>
                </a:solidFill>
                <a:latin typeface="Times New Roman"/>
              </a:rPr>
              <a:t>光未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66200" y="20574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3300"/>
                </a:solidFill>
                <a:uFillTx/>
                <a:latin typeface="Times New Roman"/>
                <a:ea typeface="华文行楷"/>
              </a:rPr>
              <a:t>质疑互答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95640" y="762120"/>
            <a:ext cx="1857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课下延伸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阅读《黄河大合唱》的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三章《黄河之水天上来，及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它歌唱祖国山河的诗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欣赏〈黄河大合唱〉音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搜集黄河过去、现在的自然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境资料，然后写出个人看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58640" y="4460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作品及作者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295280"/>
            <a:ext cx="76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《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黄河颂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》是著名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诗人光未然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（原名：张光年）与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音乐家冼星海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合作的音乐作品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《黄河大合唱》中的第二章歌词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。写于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1939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年。《黄河大合唱》共八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当时，日寇的铁蹄肆意践踏着中华大地，诗人随八路军行进在黄河边，雄奇壮丽的山河，伟大而坚强的军民，怎不让他唱出豪迈的颂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激流汹涌，听吧，这是黄河边军民组成的船夫的战斗的号子声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039_hhlk" descr="039_hhlk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0" y="228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55640" y="2286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</a:rPr>
              <a:t>第一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57480" y="11635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</a:rPr>
              <a:t>黄河船夫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35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335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039_hhlk" descr="039_hhlk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197920" y="-32652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啊，朋友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8440" y="-788400"/>
            <a:ext cx="850680" cy="77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黄河以它</a:t>
            </a: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英雄的气魄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8080" y="-686880"/>
            <a:ext cx="85068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出现在亚洲</a:t>
            </a: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的原野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7360" y="-915480"/>
            <a:ext cx="850680" cy="9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它表现出我</a:t>
            </a: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们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民族的精神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88040" y="-45360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伟大而又坚</a:t>
            </a: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强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32240" y="-108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这里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59240" y="-45360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我们向着黄</a:t>
            </a: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河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21160" y="-173880"/>
            <a:ext cx="85068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唱出我们的</a:t>
            </a: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赞歌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007_bykls2" descr="007_bykls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08520" y="28908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我站在高山之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07" descr=""/>
          <p:cNvPicPr/>
          <p:nvPr/>
        </p:nvPicPr>
        <p:blipFill>
          <a:blip r:embed="rId3"/>
          <a:stretch/>
        </p:blipFill>
        <p:spPr>
          <a:xfrm>
            <a:off x="0" y="0"/>
            <a:ext cx="9236160" cy="11658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451720" y="1608120"/>
            <a:ext cx="100332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ff"/>
                </a:solidFill>
                <a:latin typeface="Times New Roman"/>
              </a:rPr>
              <a:t>望黄河滚滚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89960" y="4067640"/>
            <a:ext cx="100332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ff"/>
                </a:solidFill>
                <a:latin typeface="Times New Roman"/>
              </a:rPr>
              <a:t>奔向东南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93720" y="1732320"/>
            <a:ext cx="10033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ff"/>
                </a:solidFill>
                <a:latin typeface="Times New Roman"/>
              </a:rPr>
              <a:t>惊涛澎湃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7040" y="1608120"/>
            <a:ext cx="100332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ff"/>
                </a:solidFill>
                <a:latin typeface="Times New Roman"/>
              </a:rPr>
              <a:t>掀起万丈狂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025_htpy" descr="025_htpy"/>
          <p:cNvPicPr/>
          <p:nvPr/>
        </p:nvPicPr>
        <p:blipFill>
          <a:blip r:embed="rId4"/>
          <a:stretch/>
        </p:blipFill>
        <p:spPr>
          <a:xfrm>
            <a:off x="0" y="0"/>
            <a:ext cx="952488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638880" y="168768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ff"/>
                </a:solidFill>
                <a:latin typeface="Times New Roman"/>
              </a:rPr>
              <a:t>浊流宛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060_jqhh" descr="060_jqhh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66360" y="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ff"/>
                </a:solidFill>
                <a:latin typeface="Arial Black"/>
                <a:ea typeface="华文行楷"/>
              </a:rPr>
              <a:t>结成九曲连环；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066_kls" descr="066_kls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195640" y="1396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从昆仑山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01" descr=""/>
          <p:cNvPicPr/>
          <p:nvPr/>
        </p:nvPicPr>
        <p:blipFill>
          <a:blip r:embed="rId7"/>
          <a:stretch/>
        </p:blipFill>
        <p:spPr>
          <a:xfrm>
            <a:off x="0" y="-2735280"/>
            <a:ext cx="9236160" cy="11658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76320" y="-301320"/>
            <a:ext cx="1185840" cy="69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ff"/>
                </a:solidFill>
                <a:latin typeface="Times New Roman"/>
                <a:ea typeface="华文行楷"/>
              </a:rPr>
              <a:t>奔向黄海之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060_jqhh" descr="060_jqhh"/>
          <p:cNvPicPr/>
          <p:nvPr/>
        </p:nvPicPr>
        <p:blipFill>
          <a:blip r:embed="rId8"/>
          <a:stretch/>
        </p:blipFill>
        <p:spPr>
          <a:xfrm>
            <a:off x="0" y="4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4608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63760" y="-568800"/>
            <a:ext cx="118584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ff"/>
                </a:solidFill>
                <a:latin typeface="Times New Roman"/>
                <a:ea typeface="华文行楷"/>
              </a:rPr>
              <a:t>把中原大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4440" y="-682200"/>
            <a:ext cx="1185840" cy="69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ff"/>
                </a:solidFill>
                <a:latin typeface="Times New Roman"/>
                <a:ea typeface="华文行楷"/>
              </a:rPr>
              <a:t>劈成南北两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60948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39_hhlk" descr="039_hhlk"/>
          <p:cNvPicPr/>
          <p:nvPr/>
        </p:nvPicPr>
        <p:blipFill>
          <a:blip r:embed="rId10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194680" y="639720"/>
            <a:ext cx="85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29760" y="-1098720"/>
            <a:ext cx="4750560" cy="84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啊！黄河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你是中华民</a:t>
            </a:r>
            <a:r>
              <a:rPr b="1" lang="zh-CN" sz="4800" spc="-1" strike="noStrike">
                <a:solidFill>
                  <a:srgbClr val="ccffff"/>
                </a:solidFill>
                <a:latin typeface="Times New Roman"/>
              </a:rPr>
              <a:t>族的</a:t>
            </a: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摇篮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五千年的古</a:t>
            </a:r>
            <a:r>
              <a:rPr b="1" lang="zh-CN" sz="4800" spc="-1" strike="noStrike">
                <a:solidFill>
                  <a:srgbClr val="ccffff"/>
                </a:solidFill>
                <a:latin typeface="Times New Roman"/>
              </a:rPr>
              <a:t>国</a:t>
            </a: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文化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从你这儿发</a:t>
            </a:r>
            <a:r>
              <a:rPr b="1" lang="zh-CN" sz="4800" spc="-1" strike="noStrike">
                <a:solidFill>
                  <a:srgbClr val="ccffff"/>
                </a:solidFill>
                <a:latin typeface="Times New Roman"/>
              </a:rPr>
              <a:t>源</a:t>
            </a: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多少英雄的故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在你的身边</a:t>
            </a:r>
            <a:r>
              <a:rPr b="1" lang="zh-CN" sz="4800" spc="-1" strike="noStrike">
                <a:solidFill>
                  <a:srgbClr val="ccffff"/>
                </a:solidFill>
                <a:latin typeface="Times New Roman"/>
              </a:rPr>
              <a:t>扮演</a:t>
            </a: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039_hhlk" descr="039_hhlk"/>
          <p:cNvPicPr/>
          <p:nvPr/>
        </p:nvPicPr>
        <p:blipFill>
          <a:blip r:embed="rId1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7800" y="-1227960"/>
            <a:ext cx="5209560" cy="9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啊！黄河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你是伟大坚强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像一个巨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出现在亚洲的平原上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用你那英雄的体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筑成我们民族的屏障</a:t>
            </a:r>
            <a:r>
              <a:rPr b="0" lang="zh-CN" sz="5400" spc="-1" strike="noStrike">
                <a:solidFill>
                  <a:srgbClr val="660033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039_hhlk" descr="039_hhlk"/>
          <p:cNvPicPr/>
          <p:nvPr/>
        </p:nvPicPr>
        <p:blipFill>
          <a:blip r:embed="rId1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8600" y="-1003320"/>
            <a:ext cx="6855480" cy="9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啊！黄河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你一泻万丈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浩浩荡荡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向南北两岸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伸出千万条</a:t>
            </a:r>
            <a:r>
              <a:rPr b="1" lang="zh-CN" sz="5400" spc="-1" strike="noStrike">
                <a:solidFill>
                  <a:srgbClr val="ccffff"/>
                </a:solidFill>
                <a:latin typeface="Times New Roman"/>
              </a:rPr>
              <a:t>铁</a:t>
            </a: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的臂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我们民族</a:t>
            </a:r>
            <a:r>
              <a:rPr b="1" lang="zh-CN" sz="5400" spc="-1" strike="noStrike">
                <a:solidFill>
                  <a:srgbClr val="ccffff"/>
                </a:solidFill>
                <a:latin typeface="Times New Roman"/>
              </a:rPr>
              <a:t>的伟大</a:t>
            </a: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精神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将要在你</a:t>
            </a:r>
            <a:r>
              <a:rPr b="1" lang="zh-CN" sz="5400" spc="-1" strike="noStrike">
                <a:solidFill>
                  <a:srgbClr val="ccffff"/>
                </a:solidFill>
                <a:latin typeface="Times New Roman"/>
              </a:rPr>
              <a:t>的哺育</a:t>
            </a: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下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发扬滋长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039_hhlk" descr="039_hhlk"/>
          <p:cNvPicPr/>
          <p:nvPr/>
        </p:nvPicPr>
        <p:blipFill>
          <a:blip r:embed="rId1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714120" y="619200"/>
            <a:ext cx="388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我们祖国的儿女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将要学习你的榜样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像你一样的伟大坚强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98960" y="3429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像你一样的伟大坚强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4"/>
          <a:stretch/>
        </p:blipFill>
        <p:spPr>
          <a:xfrm>
            <a:off x="8534520" y="6705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5"/>
          <a:stretch/>
        </p:blipFill>
        <p:spPr>
          <a:xfrm>
            <a:off x="8534520" y="6705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6"/>
          <a:stretch/>
        </p:blipFill>
        <p:spPr>
          <a:xfrm>
            <a:off x="853452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71600" y="2286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朗读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让我们和着诗人自豪的脉博，用自己的声音感受黄河的伟大，体会民族的坚强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81040" y="17305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36440" y="1981080"/>
            <a:ext cx="675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注意字音：</a:t>
            </a:r>
            <a:br>
              <a:rPr sz="4800"/>
            </a:br>
            <a:r>
              <a:rPr b="0" lang="zh-CN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ān pénɡpài kuánɡlán  bǔ</a:t>
            </a: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巅     澎   湃   狂     澜   哺育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br>
              <a:rPr sz="4800"/>
            </a:br>
            <a:r>
              <a:rPr b="0" lang="zh-CN" sz="4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Pínɡ     zī</a:t>
            </a: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屏  障  滋长  九曲连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238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5238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82296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56880" y="533520"/>
            <a:ext cx="6203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3366"/>
                </a:solidFill>
                <a:uFillTx/>
                <a:latin typeface="Times New Roman"/>
                <a:ea typeface="华文新魏"/>
              </a:rPr>
              <a:t>讨论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题目《黄河颂》中，哪个是关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词？第一节朗诵词中，直接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明的主题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第二节是诗的主体，根据关键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找出诗中直接歌颂黄河的部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66680" y="66600"/>
            <a:ext cx="8447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歌颂部分反复出现“啊！黄河！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有什么作用？从哪几方面歌颂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河的？从此诗抒情特点看，它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风格豪放的还是委婉含蓄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Times New Roman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直接歌颂的前面和后面又分别写了什么内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5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描写黄河形象部分，哪个词起统领作用？又是从哪些不同角度写黄河形象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920" y="5675400"/>
            <a:ext cx="109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87880" y="609480"/>
            <a:ext cx="509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结合时代背景看，诗人借歌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黄河表达了什么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52815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21440" y="2133720"/>
            <a:ext cx="4539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3366"/>
                </a:solidFill>
                <a:uFillTx/>
                <a:latin typeface="Times New Roman"/>
                <a:ea typeface="华文行楷"/>
              </a:rPr>
              <a:t>联想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面对祖国大好河山，历代文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写过不少关于黄河的诗句，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知道哪些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673720" y="941400"/>
            <a:ext cx="54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黄河之水天上来，奔流到海不复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黄河远上白云间，一片孤城万仞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黄河万里触山动，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Arial"/>
              </a:rPr>
              <a:t>,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Arial"/>
              </a:rPr>
              <a:t>波涛喷流射东海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九曲黄河万里沙，浪淘风簸自天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Arial"/>
              </a:rPr>
              <a:t>黄河落天去东海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Arial"/>
              </a:rPr>
              <a:t>,</a:t>
            </a: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Arial"/>
              </a:rPr>
              <a:t>万里写入胸怀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7:07:36Z</dcterms:created>
  <dc:creator>zc</dc:creator>
  <dc:description/>
  <dc:language>en-US</dc:language>
  <cp:lastModifiedBy>01</cp:lastModifiedBy>
  <dcterms:modified xsi:type="dcterms:W3CDTF">2004-02-28T01:57:55Z</dcterms:modified>
  <cp:revision>17</cp:revision>
  <dc:subject/>
  <dc:title>PowerPoint 演示文稿</dc:title>
</cp:coreProperties>
</file>