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303-1BD4-41A7-AB6F-E48E1FD0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0FB-316C-473A-87C9-C7CAFAE8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F4E-1D23-4FE4-8D8F-A86D59BF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ECD-F5AC-46D4-B9D6-D4D64C80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287A-B2EB-4881-B5B4-DA760960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0F6C-DCD3-45D6-B44C-644F6BB4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45D3-577F-4AF2-8B76-07641C23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D656-E9E8-4390-9F5E-4B38705A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E0F3-AE84-4967-A5D9-9FC86134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E906-69CE-44D9-ACBD-DAD1933E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32D7-C022-4D31-8958-D161EBCD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374-74F6-4DD2-BAEA-96B3D01F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6722-1CD5-43D0-9190-98391DD5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CCD3-7041-4D7E-9606-920CDAB2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27E1-5BD7-4256-997E-8A907D9A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84BF-7695-462C-899A-0E27B6B5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5088-9B7C-4A15-9E23-1DF3869A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788-6D5E-4E35-8C23-D47AA8AB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7C3-57A8-4B31-B2B0-FAA023FA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DDD-446E-48D3-A8B5-ED47EB6C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E58-08C1-42E3-B014-2F2872C2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911-9B4F-4BFC-95D4-7322510E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628-9629-4B04-B46B-5C8147AC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C43-2D2A-404E-811C-DE5BFFC6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7AAA-EA59-477C-AABE-24EFDDABF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121B-756A-4892-B378-4F3084921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296,2,&#24187;&#28783;&#29255; 2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ff66"/>
                </a:solidFill>
                <a:latin typeface="华文新魏"/>
                <a:ea typeface="华文新魏"/>
              </a:rPr>
              <a:t>活  板</a:t>
            </a:r>
            <a:endParaRPr b="0" lang="en-US" sz="16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76360" y="3968280"/>
            <a:ext cx="6400800" cy="7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66ffff"/>
                </a:solidFill>
                <a:uFillTx/>
                <a:latin typeface="楷体_GB2312"/>
                <a:ea typeface="楷体_GB2312"/>
                <a:hlinkClick r:id="rId1"/>
              </a:rPr>
              <a:t>沈  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渔舟唱晚.mp3" descr=""/>
          <p:cNvPicPr/>
          <p:nvPr/>
        </p:nvPicPr>
        <p:blipFill>
          <a:blip r:embed="rId2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22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7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55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7280" y="0"/>
            <a:ext cx="860580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66ff33"/>
                </a:solidFill>
                <a:latin typeface="华文行楷"/>
                <a:ea typeface="华文行楷"/>
              </a:rPr>
              <a:t>活  字  板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imes New Roman"/>
              </a:rPr>
              <a:t>          </a:t>
            </a:r>
            <a:r>
              <a:rPr b="0" lang="zh-CN" sz="30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用雕板印刷书籍，唐代人还不曾大规模地去做。从五代开始印五经起，以后的书籍，才都是雕板印刷本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宋仁宗庆历年间，有个叫毕升的平民，又发明了活字板。那方法是：用胶泥刻字，字薄薄的象铜钱的边儿，每个字刻成一个字模，用火烧，使它坚硬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8712360" y="6489720"/>
            <a:ext cx="431640" cy="368280"/>
          </a:xfrm>
          <a:custGeom>
            <a:avLst/>
            <a:gdLst>
              <a:gd name="textAreaLeft" fmla="*/ 23760 w 431640"/>
              <a:gd name="textAreaRight" fmla="*/ 407880 w 43164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5313" h="21600">
                <a:moveTo>
                  <a:pt x="0" y="0"/>
                </a:moveTo>
                <a:lnTo>
                  <a:pt x="25313" y="0"/>
                </a:lnTo>
                <a:lnTo>
                  <a:pt x="25313" y="21600"/>
                </a:lnTo>
                <a:lnTo>
                  <a:pt x="0" y="21600"/>
                </a:lnTo>
                <a:close/>
              </a:path>
              <a:path fill="lightenLess" w="25313" h="21600">
                <a:moveTo>
                  <a:pt x="0" y="0"/>
                </a:moveTo>
                <a:lnTo>
                  <a:pt x="25313" y="0"/>
                </a:lnTo>
                <a:lnTo>
                  <a:pt x="23913" y="1400"/>
                </a:lnTo>
                <a:lnTo>
                  <a:pt x="1400" y="1400"/>
                </a:lnTo>
                <a:close/>
              </a:path>
              <a:path fill="darken" w="25313" h="21600">
                <a:moveTo>
                  <a:pt x="25313" y="0"/>
                </a:moveTo>
                <a:lnTo>
                  <a:pt x="25313" y="21600"/>
                </a:lnTo>
                <a:lnTo>
                  <a:pt x="23913" y="20200"/>
                </a:lnTo>
                <a:lnTo>
                  <a:pt x="23913" y="1400"/>
                </a:lnTo>
                <a:close/>
              </a:path>
              <a:path fill="darkenLess" w="25313" h="21600">
                <a:moveTo>
                  <a:pt x="25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13" y="20200"/>
                </a:lnTo>
                <a:close/>
              </a:path>
              <a:path fill="lighten" w="25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13" h="21600">
                <a:moveTo>
                  <a:pt x="1265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313" h="21600">
                <a:moveTo>
                  <a:pt x="1265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313" h="21600">
                <a:moveTo>
                  <a:pt x="10080" y="8224"/>
                </a:moveTo>
                <a:lnTo>
                  <a:pt x="13944" y="8224"/>
                </a:lnTo>
                <a:lnTo>
                  <a:pt x="13944" y="15221"/>
                </a:lnTo>
                <a:lnTo>
                  <a:pt x="15233" y="15221"/>
                </a:lnTo>
                <a:lnTo>
                  <a:pt x="15233" y="16144"/>
                </a:lnTo>
                <a:lnTo>
                  <a:pt x="10080" y="16144"/>
                </a:lnTo>
                <a:lnTo>
                  <a:pt x="10080" y="15221"/>
                </a:lnTo>
                <a:lnTo>
                  <a:pt x="11368" y="15221"/>
                </a:lnTo>
                <a:lnTo>
                  <a:pt x="11368" y="9129"/>
                </a:lnTo>
                <a:lnTo>
                  <a:pt x="10080" y="9129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16000" y="475920"/>
            <a:ext cx="8540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  </a:t>
            </a:r>
            <a:r>
              <a:rPr b="0" lang="zh-CN" sz="30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先准备一块铁板，铁板上敷盖松脂、蜡、混合纸灰等一类的东西。想印刷的时候，就把一个铁框子放在铁板上，于是密密地排满活字。排满一铁框作为一板，拿到火上烤；等到药物稍稍熔化，就用一块平板按在印板上面，于是排满的活字就平整得象磨刀石一样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8712360" y="6489720"/>
            <a:ext cx="431640" cy="368280"/>
          </a:xfrm>
          <a:custGeom>
            <a:avLst/>
            <a:gdLst>
              <a:gd name="textAreaLeft" fmla="*/ 23760 w 431640"/>
              <a:gd name="textAreaRight" fmla="*/ 407880 w 43164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5313" h="21600">
                <a:moveTo>
                  <a:pt x="0" y="0"/>
                </a:moveTo>
                <a:lnTo>
                  <a:pt x="25313" y="0"/>
                </a:lnTo>
                <a:lnTo>
                  <a:pt x="25313" y="21600"/>
                </a:lnTo>
                <a:lnTo>
                  <a:pt x="0" y="21600"/>
                </a:lnTo>
                <a:close/>
              </a:path>
              <a:path fill="lightenLess" w="25313" h="21600">
                <a:moveTo>
                  <a:pt x="0" y="0"/>
                </a:moveTo>
                <a:lnTo>
                  <a:pt x="25313" y="0"/>
                </a:lnTo>
                <a:lnTo>
                  <a:pt x="23913" y="1400"/>
                </a:lnTo>
                <a:lnTo>
                  <a:pt x="1400" y="1400"/>
                </a:lnTo>
                <a:close/>
              </a:path>
              <a:path fill="darken" w="25313" h="21600">
                <a:moveTo>
                  <a:pt x="25313" y="0"/>
                </a:moveTo>
                <a:lnTo>
                  <a:pt x="25313" y="21600"/>
                </a:lnTo>
                <a:lnTo>
                  <a:pt x="23913" y="20200"/>
                </a:lnTo>
                <a:lnTo>
                  <a:pt x="23913" y="1400"/>
                </a:lnTo>
                <a:close/>
              </a:path>
              <a:path fill="darkenLess" w="25313" h="21600">
                <a:moveTo>
                  <a:pt x="25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13" y="20200"/>
                </a:lnTo>
                <a:close/>
              </a:path>
              <a:path fill="lighten" w="25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13" h="21600">
                <a:moveTo>
                  <a:pt x="1265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313" h="21600">
                <a:moveTo>
                  <a:pt x="1265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313" h="21600">
                <a:moveTo>
                  <a:pt x="10080" y="8224"/>
                </a:moveTo>
                <a:lnTo>
                  <a:pt x="13944" y="8224"/>
                </a:lnTo>
                <a:lnTo>
                  <a:pt x="13944" y="15221"/>
                </a:lnTo>
                <a:lnTo>
                  <a:pt x="15233" y="15221"/>
                </a:lnTo>
                <a:lnTo>
                  <a:pt x="15233" y="16144"/>
                </a:lnTo>
                <a:lnTo>
                  <a:pt x="10080" y="16144"/>
                </a:lnTo>
                <a:lnTo>
                  <a:pt x="10080" y="15221"/>
                </a:lnTo>
                <a:lnTo>
                  <a:pt x="11368" y="15221"/>
                </a:lnTo>
                <a:lnTo>
                  <a:pt x="11368" y="9129"/>
                </a:lnTo>
                <a:lnTo>
                  <a:pt x="10080" y="9129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68360" y="404640"/>
            <a:ext cx="828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66ff33"/>
                </a:solidFill>
                <a:latin typeface="Arial"/>
                <a:ea typeface="楷体_GB2312"/>
              </a:rPr>
              <a:t>通常是制作两块铁板，一块板印刷，一块板同时去排字。这块板才印完，第二块已经准备好了，交替使用，一会儿就可印完。每一个字都有好几个字模，象“之”、“也”等字，每个字有二十多个字模，用来防备一板内有重复的字。不用的时候，就用纸条贴上，每一个韵部归成一类，再用木格把它们贮藏起来。有些生僻的字平时没有准备的，临时现刻，用草火烧，转眼功夫就可以制成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8712360" y="6489720"/>
            <a:ext cx="431640" cy="368280"/>
          </a:xfrm>
          <a:custGeom>
            <a:avLst/>
            <a:gdLst>
              <a:gd name="textAreaLeft" fmla="*/ 23760 w 431640"/>
              <a:gd name="textAreaRight" fmla="*/ 407880 w 43164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5313" h="21600">
                <a:moveTo>
                  <a:pt x="0" y="0"/>
                </a:moveTo>
                <a:lnTo>
                  <a:pt x="25313" y="0"/>
                </a:lnTo>
                <a:lnTo>
                  <a:pt x="25313" y="21600"/>
                </a:lnTo>
                <a:lnTo>
                  <a:pt x="0" y="21600"/>
                </a:lnTo>
                <a:close/>
              </a:path>
              <a:path fill="lightenLess" w="25313" h="21600">
                <a:moveTo>
                  <a:pt x="0" y="0"/>
                </a:moveTo>
                <a:lnTo>
                  <a:pt x="25313" y="0"/>
                </a:lnTo>
                <a:lnTo>
                  <a:pt x="23913" y="1400"/>
                </a:lnTo>
                <a:lnTo>
                  <a:pt x="1400" y="1400"/>
                </a:lnTo>
                <a:close/>
              </a:path>
              <a:path fill="darken" w="25313" h="21600">
                <a:moveTo>
                  <a:pt x="25313" y="0"/>
                </a:moveTo>
                <a:lnTo>
                  <a:pt x="25313" y="21600"/>
                </a:lnTo>
                <a:lnTo>
                  <a:pt x="23913" y="20200"/>
                </a:lnTo>
                <a:lnTo>
                  <a:pt x="23913" y="1400"/>
                </a:lnTo>
                <a:close/>
              </a:path>
              <a:path fill="darkenLess" w="25313" h="21600">
                <a:moveTo>
                  <a:pt x="25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13" y="20200"/>
                </a:lnTo>
                <a:close/>
              </a:path>
              <a:path fill="lighten" w="25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13" h="21600">
                <a:moveTo>
                  <a:pt x="1265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313" h="21600">
                <a:moveTo>
                  <a:pt x="1265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313" h="21600">
                <a:moveTo>
                  <a:pt x="10080" y="8224"/>
                </a:moveTo>
                <a:lnTo>
                  <a:pt x="13944" y="8224"/>
                </a:lnTo>
                <a:lnTo>
                  <a:pt x="13944" y="15221"/>
                </a:lnTo>
                <a:lnTo>
                  <a:pt x="15233" y="15221"/>
                </a:lnTo>
                <a:lnTo>
                  <a:pt x="15233" y="16144"/>
                </a:lnTo>
                <a:lnTo>
                  <a:pt x="10080" y="16144"/>
                </a:lnTo>
                <a:lnTo>
                  <a:pt x="10080" y="15221"/>
                </a:lnTo>
                <a:lnTo>
                  <a:pt x="11368" y="15221"/>
                </a:lnTo>
                <a:lnTo>
                  <a:pt x="11368" y="9129"/>
                </a:lnTo>
                <a:lnTo>
                  <a:pt x="10080" y="9129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87280" y="189000"/>
            <a:ext cx="864072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不用木料刻活字的原因，是因为木料的纹理有的稀疏有的紧密，沾上水就高低不平了。加上跟药物相互粘连，不好取下来；不如用火烧的胶泥制成活字，用完了再用火烤，使药物熔化，用手扒拉它，那活字便自己掉下来，一点儿也不会弄脏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毕升死了以后，他发明的活字，被我的弟侄辈得到，直到现在还保存珍藏着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8712360" y="6489720"/>
            <a:ext cx="431640" cy="368280"/>
          </a:xfrm>
          <a:custGeom>
            <a:avLst/>
            <a:gdLst>
              <a:gd name="textAreaLeft" fmla="*/ 23760 w 431640"/>
              <a:gd name="textAreaRight" fmla="*/ 407880 w 43164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5313" h="21600">
                <a:moveTo>
                  <a:pt x="0" y="0"/>
                </a:moveTo>
                <a:lnTo>
                  <a:pt x="25313" y="0"/>
                </a:lnTo>
                <a:lnTo>
                  <a:pt x="25313" y="21600"/>
                </a:lnTo>
                <a:lnTo>
                  <a:pt x="0" y="21600"/>
                </a:lnTo>
                <a:close/>
              </a:path>
              <a:path fill="lightenLess" w="25313" h="21600">
                <a:moveTo>
                  <a:pt x="0" y="0"/>
                </a:moveTo>
                <a:lnTo>
                  <a:pt x="25313" y="0"/>
                </a:lnTo>
                <a:lnTo>
                  <a:pt x="23913" y="1400"/>
                </a:lnTo>
                <a:lnTo>
                  <a:pt x="1400" y="1400"/>
                </a:lnTo>
                <a:close/>
              </a:path>
              <a:path fill="darken" w="25313" h="21600">
                <a:moveTo>
                  <a:pt x="25313" y="0"/>
                </a:moveTo>
                <a:lnTo>
                  <a:pt x="25313" y="21600"/>
                </a:lnTo>
                <a:lnTo>
                  <a:pt x="23913" y="20200"/>
                </a:lnTo>
                <a:lnTo>
                  <a:pt x="23913" y="1400"/>
                </a:lnTo>
                <a:close/>
              </a:path>
              <a:path fill="darkenLess" w="25313" h="21600">
                <a:moveTo>
                  <a:pt x="25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13" y="20200"/>
                </a:lnTo>
                <a:close/>
              </a:path>
              <a:path fill="lighten" w="25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13" h="21600">
                <a:moveTo>
                  <a:pt x="1265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313" h="21600">
                <a:moveTo>
                  <a:pt x="1265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313" h="21600">
                <a:moveTo>
                  <a:pt x="10080" y="8224"/>
                </a:moveTo>
                <a:lnTo>
                  <a:pt x="13944" y="8224"/>
                </a:lnTo>
                <a:lnTo>
                  <a:pt x="13944" y="15221"/>
                </a:lnTo>
                <a:lnTo>
                  <a:pt x="15233" y="15221"/>
                </a:lnTo>
                <a:lnTo>
                  <a:pt x="15233" y="16144"/>
                </a:lnTo>
                <a:lnTo>
                  <a:pt x="10080" y="16144"/>
                </a:lnTo>
                <a:lnTo>
                  <a:pt x="10080" y="15221"/>
                </a:lnTo>
                <a:lnTo>
                  <a:pt x="11368" y="15221"/>
                </a:lnTo>
                <a:lnTo>
                  <a:pt x="11368" y="9129"/>
                </a:lnTo>
                <a:lnTo>
                  <a:pt x="10080" y="9129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971640" y="873000"/>
            <a:ext cx="647640" cy="394920"/>
            <a:chOff x="971640" y="873000"/>
            <a:chExt cx="647640" cy="394920"/>
          </a:xfrm>
        </p:grpSpPr>
        <p:grpSp>
          <p:nvGrpSpPr>
            <p:cNvPr id="168" name="Group 3"/>
            <p:cNvGrpSpPr/>
            <p:nvPr/>
          </p:nvGrpSpPr>
          <p:grpSpPr>
            <a:xfrm>
              <a:off x="971640" y="873000"/>
              <a:ext cx="647640" cy="321840"/>
              <a:chOff x="971640" y="873000"/>
              <a:chExt cx="647640" cy="321840"/>
            </a:xfrm>
          </p:grpSpPr>
          <p:sp>
            <p:nvSpPr>
              <p:cNvPr id="169" name="Freeform 4"/>
              <p:cNvSpPr/>
              <p:nvPr/>
            </p:nvSpPr>
            <p:spPr>
              <a:xfrm>
                <a:off x="1388160" y="1046520"/>
                <a:ext cx="226080" cy="135000"/>
              </a:xfrm>
              <a:custGeom>
                <a:avLst/>
                <a:gdLst/>
                <a:ahLst/>
                <a:rect l="l" t="t" r="r" b="b"/>
                <a:pathLst>
                  <a:path w="750" h="870">
                    <a:moveTo>
                      <a:pt x="0" y="837"/>
                    </a:moveTo>
                    <a:lnTo>
                      <a:pt x="0" y="870"/>
                    </a:lnTo>
                    <a:lnTo>
                      <a:pt x="9" y="869"/>
                    </a:lnTo>
                    <a:lnTo>
                      <a:pt x="19" y="868"/>
                    </a:lnTo>
                    <a:lnTo>
                      <a:pt x="29" y="867"/>
                    </a:lnTo>
                    <a:lnTo>
                      <a:pt x="38" y="864"/>
                    </a:lnTo>
                    <a:lnTo>
                      <a:pt x="49" y="863"/>
                    </a:lnTo>
                    <a:lnTo>
                      <a:pt x="59" y="861"/>
                    </a:lnTo>
                    <a:lnTo>
                      <a:pt x="70" y="859"/>
                    </a:lnTo>
                    <a:lnTo>
                      <a:pt x="82" y="857"/>
                    </a:lnTo>
                    <a:lnTo>
                      <a:pt x="91" y="853"/>
                    </a:lnTo>
                    <a:lnTo>
                      <a:pt x="103" y="849"/>
                    </a:lnTo>
                    <a:lnTo>
                      <a:pt x="117" y="842"/>
                    </a:lnTo>
                    <a:lnTo>
                      <a:pt x="129" y="836"/>
                    </a:lnTo>
                    <a:lnTo>
                      <a:pt x="143" y="829"/>
                    </a:lnTo>
                    <a:lnTo>
                      <a:pt x="155" y="822"/>
                    </a:lnTo>
                    <a:lnTo>
                      <a:pt x="164" y="815"/>
                    </a:lnTo>
                    <a:lnTo>
                      <a:pt x="169" y="809"/>
                    </a:lnTo>
                    <a:lnTo>
                      <a:pt x="174" y="789"/>
                    </a:lnTo>
                    <a:lnTo>
                      <a:pt x="178" y="769"/>
                    </a:lnTo>
                    <a:lnTo>
                      <a:pt x="176" y="751"/>
                    </a:lnTo>
                    <a:lnTo>
                      <a:pt x="165" y="737"/>
                    </a:lnTo>
                    <a:lnTo>
                      <a:pt x="166" y="728"/>
                    </a:lnTo>
                    <a:lnTo>
                      <a:pt x="169" y="724"/>
                    </a:lnTo>
                    <a:lnTo>
                      <a:pt x="169" y="720"/>
                    </a:lnTo>
                    <a:lnTo>
                      <a:pt x="166" y="707"/>
                    </a:lnTo>
                    <a:lnTo>
                      <a:pt x="169" y="714"/>
                    </a:lnTo>
                    <a:lnTo>
                      <a:pt x="176" y="718"/>
                    </a:lnTo>
                    <a:lnTo>
                      <a:pt x="184" y="720"/>
                    </a:lnTo>
                    <a:lnTo>
                      <a:pt x="195" y="720"/>
                    </a:lnTo>
                    <a:lnTo>
                      <a:pt x="204" y="719"/>
                    </a:lnTo>
                    <a:lnTo>
                      <a:pt x="213" y="717"/>
                    </a:lnTo>
                    <a:lnTo>
                      <a:pt x="219" y="715"/>
                    </a:lnTo>
                    <a:lnTo>
                      <a:pt x="222" y="714"/>
                    </a:lnTo>
                    <a:lnTo>
                      <a:pt x="231" y="712"/>
                    </a:lnTo>
                    <a:lnTo>
                      <a:pt x="234" y="692"/>
                    </a:lnTo>
                    <a:lnTo>
                      <a:pt x="235" y="667"/>
                    </a:lnTo>
                    <a:lnTo>
                      <a:pt x="237" y="653"/>
                    </a:lnTo>
                    <a:lnTo>
                      <a:pt x="251" y="680"/>
                    </a:lnTo>
                    <a:lnTo>
                      <a:pt x="263" y="698"/>
                    </a:lnTo>
                    <a:lnTo>
                      <a:pt x="273" y="710"/>
                    </a:lnTo>
                    <a:lnTo>
                      <a:pt x="281" y="717"/>
                    </a:lnTo>
                    <a:lnTo>
                      <a:pt x="288" y="722"/>
                    </a:lnTo>
                    <a:lnTo>
                      <a:pt x="293" y="727"/>
                    </a:lnTo>
                    <a:lnTo>
                      <a:pt x="296" y="732"/>
                    </a:lnTo>
                    <a:lnTo>
                      <a:pt x="297" y="739"/>
                    </a:lnTo>
                    <a:lnTo>
                      <a:pt x="304" y="748"/>
                    </a:lnTo>
                    <a:lnTo>
                      <a:pt x="313" y="759"/>
                    </a:lnTo>
                    <a:lnTo>
                      <a:pt x="324" y="769"/>
                    </a:lnTo>
                    <a:lnTo>
                      <a:pt x="335" y="778"/>
                    </a:lnTo>
                    <a:lnTo>
                      <a:pt x="347" y="784"/>
                    </a:lnTo>
                    <a:lnTo>
                      <a:pt x="360" y="785"/>
                    </a:lnTo>
                    <a:lnTo>
                      <a:pt x="371" y="782"/>
                    </a:lnTo>
                    <a:lnTo>
                      <a:pt x="383" y="771"/>
                    </a:lnTo>
                    <a:lnTo>
                      <a:pt x="399" y="755"/>
                    </a:lnTo>
                    <a:lnTo>
                      <a:pt x="411" y="736"/>
                    </a:lnTo>
                    <a:lnTo>
                      <a:pt x="421" y="715"/>
                    </a:lnTo>
                    <a:lnTo>
                      <a:pt x="427" y="692"/>
                    </a:lnTo>
                    <a:lnTo>
                      <a:pt x="431" y="669"/>
                    </a:lnTo>
                    <a:lnTo>
                      <a:pt x="432" y="646"/>
                    </a:lnTo>
                    <a:lnTo>
                      <a:pt x="432" y="623"/>
                    </a:lnTo>
                    <a:lnTo>
                      <a:pt x="431" y="601"/>
                    </a:lnTo>
                    <a:lnTo>
                      <a:pt x="429" y="599"/>
                    </a:lnTo>
                    <a:lnTo>
                      <a:pt x="429" y="592"/>
                    </a:lnTo>
                    <a:lnTo>
                      <a:pt x="427" y="581"/>
                    </a:lnTo>
                    <a:lnTo>
                      <a:pt x="416" y="569"/>
                    </a:lnTo>
                    <a:lnTo>
                      <a:pt x="432" y="581"/>
                    </a:lnTo>
                    <a:lnTo>
                      <a:pt x="448" y="591"/>
                    </a:lnTo>
                    <a:lnTo>
                      <a:pt x="467" y="599"/>
                    </a:lnTo>
                    <a:lnTo>
                      <a:pt x="484" y="605"/>
                    </a:lnTo>
                    <a:lnTo>
                      <a:pt x="501" y="612"/>
                    </a:lnTo>
                    <a:lnTo>
                      <a:pt x="516" y="617"/>
                    </a:lnTo>
                    <a:lnTo>
                      <a:pt x="530" y="622"/>
                    </a:lnTo>
                    <a:lnTo>
                      <a:pt x="540" y="628"/>
                    </a:lnTo>
                    <a:lnTo>
                      <a:pt x="547" y="630"/>
                    </a:lnTo>
                    <a:lnTo>
                      <a:pt x="555" y="635"/>
                    </a:lnTo>
                    <a:lnTo>
                      <a:pt x="563" y="639"/>
                    </a:lnTo>
                    <a:lnTo>
                      <a:pt x="574" y="644"/>
                    </a:lnTo>
                    <a:lnTo>
                      <a:pt x="583" y="650"/>
                    </a:lnTo>
                    <a:lnTo>
                      <a:pt x="594" y="656"/>
                    </a:lnTo>
                    <a:lnTo>
                      <a:pt x="606" y="662"/>
                    </a:lnTo>
                    <a:lnTo>
                      <a:pt x="617" y="667"/>
                    </a:lnTo>
                    <a:lnTo>
                      <a:pt x="636" y="671"/>
                    </a:lnTo>
                    <a:lnTo>
                      <a:pt x="653" y="674"/>
                    </a:lnTo>
                    <a:lnTo>
                      <a:pt x="669" y="676"/>
                    </a:lnTo>
                    <a:lnTo>
                      <a:pt x="684" y="678"/>
                    </a:lnTo>
                    <a:lnTo>
                      <a:pt x="699" y="680"/>
                    </a:lnTo>
                    <a:lnTo>
                      <a:pt x="714" y="681"/>
                    </a:lnTo>
                    <a:lnTo>
                      <a:pt x="731" y="681"/>
                    </a:lnTo>
                    <a:lnTo>
                      <a:pt x="749" y="681"/>
                    </a:lnTo>
                    <a:lnTo>
                      <a:pt x="750" y="675"/>
                    </a:lnTo>
                    <a:lnTo>
                      <a:pt x="750" y="671"/>
                    </a:lnTo>
                    <a:lnTo>
                      <a:pt x="750" y="666"/>
                    </a:lnTo>
                    <a:lnTo>
                      <a:pt x="750" y="662"/>
                    </a:lnTo>
                    <a:lnTo>
                      <a:pt x="736" y="634"/>
                    </a:lnTo>
                    <a:lnTo>
                      <a:pt x="722" y="609"/>
                    </a:lnTo>
                    <a:lnTo>
                      <a:pt x="708" y="586"/>
                    </a:lnTo>
                    <a:lnTo>
                      <a:pt x="696" y="565"/>
                    </a:lnTo>
                    <a:lnTo>
                      <a:pt x="681" y="546"/>
                    </a:lnTo>
                    <a:lnTo>
                      <a:pt x="664" y="526"/>
                    </a:lnTo>
                    <a:lnTo>
                      <a:pt x="645" y="507"/>
                    </a:lnTo>
                    <a:lnTo>
                      <a:pt x="623" y="486"/>
                    </a:lnTo>
                    <a:lnTo>
                      <a:pt x="617" y="485"/>
                    </a:lnTo>
                    <a:lnTo>
                      <a:pt x="612" y="484"/>
                    </a:lnTo>
                    <a:lnTo>
                      <a:pt x="606" y="483"/>
                    </a:lnTo>
                    <a:lnTo>
                      <a:pt x="600" y="483"/>
                    </a:lnTo>
                    <a:lnTo>
                      <a:pt x="591" y="478"/>
                    </a:lnTo>
                    <a:lnTo>
                      <a:pt x="582" y="473"/>
                    </a:lnTo>
                    <a:lnTo>
                      <a:pt x="573" y="469"/>
                    </a:lnTo>
                    <a:lnTo>
                      <a:pt x="564" y="463"/>
                    </a:lnTo>
                    <a:lnTo>
                      <a:pt x="555" y="459"/>
                    </a:lnTo>
                    <a:lnTo>
                      <a:pt x="546" y="454"/>
                    </a:lnTo>
                    <a:lnTo>
                      <a:pt x="538" y="450"/>
                    </a:lnTo>
                    <a:lnTo>
                      <a:pt x="529" y="446"/>
                    </a:lnTo>
                    <a:lnTo>
                      <a:pt x="502" y="416"/>
                    </a:lnTo>
                    <a:lnTo>
                      <a:pt x="475" y="387"/>
                    </a:lnTo>
                    <a:lnTo>
                      <a:pt x="446" y="359"/>
                    </a:lnTo>
                    <a:lnTo>
                      <a:pt x="417" y="331"/>
                    </a:lnTo>
                    <a:lnTo>
                      <a:pt x="386" y="302"/>
                    </a:lnTo>
                    <a:lnTo>
                      <a:pt x="356" y="275"/>
                    </a:lnTo>
                    <a:lnTo>
                      <a:pt x="324" y="249"/>
                    </a:lnTo>
                    <a:lnTo>
                      <a:pt x="293" y="223"/>
                    </a:lnTo>
                    <a:lnTo>
                      <a:pt x="260" y="197"/>
                    </a:lnTo>
                    <a:lnTo>
                      <a:pt x="227" y="172"/>
                    </a:lnTo>
                    <a:lnTo>
                      <a:pt x="195" y="147"/>
                    </a:lnTo>
                    <a:lnTo>
                      <a:pt x="161" y="122"/>
                    </a:lnTo>
                    <a:lnTo>
                      <a:pt x="128" y="98"/>
                    </a:lnTo>
                    <a:lnTo>
                      <a:pt x="95" y="74"/>
                    </a:lnTo>
                    <a:lnTo>
                      <a:pt x="62" y="50"/>
                    </a:lnTo>
                    <a:lnTo>
                      <a:pt x="29" y="27"/>
                    </a:lnTo>
                    <a:lnTo>
                      <a:pt x="22" y="19"/>
                    </a:lnTo>
                    <a:lnTo>
                      <a:pt x="15" y="13"/>
                    </a:lnTo>
                    <a:lnTo>
                      <a:pt x="8" y="7"/>
                    </a:lnTo>
                    <a:lnTo>
                      <a:pt x="0" y="0"/>
                    </a:lnTo>
                    <a:lnTo>
                      <a:pt x="0" y="757"/>
                    </a:lnTo>
                    <a:lnTo>
                      <a:pt x="8" y="764"/>
                    </a:lnTo>
                    <a:lnTo>
                      <a:pt x="16" y="770"/>
                    </a:lnTo>
                    <a:lnTo>
                      <a:pt x="23" y="776"/>
                    </a:lnTo>
                    <a:lnTo>
                      <a:pt x="29" y="780"/>
                    </a:lnTo>
                    <a:lnTo>
                      <a:pt x="35" y="784"/>
                    </a:lnTo>
                    <a:lnTo>
                      <a:pt x="38" y="786"/>
                    </a:lnTo>
                    <a:lnTo>
                      <a:pt x="42" y="787"/>
                    </a:lnTo>
                    <a:lnTo>
                      <a:pt x="43" y="787"/>
                    </a:lnTo>
                    <a:lnTo>
                      <a:pt x="44" y="777"/>
                    </a:lnTo>
                    <a:lnTo>
                      <a:pt x="45" y="759"/>
                    </a:lnTo>
                    <a:lnTo>
                      <a:pt x="47" y="740"/>
                    </a:lnTo>
                    <a:lnTo>
                      <a:pt x="47" y="731"/>
                    </a:lnTo>
                    <a:lnTo>
                      <a:pt x="60" y="731"/>
                    </a:lnTo>
                    <a:lnTo>
                      <a:pt x="73" y="731"/>
                    </a:lnTo>
                    <a:lnTo>
                      <a:pt x="84" y="731"/>
                    </a:lnTo>
                    <a:lnTo>
                      <a:pt x="96" y="731"/>
                    </a:lnTo>
                    <a:lnTo>
                      <a:pt x="106" y="732"/>
                    </a:lnTo>
                    <a:lnTo>
                      <a:pt x="118" y="733"/>
                    </a:lnTo>
                    <a:lnTo>
                      <a:pt x="129" y="736"/>
                    </a:lnTo>
                    <a:lnTo>
                      <a:pt x="142" y="741"/>
                    </a:lnTo>
                    <a:lnTo>
                      <a:pt x="143" y="767"/>
                    </a:lnTo>
                    <a:lnTo>
                      <a:pt x="140" y="787"/>
                    </a:lnTo>
                    <a:lnTo>
                      <a:pt x="131" y="803"/>
                    </a:lnTo>
                    <a:lnTo>
                      <a:pt x="120" y="814"/>
                    </a:lnTo>
                    <a:lnTo>
                      <a:pt x="105" y="824"/>
                    </a:lnTo>
                    <a:lnTo>
                      <a:pt x="89" y="831"/>
                    </a:lnTo>
                    <a:lnTo>
                      <a:pt x="70" y="837"/>
                    </a:lnTo>
                    <a:lnTo>
                      <a:pt x="51" y="845"/>
                    </a:lnTo>
                    <a:lnTo>
                      <a:pt x="46" y="845"/>
                    </a:lnTo>
                    <a:lnTo>
                      <a:pt x="41" y="845"/>
                    </a:lnTo>
                    <a:lnTo>
                      <a:pt x="34" y="845"/>
                    </a:lnTo>
                    <a:lnTo>
                      <a:pt x="28" y="844"/>
                    </a:lnTo>
                    <a:lnTo>
                      <a:pt x="21" y="842"/>
                    </a:lnTo>
                    <a:lnTo>
                      <a:pt x="14" y="841"/>
                    </a:lnTo>
                    <a:lnTo>
                      <a:pt x="7" y="839"/>
                    </a:lnTo>
                    <a:lnTo>
                      <a:pt x="0" y="83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5"/>
              <p:cNvSpPr/>
              <p:nvPr/>
            </p:nvSpPr>
            <p:spPr>
              <a:xfrm>
                <a:off x="971640" y="998640"/>
                <a:ext cx="416520" cy="196200"/>
              </a:xfrm>
              <a:custGeom>
                <a:avLst/>
                <a:gdLst/>
                <a:ahLst/>
                <a:rect l="l" t="t" r="r" b="b"/>
                <a:pathLst>
                  <a:path w="1383" h="1258">
                    <a:moveTo>
                      <a:pt x="1383" y="1065"/>
                    </a:moveTo>
                    <a:lnTo>
                      <a:pt x="1383" y="308"/>
                    </a:lnTo>
                    <a:lnTo>
                      <a:pt x="1380" y="304"/>
                    </a:lnTo>
                    <a:lnTo>
                      <a:pt x="1376" y="301"/>
                    </a:lnTo>
                    <a:lnTo>
                      <a:pt x="1373" y="299"/>
                    </a:lnTo>
                    <a:lnTo>
                      <a:pt x="1369" y="296"/>
                    </a:lnTo>
                    <a:lnTo>
                      <a:pt x="1362" y="289"/>
                    </a:lnTo>
                    <a:lnTo>
                      <a:pt x="1354" y="281"/>
                    </a:lnTo>
                    <a:lnTo>
                      <a:pt x="1348" y="276"/>
                    </a:lnTo>
                    <a:lnTo>
                      <a:pt x="1339" y="271"/>
                    </a:lnTo>
                    <a:lnTo>
                      <a:pt x="1333" y="265"/>
                    </a:lnTo>
                    <a:lnTo>
                      <a:pt x="1324" y="260"/>
                    </a:lnTo>
                    <a:lnTo>
                      <a:pt x="1319" y="253"/>
                    </a:lnTo>
                    <a:lnTo>
                      <a:pt x="1312" y="246"/>
                    </a:lnTo>
                    <a:lnTo>
                      <a:pt x="1307" y="238"/>
                    </a:lnTo>
                    <a:lnTo>
                      <a:pt x="1304" y="229"/>
                    </a:lnTo>
                    <a:lnTo>
                      <a:pt x="1299" y="222"/>
                    </a:lnTo>
                    <a:lnTo>
                      <a:pt x="1296" y="214"/>
                    </a:lnTo>
                    <a:lnTo>
                      <a:pt x="1291" y="207"/>
                    </a:lnTo>
                    <a:lnTo>
                      <a:pt x="1285" y="200"/>
                    </a:lnTo>
                    <a:lnTo>
                      <a:pt x="1278" y="194"/>
                    </a:lnTo>
                    <a:lnTo>
                      <a:pt x="1270" y="188"/>
                    </a:lnTo>
                    <a:lnTo>
                      <a:pt x="1259" y="187"/>
                    </a:lnTo>
                    <a:lnTo>
                      <a:pt x="1248" y="186"/>
                    </a:lnTo>
                    <a:lnTo>
                      <a:pt x="1238" y="187"/>
                    </a:lnTo>
                    <a:lnTo>
                      <a:pt x="1229" y="188"/>
                    </a:lnTo>
                    <a:lnTo>
                      <a:pt x="1220" y="192"/>
                    </a:lnTo>
                    <a:lnTo>
                      <a:pt x="1213" y="196"/>
                    </a:lnTo>
                    <a:lnTo>
                      <a:pt x="1205" y="203"/>
                    </a:lnTo>
                    <a:lnTo>
                      <a:pt x="1199" y="211"/>
                    </a:lnTo>
                    <a:lnTo>
                      <a:pt x="1190" y="206"/>
                    </a:lnTo>
                    <a:lnTo>
                      <a:pt x="1182" y="197"/>
                    </a:lnTo>
                    <a:lnTo>
                      <a:pt x="1172" y="186"/>
                    </a:lnTo>
                    <a:lnTo>
                      <a:pt x="1166" y="174"/>
                    </a:lnTo>
                    <a:lnTo>
                      <a:pt x="1159" y="161"/>
                    </a:lnTo>
                    <a:lnTo>
                      <a:pt x="1153" y="149"/>
                    </a:lnTo>
                    <a:lnTo>
                      <a:pt x="1147" y="136"/>
                    </a:lnTo>
                    <a:lnTo>
                      <a:pt x="1144" y="126"/>
                    </a:lnTo>
                    <a:lnTo>
                      <a:pt x="1134" y="127"/>
                    </a:lnTo>
                    <a:lnTo>
                      <a:pt x="1128" y="128"/>
                    </a:lnTo>
                    <a:lnTo>
                      <a:pt x="1120" y="128"/>
                    </a:lnTo>
                    <a:lnTo>
                      <a:pt x="1113" y="129"/>
                    </a:lnTo>
                    <a:lnTo>
                      <a:pt x="1106" y="130"/>
                    </a:lnTo>
                    <a:lnTo>
                      <a:pt x="1098" y="131"/>
                    </a:lnTo>
                    <a:lnTo>
                      <a:pt x="1091" y="133"/>
                    </a:lnTo>
                    <a:lnTo>
                      <a:pt x="1083" y="136"/>
                    </a:lnTo>
                    <a:lnTo>
                      <a:pt x="1079" y="138"/>
                    </a:lnTo>
                    <a:lnTo>
                      <a:pt x="1076" y="138"/>
                    </a:lnTo>
                    <a:lnTo>
                      <a:pt x="1070" y="138"/>
                    </a:lnTo>
                    <a:lnTo>
                      <a:pt x="1063" y="140"/>
                    </a:lnTo>
                    <a:lnTo>
                      <a:pt x="1057" y="132"/>
                    </a:lnTo>
                    <a:lnTo>
                      <a:pt x="1055" y="128"/>
                    </a:lnTo>
                    <a:lnTo>
                      <a:pt x="1055" y="125"/>
                    </a:lnTo>
                    <a:lnTo>
                      <a:pt x="1055" y="120"/>
                    </a:lnTo>
                    <a:lnTo>
                      <a:pt x="1070" y="102"/>
                    </a:lnTo>
                    <a:lnTo>
                      <a:pt x="1077" y="88"/>
                    </a:lnTo>
                    <a:lnTo>
                      <a:pt x="1078" y="77"/>
                    </a:lnTo>
                    <a:lnTo>
                      <a:pt x="1078" y="69"/>
                    </a:lnTo>
                    <a:lnTo>
                      <a:pt x="1071" y="59"/>
                    </a:lnTo>
                    <a:lnTo>
                      <a:pt x="1062" y="49"/>
                    </a:lnTo>
                    <a:lnTo>
                      <a:pt x="1048" y="39"/>
                    </a:lnTo>
                    <a:lnTo>
                      <a:pt x="1033" y="31"/>
                    </a:lnTo>
                    <a:lnTo>
                      <a:pt x="1016" y="23"/>
                    </a:lnTo>
                    <a:lnTo>
                      <a:pt x="997" y="15"/>
                    </a:lnTo>
                    <a:lnTo>
                      <a:pt x="980" y="8"/>
                    </a:lnTo>
                    <a:lnTo>
                      <a:pt x="963" y="0"/>
                    </a:lnTo>
                    <a:lnTo>
                      <a:pt x="958" y="0"/>
                    </a:lnTo>
                    <a:lnTo>
                      <a:pt x="954" y="0"/>
                    </a:lnTo>
                    <a:lnTo>
                      <a:pt x="949" y="0"/>
                    </a:lnTo>
                    <a:lnTo>
                      <a:pt x="944" y="0"/>
                    </a:lnTo>
                    <a:lnTo>
                      <a:pt x="940" y="0"/>
                    </a:lnTo>
                    <a:lnTo>
                      <a:pt x="935" y="2"/>
                    </a:lnTo>
                    <a:lnTo>
                      <a:pt x="932" y="2"/>
                    </a:lnTo>
                    <a:lnTo>
                      <a:pt x="928" y="2"/>
                    </a:lnTo>
                    <a:lnTo>
                      <a:pt x="909" y="30"/>
                    </a:lnTo>
                    <a:lnTo>
                      <a:pt x="889" y="60"/>
                    </a:lnTo>
                    <a:lnTo>
                      <a:pt x="871" y="90"/>
                    </a:lnTo>
                    <a:lnTo>
                      <a:pt x="851" y="122"/>
                    </a:lnTo>
                    <a:lnTo>
                      <a:pt x="832" y="152"/>
                    </a:lnTo>
                    <a:lnTo>
                      <a:pt x="811" y="182"/>
                    </a:lnTo>
                    <a:lnTo>
                      <a:pt x="790" y="211"/>
                    </a:lnTo>
                    <a:lnTo>
                      <a:pt x="769" y="239"/>
                    </a:lnTo>
                    <a:lnTo>
                      <a:pt x="818" y="171"/>
                    </a:lnTo>
                    <a:lnTo>
                      <a:pt x="820" y="164"/>
                    </a:lnTo>
                    <a:lnTo>
                      <a:pt x="827" y="155"/>
                    </a:lnTo>
                    <a:lnTo>
                      <a:pt x="833" y="146"/>
                    </a:lnTo>
                    <a:lnTo>
                      <a:pt x="832" y="137"/>
                    </a:lnTo>
                    <a:lnTo>
                      <a:pt x="826" y="141"/>
                    </a:lnTo>
                    <a:lnTo>
                      <a:pt x="817" y="147"/>
                    </a:lnTo>
                    <a:lnTo>
                      <a:pt x="807" y="152"/>
                    </a:lnTo>
                    <a:lnTo>
                      <a:pt x="803" y="155"/>
                    </a:lnTo>
                    <a:lnTo>
                      <a:pt x="775" y="172"/>
                    </a:lnTo>
                    <a:lnTo>
                      <a:pt x="745" y="191"/>
                    </a:lnTo>
                    <a:lnTo>
                      <a:pt x="715" y="209"/>
                    </a:lnTo>
                    <a:lnTo>
                      <a:pt x="684" y="229"/>
                    </a:lnTo>
                    <a:lnTo>
                      <a:pt x="653" y="250"/>
                    </a:lnTo>
                    <a:lnTo>
                      <a:pt x="622" y="271"/>
                    </a:lnTo>
                    <a:lnTo>
                      <a:pt x="590" y="293"/>
                    </a:lnTo>
                    <a:lnTo>
                      <a:pt x="559" y="316"/>
                    </a:lnTo>
                    <a:lnTo>
                      <a:pt x="528" y="339"/>
                    </a:lnTo>
                    <a:lnTo>
                      <a:pt x="498" y="362"/>
                    </a:lnTo>
                    <a:lnTo>
                      <a:pt x="468" y="385"/>
                    </a:lnTo>
                    <a:lnTo>
                      <a:pt x="439" y="409"/>
                    </a:lnTo>
                    <a:lnTo>
                      <a:pt x="412" y="433"/>
                    </a:lnTo>
                    <a:lnTo>
                      <a:pt x="387" y="457"/>
                    </a:lnTo>
                    <a:lnTo>
                      <a:pt x="363" y="481"/>
                    </a:lnTo>
                    <a:lnTo>
                      <a:pt x="341" y="505"/>
                    </a:lnTo>
                    <a:lnTo>
                      <a:pt x="335" y="514"/>
                    </a:lnTo>
                    <a:lnTo>
                      <a:pt x="326" y="525"/>
                    </a:lnTo>
                    <a:lnTo>
                      <a:pt x="316" y="535"/>
                    </a:lnTo>
                    <a:lnTo>
                      <a:pt x="311" y="544"/>
                    </a:lnTo>
                    <a:lnTo>
                      <a:pt x="292" y="555"/>
                    </a:lnTo>
                    <a:lnTo>
                      <a:pt x="273" y="567"/>
                    </a:lnTo>
                    <a:lnTo>
                      <a:pt x="254" y="579"/>
                    </a:lnTo>
                    <a:lnTo>
                      <a:pt x="236" y="593"/>
                    </a:lnTo>
                    <a:lnTo>
                      <a:pt x="218" y="606"/>
                    </a:lnTo>
                    <a:lnTo>
                      <a:pt x="199" y="620"/>
                    </a:lnTo>
                    <a:lnTo>
                      <a:pt x="182" y="633"/>
                    </a:lnTo>
                    <a:lnTo>
                      <a:pt x="165" y="648"/>
                    </a:lnTo>
                    <a:lnTo>
                      <a:pt x="148" y="662"/>
                    </a:lnTo>
                    <a:lnTo>
                      <a:pt x="129" y="676"/>
                    </a:lnTo>
                    <a:lnTo>
                      <a:pt x="112" y="690"/>
                    </a:lnTo>
                    <a:lnTo>
                      <a:pt x="95" y="704"/>
                    </a:lnTo>
                    <a:lnTo>
                      <a:pt x="77" y="718"/>
                    </a:lnTo>
                    <a:lnTo>
                      <a:pt x="59" y="732"/>
                    </a:lnTo>
                    <a:lnTo>
                      <a:pt x="42" y="744"/>
                    </a:lnTo>
                    <a:lnTo>
                      <a:pt x="23" y="757"/>
                    </a:lnTo>
                    <a:lnTo>
                      <a:pt x="7" y="775"/>
                    </a:lnTo>
                    <a:lnTo>
                      <a:pt x="3" y="785"/>
                    </a:lnTo>
                    <a:lnTo>
                      <a:pt x="1" y="791"/>
                    </a:lnTo>
                    <a:lnTo>
                      <a:pt x="0" y="798"/>
                    </a:lnTo>
                    <a:lnTo>
                      <a:pt x="0" y="830"/>
                    </a:lnTo>
                    <a:lnTo>
                      <a:pt x="0" y="862"/>
                    </a:lnTo>
                    <a:lnTo>
                      <a:pt x="4" y="894"/>
                    </a:lnTo>
                    <a:lnTo>
                      <a:pt x="11" y="923"/>
                    </a:lnTo>
                    <a:lnTo>
                      <a:pt x="24" y="947"/>
                    </a:lnTo>
                    <a:lnTo>
                      <a:pt x="46" y="965"/>
                    </a:lnTo>
                    <a:lnTo>
                      <a:pt x="76" y="974"/>
                    </a:lnTo>
                    <a:lnTo>
                      <a:pt x="118" y="975"/>
                    </a:lnTo>
                    <a:lnTo>
                      <a:pt x="128" y="973"/>
                    </a:lnTo>
                    <a:lnTo>
                      <a:pt x="141" y="967"/>
                    </a:lnTo>
                    <a:lnTo>
                      <a:pt x="155" y="955"/>
                    </a:lnTo>
                    <a:lnTo>
                      <a:pt x="169" y="942"/>
                    </a:lnTo>
                    <a:lnTo>
                      <a:pt x="186" y="927"/>
                    </a:lnTo>
                    <a:lnTo>
                      <a:pt x="202" y="912"/>
                    </a:lnTo>
                    <a:lnTo>
                      <a:pt x="218" y="900"/>
                    </a:lnTo>
                    <a:lnTo>
                      <a:pt x="234" y="889"/>
                    </a:lnTo>
                    <a:lnTo>
                      <a:pt x="227" y="899"/>
                    </a:lnTo>
                    <a:lnTo>
                      <a:pt x="220" y="906"/>
                    </a:lnTo>
                    <a:lnTo>
                      <a:pt x="214" y="914"/>
                    </a:lnTo>
                    <a:lnTo>
                      <a:pt x="210" y="922"/>
                    </a:lnTo>
                    <a:lnTo>
                      <a:pt x="205" y="929"/>
                    </a:lnTo>
                    <a:lnTo>
                      <a:pt x="201" y="937"/>
                    </a:lnTo>
                    <a:lnTo>
                      <a:pt x="197" y="947"/>
                    </a:lnTo>
                    <a:lnTo>
                      <a:pt x="194" y="957"/>
                    </a:lnTo>
                    <a:lnTo>
                      <a:pt x="188" y="962"/>
                    </a:lnTo>
                    <a:lnTo>
                      <a:pt x="183" y="968"/>
                    </a:lnTo>
                    <a:lnTo>
                      <a:pt x="179" y="973"/>
                    </a:lnTo>
                    <a:lnTo>
                      <a:pt x="174" y="977"/>
                    </a:lnTo>
                    <a:lnTo>
                      <a:pt x="171" y="983"/>
                    </a:lnTo>
                    <a:lnTo>
                      <a:pt x="167" y="989"/>
                    </a:lnTo>
                    <a:lnTo>
                      <a:pt x="163" y="995"/>
                    </a:lnTo>
                    <a:lnTo>
                      <a:pt x="158" y="1001"/>
                    </a:lnTo>
                    <a:lnTo>
                      <a:pt x="158" y="1017"/>
                    </a:lnTo>
                    <a:lnTo>
                      <a:pt x="158" y="1031"/>
                    </a:lnTo>
                    <a:lnTo>
                      <a:pt x="158" y="1046"/>
                    </a:lnTo>
                    <a:lnTo>
                      <a:pt x="158" y="1061"/>
                    </a:lnTo>
                    <a:lnTo>
                      <a:pt x="163" y="1069"/>
                    </a:lnTo>
                    <a:lnTo>
                      <a:pt x="166" y="1080"/>
                    </a:lnTo>
                    <a:lnTo>
                      <a:pt x="168" y="1093"/>
                    </a:lnTo>
                    <a:lnTo>
                      <a:pt x="173" y="1106"/>
                    </a:lnTo>
                    <a:lnTo>
                      <a:pt x="194" y="1130"/>
                    </a:lnTo>
                    <a:lnTo>
                      <a:pt x="209" y="1148"/>
                    </a:lnTo>
                    <a:lnTo>
                      <a:pt x="222" y="1164"/>
                    </a:lnTo>
                    <a:lnTo>
                      <a:pt x="236" y="1176"/>
                    </a:lnTo>
                    <a:lnTo>
                      <a:pt x="252" y="1183"/>
                    </a:lnTo>
                    <a:lnTo>
                      <a:pt x="273" y="1188"/>
                    </a:lnTo>
                    <a:lnTo>
                      <a:pt x="302" y="1191"/>
                    </a:lnTo>
                    <a:lnTo>
                      <a:pt x="340" y="1192"/>
                    </a:lnTo>
                    <a:lnTo>
                      <a:pt x="349" y="1190"/>
                    </a:lnTo>
                    <a:lnTo>
                      <a:pt x="358" y="1187"/>
                    </a:lnTo>
                    <a:lnTo>
                      <a:pt x="366" y="1184"/>
                    </a:lnTo>
                    <a:lnTo>
                      <a:pt x="376" y="1181"/>
                    </a:lnTo>
                    <a:lnTo>
                      <a:pt x="384" y="1178"/>
                    </a:lnTo>
                    <a:lnTo>
                      <a:pt x="393" y="1175"/>
                    </a:lnTo>
                    <a:lnTo>
                      <a:pt x="401" y="1172"/>
                    </a:lnTo>
                    <a:lnTo>
                      <a:pt x="410" y="1171"/>
                    </a:lnTo>
                    <a:lnTo>
                      <a:pt x="432" y="1141"/>
                    </a:lnTo>
                    <a:lnTo>
                      <a:pt x="453" y="1110"/>
                    </a:lnTo>
                    <a:lnTo>
                      <a:pt x="472" y="1076"/>
                    </a:lnTo>
                    <a:lnTo>
                      <a:pt x="492" y="1044"/>
                    </a:lnTo>
                    <a:lnTo>
                      <a:pt x="509" y="1012"/>
                    </a:lnTo>
                    <a:lnTo>
                      <a:pt x="528" y="979"/>
                    </a:lnTo>
                    <a:lnTo>
                      <a:pt x="546" y="948"/>
                    </a:lnTo>
                    <a:lnTo>
                      <a:pt x="566" y="918"/>
                    </a:lnTo>
                    <a:lnTo>
                      <a:pt x="558" y="945"/>
                    </a:lnTo>
                    <a:lnTo>
                      <a:pt x="548" y="966"/>
                    </a:lnTo>
                    <a:lnTo>
                      <a:pt x="538" y="983"/>
                    </a:lnTo>
                    <a:lnTo>
                      <a:pt x="529" y="998"/>
                    </a:lnTo>
                    <a:lnTo>
                      <a:pt x="520" y="1013"/>
                    </a:lnTo>
                    <a:lnTo>
                      <a:pt x="513" y="1025"/>
                    </a:lnTo>
                    <a:lnTo>
                      <a:pt x="508" y="1041"/>
                    </a:lnTo>
                    <a:lnTo>
                      <a:pt x="508" y="1058"/>
                    </a:lnTo>
                    <a:lnTo>
                      <a:pt x="513" y="1065"/>
                    </a:lnTo>
                    <a:lnTo>
                      <a:pt x="525" y="1085"/>
                    </a:lnTo>
                    <a:lnTo>
                      <a:pt x="541" y="1113"/>
                    </a:lnTo>
                    <a:lnTo>
                      <a:pt x="561" y="1145"/>
                    </a:lnTo>
                    <a:lnTo>
                      <a:pt x="581" y="1178"/>
                    </a:lnTo>
                    <a:lnTo>
                      <a:pt x="598" y="1207"/>
                    </a:lnTo>
                    <a:lnTo>
                      <a:pt x="611" y="1230"/>
                    </a:lnTo>
                    <a:lnTo>
                      <a:pt x="617" y="1240"/>
                    </a:lnTo>
                    <a:lnTo>
                      <a:pt x="640" y="1240"/>
                    </a:lnTo>
                    <a:lnTo>
                      <a:pt x="660" y="1234"/>
                    </a:lnTo>
                    <a:lnTo>
                      <a:pt x="676" y="1222"/>
                    </a:lnTo>
                    <a:lnTo>
                      <a:pt x="690" y="1206"/>
                    </a:lnTo>
                    <a:lnTo>
                      <a:pt x="702" y="1188"/>
                    </a:lnTo>
                    <a:lnTo>
                      <a:pt x="713" y="1168"/>
                    </a:lnTo>
                    <a:lnTo>
                      <a:pt x="723" y="1149"/>
                    </a:lnTo>
                    <a:lnTo>
                      <a:pt x="735" y="1133"/>
                    </a:lnTo>
                    <a:lnTo>
                      <a:pt x="748" y="1098"/>
                    </a:lnTo>
                    <a:lnTo>
                      <a:pt x="760" y="1064"/>
                    </a:lnTo>
                    <a:lnTo>
                      <a:pt x="773" y="1028"/>
                    </a:lnTo>
                    <a:lnTo>
                      <a:pt x="787" y="993"/>
                    </a:lnTo>
                    <a:lnTo>
                      <a:pt x="799" y="957"/>
                    </a:lnTo>
                    <a:lnTo>
                      <a:pt x="813" y="922"/>
                    </a:lnTo>
                    <a:lnTo>
                      <a:pt x="826" y="887"/>
                    </a:lnTo>
                    <a:lnTo>
                      <a:pt x="837" y="853"/>
                    </a:lnTo>
                    <a:lnTo>
                      <a:pt x="840" y="853"/>
                    </a:lnTo>
                    <a:lnTo>
                      <a:pt x="843" y="853"/>
                    </a:lnTo>
                    <a:lnTo>
                      <a:pt x="845" y="853"/>
                    </a:lnTo>
                    <a:lnTo>
                      <a:pt x="849" y="853"/>
                    </a:lnTo>
                    <a:lnTo>
                      <a:pt x="837" y="910"/>
                    </a:lnTo>
                    <a:lnTo>
                      <a:pt x="830" y="972"/>
                    </a:lnTo>
                    <a:lnTo>
                      <a:pt x="825" y="1035"/>
                    </a:lnTo>
                    <a:lnTo>
                      <a:pt x="818" y="1095"/>
                    </a:lnTo>
                    <a:lnTo>
                      <a:pt x="818" y="1108"/>
                    </a:lnTo>
                    <a:lnTo>
                      <a:pt x="818" y="1120"/>
                    </a:lnTo>
                    <a:lnTo>
                      <a:pt x="818" y="1133"/>
                    </a:lnTo>
                    <a:lnTo>
                      <a:pt x="818" y="1146"/>
                    </a:lnTo>
                    <a:lnTo>
                      <a:pt x="820" y="1147"/>
                    </a:lnTo>
                    <a:lnTo>
                      <a:pt x="822" y="1148"/>
                    </a:lnTo>
                    <a:lnTo>
                      <a:pt x="824" y="1150"/>
                    </a:lnTo>
                    <a:lnTo>
                      <a:pt x="826" y="1152"/>
                    </a:lnTo>
                    <a:lnTo>
                      <a:pt x="829" y="1167"/>
                    </a:lnTo>
                    <a:lnTo>
                      <a:pt x="834" y="1181"/>
                    </a:lnTo>
                    <a:lnTo>
                      <a:pt x="840" y="1193"/>
                    </a:lnTo>
                    <a:lnTo>
                      <a:pt x="848" y="1204"/>
                    </a:lnTo>
                    <a:lnTo>
                      <a:pt x="857" y="1213"/>
                    </a:lnTo>
                    <a:lnTo>
                      <a:pt x="868" y="1222"/>
                    </a:lnTo>
                    <a:lnTo>
                      <a:pt x="881" y="1230"/>
                    </a:lnTo>
                    <a:lnTo>
                      <a:pt x="896" y="1238"/>
                    </a:lnTo>
                    <a:lnTo>
                      <a:pt x="917" y="1246"/>
                    </a:lnTo>
                    <a:lnTo>
                      <a:pt x="936" y="1251"/>
                    </a:lnTo>
                    <a:lnTo>
                      <a:pt x="956" y="1254"/>
                    </a:lnTo>
                    <a:lnTo>
                      <a:pt x="973" y="1257"/>
                    </a:lnTo>
                    <a:lnTo>
                      <a:pt x="991" y="1258"/>
                    </a:lnTo>
                    <a:lnTo>
                      <a:pt x="1008" y="1257"/>
                    </a:lnTo>
                    <a:lnTo>
                      <a:pt x="1023" y="1256"/>
                    </a:lnTo>
                    <a:lnTo>
                      <a:pt x="1038" y="1254"/>
                    </a:lnTo>
                    <a:lnTo>
                      <a:pt x="1050" y="1252"/>
                    </a:lnTo>
                    <a:lnTo>
                      <a:pt x="1063" y="1248"/>
                    </a:lnTo>
                    <a:lnTo>
                      <a:pt x="1075" y="1243"/>
                    </a:lnTo>
                    <a:lnTo>
                      <a:pt x="1084" y="1239"/>
                    </a:lnTo>
                    <a:lnTo>
                      <a:pt x="1093" y="1234"/>
                    </a:lnTo>
                    <a:lnTo>
                      <a:pt x="1101" y="1230"/>
                    </a:lnTo>
                    <a:lnTo>
                      <a:pt x="1107" y="1225"/>
                    </a:lnTo>
                    <a:lnTo>
                      <a:pt x="1113" y="1219"/>
                    </a:lnTo>
                    <a:lnTo>
                      <a:pt x="1115" y="1215"/>
                    </a:lnTo>
                    <a:lnTo>
                      <a:pt x="1118" y="1200"/>
                    </a:lnTo>
                    <a:lnTo>
                      <a:pt x="1122" y="1183"/>
                    </a:lnTo>
                    <a:lnTo>
                      <a:pt x="1126" y="1171"/>
                    </a:lnTo>
                    <a:lnTo>
                      <a:pt x="1122" y="1136"/>
                    </a:lnTo>
                    <a:lnTo>
                      <a:pt x="1118" y="1113"/>
                    </a:lnTo>
                    <a:lnTo>
                      <a:pt x="1115" y="1091"/>
                    </a:lnTo>
                    <a:lnTo>
                      <a:pt x="1111" y="1059"/>
                    </a:lnTo>
                    <a:lnTo>
                      <a:pt x="1125" y="1062"/>
                    </a:lnTo>
                    <a:lnTo>
                      <a:pt x="1137" y="1066"/>
                    </a:lnTo>
                    <a:lnTo>
                      <a:pt x="1146" y="1069"/>
                    </a:lnTo>
                    <a:lnTo>
                      <a:pt x="1155" y="1071"/>
                    </a:lnTo>
                    <a:lnTo>
                      <a:pt x="1164" y="1073"/>
                    </a:lnTo>
                    <a:lnTo>
                      <a:pt x="1176" y="1074"/>
                    </a:lnTo>
                    <a:lnTo>
                      <a:pt x="1190" y="1074"/>
                    </a:lnTo>
                    <a:lnTo>
                      <a:pt x="1208" y="1072"/>
                    </a:lnTo>
                    <a:lnTo>
                      <a:pt x="1212" y="1080"/>
                    </a:lnTo>
                    <a:lnTo>
                      <a:pt x="1216" y="1088"/>
                    </a:lnTo>
                    <a:lnTo>
                      <a:pt x="1221" y="1095"/>
                    </a:lnTo>
                    <a:lnTo>
                      <a:pt x="1223" y="1103"/>
                    </a:lnTo>
                    <a:lnTo>
                      <a:pt x="1238" y="1122"/>
                    </a:lnTo>
                    <a:lnTo>
                      <a:pt x="1254" y="1139"/>
                    </a:lnTo>
                    <a:lnTo>
                      <a:pt x="1270" y="1153"/>
                    </a:lnTo>
                    <a:lnTo>
                      <a:pt x="1289" y="1163"/>
                    </a:lnTo>
                    <a:lnTo>
                      <a:pt x="1310" y="1170"/>
                    </a:lnTo>
                    <a:lnTo>
                      <a:pt x="1331" y="1176"/>
                    </a:lnTo>
                    <a:lnTo>
                      <a:pt x="1356" y="1178"/>
                    </a:lnTo>
                    <a:lnTo>
                      <a:pt x="1383" y="1178"/>
                    </a:lnTo>
                    <a:lnTo>
                      <a:pt x="1383" y="1145"/>
                    </a:lnTo>
                    <a:lnTo>
                      <a:pt x="1375" y="1142"/>
                    </a:lnTo>
                    <a:lnTo>
                      <a:pt x="1366" y="1139"/>
                    </a:lnTo>
                    <a:lnTo>
                      <a:pt x="1359" y="1135"/>
                    </a:lnTo>
                    <a:lnTo>
                      <a:pt x="1351" y="1130"/>
                    </a:lnTo>
                    <a:lnTo>
                      <a:pt x="1345" y="1124"/>
                    </a:lnTo>
                    <a:lnTo>
                      <a:pt x="1339" y="1119"/>
                    </a:lnTo>
                    <a:lnTo>
                      <a:pt x="1336" y="1113"/>
                    </a:lnTo>
                    <a:lnTo>
                      <a:pt x="1333" y="1106"/>
                    </a:lnTo>
                    <a:lnTo>
                      <a:pt x="1324" y="1103"/>
                    </a:lnTo>
                    <a:lnTo>
                      <a:pt x="1313" y="1101"/>
                    </a:lnTo>
                    <a:lnTo>
                      <a:pt x="1300" y="1100"/>
                    </a:lnTo>
                    <a:lnTo>
                      <a:pt x="1285" y="1099"/>
                    </a:lnTo>
                    <a:lnTo>
                      <a:pt x="1272" y="1097"/>
                    </a:lnTo>
                    <a:lnTo>
                      <a:pt x="1258" y="1095"/>
                    </a:lnTo>
                    <a:lnTo>
                      <a:pt x="1247" y="1093"/>
                    </a:lnTo>
                    <a:lnTo>
                      <a:pt x="1242" y="1090"/>
                    </a:lnTo>
                    <a:lnTo>
                      <a:pt x="1254" y="1088"/>
                    </a:lnTo>
                    <a:lnTo>
                      <a:pt x="1269" y="1080"/>
                    </a:lnTo>
                    <a:lnTo>
                      <a:pt x="1278" y="1071"/>
                    </a:lnTo>
                    <a:lnTo>
                      <a:pt x="1284" y="1060"/>
                    </a:lnTo>
                    <a:lnTo>
                      <a:pt x="1289" y="1049"/>
                    </a:lnTo>
                    <a:lnTo>
                      <a:pt x="1298" y="1042"/>
                    </a:lnTo>
                    <a:lnTo>
                      <a:pt x="1312" y="1038"/>
                    </a:lnTo>
                    <a:lnTo>
                      <a:pt x="1334" y="1040"/>
                    </a:lnTo>
                    <a:lnTo>
                      <a:pt x="1368" y="1049"/>
                    </a:lnTo>
                    <a:lnTo>
                      <a:pt x="1373" y="1053"/>
                    </a:lnTo>
                    <a:lnTo>
                      <a:pt x="1376" y="1058"/>
                    </a:lnTo>
                    <a:lnTo>
                      <a:pt x="1380" y="1062"/>
                    </a:lnTo>
                    <a:lnTo>
                      <a:pt x="1383" y="106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6"/>
              <p:cNvSpPr/>
              <p:nvPr/>
            </p:nvSpPr>
            <p:spPr>
              <a:xfrm>
                <a:off x="1215360" y="975600"/>
                <a:ext cx="153720" cy="50400"/>
              </a:xfrm>
              <a:custGeom>
                <a:avLst/>
                <a:gdLst/>
                <a:ahLst/>
                <a:rect l="l" t="t" r="r" b="b"/>
                <a:pathLst>
                  <a:path w="509" h="325">
                    <a:moveTo>
                      <a:pt x="189" y="77"/>
                    </a:moveTo>
                    <a:lnTo>
                      <a:pt x="189" y="110"/>
                    </a:lnTo>
                    <a:lnTo>
                      <a:pt x="181" y="125"/>
                    </a:lnTo>
                    <a:lnTo>
                      <a:pt x="171" y="138"/>
                    </a:lnTo>
                    <a:lnTo>
                      <a:pt x="161" y="147"/>
                    </a:lnTo>
                    <a:lnTo>
                      <a:pt x="153" y="155"/>
                    </a:lnTo>
                    <a:lnTo>
                      <a:pt x="144" y="164"/>
                    </a:lnTo>
                    <a:lnTo>
                      <a:pt x="137" y="175"/>
                    </a:lnTo>
                    <a:lnTo>
                      <a:pt x="131" y="188"/>
                    </a:lnTo>
                    <a:lnTo>
                      <a:pt x="128" y="207"/>
                    </a:lnTo>
                    <a:lnTo>
                      <a:pt x="114" y="193"/>
                    </a:lnTo>
                    <a:lnTo>
                      <a:pt x="92" y="183"/>
                    </a:lnTo>
                    <a:lnTo>
                      <a:pt x="0" y="167"/>
                    </a:lnTo>
                    <a:lnTo>
                      <a:pt x="78" y="198"/>
                    </a:lnTo>
                    <a:lnTo>
                      <a:pt x="70" y="216"/>
                    </a:lnTo>
                    <a:lnTo>
                      <a:pt x="65" y="234"/>
                    </a:lnTo>
                    <a:lnTo>
                      <a:pt x="62" y="251"/>
                    </a:lnTo>
                    <a:lnTo>
                      <a:pt x="63" y="266"/>
                    </a:lnTo>
                    <a:lnTo>
                      <a:pt x="68" y="281"/>
                    </a:lnTo>
                    <a:lnTo>
                      <a:pt x="77" y="294"/>
                    </a:lnTo>
                    <a:lnTo>
                      <a:pt x="91" y="305"/>
                    </a:lnTo>
                    <a:lnTo>
                      <a:pt x="111" y="314"/>
                    </a:lnTo>
                    <a:lnTo>
                      <a:pt x="141" y="303"/>
                    </a:lnTo>
                    <a:lnTo>
                      <a:pt x="153" y="288"/>
                    </a:lnTo>
                    <a:lnTo>
                      <a:pt x="189" y="265"/>
                    </a:lnTo>
                    <a:lnTo>
                      <a:pt x="225" y="270"/>
                    </a:lnTo>
                    <a:lnTo>
                      <a:pt x="246" y="295"/>
                    </a:lnTo>
                    <a:lnTo>
                      <a:pt x="266" y="295"/>
                    </a:lnTo>
                    <a:lnTo>
                      <a:pt x="289" y="293"/>
                    </a:lnTo>
                    <a:lnTo>
                      <a:pt x="305" y="306"/>
                    </a:lnTo>
                    <a:lnTo>
                      <a:pt x="321" y="325"/>
                    </a:lnTo>
                    <a:lnTo>
                      <a:pt x="334" y="306"/>
                    </a:lnTo>
                    <a:lnTo>
                      <a:pt x="338" y="286"/>
                    </a:lnTo>
                    <a:lnTo>
                      <a:pt x="348" y="308"/>
                    </a:lnTo>
                    <a:lnTo>
                      <a:pt x="366" y="319"/>
                    </a:lnTo>
                    <a:lnTo>
                      <a:pt x="384" y="317"/>
                    </a:lnTo>
                    <a:lnTo>
                      <a:pt x="399" y="311"/>
                    </a:lnTo>
                    <a:lnTo>
                      <a:pt x="409" y="303"/>
                    </a:lnTo>
                    <a:lnTo>
                      <a:pt x="415" y="293"/>
                    </a:lnTo>
                    <a:lnTo>
                      <a:pt x="420" y="280"/>
                    </a:lnTo>
                    <a:lnTo>
                      <a:pt x="424" y="265"/>
                    </a:lnTo>
                    <a:lnTo>
                      <a:pt x="425" y="251"/>
                    </a:lnTo>
                    <a:lnTo>
                      <a:pt x="427" y="234"/>
                    </a:lnTo>
                    <a:lnTo>
                      <a:pt x="509" y="178"/>
                    </a:lnTo>
                    <a:lnTo>
                      <a:pt x="434" y="200"/>
                    </a:lnTo>
                    <a:lnTo>
                      <a:pt x="382" y="228"/>
                    </a:lnTo>
                    <a:lnTo>
                      <a:pt x="382" y="201"/>
                    </a:lnTo>
                    <a:lnTo>
                      <a:pt x="417" y="154"/>
                    </a:lnTo>
                    <a:lnTo>
                      <a:pt x="437" y="131"/>
                    </a:lnTo>
                    <a:lnTo>
                      <a:pt x="388" y="162"/>
                    </a:lnTo>
                    <a:lnTo>
                      <a:pt x="336" y="189"/>
                    </a:lnTo>
                    <a:lnTo>
                      <a:pt x="341" y="165"/>
                    </a:lnTo>
                    <a:lnTo>
                      <a:pt x="351" y="139"/>
                    </a:lnTo>
                    <a:lnTo>
                      <a:pt x="365" y="112"/>
                    </a:lnTo>
                    <a:lnTo>
                      <a:pt x="379" y="85"/>
                    </a:lnTo>
                    <a:lnTo>
                      <a:pt x="390" y="60"/>
                    </a:lnTo>
                    <a:lnTo>
                      <a:pt x="396" y="36"/>
                    </a:lnTo>
                    <a:lnTo>
                      <a:pt x="392" y="16"/>
                    </a:lnTo>
                    <a:lnTo>
                      <a:pt x="379" y="0"/>
                    </a:lnTo>
                    <a:lnTo>
                      <a:pt x="342" y="66"/>
                    </a:lnTo>
                    <a:lnTo>
                      <a:pt x="342" y="98"/>
                    </a:lnTo>
                    <a:lnTo>
                      <a:pt x="285" y="143"/>
                    </a:lnTo>
                    <a:lnTo>
                      <a:pt x="266" y="116"/>
                    </a:lnTo>
                    <a:lnTo>
                      <a:pt x="255" y="92"/>
                    </a:lnTo>
                    <a:lnTo>
                      <a:pt x="244" y="116"/>
                    </a:lnTo>
                    <a:lnTo>
                      <a:pt x="223" y="131"/>
                    </a:lnTo>
                    <a:lnTo>
                      <a:pt x="221" y="104"/>
                    </a:lnTo>
                    <a:lnTo>
                      <a:pt x="209" y="88"/>
                    </a:lnTo>
                    <a:lnTo>
                      <a:pt x="189" y="77"/>
                    </a:lnTo>
                    <a:close/>
                  </a:path>
                </a:pathLst>
              </a:custGeom>
              <a:solidFill>
                <a:srgbClr val="fff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7"/>
              <p:cNvSpPr/>
              <p:nvPr/>
            </p:nvSpPr>
            <p:spPr>
              <a:xfrm>
                <a:off x="1393200" y="1042920"/>
                <a:ext cx="226080" cy="135000"/>
              </a:xfrm>
              <a:custGeom>
                <a:avLst/>
                <a:gdLst/>
                <a:ahLst/>
                <a:rect l="l" t="t" r="r" b="b"/>
                <a:pathLst>
                  <a:path w="750" h="870">
                    <a:moveTo>
                      <a:pt x="0" y="848"/>
                    </a:moveTo>
                    <a:lnTo>
                      <a:pt x="0" y="870"/>
                    </a:lnTo>
                    <a:lnTo>
                      <a:pt x="10" y="869"/>
                    </a:lnTo>
                    <a:lnTo>
                      <a:pt x="19" y="868"/>
                    </a:lnTo>
                    <a:lnTo>
                      <a:pt x="28" y="866"/>
                    </a:lnTo>
                    <a:lnTo>
                      <a:pt x="38" y="864"/>
                    </a:lnTo>
                    <a:lnTo>
                      <a:pt x="49" y="863"/>
                    </a:lnTo>
                    <a:lnTo>
                      <a:pt x="59" y="861"/>
                    </a:lnTo>
                    <a:lnTo>
                      <a:pt x="71" y="859"/>
                    </a:lnTo>
                    <a:lnTo>
                      <a:pt x="82" y="857"/>
                    </a:lnTo>
                    <a:lnTo>
                      <a:pt x="91" y="853"/>
                    </a:lnTo>
                    <a:lnTo>
                      <a:pt x="103" y="849"/>
                    </a:lnTo>
                    <a:lnTo>
                      <a:pt x="117" y="842"/>
                    </a:lnTo>
                    <a:lnTo>
                      <a:pt x="129" y="836"/>
                    </a:lnTo>
                    <a:lnTo>
                      <a:pt x="143" y="829"/>
                    </a:lnTo>
                    <a:lnTo>
                      <a:pt x="155" y="822"/>
                    </a:lnTo>
                    <a:lnTo>
                      <a:pt x="164" y="815"/>
                    </a:lnTo>
                    <a:lnTo>
                      <a:pt x="170" y="809"/>
                    </a:lnTo>
                    <a:lnTo>
                      <a:pt x="173" y="789"/>
                    </a:lnTo>
                    <a:lnTo>
                      <a:pt x="177" y="769"/>
                    </a:lnTo>
                    <a:lnTo>
                      <a:pt x="175" y="751"/>
                    </a:lnTo>
                    <a:lnTo>
                      <a:pt x="164" y="737"/>
                    </a:lnTo>
                    <a:lnTo>
                      <a:pt x="165" y="728"/>
                    </a:lnTo>
                    <a:lnTo>
                      <a:pt x="167" y="724"/>
                    </a:lnTo>
                    <a:lnTo>
                      <a:pt x="168" y="720"/>
                    </a:lnTo>
                    <a:lnTo>
                      <a:pt x="165" y="707"/>
                    </a:lnTo>
                    <a:lnTo>
                      <a:pt x="168" y="714"/>
                    </a:lnTo>
                    <a:lnTo>
                      <a:pt x="175" y="718"/>
                    </a:lnTo>
                    <a:lnTo>
                      <a:pt x="185" y="720"/>
                    </a:lnTo>
                    <a:lnTo>
                      <a:pt x="194" y="720"/>
                    </a:lnTo>
                    <a:lnTo>
                      <a:pt x="203" y="719"/>
                    </a:lnTo>
                    <a:lnTo>
                      <a:pt x="212" y="717"/>
                    </a:lnTo>
                    <a:lnTo>
                      <a:pt x="218" y="715"/>
                    </a:lnTo>
                    <a:lnTo>
                      <a:pt x="220" y="714"/>
                    </a:lnTo>
                    <a:lnTo>
                      <a:pt x="231" y="712"/>
                    </a:lnTo>
                    <a:lnTo>
                      <a:pt x="234" y="692"/>
                    </a:lnTo>
                    <a:lnTo>
                      <a:pt x="235" y="667"/>
                    </a:lnTo>
                    <a:lnTo>
                      <a:pt x="238" y="653"/>
                    </a:lnTo>
                    <a:lnTo>
                      <a:pt x="251" y="680"/>
                    </a:lnTo>
                    <a:lnTo>
                      <a:pt x="263" y="698"/>
                    </a:lnTo>
                    <a:lnTo>
                      <a:pt x="273" y="710"/>
                    </a:lnTo>
                    <a:lnTo>
                      <a:pt x="281" y="717"/>
                    </a:lnTo>
                    <a:lnTo>
                      <a:pt x="288" y="722"/>
                    </a:lnTo>
                    <a:lnTo>
                      <a:pt x="293" y="727"/>
                    </a:lnTo>
                    <a:lnTo>
                      <a:pt x="296" y="732"/>
                    </a:lnTo>
                    <a:lnTo>
                      <a:pt x="297" y="739"/>
                    </a:lnTo>
                    <a:lnTo>
                      <a:pt x="304" y="748"/>
                    </a:lnTo>
                    <a:lnTo>
                      <a:pt x="312" y="759"/>
                    </a:lnTo>
                    <a:lnTo>
                      <a:pt x="323" y="769"/>
                    </a:lnTo>
                    <a:lnTo>
                      <a:pt x="334" y="778"/>
                    </a:lnTo>
                    <a:lnTo>
                      <a:pt x="347" y="784"/>
                    </a:lnTo>
                    <a:lnTo>
                      <a:pt x="360" y="785"/>
                    </a:lnTo>
                    <a:lnTo>
                      <a:pt x="371" y="782"/>
                    </a:lnTo>
                    <a:lnTo>
                      <a:pt x="383" y="771"/>
                    </a:lnTo>
                    <a:lnTo>
                      <a:pt x="399" y="755"/>
                    </a:lnTo>
                    <a:lnTo>
                      <a:pt x="411" y="736"/>
                    </a:lnTo>
                    <a:lnTo>
                      <a:pt x="421" y="715"/>
                    </a:lnTo>
                    <a:lnTo>
                      <a:pt x="426" y="692"/>
                    </a:lnTo>
                    <a:lnTo>
                      <a:pt x="431" y="669"/>
                    </a:lnTo>
                    <a:lnTo>
                      <a:pt x="432" y="646"/>
                    </a:lnTo>
                    <a:lnTo>
                      <a:pt x="432" y="623"/>
                    </a:lnTo>
                    <a:lnTo>
                      <a:pt x="431" y="601"/>
                    </a:lnTo>
                    <a:lnTo>
                      <a:pt x="429" y="599"/>
                    </a:lnTo>
                    <a:lnTo>
                      <a:pt x="429" y="592"/>
                    </a:lnTo>
                    <a:lnTo>
                      <a:pt x="426" y="581"/>
                    </a:lnTo>
                    <a:lnTo>
                      <a:pt x="415" y="569"/>
                    </a:lnTo>
                    <a:lnTo>
                      <a:pt x="431" y="581"/>
                    </a:lnTo>
                    <a:lnTo>
                      <a:pt x="448" y="591"/>
                    </a:lnTo>
                    <a:lnTo>
                      <a:pt x="467" y="599"/>
                    </a:lnTo>
                    <a:lnTo>
                      <a:pt x="484" y="605"/>
                    </a:lnTo>
                    <a:lnTo>
                      <a:pt x="501" y="612"/>
                    </a:lnTo>
                    <a:lnTo>
                      <a:pt x="516" y="617"/>
                    </a:lnTo>
                    <a:lnTo>
                      <a:pt x="529" y="622"/>
                    </a:lnTo>
                    <a:lnTo>
                      <a:pt x="539" y="628"/>
                    </a:lnTo>
                    <a:lnTo>
                      <a:pt x="546" y="630"/>
                    </a:lnTo>
                    <a:lnTo>
                      <a:pt x="554" y="635"/>
                    </a:lnTo>
                    <a:lnTo>
                      <a:pt x="563" y="639"/>
                    </a:lnTo>
                    <a:lnTo>
                      <a:pt x="573" y="644"/>
                    </a:lnTo>
                    <a:lnTo>
                      <a:pt x="583" y="650"/>
                    </a:lnTo>
                    <a:lnTo>
                      <a:pt x="593" y="655"/>
                    </a:lnTo>
                    <a:lnTo>
                      <a:pt x="605" y="662"/>
                    </a:lnTo>
                    <a:lnTo>
                      <a:pt x="618" y="667"/>
                    </a:lnTo>
                    <a:lnTo>
                      <a:pt x="636" y="671"/>
                    </a:lnTo>
                    <a:lnTo>
                      <a:pt x="652" y="674"/>
                    </a:lnTo>
                    <a:lnTo>
                      <a:pt x="668" y="676"/>
                    </a:lnTo>
                    <a:lnTo>
                      <a:pt x="683" y="678"/>
                    </a:lnTo>
                    <a:lnTo>
                      <a:pt x="699" y="680"/>
                    </a:lnTo>
                    <a:lnTo>
                      <a:pt x="714" y="681"/>
                    </a:lnTo>
                    <a:lnTo>
                      <a:pt x="732" y="681"/>
                    </a:lnTo>
                    <a:lnTo>
                      <a:pt x="749" y="681"/>
                    </a:lnTo>
                    <a:lnTo>
                      <a:pt x="750" y="675"/>
                    </a:lnTo>
                    <a:lnTo>
                      <a:pt x="750" y="671"/>
                    </a:lnTo>
                    <a:lnTo>
                      <a:pt x="750" y="666"/>
                    </a:lnTo>
                    <a:lnTo>
                      <a:pt x="750" y="662"/>
                    </a:lnTo>
                    <a:lnTo>
                      <a:pt x="735" y="634"/>
                    </a:lnTo>
                    <a:lnTo>
                      <a:pt x="722" y="608"/>
                    </a:lnTo>
                    <a:lnTo>
                      <a:pt x="709" y="586"/>
                    </a:lnTo>
                    <a:lnTo>
                      <a:pt x="695" y="566"/>
                    </a:lnTo>
                    <a:lnTo>
                      <a:pt x="680" y="546"/>
                    </a:lnTo>
                    <a:lnTo>
                      <a:pt x="664" y="527"/>
                    </a:lnTo>
                    <a:lnTo>
                      <a:pt x="644" y="507"/>
                    </a:lnTo>
                    <a:lnTo>
                      <a:pt x="622" y="486"/>
                    </a:lnTo>
                    <a:lnTo>
                      <a:pt x="616" y="485"/>
                    </a:lnTo>
                    <a:lnTo>
                      <a:pt x="611" y="484"/>
                    </a:lnTo>
                    <a:lnTo>
                      <a:pt x="605" y="483"/>
                    </a:lnTo>
                    <a:lnTo>
                      <a:pt x="599" y="483"/>
                    </a:lnTo>
                    <a:lnTo>
                      <a:pt x="590" y="478"/>
                    </a:lnTo>
                    <a:lnTo>
                      <a:pt x="582" y="473"/>
                    </a:lnTo>
                    <a:lnTo>
                      <a:pt x="573" y="469"/>
                    </a:lnTo>
                    <a:lnTo>
                      <a:pt x="565" y="463"/>
                    </a:lnTo>
                    <a:lnTo>
                      <a:pt x="555" y="459"/>
                    </a:lnTo>
                    <a:lnTo>
                      <a:pt x="546" y="454"/>
                    </a:lnTo>
                    <a:lnTo>
                      <a:pt x="538" y="450"/>
                    </a:lnTo>
                    <a:lnTo>
                      <a:pt x="529" y="446"/>
                    </a:lnTo>
                    <a:lnTo>
                      <a:pt x="502" y="416"/>
                    </a:lnTo>
                    <a:lnTo>
                      <a:pt x="475" y="387"/>
                    </a:lnTo>
                    <a:lnTo>
                      <a:pt x="446" y="359"/>
                    </a:lnTo>
                    <a:lnTo>
                      <a:pt x="417" y="331"/>
                    </a:lnTo>
                    <a:lnTo>
                      <a:pt x="386" y="302"/>
                    </a:lnTo>
                    <a:lnTo>
                      <a:pt x="356" y="275"/>
                    </a:lnTo>
                    <a:lnTo>
                      <a:pt x="324" y="249"/>
                    </a:lnTo>
                    <a:lnTo>
                      <a:pt x="293" y="223"/>
                    </a:lnTo>
                    <a:lnTo>
                      <a:pt x="259" y="197"/>
                    </a:lnTo>
                    <a:lnTo>
                      <a:pt x="227" y="172"/>
                    </a:lnTo>
                    <a:lnTo>
                      <a:pt x="194" y="147"/>
                    </a:lnTo>
                    <a:lnTo>
                      <a:pt x="162" y="122"/>
                    </a:lnTo>
                    <a:lnTo>
                      <a:pt x="128" y="98"/>
                    </a:lnTo>
                    <a:lnTo>
                      <a:pt x="95" y="74"/>
                    </a:lnTo>
                    <a:lnTo>
                      <a:pt x="61" y="50"/>
                    </a:lnTo>
                    <a:lnTo>
                      <a:pt x="28" y="27"/>
                    </a:lnTo>
                    <a:lnTo>
                      <a:pt x="21" y="19"/>
                    </a:lnTo>
                    <a:lnTo>
                      <a:pt x="14" y="13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757"/>
                    </a:lnTo>
                    <a:lnTo>
                      <a:pt x="8" y="764"/>
                    </a:lnTo>
                    <a:lnTo>
                      <a:pt x="15" y="770"/>
                    </a:lnTo>
                    <a:lnTo>
                      <a:pt x="22" y="776"/>
                    </a:lnTo>
                    <a:lnTo>
                      <a:pt x="29" y="780"/>
                    </a:lnTo>
                    <a:lnTo>
                      <a:pt x="35" y="784"/>
                    </a:lnTo>
                    <a:lnTo>
                      <a:pt x="38" y="786"/>
                    </a:lnTo>
                    <a:lnTo>
                      <a:pt x="42" y="787"/>
                    </a:lnTo>
                    <a:lnTo>
                      <a:pt x="43" y="787"/>
                    </a:lnTo>
                    <a:lnTo>
                      <a:pt x="44" y="777"/>
                    </a:lnTo>
                    <a:lnTo>
                      <a:pt x="45" y="759"/>
                    </a:lnTo>
                    <a:lnTo>
                      <a:pt x="46" y="740"/>
                    </a:lnTo>
                    <a:lnTo>
                      <a:pt x="48" y="731"/>
                    </a:lnTo>
                    <a:lnTo>
                      <a:pt x="60" y="731"/>
                    </a:lnTo>
                    <a:lnTo>
                      <a:pt x="72" y="731"/>
                    </a:lnTo>
                    <a:lnTo>
                      <a:pt x="83" y="731"/>
                    </a:lnTo>
                    <a:lnTo>
                      <a:pt x="95" y="731"/>
                    </a:lnTo>
                    <a:lnTo>
                      <a:pt x="106" y="732"/>
                    </a:lnTo>
                    <a:lnTo>
                      <a:pt x="117" y="733"/>
                    </a:lnTo>
                    <a:lnTo>
                      <a:pt x="128" y="736"/>
                    </a:lnTo>
                    <a:lnTo>
                      <a:pt x="141" y="741"/>
                    </a:lnTo>
                    <a:lnTo>
                      <a:pt x="142" y="767"/>
                    </a:lnTo>
                    <a:lnTo>
                      <a:pt x="137" y="787"/>
                    </a:lnTo>
                    <a:lnTo>
                      <a:pt x="129" y="803"/>
                    </a:lnTo>
                    <a:lnTo>
                      <a:pt x="119" y="814"/>
                    </a:lnTo>
                    <a:lnTo>
                      <a:pt x="104" y="824"/>
                    </a:lnTo>
                    <a:lnTo>
                      <a:pt x="88" y="831"/>
                    </a:lnTo>
                    <a:lnTo>
                      <a:pt x="69" y="837"/>
                    </a:lnTo>
                    <a:lnTo>
                      <a:pt x="51" y="845"/>
                    </a:lnTo>
                    <a:lnTo>
                      <a:pt x="46" y="845"/>
                    </a:lnTo>
                    <a:lnTo>
                      <a:pt x="42" y="846"/>
                    </a:lnTo>
                    <a:lnTo>
                      <a:pt x="36" y="846"/>
                    </a:lnTo>
                    <a:lnTo>
                      <a:pt x="29" y="847"/>
                    </a:lnTo>
                    <a:lnTo>
                      <a:pt x="22" y="847"/>
                    </a:lnTo>
                    <a:lnTo>
                      <a:pt x="15" y="848"/>
                    </a:lnTo>
                    <a:lnTo>
                      <a:pt x="8" y="848"/>
                    </a:lnTo>
                    <a:lnTo>
                      <a:pt x="0" y="848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8"/>
              <p:cNvSpPr/>
              <p:nvPr/>
            </p:nvSpPr>
            <p:spPr>
              <a:xfrm>
                <a:off x="975600" y="995040"/>
                <a:ext cx="417240" cy="196200"/>
              </a:xfrm>
              <a:custGeom>
                <a:avLst/>
                <a:gdLst/>
                <a:ahLst/>
                <a:rect l="l" t="t" r="r" b="b"/>
                <a:pathLst>
                  <a:path w="1384" h="1258">
                    <a:moveTo>
                      <a:pt x="1384" y="1065"/>
                    </a:moveTo>
                    <a:lnTo>
                      <a:pt x="1384" y="308"/>
                    </a:lnTo>
                    <a:lnTo>
                      <a:pt x="1381" y="305"/>
                    </a:lnTo>
                    <a:lnTo>
                      <a:pt x="1377" y="302"/>
                    </a:lnTo>
                    <a:lnTo>
                      <a:pt x="1374" y="299"/>
                    </a:lnTo>
                    <a:lnTo>
                      <a:pt x="1371" y="296"/>
                    </a:lnTo>
                    <a:lnTo>
                      <a:pt x="1364" y="289"/>
                    </a:lnTo>
                    <a:lnTo>
                      <a:pt x="1356" y="281"/>
                    </a:lnTo>
                    <a:lnTo>
                      <a:pt x="1349" y="276"/>
                    </a:lnTo>
                    <a:lnTo>
                      <a:pt x="1341" y="271"/>
                    </a:lnTo>
                    <a:lnTo>
                      <a:pt x="1333" y="265"/>
                    </a:lnTo>
                    <a:lnTo>
                      <a:pt x="1326" y="259"/>
                    </a:lnTo>
                    <a:lnTo>
                      <a:pt x="1319" y="253"/>
                    </a:lnTo>
                    <a:lnTo>
                      <a:pt x="1313" y="246"/>
                    </a:lnTo>
                    <a:lnTo>
                      <a:pt x="1308" y="238"/>
                    </a:lnTo>
                    <a:lnTo>
                      <a:pt x="1304" y="229"/>
                    </a:lnTo>
                    <a:lnTo>
                      <a:pt x="1300" y="222"/>
                    </a:lnTo>
                    <a:lnTo>
                      <a:pt x="1296" y="214"/>
                    </a:lnTo>
                    <a:lnTo>
                      <a:pt x="1291" y="207"/>
                    </a:lnTo>
                    <a:lnTo>
                      <a:pt x="1285" y="200"/>
                    </a:lnTo>
                    <a:lnTo>
                      <a:pt x="1278" y="194"/>
                    </a:lnTo>
                    <a:lnTo>
                      <a:pt x="1270" y="188"/>
                    </a:lnTo>
                    <a:lnTo>
                      <a:pt x="1260" y="187"/>
                    </a:lnTo>
                    <a:lnTo>
                      <a:pt x="1250" y="186"/>
                    </a:lnTo>
                    <a:lnTo>
                      <a:pt x="1239" y="187"/>
                    </a:lnTo>
                    <a:lnTo>
                      <a:pt x="1230" y="188"/>
                    </a:lnTo>
                    <a:lnTo>
                      <a:pt x="1221" y="192"/>
                    </a:lnTo>
                    <a:lnTo>
                      <a:pt x="1213" y="196"/>
                    </a:lnTo>
                    <a:lnTo>
                      <a:pt x="1206" y="203"/>
                    </a:lnTo>
                    <a:lnTo>
                      <a:pt x="1199" y="211"/>
                    </a:lnTo>
                    <a:lnTo>
                      <a:pt x="1190" y="206"/>
                    </a:lnTo>
                    <a:lnTo>
                      <a:pt x="1182" y="197"/>
                    </a:lnTo>
                    <a:lnTo>
                      <a:pt x="1174" y="186"/>
                    </a:lnTo>
                    <a:lnTo>
                      <a:pt x="1166" y="174"/>
                    </a:lnTo>
                    <a:lnTo>
                      <a:pt x="1159" y="161"/>
                    </a:lnTo>
                    <a:lnTo>
                      <a:pt x="1153" y="149"/>
                    </a:lnTo>
                    <a:lnTo>
                      <a:pt x="1147" y="136"/>
                    </a:lnTo>
                    <a:lnTo>
                      <a:pt x="1144" y="126"/>
                    </a:lnTo>
                    <a:lnTo>
                      <a:pt x="1136" y="127"/>
                    </a:lnTo>
                    <a:lnTo>
                      <a:pt x="1128" y="128"/>
                    </a:lnTo>
                    <a:lnTo>
                      <a:pt x="1119" y="128"/>
                    </a:lnTo>
                    <a:lnTo>
                      <a:pt x="1113" y="129"/>
                    </a:lnTo>
                    <a:lnTo>
                      <a:pt x="1106" y="130"/>
                    </a:lnTo>
                    <a:lnTo>
                      <a:pt x="1098" y="131"/>
                    </a:lnTo>
                    <a:lnTo>
                      <a:pt x="1091" y="133"/>
                    </a:lnTo>
                    <a:lnTo>
                      <a:pt x="1083" y="136"/>
                    </a:lnTo>
                    <a:lnTo>
                      <a:pt x="1079" y="138"/>
                    </a:lnTo>
                    <a:lnTo>
                      <a:pt x="1076" y="138"/>
                    </a:lnTo>
                    <a:lnTo>
                      <a:pt x="1070" y="138"/>
                    </a:lnTo>
                    <a:lnTo>
                      <a:pt x="1063" y="140"/>
                    </a:lnTo>
                    <a:lnTo>
                      <a:pt x="1058" y="132"/>
                    </a:lnTo>
                    <a:lnTo>
                      <a:pt x="1056" y="128"/>
                    </a:lnTo>
                    <a:lnTo>
                      <a:pt x="1055" y="125"/>
                    </a:lnTo>
                    <a:lnTo>
                      <a:pt x="1056" y="120"/>
                    </a:lnTo>
                    <a:lnTo>
                      <a:pt x="1071" y="102"/>
                    </a:lnTo>
                    <a:lnTo>
                      <a:pt x="1078" y="88"/>
                    </a:lnTo>
                    <a:lnTo>
                      <a:pt x="1079" y="77"/>
                    </a:lnTo>
                    <a:lnTo>
                      <a:pt x="1079" y="69"/>
                    </a:lnTo>
                    <a:lnTo>
                      <a:pt x="1072" y="59"/>
                    </a:lnTo>
                    <a:lnTo>
                      <a:pt x="1062" y="48"/>
                    </a:lnTo>
                    <a:lnTo>
                      <a:pt x="1049" y="39"/>
                    </a:lnTo>
                    <a:lnTo>
                      <a:pt x="1033" y="31"/>
                    </a:lnTo>
                    <a:lnTo>
                      <a:pt x="1016" y="23"/>
                    </a:lnTo>
                    <a:lnTo>
                      <a:pt x="999" y="15"/>
                    </a:lnTo>
                    <a:lnTo>
                      <a:pt x="981" y="8"/>
                    </a:lnTo>
                    <a:lnTo>
                      <a:pt x="964" y="0"/>
                    </a:lnTo>
                    <a:lnTo>
                      <a:pt x="959" y="0"/>
                    </a:lnTo>
                    <a:lnTo>
                      <a:pt x="955" y="0"/>
                    </a:lnTo>
                    <a:lnTo>
                      <a:pt x="950" y="0"/>
                    </a:lnTo>
                    <a:lnTo>
                      <a:pt x="946" y="0"/>
                    </a:lnTo>
                    <a:lnTo>
                      <a:pt x="941" y="0"/>
                    </a:lnTo>
                    <a:lnTo>
                      <a:pt x="936" y="1"/>
                    </a:lnTo>
                    <a:lnTo>
                      <a:pt x="932" y="1"/>
                    </a:lnTo>
                    <a:lnTo>
                      <a:pt x="928" y="1"/>
                    </a:lnTo>
                    <a:lnTo>
                      <a:pt x="910" y="30"/>
                    </a:lnTo>
                    <a:lnTo>
                      <a:pt x="890" y="60"/>
                    </a:lnTo>
                    <a:lnTo>
                      <a:pt x="872" y="90"/>
                    </a:lnTo>
                    <a:lnTo>
                      <a:pt x="852" y="122"/>
                    </a:lnTo>
                    <a:lnTo>
                      <a:pt x="833" y="152"/>
                    </a:lnTo>
                    <a:lnTo>
                      <a:pt x="812" y="182"/>
                    </a:lnTo>
                    <a:lnTo>
                      <a:pt x="791" y="211"/>
                    </a:lnTo>
                    <a:lnTo>
                      <a:pt x="771" y="239"/>
                    </a:lnTo>
                    <a:lnTo>
                      <a:pt x="818" y="171"/>
                    </a:lnTo>
                    <a:lnTo>
                      <a:pt x="821" y="164"/>
                    </a:lnTo>
                    <a:lnTo>
                      <a:pt x="828" y="155"/>
                    </a:lnTo>
                    <a:lnTo>
                      <a:pt x="833" y="146"/>
                    </a:lnTo>
                    <a:lnTo>
                      <a:pt x="832" y="137"/>
                    </a:lnTo>
                    <a:lnTo>
                      <a:pt x="827" y="141"/>
                    </a:lnTo>
                    <a:lnTo>
                      <a:pt x="818" y="147"/>
                    </a:lnTo>
                    <a:lnTo>
                      <a:pt x="807" y="152"/>
                    </a:lnTo>
                    <a:lnTo>
                      <a:pt x="803" y="155"/>
                    </a:lnTo>
                    <a:lnTo>
                      <a:pt x="775" y="172"/>
                    </a:lnTo>
                    <a:lnTo>
                      <a:pt x="745" y="191"/>
                    </a:lnTo>
                    <a:lnTo>
                      <a:pt x="715" y="209"/>
                    </a:lnTo>
                    <a:lnTo>
                      <a:pt x="684" y="229"/>
                    </a:lnTo>
                    <a:lnTo>
                      <a:pt x="653" y="250"/>
                    </a:lnTo>
                    <a:lnTo>
                      <a:pt x="622" y="271"/>
                    </a:lnTo>
                    <a:lnTo>
                      <a:pt x="590" y="293"/>
                    </a:lnTo>
                    <a:lnTo>
                      <a:pt x="559" y="316"/>
                    </a:lnTo>
                    <a:lnTo>
                      <a:pt x="528" y="339"/>
                    </a:lnTo>
                    <a:lnTo>
                      <a:pt x="498" y="362"/>
                    </a:lnTo>
                    <a:lnTo>
                      <a:pt x="468" y="385"/>
                    </a:lnTo>
                    <a:lnTo>
                      <a:pt x="439" y="409"/>
                    </a:lnTo>
                    <a:lnTo>
                      <a:pt x="412" y="433"/>
                    </a:lnTo>
                    <a:lnTo>
                      <a:pt x="387" y="457"/>
                    </a:lnTo>
                    <a:lnTo>
                      <a:pt x="363" y="481"/>
                    </a:lnTo>
                    <a:lnTo>
                      <a:pt x="341" y="505"/>
                    </a:lnTo>
                    <a:lnTo>
                      <a:pt x="335" y="514"/>
                    </a:lnTo>
                    <a:lnTo>
                      <a:pt x="326" y="525"/>
                    </a:lnTo>
                    <a:lnTo>
                      <a:pt x="317" y="535"/>
                    </a:lnTo>
                    <a:lnTo>
                      <a:pt x="312" y="544"/>
                    </a:lnTo>
                    <a:lnTo>
                      <a:pt x="293" y="555"/>
                    </a:lnTo>
                    <a:lnTo>
                      <a:pt x="274" y="567"/>
                    </a:lnTo>
                    <a:lnTo>
                      <a:pt x="255" y="579"/>
                    </a:lnTo>
                    <a:lnTo>
                      <a:pt x="236" y="593"/>
                    </a:lnTo>
                    <a:lnTo>
                      <a:pt x="219" y="606"/>
                    </a:lnTo>
                    <a:lnTo>
                      <a:pt x="201" y="620"/>
                    </a:lnTo>
                    <a:lnTo>
                      <a:pt x="183" y="633"/>
                    </a:lnTo>
                    <a:lnTo>
                      <a:pt x="165" y="648"/>
                    </a:lnTo>
                    <a:lnTo>
                      <a:pt x="148" y="662"/>
                    </a:lnTo>
                    <a:lnTo>
                      <a:pt x="130" y="676"/>
                    </a:lnTo>
                    <a:lnTo>
                      <a:pt x="113" y="690"/>
                    </a:lnTo>
                    <a:lnTo>
                      <a:pt x="95" y="704"/>
                    </a:lnTo>
                    <a:lnTo>
                      <a:pt x="77" y="718"/>
                    </a:lnTo>
                    <a:lnTo>
                      <a:pt x="59" y="732"/>
                    </a:lnTo>
                    <a:lnTo>
                      <a:pt x="42" y="744"/>
                    </a:lnTo>
                    <a:lnTo>
                      <a:pt x="23" y="757"/>
                    </a:lnTo>
                    <a:lnTo>
                      <a:pt x="8" y="775"/>
                    </a:lnTo>
                    <a:lnTo>
                      <a:pt x="2" y="785"/>
                    </a:lnTo>
                    <a:lnTo>
                      <a:pt x="2" y="791"/>
                    </a:lnTo>
                    <a:lnTo>
                      <a:pt x="1" y="798"/>
                    </a:lnTo>
                    <a:lnTo>
                      <a:pt x="0" y="830"/>
                    </a:lnTo>
                    <a:lnTo>
                      <a:pt x="1" y="862"/>
                    </a:lnTo>
                    <a:lnTo>
                      <a:pt x="4" y="894"/>
                    </a:lnTo>
                    <a:lnTo>
                      <a:pt x="12" y="923"/>
                    </a:lnTo>
                    <a:lnTo>
                      <a:pt x="26" y="947"/>
                    </a:lnTo>
                    <a:lnTo>
                      <a:pt x="46" y="965"/>
                    </a:lnTo>
                    <a:lnTo>
                      <a:pt x="77" y="974"/>
                    </a:lnTo>
                    <a:lnTo>
                      <a:pt x="119" y="975"/>
                    </a:lnTo>
                    <a:lnTo>
                      <a:pt x="129" y="973"/>
                    </a:lnTo>
                    <a:lnTo>
                      <a:pt x="142" y="967"/>
                    </a:lnTo>
                    <a:lnTo>
                      <a:pt x="156" y="955"/>
                    </a:lnTo>
                    <a:lnTo>
                      <a:pt x="171" y="942"/>
                    </a:lnTo>
                    <a:lnTo>
                      <a:pt x="187" y="927"/>
                    </a:lnTo>
                    <a:lnTo>
                      <a:pt x="203" y="912"/>
                    </a:lnTo>
                    <a:lnTo>
                      <a:pt x="219" y="900"/>
                    </a:lnTo>
                    <a:lnTo>
                      <a:pt x="235" y="889"/>
                    </a:lnTo>
                    <a:lnTo>
                      <a:pt x="228" y="899"/>
                    </a:lnTo>
                    <a:lnTo>
                      <a:pt x="221" y="906"/>
                    </a:lnTo>
                    <a:lnTo>
                      <a:pt x="216" y="914"/>
                    </a:lnTo>
                    <a:lnTo>
                      <a:pt x="211" y="922"/>
                    </a:lnTo>
                    <a:lnTo>
                      <a:pt x="205" y="929"/>
                    </a:lnTo>
                    <a:lnTo>
                      <a:pt x="202" y="937"/>
                    </a:lnTo>
                    <a:lnTo>
                      <a:pt x="197" y="947"/>
                    </a:lnTo>
                    <a:lnTo>
                      <a:pt x="194" y="957"/>
                    </a:lnTo>
                    <a:lnTo>
                      <a:pt x="188" y="962"/>
                    </a:lnTo>
                    <a:lnTo>
                      <a:pt x="183" y="968"/>
                    </a:lnTo>
                    <a:lnTo>
                      <a:pt x="180" y="973"/>
                    </a:lnTo>
                    <a:lnTo>
                      <a:pt x="175" y="977"/>
                    </a:lnTo>
                    <a:lnTo>
                      <a:pt x="172" y="983"/>
                    </a:lnTo>
                    <a:lnTo>
                      <a:pt x="168" y="989"/>
                    </a:lnTo>
                    <a:lnTo>
                      <a:pt x="164" y="995"/>
                    </a:lnTo>
                    <a:lnTo>
                      <a:pt x="159" y="1001"/>
                    </a:lnTo>
                    <a:lnTo>
                      <a:pt x="159" y="1017"/>
                    </a:lnTo>
                    <a:lnTo>
                      <a:pt x="159" y="1031"/>
                    </a:lnTo>
                    <a:lnTo>
                      <a:pt x="159" y="1046"/>
                    </a:lnTo>
                    <a:lnTo>
                      <a:pt x="159" y="1061"/>
                    </a:lnTo>
                    <a:lnTo>
                      <a:pt x="164" y="1069"/>
                    </a:lnTo>
                    <a:lnTo>
                      <a:pt x="167" y="1080"/>
                    </a:lnTo>
                    <a:lnTo>
                      <a:pt x="169" y="1093"/>
                    </a:lnTo>
                    <a:lnTo>
                      <a:pt x="174" y="1106"/>
                    </a:lnTo>
                    <a:lnTo>
                      <a:pt x="195" y="1130"/>
                    </a:lnTo>
                    <a:lnTo>
                      <a:pt x="210" y="1148"/>
                    </a:lnTo>
                    <a:lnTo>
                      <a:pt x="224" y="1164"/>
                    </a:lnTo>
                    <a:lnTo>
                      <a:pt x="237" y="1176"/>
                    </a:lnTo>
                    <a:lnTo>
                      <a:pt x="254" y="1183"/>
                    </a:lnTo>
                    <a:lnTo>
                      <a:pt x="274" y="1188"/>
                    </a:lnTo>
                    <a:lnTo>
                      <a:pt x="303" y="1191"/>
                    </a:lnTo>
                    <a:lnTo>
                      <a:pt x="341" y="1192"/>
                    </a:lnTo>
                    <a:lnTo>
                      <a:pt x="350" y="1190"/>
                    </a:lnTo>
                    <a:lnTo>
                      <a:pt x="358" y="1187"/>
                    </a:lnTo>
                    <a:lnTo>
                      <a:pt x="368" y="1184"/>
                    </a:lnTo>
                    <a:lnTo>
                      <a:pt x="377" y="1181"/>
                    </a:lnTo>
                    <a:lnTo>
                      <a:pt x="385" y="1178"/>
                    </a:lnTo>
                    <a:lnTo>
                      <a:pt x="394" y="1174"/>
                    </a:lnTo>
                    <a:lnTo>
                      <a:pt x="402" y="1172"/>
                    </a:lnTo>
                    <a:lnTo>
                      <a:pt x="411" y="1171"/>
                    </a:lnTo>
                    <a:lnTo>
                      <a:pt x="433" y="1141"/>
                    </a:lnTo>
                    <a:lnTo>
                      <a:pt x="454" y="1110"/>
                    </a:lnTo>
                    <a:lnTo>
                      <a:pt x="473" y="1076"/>
                    </a:lnTo>
                    <a:lnTo>
                      <a:pt x="492" y="1044"/>
                    </a:lnTo>
                    <a:lnTo>
                      <a:pt x="510" y="1012"/>
                    </a:lnTo>
                    <a:lnTo>
                      <a:pt x="529" y="979"/>
                    </a:lnTo>
                    <a:lnTo>
                      <a:pt x="547" y="948"/>
                    </a:lnTo>
                    <a:lnTo>
                      <a:pt x="567" y="918"/>
                    </a:lnTo>
                    <a:lnTo>
                      <a:pt x="559" y="945"/>
                    </a:lnTo>
                    <a:lnTo>
                      <a:pt x="549" y="966"/>
                    </a:lnTo>
                    <a:lnTo>
                      <a:pt x="539" y="983"/>
                    </a:lnTo>
                    <a:lnTo>
                      <a:pt x="529" y="998"/>
                    </a:lnTo>
                    <a:lnTo>
                      <a:pt x="520" y="1013"/>
                    </a:lnTo>
                    <a:lnTo>
                      <a:pt x="513" y="1025"/>
                    </a:lnTo>
                    <a:lnTo>
                      <a:pt x="508" y="1041"/>
                    </a:lnTo>
                    <a:lnTo>
                      <a:pt x="508" y="1057"/>
                    </a:lnTo>
                    <a:lnTo>
                      <a:pt x="514" y="1065"/>
                    </a:lnTo>
                    <a:lnTo>
                      <a:pt x="525" y="1085"/>
                    </a:lnTo>
                    <a:lnTo>
                      <a:pt x="543" y="1113"/>
                    </a:lnTo>
                    <a:lnTo>
                      <a:pt x="562" y="1145"/>
                    </a:lnTo>
                    <a:lnTo>
                      <a:pt x="582" y="1178"/>
                    </a:lnTo>
                    <a:lnTo>
                      <a:pt x="599" y="1207"/>
                    </a:lnTo>
                    <a:lnTo>
                      <a:pt x="612" y="1230"/>
                    </a:lnTo>
                    <a:lnTo>
                      <a:pt x="619" y="1240"/>
                    </a:lnTo>
                    <a:lnTo>
                      <a:pt x="642" y="1240"/>
                    </a:lnTo>
                    <a:lnTo>
                      <a:pt x="661" y="1234"/>
                    </a:lnTo>
                    <a:lnTo>
                      <a:pt x="677" y="1221"/>
                    </a:lnTo>
                    <a:lnTo>
                      <a:pt x="691" y="1206"/>
                    </a:lnTo>
                    <a:lnTo>
                      <a:pt x="703" y="1188"/>
                    </a:lnTo>
                    <a:lnTo>
                      <a:pt x="714" y="1168"/>
                    </a:lnTo>
                    <a:lnTo>
                      <a:pt x="725" y="1149"/>
                    </a:lnTo>
                    <a:lnTo>
                      <a:pt x="736" y="1133"/>
                    </a:lnTo>
                    <a:lnTo>
                      <a:pt x="749" y="1098"/>
                    </a:lnTo>
                    <a:lnTo>
                      <a:pt x="761" y="1064"/>
                    </a:lnTo>
                    <a:lnTo>
                      <a:pt x="774" y="1028"/>
                    </a:lnTo>
                    <a:lnTo>
                      <a:pt x="788" y="993"/>
                    </a:lnTo>
                    <a:lnTo>
                      <a:pt x="801" y="957"/>
                    </a:lnTo>
                    <a:lnTo>
                      <a:pt x="813" y="922"/>
                    </a:lnTo>
                    <a:lnTo>
                      <a:pt x="826" y="887"/>
                    </a:lnTo>
                    <a:lnTo>
                      <a:pt x="837" y="853"/>
                    </a:lnTo>
                    <a:lnTo>
                      <a:pt x="841" y="853"/>
                    </a:lnTo>
                    <a:lnTo>
                      <a:pt x="843" y="853"/>
                    </a:lnTo>
                    <a:lnTo>
                      <a:pt x="847" y="853"/>
                    </a:lnTo>
                    <a:lnTo>
                      <a:pt x="849" y="853"/>
                    </a:lnTo>
                    <a:lnTo>
                      <a:pt x="839" y="910"/>
                    </a:lnTo>
                    <a:lnTo>
                      <a:pt x="832" y="972"/>
                    </a:lnTo>
                    <a:lnTo>
                      <a:pt x="826" y="1035"/>
                    </a:lnTo>
                    <a:lnTo>
                      <a:pt x="818" y="1095"/>
                    </a:lnTo>
                    <a:lnTo>
                      <a:pt x="818" y="1108"/>
                    </a:lnTo>
                    <a:lnTo>
                      <a:pt x="818" y="1120"/>
                    </a:lnTo>
                    <a:lnTo>
                      <a:pt x="818" y="1133"/>
                    </a:lnTo>
                    <a:lnTo>
                      <a:pt x="818" y="1146"/>
                    </a:lnTo>
                    <a:lnTo>
                      <a:pt x="820" y="1147"/>
                    </a:lnTo>
                    <a:lnTo>
                      <a:pt x="822" y="1148"/>
                    </a:lnTo>
                    <a:lnTo>
                      <a:pt x="825" y="1150"/>
                    </a:lnTo>
                    <a:lnTo>
                      <a:pt x="827" y="1151"/>
                    </a:lnTo>
                    <a:lnTo>
                      <a:pt x="830" y="1167"/>
                    </a:lnTo>
                    <a:lnTo>
                      <a:pt x="835" y="1181"/>
                    </a:lnTo>
                    <a:lnTo>
                      <a:pt x="841" y="1193"/>
                    </a:lnTo>
                    <a:lnTo>
                      <a:pt x="849" y="1204"/>
                    </a:lnTo>
                    <a:lnTo>
                      <a:pt x="858" y="1213"/>
                    </a:lnTo>
                    <a:lnTo>
                      <a:pt x="870" y="1221"/>
                    </a:lnTo>
                    <a:lnTo>
                      <a:pt x="882" y="1230"/>
                    </a:lnTo>
                    <a:lnTo>
                      <a:pt x="897" y="1238"/>
                    </a:lnTo>
                    <a:lnTo>
                      <a:pt x="918" y="1246"/>
                    </a:lnTo>
                    <a:lnTo>
                      <a:pt x="938" y="1251"/>
                    </a:lnTo>
                    <a:lnTo>
                      <a:pt x="956" y="1254"/>
                    </a:lnTo>
                    <a:lnTo>
                      <a:pt x="974" y="1257"/>
                    </a:lnTo>
                    <a:lnTo>
                      <a:pt x="992" y="1258"/>
                    </a:lnTo>
                    <a:lnTo>
                      <a:pt x="1008" y="1257"/>
                    </a:lnTo>
                    <a:lnTo>
                      <a:pt x="1024" y="1256"/>
                    </a:lnTo>
                    <a:lnTo>
                      <a:pt x="1038" y="1254"/>
                    </a:lnTo>
                    <a:lnTo>
                      <a:pt x="1052" y="1252"/>
                    </a:lnTo>
                    <a:lnTo>
                      <a:pt x="1064" y="1248"/>
                    </a:lnTo>
                    <a:lnTo>
                      <a:pt x="1075" y="1243"/>
                    </a:lnTo>
                    <a:lnTo>
                      <a:pt x="1085" y="1239"/>
                    </a:lnTo>
                    <a:lnTo>
                      <a:pt x="1094" y="1234"/>
                    </a:lnTo>
                    <a:lnTo>
                      <a:pt x="1102" y="1230"/>
                    </a:lnTo>
                    <a:lnTo>
                      <a:pt x="1108" y="1225"/>
                    </a:lnTo>
                    <a:lnTo>
                      <a:pt x="1114" y="1219"/>
                    </a:lnTo>
                    <a:lnTo>
                      <a:pt x="1116" y="1215"/>
                    </a:lnTo>
                    <a:lnTo>
                      <a:pt x="1118" y="1200"/>
                    </a:lnTo>
                    <a:lnTo>
                      <a:pt x="1122" y="1183"/>
                    </a:lnTo>
                    <a:lnTo>
                      <a:pt x="1126" y="1171"/>
                    </a:lnTo>
                    <a:lnTo>
                      <a:pt x="1123" y="1136"/>
                    </a:lnTo>
                    <a:lnTo>
                      <a:pt x="1119" y="1113"/>
                    </a:lnTo>
                    <a:lnTo>
                      <a:pt x="1116" y="1091"/>
                    </a:lnTo>
                    <a:lnTo>
                      <a:pt x="1113" y="1059"/>
                    </a:lnTo>
                    <a:lnTo>
                      <a:pt x="1126" y="1062"/>
                    </a:lnTo>
                    <a:lnTo>
                      <a:pt x="1138" y="1066"/>
                    </a:lnTo>
                    <a:lnTo>
                      <a:pt x="1147" y="1069"/>
                    </a:lnTo>
                    <a:lnTo>
                      <a:pt x="1156" y="1071"/>
                    </a:lnTo>
                    <a:lnTo>
                      <a:pt x="1166" y="1073"/>
                    </a:lnTo>
                    <a:lnTo>
                      <a:pt x="1177" y="1074"/>
                    </a:lnTo>
                    <a:lnTo>
                      <a:pt x="1191" y="1074"/>
                    </a:lnTo>
                    <a:lnTo>
                      <a:pt x="1209" y="1072"/>
                    </a:lnTo>
                    <a:lnTo>
                      <a:pt x="1213" y="1080"/>
                    </a:lnTo>
                    <a:lnTo>
                      <a:pt x="1217" y="1088"/>
                    </a:lnTo>
                    <a:lnTo>
                      <a:pt x="1221" y="1095"/>
                    </a:lnTo>
                    <a:lnTo>
                      <a:pt x="1223" y="1103"/>
                    </a:lnTo>
                    <a:lnTo>
                      <a:pt x="1238" y="1122"/>
                    </a:lnTo>
                    <a:lnTo>
                      <a:pt x="1254" y="1139"/>
                    </a:lnTo>
                    <a:lnTo>
                      <a:pt x="1271" y="1153"/>
                    </a:lnTo>
                    <a:lnTo>
                      <a:pt x="1290" y="1163"/>
                    </a:lnTo>
                    <a:lnTo>
                      <a:pt x="1309" y="1170"/>
                    </a:lnTo>
                    <a:lnTo>
                      <a:pt x="1331" y="1176"/>
                    </a:lnTo>
                    <a:lnTo>
                      <a:pt x="1357" y="1178"/>
                    </a:lnTo>
                    <a:lnTo>
                      <a:pt x="1384" y="1178"/>
                    </a:lnTo>
                    <a:lnTo>
                      <a:pt x="1384" y="1156"/>
                    </a:lnTo>
                    <a:lnTo>
                      <a:pt x="1371" y="1156"/>
                    </a:lnTo>
                    <a:lnTo>
                      <a:pt x="1356" y="1155"/>
                    </a:lnTo>
                    <a:lnTo>
                      <a:pt x="1342" y="1154"/>
                    </a:lnTo>
                    <a:lnTo>
                      <a:pt x="1329" y="1150"/>
                    </a:lnTo>
                    <a:lnTo>
                      <a:pt x="1318" y="1147"/>
                    </a:lnTo>
                    <a:lnTo>
                      <a:pt x="1308" y="1143"/>
                    </a:lnTo>
                    <a:lnTo>
                      <a:pt x="1301" y="1137"/>
                    </a:lnTo>
                    <a:lnTo>
                      <a:pt x="1297" y="1130"/>
                    </a:lnTo>
                    <a:lnTo>
                      <a:pt x="1290" y="1126"/>
                    </a:lnTo>
                    <a:lnTo>
                      <a:pt x="1283" y="1122"/>
                    </a:lnTo>
                    <a:lnTo>
                      <a:pt x="1275" y="1117"/>
                    </a:lnTo>
                    <a:lnTo>
                      <a:pt x="1268" y="1111"/>
                    </a:lnTo>
                    <a:lnTo>
                      <a:pt x="1260" y="1104"/>
                    </a:lnTo>
                    <a:lnTo>
                      <a:pt x="1253" y="1099"/>
                    </a:lnTo>
                    <a:lnTo>
                      <a:pt x="1246" y="1094"/>
                    </a:lnTo>
                    <a:lnTo>
                      <a:pt x="1242" y="1090"/>
                    </a:lnTo>
                    <a:lnTo>
                      <a:pt x="1257" y="1088"/>
                    </a:lnTo>
                    <a:lnTo>
                      <a:pt x="1271" y="1080"/>
                    </a:lnTo>
                    <a:lnTo>
                      <a:pt x="1280" y="1071"/>
                    </a:lnTo>
                    <a:lnTo>
                      <a:pt x="1285" y="1060"/>
                    </a:lnTo>
                    <a:lnTo>
                      <a:pt x="1291" y="1049"/>
                    </a:lnTo>
                    <a:lnTo>
                      <a:pt x="1299" y="1042"/>
                    </a:lnTo>
                    <a:lnTo>
                      <a:pt x="1313" y="1038"/>
                    </a:lnTo>
                    <a:lnTo>
                      <a:pt x="1335" y="1040"/>
                    </a:lnTo>
                    <a:lnTo>
                      <a:pt x="1369" y="1049"/>
                    </a:lnTo>
                    <a:lnTo>
                      <a:pt x="1373" y="1053"/>
                    </a:lnTo>
                    <a:lnTo>
                      <a:pt x="1377" y="1057"/>
                    </a:lnTo>
                    <a:lnTo>
                      <a:pt x="1381" y="1062"/>
                    </a:lnTo>
                    <a:lnTo>
                      <a:pt x="1384" y="1065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9"/>
              <p:cNvSpPr/>
              <p:nvPr/>
            </p:nvSpPr>
            <p:spPr>
              <a:xfrm>
                <a:off x="1382400" y="1037880"/>
                <a:ext cx="163440" cy="71640"/>
              </a:xfrm>
              <a:custGeom>
                <a:avLst/>
                <a:gdLst/>
                <a:ahLst/>
                <a:rect l="l" t="t" r="r" b="b"/>
                <a:pathLst>
                  <a:path w="543" h="458">
                    <a:moveTo>
                      <a:pt x="58" y="66"/>
                    </a:moveTo>
                    <a:lnTo>
                      <a:pt x="0" y="0"/>
                    </a:lnTo>
                    <a:lnTo>
                      <a:pt x="91" y="72"/>
                    </a:lnTo>
                    <a:lnTo>
                      <a:pt x="314" y="236"/>
                    </a:lnTo>
                    <a:lnTo>
                      <a:pt x="480" y="376"/>
                    </a:lnTo>
                    <a:lnTo>
                      <a:pt x="543" y="458"/>
                    </a:lnTo>
                    <a:lnTo>
                      <a:pt x="395" y="373"/>
                    </a:lnTo>
                    <a:lnTo>
                      <a:pt x="208" y="258"/>
                    </a:lnTo>
                    <a:lnTo>
                      <a:pt x="86" y="116"/>
                    </a:lnTo>
                    <a:lnTo>
                      <a:pt x="58" y="66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0"/>
              <p:cNvSpPr/>
              <p:nvPr/>
            </p:nvSpPr>
            <p:spPr>
              <a:xfrm>
                <a:off x="1296000" y="1014840"/>
                <a:ext cx="138960" cy="147600"/>
              </a:xfrm>
              <a:custGeom>
                <a:avLst/>
                <a:gdLst/>
                <a:ahLst/>
                <a:rect l="l" t="t" r="r" b="b"/>
                <a:pathLst>
                  <a:path w="463" h="946">
                    <a:moveTo>
                      <a:pt x="0" y="33"/>
                    </a:moveTo>
                    <a:lnTo>
                      <a:pt x="14" y="167"/>
                    </a:lnTo>
                    <a:lnTo>
                      <a:pt x="60" y="472"/>
                    </a:lnTo>
                    <a:lnTo>
                      <a:pt x="128" y="725"/>
                    </a:lnTo>
                    <a:lnTo>
                      <a:pt x="174" y="925"/>
                    </a:lnTo>
                    <a:lnTo>
                      <a:pt x="183" y="946"/>
                    </a:lnTo>
                    <a:lnTo>
                      <a:pt x="229" y="930"/>
                    </a:lnTo>
                    <a:lnTo>
                      <a:pt x="266" y="900"/>
                    </a:lnTo>
                    <a:lnTo>
                      <a:pt x="325" y="900"/>
                    </a:lnTo>
                    <a:lnTo>
                      <a:pt x="315" y="850"/>
                    </a:lnTo>
                    <a:lnTo>
                      <a:pt x="306" y="779"/>
                    </a:lnTo>
                    <a:lnTo>
                      <a:pt x="348" y="850"/>
                    </a:lnTo>
                    <a:lnTo>
                      <a:pt x="366" y="909"/>
                    </a:lnTo>
                    <a:lnTo>
                      <a:pt x="417" y="904"/>
                    </a:lnTo>
                    <a:lnTo>
                      <a:pt x="463" y="921"/>
                    </a:lnTo>
                    <a:lnTo>
                      <a:pt x="435" y="804"/>
                    </a:lnTo>
                    <a:lnTo>
                      <a:pt x="357" y="581"/>
                    </a:lnTo>
                    <a:lnTo>
                      <a:pt x="229" y="326"/>
                    </a:lnTo>
                    <a:lnTo>
                      <a:pt x="128" y="142"/>
                    </a:lnTo>
                    <a:lnTo>
                      <a:pt x="69" y="0"/>
                    </a:lnTo>
                    <a:lnTo>
                      <a:pt x="28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1"/>
              <p:cNvSpPr/>
              <p:nvPr/>
            </p:nvSpPr>
            <p:spPr>
              <a:xfrm>
                <a:off x="1229040" y="1164240"/>
                <a:ext cx="83160" cy="28080"/>
              </a:xfrm>
              <a:custGeom>
                <a:avLst/>
                <a:gdLst/>
                <a:ahLst/>
                <a:rect l="l" t="t" r="r" b="b"/>
                <a:pathLst>
                  <a:path w="276" h="182">
                    <a:moveTo>
                      <a:pt x="60" y="144"/>
                    </a:moveTo>
                    <a:lnTo>
                      <a:pt x="55" y="141"/>
                    </a:lnTo>
                    <a:lnTo>
                      <a:pt x="48" y="136"/>
                    </a:lnTo>
                    <a:lnTo>
                      <a:pt x="41" y="131"/>
                    </a:lnTo>
                    <a:lnTo>
                      <a:pt x="34" y="125"/>
                    </a:lnTo>
                    <a:lnTo>
                      <a:pt x="27" y="120"/>
                    </a:lnTo>
                    <a:lnTo>
                      <a:pt x="22" y="116"/>
                    </a:lnTo>
                    <a:lnTo>
                      <a:pt x="18" y="111"/>
                    </a:lnTo>
                    <a:lnTo>
                      <a:pt x="18" y="107"/>
                    </a:lnTo>
                    <a:lnTo>
                      <a:pt x="11" y="95"/>
                    </a:lnTo>
                    <a:lnTo>
                      <a:pt x="8" y="83"/>
                    </a:lnTo>
                    <a:lnTo>
                      <a:pt x="3" y="72"/>
                    </a:lnTo>
                    <a:lnTo>
                      <a:pt x="0" y="59"/>
                    </a:lnTo>
                    <a:lnTo>
                      <a:pt x="4" y="36"/>
                    </a:lnTo>
                    <a:lnTo>
                      <a:pt x="11" y="21"/>
                    </a:lnTo>
                    <a:lnTo>
                      <a:pt x="20" y="11"/>
                    </a:lnTo>
                    <a:lnTo>
                      <a:pt x="34" y="6"/>
                    </a:lnTo>
                    <a:lnTo>
                      <a:pt x="50" y="4"/>
                    </a:lnTo>
                    <a:lnTo>
                      <a:pt x="69" y="3"/>
                    </a:lnTo>
                    <a:lnTo>
                      <a:pt x="92" y="2"/>
                    </a:lnTo>
                    <a:lnTo>
                      <a:pt x="117" y="0"/>
                    </a:lnTo>
                    <a:lnTo>
                      <a:pt x="123" y="3"/>
                    </a:lnTo>
                    <a:lnTo>
                      <a:pt x="129" y="5"/>
                    </a:lnTo>
                    <a:lnTo>
                      <a:pt x="136" y="7"/>
                    </a:lnTo>
                    <a:lnTo>
                      <a:pt x="141" y="8"/>
                    </a:lnTo>
                    <a:lnTo>
                      <a:pt x="147" y="9"/>
                    </a:lnTo>
                    <a:lnTo>
                      <a:pt x="153" y="9"/>
                    </a:lnTo>
                    <a:lnTo>
                      <a:pt x="159" y="7"/>
                    </a:lnTo>
                    <a:lnTo>
                      <a:pt x="163" y="4"/>
                    </a:lnTo>
                    <a:lnTo>
                      <a:pt x="163" y="8"/>
                    </a:lnTo>
                    <a:lnTo>
                      <a:pt x="162" y="31"/>
                    </a:lnTo>
                    <a:lnTo>
                      <a:pt x="165" y="56"/>
                    </a:lnTo>
                    <a:lnTo>
                      <a:pt x="175" y="68"/>
                    </a:lnTo>
                    <a:lnTo>
                      <a:pt x="176" y="65"/>
                    </a:lnTo>
                    <a:lnTo>
                      <a:pt x="179" y="44"/>
                    </a:lnTo>
                    <a:lnTo>
                      <a:pt x="182" y="23"/>
                    </a:lnTo>
                    <a:lnTo>
                      <a:pt x="184" y="21"/>
                    </a:lnTo>
                    <a:lnTo>
                      <a:pt x="199" y="13"/>
                    </a:lnTo>
                    <a:lnTo>
                      <a:pt x="218" y="12"/>
                    </a:lnTo>
                    <a:lnTo>
                      <a:pt x="239" y="19"/>
                    </a:lnTo>
                    <a:lnTo>
                      <a:pt x="259" y="30"/>
                    </a:lnTo>
                    <a:lnTo>
                      <a:pt x="271" y="50"/>
                    </a:lnTo>
                    <a:lnTo>
                      <a:pt x="276" y="76"/>
                    </a:lnTo>
                    <a:lnTo>
                      <a:pt x="269" y="109"/>
                    </a:lnTo>
                    <a:lnTo>
                      <a:pt x="246" y="151"/>
                    </a:lnTo>
                    <a:lnTo>
                      <a:pt x="231" y="158"/>
                    </a:lnTo>
                    <a:lnTo>
                      <a:pt x="217" y="164"/>
                    </a:lnTo>
                    <a:lnTo>
                      <a:pt x="205" y="169"/>
                    </a:lnTo>
                    <a:lnTo>
                      <a:pt x="192" y="173"/>
                    </a:lnTo>
                    <a:lnTo>
                      <a:pt x="180" y="177"/>
                    </a:lnTo>
                    <a:lnTo>
                      <a:pt x="168" y="179"/>
                    </a:lnTo>
                    <a:lnTo>
                      <a:pt x="157" y="182"/>
                    </a:lnTo>
                    <a:lnTo>
                      <a:pt x="146" y="182"/>
                    </a:lnTo>
                    <a:lnTo>
                      <a:pt x="136" y="182"/>
                    </a:lnTo>
                    <a:lnTo>
                      <a:pt x="124" y="180"/>
                    </a:lnTo>
                    <a:lnTo>
                      <a:pt x="114" y="177"/>
                    </a:lnTo>
                    <a:lnTo>
                      <a:pt x="103" y="173"/>
                    </a:lnTo>
                    <a:lnTo>
                      <a:pt x="93" y="168"/>
                    </a:lnTo>
                    <a:lnTo>
                      <a:pt x="81" y="162"/>
                    </a:lnTo>
                    <a:lnTo>
                      <a:pt x="71" y="153"/>
                    </a:lnTo>
                    <a:lnTo>
                      <a:pt x="60" y="144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2"/>
              <p:cNvSpPr/>
              <p:nvPr/>
            </p:nvSpPr>
            <p:spPr>
              <a:xfrm>
                <a:off x="1135080" y="1151280"/>
                <a:ext cx="55440" cy="34560"/>
              </a:xfrm>
              <a:custGeom>
                <a:avLst/>
                <a:gdLst/>
                <a:ahLst/>
                <a:rect l="l" t="t" r="r" b="b"/>
                <a:pathLst>
                  <a:path w="183" h="225">
                    <a:moveTo>
                      <a:pt x="110" y="225"/>
                    </a:moveTo>
                    <a:lnTo>
                      <a:pt x="108" y="217"/>
                    </a:lnTo>
                    <a:lnTo>
                      <a:pt x="105" y="210"/>
                    </a:lnTo>
                    <a:lnTo>
                      <a:pt x="100" y="203"/>
                    </a:lnTo>
                    <a:lnTo>
                      <a:pt x="95" y="193"/>
                    </a:lnTo>
                    <a:lnTo>
                      <a:pt x="88" y="183"/>
                    </a:lnTo>
                    <a:lnTo>
                      <a:pt x="82" y="169"/>
                    </a:lnTo>
                    <a:lnTo>
                      <a:pt x="73" y="155"/>
                    </a:lnTo>
                    <a:lnTo>
                      <a:pt x="65" y="136"/>
                    </a:lnTo>
                    <a:lnTo>
                      <a:pt x="67" y="134"/>
                    </a:lnTo>
                    <a:lnTo>
                      <a:pt x="70" y="133"/>
                    </a:lnTo>
                    <a:lnTo>
                      <a:pt x="73" y="133"/>
                    </a:lnTo>
                    <a:lnTo>
                      <a:pt x="75" y="130"/>
                    </a:lnTo>
                    <a:lnTo>
                      <a:pt x="80" y="117"/>
                    </a:lnTo>
                    <a:lnTo>
                      <a:pt x="85" y="102"/>
                    </a:lnTo>
                    <a:lnTo>
                      <a:pt x="90" y="88"/>
                    </a:lnTo>
                    <a:lnTo>
                      <a:pt x="95" y="75"/>
                    </a:lnTo>
                    <a:lnTo>
                      <a:pt x="96" y="70"/>
                    </a:lnTo>
                    <a:lnTo>
                      <a:pt x="98" y="65"/>
                    </a:lnTo>
                    <a:lnTo>
                      <a:pt x="99" y="61"/>
                    </a:lnTo>
                    <a:lnTo>
                      <a:pt x="100" y="55"/>
                    </a:lnTo>
                    <a:lnTo>
                      <a:pt x="98" y="57"/>
                    </a:lnTo>
                    <a:lnTo>
                      <a:pt x="94" y="58"/>
                    </a:lnTo>
                    <a:lnTo>
                      <a:pt x="91" y="59"/>
                    </a:lnTo>
                    <a:lnTo>
                      <a:pt x="88" y="60"/>
                    </a:lnTo>
                    <a:lnTo>
                      <a:pt x="87" y="64"/>
                    </a:lnTo>
                    <a:lnTo>
                      <a:pt x="86" y="68"/>
                    </a:lnTo>
                    <a:lnTo>
                      <a:pt x="84" y="71"/>
                    </a:lnTo>
                    <a:lnTo>
                      <a:pt x="82" y="76"/>
                    </a:lnTo>
                    <a:lnTo>
                      <a:pt x="77" y="82"/>
                    </a:lnTo>
                    <a:lnTo>
                      <a:pt x="70" y="90"/>
                    </a:lnTo>
                    <a:lnTo>
                      <a:pt x="61" y="100"/>
                    </a:lnTo>
                    <a:lnTo>
                      <a:pt x="49" y="115"/>
                    </a:lnTo>
                    <a:lnTo>
                      <a:pt x="42" y="108"/>
                    </a:lnTo>
                    <a:lnTo>
                      <a:pt x="34" y="98"/>
                    </a:lnTo>
                    <a:lnTo>
                      <a:pt x="26" y="87"/>
                    </a:lnTo>
                    <a:lnTo>
                      <a:pt x="19" y="73"/>
                    </a:lnTo>
                    <a:lnTo>
                      <a:pt x="12" y="61"/>
                    </a:lnTo>
                    <a:lnTo>
                      <a:pt x="7" y="48"/>
                    </a:lnTo>
                    <a:lnTo>
                      <a:pt x="2" y="37"/>
                    </a:lnTo>
                    <a:lnTo>
                      <a:pt x="0" y="26"/>
                    </a:lnTo>
                    <a:lnTo>
                      <a:pt x="7" y="16"/>
                    </a:lnTo>
                    <a:lnTo>
                      <a:pt x="16" y="7"/>
                    </a:lnTo>
                    <a:lnTo>
                      <a:pt x="29" y="3"/>
                    </a:lnTo>
                    <a:lnTo>
                      <a:pt x="42" y="0"/>
                    </a:lnTo>
                    <a:lnTo>
                      <a:pt x="57" y="0"/>
                    </a:lnTo>
                    <a:lnTo>
                      <a:pt x="72" y="1"/>
                    </a:lnTo>
                    <a:lnTo>
                      <a:pt x="87" y="3"/>
                    </a:lnTo>
                    <a:lnTo>
                      <a:pt x="100" y="5"/>
                    </a:lnTo>
                    <a:lnTo>
                      <a:pt x="107" y="11"/>
                    </a:lnTo>
                    <a:lnTo>
                      <a:pt x="115" y="16"/>
                    </a:lnTo>
                    <a:lnTo>
                      <a:pt x="124" y="22"/>
                    </a:lnTo>
                    <a:lnTo>
                      <a:pt x="134" y="28"/>
                    </a:lnTo>
                    <a:lnTo>
                      <a:pt x="145" y="34"/>
                    </a:lnTo>
                    <a:lnTo>
                      <a:pt x="155" y="39"/>
                    </a:lnTo>
                    <a:lnTo>
                      <a:pt x="164" y="44"/>
                    </a:lnTo>
                    <a:lnTo>
                      <a:pt x="172" y="48"/>
                    </a:lnTo>
                    <a:lnTo>
                      <a:pt x="179" y="69"/>
                    </a:lnTo>
                    <a:lnTo>
                      <a:pt x="183" y="94"/>
                    </a:lnTo>
                    <a:lnTo>
                      <a:pt x="183" y="122"/>
                    </a:lnTo>
                    <a:lnTo>
                      <a:pt x="179" y="149"/>
                    </a:lnTo>
                    <a:lnTo>
                      <a:pt x="171" y="176"/>
                    </a:lnTo>
                    <a:lnTo>
                      <a:pt x="158" y="199"/>
                    </a:lnTo>
                    <a:lnTo>
                      <a:pt x="138" y="215"/>
                    </a:lnTo>
                    <a:lnTo>
                      <a:pt x="110" y="225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3"/>
              <p:cNvSpPr/>
              <p:nvPr/>
            </p:nvSpPr>
            <p:spPr>
              <a:xfrm>
                <a:off x="1242360" y="1171440"/>
                <a:ext cx="39600" cy="9000"/>
              </a:xfrm>
              <a:custGeom>
                <a:avLst/>
                <a:gdLst/>
                <a:ahLst/>
                <a:rect l="l" t="t" r="r" b="b"/>
                <a:pathLst>
                  <a:path w="131" h="59">
                    <a:moveTo>
                      <a:pt x="109" y="59"/>
                    </a:moveTo>
                    <a:lnTo>
                      <a:pt x="102" y="59"/>
                    </a:lnTo>
                    <a:lnTo>
                      <a:pt x="94" y="58"/>
                    </a:lnTo>
                    <a:lnTo>
                      <a:pt x="87" y="58"/>
                    </a:lnTo>
                    <a:lnTo>
                      <a:pt x="80" y="58"/>
                    </a:lnTo>
                    <a:lnTo>
                      <a:pt x="72" y="57"/>
                    </a:lnTo>
                    <a:lnTo>
                      <a:pt x="65" y="57"/>
                    </a:lnTo>
                    <a:lnTo>
                      <a:pt x="57" y="57"/>
                    </a:lnTo>
                    <a:lnTo>
                      <a:pt x="50" y="57"/>
                    </a:lnTo>
                    <a:lnTo>
                      <a:pt x="46" y="55"/>
                    </a:lnTo>
                    <a:lnTo>
                      <a:pt x="40" y="52"/>
                    </a:lnTo>
                    <a:lnTo>
                      <a:pt x="35" y="50"/>
                    </a:lnTo>
                    <a:lnTo>
                      <a:pt x="30" y="47"/>
                    </a:lnTo>
                    <a:lnTo>
                      <a:pt x="26" y="41"/>
                    </a:lnTo>
                    <a:lnTo>
                      <a:pt x="23" y="36"/>
                    </a:lnTo>
                    <a:lnTo>
                      <a:pt x="19" y="32"/>
                    </a:lnTo>
                    <a:lnTo>
                      <a:pt x="15" y="27"/>
                    </a:lnTo>
                    <a:lnTo>
                      <a:pt x="13" y="24"/>
                    </a:lnTo>
                    <a:lnTo>
                      <a:pt x="13" y="20"/>
                    </a:lnTo>
                    <a:lnTo>
                      <a:pt x="12" y="16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5" y="13"/>
                    </a:lnTo>
                    <a:lnTo>
                      <a:pt x="3" y="13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21" y="13"/>
                    </a:lnTo>
                    <a:lnTo>
                      <a:pt x="27" y="21"/>
                    </a:lnTo>
                    <a:lnTo>
                      <a:pt x="35" y="29"/>
                    </a:lnTo>
                    <a:lnTo>
                      <a:pt x="48" y="40"/>
                    </a:lnTo>
                    <a:lnTo>
                      <a:pt x="55" y="43"/>
                    </a:lnTo>
                    <a:lnTo>
                      <a:pt x="62" y="45"/>
                    </a:lnTo>
                    <a:lnTo>
                      <a:pt x="69" y="47"/>
                    </a:lnTo>
                    <a:lnTo>
                      <a:pt x="77" y="49"/>
                    </a:lnTo>
                    <a:lnTo>
                      <a:pt x="89" y="49"/>
                    </a:lnTo>
                    <a:lnTo>
                      <a:pt x="99" y="49"/>
                    </a:lnTo>
                    <a:lnTo>
                      <a:pt x="107" y="49"/>
                    </a:lnTo>
                    <a:lnTo>
                      <a:pt x="112" y="49"/>
                    </a:lnTo>
                    <a:lnTo>
                      <a:pt x="117" y="50"/>
                    </a:lnTo>
                    <a:lnTo>
                      <a:pt x="120" y="51"/>
                    </a:lnTo>
                    <a:lnTo>
                      <a:pt x="125" y="52"/>
                    </a:lnTo>
                    <a:lnTo>
                      <a:pt x="131" y="53"/>
                    </a:lnTo>
                    <a:lnTo>
                      <a:pt x="124" y="56"/>
                    </a:lnTo>
                    <a:lnTo>
                      <a:pt x="118" y="58"/>
                    </a:lnTo>
                    <a:lnTo>
                      <a:pt x="115" y="59"/>
                    </a:lnTo>
                    <a:lnTo>
                      <a:pt x="109" y="59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4"/>
              <p:cNvSpPr/>
              <p:nvPr/>
            </p:nvSpPr>
            <p:spPr>
              <a:xfrm>
                <a:off x="1256760" y="1169280"/>
                <a:ext cx="40680" cy="9000"/>
              </a:xfrm>
              <a:custGeom>
                <a:avLst/>
                <a:gdLst/>
                <a:ahLst/>
                <a:rect l="l" t="t" r="r" b="b"/>
                <a:pathLst>
                  <a:path w="136" h="62">
                    <a:moveTo>
                      <a:pt x="111" y="62"/>
                    </a:moveTo>
                    <a:lnTo>
                      <a:pt x="115" y="59"/>
                    </a:lnTo>
                    <a:lnTo>
                      <a:pt x="118" y="57"/>
                    </a:lnTo>
                    <a:lnTo>
                      <a:pt x="122" y="53"/>
                    </a:lnTo>
                    <a:lnTo>
                      <a:pt x="126" y="51"/>
                    </a:lnTo>
                    <a:lnTo>
                      <a:pt x="124" y="50"/>
                    </a:lnTo>
                    <a:lnTo>
                      <a:pt x="122" y="49"/>
                    </a:lnTo>
                    <a:lnTo>
                      <a:pt x="120" y="48"/>
                    </a:lnTo>
                    <a:lnTo>
                      <a:pt x="117" y="48"/>
                    </a:lnTo>
                    <a:lnTo>
                      <a:pt x="117" y="45"/>
                    </a:lnTo>
                    <a:lnTo>
                      <a:pt x="117" y="41"/>
                    </a:lnTo>
                    <a:lnTo>
                      <a:pt x="117" y="37"/>
                    </a:lnTo>
                    <a:lnTo>
                      <a:pt x="117" y="32"/>
                    </a:lnTo>
                    <a:lnTo>
                      <a:pt x="108" y="30"/>
                    </a:lnTo>
                    <a:lnTo>
                      <a:pt x="102" y="27"/>
                    </a:lnTo>
                    <a:lnTo>
                      <a:pt x="98" y="25"/>
                    </a:lnTo>
                    <a:lnTo>
                      <a:pt x="91" y="20"/>
                    </a:lnTo>
                    <a:lnTo>
                      <a:pt x="85" y="20"/>
                    </a:lnTo>
                    <a:lnTo>
                      <a:pt x="80" y="19"/>
                    </a:lnTo>
                    <a:lnTo>
                      <a:pt x="75" y="18"/>
                    </a:lnTo>
                    <a:lnTo>
                      <a:pt x="69" y="18"/>
                    </a:lnTo>
                    <a:lnTo>
                      <a:pt x="64" y="17"/>
                    </a:lnTo>
                    <a:lnTo>
                      <a:pt x="59" y="16"/>
                    </a:lnTo>
                    <a:lnTo>
                      <a:pt x="53" y="15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5" y="13"/>
                    </a:lnTo>
                    <a:lnTo>
                      <a:pt x="42" y="11"/>
                    </a:lnTo>
                    <a:lnTo>
                      <a:pt x="41" y="10"/>
                    </a:lnTo>
                    <a:lnTo>
                      <a:pt x="37" y="8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1" y="6"/>
                    </a:lnTo>
                    <a:lnTo>
                      <a:pt x="16" y="5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0" y="3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8" y="1"/>
                    </a:lnTo>
                    <a:lnTo>
                      <a:pt x="46" y="4"/>
                    </a:lnTo>
                    <a:lnTo>
                      <a:pt x="53" y="6"/>
                    </a:lnTo>
                    <a:lnTo>
                      <a:pt x="57" y="7"/>
                    </a:lnTo>
                    <a:lnTo>
                      <a:pt x="62" y="8"/>
                    </a:lnTo>
                    <a:lnTo>
                      <a:pt x="68" y="10"/>
                    </a:lnTo>
                    <a:lnTo>
                      <a:pt x="72" y="11"/>
                    </a:lnTo>
                    <a:lnTo>
                      <a:pt x="79" y="12"/>
                    </a:lnTo>
                    <a:lnTo>
                      <a:pt x="88" y="13"/>
                    </a:lnTo>
                    <a:lnTo>
                      <a:pt x="103" y="20"/>
                    </a:lnTo>
                    <a:lnTo>
                      <a:pt x="115" y="25"/>
                    </a:lnTo>
                    <a:lnTo>
                      <a:pt x="123" y="28"/>
                    </a:lnTo>
                    <a:lnTo>
                      <a:pt x="128" y="31"/>
                    </a:lnTo>
                    <a:lnTo>
                      <a:pt x="131" y="34"/>
                    </a:lnTo>
                    <a:lnTo>
                      <a:pt x="133" y="35"/>
                    </a:lnTo>
                    <a:lnTo>
                      <a:pt x="135" y="37"/>
                    </a:lnTo>
                    <a:lnTo>
                      <a:pt x="136" y="38"/>
                    </a:lnTo>
                    <a:lnTo>
                      <a:pt x="135" y="47"/>
                    </a:lnTo>
                    <a:lnTo>
                      <a:pt x="133" y="53"/>
                    </a:lnTo>
                    <a:lnTo>
                      <a:pt x="131" y="58"/>
                    </a:lnTo>
                    <a:lnTo>
                      <a:pt x="126" y="62"/>
                    </a:lnTo>
                    <a:lnTo>
                      <a:pt x="123" y="62"/>
                    </a:lnTo>
                    <a:lnTo>
                      <a:pt x="120" y="62"/>
                    </a:lnTo>
                    <a:lnTo>
                      <a:pt x="115" y="62"/>
                    </a:lnTo>
                    <a:lnTo>
                      <a:pt x="111" y="62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5"/>
              <p:cNvSpPr/>
              <p:nvPr/>
            </p:nvSpPr>
            <p:spPr>
              <a:xfrm>
                <a:off x="1017360" y="1146960"/>
                <a:ext cx="81720" cy="30240"/>
              </a:xfrm>
              <a:custGeom>
                <a:avLst/>
                <a:gdLst/>
                <a:ahLst/>
                <a:rect l="l" t="t" r="r" b="b"/>
                <a:pathLst>
                  <a:path w="273" h="194">
                    <a:moveTo>
                      <a:pt x="159" y="194"/>
                    </a:moveTo>
                    <a:lnTo>
                      <a:pt x="153" y="194"/>
                    </a:lnTo>
                    <a:lnTo>
                      <a:pt x="146" y="193"/>
                    </a:lnTo>
                    <a:lnTo>
                      <a:pt x="136" y="192"/>
                    </a:lnTo>
                    <a:lnTo>
                      <a:pt x="125" y="191"/>
                    </a:lnTo>
                    <a:lnTo>
                      <a:pt x="114" y="191"/>
                    </a:lnTo>
                    <a:lnTo>
                      <a:pt x="104" y="190"/>
                    </a:lnTo>
                    <a:lnTo>
                      <a:pt x="96" y="189"/>
                    </a:lnTo>
                    <a:lnTo>
                      <a:pt x="90" y="189"/>
                    </a:lnTo>
                    <a:lnTo>
                      <a:pt x="74" y="180"/>
                    </a:lnTo>
                    <a:lnTo>
                      <a:pt x="60" y="167"/>
                    </a:lnTo>
                    <a:lnTo>
                      <a:pt x="47" y="153"/>
                    </a:lnTo>
                    <a:lnTo>
                      <a:pt x="36" y="137"/>
                    </a:lnTo>
                    <a:lnTo>
                      <a:pt x="26" y="121"/>
                    </a:lnTo>
                    <a:lnTo>
                      <a:pt x="16" y="103"/>
                    </a:lnTo>
                    <a:lnTo>
                      <a:pt x="8" y="87"/>
                    </a:lnTo>
                    <a:lnTo>
                      <a:pt x="0" y="70"/>
                    </a:lnTo>
                    <a:lnTo>
                      <a:pt x="3" y="49"/>
                    </a:lnTo>
                    <a:lnTo>
                      <a:pt x="9" y="32"/>
                    </a:lnTo>
                    <a:lnTo>
                      <a:pt x="20" y="19"/>
                    </a:lnTo>
                    <a:lnTo>
                      <a:pt x="35" y="9"/>
                    </a:lnTo>
                    <a:lnTo>
                      <a:pt x="52" y="3"/>
                    </a:lnTo>
                    <a:lnTo>
                      <a:pt x="74" y="0"/>
                    </a:lnTo>
                    <a:lnTo>
                      <a:pt x="98" y="1"/>
                    </a:lnTo>
                    <a:lnTo>
                      <a:pt x="125" y="6"/>
                    </a:lnTo>
                    <a:lnTo>
                      <a:pt x="143" y="22"/>
                    </a:lnTo>
                    <a:lnTo>
                      <a:pt x="161" y="37"/>
                    </a:lnTo>
                    <a:lnTo>
                      <a:pt x="179" y="52"/>
                    </a:lnTo>
                    <a:lnTo>
                      <a:pt x="197" y="67"/>
                    </a:lnTo>
                    <a:lnTo>
                      <a:pt x="214" y="82"/>
                    </a:lnTo>
                    <a:lnTo>
                      <a:pt x="232" y="95"/>
                    </a:lnTo>
                    <a:lnTo>
                      <a:pt x="249" y="110"/>
                    </a:lnTo>
                    <a:lnTo>
                      <a:pt x="265" y="124"/>
                    </a:lnTo>
                    <a:lnTo>
                      <a:pt x="267" y="131"/>
                    </a:lnTo>
                    <a:lnTo>
                      <a:pt x="269" y="135"/>
                    </a:lnTo>
                    <a:lnTo>
                      <a:pt x="269" y="139"/>
                    </a:lnTo>
                    <a:lnTo>
                      <a:pt x="269" y="145"/>
                    </a:lnTo>
                    <a:lnTo>
                      <a:pt x="267" y="147"/>
                    </a:lnTo>
                    <a:lnTo>
                      <a:pt x="267" y="148"/>
                    </a:lnTo>
                    <a:lnTo>
                      <a:pt x="267" y="152"/>
                    </a:lnTo>
                    <a:lnTo>
                      <a:pt x="269" y="156"/>
                    </a:lnTo>
                    <a:lnTo>
                      <a:pt x="269" y="156"/>
                    </a:lnTo>
                    <a:lnTo>
                      <a:pt x="270" y="157"/>
                    </a:lnTo>
                    <a:lnTo>
                      <a:pt x="272" y="158"/>
                    </a:lnTo>
                    <a:lnTo>
                      <a:pt x="273" y="159"/>
                    </a:lnTo>
                    <a:lnTo>
                      <a:pt x="273" y="164"/>
                    </a:lnTo>
                    <a:lnTo>
                      <a:pt x="273" y="170"/>
                    </a:lnTo>
                    <a:lnTo>
                      <a:pt x="273" y="177"/>
                    </a:lnTo>
                    <a:lnTo>
                      <a:pt x="273" y="183"/>
                    </a:lnTo>
                    <a:lnTo>
                      <a:pt x="271" y="184"/>
                    </a:lnTo>
                    <a:lnTo>
                      <a:pt x="269" y="185"/>
                    </a:lnTo>
                    <a:lnTo>
                      <a:pt x="266" y="187"/>
                    </a:lnTo>
                    <a:lnTo>
                      <a:pt x="264" y="188"/>
                    </a:lnTo>
                    <a:lnTo>
                      <a:pt x="251" y="188"/>
                    </a:lnTo>
                    <a:lnTo>
                      <a:pt x="237" y="189"/>
                    </a:lnTo>
                    <a:lnTo>
                      <a:pt x="225" y="190"/>
                    </a:lnTo>
                    <a:lnTo>
                      <a:pt x="212" y="191"/>
                    </a:lnTo>
                    <a:lnTo>
                      <a:pt x="199" y="191"/>
                    </a:lnTo>
                    <a:lnTo>
                      <a:pt x="186" y="192"/>
                    </a:lnTo>
                    <a:lnTo>
                      <a:pt x="173" y="193"/>
                    </a:lnTo>
                    <a:lnTo>
                      <a:pt x="159" y="194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6"/>
              <p:cNvSpPr/>
              <p:nvPr/>
            </p:nvSpPr>
            <p:spPr>
              <a:xfrm>
                <a:off x="1042200" y="1157040"/>
                <a:ext cx="36720" cy="12240"/>
              </a:xfrm>
              <a:custGeom>
                <a:avLst/>
                <a:gdLst/>
                <a:ahLst/>
                <a:rect l="l" t="t" r="r" b="b"/>
                <a:pathLst>
                  <a:path w="121" h="79">
                    <a:moveTo>
                      <a:pt x="103" y="79"/>
                    </a:moveTo>
                    <a:lnTo>
                      <a:pt x="103" y="77"/>
                    </a:lnTo>
                    <a:lnTo>
                      <a:pt x="103" y="74"/>
                    </a:lnTo>
                    <a:lnTo>
                      <a:pt x="103" y="72"/>
                    </a:lnTo>
                    <a:lnTo>
                      <a:pt x="101" y="69"/>
                    </a:lnTo>
                    <a:lnTo>
                      <a:pt x="92" y="61"/>
                    </a:lnTo>
                    <a:lnTo>
                      <a:pt x="80" y="52"/>
                    </a:lnTo>
                    <a:lnTo>
                      <a:pt x="62" y="42"/>
                    </a:lnTo>
                    <a:lnTo>
                      <a:pt x="45" y="30"/>
                    </a:lnTo>
                    <a:lnTo>
                      <a:pt x="28" y="20"/>
                    </a:lnTo>
                    <a:lnTo>
                      <a:pt x="14" y="10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5" y="0"/>
                    </a:lnTo>
                    <a:lnTo>
                      <a:pt x="31" y="7"/>
                    </a:lnTo>
                    <a:lnTo>
                      <a:pt x="47" y="15"/>
                    </a:lnTo>
                    <a:lnTo>
                      <a:pt x="61" y="24"/>
                    </a:lnTo>
                    <a:lnTo>
                      <a:pt x="75" y="32"/>
                    </a:lnTo>
                    <a:lnTo>
                      <a:pt x="88" y="42"/>
                    </a:lnTo>
                    <a:lnTo>
                      <a:pt x="99" y="52"/>
                    </a:lnTo>
                    <a:lnTo>
                      <a:pt x="111" y="63"/>
                    </a:lnTo>
                    <a:lnTo>
                      <a:pt x="121" y="76"/>
                    </a:lnTo>
                    <a:lnTo>
                      <a:pt x="116" y="77"/>
                    </a:lnTo>
                    <a:lnTo>
                      <a:pt x="112" y="77"/>
                    </a:lnTo>
                    <a:lnTo>
                      <a:pt x="107" y="78"/>
                    </a:lnTo>
                    <a:lnTo>
                      <a:pt x="103" y="79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7"/>
              <p:cNvSpPr/>
              <p:nvPr/>
            </p:nvSpPr>
            <p:spPr>
              <a:xfrm>
                <a:off x="1228320" y="1043640"/>
                <a:ext cx="77760" cy="126360"/>
              </a:xfrm>
              <a:custGeom>
                <a:avLst/>
                <a:gdLst/>
                <a:ahLst/>
                <a:rect l="l" t="t" r="r" b="b"/>
                <a:pathLst>
                  <a:path w="256" h="809">
                    <a:moveTo>
                      <a:pt x="0" y="809"/>
                    </a:moveTo>
                    <a:lnTo>
                      <a:pt x="6" y="742"/>
                    </a:lnTo>
                    <a:lnTo>
                      <a:pt x="17" y="634"/>
                    </a:lnTo>
                    <a:lnTo>
                      <a:pt x="27" y="532"/>
                    </a:lnTo>
                    <a:lnTo>
                      <a:pt x="33" y="485"/>
                    </a:lnTo>
                    <a:lnTo>
                      <a:pt x="33" y="394"/>
                    </a:lnTo>
                    <a:lnTo>
                      <a:pt x="34" y="303"/>
                    </a:lnTo>
                    <a:lnTo>
                      <a:pt x="38" y="212"/>
                    </a:lnTo>
                    <a:lnTo>
                      <a:pt x="43" y="120"/>
                    </a:lnTo>
                    <a:lnTo>
                      <a:pt x="47" y="103"/>
                    </a:lnTo>
                    <a:lnTo>
                      <a:pt x="49" y="91"/>
                    </a:lnTo>
                    <a:lnTo>
                      <a:pt x="50" y="77"/>
                    </a:lnTo>
                    <a:lnTo>
                      <a:pt x="54" y="61"/>
                    </a:lnTo>
                    <a:lnTo>
                      <a:pt x="67" y="45"/>
                    </a:lnTo>
                    <a:lnTo>
                      <a:pt x="85" y="36"/>
                    </a:lnTo>
                    <a:lnTo>
                      <a:pt x="103" y="31"/>
                    </a:lnTo>
                    <a:lnTo>
                      <a:pt x="123" y="30"/>
                    </a:lnTo>
                    <a:lnTo>
                      <a:pt x="140" y="28"/>
                    </a:lnTo>
                    <a:lnTo>
                      <a:pt x="156" y="24"/>
                    </a:lnTo>
                    <a:lnTo>
                      <a:pt x="169" y="15"/>
                    </a:lnTo>
                    <a:lnTo>
                      <a:pt x="177" y="0"/>
                    </a:lnTo>
                    <a:lnTo>
                      <a:pt x="179" y="6"/>
                    </a:lnTo>
                    <a:lnTo>
                      <a:pt x="185" y="23"/>
                    </a:lnTo>
                    <a:lnTo>
                      <a:pt x="191" y="45"/>
                    </a:lnTo>
                    <a:lnTo>
                      <a:pt x="199" y="66"/>
                    </a:lnTo>
                    <a:lnTo>
                      <a:pt x="204" y="83"/>
                    </a:lnTo>
                    <a:lnTo>
                      <a:pt x="208" y="92"/>
                    </a:lnTo>
                    <a:lnTo>
                      <a:pt x="209" y="85"/>
                    </a:lnTo>
                    <a:lnTo>
                      <a:pt x="206" y="60"/>
                    </a:lnTo>
                    <a:lnTo>
                      <a:pt x="211" y="97"/>
                    </a:lnTo>
                    <a:lnTo>
                      <a:pt x="218" y="138"/>
                    </a:lnTo>
                    <a:lnTo>
                      <a:pt x="226" y="188"/>
                    </a:lnTo>
                    <a:lnTo>
                      <a:pt x="236" y="255"/>
                    </a:lnTo>
                    <a:lnTo>
                      <a:pt x="244" y="342"/>
                    </a:lnTo>
                    <a:lnTo>
                      <a:pt x="249" y="457"/>
                    </a:lnTo>
                    <a:lnTo>
                      <a:pt x="254" y="606"/>
                    </a:lnTo>
                    <a:lnTo>
                      <a:pt x="256" y="794"/>
                    </a:lnTo>
                    <a:lnTo>
                      <a:pt x="253" y="794"/>
                    </a:lnTo>
                    <a:lnTo>
                      <a:pt x="247" y="793"/>
                    </a:lnTo>
                    <a:lnTo>
                      <a:pt x="239" y="790"/>
                    </a:lnTo>
                    <a:lnTo>
                      <a:pt x="231" y="787"/>
                    </a:lnTo>
                    <a:lnTo>
                      <a:pt x="221" y="784"/>
                    </a:lnTo>
                    <a:lnTo>
                      <a:pt x="211" y="781"/>
                    </a:lnTo>
                    <a:lnTo>
                      <a:pt x="203" y="778"/>
                    </a:lnTo>
                    <a:lnTo>
                      <a:pt x="198" y="775"/>
                    </a:lnTo>
                    <a:lnTo>
                      <a:pt x="192" y="734"/>
                    </a:lnTo>
                    <a:lnTo>
                      <a:pt x="188" y="710"/>
                    </a:lnTo>
                    <a:lnTo>
                      <a:pt x="186" y="697"/>
                    </a:lnTo>
                    <a:lnTo>
                      <a:pt x="185" y="686"/>
                    </a:lnTo>
                    <a:lnTo>
                      <a:pt x="184" y="682"/>
                    </a:lnTo>
                    <a:lnTo>
                      <a:pt x="181" y="678"/>
                    </a:lnTo>
                    <a:lnTo>
                      <a:pt x="180" y="672"/>
                    </a:lnTo>
                    <a:lnTo>
                      <a:pt x="178" y="668"/>
                    </a:lnTo>
                    <a:lnTo>
                      <a:pt x="173" y="670"/>
                    </a:lnTo>
                    <a:lnTo>
                      <a:pt x="171" y="672"/>
                    </a:lnTo>
                    <a:lnTo>
                      <a:pt x="170" y="676"/>
                    </a:lnTo>
                    <a:lnTo>
                      <a:pt x="168" y="681"/>
                    </a:lnTo>
                    <a:lnTo>
                      <a:pt x="164" y="709"/>
                    </a:lnTo>
                    <a:lnTo>
                      <a:pt x="162" y="728"/>
                    </a:lnTo>
                    <a:lnTo>
                      <a:pt x="158" y="744"/>
                    </a:lnTo>
                    <a:lnTo>
                      <a:pt x="153" y="767"/>
                    </a:lnTo>
                    <a:lnTo>
                      <a:pt x="141" y="767"/>
                    </a:lnTo>
                    <a:lnTo>
                      <a:pt x="130" y="769"/>
                    </a:lnTo>
                    <a:lnTo>
                      <a:pt x="117" y="770"/>
                    </a:lnTo>
                    <a:lnTo>
                      <a:pt x="103" y="771"/>
                    </a:lnTo>
                    <a:lnTo>
                      <a:pt x="89" y="772"/>
                    </a:lnTo>
                    <a:lnTo>
                      <a:pt x="76" y="773"/>
                    </a:lnTo>
                    <a:lnTo>
                      <a:pt x="61" y="774"/>
                    </a:lnTo>
                    <a:lnTo>
                      <a:pt x="46" y="775"/>
                    </a:lnTo>
                    <a:lnTo>
                      <a:pt x="39" y="778"/>
                    </a:lnTo>
                    <a:lnTo>
                      <a:pt x="33" y="781"/>
                    </a:lnTo>
                    <a:lnTo>
                      <a:pt x="27" y="784"/>
                    </a:lnTo>
                    <a:lnTo>
                      <a:pt x="23" y="787"/>
                    </a:lnTo>
                    <a:lnTo>
                      <a:pt x="18" y="790"/>
                    </a:lnTo>
                    <a:lnTo>
                      <a:pt x="13" y="796"/>
                    </a:lnTo>
                    <a:lnTo>
                      <a:pt x="6" y="802"/>
                    </a:lnTo>
                    <a:lnTo>
                      <a:pt x="0" y="809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8"/>
              <p:cNvSpPr/>
              <p:nvPr/>
            </p:nvSpPr>
            <p:spPr>
              <a:xfrm>
                <a:off x="1140480" y="1078920"/>
                <a:ext cx="92160" cy="89640"/>
              </a:xfrm>
              <a:custGeom>
                <a:avLst/>
                <a:gdLst/>
                <a:ahLst/>
                <a:rect l="l" t="t" r="r" b="b"/>
                <a:pathLst>
                  <a:path w="305" h="575">
                    <a:moveTo>
                      <a:pt x="143" y="499"/>
                    </a:moveTo>
                    <a:lnTo>
                      <a:pt x="147" y="488"/>
                    </a:lnTo>
                    <a:lnTo>
                      <a:pt x="154" y="473"/>
                    </a:lnTo>
                    <a:lnTo>
                      <a:pt x="160" y="454"/>
                    </a:lnTo>
                    <a:lnTo>
                      <a:pt x="167" y="433"/>
                    </a:lnTo>
                    <a:lnTo>
                      <a:pt x="174" y="412"/>
                    </a:lnTo>
                    <a:lnTo>
                      <a:pt x="179" y="393"/>
                    </a:lnTo>
                    <a:lnTo>
                      <a:pt x="183" y="379"/>
                    </a:lnTo>
                    <a:lnTo>
                      <a:pt x="185" y="370"/>
                    </a:lnTo>
                    <a:lnTo>
                      <a:pt x="183" y="370"/>
                    </a:lnTo>
                    <a:lnTo>
                      <a:pt x="180" y="370"/>
                    </a:lnTo>
                    <a:lnTo>
                      <a:pt x="177" y="370"/>
                    </a:lnTo>
                    <a:lnTo>
                      <a:pt x="174" y="370"/>
                    </a:lnTo>
                    <a:lnTo>
                      <a:pt x="172" y="374"/>
                    </a:lnTo>
                    <a:lnTo>
                      <a:pt x="168" y="379"/>
                    </a:lnTo>
                    <a:lnTo>
                      <a:pt x="164" y="383"/>
                    </a:lnTo>
                    <a:lnTo>
                      <a:pt x="161" y="386"/>
                    </a:lnTo>
                    <a:lnTo>
                      <a:pt x="154" y="396"/>
                    </a:lnTo>
                    <a:lnTo>
                      <a:pt x="149" y="410"/>
                    </a:lnTo>
                    <a:lnTo>
                      <a:pt x="144" y="425"/>
                    </a:lnTo>
                    <a:lnTo>
                      <a:pt x="141" y="440"/>
                    </a:lnTo>
                    <a:lnTo>
                      <a:pt x="136" y="455"/>
                    </a:lnTo>
                    <a:lnTo>
                      <a:pt x="132" y="467"/>
                    </a:lnTo>
                    <a:lnTo>
                      <a:pt x="127" y="478"/>
                    </a:lnTo>
                    <a:lnTo>
                      <a:pt x="121" y="485"/>
                    </a:lnTo>
                    <a:lnTo>
                      <a:pt x="117" y="484"/>
                    </a:lnTo>
                    <a:lnTo>
                      <a:pt x="114" y="482"/>
                    </a:lnTo>
                    <a:lnTo>
                      <a:pt x="111" y="481"/>
                    </a:lnTo>
                    <a:lnTo>
                      <a:pt x="108" y="479"/>
                    </a:lnTo>
                    <a:lnTo>
                      <a:pt x="105" y="477"/>
                    </a:lnTo>
                    <a:lnTo>
                      <a:pt x="100" y="474"/>
                    </a:lnTo>
                    <a:lnTo>
                      <a:pt x="94" y="469"/>
                    </a:lnTo>
                    <a:lnTo>
                      <a:pt x="86" y="464"/>
                    </a:lnTo>
                    <a:lnTo>
                      <a:pt x="67" y="465"/>
                    </a:lnTo>
                    <a:lnTo>
                      <a:pt x="52" y="466"/>
                    </a:lnTo>
                    <a:lnTo>
                      <a:pt x="39" y="466"/>
                    </a:lnTo>
                    <a:lnTo>
                      <a:pt x="31" y="467"/>
                    </a:lnTo>
                    <a:lnTo>
                      <a:pt x="23" y="468"/>
                    </a:lnTo>
                    <a:lnTo>
                      <a:pt x="16" y="469"/>
                    </a:lnTo>
                    <a:lnTo>
                      <a:pt x="9" y="471"/>
                    </a:lnTo>
                    <a:lnTo>
                      <a:pt x="0" y="472"/>
                    </a:lnTo>
                    <a:lnTo>
                      <a:pt x="23" y="421"/>
                    </a:lnTo>
                    <a:lnTo>
                      <a:pt x="40" y="384"/>
                    </a:lnTo>
                    <a:lnTo>
                      <a:pt x="53" y="356"/>
                    </a:lnTo>
                    <a:lnTo>
                      <a:pt x="62" y="335"/>
                    </a:lnTo>
                    <a:lnTo>
                      <a:pt x="68" y="321"/>
                    </a:lnTo>
                    <a:lnTo>
                      <a:pt x="73" y="310"/>
                    </a:lnTo>
                    <a:lnTo>
                      <a:pt x="77" y="300"/>
                    </a:lnTo>
                    <a:lnTo>
                      <a:pt x="81" y="290"/>
                    </a:lnTo>
                    <a:lnTo>
                      <a:pt x="92" y="271"/>
                    </a:lnTo>
                    <a:lnTo>
                      <a:pt x="112" y="241"/>
                    </a:lnTo>
                    <a:lnTo>
                      <a:pt x="136" y="203"/>
                    </a:lnTo>
                    <a:lnTo>
                      <a:pt x="162" y="161"/>
                    </a:lnTo>
                    <a:lnTo>
                      <a:pt x="189" y="122"/>
                    </a:lnTo>
                    <a:lnTo>
                      <a:pt x="211" y="87"/>
                    </a:lnTo>
                    <a:lnTo>
                      <a:pt x="227" y="63"/>
                    </a:lnTo>
                    <a:lnTo>
                      <a:pt x="234" y="54"/>
                    </a:lnTo>
                    <a:lnTo>
                      <a:pt x="238" y="44"/>
                    </a:lnTo>
                    <a:lnTo>
                      <a:pt x="244" y="38"/>
                    </a:lnTo>
                    <a:lnTo>
                      <a:pt x="251" y="32"/>
                    </a:lnTo>
                    <a:lnTo>
                      <a:pt x="258" y="28"/>
                    </a:lnTo>
                    <a:lnTo>
                      <a:pt x="265" y="22"/>
                    </a:lnTo>
                    <a:lnTo>
                      <a:pt x="273" y="17"/>
                    </a:lnTo>
                    <a:lnTo>
                      <a:pt x="280" y="10"/>
                    </a:lnTo>
                    <a:lnTo>
                      <a:pt x="288" y="0"/>
                    </a:lnTo>
                    <a:lnTo>
                      <a:pt x="287" y="85"/>
                    </a:lnTo>
                    <a:lnTo>
                      <a:pt x="294" y="125"/>
                    </a:lnTo>
                    <a:lnTo>
                      <a:pt x="302" y="161"/>
                    </a:lnTo>
                    <a:lnTo>
                      <a:pt x="305" y="233"/>
                    </a:lnTo>
                    <a:lnTo>
                      <a:pt x="296" y="253"/>
                    </a:lnTo>
                    <a:lnTo>
                      <a:pt x="283" y="286"/>
                    </a:lnTo>
                    <a:lnTo>
                      <a:pt x="268" y="327"/>
                    </a:lnTo>
                    <a:lnTo>
                      <a:pt x="251" y="375"/>
                    </a:lnTo>
                    <a:lnTo>
                      <a:pt x="231" y="427"/>
                    </a:lnTo>
                    <a:lnTo>
                      <a:pt x="211" y="480"/>
                    </a:lnTo>
                    <a:lnTo>
                      <a:pt x="190" y="530"/>
                    </a:lnTo>
                    <a:lnTo>
                      <a:pt x="168" y="575"/>
                    </a:lnTo>
                    <a:lnTo>
                      <a:pt x="157" y="566"/>
                    </a:lnTo>
                    <a:lnTo>
                      <a:pt x="149" y="543"/>
                    </a:lnTo>
                    <a:lnTo>
                      <a:pt x="144" y="518"/>
                    </a:lnTo>
                    <a:lnTo>
                      <a:pt x="143" y="499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9"/>
              <p:cNvSpPr/>
              <p:nvPr/>
            </p:nvSpPr>
            <p:spPr>
              <a:xfrm>
                <a:off x="1029600" y="993600"/>
                <a:ext cx="262080" cy="174240"/>
              </a:xfrm>
              <a:custGeom>
                <a:avLst/>
                <a:gdLst/>
                <a:ahLst/>
                <a:rect l="l" t="t" r="r" b="b"/>
                <a:pathLst>
                  <a:path w="869" h="1120">
                    <a:moveTo>
                      <a:pt x="244" y="1120"/>
                    </a:moveTo>
                    <a:lnTo>
                      <a:pt x="235" y="1111"/>
                    </a:lnTo>
                    <a:lnTo>
                      <a:pt x="222" y="1100"/>
                    </a:lnTo>
                    <a:lnTo>
                      <a:pt x="207" y="1086"/>
                    </a:lnTo>
                    <a:lnTo>
                      <a:pt x="191" y="1072"/>
                    </a:lnTo>
                    <a:lnTo>
                      <a:pt x="175" y="1058"/>
                    </a:lnTo>
                    <a:lnTo>
                      <a:pt x="160" y="1045"/>
                    </a:lnTo>
                    <a:lnTo>
                      <a:pt x="147" y="1034"/>
                    </a:lnTo>
                    <a:lnTo>
                      <a:pt x="137" y="1028"/>
                    </a:lnTo>
                    <a:lnTo>
                      <a:pt x="147" y="1010"/>
                    </a:lnTo>
                    <a:lnTo>
                      <a:pt x="160" y="991"/>
                    </a:lnTo>
                    <a:lnTo>
                      <a:pt x="175" y="972"/>
                    </a:lnTo>
                    <a:lnTo>
                      <a:pt x="191" y="952"/>
                    </a:lnTo>
                    <a:lnTo>
                      <a:pt x="207" y="932"/>
                    </a:lnTo>
                    <a:lnTo>
                      <a:pt x="222" y="913"/>
                    </a:lnTo>
                    <a:lnTo>
                      <a:pt x="235" y="896"/>
                    </a:lnTo>
                    <a:lnTo>
                      <a:pt x="244" y="881"/>
                    </a:lnTo>
                    <a:lnTo>
                      <a:pt x="241" y="881"/>
                    </a:lnTo>
                    <a:lnTo>
                      <a:pt x="239" y="880"/>
                    </a:lnTo>
                    <a:lnTo>
                      <a:pt x="237" y="880"/>
                    </a:lnTo>
                    <a:lnTo>
                      <a:pt x="235" y="879"/>
                    </a:lnTo>
                    <a:lnTo>
                      <a:pt x="220" y="894"/>
                    </a:lnTo>
                    <a:lnTo>
                      <a:pt x="205" y="910"/>
                    </a:lnTo>
                    <a:lnTo>
                      <a:pt x="190" y="925"/>
                    </a:lnTo>
                    <a:lnTo>
                      <a:pt x="176" y="940"/>
                    </a:lnTo>
                    <a:lnTo>
                      <a:pt x="161" y="956"/>
                    </a:lnTo>
                    <a:lnTo>
                      <a:pt x="147" y="972"/>
                    </a:lnTo>
                    <a:lnTo>
                      <a:pt x="134" y="988"/>
                    </a:lnTo>
                    <a:lnTo>
                      <a:pt x="121" y="1005"/>
                    </a:lnTo>
                    <a:lnTo>
                      <a:pt x="107" y="1002"/>
                    </a:lnTo>
                    <a:lnTo>
                      <a:pt x="92" y="999"/>
                    </a:lnTo>
                    <a:lnTo>
                      <a:pt x="78" y="996"/>
                    </a:lnTo>
                    <a:lnTo>
                      <a:pt x="63" y="991"/>
                    </a:lnTo>
                    <a:lnTo>
                      <a:pt x="47" y="987"/>
                    </a:lnTo>
                    <a:lnTo>
                      <a:pt x="32" y="984"/>
                    </a:lnTo>
                    <a:lnTo>
                      <a:pt x="16" y="982"/>
                    </a:lnTo>
                    <a:lnTo>
                      <a:pt x="0" y="980"/>
                    </a:lnTo>
                    <a:lnTo>
                      <a:pt x="3" y="974"/>
                    </a:lnTo>
                    <a:lnTo>
                      <a:pt x="9" y="964"/>
                    </a:lnTo>
                    <a:lnTo>
                      <a:pt x="17" y="952"/>
                    </a:lnTo>
                    <a:lnTo>
                      <a:pt x="26" y="937"/>
                    </a:lnTo>
                    <a:lnTo>
                      <a:pt x="37" y="922"/>
                    </a:lnTo>
                    <a:lnTo>
                      <a:pt x="47" y="909"/>
                    </a:lnTo>
                    <a:lnTo>
                      <a:pt x="56" y="896"/>
                    </a:lnTo>
                    <a:lnTo>
                      <a:pt x="64" y="886"/>
                    </a:lnTo>
                    <a:lnTo>
                      <a:pt x="93" y="848"/>
                    </a:lnTo>
                    <a:lnTo>
                      <a:pt x="123" y="811"/>
                    </a:lnTo>
                    <a:lnTo>
                      <a:pt x="153" y="774"/>
                    </a:lnTo>
                    <a:lnTo>
                      <a:pt x="183" y="738"/>
                    </a:lnTo>
                    <a:lnTo>
                      <a:pt x="213" y="701"/>
                    </a:lnTo>
                    <a:lnTo>
                      <a:pt x="244" y="665"/>
                    </a:lnTo>
                    <a:lnTo>
                      <a:pt x="274" y="629"/>
                    </a:lnTo>
                    <a:lnTo>
                      <a:pt x="304" y="593"/>
                    </a:lnTo>
                    <a:lnTo>
                      <a:pt x="334" y="559"/>
                    </a:lnTo>
                    <a:lnTo>
                      <a:pt x="364" y="523"/>
                    </a:lnTo>
                    <a:lnTo>
                      <a:pt x="394" y="488"/>
                    </a:lnTo>
                    <a:lnTo>
                      <a:pt x="422" y="452"/>
                    </a:lnTo>
                    <a:lnTo>
                      <a:pt x="450" y="417"/>
                    </a:lnTo>
                    <a:lnTo>
                      <a:pt x="478" y="380"/>
                    </a:lnTo>
                    <a:lnTo>
                      <a:pt x="504" y="345"/>
                    </a:lnTo>
                    <a:lnTo>
                      <a:pt x="529" y="308"/>
                    </a:lnTo>
                    <a:lnTo>
                      <a:pt x="541" y="298"/>
                    </a:lnTo>
                    <a:lnTo>
                      <a:pt x="555" y="283"/>
                    </a:lnTo>
                    <a:lnTo>
                      <a:pt x="570" y="265"/>
                    </a:lnTo>
                    <a:lnTo>
                      <a:pt x="585" y="243"/>
                    </a:lnTo>
                    <a:lnTo>
                      <a:pt x="601" y="221"/>
                    </a:lnTo>
                    <a:lnTo>
                      <a:pt x="618" y="195"/>
                    </a:lnTo>
                    <a:lnTo>
                      <a:pt x="634" y="169"/>
                    </a:lnTo>
                    <a:lnTo>
                      <a:pt x="651" y="143"/>
                    </a:lnTo>
                    <a:lnTo>
                      <a:pt x="668" y="117"/>
                    </a:lnTo>
                    <a:lnTo>
                      <a:pt x="685" y="92"/>
                    </a:lnTo>
                    <a:lnTo>
                      <a:pt x="700" y="68"/>
                    </a:lnTo>
                    <a:lnTo>
                      <a:pt x="715" y="47"/>
                    </a:lnTo>
                    <a:lnTo>
                      <a:pt x="729" y="29"/>
                    </a:lnTo>
                    <a:lnTo>
                      <a:pt x="740" y="15"/>
                    </a:lnTo>
                    <a:lnTo>
                      <a:pt x="750" y="5"/>
                    </a:lnTo>
                    <a:lnTo>
                      <a:pt x="760" y="0"/>
                    </a:lnTo>
                    <a:lnTo>
                      <a:pt x="772" y="8"/>
                    </a:lnTo>
                    <a:lnTo>
                      <a:pt x="783" y="17"/>
                    </a:lnTo>
                    <a:lnTo>
                      <a:pt x="792" y="24"/>
                    </a:lnTo>
                    <a:lnTo>
                      <a:pt x="802" y="30"/>
                    </a:lnTo>
                    <a:lnTo>
                      <a:pt x="812" y="36"/>
                    </a:lnTo>
                    <a:lnTo>
                      <a:pt x="822" y="40"/>
                    </a:lnTo>
                    <a:lnTo>
                      <a:pt x="833" y="44"/>
                    </a:lnTo>
                    <a:lnTo>
                      <a:pt x="847" y="46"/>
                    </a:lnTo>
                    <a:lnTo>
                      <a:pt x="853" y="51"/>
                    </a:lnTo>
                    <a:lnTo>
                      <a:pt x="858" y="58"/>
                    </a:lnTo>
                    <a:lnTo>
                      <a:pt x="863" y="64"/>
                    </a:lnTo>
                    <a:lnTo>
                      <a:pt x="869" y="69"/>
                    </a:lnTo>
                    <a:lnTo>
                      <a:pt x="869" y="75"/>
                    </a:lnTo>
                    <a:lnTo>
                      <a:pt x="869" y="81"/>
                    </a:lnTo>
                    <a:lnTo>
                      <a:pt x="869" y="87"/>
                    </a:lnTo>
                    <a:lnTo>
                      <a:pt x="869" y="93"/>
                    </a:lnTo>
                    <a:lnTo>
                      <a:pt x="853" y="122"/>
                    </a:lnTo>
                    <a:lnTo>
                      <a:pt x="837" y="148"/>
                    </a:lnTo>
                    <a:lnTo>
                      <a:pt x="820" y="174"/>
                    </a:lnTo>
                    <a:lnTo>
                      <a:pt x="802" y="198"/>
                    </a:lnTo>
                    <a:lnTo>
                      <a:pt x="785" y="222"/>
                    </a:lnTo>
                    <a:lnTo>
                      <a:pt x="767" y="247"/>
                    </a:lnTo>
                    <a:lnTo>
                      <a:pt x="750" y="273"/>
                    </a:lnTo>
                    <a:lnTo>
                      <a:pt x="733" y="301"/>
                    </a:lnTo>
                    <a:lnTo>
                      <a:pt x="722" y="312"/>
                    </a:lnTo>
                    <a:lnTo>
                      <a:pt x="703" y="336"/>
                    </a:lnTo>
                    <a:lnTo>
                      <a:pt x="679" y="370"/>
                    </a:lnTo>
                    <a:lnTo>
                      <a:pt x="651" y="414"/>
                    </a:lnTo>
                    <a:lnTo>
                      <a:pt x="619" y="464"/>
                    </a:lnTo>
                    <a:lnTo>
                      <a:pt x="585" y="520"/>
                    </a:lnTo>
                    <a:lnTo>
                      <a:pt x="548" y="580"/>
                    </a:lnTo>
                    <a:lnTo>
                      <a:pt x="511" y="641"/>
                    </a:lnTo>
                    <a:lnTo>
                      <a:pt x="473" y="704"/>
                    </a:lnTo>
                    <a:lnTo>
                      <a:pt x="437" y="766"/>
                    </a:lnTo>
                    <a:lnTo>
                      <a:pt x="403" y="824"/>
                    </a:lnTo>
                    <a:lnTo>
                      <a:pt x="370" y="879"/>
                    </a:lnTo>
                    <a:lnTo>
                      <a:pt x="342" y="926"/>
                    </a:lnTo>
                    <a:lnTo>
                      <a:pt x="319" y="966"/>
                    </a:lnTo>
                    <a:lnTo>
                      <a:pt x="300" y="997"/>
                    </a:lnTo>
                    <a:lnTo>
                      <a:pt x="289" y="1015"/>
                    </a:lnTo>
                    <a:lnTo>
                      <a:pt x="273" y="1039"/>
                    </a:lnTo>
                    <a:lnTo>
                      <a:pt x="261" y="1060"/>
                    </a:lnTo>
                    <a:lnTo>
                      <a:pt x="253" y="1079"/>
                    </a:lnTo>
                    <a:lnTo>
                      <a:pt x="248" y="1094"/>
                    </a:lnTo>
                    <a:lnTo>
                      <a:pt x="246" y="1105"/>
                    </a:lnTo>
                    <a:lnTo>
                      <a:pt x="245" y="1114"/>
                    </a:lnTo>
                    <a:lnTo>
                      <a:pt x="244" y="1119"/>
                    </a:lnTo>
                    <a:lnTo>
                      <a:pt x="244" y="112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20"/>
              <p:cNvSpPr/>
              <p:nvPr/>
            </p:nvSpPr>
            <p:spPr>
              <a:xfrm>
                <a:off x="1309320" y="1152000"/>
                <a:ext cx="33480" cy="8640"/>
              </a:xfrm>
              <a:custGeom>
                <a:avLst/>
                <a:gdLst/>
                <a:ahLst/>
                <a:rect l="l" t="t" r="r" b="b"/>
                <a:pathLst>
                  <a:path w="113" h="58">
                    <a:moveTo>
                      <a:pt x="3" y="39"/>
                    </a:moveTo>
                    <a:lnTo>
                      <a:pt x="2" y="32"/>
                    </a:lnTo>
                    <a:lnTo>
                      <a:pt x="2" y="20"/>
                    </a:lnTo>
                    <a:lnTo>
                      <a:pt x="1" y="10"/>
                    </a:lnTo>
                    <a:lnTo>
                      <a:pt x="0" y="1"/>
                    </a:lnTo>
                    <a:lnTo>
                      <a:pt x="10" y="0"/>
                    </a:lnTo>
                    <a:lnTo>
                      <a:pt x="20" y="0"/>
                    </a:lnTo>
                    <a:lnTo>
                      <a:pt x="30" y="0"/>
                    </a:lnTo>
                    <a:lnTo>
                      <a:pt x="38" y="1"/>
                    </a:lnTo>
                    <a:lnTo>
                      <a:pt x="47" y="2"/>
                    </a:lnTo>
                    <a:lnTo>
                      <a:pt x="55" y="6"/>
                    </a:lnTo>
                    <a:lnTo>
                      <a:pt x="64" y="8"/>
                    </a:lnTo>
                    <a:lnTo>
                      <a:pt x="75" y="12"/>
                    </a:lnTo>
                    <a:lnTo>
                      <a:pt x="75" y="15"/>
                    </a:lnTo>
                    <a:lnTo>
                      <a:pt x="76" y="18"/>
                    </a:lnTo>
                    <a:lnTo>
                      <a:pt x="78" y="21"/>
                    </a:lnTo>
                    <a:lnTo>
                      <a:pt x="79" y="25"/>
                    </a:lnTo>
                    <a:lnTo>
                      <a:pt x="84" y="22"/>
                    </a:lnTo>
                    <a:lnTo>
                      <a:pt x="87" y="20"/>
                    </a:lnTo>
                    <a:lnTo>
                      <a:pt x="93" y="19"/>
                    </a:lnTo>
                    <a:lnTo>
                      <a:pt x="102" y="18"/>
                    </a:lnTo>
                    <a:lnTo>
                      <a:pt x="107" y="23"/>
                    </a:lnTo>
                    <a:lnTo>
                      <a:pt x="109" y="27"/>
                    </a:lnTo>
                    <a:lnTo>
                      <a:pt x="110" y="34"/>
                    </a:lnTo>
                    <a:lnTo>
                      <a:pt x="113" y="44"/>
                    </a:lnTo>
                    <a:lnTo>
                      <a:pt x="109" y="47"/>
                    </a:lnTo>
                    <a:lnTo>
                      <a:pt x="106" y="49"/>
                    </a:lnTo>
                    <a:lnTo>
                      <a:pt x="99" y="51"/>
                    </a:lnTo>
                    <a:lnTo>
                      <a:pt x="87" y="56"/>
                    </a:lnTo>
                    <a:lnTo>
                      <a:pt x="72" y="56"/>
                    </a:lnTo>
                    <a:lnTo>
                      <a:pt x="61" y="57"/>
                    </a:lnTo>
                    <a:lnTo>
                      <a:pt x="50" y="58"/>
                    </a:lnTo>
                    <a:lnTo>
                      <a:pt x="41" y="58"/>
                    </a:lnTo>
                    <a:lnTo>
                      <a:pt x="32" y="56"/>
                    </a:lnTo>
                    <a:lnTo>
                      <a:pt x="24" y="53"/>
                    </a:lnTo>
                    <a:lnTo>
                      <a:pt x="15" y="47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21"/>
              <p:cNvSpPr/>
              <p:nvPr/>
            </p:nvSpPr>
            <p:spPr>
              <a:xfrm>
                <a:off x="1338840" y="1099800"/>
                <a:ext cx="23760" cy="50400"/>
              </a:xfrm>
              <a:custGeom>
                <a:avLst/>
                <a:gdLst/>
                <a:ahLst/>
                <a:rect l="l" t="t" r="r" b="b"/>
                <a:pathLst>
                  <a:path w="79" h="327">
                    <a:moveTo>
                      <a:pt x="64" y="327"/>
                    </a:moveTo>
                    <a:lnTo>
                      <a:pt x="62" y="321"/>
                    </a:lnTo>
                    <a:lnTo>
                      <a:pt x="61" y="308"/>
                    </a:lnTo>
                    <a:lnTo>
                      <a:pt x="59" y="289"/>
                    </a:lnTo>
                    <a:lnTo>
                      <a:pt x="56" y="262"/>
                    </a:lnTo>
                    <a:lnTo>
                      <a:pt x="53" y="257"/>
                    </a:lnTo>
                    <a:lnTo>
                      <a:pt x="49" y="251"/>
                    </a:lnTo>
                    <a:lnTo>
                      <a:pt x="44" y="245"/>
                    </a:lnTo>
                    <a:lnTo>
                      <a:pt x="41" y="240"/>
                    </a:lnTo>
                    <a:lnTo>
                      <a:pt x="41" y="233"/>
                    </a:lnTo>
                    <a:lnTo>
                      <a:pt x="41" y="227"/>
                    </a:lnTo>
                    <a:lnTo>
                      <a:pt x="41" y="220"/>
                    </a:lnTo>
                    <a:lnTo>
                      <a:pt x="41" y="214"/>
                    </a:lnTo>
                    <a:lnTo>
                      <a:pt x="33" y="181"/>
                    </a:lnTo>
                    <a:lnTo>
                      <a:pt x="27" y="157"/>
                    </a:lnTo>
                    <a:lnTo>
                      <a:pt x="21" y="137"/>
                    </a:lnTo>
                    <a:lnTo>
                      <a:pt x="18" y="114"/>
                    </a:lnTo>
                    <a:lnTo>
                      <a:pt x="13" y="96"/>
                    </a:lnTo>
                    <a:lnTo>
                      <a:pt x="9" y="77"/>
                    </a:lnTo>
                    <a:lnTo>
                      <a:pt x="4" y="60"/>
                    </a:lnTo>
                    <a:lnTo>
                      <a:pt x="0" y="42"/>
                    </a:lnTo>
                    <a:lnTo>
                      <a:pt x="0" y="33"/>
                    </a:lnTo>
                    <a:lnTo>
                      <a:pt x="0" y="24"/>
                    </a:lnTo>
                    <a:lnTo>
                      <a:pt x="0" y="15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2"/>
                    </a:lnTo>
                    <a:lnTo>
                      <a:pt x="18" y="16"/>
                    </a:lnTo>
                    <a:lnTo>
                      <a:pt x="19" y="28"/>
                    </a:lnTo>
                    <a:lnTo>
                      <a:pt x="19" y="42"/>
                    </a:lnTo>
                    <a:lnTo>
                      <a:pt x="20" y="55"/>
                    </a:lnTo>
                    <a:lnTo>
                      <a:pt x="23" y="63"/>
                    </a:lnTo>
                    <a:lnTo>
                      <a:pt x="26" y="70"/>
                    </a:lnTo>
                    <a:lnTo>
                      <a:pt x="29" y="77"/>
                    </a:lnTo>
                    <a:lnTo>
                      <a:pt x="32" y="85"/>
                    </a:lnTo>
                    <a:lnTo>
                      <a:pt x="44" y="140"/>
                    </a:lnTo>
                    <a:lnTo>
                      <a:pt x="51" y="174"/>
                    </a:lnTo>
                    <a:lnTo>
                      <a:pt x="56" y="203"/>
                    </a:lnTo>
                    <a:lnTo>
                      <a:pt x="62" y="238"/>
                    </a:lnTo>
                    <a:lnTo>
                      <a:pt x="69" y="254"/>
                    </a:lnTo>
                    <a:lnTo>
                      <a:pt x="72" y="264"/>
                    </a:lnTo>
                    <a:lnTo>
                      <a:pt x="76" y="274"/>
                    </a:lnTo>
                    <a:lnTo>
                      <a:pt x="79" y="288"/>
                    </a:lnTo>
                    <a:lnTo>
                      <a:pt x="79" y="300"/>
                    </a:lnTo>
                    <a:lnTo>
                      <a:pt x="78" y="307"/>
                    </a:lnTo>
                    <a:lnTo>
                      <a:pt x="77" y="314"/>
                    </a:lnTo>
                    <a:lnTo>
                      <a:pt x="73" y="326"/>
                    </a:lnTo>
                    <a:lnTo>
                      <a:pt x="71" y="326"/>
                    </a:lnTo>
                    <a:lnTo>
                      <a:pt x="69" y="326"/>
                    </a:lnTo>
                    <a:lnTo>
                      <a:pt x="66" y="326"/>
                    </a:lnTo>
                    <a:lnTo>
                      <a:pt x="64" y="327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22"/>
              <p:cNvSpPr/>
              <p:nvPr/>
            </p:nvSpPr>
            <p:spPr>
              <a:xfrm>
                <a:off x="1578240" y="11419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23"/>
              <p:cNvSpPr/>
              <p:nvPr/>
            </p:nvSpPr>
            <p:spPr>
              <a:xfrm>
                <a:off x="1578240" y="1122840"/>
                <a:ext cx="34920" cy="23400"/>
              </a:xfrm>
              <a:custGeom>
                <a:avLst/>
                <a:gdLst/>
                <a:ahLst/>
                <a:rect l="l" t="t" r="r" b="b"/>
                <a:pathLst>
                  <a:path w="115" h="155">
                    <a:moveTo>
                      <a:pt x="0" y="30"/>
                    </a:moveTo>
                    <a:lnTo>
                      <a:pt x="0" y="94"/>
                    </a:lnTo>
                    <a:lnTo>
                      <a:pt x="5" y="106"/>
                    </a:lnTo>
                    <a:lnTo>
                      <a:pt x="9" y="114"/>
                    </a:lnTo>
                    <a:lnTo>
                      <a:pt x="16" y="122"/>
                    </a:lnTo>
                    <a:lnTo>
                      <a:pt x="23" y="126"/>
                    </a:lnTo>
                    <a:lnTo>
                      <a:pt x="32" y="131"/>
                    </a:lnTo>
                    <a:lnTo>
                      <a:pt x="44" y="137"/>
                    </a:lnTo>
                    <a:lnTo>
                      <a:pt x="55" y="144"/>
                    </a:lnTo>
                    <a:lnTo>
                      <a:pt x="70" y="155"/>
                    </a:lnTo>
                    <a:lnTo>
                      <a:pt x="76" y="155"/>
                    </a:lnTo>
                    <a:lnTo>
                      <a:pt x="83" y="155"/>
                    </a:lnTo>
                    <a:lnTo>
                      <a:pt x="89" y="155"/>
                    </a:lnTo>
                    <a:lnTo>
                      <a:pt x="95" y="155"/>
                    </a:lnTo>
                    <a:lnTo>
                      <a:pt x="100" y="153"/>
                    </a:lnTo>
                    <a:lnTo>
                      <a:pt x="105" y="150"/>
                    </a:lnTo>
                    <a:lnTo>
                      <a:pt x="111" y="148"/>
                    </a:lnTo>
                    <a:lnTo>
                      <a:pt x="115" y="146"/>
                    </a:lnTo>
                    <a:lnTo>
                      <a:pt x="112" y="130"/>
                    </a:lnTo>
                    <a:lnTo>
                      <a:pt x="103" y="109"/>
                    </a:lnTo>
                    <a:lnTo>
                      <a:pt x="89" y="86"/>
                    </a:lnTo>
                    <a:lnTo>
                      <a:pt x="73" y="62"/>
                    </a:lnTo>
                    <a:lnTo>
                      <a:pt x="54" y="39"/>
                    </a:lnTo>
                    <a:lnTo>
                      <a:pt x="37" y="20"/>
                    </a:lnTo>
                    <a:lnTo>
                      <a:pt x="21" y="7"/>
                    </a:lnTo>
                    <a:lnTo>
                      <a:pt x="8" y="0"/>
                    </a:lnTo>
                    <a:lnTo>
                      <a:pt x="6" y="9"/>
                    </a:lnTo>
                    <a:lnTo>
                      <a:pt x="5" y="16"/>
                    </a:lnTo>
                    <a:lnTo>
                      <a:pt x="2" y="23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4"/>
              <p:cNvSpPr/>
              <p:nvPr/>
            </p:nvSpPr>
            <p:spPr>
              <a:xfrm>
                <a:off x="1576080" y="1127160"/>
                <a:ext cx="2160" cy="9720"/>
              </a:xfrm>
              <a:custGeom>
                <a:avLst/>
                <a:gdLst/>
                <a:ahLst/>
                <a:rect l="l" t="t" r="r" b="b"/>
                <a:pathLst>
                  <a:path w="8" h="64">
                    <a:moveTo>
                      <a:pt x="8" y="64"/>
                    </a:moveTo>
                    <a:lnTo>
                      <a:pt x="8" y="0"/>
                    </a:lnTo>
                    <a:lnTo>
                      <a:pt x="5" y="5"/>
                    </a:lnTo>
                    <a:lnTo>
                      <a:pt x="2" y="11"/>
                    </a:lnTo>
                    <a:lnTo>
                      <a:pt x="1" y="19"/>
                    </a:lnTo>
                    <a:lnTo>
                      <a:pt x="0" y="30"/>
                    </a:lnTo>
                    <a:lnTo>
                      <a:pt x="2" y="40"/>
                    </a:lnTo>
                    <a:lnTo>
                      <a:pt x="4" y="49"/>
                    </a:lnTo>
                    <a:lnTo>
                      <a:pt x="6" y="57"/>
                    </a:lnTo>
                    <a:lnTo>
                      <a:pt x="8" y="64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5"/>
              <p:cNvSpPr/>
              <p:nvPr/>
            </p:nvSpPr>
            <p:spPr>
              <a:xfrm>
                <a:off x="1460160" y="1088280"/>
                <a:ext cx="118080" cy="54000"/>
              </a:xfrm>
              <a:custGeom>
                <a:avLst/>
                <a:gdLst/>
                <a:ahLst/>
                <a:rect l="l" t="t" r="r" b="b"/>
                <a:pathLst>
                  <a:path w="391" h="348">
                    <a:moveTo>
                      <a:pt x="391" y="348"/>
                    </a:moveTo>
                    <a:lnTo>
                      <a:pt x="391" y="344"/>
                    </a:lnTo>
                    <a:lnTo>
                      <a:pt x="380" y="329"/>
                    </a:lnTo>
                    <a:lnTo>
                      <a:pt x="372" y="313"/>
                    </a:lnTo>
                    <a:lnTo>
                      <a:pt x="365" y="297"/>
                    </a:lnTo>
                    <a:lnTo>
                      <a:pt x="359" y="279"/>
                    </a:lnTo>
                    <a:lnTo>
                      <a:pt x="363" y="269"/>
                    </a:lnTo>
                    <a:lnTo>
                      <a:pt x="369" y="251"/>
                    </a:lnTo>
                    <a:lnTo>
                      <a:pt x="376" y="230"/>
                    </a:lnTo>
                    <a:lnTo>
                      <a:pt x="381" y="216"/>
                    </a:lnTo>
                    <a:lnTo>
                      <a:pt x="370" y="210"/>
                    </a:lnTo>
                    <a:lnTo>
                      <a:pt x="360" y="204"/>
                    </a:lnTo>
                    <a:lnTo>
                      <a:pt x="350" y="197"/>
                    </a:lnTo>
                    <a:lnTo>
                      <a:pt x="339" y="191"/>
                    </a:lnTo>
                    <a:lnTo>
                      <a:pt x="329" y="186"/>
                    </a:lnTo>
                    <a:lnTo>
                      <a:pt x="320" y="180"/>
                    </a:lnTo>
                    <a:lnTo>
                      <a:pt x="311" y="173"/>
                    </a:lnTo>
                    <a:lnTo>
                      <a:pt x="302" y="166"/>
                    </a:lnTo>
                    <a:lnTo>
                      <a:pt x="297" y="161"/>
                    </a:lnTo>
                    <a:lnTo>
                      <a:pt x="279" y="152"/>
                    </a:lnTo>
                    <a:lnTo>
                      <a:pt x="255" y="140"/>
                    </a:lnTo>
                    <a:lnTo>
                      <a:pt x="226" y="126"/>
                    </a:lnTo>
                    <a:lnTo>
                      <a:pt x="197" y="114"/>
                    </a:lnTo>
                    <a:lnTo>
                      <a:pt x="170" y="101"/>
                    </a:lnTo>
                    <a:lnTo>
                      <a:pt x="149" y="92"/>
                    </a:lnTo>
                    <a:lnTo>
                      <a:pt x="138" y="87"/>
                    </a:lnTo>
                    <a:lnTo>
                      <a:pt x="121" y="75"/>
                    </a:lnTo>
                    <a:lnTo>
                      <a:pt x="103" y="64"/>
                    </a:lnTo>
                    <a:lnTo>
                      <a:pt x="87" y="52"/>
                    </a:lnTo>
                    <a:lnTo>
                      <a:pt x="70" y="42"/>
                    </a:lnTo>
                    <a:lnTo>
                      <a:pt x="53" y="31"/>
                    </a:lnTo>
                    <a:lnTo>
                      <a:pt x="36" y="21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17" y="24"/>
                    </a:lnTo>
                    <a:lnTo>
                      <a:pt x="34" y="48"/>
                    </a:lnTo>
                    <a:lnTo>
                      <a:pt x="54" y="76"/>
                    </a:lnTo>
                    <a:lnTo>
                      <a:pt x="74" y="103"/>
                    </a:lnTo>
                    <a:lnTo>
                      <a:pt x="92" y="128"/>
                    </a:lnTo>
                    <a:lnTo>
                      <a:pt x="104" y="146"/>
                    </a:lnTo>
                    <a:lnTo>
                      <a:pt x="109" y="154"/>
                    </a:lnTo>
                    <a:lnTo>
                      <a:pt x="118" y="168"/>
                    </a:lnTo>
                    <a:lnTo>
                      <a:pt x="124" y="179"/>
                    </a:lnTo>
                    <a:lnTo>
                      <a:pt x="131" y="189"/>
                    </a:lnTo>
                    <a:lnTo>
                      <a:pt x="138" y="207"/>
                    </a:lnTo>
                    <a:lnTo>
                      <a:pt x="150" y="220"/>
                    </a:lnTo>
                    <a:lnTo>
                      <a:pt x="163" y="230"/>
                    </a:lnTo>
                    <a:lnTo>
                      <a:pt x="175" y="237"/>
                    </a:lnTo>
                    <a:lnTo>
                      <a:pt x="186" y="243"/>
                    </a:lnTo>
                    <a:lnTo>
                      <a:pt x="197" y="250"/>
                    </a:lnTo>
                    <a:lnTo>
                      <a:pt x="209" y="256"/>
                    </a:lnTo>
                    <a:lnTo>
                      <a:pt x="222" y="264"/>
                    </a:lnTo>
                    <a:lnTo>
                      <a:pt x="237" y="276"/>
                    </a:lnTo>
                    <a:lnTo>
                      <a:pt x="245" y="281"/>
                    </a:lnTo>
                    <a:lnTo>
                      <a:pt x="254" y="285"/>
                    </a:lnTo>
                    <a:lnTo>
                      <a:pt x="262" y="289"/>
                    </a:lnTo>
                    <a:lnTo>
                      <a:pt x="271" y="292"/>
                    </a:lnTo>
                    <a:lnTo>
                      <a:pt x="279" y="297"/>
                    </a:lnTo>
                    <a:lnTo>
                      <a:pt x="289" y="300"/>
                    </a:lnTo>
                    <a:lnTo>
                      <a:pt x="297" y="304"/>
                    </a:lnTo>
                    <a:lnTo>
                      <a:pt x="305" y="309"/>
                    </a:lnTo>
                    <a:lnTo>
                      <a:pt x="315" y="314"/>
                    </a:lnTo>
                    <a:lnTo>
                      <a:pt x="322" y="318"/>
                    </a:lnTo>
                    <a:lnTo>
                      <a:pt x="329" y="322"/>
                    </a:lnTo>
                    <a:lnTo>
                      <a:pt x="338" y="325"/>
                    </a:lnTo>
                    <a:lnTo>
                      <a:pt x="344" y="326"/>
                    </a:lnTo>
                    <a:lnTo>
                      <a:pt x="350" y="328"/>
                    </a:lnTo>
                    <a:lnTo>
                      <a:pt x="357" y="331"/>
                    </a:lnTo>
                    <a:lnTo>
                      <a:pt x="363" y="334"/>
                    </a:lnTo>
                    <a:lnTo>
                      <a:pt x="370" y="338"/>
                    </a:lnTo>
                    <a:lnTo>
                      <a:pt x="377" y="343"/>
                    </a:lnTo>
                    <a:lnTo>
                      <a:pt x="384" y="346"/>
                    </a:lnTo>
                    <a:lnTo>
                      <a:pt x="391" y="348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>
                <a:off x="977040" y="1110960"/>
                <a:ext cx="42480" cy="34200"/>
              </a:xfrm>
              <a:custGeom>
                <a:avLst/>
                <a:gdLst/>
                <a:ahLst/>
                <a:rect l="l" t="t" r="r" b="b"/>
                <a:pathLst>
                  <a:path w="142" h="221">
                    <a:moveTo>
                      <a:pt x="38" y="183"/>
                    </a:moveTo>
                    <a:lnTo>
                      <a:pt x="25" y="168"/>
                    </a:lnTo>
                    <a:lnTo>
                      <a:pt x="13" y="146"/>
                    </a:lnTo>
                    <a:lnTo>
                      <a:pt x="5" y="121"/>
                    </a:lnTo>
                    <a:lnTo>
                      <a:pt x="1" y="94"/>
                    </a:lnTo>
                    <a:lnTo>
                      <a:pt x="0" y="67"/>
                    </a:lnTo>
                    <a:lnTo>
                      <a:pt x="3" y="42"/>
                    </a:lnTo>
                    <a:lnTo>
                      <a:pt x="12" y="22"/>
                    </a:lnTo>
                    <a:lnTo>
                      <a:pt x="26" y="8"/>
                    </a:lnTo>
                    <a:lnTo>
                      <a:pt x="60" y="0"/>
                    </a:lnTo>
                    <a:lnTo>
                      <a:pt x="87" y="4"/>
                    </a:lnTo>
                    <a:lnTo>
                      <a:pt x="109" y="20"/>
                    </a:lnTo>
                    <a:lnTo>
                      <a:pt x="125" y="43"/>
                    </a:lnTo>
                    <a:lnTo>
                      <a:pt x="136" y="72"/>
                    </a:lnTo>
                    <a:lnTo>
                      <a:pt x="141" y="102"/>
                    </a:lnTo>
                    <a:lnTo>
                      <a:pt x="142" y="133"/>
                    </a:lnTo>
                    <a:lnTo>
                      <a:pt x="138" y="160"/>
                    </a:lnTo>
                    <a:lnTo>
                      <a:pt x="129" y="181"/>
                    </a:lnTo>
                    <a:lnTo>
                      <a:pt x="121" y="198"/>
                    </a:lnTo>
                    <a:lnTo>
                      <a:pt x="111" y="210"/>
                    </a:lnTo>
                    <a:lnTo>
                      <a:pt x="101" y="218"/>
                    </a:lnTo>
                    <a:lnTo>
                      <a:pt x="88" y="221"/>
                    </a:lnTo>
                    <a:lnTo>
                      <a:pt x="74" y="215"/>
                    </a:lnTo>
                    <a:lnTo>
                      <a:pt x="58" y="204"/>
                    </a:lnTo>
                    <a:lnTo>
                      <a:pt x="38" y="183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27"/>
              <p:cNvSpPr/>
              <p:nvPr/>
            </p:nvSpPr>
            <p:spPr>
              <a:xfrm>
                <a:off x="1338840" y="1073520"/>
                <a:ext cx="42480" cy="70920"/>
              </a:xfrm>
              <a:custGeom>
                <a:avLst/>
                <a:gdLst/>
                <a:ahLst/>
                <a:rect l="l" t="t" r="r" b="b"/>
                <a:pathLst>
                  <a:path w="140" h="458">
                    <a:moveTo>
                      <a:pt x="136" y="458"/>
                    </a:moveTo>
                    <a:lnTo>
                      <a:pt x="129" y="432"/>
                    </a:lnTo>
                    <a:lnTo>
                      <a:pt x="123" y="411"/>
                    </a:lnTo>
                    <a:lnTo>
                      <a:pt x="118" y="395"/>
                    </a:lnTo>
                    <a:lnTo>
                      <a:pt x="115" y="381"/>
                    </a:lnTo>
                    <a:lnTo>
                      <a:pt x="111" y="368"/>
                    </a:lnTo>
                    <a:lnTo>
                      <a:pt x="109" y="354"/>
                    </a:lnTo>
                    <a:lnTo>
                      <a:pt x="106" y="337"/>
                    </a:lnTo>
                    <a:lnTo>
                      <a:pt x="101" y="316"/>
                    </a:lnTo>
                    <a:lnTo>
                      <a:pt x="96" y="307"/>
                    </a:lnTo>
                    <a:lnTo>
                      <a:pt x="93" y="299"/>
                    </a:lnTo>
                    <a:lnTo>
                      <a:pt x="88" y="290"/>
                    </a:lnTo>
                    <a:lnTo>
                      <a:pt x="84" y="282"/>
                    </a:lnTo>
                    <a:lnTo>
                      <a:pt x="79" y="274"/>
                    </a:lnTo>
                    <a:lnTo>
                      <a:pt x="76" y="264"/>
                    </a:lnTo>
                    <a:lnTo>
                      <a:pt x="71" y="255"/>
                    </a:lnTo>
                    <a:lnTo>
                      <a:pt x="66" y="244"/>
                    </a:lnTo>
                    <a:lnTo>
                      <a:pt x="61" y="218"/>
                    </a:lnTo>
                    <a:lnTo>
                      <a:pt x="55" y="192"/>
                    </a:lnTo>
                    <a:lnTo>
                      <a:pt x="49" y="165"/>
                    </a:lnTo>
                    <a:lnTo>
                      <a:pt x="43" y="138"/>
                    </a:lnTo>
                    <a:lnTo>
                      <a:pt x="41" y="133"/>
                    </a:lnTo>
                    <a:lnTo>
                      <a:pt x="38" y="127"/>
                    </a:lnTo>
                    <a:lnTo>
                      <a:pt x="34" y="122"/>
                    </a:lnTo>
                    <a:lnTo>
                      <a:pt x="31" y="117"/>
                    </a:lnTo>
                    <a:lnTo>
                      <a:pt x="24" y="88"/>
                    </a:lnTo>
                    <a:lnTo>
                      <a:pt x="16" y="58"/>
                    </a:lnTo>
                    <a:lnTo>
                      <a:pt x="8" y="29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5" y="7"/>
                    </a:lnTo>
                    <a:lnTo>
                      <a:pt x="8" y="17"/>
                    </a:lnTo>
                    <a:lnTo>
                      <a:pt x="12" y="30"/>
                    </a:lnTo>
                    <a:lnTo>
                      <a:pt x="19" y="52"/>
                    </a:lnTo>
                    <a:lnTo>
                      <a:pt x="28" y="81"/>
                    </a:lnTo>
                    <a:lnTo>
                      <a:pt x="40" y="120"/>
                    </a:lnTo>
                    <a:lnTo>
                      <a:pt x="42" y="125"/>
                    </a:lnTo>
                    <a:lnTo>
                      <a:pt x="46" y="129"/>
                    </a:lnTo>
                    <a:lnTo>
                      <a:pt x="49" y="135"/>
                    </a:lnTo>
                    <a:lnTo>
                      <a:pt x="52" y="141"/>
                    </a:lnTo>
                    <a:lnTo>
                      <a:pt x="56" y="164"/>
                    </a:lnTo>
                    <a:lnTo>
                      <a:pt x="61" y="186"/>
                    </a:lnTo>
                    <a:lnTo>
                      <a:pt x="65" y="209"/>
                    </a:lnTo>
                    <a:lnTo>
                      <a:pt x="70" y="232"/>
                    </a:lnTo>
                    <a:lnTo>
                      <a:pt x="73" y="240"/>
                    </a:lnTo>
                    <a:lnTo>
                      <a:pt x="76" y="247"/>
                    </a:lnTo>
                    <a:lnTo>
                      <a:pt x="78" y="256"/>
                    </a:lnTo>
                    <a:lnTo>
                      <a:pt x="81" y="264"/>
                    </a:lnTo>
                    <a:lnTo>
                      <a:pt x="96" y="288"/>
                    </a:lnTo>
                    <a:lnTo>
                      <a:pt x="106" y="303"/>
                    </a:lnTo>
                    <a:lnTo>
                      <a:pt x="110" y="312"/>
                    </a:lnTo>
                    <a:lnTo>
                      <a:pt x="114" y="323"/>
                    </a:lnTo>
                    <a:lnTo>
                      <a:pt x="116" y="340"/>
                    </a:lnTo>
                    <a:lnTo>
                      <a:pt x="119" y="358"/>
                    </a:lnTo>
                    <a:lnTo>
                      <a:pt x="123" y="376"/>
                    </a:lnTo>
                    <a:lnTo>
                      <a:pt x="125" y="395"/>
                    </a:lnTo>
                    <a:lnTo>
                      <a:pt x="129" y="400"/>
                    </a:lnTo>
                    <a:lnTo>
                      <a:pt x="131" y="406"/>
                    </a:lnTo>
                    <a:lnTo>
                      <a:pt x="134" y="418"/>
                    </a:lnTo>
                    <a:lnTo>
                      <a:pt x="140" y="438"/>
                    </a:lnTo>
                    <a:lnTo>
                      <a:pt x="139" y="450"/>
                    </a:lnTo>
                    <a:lnTo>
                      <a:pt x="138" y="455"/>
                    </a:lnTo>
                    <a:lnTo>
                      <a:pt x="137" y="458"/>
                    </a:lnTo>
                    <a:lnTo>
                      <a:pt x="136" y="458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28"/>
              <p:cNvSpPr/>
              <p:nvPr/>
            </p:nvSpPr>
            <p:spPr>
              <a:xfrm>
                <a:off x="1339560" y="1026720"/>
                <a:ext cx="170640" cy="110160"/>
              </a:xfrm>
              <a:custGeom>
                <a:avLst/>
                <a:gdLst/>
                <a:ahLst/>
                <a:rect l="l" t="t" r="r" b="b"/>
                <a:pathLst>
                  <a:path w="566" h="707">
                    <a:moveTo>
                      <a:pt x="414" y="707"/>
                    </a:moveTo>
                    <a:lnTo>
                      <a:pt x="405" y="696"/>
                    </a:lnTo>
                    <a:lnTo>
                      <a:pt x="387" y="672"/>
                    </a:lnTo>
                    <a:lnTo>
                      <a:pt x="361" y="640"/>
                    </a:lnTo>
                    <a:lnTo>
                      <a:pt x="333" y="605"/>
                    </a:lnTo>
                    <a:lnTo>
                      <a:pt x="304" y="569"/>
                    </a:lnTo>
                    <a:lnTo>
                      <a:pt x="279" y="538"/>
                    </a:lnTo>
                    <a:lnTo>
                      <a:pt x="258" y="516"/>
                    </a:lnTo>
                    <a:lnTo>
                      <a:pt x="247" y="506"/>
                    </a:lnTo>
                    <a:lnTo>
                      <a:pt x="239" y="491"/>
                    </a:lnTo>
                    <a:lnTo>
                      <a:pt x="232" y="476"/>
                    </a:lnTo>
                    <a:lnTo>
                      <a:pt x="228" y="466"/>
                    </a:lnTo>
                    <a:lnTo>
                      <a:pt x="224" y="460"/>
                    </a:lnTo>
                    <a:lnTo>
                      <a:pt x="221" y="451"/>
                    </a:lnTo>
                    <a:lnTo>
                      <a:pt x="216" y="442"/>
                    </a:lnTo>
                    <a:lnTo>
                      <a:pt x="212" y="433"/>
                    </a:lnTo>
                    <a:lnTo>
                      <a:pt x="206" y="422"/>
                    </a:lnTo>
                    <a:lnTo>
                      <a:pt x="200" y="412"/>
                    </a:lnTo>
                    <a:lnTo>
                      <a:pt x="194" y="401"/>
                    </a:lnTo>
                    <a:lnTo>
                      <a:pt x="190" y="392"/>
                    </a:lnTo>
                    <a:lnTo>
                      <a:pt x="186" y="384"/>
                    </a:lnTo>
                    <a:lnTo>
                      <a:pt x="176" y="359"/>
                    </a:lnTo>
                    <a:lnTo>
                      <a:pt x="165" y="335"/>
                    </a:lnTo>
                    <a:lnTo>
                      <a:pt x="153" y="312"/>
                    </a:lnTo>
                    <a:lnTo>
                      <a:pt x="143" y="291"/>
                    </a:lnTo>
                    <a:lnTo>
                      <a:pt x="131" y="269"/>
                    </a:lnTo>
                    <a:lnTo>
                      <a:pt x="120" y="247"/>
                    </a:lnTo>
                    <a:lnTo>
                      <a:pt x="108" y="225"/>
                    </a:lnTo>
                    <a:lnTo>
                      <a:pt x="97" y="204"/>
                    </a:lnTo>
                    <a:lnTo>
                      <a:pt x="85" y="183"/>
                    </a:lnTo>
                    <a:lnTo>
                      <a:pt x="74" y="162"/>
                    </a:lnTo>
                    <a:lnTo>
                      <a:pt x="61" y="140"/>
                    </a:lnTo>
                    <a:lnTo>
                      <a:pt x="49" y="119"/>
                    </a:lnTo>
                    <a:lnTo>
                      <a:pt x="37" y="97"/>
                    </a:lnTo>
                    <a:lnTo>
                      <a:pt x="25" y="75"/>
                    </a:lnTo>
                    <a:lnTo>
                      <a:pt x="13" y="53"/>
                    </a:lnTo>
                    <a:lnTo>
                      <a:pt x="0" y="30"/>
                    </a:lnTo>
                    <a:lnTo>
                      <a:pt x="8" y="21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7" y="9"/>
                    </a:lnTo>
                    <a:lnTo>
                      <a:pt x="24" y="6"/>
                    </a:lnTo>
                    <a:lnTo>
                      <a:pt x="36" y="1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1" y="0"/>
                    </a:lnTo>
                    <a:lnTo>
                      <a:pt x="59" y="3"/>
                    </a:lnTo>
                    <a:lnTo>
                      <a:pt x="64" y="7"/>
                    </a:lnTo>
                    <a:lnTo>
                      <a:pt x="69" y="11"/>
                    </a:lnTo>
                    <a:lnTo>
                      <a:pt x="71" y="15"/>
                    </a:lnTo>
                    <a:lnTo>
                      <a:pt x="74" y="19"/>
                    </a:lnTo>
                    <a:lnTo>
                      <a:pt x="77" y="23"/>
                    </a:lnTo>
                    <a:lnTo>
                      <a:pt x="82" y="29"/>
                    </a:lnTo>
                    <a:lnTo>
                      <a:pt x="89" y="36"/>
                    </a:lnTo>
                    <a:lnTo>
                      <a:pt x="105" y="69"/>
                    </a:lnTo>
                    <a:lnTo>
                      <a:pt x="124" y="100"/>
                    </a:lnTo>
                    <a:lnTo>
                      <a:pt x="148" y="130"/>
                    </a:lnTo>
                    <a:lnTo>
                      <a:pt x="174" y="157"/>
                    </a:lnTo>
                    <a:lnTo>
                      <a:pt x="200" y="182"/>
                    </a:lnTo>
                    <a:lnTo>
                      <a:pt x="223" y="205"/>
                    </a:lnTo>
                    <a:lnTo>
                      <a:pt x="244" y="227"/>
                    </a:lnTo>
                    <a:lnTo>
                      <a:pt x="259" y="247"/>
                    </a:lnTo>
                    <a:lnTo>
                      <a:pt x="273" y="264"/>
                    </a:lnTo>
                    <a:lnTo>
                      <a:pt x="288" y="281"/>
                    </a:lnTo>
                    <a:lnTo>
                      <a:pt x="300" y="298"/>
                    </a:lnTo>
                    <a:lnTo>
                      <a:pt x="313" y="314"/>
                    </a:lnTo>
                    <a:lnTo>
                      <a:pt x="326" y="329"/>
                    </a:lnTo>
                    <a:lnTo>
                      <a:pt x="338" y="345"/>
                    </a:lnTo>
                    <a:lnTo>
                      <a:pt x="351" y="361"/>
                    </a:lnTo>
                    <a:lnTo>
                      <a:pt x="363" y="376"/>
                    </a:lnTo>
                    <a:lnTo>
                      <a:pt x="375" y="392"/>
                    </a:lnTo>
                    <a:lnTo>
                      <a:pt x="388" y="408"/>
                    </a:lnTo>
                    <a:lnTo>
                      <a:pt x="399" y="424"/>
                    </a:lnTo>
                    <a:lnTo>
                      <a:pt x="412" y="442"/>
                    </a:lnTo>
                    <a:lnTo>
                      <a:pt x="425" y="460"/>
                    </a:lnTo>
                    <a:lnTo>
                      <a:pt x="439" y="479"/>
                    </a:lnTo>
                    <a:lnTo>
                      <a:pt x="452" y="497"/>
                    </a:lnTo>
                    <a:lnTo>
                      <a:pt x="466" y="518"/>
                    </a:lnTo>
                    <a:lnTo>
                      <a:pt x="477" y="534"/>
                    </a:lnTo>
                    <a:lnTo>
                      <a:pt x="489" y="554"/>
                    </a:lnTo>
                    <a:lnTo>
                      <a:pt x="505" y="578"/>
                    </a:lnTo>
                    <a:lnTo>
                      <a:pt x="522" y="602"/>
                    </a:lnTo>
                    <a:lnTo>
                      <a:pt x="538" y="626"/>
                    </a:lnTo>
                    <a:lnTo>
                      <a:pt x="550" y="648"/>
                    </a:lnTo>
                    <a:lnTo>
                      <a:pt x="561" y="667"/>
                    </a:lnTo>
                    <a:lnTo>
                      <a:pt x="566" y="680"/>
                    </a:lnTo>
                    <a:lnTo>
                      <a:pt x="561" y="680"/>
                    </a:lnTo>
                    <a:lnTo>
                      <a:pt x="555" y="680"/>
                    </a:lnTo>
                    <a:lnTo>
                      <a:pt x="549" y="680"/>
                    </a:lnTo>
                    <a:lnTo>
                      <a:pt x="543" y="680"/>
                    </a:lnTo>
                    <a:lnTo>
                      <a:pt x="538" y="680"/>
                    </a:lnTo>
                    <a:lnTo>
                      <a:pt x="532" y="680"/>
                    </a:lnTo>
                    <a:lnTo>
                      <a:pt x="526" y="680"/>
                    </a:lnTo>
                    <a:lnTo>
                      <a:pt x="520" y="680"/>
                    </a:lnTo>
                    <a:lnTo>
                      <a:pt x="500" y="685"/>
                    </a:lnTo>
                    <a:lnTo>
                      <a:pt x="481" y="690"/>
                    </a:lnTo>
                    <a:lnTo>
                      <a:pt x="465" y="694"/>
                    </a:lnTo>
                    <a:lnTo>
                      <a:pt x="452" y="698"/>
                    </a:lnTo>
                    <a:lnTo>
                      <a:pt x="441" y="701"/>
                    </a:lnTo>
                    <a:lnTo>
                      <a:pt x="432" y="703"/>
                    </a:lnTo>
                    <a:lnTo>
                      <a:pt x="422" y="706"/>
                    </a:lnTo>
                    <a:lnTo>
                      <a:pt x="414" y="707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29"/>
              <p:cNvSpPr/>
              <p:nvPr/>
            </p:nvSpPr>
            <p:spPr>
              <a:xfrm>
                <a:off x="1001520" y="1036440"/>
                <a:ext cx="199440" cy="98280"/>
              </a:xfrm>
              <a:custGeom>
                <a:avLst/>
                <a:gdLst/>
                <a:ahLst/>
                <a:rect l="l" t="t" r="r" b="b"/>
                <a:pathLst>
                  <a:path w="664" h="631">
                    <a:moveTo>
                      <a:pt x="0" y="472"/>
                    </a:moveTo>
                    <a:lnTo>
                      <a:pt x="6" y="467"/>
                    </a:lnTo>
                    <a:lnTo>
                      <a:pt x="14" y="460"/>
                    </a:lnTo>
                    <a:lnTo>
                      <a:pt x="25" y="451"/>
                    </a:lnTo>
                    <a:lnTo>
                      <a:pt x="38" y="441"/>
                    </a:lnTo>
                    <a:lnTo>
                      <a:pt x="52" y="428"/>
                    </a:lnTo>
                    <a:lnTo>
                      <a:pt x="68" y="416"/>
                    </a:lnTo>
                    <a:lnTo>
                      <a:pt x="84" y="402"/>
                    </a:lnTo>
                    <a:lnTo>
                      <a:pt x="102" y="387"/>
                    </a:lnTo>
                    <a:lnTo>
                      <a:pt x="120" y="374"/>
                    </a:lnTo>
                    <a:lnTo>
                      <a:pt x="137" y="360"/>
                    </a:lnTo>
                    <a:lnTo>
                      <a:pt x="154" y="348"/>
                    </a:lnTo>
                    <a:lnTo>
                      <a:pt x="170" y="336"/>
                    </a:lnTo>
                    <a:lnTo>
                      <a:pt x="185" y="326"/>
                    </a:lnTo>
                    <a:lnTo>
                      <a:pt x="197" y="317"/>
                    </a:lnTo>
                    <a:lnTo>
                      <a:pt x="208" y="311"/>
                    </a:lnTo>
                    <a:lnTo>
                      <a:pt x="217" y="307"/>
                    </a:lnTo>
                    <a:lnTo>
                      <a:pt x="224" y="302"/>
                    </a:lnTo>
                    <a:lnTo>
                      <a:pt x="232" y="298"/>
                    </a:lnTo>
                    <a:lnTo>
                      <a:pt x="239" y="293"/>
                    </a:lnTo>
                    <a:lnTo>
                      <a:pt x="247" y="289"/>
                    </a:lnTo>
                    <a:lnTo>
                      <a:pt x="254" y="285"/>
                    </a:lnTo>
                    <a:lnTo>
                      <a:pt x="261" y="281"/>
                    </a:lnTo>
                    <a:lnTo>
                      <a:pt x="268" y="277"/>
                    </a:lnTo>
                    <a:lnTo>
                      <a:pt x="273" y="271"/>
                    </a:lnTo>
                    <a:lnTo>
                      <a:pt x="297" y="259"/>
                    </a:lnTo>
                    <a:lnTo>
                      <a:pt x="321" y="245"/>
                    </a:lnTo>
                    <a:lnTo>
                      <a:pt x="342" y="233"/>
                    </a:lnTo>
                    <a:lnTo>
                      <a:pt x="363" y="219"/>
                    </a:lnTo>
                    <a:lnTo>
                      <a:pt x="383" y="205"/>
                    </a:lnTo>
                    <a:lnTo>
                      <a:pt x="401" y="191"/>
                    </a:lnTo>
                    <a:lnTo>
                      <a:pt x="420" y="177"/>
                    </a:lnTo>
                    <a:lnTo>
                      <a:pt x="438" y="164"/>
                    </a:lnTo>
                    <a:lnTo>
                      <a:pt x="455" y="149"/>
                    </a:lnTo>
                    <a:lnTo>
                      <a:pt x="473" y="136"/>
                    </a:lnTo>
                    <a:lnTo>
                      <a:pt x="490" y="122"/>
                    </a:lnTo>
                    <a:lnTo>
                      <a:pt x="508" y="110"/>
                    </a:lnTo>
                    <a:lnTo>
                      <a:pt x="527" y="96"/>
                    </a:lnTo>
                    <a:lnTo>
                      <a:pt x="545" y="83"/>
                    </a:lnTo>
                    <a:lnTo>
                      <a:pt x="565" y="71"/>
                    </a:lnTo>
                    <a:lnTo>
                      <a:pt x="585" y="59"/>
                    </a:lnTo>
                    <a:lnTo>
                      <a:pt x="592" y="53"/>
                    </a:lnTo>
                    <a:lnTo>
                      <a:pt x="598" y="48"/>
                    </a:lnTo>
                    <a:lnTo>
                      <a:pt x="605" y="42"/>
                    </a:lnTo>
                    <a:lnTo>
                      <a:pt x="612" y="36"/>
                    </a:lnTo>
                    <a:lnTo>
                      <a:pt x="618" y="31"/>
                    </a:lnTo>
                    <a:lnTo>
                      <a:pt x="625" y="25"/>
                    </a:lnTo>
                    <a:lnTo>
                      <a:pt x="631" y="20"/>
                    </a:lnTo>
                    <a:lnTo>
                      <a:pt x="638" y="13"/>
                    </a:lnTo>
                    <a:lnTo>
                      <a:pt x="643" y="12"/>
                    </a:lnTo>
                    <a:lnTo>
                      <a:pt x="651" y="6"/>
                    </a:lnTo>
                    <a:lnTo>
                      <a:pt x="659" y="1"/>
                    </a:lnTo>
                    <a:lnTo>
                      <a:pt x="664" y="0"/>
                    </a:lnTo>
                    <a:lnTo>
                      <a:pt x="637" y="34"/>
                    </a:lnTo>
                    <a:lnTo>
                      <a:pt x="611" y="68"/>
                    </a:lnTo>
                    <a:lnTo>
                      <a:pt x="583" y="102"/>
                    </a:lnTo>
                    <a:lnTo>
                      <a:pt x="554" y="137"/>
                    </a:lnTo>
                    <a:lnTo>
                      <a:pt x="527" y="171"/>
                    </a:lnTo>
                    <a:lnTo>
                      <a:pt x="498" y="206"/>
                    </a:lnTo>
                    <a:lnTo>
                      <a:pt x="468" y="240"/>
                    </a:lnTo>
                    <a:lnTo>
                      <a:pt x="439" y="275"/>
                    </a:lnTo>
                    <a:lnTo>
                      <a:pt x="410" y="309"/>
                    </a:lnTo>
                    <a:lnTo>
                      <a:pt x="380" y="342"/>
                    </a:lnTo>
                    <a:lnTo>
                      <a:pt x="352" y="377"/>
                    </a:lnTo>
                    <a:lnTo>
                      <a:pt x="323" y="411"/>
                    </a:lnTo>
                    <a:lnTo>
                      <a:pt x="295" y="446"/>
                    </a:lnTo>
                    <a:lnTo>
                      <a:pt x="266" y="479"/>
                    </a:lnTo>
                    <a:lnTo>
                      <a:pt x="239" y="514"/>
                    </a:lnTo>
                    <a:lnTo>
                      <a:pt x="212" y="547"/>
                    </a:lnTo>
                    <a:lnTo>
                      <a:pt x="196" y="556"/>
                    </a:lnTo>
                    <a:lnTo>
                      <a:pt x="180" y="566"/>
                    </a:lnTo>
                    <a:lnTo>
                      <a:pt x="164" y="576"/>
                    </a:lnTo>
                    <a:lnTo>
                      <a:pt x="149" y="587"/>
                    </a:lnTo>
                    <a:lnTo>
                      <a:pt x="133" y="598"/>
                    </a:lnTo>
                    <a:lnTo>
                      <a:pt x="117" y="610"/>
                    </a:lnTo>
                    <a:lnTo>
                      <a:pt x="101" y="620"/>
                    </a:lnTo>
                    <a:lnTo>
                      <a:pt x="84" y="631"/>
                    </a:lnTo>
                    <a:lnTo>
                      <a:pt x="83" y="624"/>
                    </a:lnTo>
                    <a:lnTo>
                      <a:pt x="81" y="608"/>
                    </a:lnTo>
                    <a:lnTo>
                      <a:pt x="76" y="585"/>
                    </a:lnTo>
                    <a:lnTo>
                      <a:pt x="68" y="557"/>
                    </a:lnTo>
                    <a:lnTo>
                      <a:pt x="58" y="528"/>
                    </a:lnTo>
                    <a:lnTo>
                      <a:pt x="44" y="503"/>
                    </a:lnTo>
                    <a:lnTo>
                      <a:pt x="25" y="483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30"/>
              <p:cNvSpPr/>
              <p:nvPr/>
            </p:nvSpPr>
            <p:spPr>
              <a:xfrm>
                <a:off x="1517040" y="1117080"/>
                <a:ext cx="37080" cy="12960"/>
              </a:xfrm>
              <a:custGeom>
                <a:avLst/>
                <a:gdLst/>
                <a:ahLst/>
                <a:rect l="l" t="t" r="r" b="b"/>
                <a:pathLst>
                  <a:path w="125" h="85">
                    <a:moveTo>
                      <a:pt x="110" y="84"/>
                    </a:moveTo>
                    <a:lnTo>
                      <a:pt x="103" y="83"/>
                    </a:lnTo>
                    <a:lnTo>
                      <a:pt x="97" y="81"/>
                    </a:lnTo>
                    <a:lnTo>
                      <a:pt x="89" y="78"/>
                    </a:lnTo>
                    <a:lnTo>
                      <a:pt x="76" y="72"/>
                    </a:lnTo>
                    <a:lnTo>
                      <a:pt x="76" y="71"/>
                    </a:lnTo>
                    <a:lnTo>
                      <a:pt x="76" y="70"/>
                    </a:lnTo>
                    <a:lnTo>
                      <a:pt x="76" y="69"/>
                    </a:lnTo>
                    <a:lnTo>
                      <a:pt x="76" y="67"/>
                    </a:lnTo>
                    <a:lnTo>
                      <a:pt x="68" y="63"/>
                    </a:lnTo>
                    <a:lnTo>
                      <a:pt x="62" y="60"/>
                    </a:lnTo>
                    <a:lnTo>
                      <a:pt x="58" y="58"/>
                    </a:lnTo>
                    <a:lnTo>
                      <a:pt x="52" y="55"/>
                    </a:lnTo>
                    <a:lnTo>
                      <a:pt x="48" y="52"/>
                    </a:lnTo>
                    <a:lnTo>
                      <a:pt x="41" y="49"/>
                    </a:lnTo>
                    <a:lnTo>
                      <a:pt x="34" y="45"/>
                    </a:lnTo>
                    <a:lnTo>
                      <a:pt x="23" y="38"/>
                    </a:lnTo>
                    <a:lnTo>
                      <a:pt x="23" y="36"/>
                    </a:lnTo>
                    <a:lnTo>
                      <a:pt x="22" y="33"/>
                    </a:lnTo>
                    <a:lnTo>
                      <a:pt x="22" y="31"/>
                    </a:lnTo>
                    <a:lnTo>
                      <a:pt x="21" y="29"/>
                    </a:lnTo>
                    <a:lnTo>
                      <a:pt x="16" y="28"/>
                    </a:lnTo>
                    <a:lnTo>
                      <a:pt x="13" y="27"/>
                    </a:lnTo>
                    <a:lnTo>
                      <a:pt x="10" y="27"/>
                    </a:lnTo>
                    <a:lnTo>
                      <a:pt x="5" y="26"/>
                    </a:lnTo>
                    <a:lnTo>
                      <a:pt x="3" y="22"/>
                    </a:lnTo>
                    <a:lnTo>
                      <a:pt x="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9" y="15"/>
                    </a:lnTo>
                    <a:lnTo>
                      <a:pt x="23" y="20"/>
                    </a:lnTo>
                    <a:lnTo>
                      <a:pt x="28" y="23"/>
                    </a:lnTo>
                    <a:lnTo>
                      <a:pt x="33" y="28"/>
                    </a:lnTo>
                    <a:lnTo>
                      <a:pt x="37" y="32"/>
                    </a:lnTo>
                    <a:lnTo>
                      <a:pt x="49" y="38"/>
                    </a:lnTo>
                    <a:lnTo>
                      <a:pt x="58" y="44"/>
                    </a:lnTo>
                    <a:lnTo>
                      <a:pt x="65" y="48"/>
                    </a:lnTo>
                    <a:lnTo>
                      <a:pt x="71" y="51"/>
                    </a:lnTo>
                    <a:lnTo>
                      <a:pt x="76" y="54"/>
                    </a:lnTo>
                    <a:lnTo>
                      <a:pt x="82" y="58"/>
                    </a:lnTo>
                    <a:lnTo>
                      <a:pt x="89" y="63"/>
                    </a:lnTo>
                    <a:lnTo>
                      <a:pt x="98" y="70"/>
                    </a:lnTo>
                    <a:lnTo>
                      <a:pt x="102" y="70"/>
                    </a:lnTo>
                    <a:lnTo>
                      <a:pt x="105" y="71"/>
                    </a:lnTo>
                    <a:lnTo>
                      <a:pt x="109" y="71"/>
                    </a:lnTo>
                    <a:lnTo>
                      <a:pt x="112" y="72"/>
                    </a:lnTo>
                    <a:lnTo>
                      <a:pt x="112" y="74"/>
                    </a:lnTo>
                    <a:lnTo>
                      <a:pt x="112" y="76"/>
                    </a:lnTo>
                    <a:lnTo>
                      <a:pt x="112" y="78"/>
                    </a:lnTo>
                    <a:lnTo>
                      <a:pt x="112" y="80"/>
                    </a:lnTo>
                    <a:lnTo>
                      <a:pt x="114" y="81"/>
                    </a:lnTo>
                    <a:lnTo>
                      <a:pt x="118" y="81"/>
                    </a:lnTo>
                    <a:lnTo>
                      <a:pt x="121" y="82"/>
                    </a:lnTo>
                    <a:lnTo>
                      <a:pt x="125" y="82"/>
                    </a:lnTo>
                    <a:lnTo>
                      <a:pt x="119" y="84"/>
                    </a:lnTo>
                    <a:lnTo>
                      <a:pt x="115" y="85"/>
                    </a:lnTo>
                    <a:lnTo>
                      <a:pt x="113" y="85"/>
                    </a:lnTo>
                    <a:lnTo>
                      <a:pt x="110" y="84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31"/>
              <p:cNvSpPr/>
              <p:nvPr/>
            </p:nvSpPr>
            <p:spPr>
              <a:xfrm>
                <a:off x="1255680" y="1073520"/>
                <a:ext cx="12600" cy="55800"/>
              </a:xfrm>
              <a:custGeom>
                <a:avLst/>
                <a:gdLst/>
                <a:ahLst/>
                <a:rect l="l" t="t" r="r" b="b"/>
                <a:pathLst>
                  <a:path w="43" h="358">
                    <a:moveTo>
                      <a:pt x="27" y="358"/>
                    </a:moveTo>
                    <a:lnTo>
                      <a:pt x="21" y="348"/>
                    </a:lnTo>
                    <a:lnTo>
                      <a:pt x="15" y="336"/>
                    </a:lnTo>
                    <a:lnTo>
                      <a:pt x="10" y="324"/>
                    </a:lnTo>
                    <a:lnTo>
                      <a:pt x="4" y="312"/>
                    </a:lnTo>
                    <a:lnTo>
                      <a:pt x="6" y="311"/>
                    </a:lnTo>
                    <a:lnTo>
                      <a:pt x="8" y="311"/>
                    </a:lnTo>
                    <a:lnTo>
                      <a:pt x="11" y="310"/>
                    </a:lnTo>
                    <a:lnTo>
                      <a:pt x="13" y="310"/>
                    </a:lnTo>
                    <a:lnTo>
                      <a:pt x="11" y="297"/>
                    </a:lnTo>
                    <a:lnTo>
                      <a:pt x="10" y="283"/>
                    </a:lnTo>
                    <a:lnTo>
                      <a:pt x="7" y="269"/>
                    </a:lnTo>
                    <a:lnTo>
                      <a:pt x="5" y="256"/>
                    </a:lnTo>
                    <a:lnTo>
                      <a:pt x="8" y="250"/>
                    </a:lnTo>
                    <a:lnTo>
                      <a:pt x="10" y="245"/>
                    </a:lnTo>
                    <a:lnTo>
                      <a:pt x="11" y="242"/>
                    </a:lnTo>
                    <a:lnTo>
                      <a:pt x="10" y="238"/>
                    </a:lnTo>
                    <a:lnTo>
                      <a:pt x="6" y="240"/>
                    </a:lnTo>
                    <a:lnTo>
                      <a:pt x="4" y="241"/>
                    </a:lnTo>
                    <a:lnTo>
                      <a:pt x="3" y="241"/>
                    </a:lnTo>
                    <a:lnTo>
                      <a:pt x="0" y="240"/>
                    </a:lnTo>
                    <a:lnTo>
                      <a:pt x="3" y="239"/>
                    </a:lnTo>
                    <a:lnTo>
                      <a:pt x="5" y="237"/>
                    </a:lnTo>
                    <a:lnTo>
                      <a:pt x="7" y="236"/>
                    </a:lnTo>
                    <a:lnTo>
                      <a:pt x="10" y="235"/>
                    </a:lnTo>
                    <a:lnTo>
                      <a:pt x="8" y="205"/>
                    </a:lnTo>
                    <a:lnTo>
                      <a:pt x="8" y="181"/>
                    </a:lnTo>
                    <a:lnTo>
                      <a:pt x="11" y="153"/>
                    </a:lnTo>
                    <a:lnTo>
                      <a:pt x="14" y="110"/>
                    </a:lnTo>
                    <a:lnTo>
                      <a:pt x="15" y="104"/>
                    </a:lnTo>
                    <a:lnTo>
                      <a:pt x="18" y="98"/>
                    </a:lnTo>
                    <a:lnTo>
                      <a:pt x="19" y="93"/>
                    </a:lnTo>
                    <a:lnTo>
                      <a:pt x="20" y="88"/>
                    </a:lnTo>
                    <a:lnTo>
                      <a:pt x="19" y="82"/>
                    </a:lnTo>
                    <a:lnTo>
                      <a:pt x="19" y="76"/>
                    </a:lnTo>
                    <a:lnTo>
                      <a:pt x="19" y="70"/>
                    </a:lnTo>
                    <a:lnTo>
                      <a:pt x="18" y="64"/>
                    </a:lnTo>
                    <a:lnTo>
                      <a:pt x="19" y="48"/>
                    </a:lnTo>
                    <a:lnTo>
                      <a:pt x="20" y="32"/>
                    </a:lnTo>
                    <a:lnTo>
                      <a:pt x="21" y="17"/>
                    </a:lnTo>
                    <a:lnTo>
                      <a:pt x="22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38" y="3"/>
                    </a:lnTo>
                    <a:lnTo>
                      <a:pt x="43" y="5"/>
                    </a:lnTo>
                    <a:lnTo>
                      <a:pt x="38" y="66"/>
                    </a:lnTo>
                    <a:lnTo>
                      <a:pt x="35" y="126"/>
                    </a:lnTo>
                    <a:lnTo>
                      <a:pt x="30" y="188"/>
                    </a:lnTo>
                    <a:lnTo>
                      <a:pt x="26" y="249"/>
                    </a:lnTo>
                    <a:lnTo>
                      <a:pt x="26" y="270"/>
                    </a:lnTo>
                    <a:lnTo>
                      <a:pt x="26" y="292"/>
                    </a:lnTo>
                    <a:lnTo>
                      <a:pt x="26" y="314"/>
                    </a:lnTo>
                    <a:lnTo>
                      <a:pt x="25" y="336"/>
                    </a:lnTo>
                    <a:lnTo>
                      <a:pt x="27" y="337"/>
                    </a:lnTo>
                    <a:lnTo>
                      <a:pt x="29" y="337"/>
                    </a:lnTo>
                    <a:lnTo>
                      <a:pt x="31" y="338"/>
                    </a:lnTo>
                    <a:lnTo>
                      <a:pt x="34" y="338"/>
                    </a:lnTo>
                    <a:lnTo>
                      <a:pt x="31" y="344"/>
                    </a:lnTo>
                    <a:lnTo>
                      <a:pt x="30" y="350"/>
                    </a:lnTo>
                    <a:lnTo>
                      <a:pt x="29" y="356"/>
                    </a:lnTo>
                    <a:lnTo>
                      <a:pt x="27" y="358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32"/>
              <p:cNvSpPr/>
              <p:nvPr/>
            </p:nvSpPr>
            <p:spPr>
              <a:xfrm>
                <a:off x="1194120" y="1082160"/>
                <a:ext cx="31680" cy="47160"/>
              </a:xfrm>
              <a:custGeom>
                <a:avLst/>
                <a:gdLst/>
                <a:ahLst/>
                <a:rect l="l" t="t" r="r" b="b"/>
                <a:pathLst>
                  <a:path w="106" h="302">
                    <a:moveTo>
                      <a:pt x="6" y="299"/>
                    </a:moveTo>
                    <a:lnTo>
                      <a:pt x="7" y="298"/>
                    </a:lnTo>
                    <a:lnTo>
                      <a:pt x="7" y="296"/>
                    </a:lnTo>
                    <a:lnTo>
                      <a:pt x="8" y="295"/>
                    </a:lnTo>
                    <a:lnTo>
                      <a:pt x="8" y="294"/>
                    </a:lnTo>
                    <a:lnTo>
                      <a:pt x="4" y="287"/>
                    </a:lnTo>
                    <a:lnTo>
                      <a:pt x="2" y="282"/>
                    </a:lnTo>
                    <a:lnTo>
                      <a:pt x="0" y="278"/>
                    </a:lnTo>
                    <a:lnTo>
                      <a:pt x="0" y="272"/>
                    </a:lnTo>
                    <a:lnTo>
                      <a:pt x="18" y="246"/>
                    </a:lnTo>
                    <a:lnTo>
                      <a:pt x="33" y="216"/>
                    </a:lnTo>
                    <a:lnTo>
                      <a:pt x="46" y="181"/>
                    </a:lnTo>
                    <a:lnTo>
                      <a:pt x="58" y="143"/>
                    </a:lnTo>
                    <a:lnTo>
                      <a:pt x="69" y="106"/>
                    </a:lnTo>
                    <a:lnTo>
                      <a:pt x="78" y="68"/>
                    </a:lnTo>
                    <a:lnTo>
                      <a:pt x="86" y="33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99" y="1"/>
                    </a:lnTo>
                    <a:lnTo>
                      <a:pt x="103" y="1"/>
                    </a:lnTo>
                    <a:lnTo>
                      <a:pt x="106" y="2"/>
                    </a:lnTo>
                    <a:lnTo>
                      <a:pt x="102" y="37"/>
                    </a:lnTo>
                    <a:lnTo>
                      <a:pt x="95" y="70"/>
                    </a:lnTo>
                    <a:lnTo>
                      <a:pt x="87" y="103"/>
                    </a:lnTo>
                    <a:lnTo>
                      <a:pt x="76" y="135"/>
                    </a:lnTo>
                    <a:lnTo>
                      <a:pt x="66" y="167"/>
                    </a:lnTo>
                    <a:lnTo>
                      <a:pt x="54" y="200"/>
                    </a:lnTo>
                    <a:lnTo>
                      <a:pt x="42" y="233"/>
                    </a:lnTo>
                    <a:lnTo>
                      <a:pt x="30" y="267"/>
                    </a:lnTo>
                    <a:lnTo>
                      <a:pt x="29" y="268"/>
                    </a:lnTo>
                    <a:lnTo>
                      <a:pt x="27" y="269"/>
                    </a:lnTo>
                    <a:lnTo>
                      <a:pt x="26" y="271"/>
                    </a:lnTo>
                    <a:lnTo>
                      <a:pt x="23" y="272"/>
                    </a:lnTo>
                    <a:lnTo>
                      <a:pt x="18" y="289"/>
                    </a:lnTo>
                    <a:lnTo>
                      <a:pt x="14" y="297"/>
                    </a:lnTo>
                    <a:lnTo>
                      <a:pt x="11" y="300"/>
                    </a:lnTo>
                    <a:lnTo>
                      <a:pt x="8" y="302"/>
                    </a:lnTo>
                    <a:lnTo>
                      <a:pt x="8" y="301"/>
                    </a:lnTo>
                    <a:lnTo>
                      <a:pt x="7" y="300"/>
                    </a:lnTo>
                    <a:lnTo>
                      <a:pt x="7" y="300"/>
                    </a:lnTo>
                    <a:lnTo>
                      <a:pt x="6" y="299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33"/>
              <p:cNvSpPr/>
              <p:nvPr/>
            </p:nvSpPr>
            <p:spPr>
              <a:xfrm>
                <a:off x="1281960" y="1037160"/>
                <a:ext cx="14400" cy="89640"/>
              </a:xfrm>
              <a:custGeom>
                <a:avLst/>
                <a:gdLst/>
                <a:ahLst/>
                <a:rect l="l" t="t" r="r" b="b"/>
                <a:pathLst>
                  <a:path w="47" h="573">
                    <a:moveTo>
                      <a:pt x="31" y="573"/>
                    </a:moveTo>
                    <a:lnTo>
                      <a:pt x="32" y="566"/>
                    </a:lnTo>
                    <a:lnTo>
                      <a:pt x="32" y="559"/>
                    </a:lnTo>
                    <a:lnTo>
                      <a:pt x="32" y="552"/>
                    </a:lnTo>
                    <a:lnTo>
                      <a:pt x="33" y="544"/>
                    </a:lnTo>
                    <a:lnTo>
                      <a:pt x="31" y="543"/>
                    </a:lnTo>
                    <a:lnTo>
                      <a:pt x="30" y="542"/>
                    </a:lnTo>
                    <a:lnTo>
                      <a:pt x="27" y="542"/>
                    </a:lnTo>
                    <a:lnTo>
                      <a:pt x="25" y="541"/>
                    </a:lnTo>
                    <a:lnTo>
                      <a:pt x="25" y="534"/>
                    </a:lnTo>
                    <a:lnTo>
                      <a:pt x="26" y="528"/>
                    </a:lnTo>
                    <a:lnTo>
                      <a:pt x="27" y="521"/>
                    </a:lnTo>
                    <a:lnTo>
                      <a:pt x="29" y="515"/>
                    </a:lnTo>
                    <a:lnTo>
                      <a:pt x="26" y="502"/>
                    </a:lnTo>
                    <a:lnTo>
                      <a:pt x="24" y="493"/>
                    </a:lnTo>
                    <a:lnTo>
                      <a:pt x="23" y="485"/>
                    </a:lnTo>
                    <a:lnTo>
                      <a:pt x="21" y="474"/>
                    </a:lnTo>
                    <a:lnTo>
                      <a:pt x="22" y="467"/>
                    </a:lnTo>
                    <a:lnTo>
                      <a:pt x="23" y="461"/>
                    </a:lnTo>
                    <a:lnTo>
                      <a:pt x="24" y="454"/>
                    </a:lnTo>
                    <a:lnTo>
                      <a:pt x="25" y="448"/>
                    </a:lnTo>
                    <a:lnTo>
                      <a:pt x="24" y="447"/>
                    </a:lnTo>
                    <a:lnTo>
                      <a:pt x="23" y="447"/>
                    </a:lnTo>
                    <a:lnTo>
                      <a:pt x="22" y="446"/>
                    </a:lnTo>
                    <a:lnTo>
                      <a:pt x="21" y="446"/>
                    </a:lnTo>
                    <a:lnTo>
                      <a:pt x="23" y="431"/>
                    </a:lnTo>
                    <a:lnTo>
                      <a:pt x="24" y="416"/>
                    </a:lnTo>
                    <a:lnTo>
                      <a:pt x="26" y="401"/>
                    </a:lnTo>
                    <a:lnTo>
                      <a:pt x="29" y="387"/>
                    </a:lnTo>
                    <a:lnTo>
                      <a:pt x="26" y="356"/>
                    </a:lnTo>
                    <a:lnTo>
                      <a:pt x="24" y="335"/>
                    </a:lnTo>
                    <a:lnTo>
                      <a:pt x="21" y="313"/>
                    </a:lnTo>
                    <a:lnTo>
                      <a:pt x="14" y="280"/>
                    </a:lnTo>
                    <a:lnTo>
                      <a:pt x="14" y="279"/>
                    </a:lnTo>
                    <a:lnTo>
                      <a:pt x="13" y="277"/>
                    </a:lnTo>
                    <a:lnTo>
                      <a:pt x="11" y="276"/>
                    </a:lnTo>
                    <a:lnTo>
                      <a:pt x="10" y="275"/>
                    </a:lnTo>
                    <a:lnTo>
                      <a:pt x="10" y="256"/>
                    </a:lnTo>
                    <a:lnTo>
                      <a:pt x="8" y="232"/>
                    </a:lnTo>
                    <a:lnTo>
                      <a:pt x="6" y="210"/>
                    </a:lnTo>
                    <a:lnTo>
                      <a:pt x="2" y="200"/>
                    </a:lnTo>
                    <a:lnTo>
                      <a:pt x="2" y="149"/>
                    </a:lnTo>
                    <a:lnTo>
                      <a:pt x="2" y="111"/>
                    </a:lnTo>
                    <a:lnTo>
                      <a:pt x="2" y="74"/>
                    </a:lnTo>
                    <a:lnTo>
                      <a:pt x="0" y="26"/>
                    </a:lnTo>
                    <a:lnTo>
                      <a:pt x="1" y="20"/>
                    </a:lnTo>
                    <a:lnTo>
                      <a:pt x="2" y="13"/>
                    </a:lnTo>
                    <a:lnTo>
                      <a:pt x="3" y="6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7" y="12"/>
                    </a:lnTo>
                    <a:lnTo>
                      <a:pt x="16" y="24"/>
                    </a:lnTo>
                    <a:lnTo>
                      <a:pt x="15" y="36"/>
                    </a:lnTo>
                    <a:lnTo>
                      <a:pt x="14" y="48"/>
                    </a:lnTo>
                    <a:lnTo>
                      <a:pt x="21" y="96"/>
                    </a:lnTo>
                    <a:lnTo>
                      <a:pt x="23" y="145"/>
                    </a:lnTo>
                    <a:lnTo>
                      <a:pt x="24" y="193"/>
                    </a:lnTo>
                    <a:lnTo>
                      <a:pt x="25" y="242"/>
                    </a:lnTo>
                    <a:lnTo>
                      <a:pt x="29" y="263"/>
                    </a:lnTo>
                    <a:lnTo>
                      <a:pt x="33" y="285"/>
                    </a:lnTo>
                    <a:lnTo>
                      <a:pt x="37" y="306"/>
                    </a:lnTo>
                    <a:lnTo>
                      <a:pt x="40" y="328"/>
                    </a:lnTo>
                    <a:lnTo>
                      <a:pt x="41" y="329"/>
                    </a:lnTo>
                    <a:lnTo>
                      <a:pt x="44" y="330"/>
                    </a:lnTo>
                    <a:lnTo>
                      <a:pt x="45" y="331"/>
                    </a:lnTo>
                    <a:lnTo>
                      <a:pt x="47" y="333"/>
                    </a:lnTo>
                    <a:lnTo>
                      <a:pt x="46" y="343"/>
                    </a:lnTo>
                    <a:lnTo>
                      <a:pt x="45" y="358"/>
                    </a:lnTo>
                    <a:lnTo>
                      <a:pt x="42" y="389"/>
                    </a:lnTo>
                    <a:lnTo>
                      <a:pt x="40" y="443"/>
                    </a:lnTo>
                    <a:lnTo>
                      <a:pt x="42" y="487"/>
                    </a:lnTo>
                    <a:lnTo>
                      <a:pt x="45" y="514"/>
                    </a:lnTo>
                    <a:lnTo>
                      <a:pt x="46" y="531"/>
                    </a:lnTo>
                    <a:lnTo>
                      <a:pt x="47" y="544"/>
                    </a:lnTo>
                    <a:lnTo>
                      <a:pt x="39" y="561"/>
                    </a:lnTo>
                    <a:lnTo>
                      <a:pt x="34" y="569"/>
                    </a:lnTo>
                    <a:lnTo>
                      <a:pt x="32" y="573"/>
                    </a:lnTo>
                    <a:lnTo>
                      <a:pt x="31" y="573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34"/>
              <p:cNvSpPr/>
              <p:nvPr/>
            </p:nvSpPr>
            <p:spPr>
              <a:xfrm>
                <a:off x="1038600" y="1078920"/>
                <a:ext cx="84960" cy="36720"/>
              </a:xfrm>
              <a:custGeom>
                <a:avLst/>
                <a:gdLst/>
                <a:ahLst/>
                <a:rect l="l" t="t" r="r" b="b"/>
                <a:pathLst>
                  <a:path w="283" h="239">
                    <a:moveTo>
                      <a:pt x="2" y="239"/>
                    </a:moveTo>
                    <a:lnTo>
                      <a:pt x="2" y="233"/>
                    </a:lnTo>
                    <a:lnTo>
                      <a:pt x="2" y="229"/>
                    </a:lnTo>
                    <a:lnTo>
                      <a:pt x="2" y="224"/>
                    </a:lnTo>
                    <a:lnTo>
                      <a:pt x="0" y="220"/>
                    </a:lnTo>
                    <a:lnTo>
                      <a:pt x="5" y="217"/>
                    </a:lnTo>
                    <a:lnTo>
                      <a:pt x="14" y="210"/>
                    </a:lnTo>
                    <a:lnTo>
                      <a:pt x="28" y="200"/>
                    </a:lnTo>
                    <a:lnTo>
                      <a:pt x="45" y="186"/>
                    </a:lnTo>
                    <a:lnTo>
                      <a:pt x="65" y="171"/>
                    </a:lnTo>
                    <a:lnTo>
                      <a:pt x="87" y="153"/>
                    </a:lnTo>
                    <a:lnTo>
                      <a:pt x="111" y="134"/>
                    </a:lnTo>
                    <a:lnTo>
                      <a:pt x="135" y="115"/>
                    </a:lnTo>
                    <a:lnTo>
                      <a:pt x="159" y="97"/>
                    </a:lnTo>
                    <a:lnTo>
                      <a:pt x="184" y="78"/>
                    </a:lnTo>
                    <a:lnTo>
                      <a:pt x="205" y="60"/>
                    </a:lnTo>
                    <a:lnTo>
                      <a:pt x="225" y="44"/>
                    </a:lnTo>
                    <a:lnTo>
                      <a:pt x="242" y="31"/>
                    </a:lnTo>
                    <a:lnTo>
                      <a:pt x="256" y="20"/>
                    </a:lnTo>
                    <a:lnTo>
                      <a:pt x="265" y="14"/>
                    </a:lnTo>
                    <a:lnTo>
                      <a:pt x="270" y="11"/>
                    </a:lnTo>
                    <a:lnTo>
                      <a:pt x="283" y="0"/>
                    </a:lnTo>
                    <a:lnTo>
                      <a:pt x="278" y="5"/>
                    </a:lnTo>
                    <a:lnTo>
                      <a:pt x="264" y="18"/>
                    </a:lnTo>
                    <a:lnTo>
                      <a:pt x="246" y="36"/>
                    </a:lnTo>
                    <a:lnTo>
                      <a:pt x="226" y="55"/>
                    </a:lnTo>
                    <a:lnTo>
                      <a:pt x="213" y="70"/>
                    </a:lnTo>
                    <a:lnTo>
                      <a:pt x="212" y="77"/>
                    </a:lnTo>
                    <a:lnTo>
                      <a:pt x="227" y="71"/>
                    </a:lnTo>
                    <a:lnTo>
                      <a:pt x="228" y="72"/>
                    </a:lnTo>
                    <a:lnTo>
                      <a:pt x="225" y="78"/>
                    </a:lnTo>
                    <a:lnTo>
                      <a:pt x="218" y="84"/>
                    </a:lnTo>
                    <a:lnTo>
                      <a:pt x="208" y="93"/>
                    </a:lnTo>
                    <a:lnTo>
                      <a:pt x="194" y="104"/>
                    </a:lnTo>
                    <a:lnTo>
                      <a:pt x="179" y="115"/>
                    </a:lnTo>
                    <a:lnTo>
                      <a:pt x="162" y="129"/>
                    </a:lnTo>
                    <a:lnTo>
                      <a:pt x="143" y="141"/>
                    </a:lnTo>
                    <a:lnTo>
                      <a:pt x="125" y="156"/>
                    </a:lnTo>
                    <a:lnTo>
                      <a:pt x="105" y="170"/>
                    </a:lnTo>
                    <a:lnTo>
                      <a:pt x="87" y="182"/>
                    </a:lnTo>
                    <a:lnTo>
                      <a:pt x="70" y="195"/>
                    </a:lnTo>
                    <a:lnTo>
                      <a:pt x="53" y="206"/>
                    </a:lnTo>
                    <a:lnTo>
                      <a:pt x="40" y="216"/>
                    </a:lnTo>
                    <a:lnTo>
                      <a:pt x="28" y="223"/>
                    </a:lnTo>
                    <a:lnTo>
                      <a:pt x="20" y="228"/>
                    </a:lnTo>
                    <a:lnTo>
                      <a:pt x="19" y="231"/>
                    </a:lnTo>
                    <a:lnTo>
                      <a:pt x="18" y="233"/>
                    </a:lnTo>
                    <a:lnTo>
                      <a:pt x="17" y="236"/>
                    </a:lnTo>
                    <a:lnTo>
                      <a:pt x="15" y="239"/>
                    </a:lnTo>
                    <a:lnTo>
                      <a:pt x="12" y="239"/>
                    </a:lnTo>
                    <a:lnTo>
                      <a:pt x="9" y="239"/>
                    </a:lnTo>
                    <a:lnTo>
                      <a:pt x="5" y="239"/>
                    </a:lnTo>
                    <a:lnTo>
                      <a:pt x="2" y="239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35"/>
              <p:cNvSpPr/>
              <p:nvPr/>
            </p:nvSpPr>
            <p:spPr>
              <a:xfrm>
                <a:off x="1424520" y="1079640"/>
                <a:ext cx="34920" cy="34560"/>
              </a:xfrm>
              <a:custGeom>
                <a:avLst/>
                <a:gdLst/>
                <a:ahLst/>
                <a:rect l="l" t="t" r="r" b="b"/>
                <a:pathLst>
                  <a:path w="116" h="224">
                    <a:moveTo>
                      <a:pt x="108" y="224"/>
                    </a:moveTo>
                    <a:lnTo>
                      <a:pt x="108" y="217"/>
                    </a:lnTo>
                    <a:lnTo>
                      <a:pt x="107" y="211"/>
                    </a:lnTo>
                    <a:lnTo>
                      <a:pt x="106" y="204"/>
                    </a:lnTo>
                    <a:lnTo>
                      <a:pt x="105" y="197"/>
                    </a:lnTo>
                    <a:lnTo>
                      <a:pt x="100" y="191"/>
                    </a:lnTo>
                    <a:lnTo>
                      <a:pt x="96" y="184"/>
                    </a:lnTo>
                    <a:lnTo>
                      <a:pt x="92" y="178"/>
                    </a:lnTo>
                    <a:lnTo>
                      <a:pt x="87" y="173"/>
                    </a:lnTo>
                    <a:lnTo>
                      <a:pt x="83" y="167"/>
                    </a:lnTo>
                    <a:lnTo>
                      <a:pt x="78" y="160"/>
                    </a:lnTo>
                    <a:lnTo>
                      <a:pt x="74" y="155"/>
                    </a:lnTo>
                    <a:lnTo>
                      <a:pt x="69" y="149"/>
                    </a:lnTo>
                    <a:lnTo>
                      <a:pt x="63" y="137"/>
                    </a:lnTo>
                    <a:lnTo>
                      <a:pt x="58" y="126"/>
                    </a:lnTo>
                    <a:lnTo>
                      <a:pt x="51" y="114"/>
                    </a:lnTo>
                    <a:lnTo>
                      <a:pt x="45" y="103"/>
                    </a:lnTo>
                    <a:lnTo>
                      <a:pt x="39" y="93"/>
                    </a:lnTo>
                    <a:lnTo>
                      <a:pt x="33" y="81"/>
                    </a:lnTo>
                    <a:lnTo>
                      <a:pt x="28" y="70"/>
                    </a:lnTo>
                    <a:lnTo>
                      <a:pt x="22" y="58"/>
                    </a:lnTo>
                    <a:lnTo>
                      <a:pt x="18" y="44"/>
                    </a:lnTo>
                    <a:lnTo>
                      <a:pt x="15" y="34"/>
                    </a:lnTo>
                    <a:lnTo>
                      <a:pt x="9" y="2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4" y="14"/>
                    </a:lnTo>
                    <a:lnTo>
                      <a:pt x="20" y="28"/>
                    </a:lnTo>
                    <a:lnTo>
                      <a:pt x="26" y="44"/>
                    </a:lnTo>
                    <a:lnTo>
                      <a:pt x="37" y="72"/>
                    </a:lnTo>
                    <a:lnTo>
                      <a:pt x="41" y="80"/>
                    </a:lnTo>
                    <a:lnTo>
                      <a:pt x="46" y="89"/>
                    </a:lnTo>
                    <a:lnTo>
                      <a:pt x="51" y="98"/>
                    </a:lnTo>
                    <a:lnTo>
                      <a:pt x="55" y="107"/>
                    </a:lnTo>
                    <a:lnTo>
                      <a:pt x="60" y="117"/>
                    </a:lnTo>
                    <a:lnTo>
                      <a:pt x="64" y="126"/>
                    </a:lnTo>
                    <a:lnTo>
                      <a:pt x="70" y="134"/>
                    </a:lnTo>
                    <a:lnTo>
                      <a:pt x="75" y="144"/>
                    </a:lnTo>
                    <a:lnTo>
                      <a:pt x="83" y="153"/>
                    </a:lnTo>
                    <a:lnTo>
                      <a:pt x="89" y="161"/>
                    </a:lnTo>
                    <a:lnTo>
                      <a:pt x="93" y="168"/>
                    </a:lnTo>
                    <a:lnTo>
                      <a:pt x="98" y="173"/>
                    </a:lnTo>
                    <a:lnTo>
                      <a:pt x="101" y="179"/>
                    </a:lnTo>
                    <a:lnTo>
                      <a:pt x="105" y="185"/>
                    </a:lnTo>
                    <a:lnTo>
                      <a:pt x="111" y="194"/>
                    </a:lnTo>
                    <a:lnTo>
                      <a:pt x="116" y="204"/>
                    </a:lnTo>
                    <a:lnTo>
                      <a:pt x="114" y="216"/>
                    </a:lnTo>
                    <a:lnTo>
                      <a:pt x="112" y="222"/>
                    </a:lnTo>
                    <a:lnTo>
                      <a:pt x="111" y="224"/>
                    </a:lnTo>
                    <a:lnTo>
                      <a:pt x="108" y="224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36"/>
              <p:cNvSpPr/>
              <p:nvPr/>
            </p:nvSpPr>
            <p:spPr>
              <a:xfrm>
                <a:off x="1405080" y="107388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104" h="238">
                    <a:moveTo>
                      <a:pt x="101" y="236"/>
                    </a:moveTo>
                    <a:lnTo>
                      <a:pt x="95" y="221"/>
                    </a:lnTo>
                    <a:lnTo>
                      <a:pt x="91" y="210"/>
                    </a:lnTo>
                    <a:lnTo>
                      <a:pt x="86" y="195"/>
                    </a:lnTo>
                    <a:lnTo>
                      <a:pt x="79" y="171"/>
                    </a:lnTo>
                    <a:lnTo>
                      <a:pt x="68" y="157"/>
                    </a:lnTo>
                    <a:lnTo>
                      <a:pt x="58" y="145"/>
                    </a:lnTo>
                    <a:lnTo>
                      <a:pt x="51" y="137"/>
                    </a:lnTo>
                    <a:lnTo>
                      <a:pt x="47" y="131"/>
                    </a:lnTo>
                    <a:lnTo>
                      <a:pt x="43" y="125"/>
                    </a:lnTo>
                    <a:lnTo>
                      <a:pt x="41" y="121"/>
                    </a:lnTo>
                    <a:lnTo>
                      <a:pt x="40" y="117"/>
                    </a:lnTo>
                    <a:lnTo>
                      <a:pt x="38" y="113"/>
                    </a:lnTo>
                    <a:lnTo>
                      <a:pt x="35" y="100"/>
                    </a:lnTo>
                    <a:lnTo>
                      <a:pt x="32" y="89"/>
                    </a:lnTo>
                    <a:lnTo>
                      <a:pt x="30" y="76"/>
                    </a:lnTo>
                    <a:lnTo>
                      <a:pt x="26" y="65"/>
                    </a:lnTo>
                    <a:lnTo>
                      <a:pt x="19" y="50"/>
                    </a:lnTo>
                    <a:lnTo>
                      <a:pt x="13" y="37"/>
                    </a:lnTo>
                    <a:lnTo>
                      <a:pt x="7" y="22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12" y="15"/>
                    </a:lnTo>
                    <a:lnTo>
                      <a:pt x="18" y="23"/>
                    </a:lnTo>
                    <a:lnTo>
                      <a:pt x="23" y="31"/>
                    </a:lnTo>
                    <a:lnTo>
                      <a:pt x="26" y="41"/>
                    </a:lnTo>
                    <a:lnTo>
                      <a:pt x="31" y="57"/>
                    </a:lnTo>
                    <a:lnTo>
                      <a:pt x="35" y="75"/>
                    </a:lnTo>
                    <a:lnTo>
                      <a:pt x="39" y="92"/>
                    </a:lnTo>
                    <a:lnTo>
                      <a:pt x="43" y="110"/>
                    </a:lnTo>
                    <a:lnTo>
                      <a:pt x="48" y="116"/>
                    </a:lnTo>
                    <a:lnTo>
                      <a:pt x="53" y="121"/>
                    </a:lnTo>
                    <a:lnTo>
                      <a:pt x="56" y="127"/>
                    </a:lnTo>
                    <a:lnTo>
                      <a:pt x="61" y="133"/>
                    </a:lnTo>
                    <a:lnTo>
                      <a:pt x="65" y="138"/>
                    </a:lnTo>
                    <a:lnTo>
                      <a:pt x="70" y="144"/>
                    </a:lnTo>
                    <a:lnTo>
                      <a:pt x="74" y="149"/>
                    </a:lnTo>
                    <a:lnTo>
                      <a:pt x="79" y="156"/>
                    </a:lnTo>
                    <a:lnTo>
                      <a:pt x="94" y="201"/>
                    </a:lnTo>
                    <a:lnTo>
                      <a:pt x="102" y="224"/>
                    </a:lnTo>
                    <a:lnTo>
                      <a:pt x="104" y="234"/>
                    </a:lnTo>
                    <a:lnTo>
                      <a:pt x="103" y="238"/>
                    </a:lnTo>
                    <a:lnTo>
                      <a:pt x="103" y="238"/>
                    </a:lnTo>
                    <a:lnTo>
                      <a:pt x="102" y="237"/>
                    </a:lnTo>
                    <a:lnTo>
                      <a:pt x="102" y="237"/>
                    </a:lnTo>
                    <a:lnTo>
                      <a:pt x="101" y="236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37"/>
              <p:cNvSpPr/>
              <p:nvPr/>
            </p:nvSpPr>
            <p:spPr>
              <a:xfrm>
                <a:off x="1141560" y="1040400"/>
                <a:ext cx="73440" cy="57240"/>
              </a:xfrm>
              <a:custGeom>
                <a:avLst/>
                <a:gdLst/>
                <a:ahLst/>
                <a:rect l="l" t="t" r="r" b="b"/>
                <a:pathLst>
                  <a:path w="246" h="364">
                    <a:moveTo>
                      <a:pt x="6" y="363"/>
                    </a:moveTo>
                    <a:lnTo>
                      <a:pt x="5" y="362"/>
                    </a:lnTo>
                    <a:lnTo>
                      <a:pt x="4" y="361"/>
                    </a:lnTo>
                    <a:lnTo>
                      <a:pt x="2" y="359"/>
                    </a:lnTo>
                    <a:lnTo>
                      <a:pt x="0" y="357"/>
                    </a:lnTo>
                    <a:lnTo>
                      <a:pt x="13" y="338"/>
                    </a:lnTo>
                    <a:lnTo>
                      <a:pt x="26" y="320"/>
                    </a:lnTo>
                    <a:lnTo>
                      <a:pt x="38" y="301"/>
                    </a:lnTo>
                    <a:lnTo>
                      <a:pt x="52" y="282"/>
                    </a:lnTo>
                    <a:lnTo>
                      <a:pt x="65" y="263"/>
                    </a:lnTo>
                    <a:lnTo>
                      <a:pt x="78" y="244"/>
                    </a:lnTo>
                    <a:lnTo>
                      <a:pt x="90" y="225"/>
                    </a:lnTo>
                    <a:lnTo>
                      <a:pt x="104" y="206"/>
                    </a:lnTo>
                    <a:lnTo>
                      <a:pt x="106" y="205"/>
                    </a:lnTo>
                    <a:lnTo>
                      <a:pt x="109" y="203"/>
                    </a:lnTo>
                    <a:lnTo>
                      <a:pt x="111" y="202"/>
                    </a:lnTo>
                    <a:lnTo>
                      <a:pt x="113" y="200"/>
                    </a:lnTo>
                    <a:lnTo>
                      <a:pt x="119" y="191"/>
                    </a:lnTo>
                    <a:lnTo>
                      <a:pt x="125" y="183"/>
                    </a:lnTo>
                    <a:lnTo>
                      <a:pt x="131" y="174"/>
                    </a:lnTo>
                    <a:lnTo>
                      <a:pt x="138" y="164"/>
                    </a:lnTo>
                    <a:lnTo>
                      <a:pt x="146" y="152"/>
                    </a:lnTo>
                    <a:lnTo>
                      <a:pt x="155" y="137"/>
                    </a:lnTo>
                    <a:lnTo>
                      <a:pt x="167" y="117"/>
                    </a:lnTo>
                    <a:lnTo>
                      <a:pt x="184" y="91"/>
                    </a:lnTo>
                    <a:lnTo>
                      <a:pt x="190" y="81"/>
                    </a:lnTo>
                    <a:lnTo>
                      <a:pt x="199" y="71"/>
                    </a:lnTo>
                    <a:lnTo>
                      <a:pt x="205" y="62"/>
                    </a:lnTo>
                    <a:lnTo>
                      <a:pt x="214" y="51"/>
                    </a:lnTo>
                    <a:lnTo>
                      <a:pt x="220" y="39"/>
                    </a:lnTo>
                    <a:lnTo>
                      <a:pt x="227" y="26"/>
                    </a:lnTo>
                    <a:lnTo>
                      <a:pt x="234" y="14"/>
                    </a:lnTo>
                    <a:lnTo>
                      <a:pt x="241" y="0"/>
                    </a:lnTo>
                    <a:lnTo>
                      <a:pt x="242" y="1"/>
                    </a:lnTo>
                    <a:lnTo>
                      <a:pt x="243" y="3"/>
                    </a:lnTo>
                    <a:lnTo>
                      <a:pt x="245" y="4"/>
                    </a:lnTo>
                    <a:lnTo>
                      <a:pt x="246" y="5"/>
                    </a:lnTo>
                    <a:lnTo>
                      <a:pt x="243" y="11"/>
                    </a:lnTo>
                    <a:lnTo>
                      <a:pt x="241" y="17"/>
                    </a:lnTo>
                    <a:lnTo>
                      <a:pt x="239" y="23"/>
                    </a:lnTo>
                    <a:lnTo>
                      <a:pt x="237" y="29"/>
                    </a:lnTo>
                    <a:lnTo>
                      <a:pt x="231" y="38"/>
                    </a:lnTo>
                    <a:lnTo>
                      <a:pt x="226" y="45"/>
                    </a:lnTo>
                    <a:lnTo>
                      <a:pt x="220" y="53"/>
                    </a:lnTo>
                    <a:lnTo>
                      <a:pt x="215" y="61"/>
                    </a:lnTo>
                    <a:lnTo>
                      <a:pt x="210" y="69"/>
                    </a:lnTo>
                    <a:lnTo>
                      <a:pt x="204" y="77"/>
                    </a:lnTo>
                    <a:lnTo>
                      <a:pt x="199" y="85"/>
                    </a:lnTo>
                    <a:lnTo>
                      <a:pt x="193" y="93"/>
                    </a:lnTo>
                    <a:lnTo>
                      <a:pt x="193" y="97"/>
                    </a:lnTo>
                    <a:lnTo>
                      <a:pt x="193" y="100"/>
                    </a:lnTo>
                    <a:lnTo>
                      <a:pt x="193" y="104"/>
                    </a:lnTo>
                    <a:lnTo>
                      <a:pt x="192" y="109"/>
                    </a:lnTo>
                    <a:lnTo>
                      <a:pt x="189" y="110"/>
                    </a:lnTo>
                    <a:lnTo>
                      <a:pt x="186" y="111"/>
                    </a:lnTo>
                    <a:lnTo>
                      <a:pt x="184" y="113"/>
                    </a:lnTo>
                    <a:lnTo>
                      <a:pt x="180" y="114"/>
                    </a:lnTo>
                    <a:lnTo>
                      <a:pt x="172" y="125"/>
                    </a:lnTo>
                    <a:lnTo>
                      <a:pt x="167" y="134"/>
                    </a:lnTo>
                    <a:lnTo>
                      <a:pt x="163" y="142"/>
                    </a:lnTo>
                    <a:lnTo>
                      <a:pt x="157" y="155"/>
                    </a:lnTo>
                    <a:lnTo>
                      <a:pt x="148" y="166"/>
                    </a:lnTo>
                    <a:lnTo>
                      <a:pt x="141" y="175"/>
                    </a:lnTo>
                    <a:lnTo>
                      <a:pt x="134" y="185"/>
                    </a:lnTo>
                    <a:lnTo>
                      <a:pt x="128" y="192"/>
                    </a:lnTo>
                    <a:lnTo>
                      <a:pt x="123" y="200"/>
                    </a:lnTo>
                    <a:lnTo>
                      <a:pt x="118" y="208"/>
                    </a:lnTo>
                    <a:lnTo>
                      <a:pt x="111" y="216"/>
                    </a:lnTo>
                    <a:lnTo>
                      <a:pt x="104" y="225"/>
                    </a:lnTo>
                    <a:lnTo>
                      <a:pt x="104" y="228"/>
                    </a:lnTo>
                    <a:lnTo>
                      <a:pt x="104" y="231"/>
                    </a:lnTo>
                    <a:lnTo>
                      <a:pt x="104" y="234"/>
                    </a:lnTo>
                    <a:lnTo>
                      <a:pt x="103" y="237"/>
                    </a:lnTo>
                    <a:lnTo>
                      <a:pt x="101" y="237"/>
                    </a:lnTo>
                    <a:lnTo>
                      <a:pt x="100" y="238"/>
                    </a:lnTo>
                    <a:lnTo>
                      <a:pt x="97" y="238"/>
                    </a:lnTo>
                    <a:lnTo>
                      <a:pt x="95" y="239"/>
                    </a:lnTo>
                    <a:lnTo>
                      <a:pt x="87" y="252"/>
                    </a:lnTo>
                    <a:lnTo>
                      <a:pt x="78" y="263"/>
                    </a:lnTo>
                    <a:lnTo>
                      <a:pt x="70" y="276"/>
                    </a:lnTo>
                    <a:lnTo>
                      <a:pt x="62" y="288"/>
                    </a:lnTo>
                    <a:lnTo>
                      <a:pt x="52" y="301"/>
                    </a:lnTo>
                    <a:lnTo>
                      <a:pt x="44" y="313"/>
                    </a:lnTo>
                    <a:lnTo>
                      <a:pt x="36" y="327"/>
                    </a:lnTo>
                    <a:lnTo>
                      <a:pt x="28" y="339"/>
                    </a:lnTo>
                    <a:lnTo>
                      <a:pt x="26" y="340"/>
                    </a:lnTo>
                    <a:lnTo>
                      <a:pt x="25" y="342"/>
                    </a:lnTo>
                    <a:lnTo>
                      <a:pt x="22" y="343"/>
                    </a:lnTo>
                    <a:lnTo>
                      <a:pt x="19" y="344"/>
                    </a:lnTo>
                    <a:lnTo>
                      <a:pt x="13" y="356"/>
                    </a:lnTo>
                    <a:lnTo>
                      <a:pt x="10" y="362"/>
                    </a:lnTo>
                    <a:lnTo>
                      <a:pt x="7" y="364"/>
                    </a:lnTo>
                    <a:lnTo>
                      <a:pt x="6" y="363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38"/>
              <p:cNvSpPr/>
              <p:nvPr/>
            </p:nvSpPr>
            <p:spPr>
              <a:xfrm>
                <a:off x="1464840" y="1080360"/>
                <a:ext cx="22680" cy="9000"/>
              </a:xfrm>
              <a:custGeom>
                <a:avLst/>
                <a:gdLst/>
                <a:ahLst/>
                <a:rect l="l" t="t" r="r" b="b"/>
                <a:pathLst>
                  <a:path w="76" h="60">
                    <a:moveTo>
                      <a:pt x="71" y="59"/>
                    </a:moveTo>
                    <a:lnTo>
                      <a:pt x="63" y="56"/>
                    </a:lnTo>
                    <a:lnTo>
                      <a:pt x="56" y="52"/>
                    </a:lnTo>
                    <a:lnTo>
                      <a:pt x="49" y="47"/>
                    </a:lnTo>
                    <a:lnTo>
                      <a:pt x="41" y="42"/>
                    </a:lnTo>
                    <a:lnTo>
                      <a:pt x="33" y="36"/>
                    </a:lnTo>
                    <a:lnTo>
                      <a:pt x="25" y="31"/>
                    </a:lnTo>
                    <a:lnTo>
                      <a:pt x="16" y="26"/>
                    </a:lnTo>
                    <a:lnTo>
                      <a:pt x="5" y="21"/>
                    </a:lnTo>
                    <a:lnTo>
                      <a:pt x="2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22" y="12"/>
                    </a:lnTo>
                    <a:lnTo>
                      <a:pt x="30" y="16"/>
                    </a:lnTo>
                    <a:lnTo>
                      <a:pt x="35" y="21"/>
                    </a:lnTo>
                    <a:lnTo>
                      <a:pt x="42" y="26"/>
                    </a:lnTo>
                    <a:lnTo>
                      <a:pt x="48" y="30"/>
                    </a:lnTo>
                    <a:lnTo>
                      <a:pt x="56" y="36"/>
                    </a:lnTo>
                    <a:lnTo>
                      <a:pt x="67" y="45"/>
                    </a:lnTo>
                    <a:lnTo>
                      <a:pt x="69" y="47"/>
                    </a:lnTo>
                    <a:lnTo>
                      <a:pt x="71" y="50"/>
                    </a:lnTo>
                    <a:lnTo>
                      <a:pt x="73" y="52"/>
                    </a:lnTo>
                    <a:lnTo>
                      <a:pt x="76" y="55"/>
                    </a:lnTo>
                    <a:lnTo>
                      <a:pt x="75" y="58"/>
                    </a:lnTo>
                    <a:lnTo>
                      <a:pt x="73" y="60"/>
                    </a:lnTo>
                    <a:lnTo>
                      <a:pt x="72" y="60"/>
                    </a:lnTo>
                    <a:lnTo>
                      <a:pt x="71" y="59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39"/>
              <p:cNvSpPr/>
              <p:nvPr/>
            </p:nvSpPr>
            <p:spPr>
              <a:xfrm>
                <a:off x="1213560" y="1025280"/>
                <a:ext cx="35280" cy="31680"/>
              </a:xfrm>
              <a:custGeom>
                <a:avLst/>
                <a:gdLst/>
                <a:ahLst/>
                <a:rect l="l" t="t" r="r" b="b"/>
                <a:pathLst>
                  <a:path w="118" h="202">
                    <a:moveTo>
                      <a:pt x="0" y="202"/>
                    </a:moveTo>
                    <a:lnTo>
                      <a:pt x="0" y="199"/>
                    </a:lnTo>
                    <a:lnTo>
                      <a:pt x="1" y="195"/>
                    </a:lnTo>
                    <a:lnTo>
                      <a:pt x="2" y="191"/>
                    </a:lnTo>
                    <a:lnTo>
                      <a:pt x="3" y="187"/>
                    </a:lnTo>
                    <a:lnTo>
                      <a:pt x="9" y="178"/>
                    </a:lnTo>
                    <a:lnTo>
                      <a:pt x="15" y="171"/>
                    </a:lnTo>
                    <a:lnTo>
                      <a:pt x="21" y="163"/>
                    </a:lnTo>
                    <a:lnTo>
                      <a:pt x="26" y="154"/>
                    </a:lnTo>
                    <a:lnTo>
                      <a:pt x="32" y="147"/>
                    </a:lnTo>
                    <a:lnTo>
                      <a:pt x="39" y="139"/>
                    </a:lnTo>
                    <a:lnTo>
                      <a:pt x="45" y="131"/>
                    </a:lnTo>
                    <a:lnTo>
                      <a:pt x="51" y="123"/>
                    </a:lnTo>
                    <a:lnTo>
                      <a:pt x="59" y="107"/>
                    </a:lnTo>
                    <a:lnTo>
                      <a:pt x="67" y="93"/>
                    </a:lnTo>
                    <a:lnTo>
                      <a:pt x="75" y="77"/>
                    </a:lnTo>
                    <a:lnTo>
                      <a:pt x="84" y="61"/>
                    </a:lnTo>
                    <a:lnTo>
                      <a:pt x="92" y="47"/>
                    </a:lnTo>
                    <a:lnTo>
                      <a:pt x="100" y="31"/>
                    </a:lnTo>
                    <a:lnTo>
                      <a:pt x="109" y="16"/>
                    </a:lnTo>
                    <a:lnTo>
                      <a:pt x="117" y="0"/>
                    </a:lnTo>
                    <a:lnTo>
                      <a:pt x="117" y="3"/>
                    </a:lnTo>
                    <a:lnTo>
                      <a:pt x="117" y="5"/>
                    </a:lnTo>
                    <a:lnTo>
                      <a:pt x="117" y="8"/>
                    </a:lnTo>
                    <a:lnTo>
                      <a:pt x="118" y="10"/>
                    </a:lnTo>
                    <a:lnTo>
                      <a:pt x="113" y="23"/>
                    </a:lnTo>
                    <a:lnTo>
                      <a:pt x="107" y="34"/>
                    </a:lnTo>
                    <a:lnTo>
                      <a:pt x="101" y="47"/>
                    </a:lnTo>
                    <a:lnTo>
                      <a:pt x="95" y="58"/>
                    </a:lnTo>
                    <a:lnTo>
                      <a:pt x="90" y="71"/>
                    </a:lnTo>
                    <a:lnTo>
                      <a:pt x="83" y="82"/>
                    </a:lnTo>
                    <a:lnTo>
                      <a:pt x="77" y="95"/>
                    </a:lnTo>
                    <a:lnTo>
                      <a:pt x="71" y="106"/>
                    </a:lnTo>
                    <a:lnTo>
                      <a:pt x="67" y="112"/>
                    </a:lnTo>
                    <a:lnTo>
                      <a:pt x="63" y="118"/>
                    </a:lnTo>
                    <a:lnTo>
                      <a:pt x="57" y="124"/>
                    </a:lnTo>
                    <a:lnTo>
                      <a:pt x="52" y="134"/>
                    </a:lnTo>
                    <a:lnTo>
                      <a:pt x="44" y="145"/>
                    </a:lnTo>
                    <a:lnTo>
                      <a:pt x="33" y="161"/>
                    </a:lnTo>
                    <a:lnTo>
                      <a:pt x="19" y="180"/>
                    </a:lnTo>
                    <a:lnTo>
                      <a:pt x="2" y="202"/>
                    </a:lnTo>
                    <a:lnTo>
                      <a:pt x="1" y="202"/>
                    </a:lnTo>
                    <a:lnTo>
                      <a:pt x="1" y="202"/>
                    </a:lnTo>
                    <a:lnTo>
                      <a:pt x="0" y="202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40"/>
              <p:cNvSpPr/>
              <p:nvPr/>
            </p:nvSpPr>
            <p:spPr>
              <a:xfrm>
                <a:off x="1268280" y="884160"/>
                <a:ext cx="34920" cy="47880"/>
              </a:xfrm>
              <a:custGeom>
                <a:avLst/>
                <a:gdLst/>
                <a:ahLst/>
                <a:rect l="l" t="t" r="r" b="b"/>
                <a:pathLst>
                  <a:path w="116" h="308">
                    <a:moveTo>
                      <a:pt x="0" y="308"/>
                    </a:moveTo>
                    <a:lnTo>
                      <a:pt x="2" y="282"/>
                    </a:lnTo>
                    <a:lnTo>
                      <a:pt x="6" y="259"/>
                    </a:lnTo>
                    <a:lnTo>
                      <a:pt x="12" y="236"/>
                    </a:lnTo>
                    <a:lnTo>
                      <a:pt x="25" y="209"/>
                    </a:lnTo>
                    <a:lnTo>
                      <a:pt x="40" y="193"/>
                    </a:lnTo>
                    <a:lnTo>
                      <a:pt x="54" y="180"/>
                    </a:lnTo>
                    <a:lnTo>
                      <a:pt x="67" y="166"/>
                    </a:lnTo>
                    <a:lnTo>
                      <a:pt x="78" y="154"/>
                    </a:lnTo>
                    <a:lnTo>
                      <a:pt x="87" y="140"/>
                    </a:lnTo>
                    <a:lnTo>
                      <a:pt x="95" y="127"/>
                    </a:lnTo>
                    <a:lnTo>
                      <a:pt x="101" y="112"/>
                    </a:lnTo>
                    <a:lnTo>
                      <a:pt x="105" y="96"/>
                    </a:lnTo>
                    <a:lnTo>
                      <a:pt x="102" y="74"/>
                    </a:lnTo>
                    <a:lnTo>
                      <a:pt x="99" y="47"/>
                    </a:lnTo>
                    <a:lnTo>
                      <a:pt x="99" y="21"/>
                    </a:lnTo>
                    <a:lnTo>
                      <a:pt x="106" y="0"/>
                    </a:lnTo>
                    <a:lnTo>
                      <a:pt x="107" y="5"/>
                    </a:lnTo>
                    <a:lnTo>
                      <a:pt x="107" y="11"/>
                    </a:lnTo>
                    <a:lnTo>
                      <a:pt x="106" y="19"/>
                    </a:lnTo>
                    <a:lnTo>
                      <a:pt x="103" y="32"/>
                    </a:lnTo>
                    <a:lnTo>
                      <a:pt x="107" y="45"/>
                    </a:lnTo>
                    <a:lnTo>
                      <a:pt x="110" y="62"/>
                    </a:lnTo>
                    <a:lnTo>
                      <a:pt x="114" y="78"/>
                    </a:lnTo>
                    <a:lnTo>
                      <a:pt x="116" y="95"/>
                    </a:lnTo>
                    <a:lnTo>
                      <a:pt x="115" y="111"/>
                    </a:lnTo>
                    <a:lnTo>
                      <a:pt x="109" y="128"/>
                    </a:lnTo>
                    <a:lnTo>
                      <a:pt x="99" y="144"/>
                    </a:lnTo>
                    <a:lnTo>
                      <a:pt x="87" y="160"/>
                    </a:lnTo>
                    <a:lnTo>
                      <a:pt x="73" y="177"/>
                    </a:lnTo>
                    <a:lnTo>
                      <a:pt x="59" y="193"/>
                    </a:lnTo>
                    <a:lnTo>
                      <a:pt x="44" y="209"/>
                    </a:lnTo>
                    <a:lnTo>
                      <a:pt x="31" y="225"/>
                    </a:lnTo>
                    <a:lnTo>
                      <a:pt x="15" y="273"/>
                    </a:lnTo>
                    <a:lnTo>
                      <a:pt x="6" y="298"/>
                    </a:lnTo>
                    <a:lnTo>
                      <a:pt x="2" y="307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41"/>
              <p:cNvSpPr/>
              <p:nvPr/>
            </p:nvSpPr>
            <p:spPr>
              <a:xfrm>
                <a:off x="1304280" y="873000"/>
                <a:ext cx="35640" cy="47880"/>
              </a:xfrm>
              <a:custGeom>
                <a:avLst/>
                <a:gdLst/>
                <a:ahLst/>
                <a:rect l="l" t="t" r="r" b="b"/>
                <a:pathLst>
                  <a:path w="116" h="307">
                    <a:moveTo>
                      <a:pt x="0" y="307"/>
                    </a:moveTo>
                    <a:lnTo>
                      <a:pt x="2" y="282"/>
                    </a:lnTo>
                    <a:lnTo>
                      <a:pt x="5" y="259"/>
                    </a:lnTo>
                    <a:lnTo>
                      <a:pt x="12" y="235"/>
                    </a:lnTo>
                    <a:lnTo>
                      <a:pt x="25" y="208"/>
                    </a:lnTo>
                    <a:lnTo>
                      <a:pt x="40" y="193"/>
                    </a:lnTo>
                    <a:lnTo>
                      <a:pt x="54" y="179"/>
                    </a:lnTo>
                    <a:lnTo>
                      <a:pt x="66" y="166"/>
                    </a:lnTo>
                    <a:lnTo>
                      <a:pt x="78" y="154"/>
                    </a:lnTo>
                    <a:lnTo>
                      <a:pt x="88" y="140"/>
                    </a:lnTo>
                    <a:lnTo>
                      <a:pt x="96" y="126"/>
                    </a:lnTo>
                    <a:lnTo>
                      <a:pt x="102" y="112"/>
                    </a:lnTo>
                    <a:lnTo>
                      <a:pt x="104" y="96"/>
                    </a:lnTo>
                    <a:lnTo>
                      <a:pt x="102" y="74"/>
                    </a:lnTo>
                    <a:lnTo>
                      <a:pt x="99" y="46"/>
                    </a:lnTo>
                    <a:lnTo>
                      <a:pt x="99" y="20"/>
                    </a:lnTo>
                    <a:lnTo>
                      <a:pt x="106" y="0"/>
                    </a:lnTo>
                    <a:lnTo>
                      <a:pt x="107" y="4"/>
                    </a:lnTo>
                    <a:lnTo>
                      <a:pt x="107" y="9"/>
                    </a:lnTo>
                    <a:lnTo>
                      <a:pt x="106" y="18"/>
                    </a:lnTo>
                    <a:lnTo>
                      <a:pt x="103" y="31"/>
                    </a:lnTo>
                    <a:lnTo>
                      <a:pt x="108" y="44"/>
                    </a:lnTo>
                    <a:lnTo>
                      <a:pt x="111" y="61"/>
                    </a:lnTo>
                    <a:lnTo>
                      <a:pt x="114" y="78"/>
                    </a:lnTo>
                    <a:lnTo>
                      <a:pt x="116" y="95"/>
                    </a:lnTo>
                    <a:lnTo>
                      <a:pt x="115" y="111"/>
                    </a:lnTo>
                    <a:lnTo>
                      <a:pt x="109" y="127"/>
                    </a:lnTo>
                    <a:lnTo>
                      <a:pt x="99" y="143"/>
                    </a:lnTo>
                    <a:lnTo>
                      <a:pt x="87" y="160"/>
                    </a:lnTo>
                    <a:lnTo>
                      <a:pt x="73" y="175"/>
                    </a:lnTo>
                    <a:lnTo>
                      <a:pt x="58" y="192"/>
                    </a:lnTo>
                    <a:lnTo>
                      <a:pt x="43" y="208"/>
                    </a:lnTo>
                    <a:lnTo>
                      <a:pt x="31" y="224"/>
                    </a:lnTo>
                    <a:lnTo>
                      <a:pt x="15" y="272"/>
                    </a:lnTo>
                    <a:lnTo>
                      <a:pt x="5" y="297"/>
                    </a:lnTo>
                    <a:lnTo>
                      <a:pt x="2" y="306"/>
                    </a:ln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42"/>
              <p:cNvSpPr/>
              <p:nvPr/>
            </p:nvSpPr>
            <p:spPr>
              <a:xfrm>
                <a:off x="1349280" y="906840"/>
                <a:ext cx="13680" cy="20520"/>
              </a:xfrm>
              <a:custGeom>
                <a:avLst/>
                <a:gdLst/>
                <a:ahLst/>
                <a:rect l="l" t="t" r="r" b="b"/>
                <a:pathLst>
                  <a:path w="46" h="135">
                    <a:moveTo>
                      <a:pt x="0" y="135"/>
                    </a:moveTo>
                    <a:lnTo>
                      <a:pt x="7" y="118"/>
                    </a:lnTo>
                    <a:lnTo>
                      <a:pt x="10" y="102"/>
                    </a:lnTo>
                    <a:lnTo>
                      <a:pt x="10" y="83"/>
                    </a:lnTo>
                    <a:lnTo>
                      <a:pt x="9" y="61"/>
                    </a:lnTo>
                    <a:lnTo>
                      <a:pt x="10" y="55"/>
                    </a:lnTo>
                    <a:lnTo>
                      <a:pt x="13" y="49"/>
                    </a:lnTo>
                    <a:lnTo>
                      <a:pt x="15" y="44"/>
                    </a:lnTo>
                    <a:lnTo>
                      <a:pt x="17" y="38"/>
                    </a:lnTo>
                    <a:lnTo>
                      <a:pt x="22" y="25"/>
                    </a:lnTo>
                    <a:lnTo>
                      <a:pt x="31" y="14"/>
                    </a:lnTo>
                    <a:lnTo>
                      <a:pt x="40" y="4"/>
                    </a:lnTo>
                    <a:lnTo>
                      <a:pt x="46" y="0"/>
                    </a:lnTo>
                    <a:lnTo>
                      <a:pt x="44" y="7"/>
                    </a:lnTo>
                    <a:lnTo>
                      <a:pt x="35" y="23"/>
                    </a:lnTo>
                    <a:lnTo>
                      <a:pt x="25" y="43"/>
                    </a:lnTo>
                    <a:lnTo>
                      <a:pt x="20" y="57"/>
                    </a:lnTo>
                    <a:lnTo>
                      <a:pt x="19" y="95"/>
                    </a:lnTo>
                    <a:lnTo>
                      <a:pt x="14" y="123"/>
                    </a:lnTo>
                    <a:lnTo>
                      <a:pt x="7" y="135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43"/>
              <p:cNvSpPr/>
              <p:nvPr/>
            </p:nvSpPr>
            <p:spPr>
              <a:xfrm>
                <a:off x="1300320" y="1018080"/>
                <a:ext cx="75240" cy="90000"/>
              </a:xfrm>
              <a:custGeom>
                <a:avLst/>
                <a:gdLst/>
                <a:ahLst/>
                <a:rect l="l" t="t" r="r" b="b"/>
                <a:pathLst>
                  <a:path w="250" h="579">
                    <a:moveTo>
                      <a:pt x="0" y="13"/>
                    </a:moveTo>
                    <a:lnTo>
                      <a:pt x="55" y="81"/>
                    </a:lnTo>
                    <a:lnTo>
                      <a:pt x="184" y="384"/>
                    </a:lnTo>
                    <a:lnTo>
                      <a:pt x="250" y="579"/>
                    </a:lnTo>
                    <a:lnTo>
                      <a:pt x="214" y="444"/>
                    </a:lnTo>
                    <a:lnTo>
                      <a:pt x="135" y="231"/>
                    </a:lnTo>
                    <a:lnTo>
                      <a:pt x="75" y="81"/>
                    </a:lnTo>
                    <a:lnTo>
                      <a:pt x="25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44"/>
              <p:cNvSpPr/>
              <p:nvPr/>
            </p:nvSpPr>
            <p:spPr>
              <a:xfrm>
                <a:off x="1247760" y="1129320"/>
                <a:ext cx="7560" cy="33480"/>
              </a:xfrm>
              <a:custGeom>
                <a:avLst/>
                <a:gdLst/>
                <a:ahLst/>
                <a:rect l="l" t="t" r="r" b="b"/>
                <a:pathLst>
                  <a:path w="25" h="218">
                    <a:moveTo>
                      <a:pt x="6" y="0"/>
                    </a:moveTo>
                    <a:lnTo>
                      <a:pt x="0" y="218"/>
                    </a:lnTo>
                    <a:lnTo>
                      <a:pt x="25" y="218"/>
                    </a:lnTo>
                    <a:lnTo>
                      <a:pt x="10" y="127"/>
                    </a:lnTo>
                    <a:lnTo>
                      <a:pt x="21" y="3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45"/>
              <p:cNvSpPr/>
              <p:nvPr/>
            </p:nvSpPr>
            <p:spPr>
              <a:xfrm>
                <a:off x="1085040" y="1066680"/>
                <a:ext cx="126000" cy="92160"/>
              </a:xfrm>
              <a:custGeom>
                <a:avLst/>
                <a:gdLst/>
                <a:ahLst/>
                <a:rect l="l" t="t" r="r" b="b"/>
                <a:pathLst>
                  <a:path w="417" h="591">
                    <a:moveTo>
                      <a:pt x="362" y="54"/>
                    </a:moveTo>
                    <a:lnTo>
                      <a:pt x="258" y="213"/>
                    </a:lnTo>
                    <a:lnTo>
                      <a:pt x="133" y="401"/>
                    </a:lnTo>
                    <a:lnTo>
                      <a:pt x="0" y="568"/>
                    </a:lnTo>
                    <a:lnTo>
                      <a:pt x="24" y="591"/>
                    </a:lnTo>
                    <a:lnTo>
                      <a:pt x="69" y="483"/>
                    </a:lnTo>
                    <a:lnTo>
                      <a:pt x="144" y="401"/>
                    </a:lnTo>
                    <a:lnTo>
                      <a:pt x="262" y="221"/>
                    </a:lnTo>
                    <a:lnTo>
                      <a:pt x="417" y="0"/>
                    </a:lnTo>
                    <a:lnTo>
                      <a:pt x="362" y="54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46"/>
              <p:cNvSpPr/>
              <p:nvPr/>
            </p:nvSpPr>
            <p:spPr>
              <a:xfrm>
                <a:off x="1006920" y="1053360"/>
                <a:ext cx="164520" cy="59040"/>
              </a:xfrm>
              <a:custGeom>
                <a:avLst/>
                <a:gdLst/>
                <a:ahLst/>
                <a:rect l="l" t="t" r="r" b="b"/>
                <a:pathLst>
                  <a:path w="546" h="379">
                    <a:moveTo>
                      <a:pt x="546" y="19"/>
                    </a:moveTo>
                    <a:lnTo>
                      <a:pt x="535" y="0"/>
                    </a:lnTo>
                    <a:lnTo>
                      <a:pt x="302" y="169"/>
                    </a:lnTo>
                    <a:lnTo>
                      <a:pt x="178" y="269"/>
                    </a:lnTo>
                    <a:lnTo>
                      <a:pt x="0" y="378"/>
                    </a:lnTo>
                    <a:lnTo>
                      <a:pt x="15" y="379"/>
                    </a:lnTo>
                    <a:lnTo>
                      <a:pt x="38" y="370"/>
                    </a:lnTo>
                    <a:lnTo>
                      <a:pt x="67" y="356"/>
                    </a:lnTo>
                    <a:lnTo>
                      <a:pt x="98" y="337"/>
                    </a:lnTo>
                    <a:lnTo>
                      <a:pt x="128" y="317"/>
                    </a:lnTo>
                    <a:lnTo>
                      <a:pt x="154" y="300"/>
                    </a:lnTo>
                    <a:lnTo>
                      <a:pt x="172" y="288"/>
                    </a:lnTo>
                    <a:lnTo>
                      <a:pt x="178" y="282"/>
                    </a:lnTo>
                    <a:lnTo>
                      <a:pt x="302" y="192"/>
                    </a:lnTo>
                    <a:lnTo>
                      <a:pt x="436" y="124"/>
                    </a:lnTo>
                    <a:lnTo>
                      <a:pt x="546" y="19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47"/>
              <p:cNvSpPr/>
              <p:nvPr/>
            </p:nvSpPr>
            <p:spPr>
              <a:xfrm>
                <a:off x="1479240" y="1101600"/>
                <a:ext cx="92880" cy="24840"/>
              </a:xfrm>
              <a:custGeom>
                <a:avLst/>
                <a:gdLst/>
                <a:ahLst/>
                <a:rect l="l" t="t" r="r" b="b"/>
                <a:pathLst>
                  <a:path w="309" h="159">
                    <a:moveTo>
                      <a:pt x="1" y="0"/>
                    </a:moveTo>
                    <a:lnTo>
                      <a:pt x="43" y="16"/>
                    </a:lnTo>
                    <a:lnTo>
                      <a:pt x="153" y="75"/>
                    </a:lnTo>
                    <a:lnTo>
                      <a:pt x="309" y="138"/>
                    </a:lnTo>
                    <a:lnTo>
                      <a:pt x="309" y="159"/>
                    </a:lnTo>
                    <a:lnTo>
                      <a:pt x="264" y="138"/>
                    </a:lnTo>
                    <a:lnTo>
                      <a:pt x="195" y="104"/>
                    </a:lnTo>
                    <a:lnTo>
                      <a:pt x="70" y="46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2" y="10"/>
                    </a:lnTo>
                    <a:lnTo>
                      <a:pt x="0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48"/>
              <p:cNvSpPr/>
              <p:nvPr/>
            </p:nvSpPr>
            <p:spPr>
              <a:xfrm>
                <a:off x="1343160" y="1026720"/>
                <a:ext cx="62640" cy="41040"/>
              </a:xfrm>
              <a:custGeom>
                <a:avLst/>
                <a:gdLst/>
                <a:ahLst/>
                <a:rect l="l" t="t" r="r" b="b"/>
                <a:pathLst>
                  <a:path w="209" h="262">
                    <a:moveTo>
                      <a:pt x="0" y="0"/>
                    </a:moveTo>
                    <a:lnTo>
                      <a:pt x="68" y="67"/>
                    </a:lnTo>
                    <a:lnTo>
                      <a:pt x="209" y="262"/>
                    </a:lnTo>
                    <a:lnTo>
                      <a:pt x="154" y="212"/>
                    </a:lnTo>
                    <a:lnTo>
                      <a:pt x="63" y="78"/>
                    </a:lnTo>
                    <a:lnTo>
                      <a:pt x="31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49"/>
              <p:cNvSpPr/>
              <p:nvPr/>
            </p:nvSpPr>
            <p:spPr>
              <a:xfrm>
                <a:off x="1256400" y="999720"/>
                <a:ext cx="27360" cy="2052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63" y="0"/>
                    </a:moveTo>
                    <a:lnTo>
                      <a:pt x="43" y="38"/>
                    </a:lnTo>
                    <a:lnTo>
                      <a:pt x="0" y="133"/>
                    </a:lnTo>
                    <a:lnTo>
                      <a:pt x="32" y="83"/>
                    </a:lnTo>
                    <a:lnTo>
                      <a:pt x="93" y="1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50"/>
              <p:cNvSpPr/>
              <p:nvPr/>
            </p:nvSpPr>
            <p:spPr>
              <a:xfrm>
                <a:off x="1045080" y="993600"/>
                <a:ext cx="227880" cy="141120"/>
              </a:xfrm>
              <a:custGeom>
                <a:avLst/>
                <a:gdLst/>
                <a:ahLst/>
                <a:rect l="l" t="t" r="r" b="b"/>
                <a:pathLst>
                  <a:path w="756" h="911">
                    <a:moveTo>
                      <a:pt x="703" y="0"/>
                    </a:moveTo>
                    <a:lnTo>
                      <a:pt x="610" y="115"/>
                    </a:lnTo>
                    <a:lnTo>
                      <a:pt x="431" y="375"/>
                    </a:lnTo>
                    <a:lnTo>
                      <a:pt x="311" y="526"/>
                    </a:lnTo>
                    <a:lnTo>
                      <a:pt x="173" y="665"/>
                    </a:lnTo>
                    <a:lnTo>
                      <a:pt x="60" y="817"/>
                    </a:lnTo>
                    <a:lnTo>
                      <a:pt x="0" y="911"/>
                    </a:lnTo>
                    <a:lnTo>
                      <a:pt x="47" y="887"/>
                    </a:lnTo>
                    <a:lnTo>
                      <a:pt x="100" y="828"/>
                    </a:lnTo>
                    <a:lnTo>
                      <a:pt x="179" y="713"/>
                    </a:lnTo>
                    <a:lnTo>
                      <a:pt x="272" y="641"/>
                    </a:lnTo>
                    <a:lnTo>
                      <a:pt x="232" y="726"/>
                    </a:lnTo>
                    <a:lnTo>
                      <a:pt x="232" y="774"/>
                    </a:lnTo>
                    <a:lnTo>
                      <a:pt x="285" y="720"/>
                    </a:lnTo>
                    <a:lnTo>
                      <a:pt x="325" y="611"/>
                    </a:lnTo>
                    <a:lnTo>
                      <a:pt x="477" y="381"/>
                    </a:lnTo>
                    <a:lnTo>
                      <a:pt x="590" y="254"/>
                    </a:lnTo>
                    <a:lnTo>
                      <a:pt x="657" y="169"/>
                    </a:lnTo>
                    <a:lnTo>
                      <a:pt x="756" y="24"/>
                    </a:lnTo>
                    <a:lnTo>
                      <a:pt x="703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51"/>
              <p:cNvSpPr/>
              <p:nvPr/>
            </p:nvSpPr>
            <p:spPr>
              <a:xfrm>
                <a:off x="1111320" y="1001880"/>
                <a:ext cx="177120" cy="125640"/>
              </a:xfrm>
              <a:custGeom>
                <a:avLst/>
                <a:gdLst/>
                <a:ahLst/>
                <a:rect l="l" t="t" r="r" b="b"/>
                <a:pathLst>
                  <a:path w="590" h="809">
                    <a:moveTo>
                      <a:pt x="484" y="91"/>
                    </a:moveTo>
                    <a:lnTo>
                      <a:pt x="364" y="260"/>
                    </a:lnTo>
                    <a:lnTo>
                      <a:pt x="318" y="351"/>
                    </a:lnTo>
                    <a:lnTo>
                      <a:pt x="193" y="514"/>
                    </a:lnTo>
                    <a:lnTo>
                      <a:pt x="145" y="581"/>
                    </a:lnTo>
                    <a:lnTo>
                      <a:pt x="53" y="714"/>
                    </a:lnTo>
                    <a:lnTo>
                      <a:pt x="0" y="809"/>
                    </a:lnTo>
                    <a:lnTo>
                      <a:pt x="5" y="805"/>
                    </a:lnTo>
                    <a:lnTo>
                      <a:pt x="18" y="792"/>
                    </a:lnTo>
                    <a:lnTo>
                      <a:pt x="37" y="775"/>
                    </a:lnTo>
                    <a:lnTo>
                      <a:pt x="58" y="754"/>
                    </a:lnTo>
                    <a:lnTo>
                      <a:pt x="81" y="733"/>
                    </a:lnTo>
                    <a:lnTo>
                      <a:pt x="100" y="711"/>
                    </a:lnTo>
                    <a:lnTo>
                      <a:pt x="117" y="692"/>
                    </a:lnTo>
                    <a:lnTo>
                      <a:pt x="126" y="678"/>
                    </a:lnTo>
                    <a:lnTo>
                      <a:pt x="135" y="662"/>
                    </a:lnTo>
                    <a:lnTo>
                      <a:pt x="152" y="635"/>
                    </a:lnTo>
                    <a:lnTo>
                      <a:pt x="174" y="603"/>
                    </a:lnTo>
                    <a:lnTo>
                      <a:pt x="197" y="570"/>
                    </a:lnTo>
                    <a:lnTo>
                      <a:pt x="220" y="537"/>
                    </a:lnTo>
                    <a:lnTo>
                      <a:pt x="240" y="510"/>
                    </a:lnTo>
                    <a:lnTo>
                      <a:pt x="254" y="491"/>
                    </a:lnTo>
                    <a:lnTo>
                      <a:pt x="258" y="484"/>
                    </a:lnTo>
                    <a:lnTo>
                      <a:pt x="371" y="339"/>
                    </a:lnTo>
                    <a:lnTo>
                      <a:pt x="418" y="212"/>
                    </a:lnTo>
                    <a:lnTo>
                      <a:pt x="504" y="122"/>
                    </a:lnTo>
                    <a:lnTo>
                      <a:pt x="590" y="0"/>
                    </a:lnTo>
                    <a:lnTo>
                      <a:pt x="556" y="0"/>
                    </a:lnTo>
                    <a:lnTo>
                      <a:pt x="484" y="91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52"/>
              <p:cNvSpPr/>
              <p:nvPr/>
            </p:nvSpPr>
            <p:spPr>
              <a:xfrm>
                <a:off x="1245240" y="1034640"/>
                <a:ext cx="37800" cy="117720"/>
              </a:xfrm>
              <a:custGeom>
                <a:avLst/>
                <a:gdLst/>
                <a:ahLst/>
                <a:rect l="l" t="t" r="r" b="b"/>
                <a:pathLst>
                  <a:path w="124" h="753">
                    <a:moveTo>
                      <a:pt x="11" y="96"/>
                    </a:moveTo>
                    <a:lnTo>
                      <a:pt x="11" y="194"/>
                    </a:lnTo>
                    <a:lnTo>
                      <a:pt x="0" y="351"/>
                    </a:lnTo>
                    <a:lnTo>
                      <a:pt x="0" y="447"/>
                    </a:lnTo>
                    <a:lnTo>
                      <a:pt x="11" y="545"/>
                    </a:lnTo>
                    <a:lnTo>
                      <a:pt x="18" y="411"/>
                    </a:lnTo>
                    <a:lnTo>
                      <a:pt x="26" y="272"/>
                    </a:lnTo>
                    <a:lnTo>
                      <a:pt x="72" y="187"/>
                    </a:lnTo>
                    <a:lnTo>
                      <a:pt x="72" y="236"/>
                    </a:lnTo>
                    <a:lnTo>
                      <a:pt x="72" y="369"/>
                    </a:lnTo>
                    <a:lnTo>
                      <a:pt x="78" y="495"/>
                    </a:lnTo>
                    <a:lnTo>
                      <a:pt x="58" y="675"/>
                    </a:lnTo>
                    <a:lnTo>
                      <a:pt x="58" y="753"/>
                    </a:lnTo>
                    <a:lnTo>
                      <a:pt x="117" y="603"/>
                    </a:lnTo>
                    <a:lnTo>
                      <a:pt x="124" y="363"/>
                    </a:lnTo>
                    <a:lnTo>
                      <a:pt x="91" y="122"/>
                    </a:lnTo>
                    <a:lnTo>
                      <a:pt x="91" y="0"/>
                    </a:lnTo>
                    <a:lnTo>
                      <a:pt x="58" y="42"/>
                    </a:lnTo>
                    <a:lnTo>
                      <a:pt x="11" y="96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53"/>
              <p:cNvSpPr/>
              <p:nvPr/>
            </p:nvSpPr>
            <p:spPr>
              <a:xfrm>
                <a:off x="1280880" y="1021680"/>
                <a:ext cx="10080" cy="45720"/>
              </a:xfrm>
              <a:custGeom>
                <a:avLst/>
                <a:gdLst/>
                <a:ahLst/>
                <a:rect l="l" t="t" r="r" b="b"/>
                <a:pathLst>
                  <a:path w="34" h="295">
                    <a:moveTo>
                      <a:pt x="0" y="48"/>
                    </a:moveTo>
                    <a:lnTo>
                      <a:pt x="7" y="126"/>
                    </a:lnTo>
                    <a:lnTo>
                      <a:pt x="0" y="236"/>
                    </a:lnTo>
                    <a:lnTo>
                      <a:pt x="7" y="295"/>
                    </a:lnTo>
                    <a:lnTo>
                      <a:pt x="34" y="180"/>
                    </a:lnTo>
                    <a:lnTo>
                      <a:pt x="34" y="108"/>
                    </a:lnTo>
                    <a:lnTo>
                      <a:pt x="2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54"/>
              <p:cNvSpPr/>
              <p:nvPr/>
            </p:nvSpPr>
            <p:spPr>
              <a:xfrm>
                <a:off x="1347480" y="1154520"/>
                <a:ext cx="93960" cy="20880"/>
              </a:xfrm>
              <a:custGeom>
                <a:avLst/>
                <a:gdLst/>
                <a:ahLst/>
                <a:rect l="l" t="t" r="r" b="b"/>
                <a:pathLst>
                  <a:path w="311" h="134">
                    <a:moveTo>
                      <a:pt x="0" y="71"/>
                    </a:moveTo>
                    <a:lnTo>
                      <a:pt x="41" y="25"/>
                    </a:lnTo>
                    <a:lnTo>
                      <a:pt x="96" y="4"/>
                    </a:lnTo>
                    <a:lnTo>
                      <a:pt x="155" y="0"/>
                    </a:lnTo>
                    <a:lnTo>
                      <a:pt x="191" y="59"/>
                    </a:lnTo>
                    <a:lnTo>
                      <a:pt x="191" y="8"/>
                    </a:lnTo>
                    <a:lnTo>
                      <a:pt x="247" y="0"/>
                    </a:lnTo>
                    <a:lnTo>
                      <a:pt x="293" y="17"/>
                    </a:lnTo>
                    <a:lnTo>
                      <a:pt x="311" y="50"/>
                    </a:lnTo>
                    <a:lnTo>
                      <a:pt x="284" y="105"/>
                    </a:lnTo>
                    <a:lnTo>
                      <a:pt x="219" y="134"/>
                    </a:lnTo>
                    <a:lnTo>
                      <a:pt x="145" y="134"/>
                    </a:lnTo>
                    <a:lnTo>
                      <a:pt x="91" y="134"/>
                    </a:lnTo>
                    <a:lnTo>
                      <a:pt x="41" y="121"/>
                    </a:lnTo>
                    <a:lnTo>
                      <a:pt x="39" y="119"/>
                    </a:lnTo>
                    <a:lnTo>
                      <a:pt x="36" y="112"/>
                    </a:lnTo>
                    <a:lnTo>
                      <a:pt x="30" y="104"/>
                    </a:lnTo>
                    <a:lnTo>
                      <a:pt x="23" y="93"/>
                    </a:lnTo>
                    <a:lnTo>
                      <a:pt x="16" y="84"/>
                    </a:lnTo>
                    <a:lnTo>
                      <a:pt x="10" y="75"/>
                    </a:lnTo>
                    <a:lnTo>
                      <a:pt x="5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55"/>
              <p:cNvSpPr/>
              <p:nvPr/>
            </p:nvSpPr>
            <p:spPr>
              <a:xfrm>
                <a:off x="1435320" y="1136880"/>
                <a:ext cx="23400" cy="16200"/>
              </a:xfrm>
              <a:custGeom>
                <a:avLst/>
                <a:gdLst/>
                <a:ahLst/>
                <a:rect l="l" t="t" r="r" b="b"/>
                <a:pathLst>
                  <a:path w="77" h="105">
                    <a:moveTo>
                      <a:pt x="40" y="92"/>
                    </a:moveTo>
                    <a:lnTo>
                      <a:pt x="0" y="71"/>
                    </a:lnTo>
                    <a:lnTo>
                      <a:pt x="0" y="25"/>
                    </a:lnTo>
                    <a:lnTo>
                      <a:pt x="31" y="0"/>
                    </a:lnTo>
                    <a:lnTo>
                      <a:pt x="77" y="17"/>
                    </a:lnTo>
                    <a:lnTo>
                      <a:pt x="77" y="55"/>
                    </a:lnTo>
                    <a:lnTo>
                      <a:pt x="72" y="105"/>
                    </a:lnTo>
                    <a:lnTo>
                      <a:pt x="40" y="92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56"/>
              <p:cNvSpPr/>
              <p:nvPr/>
            </p:nvSpPr>
            <p:spPr>
              <a:xfrm>
                <a:off x="1297440" y="1017360"/>
                <a:ext cx="47520" cy="72000"/>
              </a:xfrm>
              <a:custGeom>
                <a:avLst/>
                <a:gdLst/>
                <a:ahLst/>
                <a:rect l="l" t="t" r="r" b="b"/>
                <a:pathLst>
                  <a:path w="159" h="466">
                    <a:moveTo>
                      <a:pt x="0" y="0"/>
                    </a:moveTo>
                    <a:lnTo>
                      <a:pt x="14" y="133"/>
                    </a:lnTo>
                    <a:lnTo>
                      <a:pt x="27" y="369"/>
                    </a:lnTo>
                    <a:lnTo>
                      <a:pt x="80" y="466"/>
                    </a:lnTo>
                    <a:lnTo>
                      <a:pt x="79" y="457"/>
                    </a:lnTo>
                    <a:lnTo>
                      <a:pt x="76" y="434"/>
                    </a:lnTo>
                    <a:lnTo>
                      <a:pt x="72" y="405"/>
                    </a:lnTo>
                    <a:lnTo>
                      <a:pt x="67" y="375"/>
                    </a:lnTo>
                    <a:lnTo>
                      <a:pt x="64" y="340"/>
                    </a:lnTo>
                    <a:lnTo>
                      <a:pt x="61" y="298"/>
                    </a:lnTo>
                    <a:lnTo>
                      <a:pt x="60" y="263"/>
                    </a:lnTo>
                    <a:lnTo>
                      <a:pt x="60" y="248"/>
                    </a:lnTo>
                    <a:lnTo>
                      <a:pt x="120" y="326"/>
                    </a:lnTo>
                    <a:lnTo>
                      <a:pt x="159" y="424"/>
                    </a:lnTo>
                    <a:lnTo>
                      <a:pt x="120" y="267"/>
                    </a:lnTo>
                    <a:lnTo>
                      <a:pt x="60" y="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57"/>
              <p:cNvSpPr/>
              <p:nvPr/>
            </p:nvSpPr>
            <p:spPr>
              <a:xfrm>
                <a:off x="1311120" y="1014120"/>
                <a:ext cx="77040" cy="112680"/>
              </a:xfrm>
              <a:custGeom>
                <a:avLst/>
                <a:gdLst/>
                <a:ahLst/>
                <a:rect l="l" t="t" r="r" b="b"/>
                <a:pathLst>
                  <a:path w="254" h="725">
                    <a:moveTo>
                      <a:pt x="0" y="35"/>
                    </a:moveTo>
                    <a:lnTo>
                      <a:pt x="47" y="102"/>
                    </a:lnTo>
                    <a:lnTo>
                      <a:pt x="119" y="295"/>
                    </a:lnTo>
                    <a:lnTo>
                      <a:pt x="171" y="380"/>
                    </a:lnTo>
                    <a:lnTo>
                      <a:pt x="211" y="586"/>
                    </a:lnTo>
                    <a:lnTo>
                      <a:pt x="244" y="725"/>
                    </a:lnTo>
                    <a:lnTo>
                      <a:pt x="251" y="653"/>
                    </a:lnTo>
                    <a:lnTo>
                      <a:pt x="252" y="648"/>
                    </a:lnTo>
                    <a:lnTo>
                      <a:pt x="253" y="634"/>
                    </a:lnTo>
                    <a:lnTo>
                      <a:pt x="254" y="603"/>
                    </a:lnTo>
                    <a:lnTo>
                      <a:pt x="251" y="555"/>
                    </a:lnTo>
                    <a:lnTo>
                      <a:pt x="245" y="522"/>
                    </a:lnTo>
                    <a:lnTo>
                      <a:pt x="233" y="483"/>
                    </a:lnTo>
                    <a:lnTo>
                      <a:pt x="218" y="443"/>
                    </a:lnTo>
                    <a:lnTo>
                      <a:pt x="202" y="402"/>
                    </a:lnTo>
                    <a:lnTo>
                      <a:pt x="186" y="365"/>
                    </a:lnTo>
                    <a:lnTo>
                      <a:pt x="172" y="335"/>
                    </a:lnTo>
                    <a:lnTo>
                      <a:pt x="162" y="315"/>
                    </a:lnTo>
                    <a:lnTo>
                      <a:pt x="158" y="308"/>
                    </a:lnTo>
                    <a:lnTo>
                      <a:pt x="72" y="96"/>
                    </a:lnTo>
                    <a:lnTo>
                      <a:pt x="26" y="0"/>
                    </a:lnTo>
                    <a:lnTo>
                      <a:pt x="21" y="4"/>
                    </a:lnTo>
                    <a:lnTo>
                      <a:pt x="13" y="15"/>
                    </a:lnTo>
                    <a:lnTo>
                      <a:pt x="4" y="27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58"/>
              <p:cNvSpPr/>
              <p:nvPr/>
            </p:nvSpPr>
            <p:spPr>
              <a:xfrm>
                <a:off x="1301400" y="10180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39" h="254">
                    <a:moveTo>
                      <a:pt x="0" y="0"/>
                    </a:moveTo>
                    <a:lnTo>
                      <a:pt x="0" y="54"/>
                    </a:lnTo>
                    <a:lnTo>
                      <a:pt x="0" y="139"/>
                    </a:lnTo>
                    <a:lnTo>
                      <a:pt x="20" y="254"/>
                    </a:lnTo>
                    <a:lnTo>
                      <a:pt x="34" y="193"/>
                    </a:lnTo>
                    <a:lnTo>
                      <a:pt x="39" y="1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59"/>
              <p:cNvSpPr/>
              <p:nvPr/>
            </p:nvSpPr>
            <p:spPr>
              <a:xfrm>
                <a:off x="1311120" y="1014840"/>
                <a:ext cx="27720" cy="37800"/>
              </a:xfrm>
              <a:custGeom>
                <a:avLst/>
                <a:gdLst/>
                <a:ahLst/>
                <a:rect l="l" t="t" r="r" b="b"/>
                <a:pathLst>
                  <a:path w="92" h="242">
                    <a:moveTo>
                      <a:pt x="0" y="0"/>
                    </a:moveTo>
                    <a:lnTo>
                      <a:pt x="19" y="54"/>
                    </a:lnTo>
                    <a:lnTo>
                      <a:pt x="92" y="242"/>
                    </a:lnTo>
                    <a:lnTo>
                      <a:pt x="92" y="145"/>
                    </a:lnTo>
                    <a:lnTo>
                      <a:pt x="47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60"/>
              <p:cNvSpPr/>
              <p:nvPr/>
            </p:nvSpPr>
            <p:spPr>
              <a:xfrm>
                <a:off x="1343160" y="1026720"/>
                <a:ext cx="50040" cy="49680"/>
              </a:xfrm>
              <a:custGeom>
                <a:avLst/>
                <a:gdLst/>
                <a:ahLst/>
                <a:rect l="l" t="t" r="r" b="b"/>
                <a:pathLst>
                  <a:path w="165" h="321">
                    <a:moveTo>
                      <a:pt x="0" y="0"/>
                    </a:moveTo>
                    <a:lnTo>
                      <a:pt x="52" y="85"/>
                    </a:lnTo>
                    <a:lnTo>
                      <a:pt x="158" y="248"/>
                    </a:lnTo>
                    <a:lnTo>
                      <a:pt x="165" y="321"/>
                    </a:lnTo>
                    <a:lnTo>
                      <a:pt x="65" y="211"/>
                    </a:lnTo>
                    <a:lnTo>
                      <a:pt x="5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61"/>
              <p:cNvSpPr/>
              <p:nvPr/>
            </p:nvSpPr>
            <p:spPr>
              <a:xfrm>
                <a:off x="1343160" y="1024920"/>
                <a:ext cx="91440" cy="75960"/>
              </a:xfrm>
              <a:custGeom>
                <a:avLst/>
                <a:gdLst/>
                <a:ahLst/>
                <a:rect l="l" t="t" r="r" b="b"/>
                <a:pathLst>
                  <a:path w="304" h="489">
                    <a:moveTo>
                      <a:pt x="0" y="6"/>
                    </a:moveTo>
                    <a:lnTo>
                      <a:pt x="46" y="0"/>
                    </a:lnTo>
                    <a:lnTo>
                      <a:pt x="85" y="49"/>
                    </a:lnTo>
                    <a:lnTo>
                      <a:pt x="231" y="248"/>
                    </a:lnTo>
                    <a:lnTo>
                      <a:pt x="264" y="326"/>
                    </a:lnTo>
                    <a:lnTo>
                      <a:pt x="304" y="489"/>
                    </a:lnTo>
                    <a:lnTo>
                      <a:pt x="257" y="357"/>
                    </a:lnTo>
                    <a:lnTo>
                      <a:pt x="158" y="205"/>
                    </a:lnTo>
                    <a:lnTo>
                      <a:pt x="79" y="7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62"/>
              <p:cNvSpPr/>
              <p:nvPr/>
            </p:nvSpPr>
            <p:spPr>
              <a:xfrm>
                <a:off x="1471680" y="1131840"/>
                <a:ext cx="46080" cy="31680"/>
              </a:xfrm>
              <a:custGeom>
                <a:avLst/>
                <a:gdLst/>
                <a:ahLst/>
                <a:rect l="l" t="t" r="r" b="b"/>
                <a:pathLst>
                  <a:path w="155" h="204">
                    <a:moveTo>
                      <a:pt x="0" y="52"/>
                    </a:moveTo>
                    <a:lnTo>
                      <a:pt x="52" y="8"/>
                    </a:lnTo>
                    <a:lnTo>
                      <a:pt x="91" y="0"/>
                    </a:lnTo>
                    <a:lnTo>
                      <a:pt x="136" y="4"/>
                    </a:lnTo>
                    <a:lnTo>
                      <a:pt x="155" y="49"/>
                    </a:lnTo>
                    <a:lnTo>
                      <a:pt x="146" y="121"/>
                    </a:lnTo>
                    <a:lnTo>
                      <a:pt x="126" y="178"/>
                    </a:lnTo>
                    <a:lnTo>
                      <a:pt x="88" y="204"/>
                    </a:lnTo>
                    <a:lnTo>
                      <a:pt x="48" y="157"/>
                    </a:lnTo>
                    <a:lnTo>
                      <a:pt x="17" y="109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63"/>
              <p:cNvSpPr/>
              <p:nvPr/>
            </p:nvSpPr>
            <p:spPr>
              <a:xfrm>
                <a:off x="1103040" y="1022760"/>
                <a:ext cx="101880" cy="40320"/>
              </a:xfrm>
              <a:custGeom>
                <a:avLst/>
                <a:gdLst/>
                <a:ahLst/>
                <a:rect l="l" t="t" r="r" b="b"/>
                <a:pathLst>
                  <a:path w="337" h="260">
                    <a:moveTo>
                      <a:pt x="337" y="0"/>
                    </a:moveTo>
                    <a:lnTo>
                      <a:pt x="219" y="78"/>
                    </a:lnTo>
                    <a:lnTo>
                      <a:pt x="86" y="174"/>
                    </a:lnTo>
                    <a:lnTo>
                      <a:pt x="0" y="260"/>
                    </a:lnTo>
                    <a:lnTo>
                      <a:pt x="113" y="181"/>
                    </a:lnTo>
                    <a:lnTo>
                      <a:pt x="291" y="90"/>
                    </a:lnTo>
                    <a:lnTo>
                      <a:pt x="337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64"/>
            <p:cNvGrpSpPr/>
            <p:nvPr/>
          </p:nvGrpSpPr>
          <p:grpSpPr>
            <a:xfrm>
              <a:off x="1026360" y="886680"/>
              <a:ext cx="547560" cy="381240"/>
              <a:chOff x="1026360" y="886680"/>
              <a:chExt cx="547560" cy="381240"/>
            </a:xfrm>
          </p:grpSpPr>
          <p:grpSp>
            <p:nvGrpSpPr>
              <p:cNvPr id="230" name="Group 65"/>
              <p:cNvGrpSpPr/>
              <p:nvPr/>
            </p:nvGrpSpPr>
            <p:grpSpPr>
              <a:xfrm>
                <a:off x="1040040" y="886680"/>
                <a:ext cx="533880" cy="209520"/>
                <a:chOff x="1040040" y="886680"/>
                <a:chExt cx="533880" cy="209520"/>
              </a:xfrm>
            </p:grpSpPr>
            <p:grpSp>
              <p:nvGrpSpPr>
                <p:cNvPr id="231" name="Group 66"/>
                <p:cNvGrpSpPr/>
                <p:nvPr/>
              </p:nvGrpSpPr>
              <p:grpSpPr>
                <a:xfrm>
                  <a:off x="1040040" y="942480"/>
                  <a:ext cx="533880" cy="153720"/>
                  <a:chOff x="1040040" y="942480"/>
                  <a:chExt cx="533880" cy="153720"/>
                </a:xfrm>
              </p:grpSpPr>
              <p:sp>
                <p:nvSpPr>
                  <p:cNvPr id="232" name="Freeform 67"/>
                  <p:cNvSpPr/>
                  <p:nvPr/>
                </p:nvSpPr>
                <p:spPr>
                  <a:xfrm>
                    <a:off x="1040040" y="942480"/>
                    <a:ext cx="5338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809" h="599">
                        <a:moveTo>
                          <a:pt x="281" y="39"/>
                        </a:moveTo>
                        <a:lnTo>
                          <a:pt x="276" y="57"/>
                        </a:lnTo>
                        <a:lnTo>
                          <a:pt x="273" y="75"/>
                        </a:lnTo>
                        <a:lnTo>
                          <a:pt x="268" y="93"/>
                        </a:lnTo>
                        <a:lnTo>
                          <a:pt x="264" y="112"/>
                        </a:lnTo>
                        <a:lnTo>
                          <a:pt x="245" y="145"/>
                        </a:lnTo>
                        <a:lnTo>
                          <a:pt x="228" y="167"/>
                        </a:lnTo>
                        <a:lnTo>
                          <a:pt x="212" y="181"/>
                        </a:lnTo>
                        <a:lnTo>
                          <a:pt x="197" y="191"/>
                        </a:lnTo>
                        <a:lnTo>
                          <a:pt x="184" y="203"/>
                        </a:lnTo>
                        <a:lnTo>
                          <a:pt x="174" y="220"/>
                        </a:lnTo>
                        <a:lnTo>
                          <a:pt x="165" y="246"/>
                        </a:lnTo>
                        <a:lnTo>
                          <a:pt x="158" y="285"/>
                        </a:lnTo>
                        <a:lnTo>
                          <a:pt x="152" y="286"/>
                        </a:lnTo>
                        <a:lnTo>
                          <a:pt x="146" y="289"/>
                        </a:lnTo>
                        <a:lnTo>
                          <a:pt x="142" y="290"/>
                        </a:lnTo>
                        <a:lnTo>
                          <a:pt x="136" y="291"/>
                        </a:lnTo>
                        <a:lnTo>
                          <a:pt x="131" y="293"/>
                        </a:lnTo>
                        <a:lnTo>
                          <a:pt x="125" y="294"/>
                        </a:lnTo>
                        <a:lnTo>
                          <a:pt x="121" y="295"/>
                        </a:lnTo>
                        <a:lnTo>
                          <a:pt x="115" y="296"/>
                        </a:lnTo>
                        <a:lnTo>
                          <a:pt x="108" y="293"/>
                        </a:lnTo>
                        <a:lnTo>
                          <a:pt x="102" y="290"/>
                        </a:lnTo>
                        <a:lnTo>
                          <a:pt x="95" y="286"/>
                        </a:lnTo>
                        <a:lnTo>
                          <a:pt x="90" y="284"/>
                        </a:lnTo>
                        <a:lnTo>
                          <a:pt x="83" y="281"/>
                        </a:lnTo>
                        <a:lnTo>
                          <a:pt x="77" y="278"/>
                        </a:lnTo>
                        <a:lnTo>
                          <a:pt x="70" y="276"/>
                        </a:lnTo>
                        <a:lnTo>
                          <a:pt x="64" y="273"/>
                        </a:lnTo>
                        <a:lnTo>
                          <a:pt x="56" y="262"/>
                        </a:lnTo>
                        <a:lnTo>
                          <a:pt x="48" y="252"/>
                        </a:lnTo>
                        <a:lnTo>
                          <a:pt x="40" y="243"/>
                        </a:lnTo>
                        <a:lnTo>
                          <a:pt x="32" y="232"/>
                        </a:lnTo>
                        <a:lnTo>
                          <a:pt x="32" y="250"/>
                        </a:lnTo>
                        <a:lnTo>
                          <a:pt x="33" y="269"/>
                        </a:lnTo>
                        <a:lnTo>
                          <a:pt x="33" y="286"/>
                        </a:lnTo>
                        <a:lnTo>
                          <a:pt x="34" y="305"/>
                        </a:lnTo>
                        <a:lnTo>
                          <a:pt x="17" y="346"/>
                        </a:lnTo>
                        <a:lnTo>
                          <a:pt x="6" y="386"/>
                        </a:lnTo>
                        <a:lnTo>
                          <a:pt x="0" y="423"/>
                        </a:lnTo>
                        <a:lnTo>
                          <a:pt x="1" y="459"/>
                        </a:lnTo>
                        <a:lnTo>
                          <a:pt x="11" y="491"/>
                        </a:lnTo>
                        <a:lnTo>
                          <a:pt x="32" y="520"/>
                        </a:lnTo>
                        <a:lnTo>
                          <a:pt x="64" y="545"/>
                        </a:lnTo>
                        <a:lnTo>
                          <a:pt x="109" y="566"/>
                        </a:lnTo>
                        <a:lnTo>
                          <a:pt x="117" y="563"/>
                        </a:lnTo>
                        <a:lnTo>
                          <a:pt x="125" y="559"/>
                        </a:lnTo>
                        <a:lnTo>
                          <a:pt x="133" y="556"/>
                        </a:lnTo>
                        <a:lnTo>
                          <a:pt x="143" y="553"/>
                        </a:lnTo>
                        <a:lnTo>
                          <a:pt x="151" y="550"/>
                        </a:lnTo>
                        <a:lnTo>
                          <a:pt x="159" y="547"/>
                        </a:lnTo>
                        <a:lnTo>
                          <a:pt x="167" y="542"/>
                        </a:lnTo>
                        <a:lnTo>
                          <a:pt x="175" y="539"/>
                        </a:lnTo>
                        <a:lnTo>
                          <a:pt x="181" y="531"/>
                        </a:lnTo>
                        <a:lnTo>
                          <a:pt x="188" y="522"/>
                        </a:lnTo>
                        <a:lnTo>
                          <a:pt x="194" y="515"/>
                        </a:lnTo>
                        <a:lnTo>
                          <a:pt x="200" y="507"/>
                        </a:lnTo>
                        <a:lnTo>
                          <a:pt x="211" y="501"/>
                        </a:lnTo>
                        <a:lnTo>
                          <a:pt x="220" y="494"/>
                        </a:lnTo>
                        <a:lnTo>
                          <a:pt x="230" y="488"/>
                        </a:lnTo>
                        <a:lnTo>
                          <a:pt x="241" y="482"/>
                        </a:lnTo>
                        <a:lnTo>
                          <a:pt x="251" y="475"/>
                        </a:lnTo>
                        <a:lnTo>
                          <a:pt x="261" y="469"/>
                        </a:lnTo>
                        <a:lnTo>
                          <a:pt x="270" y="463"/>
                        </a:lnTo>
                        <a:lnTo>
                          <a:pt x="281" y="457"/>
                        </a:lnTo>
                        <a:lnTo>
                          <a:pt x="291" y="458"/>
                        </a:lnTo>
                        <a:lnTo>
                          <a:pt x="300" y="459"/>
                        </a:lnTo>
                        <a:lnTo>
                          <a:pt x="311" y="460"/>
                        </a:lnTo>
                        <a:lnTo>
                          <a:pt x="321" y="461"/>
                        </a:lnTo>
                        <a:lnTo>
                          <a:pt x="332" y="462"/>
                        </a:lnTo>
                        <a:lnTo>
                          <a:pt x="342" y="463"/>
                        </a:lnTo>
                        <a:lnTo>
                          <a:pt x="351" y="464"/>
                        </a:lnTo>
                        <a:lnTo>
                          <a:pt x="361" y="465"/>
                        </a:lnTo>
                        <a:lnTo>
                          <a:pt x="367" y="472"/>
                        </a:lnTo>
                        <a:lnTo>
                          <a:pt x="373" y="479"/>
                        </a:lnTo>
                        <a:lnTo>
                          <a:pt x="379" y="486"/>
                        </a:lnTo>
                        <a:lnTo>
                          <a:pt x="384" y="493"/>
                        </a:lnTo>
                        <a:lnTo>
                          <a:pt x="389" y="501"/>
                        </a:lnTo>
                        <a:lnTo>
                          <a:pt x="395" y="507"/>
                        </a:lnTo>
                        <a:lnTo>
                          <a:pt x="401" y="514"/>
                        </a:lnTo>
                        <a:lnTo>
                          <a:pt x="406" y="520"/>
                        </a:lnTo>
                        <a:lnTo>
                          <a:pt x="412" y="520"/>
                        </a:lnTo>
                        <a:lnTo>
                          <a:pt x="418" y="520"/>
                        </a:lnTo>
                        <a:lnTo>
                          <a:pt x="424" y="520"/>
                        </a:lnTo>
                        <a:lnTo>
                          <a:pt x="429" y="520"/>
                        </a:lnTo>
                        <a:lnTo>
                          <a:pt x="435" y="520"/>
                        </a:lnTo>
                        <a:lnTo>
                          <a:pt x="441" y="520"/>
                        </a:lnTo>
                        <a:lnTo>
                          <a:pt x="447" y="520"/>
                        </a:lnTo>
                        <a:lnTo>
                          <a:pt x="452" y="520"/>
                        </a:lnTo>
                        <a:lnTo>
                          <a:pt x="458" y="520"/>
                        </a:lnTo>
                        <a:lnTo>
                          <a:pt x="465" y="519"/>
                        </a:lnTo>
                        <a:lnTo>
                          <a:pt x="471" y="519"/>
                        </a:lnTo>
                        <a:lnTo>
                          <a:pt x="478" y="518"/>
                        </a:lnTo>
                        <a:lnTo>
                          <a:pt x="484" y="517"/>
                        </a:lnTo>
                        <a:lnTo>
                          <a:pt x="489" y="517"/>
                        </a:lnTo>
                        <a:lnTo>
                          <a:pt x="496" y="516"/>
                        </a:lnTo>
                        <a:lnTo>
                          <a:pt x="502" y="516"/>
                        </a:lnTo>
                        <a:lnTo>
                          <a:pt x="507" y="520"/>
                        </a:lnTo>
                        <a:lnTo>
                          <a:pt x="511" y="525"/>
                        </a:lnTo>
                        <a:lnTo>
                          <a:pt x="516" y="528"/>
                        </a:lnTo>
                        <a:lnTo>
                          <a:pt x="520" y="532"/>
                        </a:lnTo>
                        <a:lnTo>
                          <a:pt x="525" y="536"/>
                        </a:lnTo>
                        <a:lnTo>
                          <a:pt x="530" y="540"/>
                        </a:lnTo>
                        <a:lnTo>
                          <a:pt x="534" y="544"/>
                        </a:lnTo>
                        <a:lnTo>
                          <a:pt x="539" y="549"/>
                        </a:lnTo>
                        <a:lnTo>
                          <a:pt x="542" y="554"/>
                        </a:lnTo>
                        <a:lnTo>
                          <a:pt x="547" y="559"/>
                        </a:lnTo>
                        <a:lnTo>
                          <a:pt x="551" y="564"/>
                        </a:lnTo>
                        <a:lnTo>
                          <a:pt x="556" y="568"/>
                        </a:lnTo>
                        <a:lnTo>
                          <a:pt x="560" y="574"/>
                        </a:lnTo>
                        <a:lnTo>
                          <a:pt x="564" y="579"/>
                        </a:lnTo>
                        <a:lnTo>
                          <a:pt x="569" y="584"/>
                        </a:lnTo>
                        <a:lnTo>
                          <a:pt x="573" y="589"/>
                        </a:lnTo>
                        <a:lnTo>
                          <a:pt x="580" y="579"/>
                        </a:lnTo>
                        <a:lnTo>
                          <a:pt x="588" y="568"/>
                        </a:lnTo>
                        <a:lnTo>
                          <a:pt x="595" y="559"/>
                        </a:lnTo>
                        <a:lnTo>
                          <a:pt x="603" y="549"/>
                        </a:lnTo>
                        <a:lnTo>
                          <a:pt x="606" y="537"/>
                        </a:lnTo>
                        <a:lnTo>
                          <a:pt x="609" y="526"/>
                        </a:lnTo>
                        <a:lnTo>
                          <a:pt x="611" y="514"/>
                        </a:lnTo>
                        <a:lnTo>
                          <a:pt x="614" y="503"/>
                        </a:lnTo>
                        <a:lnTo>
                          <a:pt x="619" y="519"/>
                        </a:lnTo>
                        <a:lnTo>
                          <a:pt x="626" y="535"/>
                        </a:lnTo>
                        <a:lnTo>
                          <a:pt x="632" y="552"/>
                        </a:lnTo>
                        <a:lnTo>
                          <a:pt x="638" y="568"/>
                        </a:lnTo>
                        <a:lnTo>
                          <a:pt x="644" y="572"/>
                        </a:lnTo>
                        <a:lnTo>
                          <a:pt x="650" y="576"/>
                        </a:lnTo>
                        <a:lnTo>
                          <a:pt x="656" y="579"/>
                        </a:lnTo>
                        <a:lnTo>
                          <a:pt x="662" y="583"/>
                        </a:lnTo>
                        <a:lnTo>
                          <a:pt x="668" y="587"/>
                        </a:lnTo>
                        <a:lnTo>
                          <a:pt x="675" y="591"/>
                        </a:lnTo>
                        <a:lnTo>
                          <a:pt x="680" y="595"/>
                        </a:lnTo>
                        <a:lnTo>
                          <a:pt x="686" y="599"/>
                        </a:lnTo>
                        <a:lnTo>
                          <a:pt x="728" y="594"/>
                        </a:lnTo>
                        <a:lnTo>
                          <a:pt x="758" y="580"/>
                        </a:lnTo>
                        <a:lnTo>
                          <a:pt x="778" y="558"/>
                        </a:lnTo>
                        <a:lnTo>
                          <a:pt x="791" y="530"/>
                        </a:lnTo>
                        <a:lnTo>
                          <a:pt x="799" y="497"/>
                        </a:lnTo>
                        <a:lnTo>
                          <a:pt x="802" y="462"/>
                        </a:lnTo>
                        <a:lnTo>
                          <a:pt x="806" y="425"/>
                        </a:lnTo>
                        <a:lnTo>
                          <a:pt x="809" y="388"/>
                        </a:lnTo>
                        <a:lnTo>
                          <a:pt x="808" y="354"/>
                        </a:lnTo>
                        <a:lnTo>
                          <a:pt x="806" y="321"/>
                        </a:lnTo>
                        <a:lnTo>
                          <a:pt x="805" y="289"/>
                        </a:lnTo>
                        <a:lnTo>
                          <a:pt x="802" y="255"/>
                        </a:lnTo>
                        <a:lnTo>
                          <a:pt x="798" y="261"/>
                        </a:lnTo>
                        <a:lnTo>
                          <a:pt x="793" y="269"/>
                        </a:lnTo>
                        <a:lnTo>
                          <a:pt x="790" y="275"/>
                        </a:lnTo>
                        <a:lnTo>
                          <a:pt x="785" y="282"/>
                        </a:lnTo>
                        <a:lnTo>
                          <a:pt x="781" y="290"/>
                        </a:lnTo>
                        <a:lnTo>
                          <a:pt x="776" y="296"/>
                        </a:lnTo>
                        <a:lnTo>
                          <a:pt x="771" y="303"/>
                        </a:lnTo>
                        <a:lnTo>
                          <a:pt x="767" y="309"/>
                        </a:lnTo>
                        <a:lnTo>
                          <a:pt x="760" y="318"/>
                        </a:lnTo>
                        <a:lnTo>
                          <a:pt x="752" y="326"/>
                        </a:lnTo>
                        <a:lnTo>
                          <a:pt x="745" y="333"/>
                        </a:lnTo>
                        <a:lnTo>
                          <a:pt x="738" y="342"/>
                        </a:lnTo>
                        <a:lnTo>
                          <a:pt x="730" y="350"/>
                        </a:lnTo>
                        <a:lnTo>
                          <a:pt x="723" y="357"/>
                        </a:lnTo>
                        <a:lnTo>
                          <a:pt x="716" y="366"/>
                        </a:lnTo>
                        <a:lnTo>
                          <a:pt x="709" y="374"/>
                        </a:lnTo>
                        <a:lnTo>
                          <a:pt x="709" y="359"/>
                        </a:lnTo>
                        <a:lnTo>
                          <a:pt x="709" y="344"/>
                        </a:lnTo>
                        <a:lnTo>
                          <a:pt x="709" y="328"/>
                        </a:lnTo>
                        <a:lnTo>
                          <a:pt x="709" y="314"/>
                        </a:lnTo>
                        <a:lnTo>
                          <a:pt x="707" y="293"/>
                        </a:lnTo>
                        <a:lnTo>
                          <a:pt x="703" y="272"/>
                        </a:lnTo>
                        <a:lnTo>
                          <a:pt x="700" y="251"/>
                        </a:lnTo>
                        <a:lnTo>
                          <a:pt x="698" y="230"/>
                        </a:lnTo>
                        <a:lnTo>
                          <a:pt x="693" y="224"/>
                        </a:lnTo>
                        <a:lnTo>
                          <a:pt x="688" y="217"/>
                        </a:lnTo>
                        <a:lnTo>
                          <a:pt x="684" y="211"/>
                        </a:lnTo>
                        <a:lnTo>
                          <a:pt x="679" y="205"/>
                        </a:lnTo>
                        <a:lnTo>
                          <a:pt x="675" y="199"/>
                        </a:lnTo>
                        <a:lnTo>
                          <a:pt x="670" y="192"/>
                        </a:lnTo>
                        <a:lnTo>
                          <a:pt x="665" y="186"/>
                        </a:lnTo>
                        <a:lnTo>
                          <a:pt x="661" y="180"/>
                        </a:lnTo>
                        <a:lnTo>
                          <a:pt x="660" y="197"/>
                        </a:lnTo>
                        <a:lnTo>
                          <a:pt x="659" y="214"/>
                        </a:lnTo>
                        <a:lnTo>
                          <a:pt x="657" y="231"/>
                        </a:lnTo>
                        <a:lnTo>
                          <a:pt x="656" y="249"/>
                        </a:lnTo>
                        <a:lnTo>
                          <a:pt x="650" y="253"/>
                        </a:lnTo>
                        <a:lnTo>
                          <a:pt x="645" y="258"/>
                        </a:lnTo>
                        <a:lnTo>
                          <a:pt x="638" y="262"/>
                        </a:lnTo>
                        <a:lnTo>
                          <a:pt x="632" y="268"/>
                        </a:lnTo>
                        <a:lnTo>
                          <a:pt x="626" y="272"/>
                        </a:lnTo>
                        <a:lnTo>
                          <a:pt x="621" y="277"/>
                        </a:lnTo>
                        <a:lnTo>
                          <a:pt x="614" y="281"/>
                        </a:lnTo>
                        <a:lnTo>
                          <a:pt x="608" y="286"/>
                        </a:lnTo>
                        <a:lnTo>
                          <a:pt x="608" y="238"/>
                        </a:lnTo>
                        <a:lnTo>
                          <a:pt x="606" y="197"/>
                        </a:lnTo>
                        <a:lnTo>
                          <a:pt x="601" y="158"/>
                        </a:lnTo>
                        <a:lnTo>
                          <a:pt x="592" y="122"/>
                        </a:lnTo>
                        <a:lnTo>
                          <a:pt x="577" y="91"/>
                        </a:lnTo>
                        <a:lnTo>
                          <a:pt x="554" y="60"/>
                        </a:lnTo>
                        <a:lnTo>
                          <a:pt x="523" y="31"/>
                        </a:lnTo>
                        <a:lnTo>
                          <a:pt x="481" y="0"/>
                        </a:lnTo>
                        <a:lnTo>
                          <a:pt x="486" y="18"/>
                        </a:lnTo>
                        <a:lnTo>
                          <a:pt x="489" y="36"/>
                        </a:lnTo>
                        <a:lnTo>
                          <a:pt x="493" y="55"/>
                        </a:lnTo>
                        <a:lnTo>
                          <a:pt x="497" y="72"/>
                        </a:lnTo>
                        <a:lnTo>
                          <a:pt x="497" y="91"/>
                        </a:lnTo>
                        <a:lnTo>
                          <a:pt x="497" y="109"/>
                        </a:lnTo>
                        <a:lnTo>
                          <a:pt x="497" y="128"/>
                        </a:lnTo>
                        <a:lnTo>
                          <a:pt x="497" y="146"/>
                        </a:lnTo>
                        <a:lnTo>
                          <a:pt x="492" y="152"/>
                        </a:lnTo>
                        <a:lnTo>
                          <a:pt x="486" y="156"/>
                        </a:lnTo>
                        <a:lnTo>
                          <a:pt x="481" y="161"/>
                        </a:lnTo>
                        <a:lnTo>
                          <a:pt x="475" y="165"/>
                        </a:lnTo>
                        <a:lnTo>
                          <a:pt x="470" y="170"/>
                        </a:lnTo>
                        <a:lnTo>
                          <a:pt x="465" y="176"/>
                        </a:lnTo>
                        <a:lnTo>
                          <a:pt x="459" y="180"/>
                        </a:lnTo>
                        <a:lnTo>
                          <a:pt x="454" y="185"/>
                        </a:lnTo>
                        <a:lnTo>
                          <a:pt x="454" y="170"/>
                        </a:lnTo>
                        <a:lnTo>
                          <a:pt x="454" y="155"/>
                        </a:lnTo>
                        <a:lnTo>
                          <a:pt x="452" y="140"/>
                        </a:lnTo>
                        <a:lnTo>
                          <a:pt x="452" y="126"/>
                        </a:lnTo>
                        <a:lnTo>
                          <a:pt x="447" y="112"/>
                        </a:lnTo>
                        <a:lnTo>
                          <a:pt x="440" y="98"/>
                        </a:lnTo>
                        <a:lnTo>
                          <a:pt x="433" y="84"/>
                        </a:lnTo>
                        <a:lnTo>
                          <a:pt x="427" y="70"/>
                        </a:lnTo>
                        <a:lnTo>
                          <a:pt x="420" y="84"/>
                        </a:lnTo>
                        <a:lnTo>
                          <a:pt x="414" y="98"/>
                        </a:lnTo>
                        <a:lnTo>
                          <a:pt x="408" y="112"/>
                        </a:lnTo>
                        <a:lnTo>
                          <a:pt x="402" y="126"/>
                        </a:lnTo>
                        <a:lnTo>
                          <a:pt x="396" y="130"/>
                        </a:lnTo>
                        <a:lnTo>
                          <a:pt x="390" y="134"/>
                        </a:lnTo>
                        <a:lnTo>
                          <a:pt x="384" y="138"/>
                        </a:lnTo>
                        <a:lnTo>
                          <a:pt x="380" y="141"/>
                        </a:lnTo>
                        <a:lnTo>
                          <a:pt x="374" y="145"/>
                        </a:lnTo>
                        <a:lnTo>
                          <a:pt x="368" y="150"/>
                        </a:lnTo>
                        <a:lnTo>
                          <a:pt x="363" y="154"/>
                        </a:lnTo>
                        <a:lnTo>
                          <a:pt x="357" y="158"/>
                        </a:lnTo>
                        <a:lnTo>
                          <a:pt x="356" y="143"/>
                        </a:lnTo>
                        <a:lnTo>
                          <a:pt x="355" y="128"/>
                        </a:lnTo>
                        <a:lnTo>
                          <a:pt x="352" y="113"/>
                        </a:lnTo>
                        <a:lnTo>
                          <a:pt x="351" y="98"/>
                        </a:lnTo>
                        <a:lnTo>
                          <a:pt x="345" y="89"/>
                        </a:lnTo>
                        <a:lnTo>
                          <a:pt x="338" y="80"/>
                        </a:lnTo>
                        <a:lnTo>
                          <a:pt x="333" y="70"/>
                        </a:lnTo>
                        <a:lnTo>
                          <a:pt x="326" y="62"/>
                        </a:lnTo>
                        <a:lnTo>
                          <a:pt x="320" y="59"/>
                        </a:lnTo>
                        <a:lnTo>
                          <a:pt x="314" y="56"/>
                        </a:lnTo>
                        <a:lnTo>
                          <a:pt x="308" y="52"/>
                        </a:lnTo>
                        <a:lnTo>
                          <a:pt x="304" y="50"/>
                        </a:lnTo>
                        <a:lnTo>
                          <a:pt x="298" y="47"/>
                        </a:lnTo>
                        <a:lnTo>
                          <a:pt x="292" y="44"/>
                        </a:lnTo>
                        <a:lnTo>
                          <a:pt x="287" y="42"/>
                        </a:lnTo>
                        <a:lnTo>
                          <a:pt x="281" y="39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68"/>
                  <p:cNvSpPr/>
                  <p:nvPr/>
                </p:nvSpPr>
                <p:spPr>
                  <a:xfrm>
                    <a:off x="1094760" y="970920"/>
                    <a:ext cx="38772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87" h="404">
                        <a:moveTo>
                          <a:pt x="207" y="65"/>
                        </a:moveTo>
                        <a:lnTo>
                          <a:pt x="206" y="76"/>
                        </a:lnTo>
                        <a:lnTo>
                          <a:pt x="205" y="88"/>
                        </a:lnTo>
                        <a:lnTo>
                          <a:pt x="204" y="99"/>
                        </a:lnTo>
                        <a:lnTo>
                          <a:pt x="203" y="111"/>
                        </a:lnTo>
                        <a:lnTo>
                          <a:pt x="190" y="131"/>
                        </a:lnTo>
                        <a:lnTo>
                          <a:pt x="179" y="146"/>
                        </a:lnTo>
                        <a:lnTo>
                          <a:pt x="167" y="157"/>
                        </a:lnTo>
                        <a:lnTo>
                          <a:pt x="157" y="166"/>
                        </a:lnTo>
                        <a:lnTo>
                          <a:pt x="148" y="175"/>
                        </a:lnTo>
                        <a:lnTo>
                          <a:pt x="139" y="188"/>
                        </a:lnTo>
                        <a:lnTo>
                          <a:pt x="133" y="206"/>
                        </a:lnTo>
                        <a:lnTo>
                          <a:pt x="128" y="231"/>
                        </a:lnTo>
                        <a:lnTo>
                          <a:pt x="122" y="229"/>
                        </a:lnTo>
                        <a:lnTo>
                          <a:pt x="116" y="227"/>
                        </a:lnTo>
                        <a:lnTo>
                          <a:pt x="111" y="225"/>
                        </a:lnTo>
                        <a:lnTo>
                          <a:pt x="105" y="223"/>
                        </a:lnTo>
                        <a:lnTo>
                          <a:pt x="97" y="219"/>
                        </a:lnTo>
                        <a:lnTo>
                          <a:pt x="90" y="216"/>
                        </a:lnTo>
                        <a:lnTo>
                          <a:pt x="82" y="213"/>
                        </a:lnTo>
                        <a:lnTo>
                          <a:pt x="74" y="209"/>
                        </a:lnTo>
                        <a:lnTo>
                          <a:pt x="65" y="206"/>
                        </a:lnTo>
                        <a:lnTo>
                          <a:pt x="55" y="204"/>
                        </a:lnTo>
                        <a:lnTo>
                          <a:pt x="46" y="200"/>
                        </a:lnTo>
                        <a:lnTo>
                          <a:pt x="37" y="197"/>
                        </a:lnTo>
                        <a:lnTo>
                          <a:pt x="28" y="195"/>
                        </a:lnTo>
                        <a:lnTo>
                          <a:pt x="19" y="192"/>
                        </a:lnTo>
                        <a:lnTo>
                          <a:pt x="9" y="189"/>
                        </a:lnTo>
                        <a:lnTo>
                          <a:pt x="0" y="186"/>
                        </a:lnTo>
                        <a:lnTo>
                          <a:pt x="7" y="191"/>
                        </a:lnTo>
                        <a:lnTo>
                          <a:pt x="14" y="196"/>
                        </a:lnTo>
                        <a:lnTo>
                          <a:pt x="21" y="202"/>
                        </a:lnTo>
                        <a:lnTo>
                          <a:pt x="28" y="208"/>
                        </a:lnTo>
                        <a:lnTo>
                          <a:pt x="35" y="213"/>
                        </a:lnTo>
                        <a:lnTo>
                          <a:pt x="42" y="218"/>
                        </a:lnTo>
                        <a:lnTo>
                          <a:pt x="49" y="223"/>
                        </a:lnTo>
                        <a:lnTo>
                          <a:pt x="55" y="229"/>
                        </a:lnTo>
                        <a:lnTo>
                          <a:pt x="45" y="254"/>
                        </a:lnTo>
                        <a:lnTo>
                          <a:pt x="37" y="279"/>
                        </a:lnTo>
                        <a:lnTo>
                          <a:pt x="34" y="302"/>
                        </a:lnTo>
                        <a:lnTo>
                          <a:pt x="35" y="324"/>
                        </a:lnTo>
                        <a:lnTo>
                          <a:pt x="42" y="343"/>
                        </a:lnTo>
                        <a:lnTo>
                          <a:pt x="54" y="361"/>
                        </a:lnTo>
                        <a:lnTo>
                          <a:pt x="75" y="377"/>
                        </a:lnTo>
                        <a:lnTo>
                          <a:pt x="103" y="389"/>
                        </a:lnTo>
                        <a:lnTo>
                          <a:pt x="107" y="387"/>
                        </a:lnTo>
                        <a:lnTo>
                          <a:pt x="112" y="385"/>
                        </a:lnTo>
                        <a:lnTo>
                          <a:pt x="118" y="383"/>
                        </a:lnTo>
                        <a:lnTo>
                          <a:pt x="122" y="381"/>
                        </a:lnTo>
                        <a:lnTo>
                          <a:pt x="128" y="379"/>
                        </a:lnTo>
                        <a:lnTo>
                          <a:pt x="133" y="377"/>
                        </a:lnTo>
                        <a:lnTo>
                          <a:pt x="138" y="375"/>
                        </a:lnTo>
                        <a:lnTo>
                          <a:pt x="143" y="373"/>
                        </a:lnTo>
                        <a:lnTo>
                          <a:pt x="146" y="368"/>
                        </a:lnTo>
                        <a:lnTo>
                          <a:pt x="150" y="363"/>
                        </a:lnTo>
                        <a:lnTo>
                          <a:pt x="153" y="358"/>
                        </a:lnTo>
                        <a:lnTo>
                          <a:pt x="158" y="353"/>
                        </a:lnTo>
                        <a:lnTo>
                          <a:pt x="164" y="349"/>
                        </a:lnTo>
                        <a:lnTo>
                          <a:pt x="171" y="346"/>
                        </a:lnTo>
                        <a:lnTo>
                          <a:pt x="176" y="341"/>
                        </a:lnTo>
                        <a:lnTo>
                          <a:pt x="183" y="337"/>
                        </a:lnTo>
                        <a:lnTo>
                          <a:pt x="189" y="333"/>
                        </a:lnTo>
                        <a:lnTo>
                          <a:pt x="196" y="330"/>
                        </a:lnTo>
                        <a:lnTo>
                          <a:pt x="202" y="326"/>
                        </a:lnTo>
                        <a:lnTo>
                          <a:pt x="207" y="323"/>
                        </a:lnTo>
                        <a:lnTo>
                          <a:pt x="213" y="323"/>
                        </a:lnTo>
                        <a:lnTo>
                          <a:pt x="220" y="324"/>
                        </a:lnTo>
                        <a:lnTo>
                          <a:pt x="226" y="324"/>
                        </a:lnTo>
                        <a:lnTo>
                          <a:pt x="233" y="325"/>
                        </a:lnTo>
                        <a:lnTo>
                          <a:pt x="239" y="326"/>
                        </a:lnTo>
                        <a:lnTo>
                          <a:pt x="244" y="327"/>
                        </a:lnTo>
                        <a:lnTo>
                          <a:pt x="251" y="327"/>
                        </a:lnTo>
                        <a:lnTo>
                          <a:pt x="257" y="328"/>
                        </a:lnTo>
                        <a:lnTo>
                          <a:pt x="264" y="336"/>
                        </a:lnTo>
                        <a:lnTo>
                          <a:pt x="271" y="345"/>
                        </a:lnTo>
                        <a:lnTo>
                          <a:pt x="278" y="353"/>
                        </a:lnTo>
                        <a:lnTo>
                          <a:pt x="285" y="361"/>
                        </a:lnTo>
                        <a:lnTo>
                          <a:pt x="291" y="361"/>
                        </a:lnTo>
                        <a:lnTo>
                          <a:pt x="298" y="361"/>
                        </a:lnTo>
                        <a:lnTo>
                          <a:pt x="305" y="361"/>
                        </a:lnTo>
                        <a:lnTo>
                          <a:pt x="313" y="361"/>
                        </a:lnTo>
                        <a:lnTo>
                          <a:pt x="320" y="360"/>
                        </a:lnTo>
                        <a:lnTo>
                          <a:pt x="328" y="360"/>
                        </a:lnTo>
                        <a:lnTo>
                          <a:pt x="335" y="360"/>
                        </a:lnTo>
                        <a:lnTo>
                          <a:pt x="343" y="359"/>
                        </a:lnTo>
                        <a:lnTo>
                          <a:pt x="349" y="364"/>
                        </a:lnTo>
                        <a:lnTo>
                          <a:pt x="355" y="369"/>
                        </a:lnTo>
                        <a:lnTo>
                          <a:pt x="361" y="374"/>
                        </a:lnTo>
                        <a:lnTo>
                          <a:pt x="365" y="379"/>
                        </a:lnTo>
                        <a:lnTo>
                          <a:pt x="371" y="385"/>
                        </a:lnTo>
                        <a:lnTo>
                          <a:pt x="377" y="392"/>
                        </a:lnTo>
                        <a:lnTo>
                          <a:pt x="381" y="398"/>
                        </a:lnTo>
                        <a:lnTo>
                          <a:pt x="387" y="404"/>
                        </a:lnTo>
                        <a:lnTo>
                          <a:pt x="392" y="398"/>
                        </a:lnTo>
                        <a:lnTo>
                          <a:pt x="396" y="392"/>
                        </a:lnTo>
                        <a:lnTo>
                          <a:pt x="402" y="385"/>
                        </a:lnTo>
                        <a:lnTo>
                          <a:pt x="407" y="379"/>
                        </a:lnTo>
                        <a:lnTo>
                          <a:pt x="408" y="372"/>
                        </a:lnTo>
                        <a:lnTo>
                          <a:pt x="409" y="364"/>
                        </a:lnTo>
                        <a:lnTo>
                          <a:pt x="411" y="358"/>
                        </a:lnTo>
                        <a:lnTo>
                          <a:pt x="412" y="351"/>
                        </a:lnTo>
                        <a:lnTo>
                          <a:pt x="416" y="359"/>
                        </a:lnTo>
                        <a:lnTo>
                          <a:pt x="419" y="369"/>
                        </a:lnTo>
                        <a:lnTo>
                          <a:pt x="422" y="377"/>
                        </a:lnTo>
                        <a:lnTo>
                          <a:pt x="425" y="386"/>
                        </a:lnTo>
                        <a:lnTo>
                          <a:pt x="432" y="390"/>
                        </a:lnTo>
                        <a:lnTo>
                          <a:pt x="439" y="394"/>
                        </a:lnTo>
                        <a:lnTo>
                          <a:pt x="446" y="398"/>
                        </a:lnTo>
                        <a:lnTo>
                          <a:pt x="453" y="402"/>
                        </a:lnTo>
                        <a:lnTo>
                          <a:pt x="479" y="399"/>
                        </a:lnTo>
                        <a:lnTo>
                          <a:pt x="498" y="392"/>
                        </a:lnTo>
                        <a:lnTo>
                          <a:pt x="511" y="379"/>
                        </a:lnTo>
                        <a:lnTo>
                          <a:pt x="519" y="363"/>
                        </a:lnTo>
                        <a:lnTo>
                          <a:pt x="525" y="346"/>
                        </a:lnTo>
                        <a:lnTo>
                          <a:pt x="529" y="325"/>
                        </a:lnTo>
                        <a:lnTo>
                          <a:pt x="531" y="303"/>
                        </a:lnTo>
                        <a:lnTo>
                          <a:pt x="533" y="280"/>
                        </a:lnTo>
                        <a:lnTo>
                          <a:pt x="540" y="270"/>
                        </a:lnTo>
                        <a:lnTo>
                          <a:pt x="547" y="260"/>
                        </a:lnTo>
                        <a:lnTo>
                          <a:pt x="554" y="251"/>
                        </a:lnTo>
                        <a:lnTo>
                          <a:pt x="561" y="240"/>
                        </a:lnTo>
                        <a:lnTo>
                          <a:pt x="567" y="230"/>
                        </a:lnTo>
                        <a:lnTo>
                          <a:pt x="574" y="220"/>
                        </a:lnTo>
                        <a:lnTo>
                          <a:pt x="581" y="210"/>
                        </a:lnTo>
                        <a:lnTo>
                          <a:pt x="587" y="200"/>
                        </a:lnTo>
                        <a:lnTo>
                          <a:pt x="579" y="205"/>
                        </a:lnTo>
                        <a:lnTo>
                          <a:pt x="571" y="208"/>
                        </a:lnTo>
                        <a:lnTo>
                          <a:pt x="563" y="212"/>
                        </a:lnTo>
                        <a:lnTo>
                          <a:pt x="556" y="216"/>
                        </a:lnTo>
                        <a:lnTo>
                          <a:pt x="548" y="220"/>
                        </a:lnTo>
                        <a:lnTo>
                          <a:pt x="540" y="223"/>
                        </a:lnTo>
                        <a:lnTo>
                          <a:pt x="532" y="228"/>
                        </a:lnTo>
                        <a:lnTo>
                          <a:pt x="524" y="232"/>
                        </a:lnTo>
                        <a:lnTo>
                          <a:pt x="517" y="237"/>
                        </a:lnTo>
                        <a:lnTo>
                          <a:pt x="511" y="242"/>
                        </a:lnTo>
                        <a:lnTo>
                          <a:pt x="505" y="246"/>
                        </a:lnTo>
                        <a:lnTo>
                          <a:pt x="498" y="252"/>
                        </a:lnTo>
                        <a:lnTo>
                          <a:pt x="491" y="257"/>
                        </a:lnTo>
                        <a:lnTo>
                          <a:pt x="484" y="261"/>
                        </a:lnTo>
                        <a:lnTo>
                          <a:pt x="478" y="266"/>
                        </a:lnTo>
                        <a:lnTo>
                          <a:pt x="471" y="271"/>
                        </a:lnTo>
                        <a:lnTo>
                          <a:pt x="471" y="262"/>
                        </a:lnTo>
                        <a:lnTo>
                          <a:pt x="471" y="253"/>
                        </a:lnTo>
                        <a:lnTo>
                          <a:pt x="471" y="243"/>
                        </a:lnTo>
                        <a:lnTo>
                          <a:pt x="471" y="235"/>
                        </a:lnTo>
                        <a:lnTo>
                          <a:pt x="477" y="220"/>
                        </a:lnTo>
                        <a:lnTo>
                          <a:pt x="481" y="206"/>
                        </a:lnTo>
                        <a:lnTo>
                          <a:pt x="487" y="191"/>
                        </a:lnTo>
                        <a:lnTo>
                          <a:pt x="492" y="176"/>
                        </a:lnTo>
                        <a:lnTo>
                          <a:pt x="493" y="168"/>
                        </a:lnTo>
                        <a:lnTo>
                          <a:pt x="494" y="161"/>
                        </a:lnTo>
                        <a:lnTo>
                          <a:pt x="494" y="152"/>
                        </a:lnTo>
                        <a:lnTo>
                          <a:pt x="495" y="145"/>
                        </a:lnTo>
                        <a:lnTo>
                          <a:pt x="491" y="150"/>
                        </a:lnTo>
                        <a:lnTo>
                          <a:pt x="486" y="155"/>
                        </a:lnTo>
                        <a:lnTo>
                          <a:pt x="481" y="161"/>
                        </a:lnTo>
                        <a:lnTo>
                          <a:pt x="477" y="166"/>
                        </a:lnTo>
                        <a:lnTo>
                          <a:pt x="472" y="171"/>
                        </a:lnTo>
                        <a:lnTo>
                          <a:pt x="468" y="177"/>
                        </a:lnTo>
                        <a:lnTo>
                          <a:pt x="463" y="183"/>
                        </a:lnTo>
                        <a:lnTo>
                          <a:pt x="458" y="188"/>
                        </a:lnTo>
                        <a:lnTo>
                          <a:pt x="453" y="191"/>
                        </a:lnTo>
                        <a:lnTo>
                          <a:pt x="446" y="195"/>
                        </a:lnTo>
                        <a:lnTo>
                          <a:pt x="440" y="198"/>
                        </a:lnTo>
                        <a:lnTo>
                          <a:pt x="434" y="202"/>
                        </a:lnTo>
                        <a:lnTo>
                          <a:pt x="427" y="207"/>
                        </a:lnTo>
                        <a:lnTo>
                          <a:pt x="422" y="210"/>
                        </a:lnTo>
                        <a:lnTo>
                          <a:pt x="415" y="214"/>
                        </a:lnTo>
                        <a:lnTo>
                          <a:pt x="409" y="217"/>
                        </a:lnTo>
                        <a:lnTo>
                          <a:pt x="411" y="186"/>
                        </a:lnTo>
                        <a:lnTo>
                          <a:pt x="418" y="155"/>
                        </a:lnTo>
                        <a:lnTo>
                          <a:pt x="426" y="125"/>
                        </a:lnTo>
                        <a:lnTo>
                          <a:pt x="433" y="96"/>
                        </a:lnTo>
                        <a:lnTo>
                          <a:pt x="437" y="69"/>
                        </a:lnTo>
                        <a:lnTo>
                          <a:pt x="434" y="43"/>
                        </a:lnTo>
                        <a:lnTo>
                          <a:pt x="423" y="20"/>
                        </a:lnTo>
                        <a:lnTo>
                          <a:pt x="400" y="0"/>
                        </a:lnTo>
                        <a:lnTo>
                          <a:pt x="395" y="17"/>
                        </a:lnTo>
                        <a:lnTo>
                          <a:pt x="389" y="33"/>
                        </a:lnTo>
                        <a:lnTo>
                          <a:pt x="385" y="51"/>
                        </a:lnTo>
                        <a:lnTo>
                          <a:pt x="379" y="68"/>
                        </a:lnTo>
                        <a:lnTo>
                          <a:pt x="379" y="79"/>
                        </a:lnTo>
                        <a:lnTo>
                          <a:pt x="379" y="90"/>
                        </a:lnTo>
                        <a:lnTo>
                          <a:pt x="379" y="101"/>
                        </a:lnTo>
                        <a:lnTo>
                          <a:pt x="379" y="113"/>
                        </a:lnTo>
                        <a:lnTo>
                          <a:pt x="372" y="118"/>
                        </a:lnTo>
                        <a:lnTo>
                          <a:pt x="366" y="123"/>
                        </a:lnTo>
                        <a:lnTo>
                          <a:pt x="359" y="128"/>
                        </a:lnTo>
                        <a:lnTo>
                          <a:pt x="354" y="134"/>
                        </a:lnTo>
                        <a:lnTo>
                          <a:pt x="347" y="140"/>
                        </a:lnTo>
                        <a:lnTo>
                          <a:pt x="340" y="145"/>
                        </a:lnTo>
                        <a:lnTo>
                          <a:pt x="334" y="150"/>
                        </a:lnTo>
                        <a:lnTo>
                          <a:pt x="327" y="155"/>
                        </a:lnTo>
                        <a:lnTo>
                          <a:pt x="324" y="146"/>
                        </a:lnTo>
                        <a:lnTo>
                          <a:pt x="320" y="137"/>
                        </a:lnTo>
                        <a:lnTo>
                          <a:pt x="317" y="127"/>
                        </a:lnTo>
                        <a:lnTo>
                          <a:pt x="313" y="119"/>
                        </a:lnTo>
                        <a:lnTo>
                          <a:pt x="309" y="111"/>
                        </a:lnTo>
                        <a:lnTo>
                          <a:pt x="305" y="101"/>
                        </a:lnTo>
                        <a:lnTo>
                          <a:pt x="302" y="93"/>
                        </a:lnTo>
                        <a:lnTo>
                          <a:pt x="297" y="84"/>
                        </a:lnTo>
                        <a:lnTo>
                          <a:pt x="294" y="93"/>
                        </a:lnTo>
                        <a:lnTo>
                          <a:pt x="290" y="101"/>
                        </a:lnTo>
                        <a:lnTo>
                          <a:pt x="286" y="111"/>
                        </a:lnTo>
                        <a:lnTo>
                          <a:pt x="282" y="119"/>
                        </a:lnTo>
                        <a:lnTo>
                          <a:pt x="275" y="124"/>
                        </a:lnTo>
                        <a:lnTo>
                          <a:pt x="268" y="128"/>
                        </a:lnTo>
                        <a:lnTo>
                          <a:pt x="260" y="134"/>
                        </a:lnTo>
                        <a:lnTo>
                          <a:pt x="253" y="139"/>
                        </a:lnTo>
                        <a:lnTo>
                          <a:pt x="252" y="129"/>
                        </a:lnTo>
                        <a:lnTo>
                          <a:pt x="252" y="120"/>
                        </a:lnTo>
                        <a:lnTo>
                          <a:pt x="252" y="111"/>
                        </a:lnTo>
                        <a:lnTo>
                          <a:pt x="251" y="102"/>
                        </a:lnTo>
                        <a:lnTo>
                          <a:pt x="247" y="96"/>
                        </a:lnTo>
                        <a:lnTo>
                          <a:pt x="243" y="91"/>
                        </a:lnTo>
                        <a:lnTo>
                          <a:pt x="240" y="84"/>
                        </a:lnTo>
                        <a:lnTo>
                          <a:pt x="235" y="79"/>
                        </a:lnTo>
                        <a:lnTo>
                          <a:pt x="228" y="75"/>
                        </a:lnTo>
                        <a:lnTo>
                          <a:pt x="221" y="72"/>
                        </a:lnTo>
                        <a:lnTo>
                          <a:pt x="214" y="69"/>
                        </a:lnTo>
                        <a:lnTo>
                          <a:pt x="207" y="65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69"/>
                  <p:cNvSpPr/>
                  <p:nvPr/>
                </p:nvSpPr>
                <p:spPr>
                  <a:xfrm>
                    <a:off x="1135800" y="985320"/>
                    <a:ext cx="370440" cy="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562" h="378">
                        <a:moveTo>
                          <a:pt x="203" y="69"/>
                        </a:moveTo>
                        <a:lnTo>
                          <a:pt x="201" y="79"/>
                        </a:lnTo>
                        <a:lnTo>
                          <a:pt x="200" y="90"/>
                        </a:lnTo>
                        <a:lnTo>
                          <a:pt x="199" y="100"/>
                        </a:lnTo>
                        <a:lnTo>
                          <a:pt x="198" y="111"/>
                        </a:lnTo>
                        <a:lnTo>
                          <a:pt x="187" y="129"/>
                        </a:lnTo>
                        <a:lnTo>
                          <a:pt x="176" y="143"/>
                        </a:lnTo>
                        <a:lnTo>
                          <a:pt x="166" y="153"/>
                        </a:lnTo>
                        <a:lnTo>
                          <a:pt x="155" y="162"/>
                        </a:lnTo>
                        <a:lnTo>
                          <a:pt x="146" y="171"/>
                        </a:lnTo>
                        <a:lnTo>
                          <a:pt x="138" y="184"/>
                        </a:lnTo>
                        <a:lnTo>
                          <a:pt x="132" y="200"/>
                        </a:lnTo>
                        <a:lnTo>
                          <a:pt x="129" y="223"/>
                        </a:lnTo>
                        <a:lnTo>
                          <a:pt x="124" y="221"/>
                        </a:lnTo>
                        <a:lnTo>
                          <a:pt x="119" y="218"/>
                        </a:lnTo>
                        <a:lnTo>
                          <a:pt x="114" y="215"/>
                        </a:lnTo>
                        <a:lnTo>
                          <a:pt x="108" y="213"/>
                        </a:lnTo>
                        <a:lnTo>
                          <a:pt x="101" y="210"/>
                        </a:lnTo>
                        <a:lnTo>
                          <a:pt x="94" y="207"/>
                        </a:lnTo>
                        <a:lnTo>
                          <a:pt x="87" y="204"/>
                        </a:lnTo>
                        <a:lnTo>
                          <a:pt x="81" y="200"/>
                        </a:lnTo>
                        <a:lnTo>
                          <a:pt x="70" y="198"/>
                        </a:lnTo>
                        <a:lnTo>
                          <a:pt x="61" y="195"/>
                        </a:lnTo>
                        <a:lnTo>
                          <a:pt x="51" y="193"/>
                        </a:lnTo>
                        <a:lnTo>
                          <a:pt x="40" y="190"/>
                        </a:lnTo>
                        <a:lnTo>
                          <a:pt x="31" y="188"/>
                        </a:lnTo>
                        <a:lnTo>
                          <a:pt x="21" y="186"/>
                        </a:lnTo>
                        <a:lnTo>
                          <a:pt x="10" y="183"/>
                        </a:lnTo>
                        <a:lnTo>
                          <a:pt x="0" y="181"/>
                        </a:lnTo>
                        <a:lnTo>
                          <a:pt x="8" y="185"/>
                        </a:lnTo>
                        <a:lnTo>
                          <a:pt x="16" y="190"/>
                        </a:lnTo>
                        <a:lnTo>
                          <a:pt x="24" y="194"/>
                        </a:lnTo>
                        <a:lnTo>
                          <a:pt x="32" y="199"/>
                        </a:lnTo>
                        <a:lnTo>
                          <a:pt x="40" y="204"/>
                        </a:lnTo>
                        <a:lnTo>
                          <a:pt x="47" y="209"/>
                        </a:lnTo>
                        <a:lnTo>
                          <a:pt x="55" y="213"/>
                        </a:lnTo>
                        <a:lnTo>
                          <a:pt x="63" y="218"/>
                        </a:lnTo>
                        <a:lnTo>
                          <a:pt x="54" y="241"/>
                        </a:lnTo>
                        <a:lnTo>
                          <a:pt x="47" y="264"/>
                        </a:lnTo>
                        <a:lnTo>
                          <a:pt x="44" y="285"/>
                        </a:lnTo>
                        <a:lnTo>
                          <a:pt x="45" y="305"/>
                        </a:lnTo>
                        <a:lnTo>
                          <a:pt x="51" y="324"/>
                        </a:lnTo>
                        <a:lnTo>
                          <a:pt x="62" y="339"/>
                        </a:lnTo>
                        <a:lnTo>
                          <a:pt x="81" y="354"/>
                        </a:lnTo>
                        <a:lnTo>
                          <a:pt x="106" y="365"/>
                        </a:lnTo>
                        <a:lnTo>
                          <a:pt x="111" y="363"/>
                        </a:lnTo>
                        <a:lnTo>
                          <a:pt x="115" y="361"/>
                        </a:lnTo>
                        <a:lnTo>
                          <a:pt x="120" y="359"/>
                        </a:lnTo>
                        <a:lnTo>
                          <a:pt x="124" y="357"/>
                        </a:lnTo>
                        <a:lnTo>
                          <a:pt x="129" y="356"/>
                        </a:lnTo>
                        <a:lnTo>
                          <a:pt x="134" y="354"/>
                        </a:lnTo>
                        <a:lnTo>
                          <a:pt x="138" y="352"/>
                        </a:lnTo>
                        <a:lnTo>
                          <a:pt x="143" y="350"/>
                        </a:lnTo>
                        <a:lnTo>
                          <a:pt x="146" y="346"/>
                        </a:lnTo>
                        <a:lnTo>
                          <a:pt x="150" y="340"/>
                        </a:lnTo>
                        <a:lnTo>
                          <a:pt x="153" y="336"/>
                        </a:lnTo>
                        <a:lnTo>
                          <a:pt x="157" y="332"/>
                        </a:lnTo>
                        <a:lnTo>
                          <a:pt x="162" y="329"/>
                        </a:lnTo>
                        <a:lnTo>
                          <a:pt x="168" y="325"/>
                        </a:lnTo>
                        <a:lnTo>
                          <a:pt x="174" y="322"/>
                        </a:lnTo>
                        <a:lnTo>
                          <a:pt x="180" y="317"/>
                        </a:lnTo>
                        <a:lnTo>
                          <a:pt x="185" y="314"/>
                        </a:lnTo>
                        <a:lnTo>
                          <a:pt x="191" y="311"/>
                        </a:lnTo>
                        <a:lnTo>
                          <a:pt x="197" y="307"/>
                        </a:lnTo>
                        <a:lnTo>
                          <a:pt x="203" y="304"/>
                        </a:lnTo>
                        <a:lnTo>
                          <a:pt x="208" y="304"/>
                        </a:lnTo>
                        <a:lnTo>
                          <a:pt x="213" y="305"/>
                        </a:lnTo>
                        <a:lnTo>
                          <a:pt x="219" y="305"/>
                        </a:lnTo>
                        <a:lnTo>
                          <a:pt x="225" y="306"/>
                        </a:lnTo>
                        <a:lnTo>
                          <a:pt x="229" y="307"/>
                        </a:lnTo>
                        <a:lnTo>
                          <a:pt x="235" y="308"/>
                        </a:lnTo>
                        <a:lnTo>
                          <a:pt x="241" y="308"/>
                        </a:lnTo>
                        <a:lnTo>
                          <a:pt x="246" y="309"/>
                        </a:lnTo>
                        <a:lnTo>
                          <a:pt x="253" y="316"/>
                        </a:lnTo>
                        <a:lnTo>
                          <a:pt x="260" y="324"/>
                        </a:lnTo>
                        <a:lnTo>
                          <a:pt x="266" y="332"/>
                        </a:lnTo>
                        <a:lnTo>
                          <a:pt x="273" y="339"/>
                        </a:lnTo>
                        <a:lnTo>
                          <a:pt x="279" y="339"/>
                        </a:lnTo>
                        <a:lnTo>
                          <a:pt x="286" y="339"/>
                        </a:lnTo>
                        <a:lnTo>
                          <a:pt x="291" y="339"/>
                        </a:lnTo>
                        <a:lnTo>
                          <a:pt x="297" y="339"/>
                        </a:lnTo>
                        <a:lnTo>
                          <a:pt x="305" y="338"/>
                        </a:lnTo>
                        <a:lnTo>
                          <a:pt x="312" y="338"/>
                        </a:lnTo>
                        <a:lnTo>
                          <a:pt x="319" y="337"/>
                        </a:lnTo>
                        <a:lnTo>
                          <a:pt x="326" y="337"/>
                        </a:lnTo>
                        <a:lnTo>
                          <a:pt x="330" y="341"/>
                        </a:lnTo>
                        <a:lnTo>
                          <a:pt x="336" y="346"/>
                        </a:lnTo>
                        <a:lnTo>
                          <a:pt x="341" y="351"/>
                        </a:lnTo>
                        <a:lnTo>
                          <a:pt x="347" y="355"/>
                        </a:lnTo>
                        <a:lnTo>
                          <a:pt x="351" y="360"/>
                        </a:lnTo>
                        <a:lnTo>
                          <a:pt x="356" y="367"/>
                        </a:lnTo>
                        <a:lnTo>
                          <a:pt x="360" y="373"/>
                        </a:lnTo>
                        <a:lnTo>
                          <a:pt x="365" y="378"/>
                        </a:lnTo>
                        <a:lnTo>
                          <a:pt x="370" y="373"/>
                        </a:lnTo>
                        <a:lnTo>
                          <a:pt x="374" y="367"/>
                        </a:lnTo>
                        <a:lnTo>
                          <a:pt x="378" y="360"/>
                        </a:lnTo>
                        <a:lnTo>
                          <a:pt x="382" y="355"/>
                        </a:lnTo>
                        <a:lnTo>
                          <a:pt x="383" y="349"/>
                        </a:lnTo>
                        <a:lnTo>
                          <a:pt x="386" y="341"/>
                        </a:lnTo>
                        <a:lnTo>
                          <a:pt x="387" y="335"/>
                        </a:lnTo>
                        <a:lnTo>
                          <a:pt x="388" y="329"/>
                        </a:lnTo>
                        <a:lnTo>
                          <a:pt x="391" y="336"/>
                        </a:lnTo>
                        <a:lnTo>
                          <a:pt x="394" y="345"/>
                        </a:lnTo>
                        <a:lnTo>
                          <a:pt x="397" y="352"/>
                        </a:lnTo>
                        <a:lnTo>
                          <a:pt x="400" y="360"/>
                        </a:lnTo>
                        <a:lnTo>
                          <a:pt x="405" y="364"/>
                        </a:lnTo>
                        <a:lnTo>
                          <a:pt x="412" y="368"/>
                        </a:lnTo>
                        <a:lnTo>
                          <a:pt x="418" y="371"/>
                        </a:lnTo>
                        <a:lnTo>
                          <a:pt x="424" y="375"/>
                        </a:lnTo>
                        <a:lnTo>
                          <a:pt x="448" y="373"/>
                        </a:lnTo>
                        <a:lnTo>
                          <a:pt x="465" y="365"/>
                        </a:lnTo>
                        <a:lnTo>
                          <a:pt x="477" y="354"/>
                        </a:lnTo>
                        <a:lnTo>
                          <a:pt x="485" y="340"/>
                        </a:lnTo>
                        <a:lnTo>
                          <a:pt x="491" y="324"/>
                        </a:lnTo>
                        <a:lnTo>
                          <a:pt x="493" y="305"/>
                        </a:lnTo>
                        <a:lnTo>
                          <a:pt x="495" y="285"/>
                        </a:lnTo>
                        <a:lnTo>
                          <a:pt x="497" y="265"/>
                        </a:lnTo>
                        <a:lnTo>
                          <a:pt x="505" y="256"/>
                        </a:lnTo>
                        <a:lnTo>
                          <a:pt x="514" y="247"/>
                        </a:lnTo>
                        <a:lnTo>
                          <a:pt x="522" y="238"/>
                        </a:lnTo>
                        <a:lnTo>
                          <a:pt x="530" y="229"/>
                        </a:lnTo>
                        <a:lnTo>
                          <a:pt x="538" y="220"/>
                        </a:lnTo>
                        <a:lnTo>
                          <a:pt x="546" y="211"/>
                        </a:lnTo>
                        <a:lnTo>
                          <a:pt x="554" y="203"/>
                        </a:lnTo>
                        <a:lnTo>
                          <a:pt x="562" y="193"/>
                        </a:lnTo>
                        <a:lnTo>
                          <a:pt x="554" y="196"/>
                        </a:lnTo>
                        <a:lnTo>
                          <a:pt x="545" y="200"/>
                        </a:lnTo>
                        <a:lnTo>
                          <a:pt x="537" y="204"/>
                        </a:lnTo>
                        <a:lnTo>
                          <a:pt x="529" y="207"/>
                        </a:lnTo>
                        <a:lnTo>
                          <a:pt x="519" y="211"/>
                        </a:lnTo>
                        <a:lnTo>
                          <a:pt x="511" y="214"/>
                        </a:lnTo>
                        <a:lnTo>
                          <a:pt x="502" y="218"/>
                        </a:lnTo>
                        <a:lnTo>
                          <a:pt x="494" y="221"/>
                        </a:lnTo>
                        <a:lnTo>
                          <a:pt x="487" y="226"/>
                        </a:lnTo>
                        <a:lnTo>
                          <a:pt x="481" y="230"/>
                        </a:lnTo>
                        <a:lnTo>
                          <a:pt x="474" y="235"/>
                        </a:lnTo>
                        <a:lnTo>
                          <a:pt x="467" y="239"/>
                        </a:lnTo>
                        <a:lnTo>
                          <a:pt x="462" y="243"/>
                        </a:lnTo>
                        <a:lnTo>
                          <a:pt x="455" y="249"/>
                        </a:lnTo>
                        <a:lnTo>
                          <a:pt x="448" y="253"/>
                        </a:lnTo>
                        <a:lnTo>
                          <a:pt x="441" y="257"/>
                        </a:lnTo>
                        <a:lnTo>
                          <a:pt x="441" y="249"/>
                        </a:lnTo>
                        <a:lnTo>
                          <a:pt x="441" y="240"/>
                        </a:lnTo>
                        <a:lnTo>
                          <a:pt x="441" y="232"/>
                        </a:lnTo>
                        <a:lnTo>
                          <a:pt x="441" y="223"/>
                        </a:lnTo>
                        <a:lnTo>
                          <a:pt x="448" y="210"/>
                        </a:lnTo>
                        <a:lnTo>
                          <a:pt x="455" y="196"/>
                        </a:lnTo>
                        <a:lnTo>
                          <a:pt x="461" y="183"/>
                        </a:lnTo>
                        <a:lnTo>
                          <a:pt x="467" y="169"/>
                        </a:lnTo>
                        <a:lnTo>
                          <a:pt x="470" y="162"/>
                        </a:lnTo>
                        <a:lnTo>
                          <a:pt x="472" y="155"/>
                        </a:lnTo>
                        <a:lnTo>
                          <a:pt x="474" y="148"/>
                        </a:lnTo>
                        <a:lnTo>
                          <a:pt x="477" y="141"/>
                        </a:lnTo>
                        <a:lnTo>
                          <a:pt x="472" y="146"/>
                        </a:lnTo>
                        <a:lnTo>
                          <a:pt x="466" y="150"/>
                        </a:lnTo>
                        <a:lnTo>
                          <a:pt x="462" y="156"/>
                        </a:lnTo>
                        <a:lnTo>
                          <a:pt x="456" y="160"/>
                        </a:lnTo>
                        <a:lnTo>
                          <a:pt x="451" y="165"/>
                        </a:lnTo>
                        <a:lnTo>
                          <a:pt x="446" y="169"/>
                        </a:lnTo>
                        <a:lnTo>
                          <a:pt x="441" y="174"/>
                        </a:lnTo>
                        <a:lnTo>
                          <a:pt x="435" y="180"/>
                        </a:lnTo>
                        <a:lnTo>
                          <a:pt x="429" y="183"/>
                        </a:lnTo>
                        <a:lnTo>
                          <a:pt x="423" y="187"/>
                        </a:lnTo>
                        <a:lnTo>
                          <a:pt x="417" y="190"/>
                        </a:lnTo>
                        <a:lnTo>
                          <a:pt x="410" y="193"/>
                        </a:lnTo>
                        <a:lnTo>
                          <a:pt x="404" y="197"/>
                        </a:lnTo>
                        <a:lnTo>
                          <a:pt x="397" y="200"/>
                        </a:lnTo>
                        <a:lnTo>
                          <a:pt x="391" y="205"/>
                        </a:lnTo>
                        <a:lnTo>
                          <a:pt x="385" y="208"/>
                        </a:lnTo>
                        <a:lnTo>
                          <a:pt x="388" y="180"/>
                        </a:lnTo>
                        <a:lnTo>
                          <a:pt x="396" y="150"/>
                        </a:lnTo>
                        <a:lnTo>
                          <a:pt x="405" y="121"/>
                        </a:lnTo>
                        <a:lnTo>
                          <a:pt x="416" y="93"/>
                        </a:lnTo>
                        <a:lnTo>
                          <a:pt x="421" y="66"/>
                        </a:lnTo>
                        <a:lnTo>
                          <a:pt x="421" y="41"/>
                        </a:lnTo>
                        <a:lnTo>
                          <a:pt x="413" y="19"/>
                        </a:lnTo>
                        <a:lnTo>
                          <a:pt x="394" y="0"/>
                        </a:lnTo>
                        <a:lnTo>
                          <a:pt x="387" y="17"/>
                        </a:lnTo>
                        <a:lnTo>
                          <a:pt x="380" y="33"/>
                        </a:lnTo>
                        <a:lnTo>
                          <a:pt x="373" y="50"/>
                        </a:lnTo>
                        <a:lnTo>
                          <a:pt x="367" y="67"/>
                        </a:lnTo>
                        <a:lnTo>
                          <a:pt x="367" y="77"/>
                        </a:lnTo>
                        <a:lnTo>
                          <a:pt x="367" y="88"/>
                        </a:lnTo>
                        <a:lnTo>
                          <a:pt x="367" y="98"/>
                        </a:lnTo>
                        <a:lnTo>
                          <a:pt x="367" y="109"/>
                        </a:lnTo>
                        <a:lnTo>
                          <a:pt x="360" y="114"/>
                        </a:lnTo>
                        <a:lnTo>
                          <a:pt x="353" y="119"/>
                        </a:lnTo>
                        <a:lnTo>
                          <a:pt x="347" y="124"/>
                        </a:lnTo>
                        <a:lnTo>
                          <a:pt x="341" y="129"/>
                        </a:lnTo>
                        <a:lnTo>
                          <a:pt x="334" y="136"/>
                        </a:lnTo>
                        <a:lnTo>
                          <a:pt x="327" y="141"/>
                        </a:lnTo>
                        <a:lnTo>
                          <a:pt x="320" y="146"/>
                        </a:lnTo>
                        <a:lnTo>
                          <a:pt x="313" y="151"/>
                        </a:lnTo>
                        <a:lnTo>
                          <a:pt x="310" y="143"/>
                        </a:lnTo>
                        <a:lnTo>
                          <a:pt x="305" y="135"/>
                        </a:lnTo>
                        <a:lnTo>
                          <a:pt x="302" y="126"/>
                        </a:lnTo>
                        <a:lnTo>
                          <a:pt x="297" y="118"/>
                        </a:lnTo>
                        <a:lnTo>
                          <a:pt x="294" y="111"/>
                        </a:lnTo>
                        <a:lnTo>
                          <a:pt x="290" y="102"/>
                        </a:lnTo>
                        <a:lnTo>
                          <a:pt x="287" y="95"/>
                        </a:lnTo>
                        <a:lnTo>
                          <a:pt x="283" y="88"/>
                        </a:lnTo>
                        <a:lnTo>
                          <a:pt x="280" y="95"/>
                        </a:lnTo>
                        <a:lnTo>
                          <a:pt x="276" y="102"/>
                        </a:lnTo>
                        <a:lnTo>
                          <a:pt x="273" y="111"/>
                        </a:lnTo>
                        <a:lnTo>
                          <a:pt x="269" y="118"/>
                        </a:lnTo>
                        <a:lnTo>
                          <a:pt x="264" y="122"/>
                        </a:lnTo>
                        <a:lnTo>
                          <a:pt x="257" y="127"/>
                        </a:lnTo>
                        <a:lnTo>
                          <a:pt x="250" y="132"/>
                        </a:lnTo>
                        <a:lnTo>
                          <a:pt x="244" y="137"/>
                        </a:lnTo>
                        <a:lnTo>
                          <a:pt x="243" y="128"/>
                        </a:lnTo>
                        <a:lnTo>
                          <a:pt x="243" y="119"/>
                        </a:lnTo>
                        <a:lnTo>
                          <a:pt x="242" y="111"/>
                        </a:lnTo>
                        <a:lnTo>
                          <a:pt x="241" y="102"/>
                        </a:lnTo>
                        <a:lnTo>
                          <a:pt x="237" y="97"/>
                        </a:lnTo>
                        <a:lnTo>
                          <a:pt x="234" y="92"/>
                        </a:lnTo>
                        <a:lnTo>
                          <a:pt x="230" y="88"/>
                        </a:lnTo>
                        <a:lnTo>
                          <a:pt x="227" y="82"/>
                        </a:lnTo>
                        <a:lnTo>
                          <a:pt x="221" y="79"/>
                        </a:lnTo>
                        <a:lnTo>
                          <a:pt x="214" y="76"/>
                        </a:lnTo>
                        <a:lnTo>
                          <a:pt x="208" y="73"/>
                        </a:lnTo>
                        <a:lnTo>
                          <a:pt x="203" y="69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70"/>
                <p:cNvGrpSpPr/>
                <p:nvPr/>
              </p:nvGrpSpPr>
              <p:grpSpPr>
                <a:xfrm>
                  <a:off x="1067040" y="886680"/>
                  <a:ext cx="437400" cy="198000"/>
                  <a:chOff x="1067040" y="886680"/>
                  <a:chExt cx="437400" cy="198000"/>
                </a:xfrm>
              </p:grpSpPr>
              <p:sp>
                <p:nvSpPr>
                  <p:cNvPr id="236" name="Freeform 71"/>
                  <p:cNvSpPr/>
                  <p:nvPr/>
                </p:nvSpPr>
                <p:spPr>
                  <a:xfrm>
                    <a:off x="1067040" y="886680"/>
                    <a:ext cx="4374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54" h="626">
                        <a:moveTo>
                          <a:pt x="298" y="34"/>
                        </a:moveTo>
                        <a:lnTo>
                          <a:pt x="278" y="112"/>
                        </a:lnTo>
                        <a:lnTo>
                          <a:pt x="259" y="146"/>
                        </a:lnTo>
                        <a:lnTo>
                          <a:pt x="240" y="169"/>
                        </a:lnTo>
                        <a:lnTo>
                          <a:pt x="223" y="183"/>
                        </a:lnTo>
                        <a:lnTo>
                          <a:pt x="208" y="194"/>
                        </a:lnTo>
                        <a:lnTo>
                          <a:pt x="194" y="206"/>
                        </a:lnTo>
                        <a:lnTo>
                          <a:pt x="183" y="224"/>
                        </a:lnTo>
                        <a:lnTo>
                          <a:pt x="174" y="251"/>
                        </a:lnTo>
                        <a:lnTo>
                          <a:pt x="167" y="294"/>
                        </a:lnTo>
                        <a:lnTo>
                          <a:pt x="122" y="305"/>
                        </a:lnTo>
                        <a:lnTo>
                          <a:pt x="68" y="281"/>
                        </a:lnTo>
                        <a:lnTo>
                          <a:pt x="41" y="237"/>
                        </a:lnTo>
                        <a:lnTo>
                          <a:pt x="37" y="315"/>
                        </a:lnTo>
                        <a:lnTo>
                          <a:pt x="18" y="358"/>
                        </a:lnTo>
                        <a:lnTo>
                          <a:pt x="5" y="400"/>
                        </a:lnTo>
                        <a:lnTo>
                          <a:pt x="0" y="440"/>
                        </a:lnTo>
                        <a:lnTo>
                          <a:pt x="1" y="478"/>
                        </a:lnTo>
                        <a:lnTo>
                          <a:pt x="12" y="512"/>
                        </a:lnTo>
                        <a:lnTo>
                          <a:pt x="34" y="542"/>
                        </a:lnTo>
                        <a:lnTo>
                          <a:pt x="69" y="569"/>
                        </a:lnTo>
                        <a:lnTo>
                          <a:pt x="116" y="591"/>
                        </a:lnTo>
                        <a:lnTo>
                          <a:pt x="185" y="562"/>
                        </a:lnTo>
                        <a:lnTo>
                          <a:pt x="212" y="529"/>
                        </a:lnTo>
                        <a:lnTo>
                          <a:pt x="298" y="475"/>
                        </a:lnTo>
                        <a:lnTo>
                          <a:pt x="382" y="485"/>
                        </a:lnTo>
                        <a:lnTo>
                          <a:pt x="429" y="543"/>
                        </a:lnTo>
                        <a:lnTo>
                          <a:pt x="478" y="543"/>
                        </a:lnTo>
                        <a:lnTo>
                          <a:pt x="531" y="538"/>
                        </a:lnTo>
                        <a:lnTo>
                          <a:pt x="567" y="572"/>
                        </a:lnTo>
                        <a:lnTo>
                          <a:pt x="604" y="615"/>
                        </a:lnTo>
                        <a:lnTo>
                          <a:pt x="636" y="572"/>
                        </a:lnTo>
                        <a:lnTo>
                          <a:pt x="647" y="523"/>
                        </a:lnTo>
                        <a:lnTo>
                          <a:pt x="673" y="593"/>
                        </a:lnTo>
                        <a:lnTo>
                          <a:pt x="725" y="626"/>
                        </a:lnTo>
                        <a:lnTo>
                          <a:pt x="769" y="621"/>
                        </a:lnTo>
                        <a:lnTo>
                          <a:pt x="800" y="605"/>
                        </a:lnTo>
                        <a:lnTo>
                          <a:pt x="822" y="582"/>
                        </a:lnTo>
                        <a:lnTo>
                          <a:pt x="835" y="553"/>
                        </a:lnTo>
                        <a:lnTo>
                          <a:pt x="843" y="518"/>
                        </a:lnTo>
                        <a:lnTo>
                          <a:pt x="847" y="481"/>
                        </a:lnTo>
                        <a:lnTo>
                          <a:pt x="851" y="442"/>
                        </a:lnTo>
                        <a:lnTo>
                          <a:pt x="854" y="402"/>
                        </a:lnTo>
                        <a:lnTo>
                          <a:pt x="838" y="261"/>
                        </a:lnTo>
                        <a:lnTo>
                          <a:pt x="807" y="320"/>
                        </a:lnTo>
                        <a:lnTo>
                          <a:pt x="748" y="388"/>
                        </a:lnTo>
                        <a:lnTo>
                          <a:pt x="748" y="325"/>
                        </a:lnTo>
                        <a:lnTo>
                          <a:pt x="732" y="237"/>
                        </a:lnTo>
                        <a:lnTo>
                          <a:pt x="689" y="184"/>
                        </a:lnTo>
                        <a:lnTo>
                          <a:pt x="689" y="257"/>
                        </a:lnTo>
                        <a:lnTo>
                          <a:pt x="642" y="296"/>
                        </a:lnTo>
                        <a:lnTo>
                          <a:pt x="641" y="246"/>
                        </a:lnTo>
                        <a:lnTo>
                          <a:pt x="639" y="202"/>
                        </a:lnTo>
                        <a:lnTo>
                          <a:pt x="632" y="162"/>
                        </a:lnTo>
                        <a:lnTo>
                          <a:pt x="620" y="127"/>
                        </a:lnTo>
                        <a:lnTo>
                          <a:pt x="602" y="93"/>
                        </a:lnTo>
                        <a:lnTo>
                          <a:pt x="577" y="62"/>
                        </a:lnTo>
                        <a:lnTo>
                          <a:pt x="542" y="31"/>
                        </a:lnTo>
                        <a:lnTo>
                          <a:pt x="498" y="0"/>
                        </a:lnTo>
                        <a:lnTo>
                          <a:pt x="520" y="73"/>
                        </a:lnTo>
                        <a:lnTo>
                          <a:pt x="520" y="151"/>
                        </a:lnTo>
                        <a:lnTo>
                          <a:pt x="478" y="189"/>
                        </a:lnTo>
                        <a:lnTo>
                          <a:pt x="478" y="127"/>
                        </a:lnTo>
                        <a:lnTo>
                          <a:pt x="451" y="68"/>
                        </a:lnTo>
                        <a:lnTo>
                          <a:pt x="423" y="127"/>
                        </a:lnTo>
                        <a:lnTo>
                          <a:pt x="376" y="160"/>
                        </a:lnTo>
                        <a:lnTo>
                          <a:pt x="372" y="97"/>
                        </a:lnTo>
                        <a:lnTo>
                          <a:pt x="344" y="59"/>
                        </a:lnTo>
                        <a:lnTo>
                          <a:pt x="298" y="34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72"/>
                  <p:cNvSpPr/>
                  <p:nvPr/>
                </p:nvSpPr>
                <p:spPr>
                  <a:xfrm>
                    <a:off x="1121760" y="914760"/>
                    <a:ext cx="35568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7" h="515">
                        <a:moveTo>
                          <a:pt x="235" y="51"/>
                        </a:moveTo>
                        <a:lnTo>
                          <a:pt x="233" y="65"/>
                        </a:lnTo>
                        <a:lnTo>
                          <a:pt x="229" y="81"/>
                        </a:lnTo>
                        <a:lnTo>
                          <a:pt x="227" y="97"/>
                        </a:lnTo>
                        <a:lnTo>
                          <a:pt x="224" y="112"/>
                        </a:lnTo>
                        <a:lnTo>
                          <a:pt x="207" y="140"/>
                        </a:lnTo>
                        <a:lnTo>
                          <a:pt x="192" y="158"/>
                        </a:lnTo>
                        <a:lnTo>
                          <a:pt x="179" y="171"/>
                        </a:lnTo>
                        <a:lnTo>
                          <a:pt x="166" y="181"/>
                        </a:lnTo>
                        <a:lnTo>
                          <a:pt x="154" y="192"/>
                        </a:lnTo>
                        <a:lnTo>
                          <a:pt x="144" y="206"/>
                        </a:lnTo>
                        <a:lnTo>
                          <a:pt x="136" y="229"/>
                        </a:lnTo>
                        <a:lnTo>
                          <a:pt x="130" y="263"/>
                        </a:lnTo>
                        <a:lnTo>
                          <a:pt x="122" y="264"/>
                        </a:lnTo>
                        <a:lnTo>
                          <a:pt x="114" y="264"/>
                        </a:lnTo>
                        <a:lnTo>
                          <a:pt x="105" y="265"/>
                        </a:lnTo>
                        <a:lnTo>
                          <a:pt x="97" y="266"/>
                        </a:lnTo>
                        <a:lnTo>
                          <a:pt x="91" y="263"/>
                        </a:lnTo>
                        <a:lnTo>
                          <a:pt x="86" y="261"/>
                        </a:lnTo>
                        <a:lnTo>
                          <a:pt x="81" y="257"/>
                        </a:lnTo>
                        <a:lnTo>
                          <a:pt x="76" y="255"/>
                        </a:lnTo>
                        <a:lnTo>
                          <a:pt x="70" y="253"/>
                        </a:lnTo>
                        <a:lnTo>
                          <a:pt x="66" y="251"/>
                        </a:lnTo>
                        <a:lnTo>
                          <a:pt x="60" y="248"/>
                        </a:lnTo>
                        <a:lnTo>
                          <a:pt x="54" y="246"/>
                        </a:lnTo>
                        <a:lnTo>
                          <a:pt x="48" y="242"/>
                        </a:lnTo>
                        <a:lnTo>
                          <a:pt x="42" y="238"/>
                        </a:lnTo>
                        <a:lnTo>
                          <a:pt x="36" y="233"/>
                        </a:lnTo>
                        <a:lnTo>
                          <a:pt x="30" y="229"/>
                        </a:lnTo>
                        <a:lnTo>
                          <a:pt x="23" y="225"/>
                        </a:lnTo>
                        <a:lnTo>
                          <a:pt x="17" y="221"/>
                        </a:lnTo>
                        <a:lnTo>
                          <a:pt x="10" y="217"/>
                        </a:lnTo>
                        <a:lnTo>
                          <a:pt x="5" y="213"/>
                        </a:lnTo>
                        <a:lnTo>
                          <a:pt x="10" y="228"/>
                        </a:lnTo>
                        <a:lnTo>
                          <a:pt x="17" y="243"/>
                        </a:lnTo>
                        <a:lnTo>
                          <a:pt x="23" y="258"/>
                        </a:lnTo>
                        <a:lnTo>
                          <a:pt x="29" y="273"/>
                        </a:lnTo>
                        <a:lnTo>
                          <a:pt x="15" y="308"/>
                        </a:lnTo>
                        <a:lnTo>
                          <a:pt x="5" y="341"/>
                        </a:lnTo>
                        <a:lnTo>
                          <a:pt x="0" y="372"/>
                        </a:lnTo>
                        <a:lnTo>
                          <a:pt x="2" y="402"/>
                        </a:lnTo>
                        <a:lnTo>
                          <a:pt x="10" y="429"/>
                        </a:lnTo>
                        <a:lnTo>
                          <a:pt x="28" y="453"/>
                        </a:lnTo>
                        <a:lnTo>
                          <a:pt x="54" y="474"/>
                        </a:lnTo>
                        <a:lnTo>
                          <a:pt x="92" y="491"/>
                        </a:lnTo>
                        <a:lnTo>
                          <a:pt x="99" y="488"/>
                        </a:lnTo>
                        <a:lnTo>
                          <a:pt x="106" y="486"/>
                        </a:lnTo>
                        <a:lnTo>
                          <a:pt x="113" y="483"/>
                        </a:lnTo>
                        <a:lnTo>
                          <a:pt x="120" y="480"/>
                        </a:lnTo>
                        <a:lnTo>
                          <a:pt x="127" y="477"/>
                        </a:lnTo>
                        <a:lnTo>
                          <a:pt x="134" y="474"/>
                        </a:lnTo>
                        <a:lnTo>
                          <a:pt x="141" y="472"/>
                        </a:lnTo>
                        <a:lnTo>
                          <a:pt x="148" y="468"/>
                        </a:lnTo>
                        <a:lnTo>
                          <a:pt x="153" y="462"/>
                        </a:lnTo>
                        <a:lnTo>
                          <a:pt x="158" y="455"/>
                        </a:lnTo>
                        <a:lnTo>
                          <a:pt x="164" y="449"/>
                        </a:lnTo>
                        <a:lnTo>
                          <a:pt x="168" y="441"/>
                        </a:lnTo>
                        <a:lnTo>
                          <a:pt x="176" y="436"/>
                        </a:lnTo>
                        <a:lnTo>
                          <a:pt x="184" y="431"/>
                        </a:lnTo>
                        <a:lnTo>
                          <a:pt x="194" y="426"/>
                        </a:lnTo>
                        <a:lnTo>
                          <a:pt x="202" y="420"/>
                        </a:lnTo>
                        <a:lnTo>
                          <a:pt x="210" y="415"/>
                        </a:lnTo>
                        <a:lnTo>
                          <a:pt x="219" y="410"/>
                        </a:lnTo>
                        <a:lnTo>
                          <a:pt x="227" y="405"/>
                        </a:lnTo>
                        <a:lnTo>
                          <a:pt x="235" y="399"/>
                        </a:lnTo>
                        <a:lnTo>
                          <a:pt x="243" y="401"/>
                        </a:lnTo>
                        <a:lnTo>
                          <a:pt x="252" y="402"/>
                        </a:lnTo>
                        <a:lnTo>
                          <a:pt x="260" y="403"/>
                        </a:lnTo>
                        <a:lnTo>
                          <a:pt x="270" y="403"/>
                        </a:lnTo>
                        <a:lnTo>
                          <a:pt x="278" y="404"/>
                        </a:lnTo>
                        <a:lnTo>
                          <a:pt x="286" y="405"/>
                        </a:lnTo>
                        <a:lnTo>
                          <a:pt x="295" y="406"/>
                        </a:lnTo>
                        <a:lnTo>
                          <a:pt x="303" y="407"/>
                        </a:lnTo>
                        <a:lnTo>
                          <a:pt x="308" y="413"/>
                        </a:lnTo>
                        <a:lnTo>
                          <a:pt x="312" y="418"/>
                        </a:lnTo>
                        <a:lnTo>
                          <a:pt x="317" y="425"/>
                        </a:lnTo>
                        <a:lnTo>
                          <a:pt x="323" y="430"/>
                        </a:lnTo>
                        <a:lnTo>
                          <a:pt x="327" y="436"/>
                        </a:lnTo>
                        <a:lnTo>
                          <a:pt x="332" y="441"/>
                        </a:lnTo>
                        <a:lnTo>
                          <a:pt x="336" y="448"/>
                        </a:lnTo>
                        <a:lnTo>
                          <a:pt x="341" y="453"/>
                        </a:lnTo>
                        <a:lnTo>
                          <a:pt x="346" y="453"/>
                        </a:lnTo>
                        <a:lnTo>
                          <a:pt x="350" y="453"/>
                        </a:lnTo>
                        <a:lnTo>
                          <a:pt x="355" y="453"/>
                        </a:lnTo>
                        <a:lnTo>
                          <a:pt x="361" y="453"/>
                        </a:lnTo>
                        <a:lnTo>
                          <a:pt x="365" y="453"/>
                        </a:lnTo>
                        <a:lnTo>
                          <a:pt x="370" y="453"/>
                        </a:lnTo>
                        <a:lnTo>
                          <a:pt x="374" y="453"/>
                        </a:lnTo>
                        <a:lnTo>
                          <a:pt x="379" y="453"/>
                        </a:lnTo>
                        <a:lnTo>
                          <a:pt x="385" y="453"/>
                        </a:lnTo>
                        <a:lnTo>
                          <a:pt x="389" y="452"/>
                        </a:lnTo>
                        <a:lnTo>
                          <a:pt x="395" y="452"/>
                        </a:lnTo>
                        <a:lnTo>
                          <a:pt x="400" y="451"/>
                        </a:lnTo>
                        <a:lnTo>
                          <a:pt x="405" y="451"/>
                        </a:lnTo>
                        <a:lnTo>
                          <a:pt x="410" y="451"/>
                        </a:lnTo>
                        <a:lnTo>
                          <a:pt x="416" y="450"/>
                        </a:lnTo>
                        <a:lnTo>
                          <a:pt x="422" y="450"/>
                        </a:lnTo>
                        <a:lnTo>
                          <a:pt x="428" y="456"/>
                        </a:lnTo>
                        <a:lnTo>
                          <a:pt x="435" y="462"/>
                        </a:lnTo>
                        <a:lnTo>
                          <a:pt x="442" y="469"/>
                        </a:lnTo>
                        <a:lnTo>
                          <a:pt x="450" y="476"/>
                        </a:lnTo>
                        <a:lnTo>
                          <a:pt x="457" y="484"/>
                        </a:lnTo>
                        <a:lnTo>
                          <a:pt x="465" y="493"/>
                        </a:lnTo>
                        <a:lnTo>
                          <a:pt x="472" y="503"/>
                        </a:lnTo>
                        <a:lnTo>
                          <a:pt x="479" y="511"/>
                        </a:lnTo>
                        <a:lnTo>
                          <a:pt x="486" y="503"/>
                        </a:lnTo>
                        <a:lnTo>
                          <a:pt x="492" y="493"/>
                        </a:lnTo>
                        <a:lnTo>
                          <a:pt x="499" y="484"/>
                        </a:lnTo>
                        <a:lnTo>
                          <a:pt x="504" y="476"/>
                        </a:lnTo>
                        <a:lnTo>
                          <a:pt x="507" y="466"/>
                        </a:lnTo>
                        <a:lnTo>
                          <a:pt x="509" y="457"/>
                        </a:lnTo>
                        <a:lnTo>
                          <a:pt x="510" y="448"/>
                        </a:lnTo>
                        <a:lnTo>
                          <a:pt x="513" y="438"/>
                        </a:lnTo>
                        <a:lnTo>
                          <a:pt x="518" y="452"/>
                        </a:lnTo>
                        <a:lnTo>
                          <a:pt x="523" y="464"/>
                        </a:lnTo>
                        <a:lnTo>
                          <a:pt x="529" y="478"/>
                        </a:lnTo>
                        <a:lnTo>
                          <a:pt x="533" y="490"/>
                        </a:lnTo>
                        <a:lnTo>
                          <a:pt x="538" y="493"/>
                        </a:lnTo>
                        <a:lnTo>
                          <a:pt x="542" y="497"/>
                        </a:lnTo>
                        <a:lnTo>
                          <a:pt x="547" y="500"/>
                        </a:lnTo>
                        <a:lnTo>
                          <a:pt x="553" y="503"/>
                        </a:lnTo>
                        <a:lnTo>
                          <a:pt x="557" y="506"/>
                        </a:lnTo>
                        <a:lnTo>
                          <a:pt x="562" y="509"/>
                        </a:lnTo>
                        <a:lnTo>
                          <a:pt x="568" y="512"/>
                        </a:lnTo>
                        <a:lnTo>
                          <a:pt x="572" y="515"/>
                        </a:lnTo>
                        <a:lnTo>
                          <a:pt x="607" y="511"/>
                        </a:lnTo>
                        <a:lnTo>
                          <a:pt x="632" y="500"/>
                        </a:lnTo>
                        <a:lnTo>
                          <a:pt x="650" y="482"/>
                        </a:lnTo>
                        <a:lnTo>
                          <a:pt x="661" y="459"/>
                        </a:lnTo>
                        <a:lnTo>
                          <a:pt x="667" y="433"/>
                        </a:lnTo>
                        <a:lnTo>
                          <a:pt x="671" y="404"/>
                        </a:lnTo>
                        <a:lnTo>
                          <a:pt x="674" y="373"/>
                        </a:lnTo>
                        <a:lnTo>
                          <a:pt x="677" y="342"/>
                        </a:lnTo>
                        <a:lnTo>
                          <a:pt x="682" y="315"/>
                        </a:lnTo>
                        <a:lnTo>
                          <a:pt x="686" y="287"/>
                        </a:lnTo>
                        <a:lnTo>
                          <a:pt x="692" y="260"/>
                        </a:lnTo>
                        <a:lnTo>
                          <a:pt x="697" y="232"/>
                        </a:lnTo>
                        <a:lnTo>
                          <a:pt x="691" y="238"/>
                        </a:lnTo>
                        <a:lnTo>
                          <a:pt x="685" y="244"/>
                        </a:lnTo>
                        <a:lnTo>
                          <a:pt x="678" y="249"/>
                        </a:lnTo>
                        <a:lnTo>
                          <a:pt x="673" y="254"/>
                        </a:lnTo>
                        <a:lnTo>
                          <a:pt x="667" y="260"/>
                        </a:lnTo>
                        <a:lnTo>
                          <a:pt x="661" y="266"/>
                        </a:lnTo>
                        <a:lnTo>
                          <a:pt x="654" y="271"/>
                        </a:lnTo>
                        <a:lnTo>
                          <a:pt x="648" y="277"/>
                        </a:lnTo>
                        <a:lnTo>
                          <a:pt x="642" y="284"/>
                        </a:lnTo>
                        <a:lnTo>
                          <a:pt x="635" y="291"/>
                        </a:lnTo>
                        <a:lnTo>
                          <a:pt x="628" y="297"/>
                        </a:lnTo>
                        <a:lnTo>
                          <a:pt x="621" y="303"/>
                        </a:lnTo>
                        <a:lnTo>
                          <a:pt x="614" y="311"/>
                        </a:lnTo>
                        <a:lnTo>
                          <a:pt x="607" y="317"/>
                        </a:lnTo>
                        <a:lnTo>
                          <a:pt x="600" y="324"/>
                        </a:lnTo>
                        <a:lnTo>
                          <a:pt x="593" y="331"/>
                        </a:lnTo>
                        <a:lnTo>
                          <a:pt x="593" y="318"/>
                        </a:lnTo>
                        <a:lnTo>
                          <a:pt x="593" y="305"/>
                        </a:lnTo>
                        <a:lnTo>
                          <a:pt x="593" y="293"/>
                        </a:lnTo>
                        <a:lnTo>
                          <a:pt x="593" y="280"/>
                        </a:lnTo>
                        <a:lnTo>
                          <a:pt x="594" y="263"/>
                        </a:lnTo>
                        <a:lnTo>
                          <a:pt x="594" y="244"/>
                        </a:lnTo>
                        <a:lnTo>
                          <a:pt x="594" y="226"/>
                        </a:lnTo>
                        <a:lnTo>
                          <a:pt x="595" y="207"/>
                        </a:lnTo>
                        <a:lnTo>
                          <a:pt x="591" y="197"/>
                        </a:lnTo>
                        <a:lnTo>
                          <a:pt x="586" y="186"/>
                        </a:lnTo>
                        <a:lnTo>
                          <a:pt x="580" y="176"/>
                        </a:lnTo>
                        <a:lnTo>
                          <a:pt x="576" y="166"/>
                        </a:lnTo>
                        <a:lnTo>
                          <a:pt x="571" y="180"/>
                        </a:lnTo>
                        <a:lnTo>
                          <a:pt x="568" y="194"/>
                        </a:lnTo>
                        <a:lnTo>
                          <a:pt x="563" y="208"/>
                        </a:lnTo>
                        <a:lnTo>
                          <a:pt x="557" y="223"/>
                        </a:lnTo>
                        <a:lnTo>
                          <a:pt x="552" y="227"/>
                        </a:lnTo>
                        <a:lnTo>
                          <a:pt x="546" y="231"/>
                        </a:lnTo>
                        <a:lnTo>
                          <a:pt x="539" y="235"/>
                        </a:lnTo>
                        <a:lnTo>
                          <a:pt x="533" y="240"/>
                        </a:lnTo>
                        <a:lnTo>
                          <a:pt x="528" y="245"/>
                        </a:lnTo>
                        <a:lnTo>
                          <a:pt x="522" y="249"/>
                        </a:lnTo>
                        <a:lnTo>
                          <a:pt x="515" y="253"/>
                        </a:lnTo>
                        <a:lnTo>
                          <a:pt x="509" y="257"/>
                        </a:lnTo>
                        <a:lnTo>
                          <a:pt x="510" y="217"/>
                        </a:lnTo>
                        <a:lnTo>
                          <a:pt x="511" y="179"/>
                        </a:lnTo>
                        <a:lnTo>
                          <a:pt x="513" y="145"/>
                        </a:lnTo>
                        <a:lnTo>
                          <a:pt x="510" y="112"/>
                        </a:lnTo>
                        <a:lnTo>
                          <a:pt x="502" y="82"/>
                        </a:lnTo>
                        <a:lnTo>
                          <a:pt x="488" y="53"/>
                        </a:lnTo>
                        <a:lnTo>
                          <a:pt x="466" y="27"/>
                        </a:lnTo>
                        <a:lnTo>
                          <a:pt x="433" y="0"/>
                        </a:lnTo>
                        <a:lnTo>
                          <a:pt x="433" y="18"/>
                        </a:lnTo>
                        <a:lnTo>
                          <a:pt x="433" y="36"/>
                        </a:lnTo>
                        <a:lnTo>
                          <a:pt x="433" y="54"/>
                        </a:lnTo>
                        <a:lnTo>
                          <a:pt x="433" y="72"/>
                        </a:lnTo>
                        <a:lnTo>
                          <a:pt x="433" y="86"/>
                        </a:lnTo>
                        <a:lnTo>
                          <a:pt x="433" y="102"/>
                        </a:lnTo>
                        <a:lnTo>
                          <a:pt x="433" y="117"/>
                        </a:lnTo>
                        <a:lnTo>
                          <a:pt x="433" y="132"/>
                        </a:lnTo>
                        <a:lnTo>
                          <a:pt x="427" y="137"/>
                        </a:lnTo>
                        <a:lnTo>
                          <a:pt x="422" y="143"/>
                        </a:lnTo>
                        <a:lnTo>
                          <a:pt x="415" y="148"/>
                        </a:lnTo>
                        <a:lnTo>
                          <a:pt x="409" y="152"/>
                        </a:lnTo>
                        <a:lnTo>
                          <a:pt x="403" y="157"/>
                        </a:lnTo>
                        <a:lnTo>
                          <a:pt x="397" y="162"/>
                        </a:lnTo>
                        <a:lnTo>
                          <a:pt x="392" y="168"/>
                        </a:lnTo>
                        <a:lnTo>
                          <a:pt x="386" y="173"/>
                        </a:lnTo>
                        <a:lnTo>
                          <a:pt x="385" y="160"/>
                        </a:lnTo>
                        <a:lnTo>
                          <a:pt x="382" y="148"/>
                        </a:lnTo>
                        <a:lnTo>
                          <a:pt x="381" y="136"/>
                        </a:lnTo>
                        <a:lnTo>
                          <a:pt x="379" y="124"/>
                        </a:lnTo>
                        <a:lnTo>
                          <a:pt x="373" y="112"/>
                        </a:lnTo>
                        <a:lnTo>
                          <a:pt x="367" y="101"/>
                        </a:lnTo>
                        <a:lnTo>
                          <a:pt x="363" y="89"/>
                        </a:lnTo>
                        <a:lnTo>
                          <a:pt x="357" y="78"/>
                        </a:lnTo>
                        <a:lnTo>
                          <a:pt x="352" y="89"/>
                        </a:lnTo>
                        <a:lnTo>
                          <a:pt x="347" y="101"/>
                        </a:lnTo>
                        <a:lnTo>
                          <a:pt x="342" y="112"/>
                        </a:lnTo>
                        <a:lnTo>
                          <a:pt x="336" y="124"/>
                        </a:lnTo>
                        <a:lnTo>
                          <a:pt x="332" y="127"/>
                        </a:lnTo>
                        <a:lnTo>
                          <a:pt x="327" y="130"/>
                        </a:lnTo>
                        <a:lnTo>
                          <a:pt x="323" y="133"/>
                        </a:lnTo>
                        <a:lnTo>
                          <a:pt x="318" y="136"/>
                        </a:lnTo>
                        <a:lnTo>
                          <a:pt x="313" y="140"/>
                        </a:lnTo>
                        <a:lnTo>
                          <a:pt x="308" y="144"/>
                        </a:lnTo>
                        <a:lnTo>
                          <a:pt x="303" y="147"/>
                        </a:lnTo>
                        <a:lnTo>
                          <a:pt x="298" y="150"/>
                        </a:lnTo>
                        <a:lnTo>
                          <a:pt x="297" y="137"/>
                        </a:lnTo>
                        <a:lnTo>
                          <a:pt x="297" y="125"/>
                        </a:lnTo>
                        <a:lnTo>
                          <a:pt x="296" y="113"/>
                        </a:lnTo>
                        <a:lnTo>
                          <a:pt x="295" y="101"/>
                        </a:lnTo>
                        <a:lnTo>
                          <a:pt x="289" y="92"/>
                        </a:lnTo>
                        <a:lnTo>
                          <a:pt x="283" y="85"/>
                        </a:lnTo>
                        <a:lnTo>
                          <a:pt x="279" y="77"/>
                        </a:lnTo>
                        <a:lnTo>
                          <a:pt x="273" y="69"/>
                        </a:lnTo>
                        <a:lnTo>
                          <a:pt x="268" y="67"/>
                        </a:lnTo>
                        <a:lnTo>
                          <a:pt x="264" y="64"/>
                        </a:lnTo>
                        <a:lnTo>
                          <a:pt x="259" y="62"/>
                        </a:lnTo>
                        <a:lnTo>
                          <a:pt x="255" y="60"/>
                        </a:lnTo>
                        <a:lnTo>
                          <a:pt x="249" y="58"/>
                        </a:lnTo>
                        <a:lnTo>
                          <a:pt x="244" y="55"/>
                        </a:lnTo>
                        <a:lnTo>
                          <a:pt x="240" y="53"/>
                        </a:lnTo>
                        <a:lnTo>
                          <a:pt x="235" y="51"/>
                        </a:lnTo>
                        <a:close/>
                      </a:path>
                    </a:pathLst>
                  </a:cu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73"/>
                  <p:cNvSpPr/>
                  <p:nvPr/>
                </p:nvSpPr>
                <p:spPr>
                  <a:xfrm>
                    <a:off x="1176120" y="943200"/>
                    <a:ext cx="21816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613" h="431">
                        <a:moveTo>
                          <a:pt x="213" y="61"/>
                        </a:moveTo>
                        <a:lnTo>
                          <a:pt x="212" y="74"/>
                        </a:lnTo>
                        <a:lnTo>
                          <a:pt x="210" y="86"/>
                        </a:lnTo>
                        <a:lnTo>
                          <a:pt x="209" y="99"/>
                        </a:lnTo>
                        <a:lnTo>
                          <a:pt x="208" y="110"/>
                        </a:lnTo>
                        <a:lnTo>
                          <a:pt x="194" y="133"/>
                        </a:lnTo>
                        <a:lnTo>
                          <a:pt x="181" y="149"/>
                        </a:lnTo>
                        <a:lnTo>
                          <a:pt x="170" y="161"/>
                        </a:lnTo>
                        <a:lnTo>
                          <a:pt x="158" y="170"/>
                        </a:lnTo>
                        <a:lnTo>
                          <a:pt x="148" y="179"/>
                        </a:lnTo>
                        <a:lnTo>
                          <a:pt x="139" y="193"/>
                        </a:lnTo>
                        <a:lnTo>
                          <a:pt x="132" y="212"/>
                        </a:lnTo>
                        <a:lnTo>
                          <a:pt x="127" y="239"/>
                        </a:lnTo>
                        <a:lnTo>
                          <a:pt x="121" y="238"/>
                        </a:lnTo>
                        <a:lnTo>
                          <a:pt x="114" y="236"/>
                        </a:lnTo>
                        <a:lnTo>
                          <a:pt x="107" y="235"/>
                        </a:lnTo>
                        <a:lnTo>
                          <a:pt x="102" y="234"/>
                        </a:lnTo>
                        <a:lnTo>
                          <a:pt x="94" y="230"/>
                        </a:lnTo>
                        <a:lnTo>
                          <a:pt x="86" y="226"/>
                        </a:lnTo>
                        <a:lnTo>
                          <a:pt x="76" y="222"/>
                        </a:lnTo>
                        <a:lnTo>
                          <a:pt x="68" y="219"/>
                        </a:lnTo>
                        <a:lnTo>
                          <a:pt x="60" y="216"/>
                        </a:lnTo>
                        <a:lnTo>
                          <a:pt x="51" y="212"/>
                        </a:lnTo>
                        <a:lnTo>
                          <a:pt x="43" y="209"/>
                        </a:lnTo>
                        <a:lnTo>
                          <a:pt x="34" y="206"/>
                        </a:lnTo>
                        <a:lnTo>
                          <a:pt x="26" y="202"/>
                        </a:lnTo>
                        <a:lnTo>
                          <a:pt x="16" y="199"/>
                        </a:lnTo>
                        <a:lnTo>
                          <a:pt x="8" y="196"/>
                        </a:lnTo>
                        <a:lnTo>
                          <a:pt x="0" y="193"/>
                        </a:lnTo>
                        <a:lnTo>
                          <a:pt x="6" y="199"/>
                        </a:lnTo>
                        <a:lnTo>
                          <a:pt x="12" y="204"/>
                        </a:lnTo>
                        <a:lnTo>
                          <a:pt x="18" y="211"/>
                        </a:lnTo>
                        <a:lnTo>
                          <a:pt x="25" y="216"/>
                        </a:lnTo>
                        <a:lnTo>
                          <a:pt x="30" y="222"/>
                        </a:lnTo>
                        <a:lnTo>
                          <a:pt x="36" y="228"/>
                        </a:lnTo>
                        <a:lnTo>
                          <a:pt x="42" y="234"/>
                        </a:lnTo>
                        <a:lnTo>
                          <a:pt x="48" y="240"/>
                        </a:lnTo>
                        <a:lnTo>
                          <a:pt x="36" y="268"/>
                        </a:lnTo>
                        <a:lnTo>
                          <a:pt x="28" y="294"/>
                        </a:lnTo>
                        <a:lnTo>
                          <a:pt x="25" y="319"/>
                        </a:lnTo>
                        <a:lnTo>
                          <a:pt x="26" y="343"/>
                        </a:lnTo>
                        <a:lnTo>
                          <a:pt x="33" y="365"/>
                        </a:lnTo>
                        <a:lnTo>
                          <a:pt x="46" y="384"/>
                        </a:lnTo>
                        <a:lnTo>
                          <a:pt x="68" y="402"/>
                        </a:lnTo>
                        <a:lnTo>
                          <a:pt x="98" y="415"/>
                        </a:lnTo>
                        <a:lnTo>
                          <a:pt x="104" y="413"/>
                        </a:lnTo>
                        <a:lnTo>
                          <a:pt x="110" y="410"/>
                        </a:lnTo>
                        <a:lnTo>
                          <a:pt x="115" y="408"/>
                        </a:lnTo>
                        <a:lnTo>
                          <a:pt x="120" y="406"/>
                        </a:lnTo>
                        <a:lnTo>
                          <a:pt x="126" y="404"/>
                        </a:lnTo>
                        <a:lnTo>
                          <a:pt x="132" y="401"/>
                        </a:lnTo>
                        <a:lnTo>
                          <a:pt x="136" y="399"/>
                        </a:lnTo>
                        <a:lnTo>
                          <a:pt x="142" y="397"/>
                        </a:lnTo>
                        <a:lnTo>
                          <a:pt x="147" y="391"/>
                        </a:lnTo>
                        <a:lnTo>
                          <a:pt x="151" y="386"/>
                        </a:lnTo>
                        <a:lnTo>
                          <a:pt x="155" y="381"/>
                        </a:lnTo>
                        <a:lnTo>
                          <a:pt x="159" y="376"/>
                        </a:lnTo>
                        <a:lnTo>
                          <a:pt x="166" y="372"/>
                        </a:lnTo>
                        <a:lnTo>
                          <a:pt x="173" y="367"/>
                        </a:lnTo>
                        <a:lnTo>
                          <a:pt x="180" y="363"/>
                        </a:lnTo>
                        <a:lnTo>
                          <a:pt x="187" y="358"/>
                        </a:lnTo>
                        <a:lnTo>
                          <a:pt x="193" y="354"/>
                        </a:lnTo>
                        <a:lnTo>
                          <a:pt x="200" y="350"/>
                        </a:lnTo>
                        <a:lnTo>
                          <a:pt x="206" y="345"/>
                        </a:lnTo>
                        <a:lnTo>
                          <a:pt x="213" y="341"/>
                        </a:lnTo>
                        <a:lnTo>
                          <a:pt x="220" y="342"/>
                        </a:lnTo>
                        <a:lnTo>
                          <a:pt x="226" y="342"/>
                        </a:lnTo>
                        <a:lnTo>
                          <a:pt x="233" y="343"/>
                        </a:lnTo>
                        <a:lnTo>
                          <a:pt x="240" y="344"/>
                        </a:lnTo>
                        <a:lnTo>
                          <a:pt x="247" y="345"/>
                        </a:lnTo>
                        <a:lnTo>
                          <a:pt x="254" y="345"/>
                        </a:lnTo>
                        <a:lnTo>
                          <a:pt x="261" y="347"/>
                        </a:lnTo>
                        <a:lnTo>
                          <a:pt x="267" y="348"/>
                        </a:lnTo>
                        <a:lnTo>
                          <a:pt x="276" y="357"/>
                        </a:lnTo>
                        <a:lnTo>
                          <a:pt x="282" y="366"/>
                        </a:lnTo>
                        <a:lnTo>
                          <a:pt x="289" y="376"/>
                        </a:lnTo>
                        <a:lnTo>
                          <a:pt x="297" y="385"/>
                        </a:lnTo>
                        <a:lnTo>
                          <a:pt x="305" y="385"/>
                        </a:lnTo>
                        <a:lnTo>
                          <a:pt x="312" y="385"/>
                        </a:lnTo>
                        <a:lnTo>
                          <a:pt x="320" y="385"/>
                        </a:lnTo>
                        <a:lnTo>
                          <a:pt x="327" y="385"/>
                        </a:lnTo>
                        <a:lnTo>
                          <a:pt x="332" y="385"/>
                        </a:lnTo>
                        <a:lnTo>
                          <a:pt x="337" y="384"/>
                        </a:lnTo>
                        <a:lnTo>
                          <a:pt x="340" y="384"/>
                        </a:lnTo>
                        <a:lnTo>
                          <a:pt x="345" y="383"/>
                        </a:lnTo>
                        <a:lnTo>
                          <a:pt x="349" y="383"/>
                        </a:lnTo>
                        <a:lnTo>
                          <a:pt x="354" y="383"/>
                        </a:lnTo>
                        <a:lnTo>
                          <a:pt x="357" y="382"/>
                        </a:lnTo>
                        <a:lnTo>
                          <a:pt x="362" y="382"/>
                        </a:lnTo>
                        <a:lnTo>
                          <a:pt x="368" y="387"/>
                        </a:lnTo>
                        <a:lnTo>
                          <a:pt x="373" y="392"/>
                        </a:lnTo>
                        <a:lnTo>
                          <a:pt x="379" y="398"/>
                        </a:lnTo>
                        <a:lnTo>
                          <a:pt x="385" y="403"/>
                        </a:lnTo>
                        <a:lnTo>
                          <a:pt x="391" y="410"/>
                        </a:lnTo>
                        <a:lnTo>
                          <a:pt x="398" y="416"/>
                        </a:lnTo>
                        <a:lnTo>
                          <a:pt x="403" y="424"/>
                        </a:lnTo>
                        <a:lnTo>
                          <a:pt x="409" y="431"/>
                        </a:lnTo>
                        <a:lnTo>
                          <a:pt x="414" y="424"/>
                        </a:lnTo>
                        <a:lnTo>
                          <a:pt x="419" y="416"/>
                        </a:lnTo>
                        <a:lnTo>
                          <a:pt x="424" y="410"/>
                        </a:lnTo>
                        <a:lnTo>
                          <a:pt x="429" y="403"/>
                        </a:lnTo>
                        <a:lnTo>
                          <a:pt x="431" y="396"/>
                        </a:lnTo>
                        <a:lnTo>
                          <a:pt x="432" y="388"/>
                        </a:lnTo>
                        <a:lnTo>
                          <a:pt x="434" y="380"/>
                        </a:lnTo>
                        <a:lnTo>
                          <a:pt x="436" y="373"/>
                        </a:lnTo>
                        <a:lnTo>
                          <a:pt x="440" y="383"/>
                        </a:lnTo>
                        <a:lnTo>
                          <a:pt x="444" y="392"/>
                        </a:lnTo>
                        <a:lnTo>
                          <a:pt x="447" y="402"/>
                        </a:lnTo>
                        <a:lnTo>
                          <a:pt x="451" y="412"/>
                        </a:lnTo>
                        <a:lnTo>
                          <a:pt x="459" y="416"/>
                        </a:lnTo>
                        <a:lnTo>
                          <a:pt x="467" y="422"/>
                        </a:lnTo>
                        <a:lnTo>
                          <a:pt x="474" y="426"/>
                        </a:lnTo>
                        <a:lnTo>
                          <a:pt x="482" y="431"/>
                        </a:lnTo>
                        <a:lnTo>
                          <a:pt x="509" y="428"/>
                        </a:lnTo>
                        <a:lnTo>
                          <a:pt x="530" y="420"/>
                        </a:lnTo>
                        <a:lnTo>
                          <a:pt x="545" y="405"/>
                        </a:lnTo>
                        <a:lnTo>
                          <a:pt x="554" y="388"/>
                        </a:lnTo>
                        <a:lnTo>
                          <a:pt x="560" y="367"/>
                        </a:lnTo>
                        <a:lnTo>
                          <a:pt x="562" y="344"/>
                        </a:lnTo>
                        <a:lnTo>
                          <a:pt x="566" y="320"/>
                        </a:lnTo>
                        <a:lnTo>
                          <a:pt x="568" y="295"/>
                        </a:lnTo>
                        <a:lnTo>
                          <a:pt x="574" y="285"/>
                        </a:lnTo>
                        <a:lnTo>
                          <a:pt x="580" y="273"/>
                        </a:lnTo>
                        <a:lnTo>
                          <a:pt x="585" y="263"/>
                        </a:lnTo>
                        <a:lnTo>
                          <a:pt x="591" y="251"/>
                        </a:lnTo>
                        <a:lnTo>
                          <a:pt x="596" y="241"/>
                        </a:lnTo>
                        <a:lnTo>
                          <a:pt x="601" y="231"/>
                        </a:lnTo>
                        <a:lnTo>
                          <a:pt x="607" y="219"/>
                        </a:lnTo>
                        <a:lnTo>
                          <a:pt x="613" y="209"/>
                        </a:lnTo>
                        <a:lnTo>
                          <a:pt x="606" y="213"/>
                        </a:lnTo>
                        <a:lnTo>
                          <a:pt x="598" y="217"/>
                        </a:lnTo>
                        <a:lnTo>
                          <a:pt x="591" y="221"/>
                        </a:lnTo>
                        <a:lnTo>
                          <a:pt x="584" y="225"/>
                        </a:lnTo>
                        <a:lnTo>
                          <a:pt x="576" y="231"/>
                        </a:lnTo>
                        <a:lnTo>
                          <a:pt x="569" y="235"/>
                        </a:lnTo>
                        <a:lnTo>
                          <a:pt x="561" y="239"/>
                        </a:lnTo>
                        <a:lnTo>
                          <a:pt x="554" y="243"/>
                        </a:lnTo>
                        <a:lnTo>
                          <a:pt x="547" y="248"/>
                        </a:lnTo>
                        <a:lnTo>
                          <a:pt x="540" y="254"/>
                        </a:lnTo>
                        <a:lnTo>
                          <a:pt x="533" y="260"/>
                        </a:lnTo>
                        <a:lnTo>
                          <a:pt x="528" y="265"/>
                        </a:lnTo>
                        <a:lnTo>
                          <a:pt x="521" y="270"/>
                        </a:lnTo>
                        <a:lnTo>
                          <a:pt x="514" y="275"/>
                        </a:lnTo>
                        <a:lnTo>
                          <a:pt x="507" y="281"/>
                        </a:lnTo>
                        <a:lnTo>
                          <a:pt x="500" y="286"/>
                        </a:lnTo>
                        <a:lnTo>
                          <a:pt x="500" y="277"/>
                        </a:lnTo>
                        <a:lnTo>
                          <a:pt x="500" y="266"/>
                        </a:lnTo>
                        <a:lnTo>
                          <a:pt x="500" y="257"/>
                        </a:lnTo>
                        <a:lnTo>
                          <a:pt x="500" y="246"/>
                        </a:lnTo>
                        <a:lnTo>
                          <a:pt x="505" y="231"/>
                        </a:lnTo>
                        <a:lnTo>
                          <a:pt x="509" y="215"/>
                        </a:lnTo>
                        <a:lnTo>
                          <a:pt x="513" y="199"/>
                        </a:lnTo>
                        <a:lnTo>
                          <a:pt x="517" y="185"/>
                        </a:lnTo>
                        <a:lnTo>
                          <a:pt x="517" y="176"/>
                        </a:lnTo>
                        <a:lnTo>
                          <a:pt x="516" y="167"/>
                        </a:lnTo>
                        <a:lnTo>
                          <a:pt x="515" y="158"/>
                        </a:lnTo>
                        <a:lnTo>
                          <a:pt x="514" y="150"/>
                        </a:lnTo>
                        <a:lnTo>
                          <a:pt x="506" y="162"/>
                        </a:lnTo>
                        <a:lnTo>
                          <a:pt x="499" y="173"/>
                        </a:lnTo>
                        <a:lnTo>
                          <a:pt x="491" y="185"/>
                        </a:lnTo>
                        <a:lnTo>
                          <a:pt x="483" y="196"/>
                        </a:lnTo>
                        <a:lnTo>
                          <a:pt x="476" y="200"/>
                        </a:lnTo>
                        <a:lnTo>
                          <a:pt x="470" y="203"/>
                        </a:lnTo>
                        <a:lnTo>
                          <a:pt x="463" y="208"/>
                        </a:lnTo>
                        <a:lnTo>
                          <a:pt x="457" y="212"/>
                        </a:lnTo>
                        <a:lnTo>
                          <a:pt x="452" y="216"/>
                        </a:lnTo>
                        <a:lnTo>
                          <a:pt x="445" y="219"/>
                        </a:lnTo>
                        <a:lnTo>
                          <a:pt x="439" y="223"/>
                        </a:lnTo>
                        <a:lnTo>
                          <a:pt x="432" y="227"/>
                        </a:lnTo>
                        <a:lnTo>
                          <a:pt x="434" y="194"/>
                        </a:lnTo>
                        <a:lnTo>
                          <a:pt x="440" y="162"/>
                        </a:lnTo>
                        <a:lnTo>
                          <a:pt x="446" y="130"/>
                        </a:lnTo>
                        <a:lnTo>
                          <a:pt x="451" y="100"/>
                        </a:lnTo>
                        <a:lnTo>
                          <a:pt x="452" y="72"/>
                        </a:lnTo>
                        <a:lnTo>
                          <a:pt x="446" y="46"/>
                        </a:lnTo>
                        <a:lnTo>
                          <a:pt x="432" y="22"/>
                        </a:lnTo>
                        <a:lnTo>
                          <a:pt x="407" y="0"/>
                        </a:lnTo>
                        <a:lnTo>
                          <a:pt x="403" y="16"/>
                        </a:lnTo>
                        <a:lnTo>
                          <a:pt x="400" y="34"/>
                        </a:lnTo>
                        <a:lnTo>
                          <a:pt x="396" y="51"/>
                        </a:lnTo>
                        <a:lnTo>
                          <a:pt x="392" y="69"/>
                        </a:lnTo>
                        <a:lnTo>
                          <a:pt x="392" y="81"/>
                        </a:lnTo>
                        <a:lnTo>
                          <a:pt x="392" y="93"/>
                        </a:lnTo>
                        <a:lnTo>
                          <a:pt x="392" y="105"/>
                        </a:lnTo>
                        <a:lnTo>
                          <a:pt x="392" y="118"/>
                        </a:lnTo>
                        <a:lnTo>
                          <a:pt x="385" y="123"/>
                        </a:lnTo>
                        <a:lnTo>
                          <a:pt x="379" y="128"/>
                        </a:lnTo>
                        <a:lnTo>
                          <a:pt x="372" y="133"/>
                        </a:lnTo>
                        <a:lnTo>
                          <a:pt x="367" y="139"/>
                        </a:lnTo>
                        <a:lnTo>
                          <a:pt x="360" y="144"/>
                        </a:lnTo>
                        <a:lnTo>
                          <a:pt x="353" y="150"/>
                        </a:lnTo>
                        <a:lnTo>
                          <a:pt x="347" y="155"/>
                        </a:lnTo>
                        <a:lnTo>
                          <a:pt x="340" y="161"/>
                        </a:lnTo>
                        <a:lnTo>
                          <a:pt x="338" y="150"/>
                        </a:lnTo>
                        <a:lnTo>
                          <a:pt x="334" y="140"/>
                        </a:lnTo>
                        <a:lnTo>
                          <a:pt x="331" y="130"/>
                        </a:lnTo>
                        <a:lnTo>
                          <a:pt x="327" y="120"/>
                        </a:lnTo>
                        <a:lnTo>
                          <a:pt x="324" y="110"/>
                        </a:lnTo>
                        <a:lnTo>
                          <a:pt x="319" y="101"/>
                        </a:lnTo>
                        <a:lnTo>
                          <a:pt x="316" y="93"/>
                        </a:lnTo>
                        <a:lnTo>
                          <a:pt x="311" y="83"/>
                        </a:lnTo>
                        <a:lnTo>
                          <a:pt x="307" y="93"/>
                        </a:lnTo>
                        <a:lnTo>
                          <a:pt x="303" y="101"/>
                        </a:lnTo>
                        <a:lnTo>
                          <a:pt x="299" y="110"/>
                        </a:lnTo>
                        <a:lnTo>
                          <a:pt x="294" y="120"/>
                        </a:lnTo>
                        <a:lnTo>
                          <a:pt x="286" y="125"/>
                        </a:lnTo>
                        <a:lnTo>
                          <a:pt x="279" y="130"/>
                        </a:lnTo>
                        <a:lnTo>
                          <a:pt x="272" y="137"/>
                        </a:lnTo>
                        <a:lnTo>
                          <a:pt x="264" y="142"/>
                        </a:lnTo>
                        <a:lnTo>
                          <a:pt x="263" y="131"/>
                        </a:lnTo>
                        <a:lnTo>
                          <a:pt x="263" y="122"/>
                        </a:lnTo>
                        <a:lnTo>
                          <a:pt x="262" y="111"/>
                        </a:lnTo>
                        <a:lnTo>
                          <a:pt x="261" y="102"/>
                        </a:lnTo>
                        <a:lnTo>
                          <a:pt x="256" y="96"/>
                        </a:lnTo>
                        <a:lnTo>
                          <a:pt x="253" y="90"/>
                        </a:lnTo>
                        <a:lnTo>
                          <a:pt x="248" y="83"/>
                        </a:lnTo>
                        <a:lnTo>
                          <a:pt x="243" y="77"/>
                        </a:lnTo>
                        <a:lnTo>
                          <a:pt x="235" y="73"/>
                        </a:lnTo>
                        <a:lnTo>
                          <a:pt x="228" y="69"/>
                        </a:lnTo>
                        <a:lnTo>
                          <a:pt x="221" y="66"/>
                        </a:lnTo>
                        <a:lnTo>
                          <a:pt x="213" y="61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9" name="Group 74"/>
              <p:cNvGrpSpPr/>
              <p:nvPr/>
            </p:nvGrpSpPr>
            <p:grpSpPr>
              <a:xfrm>
                <a:off x="1026360" y="928800"/>
                <a:ext cx="327960" cy="339120"/>
                <a:chOff x="1026360" y="928800"/>
                <a:chExt cx="327960" cy="339120"/>
              </a:xfrm>
            </p:grpSpPr>
            <p:sp>
              <p:nvSpPr>
                <p:cNvPr id="240" name="AutoShape 75"/>
                <p:cNvSpPr/>
                <p:nvPr/>
              </p:nvSpPr>
              <p:spPr>
                <a:xfrm>
                  <a:off x="1026360" y="928800"/>
                  <a:ext cx="32796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6"/>
                <p:cNvSpPr/>
                <p:nvPr/>
              </p:nvSpPr>
              <p:spPr>
                <a:xfrm>
                  <a:off x="1209600" y="984600"/>
                  <a:ext cx="116280" cy="91800"/>
                </a:xfrm>
                <a:custGeom>
                  <a:avLst/>
                  <a:gdLst/>
                  <a:ahLst/>
                  <a:rect l="l" t="t" r="r" b="b"/>
                  <a:pathLst>
                    <a:path w="767" h="571">
                      <a:moveTo>
                        <a:pt x="266" y="42"/>
                      </a:moveTo>
                      <a:lnTo>
                        <a:pt x="262" y="59"/>
                      </a:lnTo>
                      <a:lnTo>
                        <a:pt x="259" y="77"/>
                      </a:lnTo>
                      <a:lnTo>
                        <a:pt x="254" y="93"/>
                      </a:lnTo>
                      <a:lnTo>
                        <a:pt x="251" y="111"/>
                      </a:lnTo>
                      <a:lnTo>
                        <a:pt x="234" y="142"/>
                      </a:lnTo>
                      <a:lnTo>
                        <a:pt x="216" y="163"/>
                      </a:lnTo>
                      <a:lnTo>
                        <a:pt x="201" y="177"/>
                      </a:lnTo>
                      <a:lnTo>
                        <a:pt x="188" y="186"/>
                      </a:lnTo>
                      <a:lnTo>
                        <a:pt x="175" y="198"/>
                      </a:lnTo>
                      <a:lnTo>
                        <a:pt x="163" y="214"/>
                      </a:lnTo>
                      <a:lnTo>
                        <a:pt x="155" y="240"/>
                      </a:lnTo>
                      <a:lnTo>
                        <a:pt x="148" y="277"/>
                      </a:lnTo>
                      <a:lnTo>
                        <a:pt x="144" y="278"/>
                      </a:lnTo>
                      <a:lnTo>
                        <a:pt x="139" y="279"/>
                      </a:lnTo>
                      <a:lnTo>
                        <a:pt x="133" y="280"/>
                      </a:lnTo>
                      <a:lnTo>
                        <a:pt x="129" y="281"/>
                      </a:lnTo>
                      <a:lnTo>
                        <a:pt x="124" y="282"/>
                      </a:lnTo>
                      <a:lnTo>
                        <a:pt x="119" y="282"/>
                      </a:lnTo>
                      <a:lnTo>
                        <a:pt x="114" y="283"/>
                      </a:lnTo>
                      <a:lnTo>
                        <a:pt x="109" y="284"/>
                      </a:lnTo>
                      <a:lnTo>
                        <a:pt x="104" y="281"/>
                      </a:lnTo>
                      <a:lnTo>
                        <a:pt x="98" y="279"/>
                      </a:lnTo>
                      <a:lnTo>
                        <a:pt x="91" y="276"/>
                      </a:lnTo>
                      <a:lnTo>
                        <a:pt x="85" y="274"/>
                      </a:lnTo>
                      <a:lnTo>
                        <a:pt x="79" y="272"/>
                      </a:lnTo>
                      <a:lnTo>
                        <a:pt x="74" y="269"/>
                      </a:lnTo>
                      <a:lnTo>
                        <a:pt x="67" y="267"/>
                      </a:lnTo>
                      <a:lnTo>
                        <a:pt x="61" y="264"/>
                      </a:lnTo>
                      <a:lnTo>
                        <a:pt x="56" y="258"/>
                      </a:lnTo>
                      <a:lnTo>
                        <a:pt x="52" y="253"/>
                      </a:lnTo>
                      <a:lnTo>
                        <a:pt x="47" y="249"/>
                      </a:lnTo>
                      <a:lnTo>
                        <a:pt x="43" y="244"/>
                      </a:lnTo>
                      <a:lnTo>
                        <a:pt x="37" y="240"/>
                      </a:lnTo>
                      <a:lnTo>
                        <a:pt x="32" y="234"/>
                      </a:lnTo>
                      <a:lnTo>
                        <a:pt x="28" y="230"/>
                      </a:lnTo>
                      <a:lnTo>
                        <a:pt x="23" y="225"/>
                      </a:lnTo>
                      <a:lnTo>
                        <a:pt x="25" y="242"/>
                      </a:lnTo>
                      <a:lnTo>
                        <a:pt x="29" y="259"/>
                      </a:lnTo>
                      <a:lnTo>
                        <a:pt x="31" y="276"/>
                      </a:lnTo>
                      <a:lnTo>
                        <a:pt x="33" y="294"/>
                      </a:lnTo>
                      <a:lnTo>
                        <a:pt x="17" y="333"/>
                      </a:lnTo>
                      <a:lnTo>
                        <a:pt x="6" y="370"/>
                      </a:lnTo>
                      <a:lnTo>
                        <a:pt x="0" y="406"/>
                      </a:lnTo>
                      <a:lnTo>
                        <a:pt x="2" y="439"/>
                      </a:lnTo>
                      <a:lnTo>
                        <a:pt x="11" y="469"/>
                      </a:lnTo>
                      <a:lnTo>
                        <a:pt x="31" y="498"/>
                      </a:lnTo>
                      <a:lnTo>
                        <a:pt x="62" y="522"/>
                      </a:lnTo>
                      <a:lnTo>
                        <a:pt x="105" y="541"/>
                      </a:lnTo>
                      <a:lnTo>
                        <a:pt x="112" y="538"/>
                      </a:lnTo>
                      <a:lnTo>
                        <a:pt x="120" y="534"/>
                      </a:lnTo>
                      <a:lnTo>
                        <a:pt x="127" y="531"/>
                      </a:lnTo>
                      <a:lnTo>
                        <a:pt x="135" y="528"/>
                      </a:lnTo>
                      <a:lnTo>
                        <a:pt x="143" y="525"/>
                      </a:lnTo>
                      <a:lnTo>
                        <a:pt x="151" y="522"/>
                      </a:lnTo>
                      <a:lnTo>
                        <a:pt x="158" y="518"/>
                      </a:lnTo>
                      <a:lnTo>
                        <a:pt x="166" y="515"/>
                      </a:lnTo>
                      <a:lnTo>
                        <a:pt x="171" y="508"/>
                      </a:lnTo>
                      <a:lnTo>
                        <a:pt x="178" y="500"/>
                      </a:lnTo>
                      <a:lnTo>
                        <a:pt x="184" y="492"/>
                      </a:lnTo>
                      <a:lnTo>
                        <a:pt x="190" y="485"/>
                      </a:lnTo>
                      <a:lnTo>
                        <a:pt x="199" y="479"/>
                      </a:lnTo>
                      <a:lnTo>
                        <a:pt x="209" y="472"/>
                      </a:lnTo>
                      <a:lnTo>
                        <a:pt x="219" y="466"/>
                      </a:lnTo>
                      <a:lnTo>
                        <a:pt x="228" y="461"/>
                      </a:lnTo>
                      <a:lnTo>
                        <a:pt x="237" y="455"/>
                      </a:lnTo>
                      <a:lnTo>
                        <a:pt x="247" y="448"/>
                      </a:lnTo>
                      <a:lnTo>
                        <a:pt x="257" y="443"/>
                      </a:lnTo>
                      <a:lnTo>
                        <a:pt x="266" y="437"/>
                      </a:lnTo>
                      <a:lnTo>
                        <a:pt x="275" y="438"/>
                      </a:lnTo>
                      <a:lnTo>
                        <a:pt x="285" y="439"/>
                      </a:lnTo>
                      <a:lnTo>
                        <a:pt x="295" y="440"/>
                      </a:lnTo>
                      <a:lnTo>
                        <a:pt x="304" y="441"/>
                      </a:lnTo>
                      <a:lnTo>
                        <a:pt x="313" y="442"/>
                      </a:lnTo>
                      <a:lnTo>
                        <a:pt x="323" y="443"/>
                      </a:lnTo>
                      <a:lnTo>
                        <a:pt x="333" y="444"/>
                      </a:lnTo>
                      <a:lnTo>
                        <a:pt x="342" y="445"/>
                      </a:lnTo>
                      <a:lnTo>
                        <a:pt x="348" y="452"/>
                      </a:lnTo>
                      <a:lnTo>
                        <a:pt x="353" y="459"/>
                      </a:lnTo>
                      <a:lnTo>
                        <a:pt x="359" y="465"/>
                      </a:lnTo>
                      <a:lnTo>
                        <a:pt x="364" y="471"/>
                      </a:lnTo>
                      <a:lnTo>
                        <a:pt x="370" y="478"/>
                      </a:lnTo>
                      <a:lnTo>
                        <a:pt x="374" y="484"/>
                      </a:lnTo>
                      <a:lnTo>
                        <a:pt x="380" y="491"/>
                      </a:lnTo>
                      <a:lnTo>
                        <a:pt x="385" y="498"/>
                      </a:lnTo>
                      <a:lnTo>
                        <a:pt x="390" y="498"/>
                      </a:lnTo>
                      <a:lnTo>
                        <a:pt x="396" y="498"/>
                      </a:lnTo>
                      <a:lnTo>
                        <a:pt x="401" y="498"/>
                      </a:lnTo>
                      <a:lnTo>
                        <a:pt x="406" y="498"/>
                      </a:lnTo>
                      <a:lnTo>
                        <a:pt x="412" y="498"/>
                      </a:lnTo>
                      <a:lnTo>
                        <a:pt x="417" y="498"/>
                      </a:lnTo>
                      <a:lnTo>
                        <a:pt x="423" y="498"/>
                      </a:lnTo>
                      <a:lnTo>
                        <a:pt x="428" y="498"/>
                      </a:lnTo>
                      <a:lnTo>
                        <a:pt x="434" y="498"/>
                      </a:lnTo>
                      <a:lnTo>
                        <a:pt x="440" y="496"/>
                      </a:lnTo>
                      <a:lnTo>
                        <a:pt x="446" y="496"/>
                      </a:lnTo>
                      <a:lnTo>
                        <a:pt x="452" y="495"/>
                      </a:lnTo>
                      <a:lnTo>
                        <a:pt x="458" y="494"/>
                      </a:lnTo>
                      <a:lnTo>
                        <a:pt x="464" y="494"/>
                      </a:lnTo>
                      <a:lnTo>
                        <a:pt x="470" y="493"/>
                      </a:lnTo>
                      <a:lnTo>
                        <a:pt x="475" y="493"/>
                      </a:lnTo>
                      <a:lnTo>
                        <a:pt x="484" y="501"/>
                      </a:lnTo>
                      <a:lnTo>
                        <a:pt x="493" y="508"/>
                      </a:lnTo>
                      <a:lnTo>
                        <a:pt x="501" y="516"/>
                      </a:lnTo>
                      <a:lnTo>
                        <a:pt x="509" y="524"/>
                      </a:lnTo>
                      <a:lnTo>
                        <a:pt x="517" y="533"/>
                      </a:lnTo>
                      <a:lnTo>
                        <a:pt x="525" y="542"/>
                      </a:lnTo>
                      <a:lnTo>
                        <a:pt x="534" y="553"/>
                      </a:lnTo>
                      <a:lnTo>
                        <a:pt x="542" y="562"/>
                      </a:lnTo>
                      <a:lnTo>
                        <a:pt x="549" y="553"/>
                      </a:lnTo>
                      <a:lnTo>
                        <a:pt x="556" y="542"/>
                      </a:lnTo>
                      <a:lnTo>
                        <a:pt x="563" y="533"/>
                      </a:lnTo>
                      <a:lnTo>
                        <a:pt x="571" y="524"/>
                      </a:lnTo>
                      <a:lnTo>
                        <a:pt x="573" y="512"/>
                      </a:lnTo>
                      <a:lnTo>
                        <a:pt x="576" y="502"/>
                      </a:lnTo>
                      <a:lnTo>
                        <a:pt x="578" y="490"/>
                      </a:lnTo>
                      <a:lnTo>
                        <a:pt x="580" y="480"/>
                      </a:lnTo>
                      <a:lnTo>
                        <a:pt x="586" y="495"/>
                      </a:lnTo>
                      <a:lnTo>
                        <a:pt x="592" y="511"/>
                      </a:lnTo>
                      <a:lnTo>
                        <a:pt x="598" y="527"/>
                      </a:lnTo>
                      <a:lnTo>
                        <a:pt x="603" y="541"/>
                      </a:lnTo>
                      <a:lnTo>
                        <a:pt x="609" y="545"/>
                      </a:lnTo>
                      <a:lnTo>
                        <a:pt x="615" y="549"/>
                      </a:lnTo>
                      <a:lnTo>
                        <a:pt x="621" y="552"/>
                      </a:lnTo>
                      <a:lnTo>
                        <a:pt x="626" y="556"/>
                      </a:lnTo>
                      <a:lnTo>
                        <a:pt x="631" y="559"/>
                      </a:lnTo>
                      <a:lnTo>
                        <a:pt x="637" y="563"/>
                      </a:lnTo>
                      <a:lnTo>
                        <a:pt x="642" y="566"/>
                      </a:lnTo>
                      <a:lnTo>
                        <a:pt x="648" y="571"/>
                      </a:lnTo>
                      <a:lnTo>
                        <a:pt x="687" y="565"/>
                      </a:lnTo>
                      <a:lnTo>
                        <a:pt x="716" y="553"/>
                      </a:lnTo>
                      <a:lnTo>
                        <a:pt x="736" y="532"/>
                      </a:lnTo>
                      <a:lnTo>
                        <a:pt x="748" y="506"/>
                      </a:lnTo>
                      <a:lnTo>
                        <a:pt x="755" y="476"/>
                      </a:lnTo>
                      <a:lnTo>
                        <a:pt x="759" y="441"/>
                      </a:lnTo>
                      <a:lnTo>
                        <a:pt x="762" y="407"/>
                      </a:lnTo>
                      <a:lnTo>
                        <a:pt x="766" y="371"/>
                      </a:lnTo>
                      <a:lnTo>
                        <a:pt x="767" y="341"/>
                      </a:lnTo>
                      <a:lnTo>
                        <a:pt x="767" y="310"/>
                      </a:lnTo>
                      <a:lnTo>
                        <a:pt x="767" y="278"/>
                      </a:lnTo>
                      <a:lnTo>
                        <a:pt x="767" y="247"/>
                      </a:lnTo>
                      <a:lnTo>
                        <a:pt x="762" y="253"/>
                      </a:lnTo>
                      <a:lnTo>
                        <a:pt x="758" y="259"/>
                      </a:lnTo>
                      <a:lnTo>
                        <a:pt x="753" y="266"/>
                      </a:lnTo>
                      <a:lnTo>
                        <a:pt x="748" y="272"/>
                      </a:lnTo>
                      <a:lnTo>
                        <a:pt x="743" y="278"/>
                      </a:lnTo>
                      <a:lnTo>
                        <a:pt x="738" y="284"/>
                      </a:lnTo>
                      <a:lnTo>
                        <a:pt x="732" y="292"/>
                      </a:lnTo>
                      <a:lnTo>
                        <a:pt x="728" y="298"/>
                      </a:lnTo>
                      <a:lnTo>
                        <a:pt x="721" y="305"/>
                      </a:lnTo>
                      <a:lnTo>
                        <a:pt x="713" y="313"/>
                      </a:lnTo>
                      <a:lnTo>
                        <a:pt x="706" y="321"/>
                      </a:lnTo>
                      <a:lnTo>
                        <a:pt x="699" y="328"/>
                      </a:lnTo>
                      <a:lnTo>
                        <a:pt x="692" y="336"/>
                      </a:lnTo>
                      <a:lnTo>
                        <a:pt x="685" y="344"/>
                      </a:lnTo>
                      <a:lnTo>
                        <a:pt x="677" y="351"/>
                      </a:lnTo>
                      <a:lnTo>
                        <a:pt x="670" y="359"/>
                      </a:lnTo>
                      <a:lnTo>
                        <a:pt x="670" y="344"/>
                      </a:lnTo>
                      <a:lnTo>
                        <a:pt x="670" y="330"/>
                      </a:lnTo>
                      <a:lnTo>
                        <a:pt x="670" y="316"/>
                      </a:lnTo>
                      <a:lnTo>
                        <a:pt x="670" y="302"/>
                      </a:lnTo>
                      <a:lnTo>
                        <a:pt x="669" y="282"/>
                      </a:lnTo>
                      <a:lnTo>
                        <a:pt x="668" y="261"/>
                      </a:lnTo>
                      <a:lnTo>
                        <a:pt x="665" y="242"/>
                      </a:lnTo>
                      <a:lnTo>
                        <a:pt x="664" y="222"/>
                      </a:lnTo>
                      <a:lnTo>
                        <a:pt x="656" y="210"/>
                      </a:lnTo>
                      <a:lnTo>
                        <a:pt x="649" y="198"/>
                      </a:lnTo>
                      <a:lnTo>
                        <a:pt x="641" y="186"/>
                      </a:lnTo>
                      <a:lnTo>
                        <a:pt x="633" y="175"/>
                      </a:lnTo>
                      <a:lnTo>
                        <a:pt x="631" y="190"/>
                      </a:lnTo>
                      <a:lnTo>
                        <a:pt x="629" y="207"/>
                      </a:lnTo>
                      <a:lnTo>
                        <a:pt x="626" y="223"/>
                      </a:lnTo>
                      <a:lnTo>
                        <a:pt x="624" y="240"/>
                      </a:lnTo>
                      <a:lnTo>
                        <a:pt x="618" y="244"/>
                      </a:lnTo>
                      <a:lnTo>
                        <a:pt x="613" y="249"/>
                      </a:lnTo>
                      <a:lnTo>
                        <a:pt x="606" y="253"/>
                      </a:lnTo>
                      <a:lnTo>
                        <a:pt x="600" y="257"/>
                      </a:lnTo>
                      <a:lnTo>
                        <a:pt x="594" y="263"/>
                      </a:lnTo>
                      <a:lnTo>
                        <a:pt x="588" y="267"/>
                      </a:lnTo>
                      <a:lnTo>
                        <a:pt x="581" y="272"/>
                      </a:lnTo>
                      <a:lnTo>
                        <a:pt x="576" y="276"/>
                      </a:lnTo>
                      <a:lnTo>
                        <a:pt x="576" y="231"/>
                      </a:lnTo>
                      <a:lnTo>
                        <a:pt x="575" y="190"/>
                      </a:lnTo>
                      <a:lnTo>
                        <a:pt x="572" y="153"/>
                      </a:lnTo>
                      <a:lnTo>
                        <a:pt x="565" y="119"/>
                      </a:lnTo>
                      <a:lnTo>
                        <a:pt x="553" y="87"/>
                      </a:lnTo>
                      <a:lnTo>
                        <a:pt x="532" y="58"/>
                      </a:lnTo>
                      <a:lnTo>
                        <a:pt x="504" y="29"/>
                      </a:lnTo>
                      <a:lnTo>
                        <a:pt x="465" y="0"/>
                      </a:lnTo>
                      <a:lnTo>
                        <a:pt x="469" y="18"/>
                      </a:lnTo>
                      <a:lnTo>
                        <a:pt x="471" y="36"/>
                      </a:lnTo>
                      <a:lnTo>
                        <a:pt x="474" y="54"/>
                      </a:lnTo>
                      <a:lnTo>
                        <a:pt x="477" y="71"/>
                      </a:lnTo>
                      <a:lnTo>
                        <a:pt x="477" y="89"/>
                      </a:lnTo>
                      <a:lnTo>
                        <a:pt x="477" y="106"/>
                      </a:lnTo>
                      <a:lnTo>
                        <a:pt x="477" y="124"/>
                      </a:lnTo>
                      <a:lnTo>
                        <a:pt x="477" y="141"/>
                      </a:lnTo>
                      <a:lnTo>
                        <a:pt x="471" y="147"/>
                      </a:lnTo>
                      <a:lnTo>
                        <a:pt x="465" y="151"/>
                      </a:lnTo>
                      <a:lnTo>
                        <a:pt x="459" y="156"/>
                      </a:lnTo>
                      <a:lnTo>
                        <a:pt x="455" y="161"/>
                      </a:lnTo>
                      <a:lnTo>
                        <a:pt x="449" y="165"/>
                      </a:lnTo>
                      <a:lnTo>
                        <a:pt x="443" y="171"/>
                      </a:lnTo>
                      <a:lnTo>
                        <a:pt x="437" y="176"/>
                      </a:lnTo>
                      <a:lnTo>
                        <a:pt x="432" y="181"/>
                      </a:lnTo>
                      <a:lnTo>
                        <a:pt x="431" y="166"/>
                      </a:lnTo>
                      <a:lnTo>
                        <a:pt x="431" y="153"/>
                      </a:lnTo>
                      <a:lnTo>
                        <a:pt x="429" y="138"/>
                      </a:lnTo>
                      <a:lnTo>
                        <a:pt x="428" y="125"/>
                      </a:lnTo>
                      <a:lnTo>
                        <a:pt x="423" y="111"/>
                      </a:lnTo>
                      <a:lnTo>
                        <a:pt x="417" y="99"/>
                      </a:lnTo>
                      <a:lnTo>
                        <a:pt x="410" y="85"/>
                      </a:lnTo>
                      <a:lnTo>
                        <a:pt x="404" y="72"/>
                      </a:lnTo>
                      <a:lnTo>
                        <a:pt x="398" y="85"/>
                      </a:lnTo>
                      <a:lnTo>
                        <a:pt x="393" y="99"/>
                      </a:lnTo>
                      <a:lnTo>
                        <a:pt x="386" y="111"/>
                      </a:lnTo>
                      <a:lnTo>
                        <a:pt x="380" y="125"/>
                      </a:lnTo>
                      <a:lnTo>
                        <a:pt x="374" y="128"/>
                      </a:lnTo>
                      <a:lnTo>
                        <a:pt x="370" y="132"/>
                      </a:lnTo>
                      <a:lnTo>
                        <a:pt x="364" y="135"/>
                      </a:lnTo>
                      <a:lnTo>
                        <a:pt x="359" y="139"/>
                      </a:lnTo>
                      <a:lnTo>
                        <a:pt x="353" y="143"/>
                      </a:lnTo>
                      <a:lnTo>
                        <a:pt x="348" y="148"/>
                      </a:lnTo>
                      <a:lnTo>
                        <a:pt x="343" y="151"/>
                      </a:lnTo>
                      <a:lnTo>
                        <a:pt x="337" y="155"/>
                      </a:lnTo>
                      <a:lnTo>
                        <a:pt x="336" y="140"/>
                      </a:lnTo>
                      <a:lnTo>
                        <a:pt x="335" y="127"/>
                      </a:lnTo>
                      <a:lnTo>
                        <a:pt x="334" y="112"/>
                      </a:lnTo>
                      <a:lnTo>
                        <a:pt x="333" y="99"/>
                      </a:lnTo>
                      <a:lnTo>
                        <a:pt x="327" y="90"/>
                      </a:lnTo>
                      <a:lnTo>
                        <a:pt x="321" y="81"/>
                      </a:lnTo>
                      <a:lnTo>
                        <a:pt x="314" y="72"/>
                      </a:lnTo>
                      <a:lnTo>
                        <a:pt x="309" y="63"/>
                      </a:lnTo>
                      <a:lnTo>
                        <a:pt x="303" y="61"/>
                      </a:lnTo>
                      <a:lnTo>
                        <a:pt x="298" y="58"/>
                      </a:lnTo>
                      <a:lnTo>
                        <a:pt x="292" y="56"/>
                      </a:lnTo>
                      <a:lnTo>
                        <a:pt x="288" y="53"/>
                      </a:lnTo>
                      <a:lnTo>
                        <a:pt x="282" y="50"/>
                      </a:lnTo>
                      <a:lnTo>
                        <a:pt x="276" y="47"/>
                      </a:lnTo>
                      <a:lnTo>
                        <a:pt x="272" y="45"/>
                      </a:lnTo>
                      <a:lnTo>
                        <a:pt x="266" y="42"/>
                      </a:lnTo>
                      <a:close/>
                    </a:path>
                  </a:pathLst>
                </a:custGeom>
                <a:solidFill>
                  <a:srgbClr val="d8a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77"/>
                <p:cNvSpPr/>
                <p:nvPr/>
              </p:nvSpPr>
              <p:spPr>
                <a:xfrm>
                  <a:off x="1213200" y="988200"/>
                  <a:ext cx="111600" cy="87480"/>
                </a:xfrm>
                <a:custGeom>
                  <a:avLst/>
                  <a:gdLst/>
                  <a:ahLst/>
                  <a:rect l="l" t="t" r="r" b="b"/>
                  <a:pathLst>
                    <a:path w="733" h="543">
                      <a:moveTo>
                        <a:pt x="251" y="46"/>
                      </a:moveTo>
                      <a:lnTo>
                        <a:pt x="248" y="63"/>
                      </a:lnTo>
                      <a:lnTo>
                        <a:pt x="244" y="79"/>
                      </a:lnTo>
                      <a:lnTo>
                        <a:pt x="241" y="95"/>
                      </a:lnTo>
                      <a:lnTo>
                        <a:pt x="238" y="111"/>
                      </a:lnTo>
                      <a:lnTo>
                        <a:pt x="221" y="141"/>
                      </a:lnTo>
                      <a:lnTo>
                        <a:pt x="205" y="161"/>
                      </a:lnTo>
                      <a:lnTo>
                        <a:pt x="190" y="174"/>
                      </a:lnTo>
                      <a:lnTo>
                        <a:pt x="177" y="184"/>
                      </a:lnTo>
                      <a:lnTo>
                        <a:pt x="165" y="195"/>
                      </a:lnTo>
                      <a:lnTo>
                        <a:pt x="154" y="210"/>
                      </a:lnTo>
                      <a:lnTo>
                        <a:pt x="146" y="234"/>
                      </a:lnTo>
                      <a:lnTo>
                        <a:pt x="140" y="270"/>
                      </a:lnTo>
                      <a:lnTo>
                        <a:pt x="136" y="271"/>
                      </a:lnTo>
                      <a:lnTo>
                        <a:pt x="131" y="271"/>
                      </a:lnTo>
                      <a:lnTo>
                        <a:pt x="127" y="272"/>
                      </a:lnTo>
                      <a:lnTo>
                        <a:pt x="122" y="272"/>
                      </a:lnTo>
                      <a:lnTo>
                        <a:pt x="117" y="273"/>
                      </a:lnTo>
                      <a:lnTo>
                        <a:pt x="113" y="274"/>
                      </a:lnTo>
                      <a:lnTo>
                        <a:pt x="108" y="274"/>
                      </a:lnTo>
                      <a:lnTo>
                        <a:pt x="104" y="275"/>
                      </a:lnTo>
                      <a:lnTo>
                        <a:pt x="98" y="272"/>
                      </a:lnTo>
                      <a:lnTo>
                        <a:pt x="92" y="270"/>
                      </a:lnTo>
                      <a:lnTo>
                        <a:pt x="86" y="267"/>
                      </a:lnTo>
                      <a:lnTo>
                        <a:pt x="82" y="265"/>
                      </a:lnTo>
                      <a:lnTo>
                        <a:pt x="76" y="263"/>
                      </a:lnTo>
                      <a:lnTo>
                        <a:pt x="70" y="259"/>
                      </a:lnTo>
                      <a:lnTo>
                        <a:pt x="64" y="257"/>
                      </a:lnTo>
                      <a:lnTo>
                        <a:pt x="59" y="254"/>
                      </a:lnTo>
                      <a:lnTo>
                        <a:pt x="53" y="250"/>
                      </a:lnTo>
                      <a:lnTo>
                        <a:pt x="47" y="246"/>
                      </a:lnTo>
                      <a:lnTo>
                        <a:pt x="41" y="242"/>
                      </a:lnTo>
                      <a:lnTo>
                        <a:pt x="37" y="236"/>
                      </a:lnTo>
                      <a:lnTo>
                        <a:pt x="31" y="232"/>
                      </a:lnTo>
                      <a:lnTo>
                        <a:pt x="25" y="228"/>
                      </a:lnTo>
                      <a:lnTo>
                        <a:pt x="20" y="223"/>
                      </a:lnTo>
                      <a:lnTo>
                        <a:pt x="14" y="219"/>
                      </a:lnTo>
                      <a:lnTo>
                        <a:pt x="18" y="235"/>
                      </a:lnTo>
                      <a:lnTo>
                        <a:pt x="23" y="251"/>
                      </a:lnTo>
                      <a:lnTo>
                        <a:pt x="26" y="267"/>
                      </a:lnTo>
                      <a:lnTo>
                        <a:pt x="31" y="283"/>
                      </a:lnTo>
                      <a:lnTo>
                        <a:pt x="16" y="320"/>
                      </a:lnTo>
                      <a:lnTo>
                        <a:pt x="6" y="356"/>
                      </a:lnTo>
                      <a:lnTo>
                        <a:pt x="0" y="389"/>
                      </a:lnTo>
                      <a:lnTo>
                        <a:pt x="2" y="420"/>
                      </a:lnTo>
                      <a:lnTo>
                        <a:pt x="11" y="450"/>
                      </a:lnTo>
                      <a:lnTo>
                        <a:pt x="30" y="476"/>
                      </a:lnTo>
                      <a:lnTo>
                        <a:pt x="59" y="498"/>
                      </a:lnTo>
                      <a:lnTo>
                        <a:pt x="99" y="516"/>
                      </a:lnTo>
                      <a:lnTo>
                        <a:pt x="106" y="513"/>
                      </a:lnTo>
                      <a:lnTo>
                        <a:pt x="114" y="510"/>
                      </a:lnTo>
                      <a:lnTo>
                        <a:pt x="121" y="507"/>
                      </a:lnTo>
                      <a:lnTo>
                        <a:pt x="128" y="504"/>
                      </a:lnTo>
                      <a:lnTo>
                        <a:pt x="136" y="501"/>
                      </a:lnTo>
                      <a:lnTo>
                        <a:pt x="143" y="498"/>
                      </a:lnTo>
                      <a:lnTo>
                        <a:pt x="150" y="494"/>
                      </a:lnTo>
                      <a:lnTo>
                        <a:pt x="157" y="491"/>
                      </a:lnTo>
                      <a:lnTo>
                        <a:pt x="162" y="484"/>
                      </a:lnTo>
                      <a:lnTo>
                        <a:pt x="168" y="477"/>
                      </a:lnTo>
                      <a:lnTo>
                        <a:pt x="174" y="470"/>
                      </a:lnTo>
                      <a:lnTo>
                        <a:pt x="180" y="463"/>
                      </a:lnTo>
                      <a:lnTo>
                        <a:pt x="189" y="458"/>
                      </a:lnTo>
                      <a:lnTo>
                        <a:pt x="198" y="452"/>
                      </a:lnTo>
                      <a:lnTo>
                        <a:pt x="207" y="446"/>
                      </a:lnTo>
                      <a:lnTo>
                        <a:pt x="216" y="440"/>
                      </a:lnTo>
                      <a:lnTo>
                        <a:pt x="224" y="435"/>
                      </a:lnTo>
                      <a:lnTo>
                        <a:pt x="234" y="430"/>
                      </a:lnTo>
                      <a:lnTo>
                        <a:pt x="242" y="423"/>
                      </a:lnTo>
                      <a:lnTo>
                        <a:pt x="251" y="418"/>
                      </a:lnTo>
                      <a:lnTo>
                        <a:pt x="260" y="419"/>
                      </a:lnTo>
                      <a:lnTo>
                        <a:pt x="269" y="420"/>
                      </a:lnTo>
                      <a:lnTo>
                        <a:pt x="279" y="421"/>
                      </a:lnTo>
                      <a:lnTo>
                        <a:pt x="288" y="422"/>
                      </a:lnTo>
                      <a:lnTo>
                        <a:pt x="297" y="423"/>
                      </a:lnTo>
                      <a:lnTo>
                        <a:pt x="305" y="424"/>
                      </a:lnTo>
                      <a:lnTo>
                        <a:pt x="314" y="426"/>
                      </a:lnTo>
                      <a:lnTo>
                        <a:pt x="322" y="427"/>
                      </a:lnTo>
                      <a:lnTo>
                        <a:pt x="328" y="433"/>
                      </a:lnTo>
                      <a:lnTo>
                        <a:pt x="333" y="438"/>
                      </a:lnTo>
                      <a:lnTo>
                        <a:pt x="338" y="444"/>
                      </a:lnTo>
                      <a:lnTo>
                        <a:pt x="343" y="451"/>
                      </a:lnTo>
                      <a:lnTo>
                        <a:pt x="349" y="457"/>
                      </a:lnTo>
                      <a:lnTo>
                        <a:pt x="353" y="463"/>
                      </a:lnTo>
                      <a:lnTo>
                        <a:pt x="359" y="469"/>
                      </a:lnTo>
                      <a:lnTo>
                        <a:pt x="364" y="476"/>
                      </a:lnTo>
                      <a:lnTo>
                        <a:pt x="368" y="476"/>
                      </a:lnTo>
                      <a:lnTo>
                        <a:pt x="373" y="476"/>
                      </a:lnTo>
                      <a:lnTo>
                        <a:pt x="379" y="476"/>
                      </a:lnTo>
                      <a:lnTo>
                        <a:pt x="383" y="476"/>
                      </a:lnTo>
                      <a:lnTo>
                        <a:pt x="389" y="476"/>
                      </a:lnTo>
                      <a:lnTo>
                        <a:pt x="394" y="476"/>
                      </a:lnTo>
                      <a:lnTo>
                        <a:pt x="400" y="476"/>
                      </a:lnTo>
                      <a:lnTo>
                        <a:pt x="404" y="476"/>
                      </a:lnTo>
                      <a:lnTo>
                        <a:pt x="410" y="475"/>
                      </a:lnTo>
                      <a:lnTo>
                        <a:pt x="416" y="475"/>
                      </a:lnTo>
                      <a:lnTo>
                        <a:pt x="421" y="474"/>
                      </a:lnTo>
                      <a:lnTo>
                        <a:pt x="426" y="474"/>
                      </a:lnTo>
                      <a:lnTo>
                        <a:pt x="432" y="473"/>
                      </a:lnTo>
                      <a:lnTo>
                        <a:pt x="438" y="473"/>
                      </a:lnTo>
                      <a:lnTo>
                        <a:pt x="442" y="471"/>
                      </a:lnTo>
                      <a:lnTo>
                        <a:pt x="448" y="471"/>
                      </a:lnTo>
                      <a:lnTo>
                        <a:pt x="456" y="479"/>
                      </a:lnTo>
                      <a:lnTo>
                        <a:pt x="464" y="485"/>
                      </a:lnTo>
                      <a:lnTo>
                        <a:pt x="472" y="492"/>
                      </a:lnTo>
                      <a:lnTo>
                        <a:pt x="480" y="500"/>
                      </a:lnTo>
                      <a:lnTo>
                        <a:pt x="488" y="509"/>
                      </a:lnTo>
                      <a:lnTo>
                        <a:pt x="496" y="518"/>
                      </a:lnTo>
                      <a:lnTo>
                        <a:pt x="503" y="528"/>
                      </a:lnTo>
                      <a:lnTo>
                        <a:pt x="511" y="536"/>
                      </a:lnTo>
                      <a:lnTo>
                        <a:pt x="518" y="528"/>
                      </a:lnTo>
                      <a:lnTo>
                        <a:pt x="525" y="518"/>
                      </a:lnTo>
                      <a:lnTo>
                        <a:pt x="532" y="509"/>
                      </a:lnTo>
                      <a:lnTo>
                        <a:pt x="538" y="500"/>
                      </a:lnTo>
                      <a:lnTo>
                        <a:pt x="540" y="489"/>
                      </a:lnTo>
                      <a:lnTo>
                        <a:pt x="542" y="479"/>
                      </a:lnTo>
                      <a:lnTo>
                        <a:pt x="545" y="469"/>
                      </a:lnTo>
                      <a:lnTo>
                        <a:pt x="547" y="459"/>
                      </a:lnTo>
                      <a:lnTo>
                        <a:pt x="553" y="474"/>
                      </a:lnTo>
                      <a:lnTo>
                        <a:pt x="557" y="487"/>
                      </a:lnTo>
                      <a:lnTo>
                        <a:pt x="563" y="502"/>
                      </a:lnTo>
                      <a:lnTo>
                        <a:pt x="569" y="516"/>
                      </a:lnTo>
                      <a:lnTo>
                        <a:pt x="575" y="520"/>
                      </a:lnTo>
                      <a:lnTo>
                        <a:pt x="579" y="523"/>
                      </a:lnTo>
                      <a:lnTo>
                        <a:pt x="585" y="526"/>
                      </a:lnTo>
                      <a:lnTo>
                        <a:pt x="590" y="529"/>
                      </a:lnTo>
                      <a:lnTo>
                        <a:pt x="595" y="533"/>
                      </a:lnTo>
                      <a:lnTo>
                        <a:pt x="601" y="536"/>
                      </a:lnTo>
                      <a:lnTo>
                        <a:pt x="607" y="539"/>
                      </a:lnTo>
                      <a:lnTo>
                        <a:pt x="613" y="543"/>
                      </a:lnTo>
                      <a:lnTo>
                        <a:pt x="649" y="538"/>
                      </a:lnTo>
                      <a:lnTo>
                        <a:pt x="676" y="526"/>
                      </a:lnTo>
                      <a:lnTo>
                        <a:pt x="693" y="507"/>
                      </a:lnTo>
                      <a:lnTo>
                        <a:pt x="706" y="482"/>
                      </a:lnTo>
                      <a:lnTo>
                        <a:pt x="712" y="454"/>
                      </a:lnTo>
                      <a:lnTo>
                        <a:pt x="716" y="422"/>
                      </a:lnTo>
                      <a:lnTo>
                        <a:pt x="718" y="390"/>
                      </a:lnTo>
                      <a:lnTo>
                        <a:pt x="722" y="357"/>
                      </a:lnTo>
                      <a:lnTo>
                        <a:pt x="724" y="327"/>
                      </a:lnTo>
                      <a:lnTo>
                        <a:pt x="728" y="298"/>
                      </a:lnTo>
                      <a:lnTo>
                        <a:pt x="730" y="269"/>
                      </a:lnTo>
                      <a:lnTo>
                        <a:pt x="733" y="240"/>
                      </a:lnTo>
                      <a:lnTo>
                        <a:pt x="728" y="246"/>
                      </a:lnTo>
                      <a:lnTo>
                        <a:pt x="722" y="251"/>
                      </a:lnTo>
                      <a:lnTo>
                        <a:pt x="716" y="257"/>
                      </a:lnTo>
                      <a:lnTo>
                        <a:pt x="710" y="264"/>
                      </a:lnTo>
                      <a:lnTo>
                        <a:pt x="705" y="269"/>
                      </a:lnTo>
                      <a:lnTo>
                        <a:pt x="700" y="275"/>
                      </a:lnTo>
                      <a:lnTo>
                        <a:pt x="694" y="281"/>
                      </a:lnTo>
                      <a:lnTo>
                        <a:pt x="689" y="288"/>
                      </a:lnTo>
                      <a:lnTo>
                        <a:pt x="682" y="295"/>
                      </a:lnTo>
                      <a:lnTo>
                        <a:pt x="675" y="301"/>
                      </a:lnTo>
                      <a:lnTo>
                        <a:pt x="668" y="309"/>
                      </a:lnTo>
                      <a:lnTo>
                        <a:pt x="661" y="316"/>
                      </a:lnTo>
                      <a:lnTo>
                        <a:pt x="653" y="323"/>
                      </a:lnTo>
                      <a:lnTo>
                        <a:pt x="646" y="329"/>
                      </a:lnTo>
                      <a:lnTo>
                        <a:pt x="639" y="337"/>
                      </a:lnTo>
                      <a:lnTo>
                        <a:pt x="632" y="344"/>
                      </a:lnTo>
                      <a:lnTo>
                        <a:pt x="632" y="332"/>
                      </a:lnTo>
                      <a:lnTo>
                        <a:pt x="632" y="318"/>
                      </a:lnTo>
                      <a:lnTo>
                        <a:pt x="632" y="305"/>
                      </a:lnTo>
                      <a:lnTo>
                        <a:pt x="632" y="292"/>
                      </a:lnTo>
                      <a:lnTo>
                        <a:pt x="632" y="272"/>
                      </a:lnTo>
                      <a:lnTo>
                        <a:pt x="631" y="253"/>
                      </a:lnTo>
                      <a:lnTo>
                        <a:pt x="631" y="234"/>
                      </a:lnTo>
                      <a:lnTo>
                        <a:pt x="630" y="215"/>
                      </a:lnTo>
                      <a:lnTo>
                        <a:pt x="624" y="203"/>
                      </a:lnTo>
                      <a:lnTo>
                        <a:pt x="617" y="193"/>
                      </a:lnTo>
                      <a:lnTo>
                        <a:pt x="611" y="181"/>
                      </a:lnTo>
                      <a:lnTo>
                        <a:pt x="604" y="170"/>
                      </a:lnTo>
                      <a:lnTo>
                        <a:pt x="601" y="185"/>
                      </a:lnTo>
                      <a:lnTo>
                        <a:pt x="598" y="201"/>
                      </a:lnTo>
                      <a:lnTo>
                        <a:pt x="594" y="217"/>
                      </a:lnTo>
                      <a:lnTo>
                        <a:pt x="592" y="231"/>
                      </a:lnTo>
                      <a:lnTo>
                        <a:pt x="585" y="235"/>
                      </a:lnTo>
                      <a:lnTo>
                        <a:pt x="579" y="240"/>
                      </a:lnTo>
                      <a:lnTo>
                        <a:pt x="572" y="245"/>
                      </a:lnTo>
                      <a:lnTo>
                        <a:pt x="566" y="249"/>
                      </a:lnTo>
                      <a:lnTo>
                        <a:pt x="561" y="253"/>
                      </a:lnTo>
                      <a:lnTo>
                        <a:pt x="555" y="258"/>
                      </a:lnTo>
                      <a:lnTo>
                        <a:pt x="548" y="263"/>
                      </a:lnTo>
                      <a:lnTo>
                        <a:pt x="542" y="267"/>
                      </a:lnTo>
                      <a:lnTo>
                        <a:pt x="543" y="224"/>
                      </a:lnTo>
                      <a:lnTo>
                        <a:pt x="543" y="185"/>
                      </a:lnTo>
                      <a:lnTo>
                        <a:pt x="542" y="149"/>
                      </a:lnTo>
                      <a:lnTo>
                        <a:pt x="538" y="115"/>
                      </a:lnTo>
                      <a:lnTo>
                        <a:pt x="528" y="85"/>
                      </a:lnTo>
                      <a:lnTo>
                        <a:pt x="511" y="55"/>
                      </a:lnTo>
                      <a:lnTo>
                        <a:pt x="486" y="28"/>
                      </a:lnTo>
                      <a:lnTo>
                        <a:pt x="450" y="0"/>
                      </a:lnTo>
                      <a:lnTo>
                        <a:pt x="451" y="18"/>
                      </a:lnTo>
                      <a:lnTo>
                        <a:pt x="452" y="36"/>
                      </a:lnTo>
                      <a:lnTo>
                        <a:pt x="454" y="54"/>
                      </a:lnTo>
                      <a:lnTo>
                        <a:pt x="455" y="71"/>
                      </a:lnTo>
                      <a:lnTo>
                        <a:pt x="455" y="88"/>
                      </a:lnTo>
                      <a:lnTo>
                        <a:pt x="455" y="104"/>
                      </a:lnTo>
                      <a:lnTo>
                        <a:pt x="455" y="121"/>
                      </a:lnTo>
                      <a:lnTo>
                        <a:pt x="455" y="136"/>
                      </a:lnTo>
                      <a:lnTo>
                        <a:pt x="449" y="141"/>
                      </a:lnTo>
                      <a:lnTo>
                        <a:pt x="443" y="147"/>
                      </a:lnTo>
                      <a:lnTo>
                        <a:pt x="438" y="152"/>
                      </a:lnTo>
                      <a:lnTo>
                        <a:pt x="432" y="156"/>
                      </a:lnTo>
                      <a:lnTo>
                        <a:pt x="426" y="161"/>
                      </a:lnTo>
                      <a:lnTo>
                        <a:pt x="420" y="166"/>
                      </a:lnTo>
                      <a:lnTo>
                        <a:pt x="414" y="172"/>
                      </a:lnTo>
                      <a:lnTo>
                        <a:pt x="409" y="177"/>
                      </a:lnTo>
                      <a:lnTo>
                        <a:pt x="408" y="163"/>
                      </a:lnTo>
                      <a:lnTo>
                        <a:pt x="406" y="150"/>
                      </a:lnTo>
                      <a:lnTo>
                        <a:pt x="405" y="137"/>
                      </a:lnTo>
                      <a:lnTo>
                        <a:pt x="404" y="124"/>
                      </a:lnTo>
                      <a:lnTo>
                        <a:pt x="398" y="112"/>
                      </a:lnTo>
                      <a:lnTo>
                        <a:pt x="393" y="100"/>
                      </a:lnTo>
                      <a:lnTo>
                        <a:pt x="387" y="87"/>
                      </a:lnTo>
                      <a:lnTo>
                        <a:pt x="381" y="75"/>
                      </a:lnTo>
                      <a:lnTo>
                        <a:pt x="375" y="87"/>
                      </a:lnTo>
                      <a:lnTo>
                        <a:pt x="371" y="100"/>
                      </a:lnTo>
                      <a:lnTo>
                        <a:pt x="365" y="112"/>
                      </a:lnTo>
                      <a:lnTo>
                        <a:pt x="359" y="124"/>
                      </a:lnTo>
                      <a:lnTo>
                        <a:pt x="355" y="127"/>
                      </a:lnTo>
                      <a:lnTo>
                        <a:pt x="349" y="131"/>
                      </a:lnTo>
                      <a:lnTo>
                        <a:pt x="344" y="134"/>
                      </a:lnTo>
                      <a:lnTo>
                        <a:pt x="338" y="138"/>
                      </a:lnTo>
                      <a:lnTo>
                        <a:pt x="334" y="141"/>
                      </a:lnTo>
                      <a:lnTo>
                        <a:pt x="328" y="146"/>
                      </a:lnTo>
                      <a:lnTo>
                        <a:pt x="324" y="149"/>
                      </a:lnTo>
                      <a:lnTo>
                        <a:pt x="319" y="153"/>
                      </a:lnTo>
                      <a:lnTo>
                        <a:pt x="318" y="139"/>
                      </a:lnTo>
                      <a:lnTo>
                        <a:pt x="317" y="126"/>
                      </a:lnTo>
                      <a:lnTo>
                        <a:pt x="315" y="113"/>
                      </a:lnTo>
                      <a:lnTo>
                        <a:pt x="314" y="100"/>
                      </a:lnTo>
                      <a:lnTo>
                        <a:pt x="309" y="91"/>
                      </a:lnTo>
                      <a:lnTo>
                        <a:pt x="303" y="83"/>
                      </a:lnTo>
                      <a:lnTo>
                        <a:pt x="298" y="75"/>
                      </a:lnTo>
                      <a:lnTo>
                        <a:pt x="291" y="66"/>
                      </a:lnTo>
                      <a:lnTo>
                        <a:pt x="287" y="64"/>
                      </a:lnTo>
                      <a:lnTo>
                        <a:pt x="282" y="61"/>
                      </a:lnTo>
                      <a:lnTo>
                        <a:pt x="276" y="59"/>
                      </a:lnTo>
                      <a:lnTo>
                        <a:pt x="272" y="56"/>
                      </a:lnTo>
                      <a:lnTo>
                        <a:pt x="266" y="54"/>
                      </a:lnTo>
                      <a:lnTo>
                        <a:pt x="261" y="52"/>
                      </a:lnTo>
                      <a:lnTo>
                        <a:pt x="256" y="48"/>
                      </a:lnTo>
                      <a:lnTo>
                        <a:pt x="251" y="46"/>
                      </a:lnTo>
                      <a:close/>
                    </a:path>
                  </a:pathLst>
                </a:custGeom>
                <a:solidFill>
                  <a:srgbClr val="dda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78"/>
                <p:cNvSpPr/>
                <p:nvPr/>
              </p:nvSpPr>
              <p:spPr>
                <a:xfrm>
                  <a:off x="1217880" y="984600"/>
                  <a:ext cx="101160" cy="78120"/>
                </a:xfrm>
                <a:custGeom>
                  <a:avLst/>
                  <a:gdLst/>
                  <a:ahLst/>
                  <a:rect l="l" t="t" r="r" b="b"/>
                  <a:pathLst>
                    <a:path w="666" h="485">
                      <a:moveTo>
                        <a:pt x="225" y="53"/>
                      </a:moveTo>
                      <a:lnTo>
                        <a:pt x="223" y="67"/>
                      </a:lnTo>
                      <a:lnTo>
                        <a:pt x="221" y="81"/>
                      </a:lnTo>
                      <a:lnTo>
                        <a:pt x="217" y="96"/>
                      </a:lnTo>
                      <a:lnTo>
                        <a:pt x="215" y="110"/>
                      </a:lnTo>
                      <a:lnTo>
                        <a:pt x="200" y="136"/>
                      </a:lnTo>
                      <a:lnTo>
                        <a:pt x="186" y="154"/>
                      </a:lnTo>
                      <a:lnTo>
                        <a:pt x="172" y="167"/>
                      </a:lnTo>
                      <a:lnTo>
                        <a:pt x="160" y="176"/>
                      </a:lnTo>
                      <a:lnTo>
                        <a:pt x="149" y="187"/>
                      </a:lnTo>
                      <a:lnTo>
                        <a:pt x="139" y="200"/>
                      </a:lnTo>
                      <a:lnTo>
                        <a:pt x="132" y="222"/>
                      </a:lnTo>
                      <a:lnTo>
                        <a:pt x="126" y="253"/>
                      </a:lnTo>
                      <a:lnTo>
                        <a:pt x="118" y="253"/>
                      </a:lnTo>
                      <a:lnTo>
                        <a:pt x="111" y="253"/>
                      </a:lnTo>
                      <a:lnTo>
                        <a:pt x="103" y="253"/>
                      </a:lnTo>
                      <a:lnTo>
                        <a:pt x="95" y="253"/>
                      </a:lnTo>
                      <a:lnTo>
                        <a:pt x="91" y="251"/>
                      </a:lnTo>
                      <a:lnTo>
                        <a:pt x="86" y="249"/>
                      </a:lnTo>
                      <a:lnTo>
                        <a:pt x="80" y="247"/>
                      </a:lnTo>
                      <a:lnTo>
                        <a:pt x="76" y="244"/>
                      </a:lnTo>
                      <a:lnTo>
                        <a:pt x="71" y="242"/>
                      </a:lnTo>
                      <a:lnTo>
                        <a:pt x="65" y="240"/>
                      </a:lnTo>
                      <a:lnTo>
                        <a:pt x="61" y="238"/>
                      </a:lnTo>
                      <a:lnTo>
                        <a:pt x="56" y="236"/>
                      </a:lnTo>
                      <a:lnTo>
                        <a:pt x="49" y="231"/>
                      </a:lnTo>
                      <a:lnTo>
                        <a:pt x="42" y="228"/>
                      </a:lnTo>
                      <a:lnTo>
                        <a:pt x="35" y="224"/>
                      </a:lnTo>
                      <a:lnTo>
                        <a:pt x="28" y="220"/>
                      </a:lnTo>
                      <a:lnTo>
                        <a:pt x="20" y="216"/>
                      </a:lnTo>
                      <a:lnTo>
                        <a:pt x="13" y="213"/>
                      </a:lnTo>
                      <a:lnTo>
                        <a:pt x="6" y="208"/>
                      </a:lnTo>
                      <a:lnTo>
                        <a:pt x="0" y="205"/>
                      </a:lnTo>
                      <a:lnTo>
                        <a:pt x="8" y="219"/>
                      </a:lnTo>
                      <a:lnTo>
                        <a:pt x="16" y="233"/>
                      </a:lnTo>
                      <a:lnTo>
                        <a:pt x="24" y="247"/>
                      </a:lnTo>
                      <a:lnTo>
                        <a:pt x="32" y="261"/>
                      </a:lnTo>
                      <a:lnTo>
                        <a:pt x="19" y="293"/>
                      </a:lnTo>
                      <a:lnTo>
                        <a:pt x="10" y="324"/>
                      </a:lnTo>
                      <a:lnTo>
                        <a:pt x="5" y="354"/>
                      </a:lnTo>
                      <a:lnTo>
                        <a:pt x="6" y="381"/>
                      </a:lnTo>
                      <a:lnTo>
                        <a:pt x="15" y="406"/>
                      </a:lnTo>
                      <a:lnTo>
                        <a:pt x="31" y="429"/>
                      </a:lnTo>
                      <a:lnTo>
                        <a:pt x="56" y="448"/>
                      </a:lnTo>
                      <a:lnTo>
                        <a:pt x="92" y="464"/>
                      </a:lnTo>
                      <a:lnTo>
                        <a:pt x="97" y="462"/>
                      </a:lnTo>
                      <a:lnTo>
                        <a:pt x="104" y="459"/>
                      </a:lnTo>
                      <a:lnTo>
                        <a:pt x="110" y="457"/>
                      </a:lnTo>
                      <a:lnTo>
                        <a:pt x="117" y="454"/>
                      </a:lnTo>
                      <a:lnTo>
                        <a:pt x="123" y="452"/>
                      </a:lnTo>
                      <a:lnTo>
                        <a:pt x="130" y="449"/>
                      </a:lnTo>
                      <a:lnTo>
                        <a:pt x="135" y="447"/>
                      </a:lnTo>
                      <a:lnTo>
                        <a:pt x="142" y="444"/>
                      </a:lnTo>
                      <a:lnTo>
                        <a:pt x="147" y="437"/>
                      </a:lnTo>
                      <a:lnTo>
                        <a:pt x="153" y="431"/>
                      </a:lnTo>
                      <a:lnTo>
                        <a:pt x="157" y="425"/>
                      </a:lnTo>
                      <a:lnTo>
                        <a:pt x="162" y="418"/>
                      </a:lnTo>
                      <a:lnTo>
                        <a:pt x="170" y="413"/>
                      </a:lnTo>
                      <a:lnTo>
                        <a:pt x="178" y="408"/>
                      </a:lnTo>
                      <a:lnTo>
                        <a:pt x="185" y="404"/>
                      </a:lnTo>
                      <a:lnTo>
                        <a:pt x="193" y="399"/>
                      </a:lnTo>
                      <a:lnTo>
                        <a:pt x="201" y="393"/>
                      </a:lnTo>
                      <a:lnTo>
                        <a:pt x="209" y="389"/>
                      </a:lnTo>
                      <a:lnTo>
                        <a:pt x="217" y="384"/>
                      </a:lnTo>
                      <a:lnTo>
                        <a:pt x="225" y="379"/>
                      </a:lnTo>
                      <a:lnTo>
                        <a:pt x="233" y="380"/>
                      </a:lnTo>
                      <a:lnTo>
                        <a:pt x="241" y="381"/>
                      </a:lnTo>
                      <a:lnTo>
                        <a:pt x="248" y="382"/>
                      </a:lnTo>
                      <a:lnTo>
                        <a:pt x="256" y="382"/>
                      </a:lnTo>
                      <a:lnTo>
                        <a:pt x="264" y="383"/>
                      </a:lnTo>
                      <a:lnTo>
                        <a:pt x="272" y="384"/>
                      </a:lnTo>
                      <a:lnTo>
                        <a:pt x="279" y="385"/>
                      </a:lnTo>
                      <a:lnTo>
                        <a:pt x="287" y="386"/>
                      </a:lnTo>
                      <a:lnTo>
                        <a:pt x="292" y="391"/>
                      </a:lnTo>
                      <a:lnTo>
                        <a:pt x="297" y="397"/>
                      </a:lnTo>
                      <a:lnTo>
                        <a:pt x="301" y="402"/>
                      </a:lnTo>
                      <a:lnTo>
                        <a:pt x="306" y="407"/>
                      </a:lnTo>
                      <a:lnTo>
                        <a:pt x="309" y="413"/>
                      </a:lnTo>
                      <a:lnTo>
                        <a:pt x="314" y="418"/>
                      </a:lnTo>
                      <a:lnTo>
                        <a:pt x="319" y="424"/>
                      </a:lnTo>
                      <a:lnTo>
                        <a:pt x="323" y="429"/>
                      </a:lnTo>
                      <a:lnTo>
                        <a:pt x="328" y="429"/>
                      </a:lnTo>
                      <a:lnTo>
                        <a:pt x="332" y="429"/>
                      </a:lnTo>
                      <a:lnTo>
                        <a:pt x="336" y="429"/>
                      </a:lnTo>
                      <a:lnTo>
                        <a:pt x="340" y="429"/>
                      </a:lnTo>
                      <a:lnTo>
                        <a:pt x="345" y="429"/>
                      </a:lnTo>
                      <a:lnTo>
                        <a:pt x="350" y="429"/>
                      </a:lnTo>
                      <a:lnTo>
                        <a:pt x="354" y="429"/>
                      </a:lnTo>
                      <a:lnTo>
                        <a:pt x="359" y="429"/>
                      </a:lnTo>
                      <a:lnTo>
                        <a:pt x="363" y="429"/>
                      </a:lnTo>
                      <a:lnTo>
                        <a:pt x="368" y="428"/>
                      </a:lnTo>
                      <a:lnTo>
                        <a:pt x="373" y="428"/>
                      </a:lnTo>
                      <a:lnTo>
                        <a:pt x="378" y="427"/>
                      </a:lnTo>
                      <a:lnTo>
                        <a:pt x="383" y="427"/>
                      </a:lnTo>
                      <a:lnTo>
                        <a:pt x="388" y="427"/>
                      </a:lnTo>
                      <a:lnTo>
                        <a:pt x="393" y="426"/>
                      </a:lnTo>
                      <a:lnTo>
                        <a:pt x="398" y="426"/>
                      </a:lnTo>
                      <a:lnTo>
                        <a:pt x="405" y="432"/>
                      </a:lnTo>
                      <a:lnTo>
                        <a:pt x="412" y="438"/>
                      </a:lnTo>
                      <a:lnTo>
                        <a:pt x="419" y="445"/>
                      </a:lnTo>
                      <a:lnTo>
                        <a:pt x="426" y="451"/>
                      </a:lnTo>
                      <a:lnTo>
                        <a:pt x="431" y="459"/>
                      </a:lnTo>
                      <a:lnTo>
                        <a:pt x="438" y="466"/>
                      </a:lnTo>
                      <a:lnTo>
                        <a:pt x="445" y="475"/>
                      </a:lnTo>
                      <a:lnTo>
                        <a:pt x="452" y="483"/>
                      </a:lnTo>
                      <a:lnTo>
                        <a:pt x="458" y="475"/>
                      </a:lnTo>
                      <a:lnTo>
                        <a:pt x="465" y="466"/>
                      </a:lnTo>
                      <a:lnTo>
                        <a:pt x="471" y="459"/>
                      </a:lnTo>
                      <a:lnTo>
                        <a:pt x="476" y="451"/>
                      </a:lnTo>
                      <a:lnTo>
                        <a:pt x="479" y="441"/>
                      </a:lnTo>
                      <a:lnTo>
                        <a:pt x="480" y="432"/>
                      </a:lnTo>
                      <a:lnTo>
                        <a:pt x="482" y="424"/>
                      </a:lnTo>
                      <a:lnTo>
                        <a:pt x="484" y="414"/>
                      </a:lnTo>
                      <a:lnTo>
                        <a:pt x="489" y="427"/>
                      </a:lnTo>
                      <a:lnTo>
                        <a:pt x="494" y="438"/>
                      </a:lnTo>
                      <a:lnTo>
                        <a:pt x="498" y="451"/>
                      </a:lnTo>
                      <a:lnTo>
                        <a:pt x="503" y="463"/>
                      </a:lnTo>
                      <a:lnTo>
                        <a:pt x="507" y="466"/>
                      </a:lnTo>
                      <a:lnTo>
                        <a:pt x="512" y="469"/>
                      </a:lnTo>
                      <a:lnTo>
                        <a:pt x="517" y="472"/>
                      </a:lnTo>
                      <a:lnTo>
                        <a:pt x="521" y="474"/>
                      </a:lnTo>
                      <a:lnTo>
                        <a:pt x="525" y="477"/>
                      </a:lnTo>
                      <a:lnTo>
                        <a:pt x="529" y="480"/>
                      </a:lnTo>
                      <a:lnTo>
                        <a:pt x="534" y="482"/>
                      </a:lnTo>
                      <a:lnTo>
                        <a:pt x="538" y="485"/>
                      </a:lnTo>
                      <a:lnTo>
                        <a:pt x="571" y="481"/>
                      </a:lnTo>
                      <a:lnTo>
                        <a:pt x="595" y="471"/>
                      </a:lnTo>
                      <a:lnTo>
                        <a:pt x="611" y="455"/>
                      </a:lnTo>
                      <a:lnTo>
                        <a:pt x="621" y="434"/>
                      </a:lnTo>
                      <a:lnTo>
                        <a:pt x="628" y="409"/>
                      </a:lnTo>
                      <a:lnTo>
                        <a:pt x="632" y="383"/>
                      </a:lnTo>
                      <a:lnTo>
                        <a:pt x="634" y="355"/>
                      </a:lnTo>
                      <a:lnTo>
                        <a:pt x="637" y="325"/>
                      </a:lnTo>
                      <a:lnTo>
                        <a:pt x="644" y="299"/>
                      </a:lnTo>
                      <a:lnTo>
                        <a:pt x="651" y="274"/>
                      </a:lnTo>
                      <a:lnTo>
                        <a:pt x="658" y="248"/>
                      </a:lnTo>
                      <a:lnTo>
                        <a:pt x="666" y="223"/>
                      </a:lnTo>
                      <a:lnTo>
                        <a:pt x="659" y="228"/>
                      </a:lnTo>
                      <a:lnTo>
                        <a:pt x="652" y="234"/>
                      </a:lnTo>
                      <a:lnTo>
                        <a:pt x="646" y="239"/>
                      </a:lnTo>
                      <a:lnTo>
                        <a:pt x="640" y="243"/>
                      </a:lnTo>
                      <a:lnTo>
                        <a:pt x="633" y="248"/>
                      </a:lnTo>
                      <a:lnTo>
                        <a:pt x="627" y="253"/>
                      </a:lnTo>
                      <a:lnTo>
                        <a:pt x="620" y="259"/>
                      </a:lnTo>
                      <a:lnTo>
                        <a:pt x="614" y="264"/>
                      </a:lnTo>
                      <a:lnTo>
                        <a:pt x="608" y="270"/>
                      </a:lnTo>
                      <a:lnTo>
                        <a:pt x="601" y="276"/>
                      </a:lnTo>
                      <a:lnTo>
                        <a:pt x="594" y="283"/>
                      </a:lnTo>
                      <a:lnTo>
                        <a:pt x="587" y="289"/>
                      </a:lnTo>
                      <a:lnTo>
                        <a:pt x="580" y="295"/>
                      </a:lnTo>
                      <a:lnTo>
                        <a:pt x="573" y="301"/>
                      </a:lnTo>
                      <a:lnTo>
                        <a:pt x="566" y="308"/>
                      </a:lnTo>
                      <a:lnTo>
                        <a:pt x="559" y="314"/>
                      </a:lnTo>
                      <a:lnTo>
                        <a:pt x="559" y="303"/>
                      </a:lnTo>
                      <a:lnTo>
                        <a:pt x="559" y="291"/>
                      </a:lnTo>
                      <a:lnTo>
                        <a:pt x="559" y="280"/>
                      </a:lnTo>
                      <a:lnTo>
                        <a:pt x="559" y="268"/>
                      </a:lnTo>
                      <a:lnTo>
                        <a:pt x="561" y="250"/>
                      </a:lnTo>
                      <a:lnTo>
                        <a:pt x="563" y="234"/>
                      </a:lnTo>
                      <a:lnTo>
                        <a:pt x="565" y="216"/>
                      </a:lnTo>
                      <a:lnTo>
                        <a:pt x="566" y="199"/>
                      </a:lnTo>
                      <a:lnTo>
                        <a:pt x="563" y="189"/>
                      </a:lnTo>
                      <a:lnTo>
                        <a:pt x="559" y="179"/>
                      </a:lnTo>
                      <a:lnTo>
                        <a:pt x="556" y="169"/>
                      </a:lnTo>
                      <a:lnTo>
                        <a:pt x="552" y="159"/>
                      </a:lnTo>
                      <a:lnTo>
                        <a:pt x="547" y="173"/>
                      </a:lnTo>
                      <a:lnTo>
                        <a:pt x="541" y="186"/>
                      </a:lnTo>
                      <a:lnTo>
                        <a:pt x="535" y="199"/>
                      </a:lnTo>
                      <a:lnTo>
                        <a:pt x="529" y="213"/>
                      </a:lnTo>
                      <a:lnTo>
                        <a:pt x="523" y="217"/>
                      </a:lnTo>
                      <a:lnTo>
                        <a:pt x="517" y="221"/>
                      </a:lnTo>
                      <a:lnTo>
                        <a:pt x="511" y="225"/>
                      </a:lnTo>
                      <a:lnTo>
                        <a:pt x="505" y="229"/>
                      </a:lnTo>
                      <a:lnTo>
                        <a:pt x="499" y="234"/>
                      </a:lnTo>
                      <a:lnTo>
                        <a:pt x="492" y="238"/>
                      </a:lnTo>
                      <a:lnTo>
                        <a:pt x="487" y="242"/>
                      </a:lnTo>
                      <a:lnTo>
                        <a:pt x="480" y="246"/>
                      </a:lnTo>
                      <a:lnTo>
                        <a:pt x="481" y="208"/>
                      </a:lnTo>
                      <a:lnTo>
                        <a:pt x="484" y="172"/>
                      </a:lnTo>
                      <a:lnTo>
                        <a:pt x="487" y="139"/>
                      </a:lnTo>
                      <a:lnTo>
                        <a:pt x="487" y="107"/>
                      </a:lnTo>
                      <a:lnTo>
                        <a:pt x="482" y="77"/>
                      </a:lnTo>
                      <a:lnTo>
                        <a:pt x="472" y="50"/>
                      </a:lnTo>
                      <a:lnTo>
                        <a:pt x="452" y="24"/>
                      </a:lnTo>
                      <a:lnTo>
                        <a:pt x="421" y="0"/>
                      </a:lnTo>
                      <a:lnTo>
                        <a:pt x="420" y="16"/>
                      </a:lnTo>
                      <a:lnTo>
                        <a:pt x="419" y="34"/>
                      </a:lnTo>
                      <a:lnTo>
                        <a:pt x="416" y="51"/>
                      </a:lnTo>
                      <a:lnTo>
                        <a:pt x="415" y="69"/>
                      </a:lnTo>
                      <a:lnTo>
                        <a:pt x="415" y="83"/>
                      </a:lnTo>
                      <a:lnTo>
                        <a:pt x="415" y="98"/>
                      </a:lnTo>
                      <a:lnTo>
                        <a:pt x="415" y="111"/>
                      </a:lnTo>
                      <a:lnTo>
                        <a:pt x="415" y="126"/>
                      </a:lnTo>
                      <a:lnTo>
                        <a:pt x="409" y="131"/>
                      </a:lnTo>
                      <a:lnTo>
                        <a:pt x="404" y="136"/>
                      </a:lnTo>
                      <a:lnTo>
                        <a:pt x="397" y="142"/>
                      </a:lnTo>
                      <a:lnTo>
                        <a:pt x="391" y="147"/>
                      </a:lnTo>
                      <a:lnTo>
                        <a:pt x="385" y="152"/>
                      </a:lnTo>
                      <a:lnTo>
                        <a:pt x="380" y="157"/>
                      </a:lnTo>
                      <a:lnTo>
                        <a:pt x="373" y="163"/>
                      </a:lnTo>
                      <a:lnTo>
                        <a:pt x="367" y="168"/>
                      </a:lnTo>
                      <a:lnTo>
                        <a:pt x="365" y="156"/>
                      </a:lnTo>
                      <a:lnTo>
                        <a:pt x="363" y="144"/>
                      </a:lnTo>
                      <a:lnTo>
                        <a:pt x="361" y="132"/>
                      </a:lnTo>
                      <a:lnTo>
                        <a:pt x="359" y="121"/>
                      </a:lnTo>
                      <a:lnTo>
                        <a:pt x="354" y="110"/>
                      </a:lnTo>
                      <a:lnTo>
                        <a:pt x="348" y="99"/>
                      </a:lnTo>
                      <a:lnTo>
                        <a:pt x="344" y="88"/>
                      </a:lnTo>
                      <a:lnTo>
                        <a:pt x="338" y="78"/>
                      </a:lnTo>
                      <a:lnTo>
                        <a:pt x="333" y="88"/>
                      </a:lnTo>
                      <a:lnTo>
                        <a:pt x="329" y="99"/>
                      </a:lnTo>
                      <a:lnTo>
                        <a:pt x="323" y="110"/>
                      </a:lnTo>
                      <a:lnTo>
                        <a:pt x="319" y="121"/>
                      </a:lnTo>
                      <a:lnTo>
                        <a:pt x="314" y="124"/>
                      </a:lnTo>
                      <a:lnTo>
                        <a:pt x="310" y="127"/>
                      </a:lnTo>
                      <a:lnTo>
                        <a:pt x="306" y="130"/>
                      </a:lnTo>
                      <a:lnTo>
                        <a:pt x="301" y="133"/>
                      </a:lnTo>
                      <a:lnTo>
                        <a:pt x="297" y="136"/>
                      </a:lnTo>
                      <a:lnTo>
                        <a:pt x="293" y="140"/>
                      </a:lnTo>
                      <a:lnTo>
                        <a:pt x="289" y="143"/>
                      </a:lnTo>
                      <a:lnTo>
                        <a:pt x="284" y="146"/>
                      </a:lnTo>
                      <a:lnTo>
                        <a:pt x="283" y="134"/>
                      </a:lnTo>
                      <a:lnTo>
                        <a:pt x="282" y="123"/>
                      </a:lnTo>
                      <a:lnTo>
                        <a:pt x="281" y="111"/>
                      </a:lnTo>
                      <a:lnTo>
                        <a:pt x="279" y="100"/>
                      </a:lnTo>
                      <a:lnTo>
                        <a:pt x="275" y="93"/>
                      </a:lnTo>
                      <a:lnTo>
                        <a:pt x="270" y="85"/>
                      </a:lnTo>
                      <a:lnTo>
                        <a:pt x="264" y="78"/>
                      </a:lnTo>
                      <a:lnTo>
                        <a:pt x="260" y="71"/>
                      </a:lnTo>
                      <a:lnTo>
                        <a:pt x="255" y="69"/>
                      </a:lnTo>
                      <a:lnTo>
                        <a:pt x="252" y="66"/>
                      </a:lnTo>
                      <a:lnTo>
                        <a:pt x="247" y="64"/>
                      </a:lnTo>
                      <a:lnTo>
                        <a:pt x="243" y="61"/>
                      </a:lnTo>
                      <a:lnTo>
                        <a:pt x="238" y="59"/>
                      </a:lnTo>
                      <a:lnTo>
                        <a:pt x="234" y="57"/>
                      </a:lnTo>
                      <a:lnTo>
                        <a:pt x="230" y="55"/>
                      </a:lnTo>
                      <a:lnTo>
                        <a:pt x="225" y="5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79"/>
                <p:cNvSpPr/>
                <p:nvPr/>
              </p:nvSpPr>
              <p:spPr>
                <a:xfrm>
                  <a:off x="1222200" y="1000800"/>
                  <a:ext cx="96840" cy="74520"/>
                </a:xfrm>
                <a:custGeom>
                  <a:avLst/>
                  <a:gdLst/>
                  <a:ahLst/>
                  <a:rect l="l" t="t" r="r" b="b"/>
                  <a:pathLst>
                    <a:path w="641" h="458">
                      <a:moveTo>
                        <a:pt x="221" y="57"/>
                      </a:moveTo>
                      <a:lnTo>
                        <a:pt x="218" y="71"/>
                      </a:lnTo>
                      <a:lnTo>
                        <a:pt x="216" y="83"/>
                      </a:lnTo>
                      <a:lnTo>
                        <a:pt x="213" y="97"/>
                      </a:lnTo>
                      <a:lnTo>
                        <a:pt x="211" y="110"/>
                      </a:lnTo>
                      <a:lnTo>
                        <a:pt x="197" y="134"/>
                      </a:lnTo>
                      <a:lnTo>
                        <a:pt x="185" y="151"/>
                      </a:lnTo>
                      <a:lnTo>
                        <a:pt x="171" y="163"/>
                      </a:lnTo>
                      <a:lnTo>
                        <a:pt x="159" y="172"/>
                      </a:lnTo>
                      <a:lnTo>
                        <a:pt x="149" y="182"/>
                      </a:lnTo>
                      <a:lnTo>
                        <a:pt x="140" y="196"/>
                      </a:lnTo>
                      <a:lnTo>
                        <a:pt x="133" y="217"/>
                      </a:lnTo>
                      <a:lnTo>
                        <a:pt x="127" y="246"/>
                      </a:lnTo>
                      <a:lnTo>
                        <a:pt x="120" y="245"/>
                      </a:lnTo>
                      <a:lnTo>
                        <a:pt x="113" y="245"/>
                      </a:lnTo>
                      <a:lnTo>
                        <a:pt x="106" y="244"/>
                      </a:lnTo>
                      <a:lnTo>
                        <a:pt x="99" y="244"/>
                      </a:lnTo>
                      <a:lnTo>
                        <a:pt x="95" y="242"/>
                      </a:lnTo>
                      <a:lnTo>
                        <a:pt x="90" y="240"/>
                      </a:lnTo>
                      <a:lnTo>
                        <a:pt x="86" y="238"/>
                      </a:lnTo>
                      <a:lnTo>
                        <a:pt x="81" y="236"/>
                      </a:lnTo>
                      <a:lnTo>
                        <a:pt x="76" y="234"/>
                      </a:lnTo>
                      <a:lnTo>
                        <a:pt x="72" y="232"/>
                      </a:lnTo>
                      <a:lnTo>
                        <a:pt x="67" y="229"/>
                      </a:lnTo>
                      <a:lnTo>
                        <a:pt x="63" y="227"/>
                      </a:lnTo>
                      <a:lnTo>
                        <a:pt x="54" y="224"/>
                      </a:lnTo>
                      <a:lnTo>
                        <a:pt x="48" y="220"/>
                      </a:lnTo>
                      <a:lnTo>
                        <a:pt x="40" y="217"/>
                      </a:lnTo>
                      <a:lnTo>
                        <a:pt x="31" y="213"/>
                      </a:lnTo>
                      <a:lnTo>
                        <a:pt x="23" y="210"/>
                      </a:lnTo>
                      <a:lnTo>
                        <a:pt x="16" y="206"/>
                      </a:lnTo>
                      <a:lnTo>
                        <a:pt x="8" y="202"/>
                      </a:lnTo>
                      <a:lnTo>
                        <a:pt x="0" y="199"/>
                      </a:lnTo>
                      <a:lnTo>
                        <a:pt x="5" y="205"/>
                      </a:lnTo>
                      <a:lnTo>
                        <a:pt x="11" y="212"/>
                      </a:lnTo>
                      <a:lnTo>
                        <a:pt x="15" y="218"/>
                      </a:lnTo>
                      <a:lnTo>
                        <a:pt x="21" y="224"/>
                      </a:lnTo>
                      <a:lnTo>
                        <a:pt x="26" y="232"/>
                      </a:lnTo>
                      <a:lnTo>
                        <a:pt x="31" y="238"/>
                      </a:lnTo>
                      <a:lnTo>
                        <a:pt x="36" y="244"/>
                      </a:lnTo>
                      <a:lnTo>
                        <a:pt x="41" y="250"/>
                      </a:lnTo>
                      <a:lnTo>
                        <a:pt x="28" y="281"/>
                      </a:lnTo>
                      <a:lnTo>
                        <a:pt x="20" y="309"/>
                      </a:lnTo>
                      <a:lnTo>
                        <a:pt x="15" y="337"/>
                      </a:lnTo>
                      <a:lnTo>
                        <a:pt x="16" y="362"/>
                      </a:lnTo>
                      <a:lnTo>
                        <a:pt x="25" y="386"/>
                      </a:lnTo>
                      <a:lnTo>
                        <a:pt x="40" y="407"/>
                      </a:lnTo>
                      <a:lnTo>
                        <a:pt x="64" y="425"/>
                      </a:lnTo>
                      <a:lnTo>
                        <a:pt x="96" y="440"/>
                      </a:lnTo>
                      <a:lnTo>
                        <a:pt x="102" y="437"/>
                      </a:lnTo>
                      <a:lnTo>
                        <a:pt x="107" y="435"/>
                      </a:lnTo>
                      <a:lnTo>
                        <a:pt x="113" y="432"/>
                      </a:lnTo>
                      <a:lnTo>
                        <a:pt x="120" y="430"/>
                      </a:lnTo>
                      <a:lnTo>
                        <a:pt x="126" y="428"/>
                      </a:lnTo>
                      <a:lnTo>
                        <a:pt x="132" y="426"/>
                      </a:lnTo>
                      <a:lnTo>
                        <a:pt x="137" y="423"/>
                      </a:lnTo>
                      <a:lnTo>
                        <a:pt x="143" y="421"/>
                      </a:lnTo>
                      <a:lnTo>
                        <a:pt x="148" y="414"/>
                      </a:lnTo>
                      <a:lnTo>
                        <a:pt x="152" y="408"/>
                      </a:lnTo>
                      <a:lnTo>
                        <a:pt x="157" y="403"/>
                      </a:lnTo>
                      <a:lnTo>
                        <a:pt x="162" y="397"/>
                      </a:lnTo>
                      <a:lnTo>
                        <a:pt x="168" y="392"/>
                      </a:lnTo>
                      <a:lnTo>
                        <a:pt x="177" y="388"/>
                      </a:lnTo>
                      <a:lnTo>
                        <a:pt x="183" y="383"/>
                      </a:lnTo>
                      <a:lnTo>
                        <a:pt x="192" y="379"/>
                      </a:lnTo>
                      <a:lnTo>
                        <a:pt x="198" y="374"/>
                      </a:lnTo>
                      <a:lnTo>
                        <a:pt x="206" y="369"/>
                      </a:lnTo>
                      <a:lnTo>
                        <a:pt x="213" y="364"/>
                      </a:lnTo>
                      <a:lnTo>
                        <a:pt x="221" y="360"/>
                      </a:lnTo>
                      <a:lnTo>
                        <a:pt x="228" y="361"/>
                      </a:lnTo>
                      <a:lnTo>
                        <a:pt x="235" y="362"/>
                      </a:lnTo>
                      <a:lnTo>
                        <a:pt x="242" y="363"/>
                      </a:lnTo>
                      <a:lnTo>
                        <a:pt x="250" y="363"/>
                      </a:lnTo>
                      <a:lnTo>
                        <a:pt x="257" y="364"/>
                      </a:lnTo>
                      <a:lnTo>
                        <a:pt x="264" y="365"/>
                      </a:lnTo>
                      <a:lnTo>
                        <a:pt x="271" y="366"/>
                      </a:lnTo>
                      <a:lnTo>
                        <a:pt x="278" y="367"/>
                      </a:lnTo>
                      <a:lnTo>
                        <a:pt x="286" y="377"/>
                      </a:lnTo>
                      <a:lnTo>
                        <a:pt x="295" y="387"/>
                      </a:lnTo>
                      <a:lnTo>
                        <a:pt x="303" y="397"/>
                      </a:lnTo>
                      <a:lnTo>
                        <a:pt x="311" y="407"/>
                      </a:lnTo>
                      <a:lnTo>
                        <a:pt x="319" y="407"/>
                      </a:lnTo>
                      <a:lnTo>
                        <a:pt x="327" y="407"/>
                      </a:lnTo>
                      <a:lnTo>
                        <a:pt x="337" y="407"/>
                      </a:lnTo>
                      <a:lnTo>
                        <a:pt x="345" y="407"/>
                      </a:lnTo>
                      <a:lnTo>
                        <a:pt x="349" y="407"/>
                      </a:lnTo>
                      <a:lnTo>
                        <a:pt x="354" y="406"/>
                      </a:lnTo>
                      <a:lnTo>
                        <a:pt x="358" y="406"/>
                      </a:lnTo>
                      <a:lnTo>
                        <a:pt x="363" y="405"/>
                      </a:lnTo>
                      <a:lnTo>
                        <a:pt x="367" y="405"/>
                      </a:lnTo>
                      <a:lnTo>
                        <a:pt x="371" y="405"/>
                      </a:lnTo>
                      <a:lnTo>
                        <a:pt x="376" y="404"/>
                      </a:lnTo>
                      <a:lnTo>
                        <a:pt x="380" y="404"/>
                      </a:lnTo>
                      <a:lnTo>
                        <a:pt x="387" y="409"/>
                      </a:lnTo>
                      <a:lnTo>
                        <a:pt x="393" y="415"/>
                      </a:lnTo>
                      <a:lnTo>
                        <a:pt x="400" y="422"/>
                      </a:lnTo>
                      <a:lnTo>
                        <a:pt x="406" y="427"/>
                      </a:lnTo>
                      <a:lnTo>
                        <a:pt x="413" y="434"/>
                      </a:lnTo>
                      <a:lnTo>
                        <a:pt x="420" y="441"/>
                      </a:lnTo>
                      <a:lnTo>
                        <a:pt x="425" y="450"/>
                      </a:lnTo>
                      <a:lnTo>
                        <a:pt x="432" y="457"/>
                      </a:lnTo>
                      <a:lnTo>
                        <a:pt x="438" y="450"/>
                      </a:lnTo>
                      <a:lnTo>
                        <a:pt x="443" y="441"/>
                      </a:lnTo>
                      <a:lnTo>
                        <a:pt x="448" y="434"/>
                      </a:lnTo>
                      <a:lnTo>
                        <a:pt x="454" y="427"/>
                      </a:lnTo>
                      <a:lnTo>
                        <a:pt x="456" y="419"/>
                      </a:lnTo>
                      <a:lnTo>
                        <a:pt x="458" y="410"/>
                      </a:lnTo>
                      <a:lnTo>
                        <a:pt x="460" y="402"/>
                      </a:lnTo>
                      <a:lnTo>
                        <a:pt x="461" y="393"/>
                      </a:lnTo>
                      <a:lnTo>
                        <a:pt x="466" y="405"/>
                      </a:lnTo>
                      <a:lnTo>
                        <a:pt x="469" y="415"/>
                      </a:lnTo>
                      <a:lnTo>
                        <a:pt x="474" y="427"/>
                      </a:lnTo>
                      <a:lnTo>
                        <a:pt x="477" y="438"/>
                      </a:lnTo>
                      <a:lnTo>
                        <a:pt x="485" y="444"/>
                      </a:lnTo>
                      <a:lnTo>
                        <a:pt x="494" y="448"/>
                      </a:lnTo>
                      <a:lnTo>
                        <a:pt x="502" y="453"/>
                      </a:lnTo>
                      <a:lnTo>
                        <a:pt x="510" y="458"/>
                      </a:lnTo>
                      <a:lnTo>
                        <a:pt x="540" y="455"/>
                      </a:lnTo>
                      <a:lnTo>
                        <a:pt x="563" y="445"/>
                      </a:lnTo>
                      <a:lnTo>
                        <a:pt x="578" y="430"/>
                      </a:lnTo>
                      <a:lnTo>
                        <a:pt x="589" y="410"/>
                      </a:lnTo>
                      <a:lnTo>
                        <a:pt x="595" y="388"/>
                      </a:lnTo>
                      <a:lnTo>
                        <a:pt x="598" y="363"/>
                      </a:lnTo>
                      <a:lnTo>
                        <a:pt x="601" y="337"/>
                      </a:lnTo>
                      <a:lnTo>
                        <a:pt x="604" y="310"/>
                      </a:lnTo>
                      <a:lnTo>
                        <a:pt x="608" y="298"/>
                      </a:lnTo>
                      <a:lnTo>
                        <a:pt x="613" y="286"/>
                      </a:lnTo>
                      <a:lnTo>
                        <a:pt x="618" y="274"/>
                      </a:lnTo>
                      <a:lnTo>
                        <a:pt x="622" y="263"/>
                      </a:lnTo>
                      <a:lnTo>
                        <a:pt x="627" y="251"/>
                      </a:lnTo>
                      <a:lnTo>
                        <a:pt x="631" y="239"/>
                      </a:lnTo>
                      <a:lnTo>
                        <a:pt x="636" y="227"/>
                      </a:lnTo>
                      <a:lnTo>
                        <a:pt x="641" y="216"/>
                      </a:lnTo>
                      <a:lnTo>
                        <a:pt x="634" y="220"/>
                      </a:lnTo>
                      <a:lnTo>
                        <a:pt x="627" y="225"/>
                      </a:lnTo>
                      <a:lnTo>
                        <a:pt x="620" y="229"/>
                      </a:lnTo>
                      <a:lnTo>
                        <a:pt x="613" y="235"/>
                      </a:lnTo>
                      <a:lnTo>
                        <a:pt x="606" y="239"/>
                      </a:lnTo>
                      <a:lnTo>
                        <a:pt x="599" y="244"/>
                      </a:lnTo>
                      <a:lnTo>
                        <a:pt x="592" y="248"/>
                      </a:lnTo>
                      <a:lnTo>
                        <a:pt x="585" y="253"/>
                      </a:lnTo>
                      <a:lnTo>
                        <a:pt x="578" y="260"/>
                      </a:lnTo>
                      <a:lnTo>
                        <a:pt x="572" y="265"/>
                      </a:lnTo>
                      <a:lnTo>
                        <a:pt x="565" y="271"/>
                      </a:lnTo>
                      <a:lnTo>
                        <a:pt x="558" y="276"/>
                      </a:lnTo>
                      <a:lnTo>
                        <a:pt x="551" y="283"/>
                      </a:lnTo>
                      <a:lnTo>
                        <a:pt x="544" y="289"/>
                      </a:lnTo>
                      <a:lnTo>
                        <a:pt x="537" y="294"/>
                      </a:lnTo>
                      <a:lnTo>
                        <a:pt x="530" y="300"/>
                      </a:lnTo>
                      <a:lnTo>
                        <a:pt x="530" y="289"/>
                      </a:lnTo>
                      <a:lnTo>
                        <a:pt x="530" y="279"/>
                      </a:lnTo>
                      <a:lnTo>
                        <a:pt x="530" y="267"/>
                      </a:lnTo>
                      <a:lnTo>
                        <a:pt x="530" y="257"/>
                      </a:lnTo>
                      <a:lnTo>
                        <a:pt x="534" y="240"/>
                      </a:lnTo>
                      <a:lnTo>
                        <a:pt x="537" y="224"/>
                      </a:lnTo>
                      <a:lnTo>
                        <a:pt x="539" y="209"/>
                      </a:lnTo>
                      <a:lnTo>
                        <a:pt x="543" y="192"/>
                      </a:lnTo>
                      <a:lnTo>
                        <a:pt x="540" y="182"/>
                      </a:lnTo>
                      <a:lnTo>
                        <a:pt x="538" y="173"/>
                      </a:lnTo>
                      <a:lnTo>
                        <a:pt x="536" y="164"/>
                      </a:lnTo>
                      <a:lnTo>
                        <a:pt x="534" y="155"/>
                      </a:lnTo>
                      <a:lnTo>
                        <a:pt x="528" y="167"/>
                      </a:lnTo>
                      <a:lnTo>
                        <a:pt x="521" y="179"/>
                      </a:lnTo>
                      <a:lnTo>
                        <a:pt x="514" y="192"/>
                      </a:lnTo>
                      <a:lnTo>
                        <a:pt x="507" y="204"/>
                      </a:lnTo>
                      <a:lnTo>
                        <a:pt x="501" y="209"/>
                      </a:lnTo>
                      <a:lnTo>
                        <a:pt x="494" y="213"/>
                      </a:lnTo>
                      <a:lnTo>
                        <a:pt x="489" y="217"/>
                      </a:lnTo>
                      <a:lnTo>
                        <a:pt x="483" y="221"/>
                      </a:lnTo>
                      <a:lnTo>
                        <a:pt x="476" y="225"/>
                      </a:lnTo>
                      <a:lnTo>
                        <a:pt x="470" y="228"/>
                      </a:lnTo>
                      <a:lnTo>
                        <a:pt x="463" y="233"/>
                      </a:lnTo>
                      <a:lnTo>
                        <a:pt x="458" y="237"/>
                      </a:lnTo>
                      <a:lnTo>
                        <a:pt x="460" y="201"/>
                      </a:lnTo>
                      <a:lnTo>
                        <a:pt x="463" y="167"/>
                      </a:lnTo>
                      <a:lnTo>
                        <a:pt x="468" y="134"/>
                      </a:lnTo>
                      <a:lnTo>
                        <a:pt x="470" y="103"/>
                      </a:lnTo>
                      <a:lnTo>
                        <a:pt x="468" y="74"/>
                      </a:lnTo>
                      <a:lnTo>
                        <a:pt x="460" y="48"/>
                      </a:lnTo>
                      <a:lnTo>
                        <a:pt x="443" y="23"/>
                      </a:lnTo>
                      <a:lnTo>
                        <a:pt x="415" y="0"/>
                      </a:lnTo>
                      <a:lnTo>
                        <a:pt x="413" y="16"/>
                      </a:lnTo>
                      <a:lnTo>
                        <a:pt x="410" y="34"/>
                      </a:lnTo>
                      <a:lnTo>
                        <a:pt x="407" y="51"/>
                      </a:lnTo>
                      <a:lnTo>
                        <a:pt x="405" y="69"/>
                      </a:lnTo>
                      <a:lnTo>
                        <a:pt x="405" y="82"/>
                      </a:lnTo>
                      <a:lnTo>
                        <a:pt x="405" y="95"/>
                      </a:lnTo>
                      <a:lnTo>
                        <a:pt x="405" y="108"/>
                      </a:lnTo>
                      <a:lnTo>
                        <a:pt x="405" y="122"/>
                      </a:lnTo>
                      <a:lnTo>
                        <a:pt x="399" y="127"/>
                      </a:lnTo>
                      <a:lnTo>
                        <a:pt x="393" y="132"/>
                      </a:lnTo>
                      <a:lnTo>
                        <a:pt x="386" y="138"/>
                      </a:lnTo>
                      <a:lnTo>
                        <a:pt x="380" y="143"/>
                      </a:lnTo>
                      <a:lnTo>
                        <a:pt x="373" y="148"/>
                      </a:lnTo>
                      <a:lnTo>
                        <a:pt x="368" y="153"/>
                      </a:lnTo>
                      <a:lnTo>
                        <a:pt x="361" y="158"/>
                      </a:lnTo>
                      <a:lnTo>
                        <a:pt x="355" y="164"/>
                      </a:lnTo>
                      <a:lnTo>
                        <a:pt x="353" y="153"/>
                      </a:lnTo>
                      <a:lnTo>
                        <a:pt x="350" y="142"/>
                      </a:lnTo>
                      <a:lnTo>
                        <a:pt x="347" y="131"/>
                      </a:lnTo>
                      <a:lnTo>
                        <a:pt x="345" y="121"/>
                      </a:lnTo>
                      <a:lnTo>
                        <a:pt x="340" y="110"/>
                      </a:lnTo>
                      <a:lnTo>
                        <a:pt x="335" y="100"/>
                      </a:lnTo>
                      <a:lnTo>
                        <a:pt x="331" y="91"/>
                      </a:lnTo>
                      <a:lnTo>
                        <a:pt x="326" y="80"/>
                      </a:lnTo>
                      <a:lnTo>
                        <a:pt x="322" y="91"/>
                      </a:lnTo>
                      <a:lnTo>
                        <a:pt x="317" y="100"/>
                      </a:lnTo>
                      <a:lnTo>
                        <a:pt x="312" y="110"/>
                      </a:lnTo>
                      <a:lnTo>
                        <a:pt x="308" y="121"/>
                      </a:lnTo>
                      <a:lnTo>
                        <a:pt x="300" y="126"/>
                      </a:lnTo>
                      <a:lnTo>
                        <a:pt x="292" y="132"/>
                      </a:lnTo>
                      <a:lnTo>
                        <a:pt x="282" y="139"/>
                      </a:lnTo>
                      <a:lnTo>
                        <a:pt x="274" y="144"/>
                      </a:lnTo>
                      <a:lnTo>
                        <a:pt x="273" y="133"/>
                      </a:lnTo>
                      <a:lnTo>
                        <a:pt x="273" y="122"/>
                      </a:lnTo>
                      <a:lnTo>
                        <a:pt x="272" y="111"/>
                      </a:lnTo>
                      <a:lnTo>
                        <a:pt x="271" y="101"/>
                      </a:lnTo>
                      <a:lnTo>
                        <a:pt x="266" y="94"/>
                      </a:lnTo>
                      <a:lnTo>
                        <a:pt x="262" y="87"/>
                      </a:lnTo>
                      <a:lnTo>
                        <a:pt x="257" y="81"/>
                      </a:lnTo>
                      <a:lnTo>
                        <a:pt x="253" y="74"/>
                      </a:lnTo>
                      <a:lnTo>
                        <a:pt x="244" y="70"/>
                      </a:lnTo>
                      <a:lnTo>
                        <a:pt x="236" y="65"/>
                      </a:lnTo>
                      <a:lnTo>
                        <a:pt x="228" y="61"/>
                      </a:lnTo>
                      <a:lnTo>
                        <a:pt x="221" y="5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80"/>
                <p:cNvSpPr/>
                <p:nvPr/>
              </p:nvSpPr>
              <p:spPr>
                <a:xfrm>
                  <a:off x="1231200" y="1013400"/>
                  <a:ext cx="81360" cy="56880"/>
                </a:xfrm>
                <a:custGeom>
                  <a:avLst/>
                  <a:gdLst/>
                  <a:ahLst/>
                  <a:rect l="l" t="t" r="r" b="b"/>
                  <a:pathLst>
                    <a:path w="534" h="352">
                      <a:moveTo>
                        <a:pt x="195" y="74"/>
                      </a:moveTo>
                      <a:lnTo>
                        <a:pt x="195" y="82"/>
                      </a:lnTo>
                      <a:lnTo>
                        <a:pt x="195" y="92"/>
                      </a:lnTo>
                      <a:lnTo>
                        <a:pt x="193" y="101"/>
                      </a:lnTo>
                      <a:lnTo>
                        <a:pt x="193" y="111"/>
                      </a:lnTo>
                      <a:lnTo>
                        <a:pt x="183" y="128"/>
                      </a:lnTo>
                      <a:lnTo>
                        <a:pt x="173" y="141"/>
                      </a:lnTo>
                      <a:lnTo>
                        <a:pt x="162" y="151"/>
                      </a:lnTo>
                      <a:lnTo>
                        <a:pt x="153" y="160"/>
                      </a:lnTo>
                      <a:lnTo>
                        <a:pt x="145" y="168"/>
                      </a:lnTo>
                      <a:lnTo>
                        <a:pt x="137" y="180"/>
                      </a:lnTo>
                      <a:lnTo>
                        <a:pt x="131" y="195"/>
                      </a:lnTo>
                      <a:lnTo>
                        <a:pt x="128" y="216"/>
                      </a:lnTo>
                      <a:lnTo>
                        <a:pt x="123" y="213"/>
                      </a:lnTo>
                      <a:lnTo>
                        <a:pt x="120" y="210"/>
                      </a:lnTo>
                      <a:lnTo>
                        <a:pt x="115" y="207"/>
                      </a:lnTo>
                      <a:lnTo>
                        <a:pt x="110" y="204"/>
                      </a:lnTo>
                      <a:lnTo>
                        <a:pt x="105" y="201"/>
                      </a:lnTo>
                      <a:lnTo>
                        <a:pt x="98" y="197"/>
                      </a:lnTo>
                      <a:lnTo>
                        <a:pt x="92" y="195"/>
                      </a:lnTo>
                      <a:lnTo>
                        <a:pt x="85" y="192"/>
                      </a:lnTo>
                      <a:lnTo>
                        <a:pt x="75" y="190"/>
                      </a:lnTo>
                      <a:lnTo>
                        <a:pt x="63" y="188"/>
                      </a:lnTo>
                      <a:lnTo>
                        <a:pt x="53" y="186"/>
                      </a:lnTo>
                      <a:lnTo>
                        <a:pt x="43" y="183"/>
                      </a:lnTo>
                      <a:lnTo>
                        <a:pt x="32" y="181"/>
                      </a:lnTo>
                      <a:lnTo>
                        <a:pt x="22" y="179"/>
                      </a:lnTo>
                      <a:lnTo>
                        <a:pt x="10" y="177"/>
                      </a:lnTo>
                      <a:lnTo>
                        <a:pt x="0" y="174"/>
                      </a:lnTo>
                      <a:lnTo>
                        <a:pt x="9" y="179"/>
                      </a:lnTo>
                      <a:lnTo>
                        <a:pt x="17" y="183"/>
                      </a:lnTo>
                      <a:lnTo>
                        <a:pt x="26" y="187"/>
                      </a:lnTo>
                      <a:lnTo>
                        <a:pt x="36" y="191"/>
                      </a:lnTo>
                      <a:lnTo>
                        <a:pt x="44" y="195"/>
                      </a:lnTo>
                      <a:lnTo>
                        <a:pt x="53" y="199"/>
                      </a:lnTo>
                      <a:lnTo>
                        <a:pt x="61" y="204"/>
                      </a:lnTo>
                      <a:lnTo>
                        <a:pt x="70" y="208"/>
                      </a:lnTo>
                      <a:lnTo>
                        <a:pt x="62" y="229"/>
                      </a:lnTo>
                      <a:lnTo>
                        <a:pt x="55" y="250"/>
                      </a:lnTo>
                      <a:lnTo>
                        <a:pt x="53" y="268"/>
                      </a:lnTo>
                      <a:lnTo>
                        <a:pt x="53" y="286"/>
                      </a:lnTo>
                      <a:lnTo>
                        <a:pt x="59" y="303"/>
                      </a:lnTo>
                      <a:lnTo>
                        <a:pt x="69" y="318"/>
                      </a:lnTo>
                      <a:lnTo>
                        <a:pt x="85" y="330"/>
                      </a:lnTo>
                      <a:lnTo>
                        <a:pt x="108" y="340"/>
                      </a:lnTo>
                      <a:lnTo>
                        <a:pt x="116" y="337"/>
                      </a:lnTo>
                      <a:lnTo>
                        <a:pt x="125" y="333"/>
                      </a:lnTo>
                      <a:lnTo>
                        <a:pt x="134" y="330"/>
                      </a:lnTo>
                      <a:lnTo>
                        <a:pt x="142" y="327"/>
                      </a:lnTo>
                      <a:lnTo>
                        <a:pt x="145" y="323"/>
                      </a:lnTo>
                      <a:lnTo>
                        <a:pt x="148" y="319"/>
                      </a:lnTo>
                      <a:lnTo>
                        <a:pt x="151" y="314"/>
                      </a:lnTo>
                      <a:lnTo>
                        <a:pt x="154" y="310"/>
                      </a:lnTo>
                      <a:lnTo>
                        <a:pt x="159" y="307"/>
                      </a:lnTo>
                      <a:lnTo>
                        <a:pt x="165" y="304"/>
                      </a:lnTo>
                      <a:lnTo>
                        <a:pt x="169" y="301"/>
                      </a:lnTo>
                      <a:lnTo>
                        <a:pt x="175" y="298"/>
                      </a:lnTo>
                      <a:lnTo>
                        <a:pt x="180" y="295"/>
                      </a:lnTo>
                      <a:lnTo>
                        <a:pt x="185" y="291"/>
                      </a:lnTo>
                      <a:lnTo>
                        <a:pt x="190" y="288"/>
                      </a:lnTo>
                      <a:lnTo>
                        <a:pt x="195" y="285"/>
                      </a:lnTo>
                      <a:lnTo>
                        <a:pt x="200" y="285"/>
                      </a:lnTo>
                      <a:lnTo>
                        <a:pt x="205" y="286"/>
                      </a:lnTo>
                      <a:lnTo>
                        <a:pt x="211" y="286"/>
                      </a:lnTo>
                      <a:lnTo>
                        <a:pt x="215" y="287"/>
                      </a:lnTo>
                      <a:lnTo>
                        <a:pt x="221" y="288"/>
                      </a:lnTo>
                      <a:lnTo>
                        <a:pt x="226" y="288"/>
                      </a:lnTo>
                      <a:lnTo>
                        <a:pt x="231" y="289"/>
                      </a:lnTo>
                      <a:lnTo>
                        <a:pt x="236" y="289"/>
                      </a:lnTo>
                      <a:lnTo>
                        <a:pt x="242" y="297"/>
                      </a:lnTo>
                      <a:lnTo>
                        <a:pt x="248" y="303"/>
                      </a:lnTo>
                      <a:lnTo>
                        <a:pt x="253" y="310"/>
                      </a:lnTo>
                      <a:lnTo>
                        <a:pt x="259" y="318"/>
                      </a:lnTo>
                      <a:lnTo>
                        <a:pt x="265" y="318"/>
                      </a:lnTo>
                      <a:lnTo>
                        <a:pt x="271" y="318"/>
                      </a:lnTo>
                      <a:lnTo>
                        <a:pt x="275" y="318"/>
                      </a:lnTo>
                      <a:lnTo>
                        <a:pt x="281" y="318"/>
                      </a:lnTo>
                      <a:lnTo>
                        <a:pt x="288" y="316"/>
                      </a:lnTo>
                      <a:lnTo>
                        <a:pt x="295" y="316"/>
                      </a:lnTo>
                      <a:lnTo>
                        <a:pt x="300" y="315"/>
                      </a:lnTo>
                      <a:lnTo>
                        <a:pt x="307" y="315"/>
                      </a:lnTo>
                      <a:lnTo>
                        <a:pt x="312" y="320"/>
                      </a:lnTo>
                      <a:lnTo>
                        <a:pt x="317" y="323"/>
                      </a:lnTo>
                      <a:lnTo>
                        <a:pt x="320" y="327"/>
                      </a:lnTo>
                      <a:lnTo>
                        <a:pt x="325" y="331"/>
                      </a:lnTo>
                      <a:lnTo>
                        <a:pt x="329" y="336"/>
                      </a:lnTo>
                      <a:lnTo>
                        <a:pt x="334" y="342"/>
                      </a:lnTo>
                      <a:lnTo>
                        <a:pt x="337" y="347"/>
                      </a:lnTo>
                      <a:lnTo>
                        <a:pt x="342" y="352"/>
                      </a:lnTo>
                      <a:lnTo>
                        <a:pt x="347" y="347"/>
                      </a:lnTo>
                      <a:lnTo>
                        <a:pt x="350" y="342"/>
                      </a:lnTo>
                      <a:lnTo>
                        <a:pt x="353" y="336"/>
                      </a:lnTo>
                      <a:lnTo>
                        <a:pt x="358" y="331"/>
                      </a:lnTo>
                      <a:lnTo>
                        <a:pt x="359" y="326"/>
                      </a:lnTo>
                      <a:lnTo>
                        <a:pt x="360" y="320"/>
                      </a:lnTo>
                      <a:lnTo>
                        <a:pt x="362" y="313"/>
                      </a:lnTo>
                      <a:lnTo>
                        <a:pt x="363" y="308"/>
                      </a:lnTo>
                      <a:lnTo>
                        <a:pt x="365" y="315"/>
                      </a:lnTo>
                      <a:lnTo>
                        <a:pt x="368" y="322"/>
                      </a:lnTo>
                      <a:lnTo>
                        <a:pt x="371" y="328"/>
                      </a:lnTo>
                      <a:lnTo>
                        <a:pt x="373" y="335"/>
                      </a:lnTo>
                      <a:lnTo>
                        <a:pt x="379" y="338"/>
                      </a:lnTo>
                      <a:lnTo>
                        <a:pt x="385" y="342"/>
                      </a:lnTo>
                      <a:lnTo>
                        <a:pt x="389" y="345"/>
                      </a:lnTo>
                      <a:lnTo>
                        <a:pt x="395" y="348"/>
                      </a:lnTo>
                      <a:lnTo>
                        <a:pt x="416" y="346"/>
                      </a:lnTo>
                      <a:lnTo>
                        <a:pt x="432" y="339"/>
                      </a:lnTo>
                      <a:lnTo>
                        <a:pt x="443" y="330"/>
                      </a:lnTo>
                      <a:lnTo>
                        <a:pt x="450" y="318"/>
                      </a:lnTo>
                      <a:lnTo>
                        <a:pt x="455" y="303"/>
                      </a:lnTo>
                      <a:lnTo>
                        <a:pt x="458" y="286"/>
                      </a:lnTo>
                      <a:lnTo>
                        <a:pt x="459" y="268"/>
                      </a:lnTo>
                      <a:lnTo>
                        <a:pt x="462" y="250"/>
                      </a:lnTo>
                      <a:lnTo>
                        <a:pt x="471" y="241"/>
                      </a:lnTo>
                      <a:lnTo>
                        <a:pt x="480" y="234"/>
                      </a:lnTo>
                      <a:lnTo>
                        <a:pt x="489" y="226"/>
                      </a:lnTo>
                      <a:lnTo>
                        <a:pt x="499" y="217"/>
                      </a:lnTo>
                      <a:lnTo>
                        <a:pt x="507" y="210"/>
                      </a:lnTo>
                      <a:lnTo>
                        <a:pt x="516" y="202"/>
                      </a:lnTo>
                      <a:lnTo>
                        <a:pt x="525" y="194"/>
                      </a:lnTo>
                      <a:lnTo>
                        <a:pt x="534" y="186"/>
                      </a:lnTo>
                      <a:lnTo>
                        <a:pt x="525" y="189"/>
                      </a:lnTo>
                      <a:lnTo>
                        <a:pt x="517" y="192"/>
                      </a:lnTo>
                      <a:lnTo>
                        <a:pt x="508" y="195"/>
                      </a:lnTo>
                      <a:lnTo>
                        <a:pt x="500" y="198"/>
                      </a:lnTo>
                      <a:lnTo>
                        <a:pt x="490" y="202"/>
                      </a:lnTo>
                      <a:lnTo>
                        <a:pt x="481" y="205"/>
                      </a:lnTo>
                      <a:lnTo>
                        <a:pt x="473" y="208"/>
                      </a:lnTo>
                      <a:lnTo>
                        <a:pt x="464" y="211"/>
                      </a:lnTo>
                      <a:lnTo>
                        <a:pt x="457" y="215"/>
                      </a:lnTo>
                      <a:lnTo>
                        <a:pt x="450" y="219"/>
                      </a:lnTo>
                      <a:lnTo>
                        <a:pt x="443" y="222"/>
                      </a:lnTo>
                      <a:lnTo>
                        <a:pt x="438" y="227"/>
                      </a:lnTo>
                      <a:lnTo>
                        <a:pt x="431" y="231"/>
                      </a:lnTo>
                      <a:lnTo>
                        <a:pt x="424" y="235"/>
                      </a:lnTo>
                      <a:lnTo>
                        <a:pt x="418" y="239"/>
                      </a:lnTo>
                      <a:lnTo>
                        <a:pt x="411" y="243"/>
                      </a:lnTo>
                      <a:lnTo>
                        <a:pt x="411" y="236"/>
                      </a:lnTo>
                      <a:lnTo>
                        <a:pt x="411" y="228"/>
                      </a:lnTo>
                      <a:lnTo>
                        <a:pt x="411" y="220"/>
                      </a:lnTo>
                      <a:lnTo>
                        <a:pt x="411" y="213"/>
                      </a:lnTo>
                      <a:lnTo>
                        <a:pt x="419" y="201"/>
                      </a:lnTo>
                      <a:lnTo>
                        <a:pt x="427" y="187"/>
                      </a:lnTo>
                      <a:lnTo>
                        <a:pt x="434" y="174"/>
                      </a:lnTo>
                      <a:lnTo>
                        <a:pt x="442" y="162"/>
                      </a:lnTo>
                      <a:lnTo>
                        <a:pt x="446" y="156"/>
                      </a:lnTo>
                      <a:lnTo>
                        <a:pt x="449" y="148"/>
                      </a:lnTo>
                      <a:lnTo>
                        <a:pt x="452" y="142"/>
                      </a:lnTo>
                      <a:lnTo>
                        <a:pt x="456" y="136"/>
                      </a:lnTo>
                      <a:lnTo>
                        <a:pt x="450" y="140"/>
                      </a:lnTo>
                      <a:lnTo>
                        <a:pt x="444" y="144"/>
                      </a:lnTo>
                      <a:lnTo>
                        <a:pt x="439" y="149"/>
                      </a:lnTo>
                      <a:lnTo>
                        <a:pt x="434" y="154"/>
                      </a:lnTo>
                      <a:lnTo>
                        <a:pt x="428" y="158"/>
                      </a:lnTo>
                      <a:lnTo>
                        <a:pt x="423" y="163"/>
                      </a:lnTo>
                      <a:lnTo>
                        <a:pt x="417" y="167"/>
                      </a:lnTo>
                      <a:lnTo>
                        <a:pt x="411" y="171"/>
                      </a:lnTo>
                      <a:lnTo>
                        <a:pt x="404" y="174"/>
                      </a:lnTo>
                      <a:lnTo>
                        <a:pt x="398" y="179"/>
                      </a:lnTo>
                      <a:lnTo>
                        <a:pt x="393" y="182"/>
                      </a:lnTo>
                      <a:lnTo>
                        <a:pt x="386" y="185"/>
                      </a:lnTo>
                      <a:lnTo>
                        <a:pt x="380" y="189"/>
                      </a:lnTo>
                      <a:lnTo>
                        <a:pt x="374" y="192"/>
                      </a:lnTo>
                      <a:lnTo>
                        <a:pt x="367" y="196"/>
                      </a:lnTo>
                      <a:lnTo>
                        <a:pt x="360" y="199"/>
                      </a:lnTo>
                      <a:lnTo>
                        <a:pt x="364" y="173"/>
                      </a:lnTo>
                      <a:lnTo>
                        <a:pt x="373" y="145"/>
                      </a:lnTo>
                      <a:lnTo>
                        <a:pt x="385" y="117"/>
                      </a:lnTo>
                      <a:lnTo>
                        <a:pt x="397" y="90"/>
                      </a:lnTo>
                      <a:lnTo>
                        <a:pt x="405" y="63"/>
                      </a:lnTo>
                      <a:lnTo>
                        <a:pt x="409" y="39"/>
                      </a:lnTo>
                      <a:lnTo>
                        <a:pt x="403" y="18"/>
                      </a:lnTo>
                      <a:lnTo>
                        <a:pt x="386" y="0"/>
                      </a:lnTo>
                      <a:lnTo>
                        <a:pt x="378" y="17"/>
                      </a:lnTo>
                      <a:lnTo>
                        <a:pt x="371" y="33"/>
                      </a:lnTo>
                      <a:lnTo>
                        <a:pt x="363" y="50"/>
                      </a:lnTo>
                      <a:lnTo>
                        <a:pt x="355" y="67"/>
                      </a:lnTo>
                      <a:lnTo>
                        <a:pt x="355" y="76"/>
                      </a:lnTo>
                      <a:lnTo>
                        <a:pt x="355" y="86"/>
                      </a:lnTo>
                      <a:lnTo>
                        <a:pt x="355" y="95"/>
                      </a:lnTo>
                      <a:lnTo>
                        <a:pt x="355" y="104"/>
                      </a:lnTo>
                      <a:lnTo>
                        <a:pt x="348" y="110"/>
                      </a:lnTo>
                      <a:lnTo>
                        <a:pt x="340" y="115"/>
                      </a:lnTo>
                      <a:lnTo>
                        <a:pt x="333" y="121"/>
                      </a:lnTo>
                      <a:lnTo>
                        <a:pt x="326" y="126"/>
                      </a:lnTo>
                      <a:lnTo>
                        <a:pt x="319" y="132"/>
                      </a:lnTo>
                      <a:lnTo>
                        <a:pt x="312" y="137"/>
                      </a:lnTo>
                      <a:lnTo>
                        <a:pt x="306" y="143"/>
                      </a:lnTo>
                      <a:lnTo>
                        <a:pt x="299" y="148"/>
                      </a:lnTo>
                      <a:lnTo>
                        <a:pt x="295" y="141"/>
                      </a:lnTo>
                      <a:lnTo>
                        <a:pt x="290" y="133"/>
                      </a:lnTo>
                      <a:lnTo>
                        <a:pt x="286" y="125"/>
                      </a:lnTo>
                      <a:lnTo>
                        <a:pt x="281" y="118"/>
                      </a:lnTo>
                      <a:lnTo>
                        <a:pt x="279" y="111"/>
                      </a:lnTo>
                      <a:lnTo>
                        <a:pt x="275" y="103"/>
                      </a:lnTo>
                      <a:lnTo>
                        <a:pt x="272" y="97"/>
                      </a:lnTo>
                      <a:lnTo>
                        <a:pt x="268" y="90"/>
                      </a:lnTo>
                      <a:lnTo>
                        <a:pt x="266" y="97"/>
                      </a:lnTo>
                      <a:lnTo>
                        <a:pt x="262" y="103"/>
                      </a:lnTo>
                      <a:lnTo>
                        <a:pt x="259" y="111"/>
                      </a:lnTo>
                      <a:lnTo>
                        <a:pt x="256" y="118"/>
                      </a:lnTo>
                      <a:lnTo>
                        <a:pt x="250" y="122"/>
                      </a:lnTo>
                      <a:lnTo>
                        <a:pt x="245" y="125"/>
                      </a:lnTo>
                      <a:lnTo>
                        <a:pt x="239" y="130"/>
                      </a:lnTo>
                      <a:lnTo>
                        <a:pt x="234" y="134"/>
                      </a:lnTo>
                      <a:lnTo>
                        <a:pt x="234" y="126"/>
                      </a:lnTo>
                      <a:lnTo>
                        <a:pt x="233" y="119"/>
                      </a:lnTo>
                      <a:lnTo>
                        <a:pt x="231" y="111"/>
                      </a:lnTo>
                      <a:lnTo>
                        <a:pt x="230" y="103"/>
                      </a:lnTo>
                      <a:lnTo>
                        <a:pt x="228" y="99"/>
                      </a:lnTo>
                      <a:lnTo>
                        <a:pt x="224" y="95"/>
                      </a:lnTo>
                      <a:lnTo>
                        <a:pt x="221" y="90"/>
                      </a:lnTo>
                      <a:lnTo>
                        <a:pt x="218" y="86"/>
                      </a:lnTo>
                      <a:lnTo>
                        <a:pt x="212" y="82"/>
                      </a:lnTo>
                      <a:lnTo>
                        <a:pt x="206" y="79"/>
                      </a:lnTo>
                      <a:lnTo>
                        <a:pt x="200" y="76"/>
                      </a:lnTo>
                      <a:lnTo>
                        <a:pt x="195" y="74"/>
                      </a:lnTo>
                      <a:close/>
                    </a:path>
                  </a:pathLst>
                </a:custGeom>
                <a:solidFill>
                  <a:srgbClr val="f9f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81"/>
                <p:cNvSpPr/>
                <p:nvPr/>
              </p:nvSpPr>
              <p:spPr>
                <a:xfrm>
                  <a:off x="1222920" y="1040760"/>
                  <a:ext cx="39600" cy="48240"/>
                </a:xfrm>
                <a:custGeom>
                  <a:avLst/>
                  <a:gdLst/>
                  <a:ahLst/>
                  <a:rect l="l" t="t" r="r" b="b"/>
                  <a:pathLst>
                    <a:path w="265" h="303">
                      <a:moveTo>
                        <a:pt x="219" y="0"/>
                      </a:moveTo>
                      <a:lnTo>
                        <a:pt x="159" y="73"/>
                      </a:lnTo>
                      <a:lnTo>
                        <a:pt x="53" y="212"/>
                      </a:lnTo>
                      <a:lnTo>
                        <a:pt x="0" y="303"/>
                      </a:lnTo>
                      <a:lnTo>
                        <a:pt x="92" y="193"/>
                      </a:lnTo>
                      <a:lnTo>
                        <a:pt x="178" y="78"/>
                      </a:lnTo>
                      <a:lnTo>
                        <a:pt x="265" y="24"/>
                      </a:lnTo>
                      <a:lnTo>
                        <a:pt x="219" y="0"/>
                      </a:lnTo>
                      <a:close/>
                    </a:path>
                  </a:pathLst>
                </a:custGeom>
                <a:solidFill>
                  <a:srgbClr val="e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7" name="Group 82"/>
          <p:cNvGrpSpPr/>
          <p:nvPr/>
        </p:nvGrpSpPr>
        <p:grpSpPr>
          <a:xfrm>
            <a:off x="1116000" y="657360"/>
            <a:ext cx="576360" cy="287280"/>
            <a:chOff x="1116000" y="657360"/>
            <a:chExt cx="576360" cy="287280"/>
          </a:xfrm>
        </p:grpSpPr>
        <p:sp>
          <p:nvSpPr>
            <p:cNvPr id="248" name="AutoShape 83"/>
            <p:cNvSpPr/>
            <p:nvPr/>
          </p:nvSpPr>
          <p:spPr>
            <a:xfrm>
              <a:off x="1116000" y="657360"/>
              <a:ext cx="576360" cy="287280"/>
            </a:xfrm>
            <a:prstGeom prst="cube">
              <a:avLst>
                <a:gd name="adj" fmla="val 66597"/>
              </a:avLst>
            </a:prstGeom>
            <a:solidFill>
              <a:srgbClr val="ffcc99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WordArt 84"/>
            <p:cNvSpPr txBox="1"/>
            <p:nvPr/>
          </p:nvSpPr>
          <p:spPr>
            <a:xfrm rot="15600">
              <a:off x="1175040" y="679680"/>
              <a:ext cx="47628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6931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1" strike="noStrike">
                  <a:ln w="9360">
                    <a:solidFill>
                      <a:srgbClr val="cc9900"/>
                    </a:solidFill>
                    <a:round/>
                  </a:ln>
                  <a:solidFill>
                    <a:srgbClr val="ffcc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宋体"/>
                </a:rPr>
                <a:t>乎</a:t>
              </a:r>
              <a:endParaRPr b="0" i="1" lang="en-US" sz="1800" spc="1" strike="noStrike">
                <a:ln w="9360">
                  <a:solidFill>
                    <a:srgbClr val="cc9900"/>
                  </a:solidFill>
                  <a:round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250" name="AutoShape 85"/>
          <p:cNvSpPr/>
          <p:nvPr/>
        </p:nvSpPr>
        <p:spPr>
          <a:xfrm>
            <a:off x="468360" y="1844640"/>
            <a:ext cx="5364000" cy="1150920"/>
          </a:xfrm>
          <a:prstGeom prst="cube">
            <a:avLst>
              <a:gd name="adj" fmla="val 89643"/>
            </a:avLst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86"/>
          <p:cNvGrpSpPr/>
          <p:nvPr/>
        </p:nvGrpSpPr>
        <p:grpSpPr>
          <a:xfrm>
            <a:off x="647640" y="1413000"/>
            <a:ext cx="5219640" cy="1438200"/>
            <a:chOff x="647640" y="1413000"/>
            <a:chExt cx="5219640" cy="1438200"/>
          </a:xfrm>
        </p:grpSpPr>
        <p:sp>
          <p:nvSpPr>
            <p:cNvPr id="252" name="AutoShape 87"/>
            <p:cNvSpPr/>
            <p:nvPr/>
          </p:nvSpPr>
          <p:spPr>
            <a:xfrm>
              <a:off x="647640" y="1987560"/>
              <a:ext cx="5005440" cy="863640"/>
            </a:xfrm>
            <a:prstGeom prst="parallelogram">
              <a:avLst>
                <a:gd name="adj" fmla="val 10201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88"/>
            <p:cNvSpPr/>
            <p:nvPr/>
          </p:nvSpPr>
          <p:spPr>
            <a:xfrm>
              <a:off x="3887640" y="141300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蜡、纸灰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…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89"/>
            <p:cNvSpPr/>
            <p:nvPr/>
          </p:nvSpPr>
          <p:spPr>
            <a:xfrm flipV="1">
              <a:off x="2952720" y="1593360"/>
              <a:ext cx="898560" cy="75420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Group 90"/>
          <p:cNvGrpSpPr/>
          <p:nvPr/>
        </p:nvGrpSpPr>
        <p:grpSpPr>
          <a:xfrm>
            <a:off x="755640" y="584280"/>
            <a:ext cx="576360" cy="287280"/>
            <a:chOff x="755640" y="584280"/>
            <a:chExt cx="576360" cy="287280"/>
          </a:xfrm>
        </p:grpSpPr>
        <p:sp>
          <p:nvSpPr>
            <p:cNvPr id="256" name="AutoShape 91"/>
            <p:cNvSpPr/>
            <p:nvPr/>
          </p:nvSpPr>
          <p:spPr>
            <a:xfrm>
              <a:off x="755640" y="584280"/>
              <a:ext cx="576360" cy="287280"/>
            </a:xfrm>
            <a:prstGeom prst="cube">
              <a:avLst>
                <a:gd name="adj" fmla="val 66597"/>
              </a:avLst>
            </a:prstGeom>
            <a:solidFill>
              <a:srgbClr val="ffcc99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WordArt 92"/>
            <p:cNvSpPr txBox="1"/>
            <p:nvPr/>
          </p:nvSpPr>
          <p:spPr>
            <a:xfrm rot="15600">
              <a:off x="814680" y="606600"/>
              <a:ext cx="47628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6931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1" strike="noStrike">
                  <a:ln w="9360">
                    <a:solidFill>
                      <a:srgbClr val="cc9900"/>
                    </a:solidFill>
                    <a:round/>
                  </a:ln>
                  <a:solidFill>
                    <a:srgbClr val="ffcc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宋体"/>
                </a:rPr>
                <a:t>也</a:t>
              </a:r>
              <a:endParaRPr b="0" i="1" lang="en-US" sz="1800" spc="1" strike="noStrike">
                <a:ln w="9360">
                  <a:solidFill>
                    <a:srgbClr val="cc9900"/>
                  </a:solidFill>
                  <a:round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258" name="Group 93"/>
          <p:cNvGrpSpPr/>
          <p:nvPr/>
        </p:nvGrpSpPr>
        <p:grpSpPr>
          <a:xfrm>
            <a:off x="755640" y="476280"/>
            <a:ext cx="576360" cy="287280"/>
            <a:chOff x="755640" y="476280"/>
            <a:chExt cx="576360" cy="287280"/>
          </a:xfrm>
        </p:grpSpPr>
        <p:sp>
          <p:nvSpPr>
            <p:cNvPr id="259" name="AutoShape 94"/>
            <p:cNvSpPr/>
            <p:nvPr/>
          </p:nvSpPr>
          <p:spPr>
            <a:xfrm>
              <a:off x="755640" y="476280"/>
              <a:ext cx="576360" cy="287280"/>
            </a:xfrm>
            <a:prstGeom prst="cube">
              <a:avLst>
                <a:gd name="adj" fmla="val 66597"/>
              </a:avLst>
            </a:prstGeom>
            <a:solidFill>
              <a:srgbClr val="ffcc99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WordArt 95"/>
            <p:cNvSpPr txBox="1"/>
            <p:nvPr/>
          </p:nvSpPr>
          <p:spPr>
            <a:xfrm rot="15600">
              <a:off x="814680" y="498600"/>
              <a:ext cx="47628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6931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1" strike="noStrike">
                  <a:ln w="9360">
                    <a:solidFill>
                      <a:srgbClr val="cc9900"/>
                    </a:solidFill>
                    <a:round/>
                  </a:ln>
                  <a:solidFill>
                    <a:srgbClr val="ffcc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宋体"/>
                </a:rPr>
                <a:t>乎</a:t>
              </a:r>
              <a:endParaRPr b="0" i="1" lang="en-US" sz="1800" spc="1" strike="noStrike">
                <a:ln w="9360">
                  <a:solidFill>
                    <a:srgbClr val="cc9900"/>
                  </a:solidFill>
                  <a:round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261" name="Group 96"/>
          <p:cNvGrpSpPr/>
          <p:nvPr/>
        </p:nvGrpSpPr>
        <p:grpSpPr>
          <a:xfrm>
            <a:off x="1116000" y="584280"/>
            <a:ext cx="576360" cy="287280"/>
            <a:chOff x="1116000" y="584280"/>
            <a:chExt cx="576360" cy="287280"/>
          </a:xfrm>
        </p:grpSpPr>
        <p:sp>
          <p:nvSpPr>
            <p:cNvPr id="262" name="AutoShape 97"/>
            <p:cNvSpPr/>
            <p:nvPr/>
          </p:nvSpPr>
          <p:spPr>
            <a:xfrm>
              <a:off x="1116000" y="584280"/>
              <a:ext cx="576360" cy="287280"/>
            </a:xfrm>
            <a:prstGeom prst="cube">
              <a:avLst>
                <a:gd name="adj" fmla="val 66597"/>
              </a:avLst>
            </a:prstGeom>
            <a:solidFill>
              <a:srgbClr val="ffcc99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WordArt 98"/>
            <p:cNvSpPr txBox="1"/>
            <p:nvPr/>
          </p:nvSpPr>
          <p:spPr>
            <a:xfrm rot="15600">
              <a:off x="1175040" y="606600"/>
              <a:ext cx="47628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6931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1" strike="noStrike">
                  <a:ln w="9360">
                    <a:solidFill>
                      <a:srgbClr val="cc9900"/>
                    </a:solidFill>
                    <a:round/>
                  </a:ln>
                  <a:solidFill>
                    <a:srgbClr val="ffcc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宋体"/>
                </a:rPr>
                <a:t>者</a:t>
              </a:r>
              <a:endParaRPr b="0" i="1" lang="en-US" sz="1800" spc="1" strike="noStrike">
                <a:ln w="9360">
                  <a:solidFill>
                    <a:srgbClr val="cc9900"/>
                  </a:solidFill>
                  <a:round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264" name="Group 99"/>
          <p:cNvGrpSpPr/>
          <p:nvPr/>
        </p:nvGrpSpPr>
        <p:grpSpPr>
          <a:xfrm>
            <a:off x="1476360" y="584280"/>
            <a:ext cx="576360" cy="287280"/>
            <a:chOff x="1476360" y="584280"/>
            <a:chExt cx="576360" cy="287280"/>
          </a:xfrm>
        </p:grpSpPr>
        <p:sp>
          <p:nvSpPr>
            <p:cNvPr id="265" name="AutoShape 100"/>
            <p:cNvSpPr/>
            <p:nvPr/>
          </p:nvSpPr>
          <p:spPr>
            <a:xfrm>
              <a:off x="1476360" y="584280"/>
              <a:ext cx="576360" cy="287280"/>
            </a:xfrm>
            <a:prstGeom prst="cube">
              <a:avLst>
                <a:gd name="adj" fmla="val 66597"/>
              </a:avLst>
            </a:prstGeom>
            <a:solidFill>
              <a:srgbClr val="ffcc99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WordArt 101"/>
            <p:cNvSpPr txBox="1"/>
            <p:nvPr/>
          </p:nvSpPr>
          <p:spPr>
            <a:xfrm rot="15600">
              <a:off x="1535400" y="606600"/>
              <a:ext cx="47628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6931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1" strike="noStrike">
                  <a:ln w="9360">
                    <a:solidFill>
                      <a:srgbClr val="cc9900"/>
                    </a:solidFill>
                    <a:round/>
                  </a:ln>
                  <a:solidFill>
                    <a:srgbClr val="ffcc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宋体"/>
                </a:rPr>
                <a:t>吾</a:t>
              </a:r>
              <a:endParaRPr b="0" i="1" lang="en-US" sz="1800" spc="1" strike="noStrike">
                <a:ln w="9360">
                  <a:solidFill>
                    <a:srgbClr val="cc9900"/>
                  </a:solidFill>
                  <a:round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267" name="Group 102"/>
          <p:cNvGrpSpPr/>
          <p:nvPr/>
        </p:nvGrpSpPr>
        <p:grpSpPr>
          <a:xfrm>
            <a:off x="1116000" y="476280"/>
            <a:ext cx="576360" cy="287280"/>
            <a:chOff x="1116000" y="476280"/>
            <a:chExt cx="576360" cy="287280"/>
          </a:xfrm>
        </p:grpSpPr>
        <p:sp>
          <p:nvSpPr>
            <p:cNvPr id="268" name="AutoShape 103"/>
            <p:cNvSpPr/>
            <p:nvPr/>
          </p:nvSpPr>
          <p:spPr>
            <a:xfrm>
              <a:off x="1116000" y="476280"/>
              <a:ext cx="576360" cy="287280"/>
            </a:xfrm>
            <a:prstGeom prst="cube">
              <a:avLst>
                <a:gd name="adj" fmla="val 66597"/>
              </a:avLst>
            </a:prstGeom>
            <a:solidFill>
              <a:srgbClr val="ffcc99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WordArt 104"/>
            <p:cNvSpPr txBox="1"/>
            <p:nvPr/>
          </p:nvSpPr>
          <p:spPr>
            <a:xfrm rot="15600">
              <a:off x="1175040" y="498600"/>
              <a:ext cx="47628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6931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1" strike="noStrike">
                  <a:ln w="9360">
                    <a:solidFill>
                      <a:srgbClr val="cc9900"/>
                    </a:solidFill>
                    <a:round/>
                  </a:ln>
                  <a:solidFill>
                    <a:srgbClr val="ffcc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宋体"/>
                </a:rPr>
                <a:t>而</a:t>
              </a:r>
              <a:endParaRPr b="0" i="1" lang="en-US" sz="1800" spc="1" strike="noStrike">
                <a:ln w="9360">
                  <a:solidFill>
                    <a:srgbClr val="cc9900"/>
                  </a:solidFill>
                  <a:round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270" name="Group 105"/>
          <p:cNvGrpSpPr/>
          <p:nvPr/>
        </p:nvGrpSpPr>
        <p:grpSpPr>
          <a:xfrm>
            <a:off x="1476360" y="476280"/>
            <a:ext cx="576360" cy="287280"/>
            <a:chOff x="1476360" y="476280"/>
            <a:chExt cx="576360" cy="287280"/>
          </a:xfrm>
        </p:grpSpPr>
        <p:sp>
          <p:nvSpPr>
            <p:cNvPr id="271" name="AutoShape 106"/>
            <p:cNvSpPr/>
            <p:nvPr/>
          </p:nvSpPr>
          <p:spPr>
            <a:xfrm>
              <a:off x="1476360" y="476280"/>
              <a:ext cx="576360" cy="287280"/>
            </a:xfrm>
            <a:prstGeom prst="cube">
              <a:avLst>
                <a:gd name="adj" fmla="val 66597"/>
              </a:avLst>
            </a:prstGeom>
            <a:solidFill>
              <a:srgbClr val="ffcc99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WordArt 107"/>
            <p:cNvSpPr txBox="1"/>
            <p:nvPr/>
          </p:nvSpPr>
          <p:spPr>
            <a:xfrm rot="15600">
              <a:off x="1535400" y="498600"/>
              <a:ext cx="47628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6931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1" strike="noStrike">
                  <a:ln w="9360">
                    <a:solidFill>
                      <a:srgbClr val="cc9900"/>
                    </a:solidFill>
                    <a:round/>
                  </a:ln>
                  <a:solidFill>
                    <a:srgbClr val="ffcc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宋体"/>
                </a:rPr>
                <a:t>之</a:t>
              </a:r>
              <a:endParaRPr b="0" i="1" lang="en-US" sz="1800" spc="1" strike="noStrike">
                <a:ln w="9360">
                  <a:solidFill>
                    <a:srgbClr val="cc9900"/>
                  </a:solidFill>
                  <a:round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273" name="Group 108"/>
          <p:cNvGrpSpPr/>
          <p:nvPr/>
        </p:nvGrpSpPr>
        <p:grpSpPr>
          <a:xfrm>
            <a:off x="468360" y="3392640"/>
            <a:ext cx="5364000" cy="1044360"/>
            <a:chOff x="468360" y="3392640"/>
            <a:chExt cx="5364000" cy="1044360"/>
          </a:xfrm>
        </p:grpSpPr>
        <p:sp>
          <p:nvSpPr>
            <p:cNvPr id="274" name="AutoShape 109"/>
            <p:cNvSpPr/>
            <p:nvPr/>
          </p:nvSpPr>
          <p:spPr>
            <a:xfrm>
              <a:off x="468360" y="3392640"/>
              <a:ext cx="5364000" cy="1044360"/>
            </a:xfrm>
            <a:prstGeom prst="cube">
              <a:avLst>
                <a:gd name="adj" fmla="val 89643"/>
              </a:avLst>
            </a:prstGeom>
            <a:solidFill>
              <a:srgbClr val="5f5f5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AutoShape 110"/>
            <p:cNvSpPr/>
            <p:nvPr/>
          </p:nvSpPr>
          <p:spPr>
            <a:xfrm>
              <a:off x="649440" y="3537000"/>
              <a:ext cx="5040000" cy="792000"/>
            </a:xfrm>
            <a:prstGeom prst="parallelogram">
              <a:avLst>
                <a:gd name="adj" fmla="val 9949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Group 111"/>
            <p:cNvGrpSpPr/>
            <p:nvPr/>
          </p:nvGrpSpPr>
          <p:grpSpPr>
            <a:xfrm>
              <a:off x="468360" y="3392640"/>
              <a:ext cx="4571280" cy="1008000"/>
              <a:chOff x="468360" y="3392640"/>
              <a:chExt cx="4571280" cy="1008000"/>
            </a:xfrm>
          </p:grpSpPr>
          <p:grpSp>
            <p:nvGrpSpPr>
              <p:cNvPr id="277" name="Group 112"/>
              <p:cNvGrpSpPr/>
              <p:nvPr/>
            </p:nvGrpSpPr>
            <p:grpSpPr>
              <a:xfrm>
                <a:off x="468360" y="3392640"/>
                <a:ext cx="1189800" cy="1008000"/>
                <a:chOff x="468360" y="3392640"/>
                <a:chExt cx="1189800" cy="1008000"/>
              </a:xfrm>
            </p:grpSpPr>
            <p:grpSp>
              <p:nvGrpSpPr>
                <p:cNvPr id="278" name="Group 113"/>
                <p:cNvGrpSpPr/>
                <p:nvPr/>
              </p:nvGrpSpPr>
              <p:grpSpPr>
                <a:xfrm>
                  <a:off x="1277280" y="3392640"/>
                  <a:ext cx="380880" cy="191520"/>
                  <a:chOff x="1277280" y="3392640"/>
                  <a:chExt cx="380880" cy="191520"/>
                </a:xfrm>
              </p:grpSpPr>
              <p:sp>
                <p:nvSpPr>
                  <p:cNvPr id="279" name="AutoShape 114"/>
                  <p:cNvSpPr/>
                  <p:nvPr/>
                </p:nvSpPr>
                <p:spPr>
                  <a:xfrm>
                    <a:off x="1277280" y="339264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WordArt 115"/>
                  <p:cNvSpPr txBox="1"/>
                  <p:nvPr/>
                </p:nvSpPr>
                <p:spPr>
                  <a:xfrm rot="15600">
                    <a:off x="1316160" y="340776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敵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281" name="Group 116"/>
                <p:cNvGrpSpPr/>
                <p:nvPr/>
              </p:nvGrpSpPr>
              <p:grpSpPr>
                <a:xfrm>
                  <a:off x="1158480" y="3512160"/>
                  <a:ext cx="380880" cy="191520"/>
                  <a:chOff x="1158480" y="3512160"/>
                  <a:chExt cx="380880" cy="191520"/>
                </a:xfrm>
              </p:grpSpPr>
              <p:sp>
                <p:nvSpPr>
                  <p:cNvPr id="282" name="AutoShape 117"/>
                  <p:cNvSpPr/>
                  <p:nvPr/>
                </p:nvSpPr>
                <p:spPr>
                  <a:xfrm>
                    <a:off x="1158480" y="3512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WordArt 118"/>
                  <p:cNvSpPr txBox="1"/>
                  <p:nvPr/>
                </p:nvSpPr>
                <p:spPr>
                  <a:xfrm rot="15600">
                    <a:off x="1197360" y="3527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國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284" name="Group 119"/>
                <p:cNvGrpSpPr/>
                <p:nvPr/>
              </p:nvGrpSpPr>
              <p:grpSpPr>
                <a:xfrm>
                  <a:off x="1015920" y="3656160"/>
                  <a:ext cx="380520" cy="191520"/>
                  <a:chOff x="1015920" y="3656160"/>
                  <a:chExt cx="380520" cy="191520"/>
                </a:xfrm>
              </p:grpSpPr>
              <p:sp>
                <p:nvSpPr>
                  <p:cNvPr id="285" name="AutoShape 120"/>
                  <p:cNvSpPr/>
                  <p:nvPr/>
                </p:nvSpPr>
                <p:spPr>
                  <a:xfrm>
                    <a:off x="1015920" y="3656160"/>
                    <a:ext cx="38052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WordArt 121"/>
                  <p:cNvSpPr txBox="1"/>
                  <p:nvPr/>
                </p:nvSpPr>
                <p:spPr>
                  <a:xfrm rot="15600">
                    <a:off x="1055520" y="3671280"/>
                    <a:ext cx="31428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外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287" name="Group 122"/>
                <p:cNvGrpSpPr/>
                <p:nvPr/>
              </p:nvGrpSpPr>
              <p:grpSpPr>
                <a:xfrm>
                  <a:off x="896400" y="3776760"/>
                  <a:ext cx="380880" cy="191520"/>
                  <a:chOff x="896400" y="3776760"/>
                  <a:chExt cx="380880" cy="191520"/>
                </a:xfrm>
              </p:grpSpPr>
              <p:sp>
                <p:nvSpPr>
                  <p:cNvPr id="288" name="AutoShape 123"/>
                  <p:cNvSpPr/>
                  <p:nvPr/>
                </p:nvSpPr>
                <p:spPr>
                  <a:xfrm>
                    <a:off x="896400" y="3776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WordArt 124"/>
                  <p:cNvSpPr txBox="1"/>
                  <p:nvPr/>
                </p:nvSpPr>
                <p:spPr>
                  <a:xfrm rot="15600">
                    <a:off x="935280" y="3791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患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290" name="Group 125"/>
                <p:cNvGrpSpPr/>
                <p:nvPr/>
              </p:nvGrpSpPr>
              <p:grpSpPr>
                <a:xfrm>
                  <a:off x="753480" y="3921120"/>
                  <a:ext cx="380880" cy="191520"/>
                  <a:chOff x="753480" y="3921120"/>
                  <a:chExt cx="380880" cy="191520"/>
                </a:xfrm>
              </p:grpSpPr>
              <p:sp>
                <p:nvSpPr>
                  <p:cNvPr id="291" name="AutoShape 126"/>
                  <p:cNvSpPr/>
                  <p:nvPr/>
                </p:nvSpPr>
                <p:spPr>
                  <a:xfrm>
                    <a:off x="753480" y="3921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WordArt 127"/>
                  <p:cNvSpPr txBox="1"/>
                  <p:nvPr/>
                </p:nvSpPr>
                <p:spPr>
                  <a:xfrm rot="15600">
                    <a:off x="792360" y="3936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者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293" name="Group 128"/>
                <p:cNvGrpSpPr/>
                <p:nvPr/>
              </p:nvGrpSpPr>
              <p:grpSpPr>
                <a:xfrm>
                  <a:off x="610920" y="4064760"/>
                  <a:ext cx="380520" cy="191520"/>
                  <a:chOff x="610920" y="4064760"/>
                  <a:chExt cx="380520" cy="191520"/>
                </a:xfrm>
              </p:grpSpPr>
              <p:sp>
                <p:nvSpPr>
                  <p:cNvPr id="294" name="AutoShape 129"/>
                  <p:cNvSpPr/>
                  <p:nvPr/>
                </p:nvSpPr>
                <p:spPr>
                  <a:xfrm>
                    <a:off x="610920" y="4064760"/>
                    <a:ext cx="38052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WordArt 130"/>
                  <p:cNvSpPr txBox="1"/>
                  <p:nvPr/>
                </p:nvSpPr>
                <p:spPr>
                  <a:xfrm rot="15600">
                    <a:off x="650520" y="4079880"/>
                    <a:ext cx="31428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國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296" name="Group 131"/>
                <p:cNvGrpSpPr/>
                <p:nvPr/>
              </p:nvGrpSpPr>
              <p:grpSpPr>
                <a:xfrm>
                  <a:off x="468360" y="4209120"/>
                  <a:ext cx="380880" cy="191520"/>
                  <a:chOff x="468360" y="4209120"/>
                  <a:chExt cx="380880" cy="191520"/>
                </a:xfrm>
              </p:grpSpPr>
              <p:sp>
                <p:nvSpPr>
                  <p:cNvPr id="297" name="AutoShape 132"/>
                  <p:cNvSpPr/>
                  <p:nvPr/>
                </p:nvSpPr>
                <p:spPr>
                  <a:xfrm>
                    <a:off x="468360" y="4209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WordArt 133"/>
                  <p:cNvSpPr txBox="1"/>
                  <p:nvPr/>
                </p:nvSpPr>
                <p:spPr>
                  <a:xfrm rot="15600">
                    <a:off x="507240" y="4224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恒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299" name="Group 134"/>
              <p:cNvGrpSpPr/>
              <p:nvPr/>
            </p:nvGrpSpPr>
            <p:grpSpPr>
              <a:xfrm>
                <a:off x="729720" y="3392640"/>
                <a:ext cx="1189800" cy="1008000"/>
                <a:chOff x="729720" y="3392640"/>
                <a:chExt cx="1189800" cy="1008000"/>
              </a:xfrm>
            </p:grpSpPr>
            <p:grpSp>
              <p:nvGrpSpPr>
                <p:cNvPr id="300" name="Group 135"/>
                <p:cNvGrpSpPr/>
                <p:nvPr/>
              </p:nvGrpSpPr>
              <p:grpSpPr>
                <a:xfrm>
                  <a:off x="1538640" y="3392640"/>
                  <a:ext cx="380880" cy="191520"/>
                  <a:chOff x="1538640" y="3392640"/>
                  <a:chExt cx="380880" cy="191520"/>
                </a:xfrm>
              </p:grpSpPr>
              <p:sp>
                <p:nvSpPr>
                  <p:cNvPr id="301" name="AutoShape 136"/>
                  <p:cNvSpPr/>
                  <p:nvPr/>
                </p:nvSpPr>
                <p:spPr>
                  <a:xfrm>
                    <a:off x="1538640" y="339264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WordArt 137"/>
                  <p:cNvSpPr txBox="1"/>
                  <p:nvPr/>
                </p:nvSpPr>
                <p:spPr>
                  <a:xfrm rot="15600">
                    <a:off x="1577520" y="340776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法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03" name="Group 138"/>
                <p:cNvGrpSpPr/>
                <p:nvPr/>
              </p:nvGrpSpPr>
              <p:grpSpPr>
                <a:xfrm>
                  <a:off x="1419840" y="3512160"/>
                  <a:ext cx="380880" cy="191520"/>
                  <a:chOff x="1419840" y="3512160"/>
                  <a:chExt cx="380880" cy="191520"/>
                </a:xfrm>
              </p:grpSpPr>
              <p:sp>
                <p:nvSpPr>
                  <p:cNvPr id="304" name="AutoShape 139"/>
                  <p:cNvSpPr/>
                  <p:nvPr/>
                </p:nvSpPr>
                <p:spPr>
                  <a:xfrm>
                    <a:off x="1419840" y="3512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WordArt 140"/>
                  <p:cNvSpPr txBox="1"/>
                  <p:nvPr/>
                </p:nvSpPr>
                <p:spPr>
                  <a:xfrm rot="15600">
                    <a:off x="1458720" y="3527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家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06" name="Group 141"/>
                <p:cNvGrpSpPr/>
                <p:nvPr/>
              </p:nvGrpSpPr>
              <p:grpSpPr>
                <a:xfrm>
                  <a:off x="1277280" y="3656160"/>
                  <a:ext cx="380520" cy="191520"/>
                  <a:chOff x="1277280" y="3656160"/>
                  <a:chExt cx="380520" cy="191520"/>
                </a:xfrm>
              </p:grpSpPr>
              <p:sp>
                <p:nvSpPr>
                  <p:cNvPr id="307" name="AutoShape 142"/>
                  <p:cNvSpPr/>
                  <p:nvPr/>
                </p:nvSpPr>
                <p:spPr>
                  <a:xfrm>
                    <a:off x="1277280" y="3656160"/>
                    <a:ext cx="38052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WordArt 143"/>
                  <p:cNvSpPr txBox="1"/>
                  <p:nvPr/>
                </p:nvSpPr>
                <p:spPr>
                  <a:xfrm rot="15600">
                    <a:off x="1316880" y="3671280"/>
                    <a:ext cx="31428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拂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09" name="Group 144"/>
                <p:cNvGrpSpPr/>
                <p:nvPr/>
              </p:nvGrpSpPr>
              <p:grpSpPr>
                <a:xfrm>
                  <a:off x="1157760" y="3776760"/>
                  <a:ext cx="380880" cy="191520"/>
                  <a:chOff x="1157760" y="3776760"/>
                  <a:chExt cx="380880" cy="191520"/>
                </a:xfrm>
              </p:grpSpPr>
              <p:sp>
                <p:nvSpPr>
                  <p:cNvPr id="310" name="AutoShape 145"/>
                  <p:cNvSpPr/>
                  <p:nvPr/>
                </p:nvSpPr>
                <p:spPr>
                  <a:xfrm>
                    <a:off x="1157760" y="3776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WordArt 146"/>
                  <p:cNvSpPr txBox="1"/>
                  <p:nvPr/>
                </p:nvSpPr>
                <p:spPr>
                  <a:xfrm rot="15600">
                    <a:off x="1196640" y="3791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士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12" name="Group 147"/>
                <p:cNvGrpSpPr/>
                <p:nvPr/>
              </p:nvGrpSpPr>
              <p:grpSpPr>
                <a:xfrm>
                  <a:off x="1014840" y="3921120"/>
                  <a:ext cx="380880" cy="191520"/>
                  <a:chOff x="1014840" y="3921120"/>
                  <a:chExt cx="380880" cy="191520"/>
                </a:xfrm>
              </p:grpSpPr>
              <p:sp>
                <p:nvSpPr>
                  <p:cNvPr id="313" name="AutoShape 148"/>
                  <p:cNvSpPr/>
                  <p:nvPr/>
                </p:nvSpPr>
                <p:spPr>
                  <a:xfrm>
                    <a:off x="1014840" y="3921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WordArt 149"/>
                  <p:cNvSpPr txBox="1"/>
                  <p:nvPr/>
                </p:nvSpPr>
                <p:spPr>
                  <a:xfrm rot="15600">
                    <a:off x="1053720" y="3936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出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15" name="Group 150"/>
                <p:cNvGrpSpPr/>
                <p:nvPr/>
              </p:nvGrpSpPr>
              <p:grpSpPr>
                <a:xfrm>
                  <a:off x="872280" y="4064760"/>
                  <a:ext cx="380520" cy="191520"/>
                  <a:chOff x="872280" y="4064760"/>
                  <a:chExt cx="380520" cy="191520"/>
                </a:xfrm>
              </p:grpSpPr>
              <p:sp>
                <p:nvSpPr>
                  <p:cNvPr id="316" name="AutoShape 151"/>
                  <p:cNvSpPr/>
                  <p:nvPr/>
                </p:nvSpPr>
                <p:spPr>
                  <a:xfrm>
                    <a:off x="872280" y="4064760"/>
                    <a:ext cx="38052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WordArt 152"/>
                  <p:cNvSpPr txBox="1"/>
                  <p:nvPr/>
                </p:nvSpPr>
                <p:spPr>
                  <a:xfrm rot="15600">
                    <a:off x="911880" y="4079880"/>
                    <a:ext cx="31428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則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18" name="Group 153"/>
                <p:cNvGrpSpPr/>
                <p:nvPr/>
              </p:nvGrpSpPr>
              <p:grpSpPr>
                <a:xfrm>
                  <a:off x="729720" y="4209120"/>
                  <a:ext cx="380880" cy="191520"/>
                  <a:chOff x="729720" y="4209120"/>
                  <a:chExt cx="380880" cy="191520"/>
                </a:xfrm>
              </p:grpSpPr>
              <p:sp>
                <p:nvSpPr>
                  <p:cNvPr id="319" name="AutoShape 154"/>
                  <p:cNvSpPr/>
                  <p:nvPr/>
                </p:nvSpPr>
                <p:spPr>
                  <a:xfrm>
                    <a:off x="729720" y="4209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WordArt 155"/>
                  <p:cNvSpPr txBox="1"/>
                  <p:nvPr/>
                </p:nvSpPr>
                <p:spPr>
                  <a:xfrm rot="15600">
                    <a:off x="768600" y="4224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無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321" name="Group 156"/>
              <p:cNvGrpSpPr/>
              <p:nvPr/>
            </p:nvGrpSpPr>
            <p:grpSpPr>
              <a:xfrm>
                <a:off x="991800" y="3392640"/>
                <a:ext cx="1190160" cy="1008000"/>
                <a:chOff x="991800" y="3392640"/>
                <a:chExt cx="1190160" cy="1008000"/>
              </a:xfrm>
            </p:grpSpPr>
            <p:grpSp>
              <p:nvGrpSpPr>
                <p:cNvPr id="322" name="Group 157"/>
                <p:cNvGrpSpPr/>
                <p:nvPr/>
              </p:nvGrpSpPr>
              <p:grpSpPr>
                <a:xfrm>
                  <a:off x="1801080" y="3392640"/>
                  <a:ext cx="380880" cy="191520"/>
                  <a:chOff x="1801080" y="3392640"/>
                  <a:chExt cx="380880" cy="191520"/>
                </a:xfrm>
              </p:grpSpPr>
              <p:sp>
                <p:nvSpPr>
                  <p:cNvPr id="323" name="AutoShape 158"/>
                  <p:cNvSpPr/>
                  <p:nvPr/>
                </p:nvSpPr>
                <p:spPr>
                  <a:xfrm>
                    <a:off x="1801080" y="339264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WordArt 159"/>
                  <p:cNvSpPr txBox="1"/>
                  <p:nvPr/>
                </p:nvSpPr>
                <p:spPr>
                  <a:xfrm rot="15600">
                    <a:off x="1839960" y="340776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聲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25" name="Group 160"/>
                <p:cNvGrpSpPr/>
                <p:nvPr/>
              </p:nvGrpSpPr>
              <p:grpSpPr>
                <a:xfrm>
                  <a:off x="1682280" y="3512160"/>
                  <a:ext cx="380880" cy="191520"/>
                  <a:chOff x="1682280" y="3512160"/>
                  <a:chExt cx="380880" cy="191520"/>
                </a:xfrm>
              </p:grpSpPr>
              <p:sp>
                <p:nvSpPr>
                  <p:cNvPr id="326" name="AutoShape 161"/>
                  <p:cNvSpPr/>
                  <p:nvPr/>
                </p:nvSpPr>
                <p:spPr>
                  <a:xfrm>
                    <a:off x="1682280" y="3512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WordArt 162"/>
                  <p:cNvSpPr txBox="1"/>
                  <p:nvPr/>
                </p:nvSpPr>
                <p:spPr>
                  <a:xfrm rot="15600">
                    <a:off x="1721160" y="3527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而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28" name="Group 163"/>
                <p:cNvGrpSpPr/>
                <p:nvPr/>
              </p:nvGrpSpPr>
              <p:grpSpPr>
                <a:xfrm>
                  <a:off x="1539720" y="3656160"/>
                  <a:ext cx="380880" cy="191520"/>
                  <a:chOff x="1539720" y="3656160"/>
                  <a:chExt cx="380880" cy="191520"/>
                </a:xfrm>
              </p:grpSpPr>
              <p:sp>
                <p:nvSpPr>
                  <p:cNvPr id="329" name="AutoShape 164"/>
                  <p:cNvSpPr/>
                  <p:nvPr/>
                </p:nvSpPr>
                <p:spPr>
                  <a:xfrm>
                    <a:off x="1539720" y="3656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WordArt 165"/>
                  <p:cNvSpPr txBox="1"/>
                  <p:nvPr/>
                </p:nvSpPr>
                <p:spPr>
                  <a:xfrm rot="15600">
                    <a:off x="1578600" y="3671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後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31" name="Group 166"/>
                <p:cNvGrpSpPr/>
                <p:nvPr/>
              </p:nvGrpSpPr>
              <p:grpSpPr>
                <a:xfrm>
                  <a:off x="1419840" y="3776760"/>
                  <a:ext cx="380880" cy="191520"/>
                  <a:chOff x="1419840" y="3776760"/>
                  <a:chExt cx="380880" cy="191520"/>
                </a:xfrm>
              </p:grpSpPr>
              <p:sp>
                <p:nvSpPr>
                  <p:cNvPr id="332" name="AutoShape 167"/>
                  <p:cNvSpPr/>
                  <p:nvPr/>
                </p:nvSpPr>
                <p:spPr>
                  <a:xfrm>
                    <a:off x="1419840" y="3776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WordArt 168"/>
                  <p:cNvSpPr txBox="1"/>
                  <p:nvPr/>
                </p:nvSpPr>
                <p:spPr>
                  <a:xfrm rot="15600">
                    <a:off x="1458720" y="3791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喩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34" name="Group 169"/>
                <p:cNvGrpSpPr/>
                <p:nvPr/>
              </p:nvGrpSpPr>
              <p:grpSpPr>
                <a:xfrm>
                  <a:off x="1276920" y="3921120"/>
                  <a:ext cx="380880" cy="191520"/>
                  <a:chOff x="1276920" y="3921120"/>
                  <a:chExt cx="380880" cy="191520"/>
                </a:xfrm>
              </p:grpSpPr>
              <p:sp>
                <p:nvSpPr>
                  <p:cNvPr id="335" name="AutoShape 170"/>
                  <p:cNvSpPr/>
                  <p:nvPr/>
                </p:nvSpPr>
                <p:spPr>
                  <a:xfrm>
                    <a:off x="1276920" y="3921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WordArt 171"/>
                  <p:cNvSpPr txBox="1"/>
                  <p:nvPr/>
                </p:nvSpPr>
                <p:spPr>
                  <a:xfrm rot="15600">
                    <a:off x="1315800" y="3936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入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37" name="Group 172"/>
                <p:cNvGrpSpPr/>
                <p:nvPr/>
              </p:nvGrpSpPr>
              <p:grpSpPr>
                <a:xfrm>
                  <a:off x="1134360" y="4064760"/>
                  <a:ext cx="380880" cy="191520"/>
                  <a:chOff x="1134360" y="4064760"/>
                  <a:chExt cx="380880" cy="191520"/>
                </a:xfrm>
              </p:grpSpPr>
              <p:sp>
                <p:nvSpPr>
                  <p:cNvPr id="338" name="AutoShape 173"/>
                  <p:cNvSpPr/>
                  <p:nvPr/>
                </p:nvSpPr>
                <p:spPr>
                  <a:xfrm>
                    <a:off x="1134360" y="4064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WordArt 174"/>
                  <p:cNvSpPr txBox="1"/>
                  <p:nvPr/>
                </p:nvSpPr>
                <p:spPr>
                  <a:xfrm rot="15600">
                    <a:off x="1173240" y="4079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則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40" name="Group 175"/>
                <p:cNvGrpSpPr/>
                <p:nvPr/>
              </p:nvGrpSpPr>
              <p:grpSpPr>
                <a:xfrm>
                  <a:off x="991800" y="4209120"/>
                  <a:ext cx="380880" cy="191520"/>
                  <a:chOff x="991800" y="4209120"/>
                  <a:chExt cx="380880" cy="191520"/>
                </a:xfrm>
              </p:grpSpPr>
              <p:sp>
                <p:nvSpPr>
                  <p:cNvPr id="341" name="AutoShape 176"/>
                  <p:cNvSpPr/>
                  <p:nvPr/>
                </p:nvSpPr>
                <p:spPr>
                  <a:xfrm>
                    <a:off x="991800" y="4209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WordArt 177"/>
                  <p:cNvSpPr txBox="1"/>
                  <p:nvPr/>
                </p:nvSpPr>
                <p:spPr>
                  <a:xfrm rot="15600">
                    <a:off x="1030680" y="4224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無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343" name="Group 178"/>
              <p:cNvGrpSpPr/>
              <p:nvPr/>
            </p:nvGrpSpPr>
            <p:grpSpPr>
              <a:xfrm>
                <a:off x="1253520" y="3392640"/>
                <a:ext cx="1190160" cy="1008000"/>
                <a:chOff x="1253520" y="3392640"/>
                <a:chExt cx="1190160" cy="1008000"/>
              </a:xfrm>
            </p:grpSpPr>
            <p:grpSp>
              <p:nvGrpSpPr>
                <p:cNvPr id="344" name="Group 179"/>
                <p:cNvGrpSpPr/>
                <p:nvPr/>
              </p:nvGrpSpPr>
              <p:grpSpPr>
                <a:xfrm>
                  <a:off x="2062800" y="3392640"/>
                  <a:ext cx="380880" cy="191520"/>
                  <a:chOff x="2062800" y="3392640"/>
                  <a:chExt cx="380880" cy="191520"/>
                </a:xfrm>
              </p:grpSpPr>
              <p:sp>
                <p:nvSpPr>
                  <p:cNvPr id="345" name="AutoShape 180"/>
                  <p:cNvSpPr/>
                  <p:nvPr/>
                </p:nvSpPr>
                <p:spPr>
                  <a:xfrm>
                    <a:off x="2062800" y="339264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WordArt 181"/>
                  <p:cNvSpPr txBox="1"/>
                  <p:nvPr/>
                </p:nvSpPr>
                <p:spPr>
                  <a:xfrm rot="15600">
                    <a:off x="2101680" y="340776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後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47" name="Group 182"/>
                <p:cNvGrpSpPr/>
                <p:nvPr/>
              </p:nvGrpSpPr>
              <p:grpSpPr>
                <a:xfrm>
                  <a:off x="1944000" y="3512160"/>
                  <a:ext cx="380880" cy="191520"/>
                  <a:chOff x="1944000" y="3512160"/>
                  <a:chExt cx="380880" cy="191520"/>
                </a:xfrm>
              </p:grpSpPr>
              <p:sp>
                <p:nvSpPr>
                  <p:cNvPr id="348" name="AutoShape 183"/>
                  <p:cNvSpPr/>
                  <p:nvPr/>
                </p:nvSpPr>
                <p:spPr>
                  <a:xfrm>
                    <a:off x="1944000" y="3512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WordArt 184"/>
                  <p:cNvSpPr txBox="1"/>
                  <p:nvPr/>
                </p:nvSpPr>
                <p:spPr>
                  <a:xfrm rot="15600">
                    <a:off x="1982880" y="3527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作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50" name="Group 185"/>
                <p:cNvGrpSpPr/>
                <p:nvPr/>
              </p:nvGrpSpPr>
              <p:grpSpPr>
                <a:xfrm>
                  <a:off x="1801440" y="3656160"/>
                  <a:ext cx="380880" cy="191520"/>
                  <a:chOff x="1801440" y="3656160"/>
                  <a:chExt cx="380880" cy="191520"/>
                </a:xfrm>
              </p:grpSpPr>
              <p:sp>
                <p:nvSpPr>
                  <p:cNvPr id="351" name="AutoShape 186"/>
                  <p:cNvSpPr/>
                  <p:nvPr/>
                </p:nvSpPr>
                <p:spPr>
                  <a:xfrm>
                    <a:off x="1801440" y="3656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WordArt 187"/>
                  <p:cNvSpPr txBox="1"/>
                  <p:nvPr/>
                </p:nvSpPr>
                <p:spPr>
                  <a:xfrm rot="15600">
                    <a:off x="1840320" y="3671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徵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53" name="Group 188"/>
                <p:cNvGrpSpPr/>
                <p:nvPr/>
              </p:nvGrpSpPr>
              <p:grpSpPr>
                <a:xfrm>
                  <a:off x="1681560" y="3776760"/>
                  <a:ext cx="380880" cy="191520"/>
                  <a:chOff x="1681560" y="3776760"/>
                  <a:chExt cx="380880" cy="191520"/>
                </a:xfrm>
              </p:grpSpPr>
              <p:sp>
                <p:nvSpPr>
                  <p:cNvPr id="354" name="AutoShape 189"/>
                  <p:cNvSpPr/>
                  <p:nvPr/>
                </p:nvSpPr>
                <p:spPr>
                  <a:xfrm>
                    <a:off x="1681560" y="3776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WordArt 190"/>
                  <p:cNvSpPr txBox="1"/>
                  <p:nvPr/>
                </p:nvSpPr>
                <p:spPr>
                  <a:xfrm rot="15600">
                    <a:off x="1720440" y="3791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於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56" name="Group 191"/>
                <p:cNvGrpSpPr/>
                <p:nvPr/>
              </p:nvGrpSpPr>
              <p:grpSpPr>
                <a:xfrm>
                  <a:off x="1538640" y="3921120"/>
                  <a:ext cx="380880" cy="191520"/>
                  <a:chOff x="1538640" y="3921120"/>
                  <a:chExt cx="380880" cy="191520"/>
                </a:xfrm>
              </p:grpSpPr>
              <p:sp>
                <p:nvSpPr>
                  <p:cNvPr id="357" name="AutoShape 192"/>
                  <p:cNvSpPr/>
                  <p:nvPr/>
                </p:nvSpPr>
                <p:spPr>
                  <a:xfrm>
                    <a:off x="1538640" y="3921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WordArt 193"/>
                  <p:cNvSpPr txBox="1"/>
                  <p:nvPr/>
                </p:nvSpPr>
                <p:spPr>
                  <a:xfrm rot="15600">
                    <a:off x="1577520" y="3936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色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59" name="Group 194"/>
                <p:cNvGrpSpPr/>
                <p:nvPr/>
              </p:nvGrpSpPr>
              <p:grpSpPr>
                <a:xfrm>
                  <a:off x="1396080" y="4064760"/>
                  <a:ext cx="380880" cy="191520"/>
                  <a:chOff x="1396080" y="4064760"/>
                  <a:chExt cx="380880" cy="191520"/>
                </a:xfrm>
              </p:grpSpPr>
              <p:sp>
                <p:nvSpPr>
                  <p:cNvPr id="360" name="AutoShape 195"/>
                  <p:cNvSpPr/>
                  <p:nvPr/>
                </p:nvSpPr>
                <p:spPr>
                  <a:xfrm>
                    <a:off x="1396080" y="4064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WordArt 196"/>
                  <p:cNvSpPr txBox="1"/>
                  <p:nvPr/>
                </p:nvSpPr>
                <p:spPr>
                  <a:xfrm rot="15600">
                    <a:off x="1434960" y="4079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發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62" name="Group 197"/>
                <p:cNvGrpSpPr/>
                <p:nvPr/>
              </p:nvGrpSpPr>
              <p:grpSpPr>
                <a:xfrm>
                  <a:off x="1253520" y="4209120"/>
                  <a:ext cx="380880" cy="191520"/>
                  <a:chOff x="1253520" y="4209120"/>
                  <a:chExt cx="380880" cy="191520"/>
                </a:xfrm>
              </p:grpSpPr>
              <p:sp>
                <p:nvSpPr>
                  <p:cNvPr id="363" name="AutoShape 198"/>
                  <p:cNvSpPr/>
                  <p:nvPr/>
                </p:nvSpPr>
                <p:spPr>
                  <a:xfrm>
                    <a:off x="1253520" y="4209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WordArt 199"/>
                  <p:cNvSpPr txBox="1"/>
                  <p:nvPr/>
                </p:nvSpPr>
                <p:spPr>
                  <a:xfrm rot="15600">
                    <a:off x="1292400" y="4224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於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365" name="Group 200"/>
              <p:cNvGrpSpPr/>
              <p:nvPr/>
            </p:nvGrpSpPr>
            <p:grpSpPr>
              <a:xfrm>
                <a:off x="1515960" y="3392640"/>
                <a:ext cx="1189800" cy="1008000"/>
                <a:chOff x="1515960" y="3392640"/>
                <a:chExt cx="1189800" cy="1008000"/>
              </a:xfrm>
            </p:grpSpPr>
            <p:grpSp>
              <p:nvGrpSpPr>
                <p:cNvPr id="366" name="Group 201"/>
                <p:cNvGrpSpPr/>
                <p:nvPr/>
              </p:nvGrpSpPr>
              <p:grpSpPr>
                <a:xfrm>
                  <a:off x="2324880" y="3392640"/>
                  <a:ext cx="380880" cy="191520"/>
                  <a:chOff x="2324880" y="3392640"/>
                  <a:chExt cx="380880" cy="191520"/>
                </a:xfrm>
              </p:grpSpPr>
              <p:sp>
                <p:nvSpPr>
                  <p:cNvPr id="367" name="AutoShape 202"/>
                  <p:cNvSpPr/>
                  <p:nvPr/>
                </p:nvSpPr>
                <p:spPr>
                  <a:xfrm>
                    <a:off x="2324880" y="339264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WordArt 203"/>
                  <p:cNvSpPr txBox="1"/>
                  <p:nvPr/>
                </p:nvSpPr>
                <p:spPr>
                  <a:xfrm rot="15600">
                    <a:off x="2363760" y="340776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困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69" name="Group 204"/>
                <p:cNvGrpSpPr/>
                <p:nvPr/>
              </p:nvGrpSpPr>
              <p:grpSpPr>
                <a:xfrm>
                  <a:off x="2206080" y="3512160"/>
                  <a:ext cx="380880" cy="191520"/>
                  <a:chOff x="2206080" y="3512160"/>
                  <a:chExt cx="380880" cy="191520"/>
                </a:xfrm>
              </p:grpSpPr>
              <p:sp>
                <p:nvSpPr>
                  <p:cNvPr id="370" name="AutoShape 205"/>
                  <p:cNvSpPr/>
                  <p:nvPr/>
                </p:nvSpPr>
                <p:spPr>
                  <a:xfrm>
                    <a:off x="2206080" y="3512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WordArt 206"/>
                  <p:cNvSpPr txBox="1"/>
                  <p:nvPr/>
                </p:nvSpPr>
                <p:spPr>
                  <a:xfrm rot="15600">
                    <a:off x="2244960" y="3527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於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72" name="Group 207"/>
                <p:cNvGrpSpPr/>
                <p:nvPr/>
              </p:nvGrpSpPr>
              <p:grpSpPr>
                <a:xfrm>
                  <a:off x="2063520" y="3656160"/>
                  <a:ext cx="380520" cy="191520"/>
                  <a:chOff x="2063520" y="3656160"/>
                  <a:chExt cx="380520" cy="191520"/>
                </a:xfrm>
              </p:grpSpPr>
              <p:sp>
                <p:nvSpPr>
                  <p:cNvPr id="373" name="AutoShape 208"/>
                  <p:cNvSpPr/>
                  <p:nvPr/>
                </p:nvSpPr>
                <p:spPr>
                  <a:xfrm>
                    <a:off x="2063520" y="3656160"/>
                    <a:ext cx="38052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WordArt 209"/>
                  <p:cNvSpPr txBox="1"/>
                  <p:nvPr/>
                </p:nvSpPr>
                <p:spPr>
                  <a:xfrm rot="15600">
                    <a:off x="2103120" y="3671280"/>
                    <a:ext cx="31428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心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75" name="Group 210"/>
                <p:cNvGrpSpPr/>
                <p:nvPr/>
              </p:nvGrpSpPr>
              <p:grpSpPr>
                <a:xfrm>
                  <a:off x="1944000" y="3776760"/>
                  <a:ext cx="380880" cy="191520"/>
                  <a:chOff x="1944000" y="3776760"/>
                  <a:chExt cx="380880" cy="191520"/>
                </a:xfrm>
              </p:grpSpPr>
              <p:sp>
                <p:nvSpPr>
                  <p:cNvPr id="376" name="AutoShape 211"/>
                  <p:cNvSpPr/>
                  <p:nvPr/>
                </p:nvSpPr>
                <p:spPr>
                  <a:xfrm>
                    <a:off x="1944000" y="3776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WordArt 212"/>
                  <p:cNvSpPr txBox="1"/>
                  <p:nvPr/>
                </p:nvSpPr>
                <p:spPr>
                  <a:xfrm rot="15600">
                    <a:off x="1982880" y="3791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衡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78" name="Group 213"/>
                <p:cNvGrpSpPr/>
                <p:nvPr/>
              </p:nvGrpSpPr>
              <p:grpSpPr>
                <a:xfrm>
                  <a:off x="1801080" y="3921120"/>
                  <a:ext cx="380880" cy="191520"/>
                  <a:chOff x="1801080" y="3921120"/>
                  <a:chExt cx="380880" cy="191520"/>
                </a:xfrm>
              </p:grpSpPr>
              <p:sp>
                <p:nvSpPr>
                  <p:cNvPr id="379" name="AutoShape 214"/>
                  <p:cNvSpPr/>
                  <p:nvPr/>
                </p:nvSpPr>
                <p:spPr>
                  <a:xfrm>
                    <a:off x="1801080" y="3921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WordArt 215"/>
                  <p:cNvSpPr txBox="1"/>
                  <p:nvPr/>
                </p:nvSpPr>
                <p:spPr>
                  <a:xfrm rot="15600">
                    <a:off x="1839960" y="3936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於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81" name="Group 216"/>
                <p:cNvGrpSpPr/>
                <p:nvPr/>
              </p:nvGrpSpPr>
              <p:grpSpPr>
                <a:xfrm>
                  <a:off x="1658520" y="4064760"/>
                  <a:ext cx="380520" cy="191520"/>
                  <a:chOff x="1658520" y="4064760"/>
                  <a:chExt cx="380520" cy="191520"/>
                </a:xfrm>
              </p:grpSpPr>
              <p:sp>
                <p:nvSpPr>
                  <p:cNvPr id="382" name="AutoShape 217"/>
                  <p:cNvSpPr/>
                  <p:nvPr/>
                </p:nvSpPr>
                <p:spPr>
                  <a:xfrm>
                    <a:off x="1658520" y="4064760"/>
                    <a:ext cx="38052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WordArt 218"/>
                  <p:cNvSpPr txBox="1"/>
                  <p:nvPr/>
                </p:nvSpPr>
                <p:spPr>
                  <a:xfrm rot="15600">
                    <a:off x="1698120" y="4079880"/>
                    <a:ext cx="31428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虑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84" name="Group 219"/>
                <p:cNvGrpSpPr/>
                <p:nvPr/>
              </p:nvGrpSpPr>
              <p:grpSpPr>
                <a:xfrm>
                  <a:off x="1515960" y="4209120"/>
                  <a:ext cx="380880" cy="191520"/>
                  <a:chOff x="1515960" y="4209120"/>
                  <a:chExt cx="380880" cy="191520"/>
                </a:xfrm>
              </p:grpSpPr>
              <p:sp>
                <p:nvSpPr>
                  <p:cNvPr id="385" name="AutoShape 220"/>
                  <p:cNvSpPr/>
                  <p:nvPr/>
                </p:nvSpPr>
                <p:spPr>
                  <a:xfrm>
                    <a:off x="1515960" y="4209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WordArt 221"/>
                  <p:cNvSpPr txBox="1"/>
                  <p:nvPr/>
                </p:nvSpPr>
                <p:spPr>
                  <a:xfrm rot="15600">
                    <a:off x="1554840" y="4224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而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387" name="Group 222"/>
              <p:cNvGrpSpPr/>
              <p:nvPr/>
            </p:nvGrpSpPr>
            <p:grpSpPr>
              <a:xfrm>
                <a:off x="1777320" y="3392640"/>
                <a:ext cx="1189800" cy="1008000"/>
                <a:chOff x="1777320" y="3392640"/>
                <a:chExt cx="1189800" cy="1008000"/>
              </a:xfrm>
            </p:grpSpPr>
            <p:grpSp>
              <p:nvGrpSpPr>
                <p:cNvPr id="388" name="Group 223"/>
                <p:cNvGrpSpPr/>
                <p:nvPr/>
              </p:nvGrpSpPr>
              <p:grpSpPr>
                <a:xfrm>
                  <a:off x="2586240" y="3392640"/>
                  <a:ext cx="380880" cy="191520"/>
                  <a:chOff x="2586240" y="3392640"/>
                  <a:chExt cx="380880" cy="191520"/>
                </a:xfrm>
              </p:grpSpPr>
              <p:sp>
                <p:nvSpPr>
                  <p:cNvPr id="389" name="AutoShape 224"/>
                  <p:cNvSpPr/>
                  <p:nvPr/>
                </p:nvSpPr>
                <p:spPr>
                  <a:xfrm>
                    <a:off x="2586240" y="339264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WordArt 225"/>
                  <p:cNvSpPr txBox="1"/>
                  <p:nvPr/>
                </p:nvSpPr>
                <p:spPr>
                  <a:xfrm rot="15600">
                    <a:off x="2625120" y="340776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人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91" name="Group 226"/>
                <p:cNvGrpSpPr/>
                <p:nvPr/>
              </p:nvGrpSpPr>
              <p:grpSpPr>
                <a:xfrm>
                  <a:off x="2467440" y="3512160"/>
                  <a:ext cx="380880" cy="191520"/>
                  <a:chOff x="2467440" y="3512160"/>
                  <a:chExt cx="380880" cy="191520"/>
                </a:xfrm>
              </p:grpSpPr>
              <p:sp>
                <p:nvSpPr>
                  <p:cNvPr id="392" name="AutoShape 227"/>
                  <p:cNvSpPr/>
                  <p:nvPr/>
                </p:nvSpPr>
                <p:spPr>
                  <a:xfrm>
                    <a:off x="2467440" y="3512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WordArt 228"/>
                  <p:cNvSpPr txBox="1"/>
                  <p:nvPr/>
                </p:nvSpPr>
                <p:spPr>
                  <a:xfrm rot="15600">
                    <a:off x="2506320" y="3527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衡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94" name="Group 229"/>
                <p:cNvGrpSpPr/>
                <p:nvPr/>
              </p:nvGrpSpPr>
              <p:grpSpPr>
                <a:xfrm>
                  <a:off x="2324880" y="3656160"/>
                  <a:ext cx="380520" cy="191520"/>
                  <a:chOff x="2324880" y="3656160"/>
                  <a:chExt cx="380520" cy="191520"/>
                </a:xfrm>
              </p:grpSpPr>
              <p:sp>
                <p:nvSpPr>
                  <p:cNvPr id="395" name="AutoShape 230"/>
                  <p:cNvSpPr/>
                  <p:nvPr/>
                </p:nvSpPr>
                <p:spPr>
                  <a:xfrm>
                    <a:off x="2324880" y="3656160"/>
                    <a:ext cx="38052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WordArt 231"/>
                  <p:cNvSpPr txBox="1"/>
                  <p:nvPr/>
                </p:nvSpPr>
                <p:spPr>
                  <a:xfrm rot="15600">
                    <a:off x="2364480" y="3671280"/>
                    <a:ext cx="31428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397" name="Group 232"/>
                <p:cNvGrpSpPr/>
                <p:nvPr/>
              </p:nvGrpSpPr>
              <p:grpSpPr>
                <a:xfrm>
                  <a:off x="2205360" y="3776760"/>
                  <a:ext cx="380880" cy="191520"/>
                  <a:chOff x="2205360" y="3776760"/>
                  <a:chExt cx="380880" cy="191520"/>
                </a:xfrm>
              </p:grpSpPr>
              <p:sp>
                <p:nvSpPr>
                  <p:cNvPr id="398" name="AutoShape 233"/>
                  <p:cNvSpPr/>
                  <p:nvPr/>
                </p:nvSpPr>
                <p:spPr>
                  <a:xfrm>
                    <a:off x="2205360" y="3776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WordArt 234"/>
                  <p:cNvSpPr txBox="1"/>
                  <p:nvPr/>
                </p:nvSpPr>
                <p:spPr>
                  <a:xfrm rot="15600">
                    <a:off x="2244240" y="3791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然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00" name="Group 235"/>
                <p:cNvGrpSpPr/>
                <p:nvPr/>
              </p:nvGrpSpPr>
              <p:grpSpPr>
                <a:xfrm>
                  <a:off x="2062440" y="3921120"/>
                  <a:ext cx="380880" cy="191520"/>
                  <a:chOff x="2062440" y="3921120"/>
                  <a:chExt cx="380880" cy="191520"/>
                </a:xfrm>
              </p:grpSpPr>
              <p:sp>
                <p:nvSpPr>
                  <p:cNvPr id="401" name="AutoShape 236"/>
                  <p:cNvSpPr/>
                  <p:nvPr/>
                </p:nvSpPr>
                <p:spPr>
                  <a:xfrm>
                    <a:off x="2062440" y="3921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WordArt 237"/>
                  <p:cNvSpPr txBox="1"/>
                  <p:nvPr/>
                </p:nvSpPr>
                <p:spPr>
                  <a:xfrm rot="15600">
                    <a:off x="2101320" y="3936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後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03" name="Group 238"/>
                <p:cNvGrpSpPr/>
                <p:nvPr/>
              </p:nvGrpSpPr>
              <p:grpSpPr>
                <a:xfrm>
                  <a:off x="1919880" y="4064760"/>
                  <a:ext cx="380520" cy="191520"/>
                  <a:chOff x="1919880" y="4064760"/>
                  <a:chExt cx="380520" cy="191520"/>
                </a:xfrm>
              </p:grpSpPr>
              <p:sp>
                <p:nvSpPr>
                  <p:cNvPr id="404" name="AutoShape 239"/>
                  <p:cNvSpPr/>
                  <p:nvPr/>
                </p:nvSpPr>
                <p:spPr>
                  <a:xfrm>
                    <a:off x="1919880" y="4064760"/>
                    <a:ext cx="38052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WordArt 240"/>
                  <p:cNvSpPr txBox="1"/>
                  <p:nvPr/>
                </p:nvSpPr>
                <p:spPr>
                  <a:xfrm rot="15600">
                    <a:off x="1959480" y="4079880"/>
                    <a:ext cx="31428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能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06" name="Group 241"/>
                <p:cNvGrpSpPr/>
                <p:nvPr/>
              </p:nvGrpSpPr>
              <p:grpSpPr>
                <a:xfrm>
                  <a:off x="1777320" y="4209120"/>
                  <a:ext cx="380880" cy="191520"/>
                  <a:chOff x="1777320" y="4209120"/>
                  <a:chExt cx="380880" cy="191520"/>
                </a:xfrm>
              </p:grpSpPr>
              <p:sp>
                <p:nvSpPr>
                  <p:cNvPr id="407" name="AutoShape 242"/>
                  <p:cNvSpPr/>
                  <p:nvPr/>
                </p:nvSpPr>
                <p:spPr>
                  <a:xfrm>
                    <a:off x="1777320" y="4209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WordArt 243"/>
                  <p:cNvSpPr txBox="1"/>
                  <p:nvPr/>
                </p:nvSpPr>
                <p:spPr>
                  <a:xfrm rot="15600">
                    <a:off x="1816200" y="4224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改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409" name="Group 244"/>
              <p:cNvGrpSpPr/>
              <p:nvPr/>
            </p:nvGrpSpPr>
            <p:grpSpPr>
              <a:xfrm>
                <a:off x="2039760" y="3392640"/>
                <a:ext cx="1190160" cy="1008000"/>
                <a:chOff x="2039760" y="3392640"/>
                <a:chExt cx="1190160" cy="1008000"/>
              </a:xfrm>
            </p:grpSpPr>
            <p:grpSp>
              <p:nvGrpSpPr>
                <p:cNvPr id="410" name="Group 245"/>
                <p:cNvGrpSpPr/>
                <p:nvPr/>
              </p:nvGrpSpPr>
              <p:grpSpPr>
                <a:xfrm>
                  <a:off x="2849040" y="3392640"/>
                  <a:ext cx="380880" cy="191520"/>
                  <a:chOff x="2849040" y="3392640"/>
                  <a:chExt cx="380880" cy="191520"/>
                </a:xfrm>
              </p:grpSpPr>
              <p:sp>
                <p:nvSpPr>
                  <p:cNvPr id="411" name="AutoShape 246"/>
                  <p:cNvSpPr/>
                  <p:nvPr/>
                </p:nvSpPr>
                <p:spPr>
                  <a:xfrm>
                    <a:off x="2849040" y="339264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WordArt 247"/>
                  <p:cNvSpPr txBox="1"/>
                  <p:nvPr/>
                </p:nvSpPr>
                <p:spPr>
                  <a:xfrm rot="15600">
                    <a:off x="2887920" y="340776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所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13" name="Group 248"/>
                <p:cNvGrpSpPr/>
                <p:nvPr/>
              </p:nvGrpSpPr>
              <p:grpSpPr>
                <a:xfrm>
                  <a:off x="2730240" y="3512160"/>
                  <a:ext cx="380880" cy="191520"/>
                  <a:chOff x="2730240" y="3512160"/>
                  <a:chExt cx="380880" cy="191520"/>
                </a:xfrm>
              </p:grpSpPr>
              <p:sp>
                <p:nvSpPr>
                  <p:cNvPr id="414" name="AutoShape 249"/>
                  <p:cNvSpPr/>
                  <p:nvPr/>
                </p:nvSpPr>
                <p:spPr>
                  <a:xfrm>
                    <a:off x="2730240" y="3512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WordArt 250"/>
                  <p:cNvSpPr txBox="1"/>
                  <p:nvPr/>
                </p:nvSpPr>
                <p:spPr>
                  <a:xfrm rot="15600">
                    <a:off x="2769120" y="3527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不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16" name="Group 251"/>
                <p:cNvGrpSpPr/>
                <p:nvPr/>
              </p:nvGrpSpPr>
              <p:grpSpPr>
                <a:xfrm>
                  <a:off x="2587680" y="3656160"/>
                  <a:ext cx="380880" cy="191520"/>
                  <a:chOff x="2587680" y="3656160"/>
                  <a:chExt cx="380880" cy="191520"/>
                </a:xfrm>
              </p:grpSpPr>
              <p:sp>
                <p:nvSpPr>
                  <p:cNvPr id="417" name="AutoShape 252"/>
                  <p:cNvSpPr/>
                  <p:nvPr/>
                </p:nvSpPr>
                <p:spPr>
                  <a:xfrm>
                    <a:off x="2587680" y="3656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WordArt 253"/>
                  <p:cNvSpPr txBox="1"/>
                  <p:nvPr/>
                </p:nvSpPr>
                <p:spPr>
                  <a:xfrm rot="15600">
                    <a:off x="2626560" y="3671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能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19" name="Group 254"/>
                <p:cNvGrpSpPr/>
                <p:nvPr/>
              </p:nvGrpSpPr>
              <p:grpSpPr>
                <a:xfrm>
                  <a:off x="2467800" y="3776760"/>
                  <a:ext cx="380880" cy="191520"/>
                  <a:chOff x="2467800" y="3776760"/>
                  <a:chExt cx="380880" cy="191520"/>
                </a:xfrm>
              </p:grpSpPr>
              <p:sp>
                <p:nvSpPr>
                  <p:cNvPr id="420" name="AutoShape 255"/>
                  <p:cNvSpPr/>
                  <p:nvPr/>
                </p:nvSpPr>
                <p:spPr>
                  <a:xfrm>
                    <a:off x="2467800" y="3776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WordArt 256"/>
                  <p:cNvSpPr txBox="1"/>
                  <p:nvPr/>
                </p:nvSpPr>
                <p:spPr>
                  <a:xfrm rot="15600">
                    <a:off x="2506680" y="3791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 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22" name="Group 257"/>
                <p:cNvGrpSpPr/>
                <p:nvPr/>
              </p:nvGrpSpPr>
              <p:grpSpPr>
                <a:xfrm>
                  <a:off x="2324880" y="3921120"/>
                  <a:ext cx="380880" cy="191520"/>
                  <a:chOff x="2324880" y="3921120"/>
                  <a:chExt cx="380880" cy="191520"/>
                </a:xfrm>
              </p:grpSpPr>
              <p:sp>
                <p:nvSpPr>
                  <p:cNvPr id="423" name="AutoShape 258"/>
                  <p:cNvSpPr/>
                  <p:nvPr/>
                </p:nvSpPr>
                <p:spPr>
                  <a:xfrm>
                    <a:off x="2324880" y="3921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WordArt 259"/>
                  <p:cNvSpPr txBox="1"/>
                  <p:nvPr/>
                </p:nvSpPr>
                <p:spPr>
                  <a:xfrm rot="15600">
                    <a:off x="2363760" y="3936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 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25" name="Group 260"/>
                <p:cNvGrpSpPr/>
                <p:nvPr/>
              </p:nvGrpSpPr>
              <p:grpSpPr>
                <a:xfrm>
                  <a:off x="2182320" y="4064760"/>
                  <a:ext cx="380880" cy="191520"/>
                  <a:chOff x="2182320" y="4064760"/>
                  <a:chExt cx="380880" cy="191520"/>
                </a:xfrm>
              </p:grpSpPr>
              <p:sp>
                <p:nvSpPr>
                  <p:cNvPr id="426" name="AutoShape 261"/>
                  <p:cNvSpPr/>
                  <p:nvPr/>
                </p:nvSpPr>
                <p:spPr>
                  <a:xfrm>
                    <a:off x="2182320" y="4064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WordArt 262"/>
                  <p:cNvSpPr txBox="1"/>
                  <p:nvPr/>
                </p:nvSpPr>
                <p:spPr>
                  <a:xfrm rot="15600">
                    <a:off x="2221200" y="4079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 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28" name="Group 263"/>
                <p:cNvGrpSpPr/>
                <p:nvPr/>
              </p:nvGrpSpPr>
              <p:grpSpPr>
                <a:xfrm>
                  <a:off x="2039760" y="4209120"/>
                  <a:ext cx="380880" cy="191520"/>
                  <a:chOff x="2039760" y="4209120"/>
                  <a:chExt cx="380880" cy="191520"/>
                </a:xfrm>
              </p:grpSpPr>
              <p:sp>
                <p:nvSpPr>
                  <p:cNvPr id="429" name="AutoShape 264"/>
                  <p:cNvSpPr/>
                  <p:nvPr/>
                </p:nvSpPr>
                <p:spPr>
                  <a:xfrm>
                    <a:off x="2039760" y="4209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WordArt 265"/>
                  <p:cNvSpPr txBox="1"/>
                  <p:nvPr/>
                </p:nvSpPr>
                <p:spPr>
                  <a:xfrm rot="15600">
                    <a:off x="2078640" y="4224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 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431" name="Group 266"/>
              <p:cNvGrpSpPr/>
              <p:nvPr/>
            </p:nvGrpSpPr>
            <p:grpSpPr>
              <a:xfrm>
                <a:off x="2301120" y="3392640"/>
                <a:ext cx="1190160" cy="1008000"/>
                <a:chOff x="2301120" y="3392640"/>
                <a:chExt cx="1190160" cy="1008000"/>
              </a:xfrm>
            </p:grpSpPr>
            <p:grpSp>
              <p:nvGrpSpPr>
                <p:cNvPr id="432" name="Group 267"/>
                <p:cNvGrpSpPr/>
                <p:nvPr/>
              </p:nvGrpSpPr>
              <p:grpSpPr>
                <a:xfrm>
                  <a:off x="3110400" y="3392640"/>
                  <a:ext cx="380880" cy="191520"/>
                  <a:chOff x="3110400" y="3392640"/>
                  <a:chExt cx="380880" cy="191520"/>
                </a:xfrm>
              </p:grpSpPr>
              <p:sp>
                <p:nvSpPr>
                  <p:cNvPr id="433" name="AutoShape 268"/>
                  <p:cNvSpPr/>
                  <p:nvPr/>
                </p:nvSpPr>
                <p:spPr>
                  <a:xfrm>
                    <a:off x="3110400" y="339264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WordArt 269"/>
                  <p:cNvSpPr txBox="1"/>
                  <p:nvPr/>
                </p:nvSpPr>
                <p:spPr>
                  <a:xfrm rot="15600">
                    <a:off x="3149280" y="340776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35" name="Group 270"/>
                <p:cNvGrpSpPr/>
                <p:nvPr/>
              </p:nvGrpSpPr>
              <p:grpSpPr>
                <a:xfrm>
                  <a:off x="2991600" y="3512160"/>
                  <a:ext cx="380880" cy="191520"/>
                  <a:chOff x="2991600" y="3512160"/>
                  <a:chExt cx="380880" cy="191520"/>
                </a:xfrm>
              </p:grpSpPr>
              <p:sp>
                <p:nvSpPr>
                  <p:cNvPr id="436" name="AutoShape 271"/>
                  <p:cNvSpPr/>
                  <p:nvPr/>
                </p:nvSpPr>
                <p:spPr>
                  <a:xfrm>
                    <a:off x="2991600" y="3512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WordArt 272"/>
                  <p:cNvSpPr txBox="1"/>
                  <p:nvPr/>
                </p:nvSpPr>
                <p:spPr>
                  <a:xfrm rot="15600">
                    <a:off x="3030480" y="3527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38" name="Group 273"/>
                <p:cNvGrpSpPr/>
                <p:nvPr/>
              </p:nvGrpSpPr>
              <p:grpSpPr>
                <a:xfrm>
                  <a:off x="2849040" y="3656160"/>
                  <a:ext cx="380880" cy="191520"/>
                  <a:chOff x="2849040" y="3656160"/>
                  <a:chExt cx="380880" cy="191520"/>
                </a:xfrm>
              </p:grpSpPr>
              <p:sp>
                <p:nvSpPr>
                  <p:cNvPr id="439" name="AutoShape 274"/>
                  <p:cNvSpPr/>
                  <p:nvPr/>
                </p:nvSpPr>
                <p:spPr>
                  <a:xfrm>
                    <a:off x="2849040" y="3656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WordArt 275"/>
                  <p:cNvSpPr txBox="1"/>
                  <p:nvPr/>
                </p:nvSpPr>
                <p:spPr>
                  <a:xfrm rot="15600">
                    <a:off x="2887920" y="3671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41" name="Group 276"/>
                <p:cNvGrpSpPr/>
                <p:nvPr/>
              </p:nvGrpSpPr>
              <p:grpSpPr>
                <a:xfrm>
                  <a:off x="2729160" y="3776760"/>
                  <a:ext cx="380880" cy="191520"/>
                  <a:chOff x="2729160" y="3776760"/>
                  <a:chExt cx="380880" cy="191520"/>
                </a:xfrm>
              </p:grpSpPr>
              <p:sp>
                <p:nvSpPr>
                  <p:cNvPr id="442" name="AutoShape 277"/>
                  <p:cNvSpPr/>
                  <p:nvPr/>
                </p:nvSpPr>
                <p:spPr>
                  <a:xfrm>
                    <a:off x="2729160" y="3776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WordArt 278"/>
                  <p:cNvSpPr txBox="1"/>
                  <p:nvPr/>
                </p:nvSpPr>
                <p:spPr>
                  <a:xfrm rot="15600">
                    <a:off x="2768040" y="3791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44" name="Group 279"/>
                <p:cNvGrpSpPr/>
                <p:nvPr/>
              </p:nvGrpSpPr>
              <p:grpSpPr>
                <a:xfrm>
                  <a:off x="2586240" y="3921120"/>
                  <a:ext cx="380880" cy="191520"/>
                  <a:chOff x="2586240" y="3921120"/>
                  <a:chExt cx="380880" cy="191520"/>
                </a:xfrm>
              </p:grpSpPr>
              <p:sp>
                <p:nvSpPr>
                  <p:cNvPr id="445" name="AutoShape 280"/>
                  <p:cNvSpPr/>
                  <p:nvPr/>
                </p:nvSpPr>
                <p:spPr>
                  <a:xfrm>
                    <a:off x="2586240" y="3921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WordArt 281"/>
                  <p:cNvSpPr txBox="1"/>
                  <p:nvPr/>
                </p:nvSpPr>
                <p:spPr>
                  <a:xfrm rot="15600">
                    <a:off x="2625120" y="3936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47" name="Group 282"/>
                <p:cNvGrpSpPr/>
                <p:nvPr/>
              </p:nvGrpSpPr>
              <p:grpSpPr>
                <a:xfrm>
                  <a:off x="2443680" y="4064760"/>
                  <a:ext cx="380880" cy="191520"/>
                  <a:chOff x="2443680" y="4064760"/>
                  <a:chExt cx="380880" cy="191520"/>
                </a:xfrm>
              </p:grpSpPr>
              <p:sp>
                <p:nvSpPr>
                  <p:cNvPr id="448" name="AutoShape 283"/>
                  <p:cNvSpPr/>
                  <p:nvPr/>
                </p:nvSpPr>
                <p:spPr>
                  <a:xfrm>
                    <a:off x="2443680" y="4064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WordArt 284"/>
                  <p:cNvSpPr txBox="1"/>
                  <p:nvPr/>
                </p:nvSpPr>
                <p:spPr>
                  <a:xfrm rot="15600">
                    <a:off x="2482560" y="4079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50" name="Group 285"/>
                <p:cNvGrpSpPr/>
                <p:nvPr/>
              </p:nvGrpSpPr>
              <p:grpSpPr>
                <a:xfrm>
                  <a:off x="2301120" y="4209120"/>
                  <a:ext cx="380880" cy="191520"/>
                  <a:chOff x="2301120" y="4209120"/>
                  <a:chExt cx="380880" cy="191520"/>
                </a:xfrm>
              </p:grpSpPr>
              <p:sp>
                <p:nvSpPr>
                  <p:cNvPr id="451" name="AutoShape 286"/>
                  <p:cNvSpPr/>
                  <p:nvPr/>
                </p:nvSpPr>
                <p:spPr>
                  <a:xfrm>
                    <a:off x="2301120" y="4209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WordArt 287"/>
                  <p:cNvSpPr txBox="1"/>
                  <p:nvPr/>
                </p:nvSpPr>
                <p:spPr>
                  <a:xfrm rot="15600">
                    <a:off x="2340000" y="4224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453" name="Group 288"/>
              <p:cNvGrpSpPr/>
              <p:nvPr/>
            </p:nvGrpSpPr>
            <p:grpSpPr>
              <a:xfrm>
                <a:off x="2563920" y="3392640"/>
                <a:ext cx="1189800" cy="1008000"/>
                <a:chOff x="2563920" y="3392640"/>
                <a:chExt cx="1189800" cy="1008000"/>
              </a:xfrm>
            </p:grpSpPr>
            <p:grpSp>
              <p:nvGrpSpPr>
                <p:cNvPr id="454" name="Group 289"/>
                <p:cNvGrpSpPr/>
                <p:nvPr/>
              </p:nvGrpSpPr>
              <p:grpSpPr>
                <a:xfrm>
                  <a:off x="3372840" y="3392640"/>
                  <a:ext cx="380880" cy="191520"/>
                  <a:chOff x="3372840" y="3392640"/>
                  <a:chExt cx="380880" cy="191520"/>
                </a:xfrm>
              </p:grpSpPr>
              <p:sp>
                <p:nvSpPr>
                  <p:cNvPr id="455" name="AutoShape 290"/>
                  <p:cNvSpPr/>
                  <p:nvPr/>
                </p:nvSpPr>
                <p:spPr>
                  <a:xfrm>
                    <a:off x="3372840" y="339264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WordArt 291"/>
                  <p:cNvSpPr txBox="1"/>
                  <p:nvPr/>
                </p:nvSpPr>
                <p:spPr>
                  <a:xfrm rot="15600">
                    <a:off x="3411720" y="340776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動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57" name="Group 292"/>
                <p:cNvGrpSpPr/>
                <p:nvPr/>
              </p:nvGrpSpPr>
              <p:grpSpPr>
                <a:xfrm>
                  <a:off x="3254040" y="3512160"/>
                  <a:ext cx="380880" cy="191520"/>
                  <a:chOff x="3254040" y="3512160"/>
                  <a:chExt cx="380880" cy="191520"/>
                </a:xfrm>
              </p:grpSpPr>
              <p:sp>
                <p:nvSpPr>
                  <p:cNvPr id="458" name="AutoShape 293"/>
                  <p:cNvSpPr/>
                  <p:nvPr/>
                </p:nvSpPr>
                <p:spPr>
                  <a:xfrm>
                    <a:off x="3254040" y="3512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WordArt 294"/>
                  <p:cNvSpPr txBox="1"/>
                  <p:nvPr/>
                </p:nvSpPr>
                <p:spPr>
                  <a:xfrm rot="15600">
                    <a:off x="3292920" y="3527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心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60" name="Group 295"/>
                <p:cNvGrpSpPr/>
                <p:nvPr/>
              </p:nvGrpSpPr>
              <p:grpSpPr>
                <a:xfrm>
                  <a:off x="3111480" y="3656160"/>
                  <a:ext cx="380520" cy="191520"/>
                  <a:chOff x="3111480" y="3656160"/>
                  <a:chExt cx="380520" cy="191520"/>
                </a:xfrm>
              </p:grpSpPr>
              <p:sp>
                <p:nvSpPr>
                  <p:cNvPr id="461" name="AutoShape 296"/>
                  <p:cNvSpPr/>
                  <p:nvPr/>
                </p:nvSpPr>
                <p:spPr>
                  <a:xfrm>
                    <a:off x="3111480" y="3656160"/>
                    <a:ext cx="38052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WordArt 297"/>
                  <p:cNvSpPr txBox="1"/>
                  <p:nvPr/>
                </p:nvSpPr>
                <p:spPr>
                  <a:xfrm rot="15600">
                    <a:off x="3151080" y="3671280"/>
                    <a:ext cx="31428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忍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63" name="Group 298"/>
                <p:cNvGrpSpPr/>
                <p:nvPr/>
              </p:nvGrpSpPr>
              <p:grpSpPr>
                <a:xfrm>
                  <a:off x="2991960" y="3776760"/>
                  <a:ext cx="380880" cy="191520"/>
                  <a:chOff x="2991960" y="3776760"/>
                  <a:chExt cx="380880" cy="191520"/>
                </a:xfrm>
              </p:grpSpPr>
              <p:sp>
                <p:nvSpPr>
                  <p:cNvPr id="464" name="AutoShape 299"/>
                  <p:cNvSpPr/>
                  <p:nvPr/>
                </p:nvSpPr>
                <p:spPr>
                  <a:xfrm>
                    <a:off x="2991960" y="3776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WordArt 300"/>
                  <p:cNvSpPr txBox="1"/>
                  <p:nvPr/>
                </p:nvSpPr>
                <p:spPr>
                  <a:xfrm rot="15600">
                    <a:off x="3030840" y="3791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性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66" name="Group 301"/>
                <p:cNvGrpSpPr/>
                <p:nvPr/>
              </p:nvGrpSpPr>
              <p:grpSpPr>
                <a:xfrm>
                  <a:off x="2849040" y="3921120"/>
                  <a:ext cx="380880" cy="191520"/>
                  <a:chOff x="2849040" y="3921120"/>
                  <a:chExt cx="380880" cy="191520"/>
                </a:xfrm>
              </p:grpSpPr>
              <p:sp>
                <p:nvSpPr>
                  <p:cNvPr id="467" name="AutoShape 302"/>
                  <p:cNvSpPr/>
                  <p:nvPr/>
                </p:nvSpPr>
                <p:spPr>
                  <a:xfrm>
                    <a:off x="2849040" y="3921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WordArt 303"/>
                  <p:cNvSpPr txBox="1"/>
                  <p:nvPr/>
                </p:nvSpPr>
                <p:spPr>
                  <a:xfrm rot="15600">
                    <a:off x="2887920" y="3936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曾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69" name="Group 304"/>
                <p:cNvGrpSpPr/>
                <p:nvPr/>
              </p:nvGrpSpPr>
              <p:grpSpPr>
                <a:xfrm>
                  <a:off x="2706480" y="4064760"/>
                  <a:ext cx="380520" cy="191520"/>
                  <a:chOff x="2706480" y="4064760"/>
                  <a:chExt cx="380520" cy="191520"/>
                </a:xfrm>
              </p:grpSpPr>
              <p:sp>
                <p:nvSpPr>
                  <p:cNvPr id="470" name="AutoShape 305"/>
                  <p:cNvSpPr/>
                  <p:nvPr/>
                </p:nvSpPr>
                <p:spPr>
                  <a:xfrm>
                    <a:off x="2706480" y="4064760"/>
                    <a:ext cx="38052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WordArt 306"/>
                  <p:cNvSpPr txBox="1"/>
                  <p:nvPr/>
                </p:nvSpPr>
                <p:spPr>
                  <a:xfrm rot="15600">
                    <a:off x="2746080" y="4079880"/>
                    <a:ext cx="31428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益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72" name="Group 307"/>
                <p:cNvGrpSpPr/>
                <p:nvPr/>
              </p:nvGrpSpPr>
              <p:grpSpPr>
                <a:xfrm>
                  <a:off x="2563920" y="4209120"/>
                  <a:ext cx="380880" cy="191520"/>
                  <a:chOff x="2563920" y="4209120"/>
                  <a:chExt cx="380880" cy="191520"/>
                </a:xfrm>
              </p:grpSpPr>
              <p:sp>
                <p:nvSpPr>
                  <p:cNvPr id="473" name="AutoShape 308"/>
                  <p:cNvSpPr/>
                  <p:nvPr/>
                </p:nvSpPr>
                <p:spPr>
                  <a:xfrm>
                    <a:off x="2563920" y="4209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WordArt 309"/>
                  <p:cNvSpPr txBox="1"/>
                  <p:nvPr/>
                </p:nvSpPr>
                <p:spPr>
                  <a:xfrm rot="15600">
                    <a:off x="2602800" y="4224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其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475" name="Group 310"/>
              <p:cNvGrpSpPr/>
              <p:nvPr/>
            </p:nvGrpSpPr>
            <p:grpSpPr>
              <a:xfrm>
                <a:off x="2825280" y="3392640"/>
                <a:ext cx="1189800" cy="1008000"/>
                <a:chOff x="2825280" y="3392640"/>
                <a:chExt cx="1189800" cy="1008000"/>
              </a:xfrm>
            </p:grpSpPr>
            <p:grpSp>
              <p:nvGrpSpPr>
                <p:cNvPr id="476" name="Group 311"/>
                <p:cNvGrpSpPr/>
                <p:nvPr/>
              </p:nvGrpSpPr>
              <p:grpSpPr>
                <a:xfrm>
                  <a:off x="3634200" y="3392640"/>
                  <a:ext cx="380880" cy="191520"/>
                  <a:chOff x="3634200" y="3392640"/>
                  <a:chExt cx="380880" cy="191520"/>
                </a:xfrm>
              </p:grpSpPr>
              <p:sp>
                <p:nvSpPr>
                  <p:cNvPr id="477" name="AutoShape 312"/>
                  <p:cNvSpPr/>
                  <p:nvPr/>
                </p:nvSpPr>
                <p:spPr>
                  <a:xfrm>
                    <a:off x="3634200" y="339264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WordArt 313"/>
                  <p:cNvSpPr txBox="1"/>
                  <p:nvPr/>
                </p:nvSpPr>
                <p:spPr>
                  <a:xfrm rot="15600">
                    <a:off x="3673080" y="340776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拂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79" name="Group 314"/>
                <p:cNvGrpSpPr/>
                <p:nvPr/>
              </p:nvGrpSpPr>
              <p:grpSpPr>
                <a:xfrm>
                  <a:off x="3515400" y="3512160"/>
                  <a:ext cx="380880" cy="191520"/>
                  <a:chOff x="3515400" y="3512160"/>
                  <a:chExt cx="380880" cy="191520"/>
                </a:xfrm>
              </p:grpSpPr>
              <p:sp>
                <p:nvSpPr>
                  <p:cNvPr id="480" name="AutoShape 315"/>
                  <p:cNvSpPr/>
                  <p:nvPr/>
                </p:nvSpPr>
                <p:spPr>
                  <a:xfrm>
                    <a:off x="3515400" y="3512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WordArt 316"/>
                  <p:cNvSpPr txBox="1"/>
                  <p:nvPr/>
                </p:nvSpPr>
                <p:spPr>
                  <a:xfrm rot="15600">
                    <a:off x="3554280" y="3527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亂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82" name="Group 317"/>
                <p:cNvGrpSpPr/>
                <p:nvPr/>
              </p:nvGrpSpPr>
              <p:grpSpPr>
                <a:xfrm>
                  <a:off x="3372840" y="3656160"/>
                  <a:ext cx="380520" cy="191520"/>
                  <a:chOff x="3372840" y="3656160"/>
                  <a:chExt cx="380520" cy="191520"/>
                </a:xfrm>
              </p:grpSpPr>
              <p:sp>
                <p:nvSpPr>
                  <p:cNvPr id="483" name="AutoShape 318"/>
                  <p:cNvSpPr/>
                  <p:nvPr/>
                </p:nvSpPr>
                <p:spPr>
                  <a:xfrm>
                    <a:off x="3372840" y="3656160"/>
                    <a:ext cx="38052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WordArt 319"/>
                  <p:cNvSpPr txBox="1"/>
                  <p:nvPr/>
                </p:nvSpPr>
                <p:spPr>
                  <a:xfrm rot="15600">
                    <a:off x="3412440" y="3671280"/>
                    <a:ext cx="31428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其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85" name="Group 320"/>
                <p:cNvGrpSpPr/>
                <p:nvPr/>
              </p:nvGrpSpPr>
              <p:grpSpPr>
                <a:xfrm>
                  <a:off x="3253320" y="3776760"/>
                  <a:ext cx="380880" cy="191520"/>
                  <a:chOff x="3253320" y="3776760"/>
                  <a:chExt cx="380880" cy="191520"/>
                </a:xfrm>
              </p:grpSpPr>
              <p:sp>
                <p:nvSpPr>
                  <p:cNvPr id="486" name="AutoShape 321"/>
                  <p:cNvSpPr/>
                  <p:nvPr/>
                </p:nvSpPr>
                <p:spPr>
                  <a:xfrm>
                    <a:off x="3253320" y="3776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WordArt 322"/>
                  <p:cNvSpPr txBox="1"/>
                  <p:nvPr/>
                </p:nvSpPr>
                <p:spPr>
                  <a:xfrm rot="15600">
                    <a:off x="3292200" y="3791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所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88" name="Group 323"/>
                <p:cNvGrpSpPr/>
                <p:nvPr/>
              </p:nvGrpSpPr>
              <p:grpSpPr>
                <a:xfrm>
                  <a:off x="3110400" y="3921120"/>
                  <a:ext cx="380880" cy="191520"/>
                  <a:chOff x="3110400" y="3921120"/>
                  <a:chExt cx="380880" cy="191520"/>
                </a:xfrm>
              </p:grpSpPr>
              <p:sp>
                <p:nvSpPr>
                  <p:cNvPr id="489" name="AutoShape 324"/>
                  <p:cNvSpPr/>
                  <p:nvPr/>
                </p:nvSpPr>
                <p:spPr>
                  <a:xfrm>
                    <a:off x="3110400" y="3921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WordArt 325"/>
                  <p:cNvSpPr txBox="1"/>
                  <p:nvPr/>
                </p:nvSpPr>
                <p:spPr>
                  <a:xfrm rot="15600">
                    <a:off x="3149280" y="3936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爲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91" name="Group 326"/>
                <p:cNvGrpSpPr/>
                <p:nvPr/>
              </p:nvGrpSpPr>
              <p:grpSpPr>
                <a:xfrm>
                  <a:off x="2967840" y="4064760"/>
                  <a:ext cx="380520" cy="191520"/>
                  <a:chOff x="2967840" y="4064760"/>
                  <a:chExt cx="380520" cy="191520"/>
                </a:xfrm>
              </p:grpSpPr>
              <p:sp>
                <p:nvSpPr>
                  <p:cNvPr id="492" name="AutoShape 327"/>
                  <p:cNvSpPr/>
                  <p:nvPr/>
                </p:nvSpPr>
                <p:spPr>
                  <a:xfrm>
                    <a:off x="2967840" y="4064760"/>
                    <a:ext cx="38052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WordArt 328"/>
                  <p:cNvSpPr txBox="1"/>
                  <p:nvPr/>
                </p:nvSpPr>
                <p:spPr>
                  <a:xfrm rot="15600">
                    <a:off x="3007440" y="4079880"/>
                    <a:ext cx="31428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所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94" name="Group 329"/>
                <p:cNvGrpSpPr/>
                <p:nvPr/>
              </p:nvGrpSpPr>
              <p:grpSpPr>
                <a:xfrm>
                  <a:off x="2825280" y="4209120"/>
                  <a:ext cx="380880" cy="191520"/>
                  <a:chOff x="2825280" y="4209120"/>
                  <a:chExt cx="380880" cy="191520"/>
                </a:xfrm>
              </p:grpSpPr>
              <p:sp>
                <p:nvSpPr>
                  <p:cNvPr id="495" name="AutoShape 330"/>
                  <p:cNvSpPr/>
                  <p:nvPr/>
                </p:nvSpPr>
                <p:spPr>
                  <a:xfrm>
                    <a:off x="2825280" y="4209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WordArt 331"/>
                  <p:cNvSpPr txBox="1"/>
                  <p:nvPr/>
                </p:nvSpPr>
                <p:spPr>
                  <a:xfrm rot="15600">
                    <a:off x="2864160" y="4224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以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497" name="Group 332"/>
              <p:cNvGrpSpPr/>
              <p:nvPr/>
            </p:nvGrpSpPr>
            <p:grpSpPr>
              <a:xfrm>
                <a:off x="3087720" y="3392640"/>
                <a:ext cx="1190160" cy="1008000"/>
                <a:chOff x="3087720" y="3392640"/>
                <a:chExt cx="1190160" cy="1008000"/>
              </a:xfrm>
            </p:grpSpPr>
            <p:grpSp>
              <p:nvGrpSpPr>
                <p:cNvPr id="498" name="Group 333"/>
                <p:cNvGrpSpPr/>
                <p:nvPr/>
              </p:nvGrpSpPr>
              <p:grpSpPr>
                <a:xfrm>
                  <a:off x="3897000" y="3392640"/>
                  <a:ext cx="380880" cy="191520"/>
                  <a:chOff x="3897000" y="3392640"/>
                  <a:chExt cx="380880" cy="191520"/>
                </a:xfrm>
              </p:grpSpPr>
              <p:sp>
                <p:nvSpPr>
                  <p:cNvPr id="499" name="AutoShape 334"/>
                  <p:cNvSpPr/>
                  <p:nvPr/>
                </p:nvSpPr>
                <p:spPr>
                  <a:xfrm>
                    <a:off x="3897000" y="339264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WordArt 335"/>
                  <p:cNvSpPr txBox="1"/>
                  <p:nvPr/>
                </p:nvSpPr>
                <p:spPr>
                  <a:xfrm rot="15600">
                    <a:off x="3935880" y="340776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軆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01" name="Group 336"/>
                <p:cNvGrpSpPr/>
                <p:nvPr/>
              </p:nvGrpSpPr>
              <p:grpSpPr>
                <a:xfrm>
                  <a:off x="3778200" y="3512160"/>
                  <a:ext cx="380880" cy="191520"/>
                  <a:chOff x="3778200" y="3512160"/>
                  <a:chExt cx="380880" cy="191520"/>
                </a:xfrm>
              </p:grpSpPr>
              <p:sp>
                <p:nvSpPr>
                  <p:cNvPr id="502" name="AutoShape 337"/>
                  <p:cNvSpPr/>
                  <p:nvPr/>
                </p:nvSpPr>
                <p:spPr>
                  <a:xfrm>
                    <a:off x="3778200" y="3512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WordArt 338"/>
                  <p:cNvSpPr txBox="1"/>
                  <p:nvPr/>
                </p:nvSpPr>
                <p:spPr>
                  <a:xfrm rot="15600">
                    <a:off x="3817080" y="3527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膚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04" name="Group 339"/>
                <p:cNvGrpSpPr/>
                <p:nvPr/>
              </p:nvGrpSpPr>
              <p:grpSpPr>
                <a:xfrm>
                  <a:off x="3635640" y="3656160"/>
                  <a:ext cx="380880" cy="191520"/>
                  <a:chOff x="3635640" y="3656160"/>
                  <a:chExt cx="380880" cy="191520"/>
                </a:xfrm>
              </p:grpSpPr>
              <p:sp>
                <p:nvSpPr>
                  <p:cNvPr id="505" name="AutoShape 340"/>
                  <p:cNvSpPr/>
                  <p:nvPr/>
                </p:nvSpPr>
                <p:spPr>
                  <a:xfrm>
                    <a:off x="3635640" y="3656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WordArt 341"/>
                  <p:cNvSpPr txBox="1"/>
                  <p:nvPr/>
                </p:nvSpPr>
                <p:spPr>
                  <a:xfrm rot="15600">
                    <a:off x="3674520" y="3671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空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07" name="Group 342"/>
                <p:cNvGrpSpPr/>
                <p:nvPr/>
              </p:nvGrpSpPr>
              <p:grpSpPr>
                <a:xfrm>
                  <a:off x="3515760" y="3776760"/>
                  <a:ext cx="380880" cy="191520"/>
                  <a:chOff x="3515760" y="3776760"/>
                  <a:chExt cx="380880" cy="191520"/>
                </a:xfrm>
              </p:grpSpPr>
              <p:sp>
                <p:nvSpPr>
                  <p:cNvPr id="508" name="AutoShape 343"/>
                  <p:cNvSpPr/>
                  <p:nvPr/>
                </p:nvSpPr>
                <p:spPr>
                  <a:xfrm>
                    <a:off x="3515760" y="3776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WordArt 344"/>
                  <p:cNvSpPr txBox="1"/>
                  <p:nvPr/>
                </p:nvSpPr>
                <p:spPr>
                  <a:xfrm rot="15600">
                    <a:off x="3554640" y="3791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乏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10" name="Group 345"/>
                <p:cNvGrpSpPr/>
                <p:nvPr/>
              </p:nvGrpSpPr>
              <p:grpSpPr>
                <a:xfrm>
                  <a:off x="3372840" y="3921120"/>
                  <a:ext cx="380880" cy="191520"/>
                  <a:chOff x="3372840" y="3921120"/>
                  <a:chExt cx="380880" cy="191520"/>
                </a:xfrm>
              </p:grpSpPr>
              <p:sp>
                <p:nvSpPr>
                  <p:cNvPr id="511" name="AutoShape 346"/>
                  <p:cNvSpPr/>
                  <p:nvPr/>
                </p:nvSpPr>
                <p:spPr>
                  <a:xfrm>
                    <a:off x="3372840" y="3921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WordArt 347"/>
                  <p:cNvSpPr txBox="1"/>
                  <p:nvPr/>
                </p:nvSpPr>
                <p:spPr>
                  <a:xfrm rot="15600">
                    <a:off x="3411720" y="3936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其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13" name="Group 348"/>
                <p:cNvGrpSpPr/>
                <p:nvPr/>
              </p:nvGrpSpPr>
              <p:grpSpPr>
                <a:xfrm>
                  <a:off x="3230280" y="4064760"/>
                  <a:ext cx="380880" cy="191520"/>
                  <a:chOff x="3230280" y="4064760"/>
                  <a:chExt cx="380880" cy="191520"/>
                </a:xfrm>
              </p:grpSpPr>
              <p:sp>
                <p:nvSpPr>
                  <p:cNvPr id="514" name="AutoShape 349"/>
                  <p:cNvSpPr/>
                  <p:nvPr/>
                </p:nvSpPr>
                <p:spPr>
                  <a:xfrm>
                    <a:off x="3230280" y="4064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WordArt 350"/>
                  <p:cNvSpPr txBox="1"/>
                  <p:nvPr/>
                </p:nvSpPr>
                <p:spPr>
                  <a:xfrm rot="15600">
                    <a:off x="3269160" y="4079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身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16" name="Group 351"/>
                <p:cNvGrpSpPr/>
                <p:nvPr/>
              </p:nvGrpSpPr>
              <p:grpSpPr>
                <a:xfrm>
                  <a:off x="3087720" y="4209120"/>
                  <a:ext cx="380880" cy="191520"/>
                  <a:chOff x="3087720" y="4209120"/>
                  <a:chExt cx="380880" cy="191520"/>
                </a:xfrm>
              </p:grpSpPr>
              <p:sp>
                <p:nvSpPr>
                  <p:cNvPr id="517" name="AutoShape 352"/>
                  <p:cNvSpPr/>
                  <p:nvPr/>
                </p:nvSpPr>
                <p:spPr>
                  <a:xfrm>
                    <a:off x="3087720" y="4209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WordArt 353"/>
                  <p:cNvSpPr txBox="1"/>
                  <p:nvPr/>
                </p:nvSpPr>
                <p:spPr>
                  <a:xfrm rot="15600">
                    <a:off x="3126600" y="4224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行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519" name="Group 354"/>
              <p:cNvGrpSpPr/>
              <p:nvPr/>
            </p:nvGrpSpPr>
            <p:grpSpPr>
              <a:xfrm>
                <a:off x="3349080" y="3392640"/>
                <a:ext cx="1190160" cy="1008000"/>
                <a:chOff x="3349080" y="3392640"/>
                <a:chExt cx="1190160" cy="1008000"/>
              </a:xfrm>
            </p:grpSpPr>
            <p:grpSp>
              <p:nvGrpSpPr>
                <p:cNvPr id="520" name="Group 355"/>
                <p:cNvGrpSpPr/>
                <p:nvPr/>
              </p:nvGrpSpPr>
              <p:grpSpPr>
                <a:xfrm>
                  <a:off x="4158360" y="3392640"/>
                  <a:ext cx="380880" cy="191520"/>
                  <a:chOff x="4158360" y="3392640"/>
                  <a:chExt cx="380880" cy="191520"/>
                </a:xfrm>
              </p:grpSpPr>
              <p:sp>
                <p:nvSpPr>
                  <p:cNvPr id="521" name="AutoShape 356"/>
                  <p:cNvSpPr/>
                  <p:nvPr/>
                </p:nvSpPr>
                <p:spPr>
                  <a:xfrm>
                    <a:off x="4158360" y="339264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WordArt 357"/>
                  <p:cNvSpPr txBox="1"/>
                  <p:nvPr/>
                </p:nvSpPr>
                <p:spPr>
                  <a:xfrm rot="15600">
                    <a:off x="4197240" y="340776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志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23" name="Group 358"/>
                <p:cNvGrpSpPr/>
                <p:nvPr/>
              </p:nvGrpSpPr>
              <p:grpSpPr>
                <a:xfrm>
                  <a:off x="4039560" y="3512160"/>
                  <a:ext cx="380880" cy="191520"/>
                  <a:chOff x="4039560" y="3512160"/>
                  <a:chExt cx="380880" cy="191520"/>
                </a:xfrm>
              </p:grpSpPr>
              <p:sp>
                <p:nvSpPr>
                  <p:cNvPr id="524" name="AutoShape 359"/>
                  <p:cNvSpPr/>
                  <p:nvPr/>
                </p:nvSpPr>
                <p:spPr>
                  <a:xfrm>
                    <a:off x="4039560" y="3512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WordArt 360"/>
                  <p:cNvSpPr txBox="1"/>
                  <p:nvPr/>
                </p:nvSpPr>
                <p:spPr>
                  <a:xfrm rot="15600">
                    <a:off x="4078440" y="3527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劳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26" name="Group 361"/>
                <p:cNvGrpSpPr/>
                <p:nvPr/>
              </p:nvGrpSpPr>
              <p:grpSpPr>
                <a:xfrm>
                  <a:off x="3897000" y="3656160"/>
                  <a:ext cx="380880" cy="191520"/>
                  <a:chOff x="3897000" y="3656160"/>
                  <a:chExt cx="380880" cy="191520"/>
                </a:xfrm>
              </p:grpSpPr>
              <p:sp>
                <p:nvSpPr>
                  <p:cNvPr id="527" name="AutoShape 362"/>
                  <p:cNvSpPr/>
                  <p:nvPr/>
                </p:nvSpPr>
                <p:spPr>
                  <a:xfrm>
                    <a:off x="3897000" y="3656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WordArt 363"/>
                  <p:cNvSpPr txBox="1"/>
                  <p:nvPr/>
                </p:nvSpPr>
                <p:spPr>
                  <a:xfrm rot="15600">
                    <a:off x="3935880" y="3671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其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29" name="Group 364"/>
                <p:cNvGrpSpPr/>
                <p:nvPr/>
              </p:nvGrpSpPr>
              <p:grpSpPr>
                <a:xfrm>
                  <a:off x="3777120" y="3776760"/>
                  <a:ext cx="380880" cy="191520"/>
                  <a:chOff x="3777120" y="3776760"/>
                  <a:chExt cx="380880" cy="191520"/>
                </a:xfrm>
              </p:grpSpPr>
              <p:sp>
                <p:nvSpPr>
                  <p:cNvPr id="530" name="AutoShape 365"/>
                  <p:cNvSpPr/>
                  <p:nvPr/>
                </p:nvSpPr>
                <p:spPr>
                  <a:xfrm>
                    <a:off x="3777120" y="3776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WordArt 366"/>
                  <p:cNvSpPr txBox="1"/>
                  <p:nvPr/>
                </p:nvSpPr>
                <p:spPr>
                  <a:xfrm rot="15600">
                    <a:off x="3816000" y="3791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筋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32" name="Group 367"/>
                <p:cNvGrpSpPr/>
                <p:nvPr/>
              </p:nvGrpSpPr>
              <p:grpSpPr>
                <a:xfrm>
                  <a:off x="3634200" y="3921120"/>
                  <a:ext cx="380880" cy="191520"/>
                  <a:chOff x="3634200" y="3921120"/>
                  <a:chExt cx="380880" cy="191520"/>
                </a:xfrm>
              </p:grpSpPr>
              <p:sp>
                <p:nvSpPr>
                  <p:cNvPr id="533" name="AutoShape 368"/>
                  <p:cNvSpPr/>
                  <p:nvPr/>
                </p:nvSpPr>
                <p:spPr>
                  <a:xfrm>
                    <a:off x="3634200" y="3921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WordArt 369"/>
                  <p:cNvSpPr txBox="1"/>
                  <p:nvPr/>
                </p:nvSpPr>
                <p:spPr>
                  <a:xfrm rot="15600">
                    <a:off x="3673080" y="3936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骨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35" name="Group 370"/>
                <p:cNvGrpSpPr/>
                <p:nvPr/>
              </p:nvGrpSpPr>
              <p:grpSpPr>
                <a:xfrm>
                  <a:off x="3491640" y="4064760"/>
                  <a:ext cx="380880" cy="191520"/>
                  <a:chOff x="3491640" y="4064760"/>
                  <a:chExt cx="380880" cy="191520"/>
                </a:xfrm>
              </p:grpSpPr>
              <p:sp>
                <p:nvSpPr>
                  <p:cNvPr id="536" name="AutoShape 371"/>
                  <p:cNvSpPr/>
                  <p:nvPr/>
                </p:nvSpPr>
                <p:spPr>
                  <a:xfrm>
                    <a:off x="3491640" y="4064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WordArt 372"/>
                  <p:cNvSpPr txBox="1"/>
                  <p:nvPr/>
                </p:nvSpPr>
                <p:spPr>
                  <a:xfrm rot="15600">
                    <a:off x="3530520" y="4079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饿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38" name="Group 373"/>
                <p:cNvGrpSpPr/>
                <p:nvPr/>
              </p:nvGrpSpPr>
              <p:grpSpPr>
                <a:xfrm>
                  <a:off x="3349080" y="4209120"/>
                  <a:ext cx="380880" cy="191520"/>
                  <a:chOff x="3349080" y="4209120"/>
                  <a:chExt cx="380880" cy="191520"/>
                </a:xfrm>
              </p:grpSpPr>
              <p:sp>
                <p:nvSpPr>
                  <p:cNvPr id="539" name="AutoShape 374"/>
                  <p:cNvSpPr/>
                  <p:nvPr/>
                </p:nvSpPr>
                <p:spPr>
                  <a:xfrm>
                    <a:off x="3349080" y="4209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WordArt 375"/>
                  <p:cNvSpPr txBox="1"/>
                  <p:nvPr/>
                </p:nvSpPr>
                <p:spPr>
                  <a:xfrm rot="15600">
                    <a:off x="3387960" y="4224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其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541" name="Group 376"/>
              <p:cNvGrpSpPr/>
              <p:nvPr/>
            </p:nvGrpSpPr>
            <p:grpSpPr>
              <a:xfrm>
                <a:off x="3611160" y="3392640"/>
                <a:ext cx="1190160" cy="1008000"/>
                <a:chOff x="3611160" y="3392640"/>
                <a:chExt cx="1190160" cy="1008000"/>
              </a:xfrm>
            </p:grpSpPr>
            <p:grpSp>
              <p:nvGrpSpPr>
                <p:cNvPr id="542" name="Group 377"/>
                <p:cNvGrpSpPr/>
                <p:nvPr/>
              </p:nvGrpSpPr>
              <p:grpSpPr>
                <a:xfrm>
                  <a:off x="4420440" y="3392640"/>
                  <a:ext cx="380880" cy="191520"/>
                  <a:chOff x="4420440" y="3392640"/>
                  <a:chExt cx="380880" cy="191520"/>
                </a:xfrm>
              </p:grpSpPr>
              <p:sp>
                <p:nvSpPr>
                  <p:cNvPr id="543" name="AutoShape 378"/>
                  <p:cNvSpPr/>
                  <p:nvPr/>
                </p:nvSpPr>
                <p:spPr>
                  <a:xfrm>
                    <a:off x="4420440" y="339264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WordArt 379"/>
                  <p:cNvSpPr txBox="1"/>
                  <p:nvPr/>
                </p:nvSpPr>
                <p:spPr>
                  <a:xfrm rot="15600">
                    <a:off x="4459320" y="340776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人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45" name="Group 380"/>
                <p:cNvGrpSpPr/>
                <p:nvPr/>
              </p:nvGrpSpPr>
              <p:grpSpPr>
                <a:xfrm>
                  <a:off x="4301640" y="3512160"/>
                  <a:ext cx="380880" cy="191520"/>
                  <a:chOff x="4301640" y="3512160"/>
                  <a:chExt cx="380880" cy="191520"/>
                </a:xfrm>
              </p:grpSpPr>
              <p:sp>
                <p:nvSpPr>
                  <p:cNvPr id="546" name="AutoShape 381"/>
                  <p:cNvSpPr/>
                  <p:nvPr/>
                </p:nvSpPr>
                <p:spPr>
                  <a:xfrm>
                    <a:off x="4301640" y="3512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WordArt 382"/>
                  <p:cNvSpPr txBox="1"/>
                  <p:nvPr/>
                </p:nvSpPr>
                <p:spPr>
                  <a:xfrm rot="15600">
                    <a:off x="4340520" y="3527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也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48" name="Group 383"/>
                <p:cNvGrpSpPr/>
                <p:nvPr/>
              </p:nvGrpSpPr>
              <p:grpSpPr>
                <a:xfrm>
                  <a:off x="4159080" y="3656160"/>
                  <a:ext cx="380880" cy="191520"/>
                  <a:chOff x="4159080" y="3656160"/>
                  <a:chExt cx="380880" cy="191520"/>
                </a:xfrm>
              </p:grpSpPr>
              <p:sp>
                <p:nvSpPr>
                  <p:cNvPr id="549" name="AutoShape 384"/>
                  <p:cNvSpPr/>
                  <p:nvPr/>
                </p:nvSpPr>
                <p:spPr>
                  <a:xfrm>
                    <a:off x="4159080" y="3656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WordArt 385"/>
                  <p:cNvSpPr txBox="1"/>
                  <p:nvPr/>
                </p:nvSpPr>
                <p:spPr>
                  <a:xfrm rot="15600">
                    <a:off x="4197960" y="3671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必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51" name="Group 386"/>
                <p:cNvGrpSpPr/>
                <p:nvPr/>
              </p:nvGrpSpPr>
              <p:grpSpPr>
                <a:xfrm>
                  <a:off x="4039200" y="3776760"/>
                  <a:ext cx="380880" cy="191520"/>
                  <a:chOff x="4039200" y="3776760"/>
                  <a:chExt cx="380880" cy="191520"/>
                </a:xfrm>
              </p:grpSpPr>
              <p:sp>
                <p:nvSpPr>
                  <p:cNvPr id="552" name="AutoShape 387"/>
                  <p:cNvSpPr/>
                  <p:nvPr/>
                </p:nvSpPr>
                <p:spPr>
                  <a:xfrm>
                    <a:off x="4039200" y="3776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WordArt 388"/>
                  <p:cNvSpPr txBox="1"/>
                  <p:nvPr/>
                </p:nvSpPr>
                <p:spPr>
                  <a:xfrm rot="15600">
                    <a:off x="4078080" y="3791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先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54" name="Group 389"/>
                <p:cNvGrpSpPr/>
                <p:nvPr/>
              </p:nvGrpSpPr>
              <p:grpSpPr>
                <a:xfrm>
                  <a:off x="3896280" y="3921120"/>
                  <a:ext cx="380880" cy="191520"/>
                  <a:chOff x="3896280" y="3921120"/>
                  <a:chExt cx="380880" cy="191520"/>
                </a:xfrm>
              </p:grpSpPr>
              <p:sp>
                <p:nvSpPr>
                  <p:cNvPr id="555" name="AutoShape 390"/>
                  <p:cNvSpPr/>
                  <p:nvPr/>
                </p:nvSpPr>
                <p:spPr>
                  <a:xfrm>
                    <a:off x="3896280" y="3921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WordArt 391"/>
                  <p:cNvSpPr txBox="1"/>
                  <p:nvPr/>
                </p:nvSpPr>
                <p:spPr>
                  <a:xfrm rot="15600">
                    <a:off x="3935160" y="3936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苦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57" name="Group 392"/>
                <p:cNvGrpSpPr/>
                <p:nvPr/>
              </p:nvGrpSpPr>
              <p:grpSpPr>
                <a:xfrm>
                  <a:off x="3753720" y="4064760"/>
                  <a:ext cx="380880" cy="191520"/>
                  <a:chOff x="3753720" y="4064760"/>
                  <a:chExt cx="380880" cy="191520"/>
                </a:xfrm>
              </p:grpSpPr>
              <p:sp>
                <p:nvSpPr>
                  <p:cNvPr id="558" name="AutoShape 393"/>
                  <p:cNvSpPr/>
                  <p:nvPr/>
                </p:nvSpPr>
                <p:spPr>
                  <a:xfrm>
                    <a:off x="3753720" y="4064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WordArt 394"/>
                  <p:cNvSpPr txBox="1"/>
                  <p:nvPr/>
                </p:nvSpPr>
                <p:spPr>
                  <a:xfrm rot="15600">
                    <a:off x="3792600" y="4079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其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60" name="Group 395"/>
                <p:cNvGrpSpPr/>
                <p:nvPr/>
              </p:nvGrpSpPr>
              <p:grpSpPr>
                <a:xfrm>
                  <a:off x="3611160" y="4209120"/>
                  <a:ext cx="380880" cy="191520"/>
                  <a:chOff x="3611160" y="4209120"/>
                  <a:chExt cx="380880" cy="191520"/>
                </a:xfrm>
              </p:grpSpPr>
              <p:sp>
                <p:nvSpPr>
                  <p:cNvPr id="561" name="AutoShape 396"/>
                  <p:cNvSpPr/>
                  <p:nvPr/>
                </p:nvSpPr>
                <p:spPr>
                  <a:xfrm>
                    <a:off x="3611160" y="4209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WordArt 397"/>
                  <p:cNvSpPr txBox="1"/>
                  <p:nvPr/>
                </p:nvSpPr>
                <p:spPr>
                  <a:xfrm rot="15600">
                    <a:off x="3650040" y="4224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心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563" name="Group 398"/>
              <p:cNvGrpSpPr/>
              <p:nvPr/>
            </p:nvGrpSpPr>
            <p:grpSpPr>
              <a:xfrm>
                <a:off x="3849480" y="3392640"/>
                <a:ext cx="1190160" cy="1008000"/>
                <a:chOff x="3849480" y="3392640"/>
                <a:chExt cx="1190160" cy="1008000"/>
              </a:xfrm>
            </p:grpSpPr>
            <p:grpSp>
              <p:nvGrpSpPr>
                <p:cNvPr id="564" name="Group 399"/>
                <p:cNvGrpSpPr/>
                <p:nvPr/>
              </p:nvGrpSpPr>
              <p:grpSpPr>
                <a:xfrm>
                  <a:off x="4658760" y="3392640"/>
                  <a:ext cx="380880" cy="191520"/>
                  <a:chOff x="4658760" y="3392640"/>
                  <a:chExt cx="380880" cy="191520"/>
                </a:xfrm>
              </p:grpSpPr>
              <p:sp>
                <p:nvSpPr>
                  <p:cNvPr id="565" name="AutoShape 400"/>
                  <p:cNvSpPr/>
                  <p:nvPr/>
                </p:nvSpPr>
                <p:spPr>
                  <a:xfrm>
                    <a:off x="4658760" y="339264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WordArt 401"/>
                  <p:cNvSpPr txBox="1"/>
                  <p:nvPr/>
                </p:nvSpPr>
                <p:spPr>
                  <a:xfrm rot="15600">
                    <a:off x="4697640" y="340776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故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67" name="Group 402"/>
                <p:cNvGrpSpPr/>
                <p:nvPr/>
              </p:nvGrpSpPr>
              <p:grpSpPr>
                <a:xfrm>
                  <a:off x="4539960" y="3512160"/>
                  <a:ext cx="380880" cy="191520"/>
                  <a:chOff x="4539960" y="3512160"/>
                  <a:chExt cx="380880" cy="191520"/>
                </a:xfrm>
              </p:grpSpPr>
              <p:sp>
                <p:nvSpPr>
                  <p:cNvPr id="568" name="AutoShape 403"/>
                  <p:cNvSpPr/>
                  <p:nvPr/>
                </p:nvSpPr>
                <p:spPr>
                  <a:xfrm>
                    <a:off x="4539960" y="3512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WordArt 404"/>
                  <p:cNvSpPr txBox="1"/>
                  <p:nvPr/>
                </p:nvSpPr>
                <p:spPr>
                  <a:xfrm rot="15600">
                    <a:off x="4578840" y="3527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天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70" name="Group 405"/>
                <p:cNvGrpSpPr/>
                <p:nvPr/>
              </p:nvGrpSpPr>
              <p:grpSpPr>
                <a:xfrm>
                  <a:off x="4397400" y="3656160"/>
                  <a:ext cx="380880" cy="191520"/>
                  <a:chOff x="4397400" y="3656160"/>
                  <a:chExt cx="380880" cy="191520"/>
                </a:xfrm>
              </p:grpSpPr>
              <p:sp>
                <p:nvSpPr>
                  <p:cNvPr id="571" name="AutoShape 406"/>
                  <p:cNvSpPr/>
                  <p:nvPr/>
                </p:nvSpPr>
                <p:spPr>
                  <a:xfrm>
                    <a:off x="4397400" y="36561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WordArt 407"/>
                  <p:cNvSpPr txBox="1"/>
                  <p:nvPr/>
                </p:nvSpPr>
                <p:spPr>
                  <a:xfrm rot="15600">
                    <a:off x="4436280" y="36712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降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73" name="Group 408"/>
                <p:cNvGrpSpPr/>
                <p:nvPr/>
              </p:nvGrpSpPr>
              <p:grpSpPr>
                <a:xfrm>
                  <a:off x="4277520" y="3776760"/>
                  <a:ext cx="380880" cy="191520"/>
                  <a:chOff x="4277520" y="3776760"/>
                  <a:chExt cx="380880" cy="191520"/>
                </a:xfrm>
              </p:grpSpPr>
              <p:sp>
                <p:nvSpPr>
                  <p:cNvPr id="574" name="AutoShape 409"/>
                  <p:cNvSpPr/>
                  <p:nvPr/>
                </p:nvSpPr>
                <p:spPr>
                  <a:xfrm>
                    <a:off x="4277520" y="3776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WordArt 410"/>
                  <p:cNvSpPr txBox="1"/>
                  <p:nvPr/>
                </p:nvSpPr>
                <p:spPr>
                  <a:xfrm rot="15600">
                    <a:off x="4316400" y="3791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大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76" name="Group 411"/>
                <p:cNvGrpSpPr/>
                <p:nvPr/>
              </p:nvGrpSpPr>
              <p:grpSpPr>
                <a:xfrm>
                  <a:off x="4134600" y="3921120"/>
                  <a:ext cx="380880" cy="191520"/>
                  <a:chOff x="4134600" y="3921120"/>
                  <a:chExt cx="380880" cy="191520"/>
                </a:xfrm>
              </p:grpSpPr>
              <p:sp>
                <p:nvSpPr>
                  <p:cNvPr id="577" name="AutoShape 412"/>
                  <p:cNvSpPr/>
                  <p:nvPr/>
                </p:nvSpPr>
                <p:spPr>
                  <a:xfrm>
                    <a:off x="4134600" y="3921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WordArt 413"/>
                  <p:cNvSpPr txBox="1"/>
                  <p:nvPr/>
                </p:nvSpPr>
                <p:spPr>
                  <a:xfrm rot="15600">
                    <a:off x="4173480" y="3936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任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79" name="Group 414"/>
                <p:cNvGrpSpPr/>
                <p:nvPr/>
              </p:nvGrpSpPr>
              <p:grpSpPr>
                <a:xfrm>
                  <a:off x="3992040" y="4064760"/>
                  <a:ext cx="380880" cy="191520"/>
                  <a:chOff x="3992040" y="4064760"/>
                  <a:chExt cx="380880" cy="191520"/>
                </a:xfrm>
              </p:grpSpPr>
              <p:sp>
                <p:nvSpPr>
                  <p:cNvPr id="580" name="AutoShape 415"/>
                  <p:cNvSpPr/>
                  <p:nvPr/>
                </p:nvSpPr>
                <p:spPr>
                  <a:xfrm>
                    <a:off x="3992040" y="40647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WordArt 416"/>
                  <p:cNvSpPr txBox="1"/>
                  <p:nvPr/>
                </p:nvSpPr>
                <p:spPr>
                  <a:xfrm rot="15600">
                    <a:off x="4030920" y="40798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於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82" name="Group 417"/>
                <p:cNvGrpSpPr/>
                <p:nvPr/>
              </p:nvGrpSpPr>
              <p:grpSpPr>
                <a:xfrm>
                  <a:off x="3849480" y="4209120"/>
                  <a:ext cx="380880" cy="191520"/>
                  <a:chOff x="3849480" y="4209120"/>
                  <a:chExt cx="380880" cy="191520"/>
                </a:xfrm>
              </p:grpSpPr>
              <p:sp>
                <p:nvSpPr>
                  <p:cNvPr id="583" name="AutoShape 418"/>
                  <p:cNvSpPr/>
                  <p:nvPr/>
                </p:nvSpPr>
                <p:spPr>
                  <a:xfrm>
                    <a:off x="3849480" y="420912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WordArt 419"/>
                  <p:cNvSpPr txBox="1"/>
                  <p:nvPr/>
                </p:nvSpPr>
                <p:spPr>
                  <a:xfrm rot="15600">
                    <a:off x="3888360" y="422424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是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</p:grpSp>
        <p:sp>
          <p:nvSpPr>
            <p:cNvPr id="585" name="Rectangle 420"/>
            <p:cNvSpPr/>
            <p:nvPr/>
          </p:nvSpPr>
          <p:spPr>
            <a:xfrm>
              <a:off x="468360" y="4329000"/>
              <a:ext cx="4429080" cy="108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Group 421"/>
          <p:cNvGrpSpPr/>
          <p:nvPr/>
        </p:nvGrpSpPr>
        <p:grpSpPr>
          <a:xfrm>
            <a:off x="1871640" y="5626080"/>
            <a:ext cx="1704960" cy="1008000"/>
            <a:chOff x="1871640" y="5626080"/>
            <a:chExt cx="1704960" cy="1008000"/>
          </a:xfrm>
        </p:grpSpPr>
        <p:grpSp>
          <p:nvGrpSpPr>
            <p:cNvPr id="587" name="Group 422"/>
            <p:cNvGrpSpPr/>
            <p:nvPr/>
          </p:nvGrpSpPr>
          <p:grpSpPr>
            <a:xfrm>
              <a:off x="1871640" y="5626080"/>
              <a:ext cx="1704960" cy="820440"/>
              <a:chOff x="1871640" y="5626080"/>
              <a:chExt cx="1704960" cy="820440"/>
            </a:xfrm>
          </p:grpSpPr>
          <p:sp>
            <p:nvSpPr>
              <p:cNvPr id="588" name="Freeform 423"/>
              <p:cNvSpPr/>
              <p:nvPr/>
            </p:nvSpPr>
            <p:spPr>
              <a:xfrm>
                <a:off x="2968560" y="6068880"/>
                <a:ext cx="595440" cy="344520"/>
              </a:xfrm>
              <a:custGeom>
                <a:avLst/>
                <a:gdLst/>
                <a:ahLst/>
                <a:rect l="l" t="t" r="r" b="b"/>
                <a:pathLst>
                  <a:path w="750" h="870">
                    <a:moveTo>
                      <a:pt x="0" y="837"/>
                    </a:moveTo>
                    <a:lnTo>
                      <a:pt x="0" y="870"/>
                    </a:lnTo>
                    <a:lnTo>
                      <a:pt x="9" y="869"/>
                    </a:lnTo>
                    <a:lnTo>
                      <a:pt x="19" y="868"/>
                    </a:lnTo>
                    <a:lnTo>
                      <a:pt x="29" y="867"/>
                    </a:lnTo>
                    <a:lnTo>
                      <a:pt x="38" y="864"/>
                    </a:lnTo>
                    <a:lnTo>
                      <a:pt x="49" y="863"/>
                    </a:lnTo>
                    <a:lnTo>
                      <a:pt x="59" y="861"/>
                    </a:lnTo>
                    <a:lnTo>
                      <a:pt x="70" y="859"/>
                    </a:lnTo>
                    <a:lnTo>
                      <a:pt x="82" y="857"/>
                    </a:lnTo>
                    <a:lnTo>
                      <a:pt x="91" y="853"/>
                    </a:lnTo>
                    <a:lnTo>
                      <a:pt x="103" y="849"/>
                    </a:lnTo>
                    <a:lnTo>
                      <a:pt x="117" y="842"/>
                    </a:lnTo>
                    <a:lnTo>
                      <a:pt x="129" y="836"/>
                    </a:lnTo>
                    <a:lnTo>
                      <a:pt x="143" y="829"/>
                    </a:lnTo>
                    <a:lnTo>
                      <a:pt x="155" y="822"/>
                    </a:lnTo>
                    <a:lnTo>
                      <a:pt x="164" y="815"/>
                    </a:lnTo>
                    <a:lnTo>
                      <a:pt x="169" y="809"/>
                    </a:lnTo>
                    <a:lnTo>
                      <a:pt x="174" y="789"/>
                    </a:lnTo>
                    <a:lnTo>
                      <a:pt x="178" y="769"/>
                    </a:lnTo>
                    <a:lnTo>
                      <a:pt x="176" y="751"/>
                    </a:lnTo>
                    <a:lnTo>
                      <a:pt x="165" y="737"/>
                    </a:lnTo>
                    <a:lnTo>
                      <a:pt x="166" y="728"/>
                    </a:lnTo>
                    <a:lnTo>
                      <a:pt x="169" y="724"/>
                    </a:lnTo>
                    <a:lnTo>
                      <a:pt x="169" y="720"/>
                    </a:lnTo>
                    <a:lnTo>
                      <a:pt x="166" y="707"/>
                    </a:lnTo>
                    <a:lnTo>
                      <a:pt x="169" y="714"/>
                    </a:lnTo>
                    <a:lnTo>
                      <a:pt x="176" y="718"/>
                    </a:lnTo>
                    <a:lnTo>
                      <a:pt x="184" y="720"/>
                    </a:lnTo>
                    <a:lnTo>
                      <a:pt x="195" y="720"/>
                    </a:lnTo>
                    <a:lnTo>
                      <a:pt x="204" y="719"/>
                    </a:lnTo>
                    <a:lnTo>
                      <a:pt x="213" y="717"/>
                    </a:lnTo>
                    <a:lnTo>
                      <a:pt x="219" y="715"/>
                    </a:lnTo>
                    <a:lnTo>
                      <a:pt x="222" y="714"/>
                    </a:lnTo>
                    <a:lnTo>
                      <a:pt x="231" y="712"/>
                    </a:lnTo>
                    <a:lnTo>
                      <a:pt x="234" y="692"/>
                    </a:lnTo>
                    <a:lnTo>
                      <a:pt x="235" y="667"/>
                    </a:lnTo>
                    <a:lnTo>
                      <a:pt x="237" y="653"/>
                    </a:lnTo>
                    <a:lnTo>
                      <a:pt x="251" y="680"/>
                    </a:lnTo>
                    <a:lnTo>
                      <a:pt x="263" y="698"/>
                    </a:lnTo>
                    <a:lnTo>
                      <a:pt x="273" y="710"/>
                    </a:lnTo>
                    <a:lnTo>
                      <a:pt x="281" y="717"/>
                    </a:lnTo>
                    <a:lnTo>
                      <a:pt x="288" y="722"/>
                    </a:lnTo>
                    <a:lnTo>
                      <a:pt x="293" y="727"/>
                    </a:lnTo>
                    <a:lnTo>
                      <a:pt x="296" y="732"/>
                    </a:lnTo>
                    <a:lnTo>
                      <a:pt x="297" y="739"/>
                    </a:lnTo>
                    <a:lnTo>
                      <a:pt x="304" y="748"/>
                    </a:lnTo>
                    <a:lnTo>
                      <a:pt x="313" y="759"/>
                    </a:lnTo>
                    <a:lnTo>
                      <a:pt x="324" y="769"/>
                    </a:lnTo>
                    <a:lnTo>
                      <a:pt x="335" y="778"/>
                    </a:lnTo>
                    <a:lnTo>
                      <a:pt x="347" y="784"/>
                    </a:lnTo>
                    <a:lnTo>
                      <a:pt x="360" y="785"/>
                    </a:lnTo>
                    <a:lnTo>
                      <a:pt x="371" y="782"/>
                    </a:lnTo>
                    <a:lnTo>
                      <a:pt x="383" y="771"/>
                    </a:lnTo>
                    <a:lnTo>
                      <a:pt x="399" y="755"/>
                    </a:lnTo>
                    <a:lnTo>
                      <a:pt x="411" y="736"/>
                    </a:lnTo>
                    <a:lnTo>
                      <a:pt x="421" y="715"/>
                    </a:lnTo>
                    <a:lnTo>
                      <a:pt x="427" y="692"/>
                    </a:lnTo>
                    <a:lnTo>
                      <a:pt x="431" y="669"/>
                    </a:lnTo>
                    <a:lnTo>
                      <a:pt x="432" y="646"/>
                    </a:lnTo>
                    <a:lnTo>
                      <a:pt x="432" y="623"/>
                    </a:lnTo>
                    <a:lnTo>
                      <a:pt x="431" y="601"/>
                    </a:lnTo>
                    <a:lnTo>
                      <a:pt x="429" y="599"/>
                    </a:lnTo>
                    <a:lnTo>
                      <a:pt x="429" y="592"/>
                    </a:lnTo>
                    <a:lnTo>
                      <a:pt x="427" y="581"/>
                    </a:lnTo>
                    <a:lnTo>
                      <a:pt x="416" y="569"/>
                    </a:lnTo>
                    <a:lnTo>
                      <a:pt x="432" y="581"/>
                    </a:lnTo>
                    <a:lnTo>
                      <a:pt x="448" y="591"/>
                    </a:lnTo>
                    <a:lnTo>
                      <a:pt x="467" y="599"/>
                    </a:lnTo>
                    <a:lnTo>
                      <a:pt x="484" y="605"/>
                    </a:lnTo>
                    <a:lnTo>
                      <a:pt x="501" y="612"/>
                    </a:lnTo>
                    <a:lnTo>
                      <a:pt x="516" y="617"/>
                    </a:lnTo>
                    <a:lnTo>
                      <a:pt x="530" y="622"/>
                    </a:lnTo>
                    <a:lnTo>
                      <a:pt x="540" y="628"/>
                    </a:lnTo>
                    <a:lnTo>
                      <a:pt x="547" y="630"/>
                    </a:lnTo>
                    <a:lnTo>
                      <a:pt x="555" y="635"/>
                    </a:lnTo>
                    <a:lnTo>
                      <a:pt x="563" y="639"/>
                    </a:lnTo>
                    <a:lnTo>
                      <a:pt x="574" y="644"/>
                    </a:lnTo>
                    <a:lnTo>
                      <a:pt x="583" y="650"/>
                    </a:lnTo>
                    <a:lnTo>
                      <a:pt x="594" y="656"/>
                    </a:lnTo>
                    <a:lnTo>
                      <a:pt x="606" y="662"/>
                    </a:lnTo>
                    <a:lnTo>
                      <a:pt x="617" y="667"/>
                    </a:lnTo>
                    <a:lnTo>
                      <a:pt x="636" y="671"/>
                    </a:lnTo>
                    <a:lnTo>
                      <a:pt x="653" y="674"/>
                    </a:lnTo>
                    <a:lnTo>
                      <a:pt x="669" y="676"/>
                    </a:lnTo>
                    <a:lnTo>
                      <a:pt x="684" y="678"/>
                    </a:lnTo>
                    <a:lnTo>
                      <a:pt x="699" y="680"/>
                    </a:lnTo>
                    <a:lnTo>
                      <a:pt x="714" y="681"/>
                    </a:lnTo>
                    <a:lnTo>
                      <a:pt x="731" y="681"/>
                    </a:lnTo>
                    <a:lnTo>
                      <a:pt x="749" y="681"/>
                    </a:lnTo>
                    <a:lnTo>
                      <a:pt x="750" y="675"/>
                    </a:lnTo>
                    <a:lnTo>
                      <a:pt x="750" y="671"/>
                    </a:lnTo>
                    <a:lnTo>
                      <a:pt x="750" y="666"/>
                    </a:lnTo>
                    <a:lnTo>
                      <a:pt x="750" y="662"/>
                    </a:lnTo>
                    <a:lnTo>
                      <a:pt x="736" y="634"/>
                    </a:lnTo>
                    <a:lnTo>
                      <a:pt x="722" y="609"/>
                    </a:lnTo>
                    <a:lnTo>
                      <a:pt x="708" y="586"/>
                    </a:lnTo>
                    <a:lnTo>
                      <a:pt x="696" y="565"/>
                    </a:lnTo>
                    <a:lnTo>
                      <a:pt x="681" y="546"/>
                    </a:lnTo>
                    <a:lnTo>
                      <a:pt x="664" y="526"/>
                    </a:lnTo>
                    <a:lnTo>
                      <a:pt x="645" y="507"/>
                    </a:lnTo>
                    <a:lnTo>
                      <a:pt x="623" y="486"/>
                    </a:lnTo>
                    <a:lnTo>
                      <a:pt x="617" y="485"/>
                    </a:lnTo>
                    <a:lnTo>
                      <a:pt x="612" y="484"/>
                    </a:lnTo>
                    <a:lnTo>
                      <a:pt x="606" y="483"/>
                    </a:lnTo>
                    <a:lnTo>
                      <a:pt x="600" y="483"/>
                    </a:lnTo>
                    <a:lnTo>
                      <a:pt x="591" y="478"/>
                    </a:lnTo>
                    <a:lnTo>
                      <a:pt x="582" y="473"/>
                    </a:lnTo>
                    <a:lnTo>
                      <a:pt x="573" y="469"/>
                    </a:lnTo>
                    <a:lnTo>
                      <a:pt x="564" y="463"/>
                    </a:lnTo>
                    <a:lnTo>
                      <a:pt x="555" y="459"/>
                    </a:lnTo>
                    <a:lnTo>
                      <a:pt x="546" y="454"/>
                    </a:lnTo>
                    <a:lnTo>
                      <a:pt x="538" y="450"/>
                    </a:lnTo>
                    <a:lnTo>
                      <a:pt x="529" y="446"/>
                    </a:lnTo>
                    <a:lnTo>
                      <a:pt x="502" y="416"/>
                    </a:lnTo>
                    <a:lnTo>
                      <a:pt x="475" y="387"/>
                    </a:lnTo>
                    <a:lnTo>
                      <a:pt x="446" y="359"/>
                    </a:lnTo>
                    <a:lnTo>
                      <a:pt x="417" y="331"/>
                    </a:lnTo>
                    <a:lnTo>
                      <a:pt x="386" y="302"/>
                    </a:lnTo>
                    <a:lnTo>
                      <a:pt x="356" y="275"/>
                    </a:lnTo>
                    <a:lnTo>
                      <a:pt x="324" y="249"/>
                    </a:lnTo>
                    <a:lnTo>
                      <a:pt x="293" y="223"/>
                    </a:lnTo>
                    <a:lnTo>
                      <a:pt x="260" y="197"/>
                    </a:lnTo>
                    <a:lnTo>
                      <a:pt x="227" y="172"/>
                    </a:lnTo>
                    <a:lnTo>
                      <a:pt x="195" y="147"/>
                    </a:lnTo>
                    <a:lnTo>
                      <a:pt x="161" y="122"/>
                    </a:lnTo>
                    <a:lnTo>
                      <a:pt x="128" y="98"/>
                    </a:lnTo>
                    <a:lnTo>
                      <a:pt x="95" y="74"/>
                    </a:lnTo>
                    <a:lnTo>
                      <a:pt x="62" y="50"/>
                    </a:lnTo>
                    <a:lnTo>
                      <a:pt x="29" y="27"/>
                    </a:lnTo>
                    <a:lnTo>
                      <a:pt x="22" y="19"/>
                    </a:lnTo>
                    <a:lnTo>
                      <a:pt x="15" y="13"/>
                    </a:lnTo>
                    <a:lnTo>
                      <a:pt x="8" y="7"/>
                    </a:lnTo>
                    <a:lnTo>
                      <a:pt x="0" y="0"/>
                    </a:lnTo>
                    <a:lnTo>
                      <a:pt x="0" y="757"/>
                    </a:lnTo>
                    <a:lnTo>
                      <a:pt x="8" y="764"/>
                    </a:lnTo>
                    <a:lnTo>
                      <a:pt x="16" y="770"/>
                    </a:lnTo>
                    <a:lnTo>
                      <a:pt x="23" y="776"/>
                    </a:lnTo>
                    <a:lnTo>
                      <a:pt x="29" y="780"/>
                    </a:lnTo>
                    <a:lnTo>
                      <a:pt x="35" y="784"/>
                    </a:lnTo>
                    <a:lnTo>
                      <a:pt x="38" y="786"/>
                    </a:lnTo>
                    <a:lnTo>
                      <a:pt x="42" y="787"/>
                    </a:lnTo>
                    <a:lnTo>
                      <a:pt x="43" y="787"/>
                    </a:lnTo>
                    <a:lnTo>
                      <a:pt x="44" y="777"/>
                    </a:lnTo>
                    <a:lnTo>
                      <a:pt x="45" y="759"/>
                    </a:lnTo>
                    <a:lnTo>
                      <a:pt x="47" y="740"/>
                    </a:lnTo>
                    <a:lnTo>
                      <a:pt x="47" y="731"/>
                    </a:lnTo>
                    <a:lnTo>
                      <a:pt x="60" y="731"/>
                    </a:lnTo>
                    <a:lnTo>
                      <a:pt x="73" y="731"/>
                    </a:lnTo>
                    <a:lnTo>
                      <a:pt x="84" y="731"/>
                    </a:lnTo>
                    <a:lnTo>
                      <a:pt x="96" y="731"/>
                    </a:lnTo>
                    <a:lnTo>
                      <a:pt x="106" y="732"/>
                    </a:lnTo>
                    <a:lnTo>
                      <a:pt x="118" y="733"/>
                    </a:lnTo>
                    <a:lnTo>
                      <a:pt x="129" y="736"/>
                    </a:lnTo>
                    <a:lnTo>
                      <a:pt x="142" y="741"/>
                    </a:lnTo>
                    <a:lnTo>
                      <a:pt x="143" y="767"/>
                    </a:lnTo>
                    <a:lnTo>
                      <a:pt x="140" y="787"/>
                    </a:lnTo>
                    <a:lnTo>
                      <a:pt x="131" y="803"/>
                    </a:lnTo>
                    <a:lnTo>
                      <a:pt x="120" y="814"/>
                    </a:lnTo>
                    <a:lnTo>
                      <a:pt x="105" y="824"/>
                    </a:lnTo>
                    <a:lnTo>
                      <a:pt x="89" y="831"/>
                    </a:lnTo>
                    <a:lnTo>
                      <a:pt x="70" y="837"/>
                    </a:lnTo>
                    <a:lnTo>
                      <a:pt x="51" y="845"/>
                    </a:lnTo>
                    <a:lnTo>
                      <a:pt x="46" y="845"/>
                    </a:lnTo>
                    <a:lnTo>
                      <a:pt x="41" y="845"/>
                    </a:lnTo>
                    <a:lnTo>
                      <a:pt x="34" y="845"/>
                    </a:lnTo>
                    <a:lnTo>
                      <a:pt x="28" y="844"/>
                    </a:lnTo>
                    <a:lnTo>
                      <a:pt x="21" y="842"/>
                    </a:lnTo>
                    <a:lnTo>
                      <a:pt x="14" y="841"/>
                    </a:lnTo>
                    <a:lnTo>
                      <a:pt x="7" y="839"/>
                    </a:lnTo>
                    <a:lnTo>
                      <a:pt x="0" y="83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424"/>
              <p:cNvSpPr/>
              <p:nvPr/>
            </p:nvSpPr>
            <p:spPr>
              <a:xfrm>
                <a:off x="1871640" y="5946480"/>
                <a:ext cx="1096920" cy="500040"/>
              </a:xfrm>
              <a:custGeom>
                <a:avLst/>
                <a:gdLst/>
                <a:ahLst/>
                <a:rect l="l" t="t" r="r" b="b"/>
                <a:pathLst>
                  <a:path w="1383" h="1258">
                    <a:moveTo>
                      <a:pt x="1383" y="1065"/>
                    </a:moveTo>
                    <a:lnTo>
                      <a:pt x="1383" y="308"/>
                    </a:lnTo>
                    <a:lnTo>
                      <a:pt x="1380" y="304"/>
                    </a:lnTo>
                    <a:lnTo>
                      <a:pt x="1376" y="301"/>
                    </a:lnTo>
                    <a:lnTo>
                      <a:pt x="1373" y="299"/>
                    </a:lnTo>
                    <a:lnTo>
                      <a:pt x="1369" y="296"/>
                    </a:lnTo>
                    <a:lnTo>
                      <a:pt x="1362" y="289"/>
                    </a:lnTo>
                    <a:lnTo>
                      <a:pt x="1354" y="281"/>
                    </a:lnTo>
                    <a:lnTo>
                      <a:pt x="1348" y="276"/>
                    </a:lnTo>
                    <a:lnTo>
                      <a:pt x="1339" y="271"/>
                    </a:lnTo>
                    <a:lnTo>
                      <a:pt x="1333" y="265"/>
                    </a:lnTo>
                    <a:lnTo>
                      <a:pt x="1324" y="260"/>
                    </a:lnTo>
                    <a:lnTo>
                      <a:pt x="1319" y="253"/>
                    </a:lnTo>
                    <a:lnTo>
                      <a:pt x="1312" y="246"/>
                    </a:lnTo>
                    <a:lnTo>
                      <a:pt x="1307" y="238"/>
                    </a:lnTo>
                    <a:lnTo>
                      <a:pt x="1304" y="229"/>
                    </a:lnTo>
                    <a:lnTo>
                      <a:pt x="1299" y="222"/>
                    </a:lnTo>
                    <a:lnTo>
                      <a:pt x="1296" y="214"/>
                    </a:lnTo>
                    <a:lnTo>
                      <a:pt x="1291" y="207"/>
                    </a:lnTo>
                    <a:lnTo>
                      <a:pt x="1285" y="200"/>
                    </a:lnTo>
                    <a:lnTo>
                      <a:pt x="1278" y="194"/>
                    </a:lnTo>
                    <a:lnTo>
                      <a:pt x="1270" y="188"/>
                    </a:lnTo>
                    <a:lnTo>
                      <a:pt x="1259" y="187"/>
                    </a:lnTo>
                    <a:lnTo>
                      <a:pt x="1248" y="186"/>
                    </a:lnTo>
                    <a:lnTo>
                      <a:pt x="1238" y="187"/>
                    </a:lnTo>
                    <a:lnTo>
                      <a:pt x="1229" y="188"/>
                    </a:lnTo>
                    <a:lnTo>
                      <a:pt x="1220" y="192"/>
                    </a:lnTo>
                    <a:lnTo>
                      <a:pt x="1213" y="196"/>
                    </a:lnTo>
                    <a:lnTo>
                      <a:pt x="1205" y="203"/>
                    </a:lnTo>
                    <a:lnTo>
                      <a:pt x="1199" y="211"/>
                    </a:lnTo>
                    <a:lnTo>
                      <a:pt x="1190" y="206"/>
                    </a:lnTo>
                    <a:lnTo>
                      <a:pt x="1182" y="197"/>
                    </a:lnTo>
                    <a:lnTo>
                      <a:pt x="1172" y="186"/>
                    </a:lnTo>
                    <a:lnTo>
                      <a:pt x="1166" y="174"/>
                    </a:lnTo>
                    <a:lnTo>
                      <a:pt x="1159" y="161"/>
                    </a:lnTo>
                    <a:lnTo>
                      <a:pt x="1153" y="149"/>
                    </a:lnTo>
                    <a:lnTo>
                      <a:pt x="1147" y="136"/>
                    </a:lnTo>
                    <a:lnTo>
                      <a:pt x="1144" y="126"/>
                    </a:lnTo>
                    <a:lnTo>
                      <a:pt x="1134" y="127"/>
                    </a:lnTo>
                    <a:lnTo>
                      <a:pt x="1128" y="128"/>
                    </a:lnTo>
                    <a:lnTo>
                      <a:pt x="1120" y="128"/>
                    </a:lnTo>
                    <a:lnTo>
                      <a:pt x="1113" y="129"/>
                    </a:lnTo>
                    <a:lnTo>
                      <a:pt x="1106" y="130"/>
                    </a:lnTo>
                    <a:lnTo>
                      <a:pt x="1098" y="131"/>
                    </a:lnTo>
                    <a:lnTo>
                      <a:pt x="1091" y="133"/>
                    </a:lnTo>
                    <a:lnTo>
                      <a:pt x="1083" y="136"/>
                    </a:lnTo>
                    <a:lnTo>
                      <a:pt x="1079" y="138"/>
                    </a:lnTo>
                    <a:lnTo>
                      <a:pt x="1076" y="138"/>
                    </a:lnTo>
                    <a:lnTo>
                      <a:pt x="1070" y="138"/>
                    </a:lnTo>
                    <a:lnTo>
                      <a:pt x="1063" y="140"/>
                    </a:lnTo>
                    <a:lnTo>
                      <a:pt x="1057" y="132"/>
                    </a:lnTo>
                    <a:lnTo>
                      <a:pt x="1055" y="128"/>
                    </a:lnTo>
                    <a:lnTo>
                      <a:pt x="1055" y="125"/>
                    </a:lnTo>
                    <a:lnTo>
                      <a:pt x="1055" y="120"/>
                    </a:lnTo>
                    <a:lnTo>
                      <a:pt x="1070" y="102"/>
                    </a:lnTo>
                    <a:lnTo>
                      <a:pt x="1077" y="88"/>
                    </a:lnTo>
                    <a:lnTo>
                      <a:pt x="1078" y="77"/>
                    </a:lnTo>
                    <a:lnTo>
                      <a:pt x="1078" y="69"/>
                    </a:lnTo>
                    <a:lnTo>
                      <a:pt x="1071" y="59"/>
                    </a:lnTo>
                    <a:lnTo>
                      <a:pt x="1062" y="49"/>
                    </a:lnTo>
                    <a:lnTo>
                      <a:pt x="1048" y="39"/>
                    </a:lnTo>
                    <a:lnTo>
                      <a:pt x="1033" y="31"/>
                    </a:lnTo>
                    <a:lnTo>
                      <a:pt x="1016" y="23"/>
                    </a:lnTo>
                    <a:lnTo>
                      <a:pt x="997" y="15"/>
                    </a:lnTo>
                    <a:lnTo>
                      <a:pt x="980" y="8"/>
                    </a:lnTo>
                    <a:lnTo>
                      <a:pt x="963" y="0"/>
                    </a:lnTo>
                    <a:lnTo>
                      <a:pt x="958" y="0"/>
                    </a:lnTo>
                    <a:lnTo>
                      <a:pt x="954" y="0"/>
                    </a:lnTo>
                    <a:lnTo>
                      <a:pt x="949" y="0"/>
                    </a:lnTo>
                    <a:lnTo>
                      <a:pt x="944" y="0"/>
                    </a:lnTo>
                    <a:lnTo>
                      <a:pt x="940" y="0"/>
                    </a:lnTo>
                    <a:lnTo>
                      <a:pt x="935" y="2"/>
                    </a:lnTo>
                    <a:lnTo>
                      <a:pt x="932" y="2"/>
                    </a:lnTo>
                    <a:lnTo>
                      <a:pt x="928" y="2"/>
                    </a:lnTo>
                    <a:lnTo>
                      <a:pt x="909" y="30"/>
                    </a:lnTo>
                    <a:lnTo>
                      <a:pt x="889" y="60"/>
                    </a:lnTo>
                    <a:lnTo>
                      <a:pt x="871" y="90"/>
                    </a:lnTo>
                    <a:lnTo>
                      <a:pt x="851" y="122"/>
                    </a:lnTo>
                    <a:lnTo>
                      <a:pt x="832" y="152"/>
                    </a:lnTo>
                    <a:lnTo>
                      <a:pt x="811" y="182"/>
                    </a:lnTo>
                    <a:lnTo>
                      <a:pt x="790" y="211"/>
                    </a:lnTo>
                    <a:lnTo>
                      <a:pt x="769" y="239"/>
                    </a:lnTo>
                    <a:lnTo>
                      <a:pt x="818" y="171"/>
                    </a:lnTo>
                    <a:lnTo>
                      <a:pt x="820" y="164"/>
                    </a:lnTo>
                    <a:lnTo>
                      <a:pt x="827" y="155"/>
                    </a:lnTo>
                    <a:lnTo>
                      <a:pt x="833" y="146"/>
                    </a:lnTo>
                    <a:lnTo>
                      <a:pt x="832" y="137"/>
                    </a:lnTo>
                    <a:lnTo>
                      <a:pt x="826" y="141"/>
                    </a:lnTo>
                    <a:lnTo>
                      <a:pt x="817" y="147"/>
                    </a:lnTo>
                    <a:lnTo>
                      <a:pt x="807" y="152"/>
                    </a:lnTo>
                    <a:lnTo>
                      <a:pt x="803" y="155"/>
                    </a:lnTo>
                    <a:lnTo>
                      <a:pt x="775" y="172"/>
                    </a:lnTo>
                    <a:lnTo>
                      <a:pt x="745" y="191"/>
                    </a:lnTo>
                    <a:lnTo>
                      <a:pt x="715" y="209"/>
                    </a:lnTo>
                    <a:lnTo>
                      <a:pt x="684" y="229"/>
                    </a:lnTo>
                    <a:lnTo>
                      <a:pt x="653" y="250"/>
                    </a:lnTo>
                    <a:lnTo>
                      <a:pt x="622" y="271"/>
                    </a:lnTo>
                    <a:lnTo>
                      <a:pt x="590" y="293"/>
                    </a:lnTo>
                    <a:lnTo>
                      <a:pt x="559" y="316"/>
                    </a:lnTo>
                    <a:lnTo>
                      <a:pt x="528" y="339"/>
                    </a:lnTo>
                    <a:lnTo>
                      <a:pt x="498" y="362"/>
                    </a:lnTo>
                    <a:lnTo>
                      <a:pt x="468" y="385"/>
                    </a:lnTo>
                    <a:lnTo>
                      <a:pt x="439" y="409"/>
                    </a:lnTo>
                    <a:lnTo>
                      <a:pt x="412" y="433"/>
                    </a:lnTo>
                    <a:lnTo>
                      <a:pt x="387" y="457"/>
                    </a:lnTo>
                    <a:lnTo>
                      <a:pt x="363" y="481"/>
                    </a:lnTo>
                    <a:lnTo>
                      <a:pt x="341" y="505"/>
                    </a:lnTo>
                    <a:lnTo>
                      <a:pt x="335" y="514"/>
                    </a:lnTo>
                    <a:lnTo>
                      <a:pt x="326" y="525"/>
                    </a:lnTo>
                    <a:lnTo>
                      <a:pt x="316" y="535"/>
                    </a:lnTo>
                    <a:lnTo>
                      <a:pt x="311" y="544"/>
                    </a:lnTo>
                    <a:lnTo>
                      <a:pt x="292" y="555"/>
                    </a:lnTo>
                    <a:lnTo>
                      <a:pt x="273" y="567"/>
                    </a:lnTo>
                    <a:lnTo>
                      <a:pt x="254" y="579"/>
                    </a:lnTo>
                    <a:lnTo>
                      <a:pt x="236" y="593"/>
                    </a:lnTo>
                    <a:lnTo>
                      <a:pt x="218" y="606"/>
                    </a:lnTo>
                    <a:lnTo>
                      <a:pt x="199" y="620"/>
                    </a:lnTo>
                    <a:lnTo>
                      <a:pt x="182" y="633"/>
                    </a:lnTo>
                    <a:lnTo>
                      <a:pt x="165" y="648"/>
                    </a:lnTo>
                    <a:lnTo>
                      <a:pt x="148" y="662"/>
                    </a:lnTo>
                    <a:lnTo>
                      <a:pt x="129" y="676"/>
                    </a:lnTo>
                    <a:lnTo>
                      <a:pt x="112" y="690"/>
                    </a:lnTo>
                    <a:lnTo>
                      <a:pt x="95" y="704"/>
                    </a:lnTo>
                    <a:lnTo>
                      <a:pt x="77" y="718"/>
                    </a:lnTo>
                    <a:lnTo>
                      <a:pt x="59" y="732"/>
                    </a:lnTo>
                    <a:lnTo>
                      <a:pt x="42" y="744"/>
                    </a:lnTo>
                    <a:lnTo>
                      <a:pt x="23" y="757"/>
                    </a:lnTo>
                    <a:lnTo>
                      <a:pt x="7" y="775"/>
                    </a:lnTo>
                    <a:lnTo>
                      <a:pt x="3" y="785"/>
                    </a:lnTo>
                    <a:lnTo>
                      <a:pt x="1" y="791"/>
                    </a:lnTo>
                    <a:lnTo>
                      <a:pt x="0" y="798"/>
                    </a:lnTo>
                    <a:lnTo>
                      <a:pt x="0" y="830"/>
                    </a:lnTo>
                    <a:lnTo>
                      <a:pt x="0" y="862"/>
                    </a:lnTo>
                    <a:lnTo>
                      <a:pt x="4" y="894"/>
                    </a:lnTo>
                    <a:lnTo>
                      <a:pt x="11" y="923"/>
                    </a:lnTo>
                    <a:lnTo>
                      <a:pt x="24" y="947"/>
                    </a:lnTo>
                    <a:lnTo>
                      <a:pt x="46" y="965"/>
                    </a:lnTo>
                    <a:lnTo>
                      <a:pt x="76" y="974"/>
                    </a:lnTo>
                    <a:lnTo>
                      <a:pt x="118" y="975"/>
                    </a:lnTo>
                    <a:lnTo>
                      <a:pt x="128" y="973"/>
                    </a:lnTo>
                    <a:lnTo>
                      <a:pt x="141" y="967"/>
                    </a:lnTo>
                    <a:lnTo>
                      <a:pt x="155" y="955"/>
                    </a:lnTo>
                    <a:lnTo>
                      <a:pt x="169" y="942"/>
                    </a:lnTo>
                    <a:lnTo>
                      <a:pt x="186" y="927"/>
                    </a:lnTo>
                    <a:lnTo>
                      <a:pt x="202" y="912"/>
                    </a:lnTo>
                    <a:lnTo>
                      <a:pt x="218" y="900"/>
                    </a:lnTo>
                    <a:lnTo>
                      <a:pt x="234" y="889"/>
                    </a:lnTo>
                    <a:lnTo>
                      <a:pt x="227" y="899"/>
                    </a:lnTo>
                    <a:lnTo>
                      <a:pt x="220" y="906"/>
                    </a:lnTo>
                    <a:lnTo>
                      <a:pt x="214" y="914"/>
                    </a:lnTo>
                    <a:lnTo>
                      <a:pt x="210" y="922"/>
                    </a:lnTo>
                    <a:lnTo>
                      <a:pt x="205" y="929"/>
                    </a:lnTo>
                    <a:lnTo>
                      <a:pt x="201" y="937"/>
                    </a:lnTo>
                    <a:lnTo>
                      <a:pt x="197" y="947"/>
                    </a:lnTo>
                    <a:lnTo>
                      <a:pt x="194" y="957"/>
                    </a:lnTo>
                    <a:lnTo>
                      <a:pt x="188" y="962"/>
                    </a:lnTo>
                    <a:lnTo>
                      <a:pt x="183" y="968"/>
                    </a:lnTo>
                    <a:lnTo>
                      <a:pt x="179" y="973"/>
                    </a:lnTo>
                    <a:lnTo>
                      <a:pt x="174" y="977"/>
                    </a:lnTo>
                    <a:lnTo>
                      <a:pt x="171" y="983"/>
                    </a:lnTo>
                    <a:lnTo>
                      <a:pt x="167" y="989"/>
                    </a:lnTo>
                    <a:lnTo>
                      <a:pt x="163" y="995"/>
                    </a:lnTo>
                    <a:lnTo>
                      <a:pt x="158" y="1001"/>
                    </a:lnTo>
                    <a:lnTo>
                      <a:pt x="158" y="1017"/>
                    </a:lnTo>
                    <a:lnTo>
                      <a:pt x="158" y="1031"/>
                    </a:lnTo>
                    <a:lnTo>
                      <a:pt x="158" y="1046"/>
                    </a:lnTo>
                    <a:lnTo>
                      <a:pt x="158" y="1061"/>
                    </a:lnTo>
                    <a:lnTo>
                      <a:pt x="163" y="1069"/>
                    </a:lnTo>
                    <a:lnTo>
                      <a:pt x="166" y="1080"/>
                    </a:lnTo>
                    <a:lnTo>
                      <a:pt x="168" y="1093"/>
                    </a:lnTo>
                    <a:lnTo>
                      <a:pt x="173" y="1106"/>
                    </a:lnTo>
                    <a:lnTo>
                      <a:pt x="194" y="1130"/>
                    </a:lnTo>
                    <a:lnTo>
                      <a:pt x="209" y="1148"/>
                    </a:lnTo>
                    <a:lnTo>
                      <a:pt x="222" y="1164"/>
                    </a:lnTo>
                    <a:lnTo>
                      <a:pt x="236" y="1176"/>
                    </a:lnTo>
                    <a:lnTo>
                      <a:pt x="252" y="1183"/>
                    </a:lnTo>
                    <a:lnTo>
                      <a:pt x="273" y="1188"/>
                    </a:lnTo>
                    <a:lnTo>
                      <a:pt x="302" y="1191"/>
                    </a:lnTo>
                    <a:lnTo>
                      <a:pt x="340" y="1192"/>
                    </a:lnTo>
                    <a:lnTo>
                      <a:pt x="349" y="1190"/>
                    </a:lnTo>
                    <a:lnTo>
                      <a:pt x="358" y="1187"/>
                    </a:lnTo>
                    <a:lnTo>
                      <a:pt x="366" y="1184"/>
                    </a:lnTo>
                    <a:lnTo>
                      <a:pt x="376" y="1181"/>
                    </a:lnTo>
                    <a:lnTo>
                      <a:pt x="384" y="1178"/>
                    </a:lnTo>
                    <a:lnTo>
                      <a:pt x="393" y="1175"/>
                    </a:lnTo>
                    <a:lnTo>
                      <a:pt x="401" y="1172"/>
                    </a:lnTo>
                    <a:lnTo>
                      <a:pt x="410" y="1171"/>
                    </a:lnTo>
                    <a:lnTo>
                      <a:pt x="432" y="1141"/>
                    </a:lnTo>
                    <a:lnTo>
                      <a:pt x="453" y="1110"/>
                    </a:lnTo>
                    <a:lnTo>
                      <a:pt x="472" y="1076"/>
                    </a:lnTo>
                    <a:lnTo>
                      <a:pt x="492" y="1044"/>
                    </a:lnTo>
                    <a:lnTo>
                      <a:pt x="509" y="1012"/>
                    </a:lnTo>
                    <a:lnTo>
                      <a:pt x="528" y="979"/>
                    </a:lnTo>
                    <a:lnTo>
                      <a:pt x="546" y="948"/>
                    </a:lnTo>
                    <a:lnTo>
                      <a:pt x="566" y="918"/>
                    </a:lnTo>
                    <a:lnTo>
                      <a:pt x="558" y="945"/>
                    </a:lnTo>
                    <a:lnTo>
                      <a:pt x="548" y="966"/>
                    </a:lnTo>
                    <a:lnTo>
                      <a:pt x="538" y="983"/>
                    </a:lnTo>
                    <a:lnTo>
                      <a:pt x="529" y="998"/>
                    </a:lnTo>
                    <a:lnTo>
                      <a:pt x="520" y="1013"/>
                    </a:lnTo>
                    <a:lnTo>
                      <a:pt x="513" y="1025"/>
                    </a:lnTo>
                    <a:lnTo>
                      <a:pt x="508" y="1041"/>
                    </a:lnTo>
                    <a:lnTo>
                      <a:pt x="508" y="1058"/>
                    </a:lnTo>
                    <a:lnTo>
                      <a:pt x="513" y="1065"/>
                    </a:lnTo>
                    <a:lnTo>
                      <a:pt x="525" y="1085"/>
                    </a:lnTo>
                    <a:lnTo>
                      <a:pt x="541" y="1113"/>
                    </a:lnTo>
                    <a:lnTo>
                      <a:pt x="561" y="1145"/>
                    </a:lnTo>
                    <a:lnTo>
                      <a:pt x="581" y="1178"/>
                    </a:lnTo>
                    <a:lnTo>
                      <a:pt x="598" y="1207"/>
                    </a:lnTo>
                    <a:lnTo>
                      <a:pt x="611" y="1230"/>
                    </a:lnTo>
                    <a:lnTo>
                      <a:pt x="617" y="1240"/>
                    </a:lnTo>
                    <a:lnTo>
                      <a:pt x="640" y="1240"/>
                    </a:lnTo>
                    <a:lnTo>
                      <a:pt x="660" y="1234"/>
                    </a:lnTo>
                    <a:lnTo>
                      <a:pt x="676" y="1222"/>
                    </a:lnTo>
                    <a:lnTo>
                      <a:pt x="690" y="1206"/>
                    </a:lnTo>
                    <a:lnTo>
                      <a:pt x="702" y="1188"/>
                    </a:lnTo>
                    <a:lnTo>
                      <a:pt x="713" y="1168"/>
                    </a:lnTo>
                    <a:lnTo>
                      <a:pt x="723" y="1149"/>
                    </a:lnTo>
                    <a:lnTo>
                      <a:pt x="735" y="1133"/>
                    </a:lnTo>
                    <a:lnTo>
                      <a:pt x="748" y="1098"/>
                    </a:lnTo>
                    <a:lnTo>
                      <a:pt x="760" y="1064"/>
                    </a:lnTo>
                    <a:lnTo>
                      <a:pt x="773" y="1028"/>
                    </a:lnTo>
                    <a:lnTo>
                      <a:pt x="787" y="993"/>
                    </a:lnTo>
                    <a:lnTo>
                      <a:pt x="799" y="957"/>
                    </a:lnTo>
                    <a:lnTo>
                      <a:pt x="813" y="922"/>
                    </a:lnTo>
                    <a:lnTo>
                      <a:pt x="826" y="887"/>
                    </a:lnTo>
                    <a:lnTo>
                      <a:pt x="837" y="853"/>
                    </a:lnTo>
                    <a:lnTo>
                      <a:pt x="840" y="853"/>
                    </a:lnTo>
                    <a:lnTo>
                      <a:pt x="843" y="853"/>
                    </a:lnTo>
                    <a:lnTo>
                      <a:pt x="845" y="853"/>
                    </a:lnTo>
                    <a:lnTo>
                      <a:pt x="849" y="853"/>
                    </a:lnTo>
                    <a:lnTo>
                      <a:pt x="837" y="910"/>
                    </a:lnTo>
                    <a:lnTo>
                      <a:pt x="830" y="972"/>
                    </a:lnTo>
                    <a:lnTo>
                      <a:pt x="825" y="1035"/>
                    </a:lnTo>
                    <a:lnTo>
                      <a:pt x="818" y="1095"/>
                    </a:lnTo>
                    <a:lnTo>
                      <a:pt x="818" y="1108"/>
                    </a:lnTo>
                    <a:lnTo>
                      <a:pt x="818" y="1120"/>
                    </a:lnTo>
                    <a:lnTo>
                      <a:pt x="818" y="1133"/>
                    </a:lnTo>
                    <a:lnTo>
                      <a:pt x="818" y="1146"/>
                    </a:lnTo>
                    <a:lnTo>
                      <a:pt x="820" y="1147"/>
                    </a:lnTo>
                    <a:lnTo>
                      <a:pt x="822" y="1148"/>
                    </a:lnTo>
                    <a:lnTo>
                      <a:pt x="824" y="1150"/>
                    </a:lnTo>
                    <a:lnTo>
                      <a:pt x="826" y="1152"/>
                    </a:lnTo>
                    <a:lnTo>
                      <a:pt x="829" y="1167"/>
                    </a:lnTo>
                    <a:lnTo>
                      <a:pt x="834" y="1181"/>
                    </a:lnTo>
                    <a:lnTo>
                      <a:pt x="840" y="1193"/>
                    </a:lnTo>
                    <a:lnTo>
                      <a:pt x="848" y="1204"/>
                    </a:lnTo>
                    <a:lnTo>
                      <a:pt x="857" y="1213"/>
                    </a:lnTo>
                    <a:lnTo>
                      <a:pt x="868" y="1222"/>
                    </a:lnTo>
                    <a:lnTo>
                      <a:pt x="881" y="1230"/>
                    </a:lnTo>
                    <a:lnTo>
                      <a:pt x="896" y="1238"/>
                    </a:lnTo>
                    <a:lnTo>
                      <a:pt x="917" y="1246"/>
                    </a:lnTo>
                    <a:lnTo>
                      <a:pt x="936" y="1251"/>
                    </a:lnTo>
                    <a:lnTo>
                      <a:pt x="956" y="1254"/>
                    </a:lnTo>
                    <a:lnTo>
                      <a:pt x="973" y="1257"/>
                    </a:lnTo>
                    <a:lnTo>
                      <a:pt x="991" y="1258"/>
                    </a:lnTo>
                    <a:lnTo>
                      <a:pt x="1008" y="1257"/>
                    </a:lnTo>
                    <a:lnTo>
                      <a:pt x="1023" y="1256"/>
                    </a:lnTo>
                    <a:lnTo>
                      <a:pt x="1038" y="1254"/>
                    </a:lnTo>
                    <a:lnTo>
                      <a:pt x="1050" y="1252"/>
                    </a:lnTo>
                    <a:lnTo>
                      <a:pt x="1063" y="1248"/>
                    </a:lnTo>
                    <a:lnTo>
                      <a:pt x="1075" y="1243"/>
                    </a:lnTo>
                    <a:lnTo>
                      <a:pt x="1084" y="1239"/>
                    </a:lnTo>
                    <a:lnTo>
                      <a:pt x="1093" y="1234"/>
                    </a:lnTo>
                    <a:lnTo>
                      <a:pt x="1101" y="1230"/>
                    </a:lnTo>
                    <a:lnTo>
                      <a:pt x="1107" y="1225"/>
                    </a:lnTo>
                    <a:lnTo>
                      <a:pt x="1113" y="1219"/>
                    </a:lnTo>
                    <a:lnTo>
                      <a:pt x="1115" y="1215"/>
                    </a:lnTo>
                    <a:lnTo>
                      <a:pt x="1118" y="1200"/>
                    </a:lnTo>
                    <a:lnTo>
                      <a:pt x="1122" y="1183"/>
                    </a:lnTo>
                    <a:lnTo>
                      <a:pt x="1126" y="1171"/>
                    </a:lnTo>
                    <a:lnTo>
                      <a:pt x="1122" y="1136"/>
                    </a:lnTo>
                    <a:lnTo>
                      <a:pt x="1118" y="1113"/>
                    </a:lnTo>
                    <a:lnTo>
                      <a:pt x="1115" y="1091"/>
                    </a:lnTo>
                    <a:lnTo>
                      <a:pt x="1111" y="1059"/>
                    </a:lnTo>
                    <a:lnTo>
                      <a:pt x="1125" y="1062"/>
                    </a:lnTo>
                    <a:lnTo>
                      <a:pt x="1137" y="1066"/>
                    </a:lnTo>
                    <a:lnTo>
                      <a:pt x="1146" y="1069"/>
                    </a:lnTo>
                    <a:lnTo>
                      <a:pt x="1155" y="1071"/>
                    </a:lnTo>
                    <a:lnTo>
                      <a:pt x="1164" y="1073"/>
                    </a:lnTo>
                    <a:lnTo>
                      <a:pt x="1176" y="1074"/>
                    </a:lnTo>
                    <a:lnTo>
                      <a:pt x="1190" y="1074"/>
                    </a:lnTo>
                    <a:lnTo>
                      <a:pt x="1208" y="1072"/>
                    </a:lnTo>
                    <a:lnTo>
                      <a:pt x="1212" y="1080"/>
                    </a:lnTo>
                    <a:lnTo>
                      <a:pt x="1216" y="1088"/>
                    </a:lnTo>
                    <a:lnTo>
                      <a:pt x="1221" y="1095"/>
                    </a:lnTo>
                    <a:lnTo>
                      <a:pt x="1223" y="1103"/>
                    </a:lnTo>
                    <a:lnTo>
                      <a:pt x="1238" y="1122"/>
                    </a:lnTo>
                    <a:lnTo>
                      <a:pt x="1254" y="1139"/>
                    </a:lnTo>
                    <a:lnTo>
                      <a:pt x="1270" y="1153"/>
                    </a:lnTo>
                    <a:lnTo>
                      <a:pt x="1289" y="1163"/>
                    </a:lnTo>
                    <a:lnTo>
                      <a:pt x="1310" y="1170"/>
                    </a:lnTo>
                    <a:lnTo>
                      <a:pt x="1331" y="1176"/>
                    </a:lnTo>
                    <a:lnTo>
                      <a:pt x="1356" y="1178"/>
                    </a:lnTo>
                    <a:lnTo>
                      <a:pt x="1383" y="1178"/>
                    </a:lnTo>
                    <a:lnTo>
                      <a:pt x="1383" y="1145"/>
                    </a:lnTo>
                    <a:lnTo>
                      <a:pt x="1375" y="1142"/>
                    </a:lnTo>
                    <a:lnTo>
                      <a:pt x="1366" y="1139"/>
                    </a:lnTo>
                    <a:lnTo>
                      <a:pt x="1359" y="1135"/>
                    </a:lnTo>
                    <a:lnTo>
                      <a:pt x="1351" y="1130"/>
                    </a:lnTo>
                    <a:lnTo>
                      <a:pt x="1345" y="1124"/>
                    </a:lnTo>
                    <a:lnTo>
                      <a:pt x="1339" y="1119"/>
                    </a:lnTo>
                    <a:lnTo>
                      <a:pt x="1336" y="1113"/>
                    </a:lnTo>
                    <a:lnTo>
                      <a:pt x="1333" y="1106"/>
                    </a:lnTo>
                    <a:lnTo>
                      <a:pt x="1324" y="1103"/>
                    </a:lnTo>
                    <a:lnTo>
                      <a:pt x="1313" y="1101"/>
                    </a:lnTo>
                    <a:lnTo>
                      <a:pt x="1300" y="1100"/>
                    </a:lnTo>
                    <a:lnTo>
                      <a:pt x="1285" y="1099"/>
                    </a:lnTo>
                    <a:lnTo>
                      <a:pt x="1272" y="1097"/>
                    </a:lnTo>
                    <a:lnTo>
                      <a:pt x="1258" y="1095"/>
                    </a:lnTo>
                    <a:lnTo>
                      <a:pt x="1247" y="1093"/>
                    </a:lnTo>
                    <a:lnTo>
                      <a:pt x="1242" y="1090"/>
                    </a:lnTo>
                    <a:lnTo>
                      <a:pt x="1254" y="1088"/>
                    </a:lnTo>
                    <a:lnTo>
                      <a:pt x="1269" y="1080"/>
                    </a:lnTo>
                    <a:lnTo>
                      <a:pt x="1278" y="1071"/>
                    </a:lnTo>
                    <a:lnTo>
                      <a:pt x="1284" y="1060"/>
                    </a:lnTo>
                    <a:lnTo>
                      <a:pt x="1289" y="1049"/>
                    </a:lnTo>
                    <a:lnTo>
                      <a:pt x="1298" y="1042"/>
                    </a:lnTo>
                    <a:lnTo>
                      <a:pt x="1312" y="1038"/>
                    </a:lnTo>
                    <a:lnTo>
                      <a:pt x="1334" y="1040"/>
                    </a:lnTo>
                    <a:lnTo>
                      <a:pt x="1368" y="1049"/>
                    </a:lnTo>
                    <a:lnTo>
                      <a:pt x="1373" y="1053"/>
                    </a:lnTo>
                    <a:lnTo>
                      <a:pt x="1376" y="1058"/>
                    </a:lnTo>
                    <a:lnTo>
                      <a:pt x="1380" y="1062"/>
                    </a:lnTo>
                    <a:lnTo>
                      <a:pt x="1383" y="106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425"/>
              <p:cNvSpPr/>
              <p:nvPr/>
            </p:nvSpPr>
            <p:spPr>
              <a:xfrm>
                <a:off x="2513160" y="5887800"/>
                <a:ext cx="404640" cy="128520"/>
              </a:xfrm>
              <a:custGeom>
                <a:avLst/>
                <a:gdLst/>
                <a:ahLst/>
                <a:rect l="l" t="t" r="r" b="b"/>
                <a:pathLst>
                  <a:path w="509" h="325">
                    <a:moveTo>
                      <a:pt x="189" y="77"/>
                    </a:moveTo>
                    <a:lnTo>
                      <a:pt x="189" y="110"/>
                    </a:lnTo>
                    <a:lnTo>
                      <a:pt x="181" y="125"/>
                    </a:lnTo>
                    <a:lnTo>
                      <a:pt x="171" y="138"/>
                    </a:lnTo>
                    <a:lnTo>
                      <a:pt x="161" y="147"/>
                    </a:lnTo>
                    <a:lnTo>
                      <a:pt x="153" y="155"/>
                    </a:lnTo>
                    <a:lnTo>
                      <a:pt x="144" y="164"/>
                    </a:lnTo>
                    <a:lnTo>
                      <a:pt x="137" y="175"/>
                    </a:lnTo>
                    <a:lnTo>
                      <a:pt x="131" y="188"/>
                    </a:lnTo>
                    <a:lnTo>
                      <a:pt x="128" y="207"/>
                    </a:lnTo>
                    <a:lnTo>
                      <a:pt x="114" y="193"/>
                    </a:lnTo>
                    <a:lnTo>
                      <a:pt x="92" y="183"/>
                    </a:lnTo>
                    <a:lnTo>
                      <a:pt x="0" y="167"/>
                    </a:lnTo>
                    <a:lnTo>
                      <a:pt x="78" y="198"/>
                    </a:lnTo>
                    <a:lnTo>
                      <a:pt x="70" y="216"/>
                    </a:lnTo>
                    <a:lnTo>
                      <a:pt x="65" y="234"/>
                    </a:lnTo>
                    <a:lnTo>
                      <a:pt x="62" y="251"/>
                    </a:lnTo>
                    <a:lnTo>
                      <a:pt x="63" y="266"/>
                    </a:lnTo>
                    <a:lnTo>
                      <a:pt x="68" y="281"/>
                    </a:lnTo>
                    <a:lnTo>
                      <a:pt x="77" y="294"/>
                    </a:lnTo>
                    <a:lnTo>
                      <a:pt x="91" y="305"/>
                    </a:lnTo>
                    <a:lnTo>
                      <a:pt x="111" y="314"/>
                    </a:lnTo>
                    <a:lnTo>
                      <a:pt x="141" y="303"/>
                    </a:lnTo>
                    <a:lnTo>
                      <a:pt x="153" y="288"/>
                    </a:lnTo>
                    <a:lnTo>
                      <a:pt x="189" y="265"/>
                    </a:lnTo>
                    <a:lnTo>
                      <a:pt x="225" y="270"/>
                    </a:lnTo>
                    <a:lnTo>
                      <a:pt x="246" y="295"/>
                    </a:lnTo>
                    <a:lnTo>
                      <a:pt x="266" y="295"/>
                    </a:lnTo>
                    <a:lnTo>
                      <a:pt x="289" y="293"/>
                    </a:lnTo>
                    <a:lnTo>
                      <a:pt x="305" y="306"/>
                    </a:lnTo>
                    <a:lnTo>
                      <a:pt x="321" y="325"/>
                    </a:lnTo>
                    <a:lnTo>
                      <a:pt x="334" y="306"/>
                    </a:lnTo>
                    <a:lnTo>
                      <a:pt x="338" y="286"/>
                    </a:lnTo>
                    <a:lnTo>
                      <a:pt x="348" y="308"/>
                    </a:lnTo>
                    <a:lnTo>
                      <a:pt x="366" y="319"/>
                    </a:lnTo>
                    <a:lnTo>
                      <a:pt x="384" y="317"/>
                    </a:lnTo>
                    <a:lnTo>
                      <a:pt x="399" y="311"/>
                    </a:lnTo>
                    <a:lnTo>
                      <a:pt x="409" y="303"/>
                    </a:lnTo>
                    <a:lnTo>
                      <a:pt x="415" y="293"/>
                    </a:lnTo>
                    <a:lnTo>
                      <a:pt x="420" y="280"/>
                    </a:lnTo>
                    <a:lnTo>
                      <a:pt x="424" y="265"/>
                    </a:lnTo>
                    <a:lnTo>
                      <a:pt x="425" y="251"/>
                    </a:lnTo>
                    <a:lnTo>
                      <a:pt x="427" y="234"/>
                    </a:lnTo>
                    <a:lnTo>
                      <a:pt x="509" y="178"/>
                    </a:lnTo>
                    <a:lnTo>
                      <a:pt x="434" y="200"/>
                    </a:lnTo>
                    <a:lnTo>
                      <a:pt x="382" y="228"/>
                    </a:lnTo>
                    <a:lnTo>
                      <a:pt x="382" y="201"/>
                    </a:lnTo>
                    <a:lnTo>
                      <a:pt x="417" y="154"/>
                    </a:lnTo>
                    <a:lnTo>
                      <a:pt x="437" y="131"/>
                    </a:lnTo>
                    <a:lnTo>
                      <a:pt x="388" y="162"/>
                    </a:lnTo>
                    <a:lnTo>
                      <a:pt x="336" y="189"/>
                    </a:lnTo>
                    <a:lnTo>
                      <a:pt x="341" y="165"/>
                    </a:lnTo>
                    <a:lnTo>
                      <a:pt x="351" y="139"/>
                    </a:lnTo>
                    <a:lnTo>
                      <a:pt x="365" y="112"/>
                    </a:lnTo>
                    <a:lnTo>
                      <a:pt x="379" y="85"/>
                    </a:lnTo>
                    <a:lnTo>
                      <a:pt x="390" y="60"/>
                    </a:lnTo>
                    <a:lnTo>
                      <a:pt x="396" y="36"/>
                    </a:lnTo>
                    <a:lnTo>
                      <a:pt x="392" y="16"/>
                    </a:lnTo>
                    <a:lnTo>
                      <a:pt x="379" y="0"/>
                    </a:lnTo>
                    <a:lnTo>
                      <a:pt x="342" y="66"/>
                    </a:lnTo>
                    <a:lnTo>
                      <a:pt x="342" y="98"/>
                    </a:lnTo>
                    <a:lnTo>
                      <a:pt x="285" y="143"/>
                    </a:lnTo>
                    <a:lnTo>
                      <a:pt x="266" y="116"/>
                    </a:lnTo>
                    <a:lnTo>
                      <a:pt x="255" y="92"/>
                    </a:lnTo>
                    <a:lnTo>
                      <a:pt x="244" y="116"/>
                    </a:lnTo>
                    <a:lnTo>
                      <a:pt x="223" y="131"/>
                    </a:lnTo>
                    <a:lnTo>
                      <a:pt x="221" y="104"/>
                    </a:lnTo>
                    <a:lnTo>
                      <a:pt x="209" y="88"/>
                    </a:lnTo>
                    <a:lnTo>
                      <a:pt x="189" y="77"/>
                    </a:lnTo>
                    <a:close/>
                  </a:path>
                </a:pathLst>
              </a:custGeom>
              <a:solidFill>
                <a:srgbClr val="fff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426"/>
              <p:cNvSpPr/>
              <p:nvPr/>
            </p:nvSpPr>
            <p:spPr>
              <a:xfrm>
                <a:off x="2981520" y="6059160"/>
                <a:ext cx="595080" cy="344520"/>
              </a:xfrm>
              <a:custGeom>
                <a:avLst/>
                <a:gdLst/>
                <a:ahLst/>
                <a:rect l="l" t="t" r="r" b="b"/>
                <a:pathLst>
                  <a:path w="750" h="870">
                    <a:moveTo>
                      <a:pt x="0" y="848"/>
                    </a:moveTo>
                    <a:lnTo>
                      <a:pt x="0" y="870"/>
                    </a:lnTo>
                    <a:lnTo>
                      <a:pt x="10" y="869"/>
                    </a:lnTo>
                    <a:lnTo>
                      <a:pt x="19" y="868"/>
                    </a:lnTo>
                    <a:lnTo>
                      <a:pt x="28" y="866"/>
                    </a:lnTo>
                    <a:lnTo>
                      <a:pt x="38" y="864"/>
                    </a:lnTo>
                    <a:lnTo>
                      <a:pt x="49" y="863"/>
                    </a:lnTo>
                    <a:lnTo>
                      <a:pt x="59" y="861"/>
                    </a:lnTo>
                    <a:lnTo>
                      <a:pt x="71" y="859"/>
                    </a:lnTo>
                    <a:lnTo>
                      <a:pt x="82" y="857"/>
                    </a:lnTo>
                    <a:lnTo>
                      <a:pt x="91" y="853"/>
                    </a:lnTo>
                    <a:lnTo>
                      <a:pt x="103" y="849"/>
                    </a:lnTo>
                    <a:lnTo>
                      <a:pt x="117" y="842"/>
                    </a:lnTo>
                    <a:lnTo>
                      <a:pt x="129" y="836"/>
                    </a:lnTo>
                    <a:lnTo>
                      <a:pt x="143" y="829"/>
                    </a:lnTo>
                    <a:lnTo>
                      <a:pt x="155" y="822"/>
                    </a:lnTo>
                    <a:lnTo>
                      <a:pt x="164" y="815"/>
                    </a:lnTo>
                    <a:lnTo>
                      <a:pt x="170" y="809"/>
                    </a:lnTo>
                    <a:lnTo>
                      <a:pt x="173" y="789"/>
                    </a:lnTo>
                    <a:lnTo>
                      <a:pt x="177" y="769"/>
                    </a:lnTo>
                    <a:lnTo>
                      <a:pt x="175" y="751"/>
                    </a:lnTo>
                    <a:lnTo>
                      <a:pt x="164" y="737"/>
                    </a:lnTo>
                    <a:lnTo>
                      <a:pt x="165" y="728"/>
                    </a:lnTo>
                    <a:lnTo>
                      <a:pt x="167" y="724"/>
                    </a:lnTo>
                    <a:lnTo>
                      <a:pt x="168" y="720"/>
                    </a:lnTo>
                    <a:lnTo>
                      <a:pt x="165" y="707"/>
                    </a:lnTo>
                    <a:lnTo>
                      <a:pt x="168" y="714"/>
                    </a:lnTo>
                    <a:lnTo>
                      <a:pt x="175" y="718"/>
                    </a:lnTo>
                    <a:lnTo>
                      <a:pt x="185" y="720"/>
                    </a:lnTo>
                    <a:lnTo>
                      <a:pt x="194" y="720"/>
                    </a:lnTo>
                    <a:lnTo>
                      <a:pt x="203" y="719"/>
                    </a:lnTo>
                    <a:lnTo>
                      <a:pt x="212" y="717"/>
                    </a:lnTo>
                    <a:lnTo>
                      <a:pt x="218" y="715"/>
                    </a:lnTo>
                    <a:lnTo>
                      <a:pt x="220" y="714"/>
                    </a:lnTo>
                    <a:lnTo>
                      <a:pt x="231" y="712"/>
                    </a:lnTo>
                    <a:lnTo>
                      <a:pt x="234" y="692"/>
                    </a:lnTo>
                    <a:lnTo>
                      <a:pt x="235" y="667"/>
                    </a:lnTo>
                    <a:lnTo>
                      <a:pt x="238" y="653"/>
                    </a:lnTo>
                    <a:lnTo>
                      <a:pt x="251" y="680"/>
                    </a:lnTo>
                    <a:lnTo>
                      <a:pt x="263" y="698"/>
                    </a:lnTo>
                    <a:lnTo>
                      <a:pt x="273" y="710"/>
                    </a:lnTo>
                    <a:lnTo>
                      <a:pt x="281" y="717"/>
                    </a:lnTo>
                    <a:lnTo>
                      <a:pt x="288" y="722"/>
                    </a:lnTo>
                    <a:lnTo>
                      <a:pt x="293" y="727"/>
                    </a:lnTo>
                    <a:lnTo>
                      <a:pt x="296" y="732"/>
                    </a:lnTo>
                    <a:lnTo>
                      <a:pt x="297" y="739"/>
                    </a:lnTo>
                    <a:lnTo>
                      <a:pt x="304" y="748"/>
                    </a:lnTo>
                    <a:lnTo>
                      <a:pt x="312" y="759"/>
                    </a:lnTo>
                    <a:lnTo>
                      <a:pt x="323" y="769"/>
                    </a:lnTo>
                    <a:lnTo>
                      <a:pt x="334" y="778"/>
                    </a:lnTo>
                    <a:lnTo>
                      <a:pt x="347" y="784"/>
                    </a:lnTo>
                    <a:lnTo>
                      <a:pt x="360" y="785"/>
                    </a:lnTo>
                    <a:lnTo>
                      <a:pt x="371" y="782"/>
                    </a:lnTo>
                    <a:lnTo>
                      <a:pt x="383" y="771"/>
                    </a:lnTo>
                    <a:lnTo>
                      <a:pt x="399" y="755"/>
                    </a:lnTo>
                    <a:lnTo>
                      <a:pt x="411" y="736"/>
                    </a:lnTo>
                    <a:lnTo>
                      <a:pt x="421" y="715"/>
                    </a:lnTo>
                    <a:lnTo>
                      <a:pt x="426" y="692"/>
                    </a:lnTo>
                    <a:lnTo>
                      <a:pt x="431" y="669"/>
                    </a:lnTo>
                    <a:lnTo>
                      <a:pt x="432" y="646"/>
                    </a:lnTo>
                    <a:lnTo>
                      <a:pt x="432" y="623"/>
                    </a:lnTo>
                    <a:lnTo>
                      <a:pt x="431" y="601"/>
                    </a:lnTo>
                    <a:lnTo>
                      <a:pt x="429" y="599"/>
                    </a:lnTo>
                    <a:lnTo>
                      <a:pt x="429" y="592"/>
                    </a:lnTo>
                    <a:lnTo>
                      <a:pt x="426" y="581"/>
                    </a:lnTo>
                    <a:lnTo>
                      <a:pt x="415" y="569"/>
                    </a:lnTo>
                    <a:lnTo>
                      <a:pt x="431" y="581"/>
                    </a:lnTo>
                    <a:lnTo>
                      <a:pt x="448" y="591"/>
                    </a:lnTo>
                    <a:lnTo>
                      <a:pt x="467" y="599"/>
                    </a:lnTo>
                    <a:lnTo>
                      <a:pt x="484" y="605"/>
                    </a:lnTo>
                    <a:lnTo>
                      <a:pt x="501" y="612"/>
                    </a:lnTo>
                    <a:lnTo>
                      <a:pt x="516" y="617"/>
                    </a:lnTo>
                    <a:lnTo>
                      <a:pt x="529" y="622"/>
                    </a:lnTo>
                    <a:lnTo>
                      <a:pt x="539" y="628"/>
                    </a:lnTo>
                    <a:lnTo>
                      <a:pt x="546" y="630"/>
                    </a:lnTo>
                    <a:lnTo>
                      <a:pt x="554" y="635"/>
                    </a:lnTo>
                    <a:lnTo>
                      <a:pt x="563" y="639"/>
                    </a:lnTo>
                    <a:lnTo>
                      <a:pt x="573" y="644"/>
                    </a:lnTo>
                    <a:lnTo>
                      <a:pt x="583" y="650"/>
                    </a:lnTo>
                    <a:lnTo>
                      <a:pt x="593" y="655"/>
                    </a:lnTo>
                    <a:lnTo>
                      <a:pt x="605" y="662"/>
                    </a:lnTo>
                    <a:lnTo>
                      <a:pt x="618" y="667"/>
                    </a:lnTo>
                    <a:lnTo>
                      <a:pt x="636" y="671"/>
                    </a:lnTo>
                    <a:lnTo>
                      <a:pt x="652" y="674"/>
                    </a:lnTo>
                    <a:lnTo>
                      <a:pt x="668" y="676"/>
                    </a:lnTo>
                    <a:lnTo>
                      <a:pt x="683" y="678"/>
                    </a:lnTo>
                    <a:lnTo>
                      <a:pt x="699" y="680"/>
                    </a:lnTo>
                    <a:lnTo>
                      <a:pt x="714" y="681"/>
                    </a:lnTo>
                    <a:lnTo>
                      <a:pt x="732" y="681"/>
                    </a:lnTo>
                    <a:lnTo>
                      <a:pt x="749" y="681"/>
                    </a:lnTo>
                    <a:lnTo>
                      <a:pt x="750" y="675"/>
                    </a:lnTo>
                    <a:lnTo>
                      <a:pt x="750" y="671"/>
                    </a:lnTo>
                    <a:lnTo>
                      <a:pt x="750" y="666"/>
                    </a:lnTo>
                    <a:lnTo>
                      <a:pt x="750" y="662"/>
                    </a:lnTo>
                    <a:lnTo>
                      <a:pt x="735" y="634"/>
                    </a:lnTo>
                    <a:lnTo>
                      <a:pt x="722" y="608"/>
                    </a:lnTo>
                    <a:lnTo>
                      <a:pt x="709" y="586"/>
                    </a:lnTo>
                    <a:lnTo>
                      <a:pt x="695" y="566"/>
                    </a:lnTo>
                    <a:lnTo>
                      <a:pt x="680" y="546"/>
                    </a:lnTo>
                    <a:lnTo>
                      <a:pt x="664" y="527"/>
                    </a:lnTo>
                    <a:lnTo>
                      <a:pt x="644" y="507"/>
                    </a:lnTo>
                    <a:lnTo>
                      <a:pt x="622" y="486"/>
                    </a:lnTo>
                    <a:lnTo>
                      <a:pt x="616" y="485"/>
                    </a:lnTo>
                    <a:lnTo>
                      <a:pt x="611" y="484"/>
                    </a:lnTo>
                    <a:lnTo>
                      <a:pt x="605" y="483"/>
                    </a:lnTo>
                    <a:lnTo>
                      <a:pt x="599" y="483"/>
                    </a:lnTo>
                    <a:lnTo>
                      <a:pt x="590" y="478"/>
                    </a:lnTo>
                    <a:lnTo>
                      <a:pt x="582" y="473"/>
                    </a:lnTo>
                    <a:lnTo>
                      <a:pt x="573" y="469"/>
                    </a:lnTo>
                    <a:lnTo>
                      <a:pt x="565" y="463"/>
                    </a:lnTo>
                    <a:lnTo>
                      <a:pt x="555" y="459"/>
                    </a:lnTo>
                    <a:lnTo>
                      <a:pt x="546" y="454"/>
                    </a:lnTo>
                    <a:lnTo>
                      <a:pt x="538" y="450"/>
                    </a:lnTo>
                    <a:lnTo>
                      <a:pt x="529" y="446"/>
                    </a:lnTo>
                    <a:lnTo>
                      <a:pt x="502" y="416"/>
                    </a:lnTo>
                    <a:lnTo>
                      <a:pt x="475" y="387"/>
                    </a:lnTo>
                    <a:lnTo>
                      <a:pt x="446" y="359"/>
                    </a:lnTo>
                    <a:lnTo>
                      <a:pt x="417" y="331"/>
                    </a:lnTo>
                    <a:lnTo>
                      <a:pt x="386" y="302"/>
                    </a:lnTo>
                    <a:lnTo>
                      <a:pt x="356" y="275"/>
                    </a:lnTo>
                    <a:lnTo>
                      <a:pt x="324" y="249"/>
                    </a:lnTo>
                    <a:lnTo>
                      <a:pt x="293" y="223"/>
                    </a:lnTo>
                    <a:lnTo>
                      <a:pt x="259" y="197"/>
                    </a:lnTo>
                    <a:lnTo>
                      <a:pt x="227" y="172"/>
                    </a:lnTo>
                    <a:lnTo>
                      <a:pt x="194" y="147"/>
                    </a:lnTo>
                    <a:lnTo>
                      <a:pt x="162" y="122"/>
                    </a:lnTo>
                    <a:lnTo>
                      <a:pt x="128" y="98"/>
                    </a:lnTo>
                    <a:lnTo>
                      <a:pt x="95" y="74"/>
                    </a:lnTo>
                    <a:lnTo>
                      <a:pt x="61" y="50"/>
                    </a:lnTo>
                    <a:lnTo>
                      <a:pt x="28" y="27"/>
                    </a:lnTo>
                    <a:lnTo>
                      <a:pt x="21" y="19"/>
                    </a:lnTo>
                    <a:lnTo>
                      <a:pt x="14" y="13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757"/>
                    </a:lnTo>
                    <a:lnTo>
                      <a:pt x="8" y="764"/>
                    </a:lnTo>
                    <a:lnTo>
                      <a:pt x="15" y="770"/>
                    </a:lnTo>
                    <a:lnTo>
                      <a:pt x="22" y="776"/>
                    </a:lnTo>
                    <a:lnTo>
                      <a:pt x="29" y="780"/>
                    </a:lnTo>
                    <a:lnTo>
                      <a:pt x="35" y="784"/>
                    </a:lnTo>
                    <a:lnTo>
                      <a:pt x="38" y="786"/>
                    </a:lnTo>
                    <a:lnTo>
                      <a:pt x="42" y="787"/>
                    </a:lnTo>
                    <a:lnTo>
                      <a:pt x="43" y="787"/>
                    </a:lnTo>
                    <a:lnTo>
                      <a:pt x="44" y="777"/>
                    </a:lnTo>
                    <a:lnTo>
                      <a:pt x="45" y="759"/>
                    </a:lnTo>
                    <a:lnTo>
                      <a:pt x="46" y="740"/>
                    </a:lnTo>
                    <a:lnTo>
                      <a:pt x="48" y="731"/>
                    </a:lnTo>
                    <a:lnTo>
                      <a:pt x="60" y="731"/>
                    </a:lnTo>
                    <a:lnTo>
                      <a:pt x="72" y="731"/>
                    </a:lnTo>
                    <a:lnTo>
                      <a:pt x="83" y="731"/>
                    </a:lnTo>
                    <a:lnTo>
                      <a:pt x="95" y="731"/>
                    </a:lnTo>
                    <a:lnTo>
                      <a:pt x="106" y="732"/>
                    </a:lnTo>
                    <a:lnTo>
                      <a:pt x="117" y="733"/>
                    </a:lnTo>
                    <a:lnTo>
                      <a:pt x="128" y="736"/>
                    </a:lnTo>
                    <a:lnTo>
                      <a:pt x="141" y="741"/>
                    </a:lnTo>
                    <a:lnTo>
                      <a:pt x="142" y="767"/>
                    </a:lnTo>
                    <a:lnTo>
                      <a:pt x="137" y="787"/>
                    </a:lnTo>
                    <a:lnTo>
                      <a:pt x="129" y="803"/>
                    </a:lnTo>
                    <a:lnTo>
                      <a:pt x="119" y="814"/>
                    </a:lnTo>
                    <a:lnTo>
                      <a:pt x="104" y="824"/>
                    </a:lnTo>
                    <a:lnTo>
                      <a:pt x="88" y="831"/>
                    </a:lnTo>
                    <a:lnTo>
                      <a:pt x="69" y="837"/>
                    </a:lnTo>
                    <a:lnTo>
                      <a:pt x="51" y="845"/>
                    </a:lnTo>
                    <a:lnTo>
                      <a:pt x="46" y="845"/>
                    </a:lnTo>
                    <a:lnTo>
                      <a:pt x="42" y="846"/>
                    </a:lnTo>
                    <a:lnTo>
                      <a:pt x="36" y="846"/>
                    </a:lnTo>
                    <a:lnTo>
                      <a:pt x="29" y="847"/>
                    </a:lnTo>
                    <a:lnTo>
                      <a:pt x="22" y="847"/>
                    </a:lnTo>
                    <a:lnTo>
                      <a:pt x="15" y="848"/>
                    </a:lnTo>
                    <a:lnTo>
                      <a:pt x="8" y="848"/>
                    </a:lnTo>
                    <a:lnTo>
                      <a:pt x="0" y="848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427"/>
              <p:cNvSpPr/>
              <p:nvPr/>
            </p:nvSpPr>
            <p:spPr>
              <a:xfrm>
                <a:off x="1882800" y="5937120"/>
                <a:ext cx="1098720" cy="500040"/>
              </a:xfrm>
              <a:custGeom>
                <a:avLst/>
                <a:gdLst/>
                <a:ahLst/>
                <a:rect l="l" t="t" r="r" b="b"/>
                <a:pathLst>
                  <a:path w="1384" h="1258">
                    <a:moveTo>
                      <a:pt x="1384" y="1065"/>
                    </a:moveTo>
                    <a:lnTo>
                      <a:pt x="1384" y="308"/>
                    </a:lnTo>
                    <a:lnTo>
                      <a:pt x="1381" y="305"/>
                    </a:lnTo>
                    <a:lnTo>
                      <a:pt x="1377" y="302"/>
                    </a:lnTo>
                    <a:lnTo>
                      <a:pt x="1374" y="299"/>
                    </a:lnTo>
                    <a:lnTo>
                      <a:pt x="1371" y="296"/>
                    </a:lnTo>
                    <a:lnTo>
                      <a:pt x="1364" y="289"/>
                    </a:lnTo>
                    <a:lnTo>
                      <a:pt x="1356" y="281"/>
                    </a:lnTo>
                    <a:lnTo>
                      <a:pt x="1349" y="276"/>
                    </a:lnTo>
                    <a:lnTo>
                      <a:pt x="1341" y="271"/>
                    </a:lnTo>
                    <a:lnTo>
                      <a:pt x="1333" y="265"/>
                    </a:lnTo>
                    <a:lnTo>
                      <a:pt x="1326" y="259"/>
                    </a:lnTo>
                    <a:lnTo>
                      <a:pt x="1319" y="253"/>
                    </a:lnTo>
                    <a:lnTo>
                      <a:pt x="1313" y="246"/>
                    </a:lnTo>
                    <a:lnTo>
                      <a:pt x="1308" y="238"/>
                    </a:lnTo>
                    <a:lnTo>
                      <a:pt x="1304" y="229"/>
                    </a:lnTo>
                    <a:lnTo>
                      <a:pt x="1300" y="222"/>
                    </a:lnTo>
                    <a:lnTo>
                      <a:pt x="1296" y="214"/>
                    </a:lnTo>
                    <a:lnTo>
                      <a:pt x="1291" y="207"/>
                    </a:lnTo>
                    <a:lnTo>
                      <a:pt x="1285" y="200"/>
                    </a:lnTo>
                    <a:lnTo>
                      <a:pt x="1278" y="194"/>
                    </a:lnTo>
                    <a:lnTo>
                      <a:pt x="1270" y="188"/>
                    </a:lnTo>
                    <a:lnTo>
                      <a:pt x="1260" y="187"/>
                    </a:lnTo>
                    <a:lnTo>
                      <a:pt x="1250" y="186"/>
                    </a:lnTo>
                    <a:lnTo>
                      <a:pt x="1239" y="187"/>
                    </a:lnTo>
                    <a:lnTo>
                      <a:pt x="1230" y="188"/>
                    </a:lnTo>
                    <a:lnTo>
                      <a:pt x="1221" y="192"/>
                    </a:lnTo>
                    <a:lnTo>
                      <a:pt x="1213" y="196"/>
                    </a:lnTo>
                    <a:lnTo>
                      <a:pt x="1206" y="203"/>
                    </a:lnTo>
                    <a:lnTo>
                      <a:pt x="1199" y="211"/>
                    </a:lnTo>
                    <a:lnTo>
                      <a:pt x="1190" y="206"/>
                    </a:lnTo>
                    <a:lnTo>
                      <a:pt x="1182" y="197"/>
                    </a:lnTo>
                    <a:lnTo>
                      <a:pt x="1174" y="186"/>
                    </a:lnTo>
                    <a:lnTo>
                      <a:pt x="1166" y="174"/>
                    </a:lnTo>
                    <a:lnTo>
                      <a:pt x="1159" y="161"/>
                    </a:lnTo>
                    <a:lnTo>
                      <a:pt x="1153" y="149"/>
                    </a:lnTo>
                    <a:lnTo>
                      <a:pt x="1147" y="136"/>
                    </a:lnTo>
                    <a:lnTo>
                      <a:pt x="1144" y="126"/>
                    </a:lnTo>
                    <a:lnTo>
                      <a:pt x="1136" y="127"/>
                    </a:lnTo>
                    <a:lnTo>
                      <a:pt x="1128" y="128"/>
                    </a:lnTo>
                    <a:lnTo>
                      <a:pt x="1119" y="128"/>
                    </a:lnTo>
                    <a:lnTo>
                      <a:pt x="1113" y="129"/>
                    </a:lnTo>
                    <a:lnTo>
                      <a:pt x="1106" y="130"/>
                    </a:lnTo>
                    <a:lnTo>
                      <a:pt x="1098" y="131"/>
                    </a:lnTo>
                    <a:lnTo>
                      <a:pt x="1091" y="133"/>
                    </a:lnTo>
                    <a:lnTo>
                      <a:pt x="1083" y="136"/>
                    </a:lnTo>
                    <a:lnTo>
                      <a:pt x="1079" y="138"/>
                    </a:lnTo>
                    <a:lnTo>
                      <a:pt x="1076" y="138"/>
                    </a:lnTo>
                    <a:lnTo>
                      <a:pt x="1070" y="138"/>
                    </a:lnTo>
                    <a:lnTo>
                      <a:pt x="1063" y="140"/>
                    </a:lnTo>
                    <a:lnTo>
                      <a:pt x="1058" y="132"/>
                    </a:lnTo>
                    <a:lnTo>
                      <a:pt x="1056" y="128"/>
                    </a:lnTo>
                    <a:lnTo>
                      <a:pt x="1055" y="125"/>
                    </a:lnTo>
                    <a:lnTo>
                      <a:pt x="1056" y="120"/>
                    </a:lnTo>
                    <a:lnTo>
                      <a:pt x="1071" y="102"/>
                    </a:lnTo>
                    <a:lnTo>
                      <a:pt x="1078" y="88"/>
                    </a:lnTo>
                    <a:lnTo>
                      <a:pt x="1079" y="77"/>
                    </a:lnTo>
                    <a:lnTo>
                      <a:pt x="1079" y="69"/>
                    </a:lnTo>
                    <a:lnTo>
                      <a:pt x="1072" y="59"/>
                    </a:lnTo>
                    <a:lnTo>
                      <a:pt x="1062" y="48"/>
                    </a:lnTo>
                    <a:lnTo>
                      <a:pt x="1049" y="39"/>
                    </a:lnTo>
                    <a:lnTo>
                      <a:pt x="1033" y="31"/>
                    </a:lnTo>
                    <a:lnTo>
                      <a:pt x="1016" y="23"/>
                    </a:lnTo>
                    <a:lnTo>
                      <a:pt x="999" y="15"/>
                    </a:lnTo>
                    <a:lnTo>
                      <a:pt x="981" y="8"/>
                    </a:lnTo>
                    <a:lnTo>
                      <a:pt x="964" y="0"/>
                    </a:lnTo>
                    <a:lnTo>
                      <a:pt x="959" y="0"/>
                    </a:lnTo>
                    <a:lnTo>
                      <a:pt x="955" y="0"/>
                    </a:lnTo>
                    <a:lnTo>
                      <a:pt x="950" y="0"/>
                    </a:lnTo>
                    <a:lnTo>
                      <a:pt x="946" y="0"/>
                    </a:lnTo>
                    <a:lnTo>
                      <a:pt x="941" y="0"/>
                    </a:lnTo>
                    <a:lnTo>
                      <a:pt x="936" y="1"/>
                    </a:lnTo>
                    <a:lnTo>
                      <a:pt x="932" y="1"/>
                    </a:lnTo>
                    <a:lnTo>
                      <a:pt x="928" y="1"/>
                    </a:lnTo>
                    <a:lnTo>
                      <a:pt x="910" y="30"/>
                    </a:lnTo>
                    <a:lnTo>
                      <a:pt x="890" y="60"/>
                    </a:lnTo>
                    <a:lnTo>
                      <a:pt x="872" y="90"/>
                    </a:lnTo>
                    <a:lnTo>
                      <a:pt x="852" y="122"/>
                    </a:lnTo>
                    <a:lnTo>
                      <a:pt x="833" y="152"/>
                    </a:lnTo>
                    <a:lnTo>
                      <a:pt x="812" y="182"/>
                    </a:lnTo>
                    <a:lnTo>
                      <a:pt x="791" y="211"/>
                    </a:lnTo>
                    <a:lnTo>
                      <a:pt x="771" y="239"/>
                    </a:lnTo>
                    <a:lnTo>
                      <a:pt x="818" y="171"/>
                    </a:lnTo>
                    <a:lnTo>
                      <a:pt x="821" y="164"/>
                    </a:lnTo>
                    <a:lnTo>
                      <a:pt x="828" y="155"/>
                    </a:lnTo>
                    <a:lnTo>
                      <a:pt x="833" y="146"/>
                    </a:lnTo>
                    <a:lnTo>
                      <a:pt x="832" y="137"/>
                    </a:lnTo>
                    <a:lnTo>
                      <a:pt x="827" y="141"/>
                    </a:lnTo>
                    <a:lnTo>
                      <a:pt x="818" y="147"/>
                    </a:lnTo>
                    <a:lnTo>
                      <a:pt x="807" y="152"/>
                    </a:lnTo>
                    <a:lnTo>
                      <a:pt x="803" y="155"/>
                    </a:lnTo>
                    <a:lnTo>
                      <a:pt x="775" y="172"/>
                    </a:lnTo>
                    <a:lnTo>
                      <a:pt x="745" y="191"/>
                    </a:lnTo>
                    <a:lnTo>
                      <a:pt x="715" y="209"/>
                    </a:lnTo>
                    <a:lnTo>
                      <a:pt x="684" y="229"/>
                    </a:lnTo>
                    <a:lnTo>
                      <a:pt x="653" y="250"/>
                    </a:lnTo>
                    <a:lnTo>
                      <a:pt x="622" y="271"/>
                    </a:lnTo>
                    <a:lnTo>
                      <a:pt x="590" y="293"/>
                    </a:lnTo>
                    <a:lnTo>
                      <a:pt x="559" y="316"/>
                    </a:lnTo>
                    <a:lnTo>
                      <a:pt x="528" y="339"/>
                    </a:lnTo>
                    <a:lnTo>
                      <a:pt x="498" y="362"/>
                    </a:lnTo>
                    <a:lnTo>
                      <a:pt x="468" y="385"/>
                    </a:lnTo>
                    <a:lnTo>
                      <a:pt x="439" y="409"/>
                    </a:lnTo>
                    <a:lnTo>
                      <a:pt x="412" y="433"/>
                    </a:lnTo>
                    <a:lnTo>
                      <a:pt x="387" y="457"/>
                    </a:lnTo>
                    <a:lnTo>
                      <a:pt x="363" y="481"/>
                    </a:lnTo>
                    <a:lnTo>
                      <a:pt x="341" y="505"/>
                    </a:lnTo>
                    <a:lnTo>
                      <a:pt x="335" y="514"/>
                    </a:lnTo>
                    <a:lnTo>
                      <a:pt x="326" y="525"/>
                    </a:lnTo>
                    <a:lnTo>
                      <a:pt x="317" y="535"/>
                    </a:lnTo>
                    <a:lnTo>
                      <a:pt x="312" y="544"/>
                    </a:lnTo>
                    <a:lnTo>
                      <a:pt x="293" y="555"/>
                    </a:lnTo>
                    <a:lnTo>
                      <a:pt x="274" y="567"/>
                    </a:lnTo>
                    <a:lnTo>
                      <a:pt x="255" y="579"/>
                    </a:lnTo>
                    <a:lnTo>
                      <a:pt x="236" y="593"/>
                    </a:lnTo>
                    <a:lnTo>
                      <a:pt x="219" y="606"/>
                    </a:lnTo>
                    <a:lnTo>
                      <a:pt x="201" y="620"/>
                    </a:lnTo>
                    <a:lnTo>
                      <a:pt x="183" y="633"/>
                    </a:lnTo>
                    <a:lnTo>
                      <a:pt x="165" y="648"/>
                    </a:lnTo>
                    <a:lnTo>
                      <a:pt x="148" y="662"/>
                    </a:lnTo>
                    <a:lnTo>
                      <a:pt x="130" y="676"/>
                    </a:lnTo>
                    <a:lnTo>
                      <a:pt x="113" y="690"/>
                    </a:lnTo>
                    <a:lnTo>
                      <a:pt x="95" y="704"/>
                    </a:lnTo>
                    <a:lnTo>
                      <a:pt x="77" y="718"/>
                    </a:lnTo>
                    <a:lnTo>
                      <a:pt x="59" y="732"/>
                    </a:lnTo>
                    <a:lnTo>
                      <a:pt x="42" y="744"/>
                    </a:lnTo>
                    <a:lnTo>
                      <a:pt x="23" y="757"/>
                    </a:lnTo>
                    <a:lnTo>
                      <a:pt x="8" y="775"/>
                    </a:lnTo>
                    <a:lnTo>
                      <a:pt x="2" y="785"/>
                    </a:lnTo>
                    <a:lnTo>
                      <a:pt x="2" y="791"/>
                    </a:lnTo>
                    <a:lnTo>
                      <a:pt x="1" y="798"/>
                    </a:lnTo>
                    <a:lnTo>
                      <a:pt x="0" y="830"/>
                    </a:lnTo>
                    <a:lnTo>
                      <a:pt x="1" y="862"/>
                    </a:lnTo>
                    <a:lnTo>
                      <a:pt x="4" y="894"/>
                    </a:lnTo>
                    <a:lnTo>
                      <a:pt x="12" y="923"/>
                    </a:lnTo>
                    <a:lnTo>
                      <a:pt x="26" y="947"/>
                    </a:lnTo>
                    <a:lnTo>
                      <a:pt x="46" y="965"/>
                    </a:lnTo>
                    <a:lnTo>
                      <a:pt x="77" y="974"/>
                    </a:lnTo>
                    <a:lnTo>
                      <a:pt x="119" y="975"/>
                    </a:lnTo>
                    <a:lnTo>
                      <a:pt x="129" y="973"/>
                    </a:lnTo>
                    <a:lnTo>
                      <a:pt x="142" y="967"/>
                    </a:lnTo>
                    <a:lnTo>
                      <a:pt x="156" y="955"/>
                    </a:lnTo>
                    <a:lnTo>
                      <a:pt x="171" y="942"/>
                    </a:lnTo>
                    <a:lnTo>
                      <a:pt x="187" y="927"/>
                    </a:lnTo>
                    <a:lnTo>
                      <a:pt x="203" y="912"/>
                    </a:lnTo>
                    <a:lnTo>
                      <a:pt x="219" y="900"/>
                    </a:lnTo>
                    <a:lnTo>
                      <a:pt x="235" y="889"/>
                    </a:lnTo>
                    <a:lnTo>
                      <a:pt x="228" y="899"/>
                    </a:lnTo>
                    <a:lnTo>
                      <a:pt x="221" y="906"/>
                    </a:lnTo>
                    <a:lnTo>
                      <a:pt x="216" y="914"/>
                    </a:lnTo>
                    <a:lnTo>
                      <a:pt x="211" y="922"/>
                    </a:lnTo>
                    <a:lnTo>
                      <a:pt x="205" y="929"/>
                    </a:lnTo>
                    <a:lnTo>
                      <a:pt x="202" y="937"/>
                    </a:lnTo>
                    <a:lnTo>
                      <a:pt x="197" y="947"/>
                    </a:lnTo>
                    <a:lnTo>
                      <a:pt x="194" y="957"/>
                    </a:lnTo>
                    <a:lnTo>
                      <a:pt x="188" y="962"/>
                    </a:lnTo>
                    <a:lnTo>
                      <a:pt x="183" y="968"/>
                    </a:lnTo>
                    <a:lnTo>
                      <a:pt x="180" y="973"/>
                    </a:lnTo>
                    <a:lnTo>
                      <a:pt x="175" y="977"/>
                    </a:lnTo>
                    <a:lnTo>
                      <a:pt x="172" y="983"/>
                    </a:lnTo>
                    <a:lnTo>
                      <a:pt x="168" y="989"/>
                    </a:lnTo>
                    <a:lnTo>
                      <a:pt x="164" y="995"/>
                    </a:lnTo>
                    <a:lnTo>
                      <a:pt x="159" y="1001"/>
                    </a:lnTo>
                    <a:lnTo>
                      <a:pt x="159" y="1017"/>
                    </a:lnTo>
                    <a:lnTo>
                      <a:pt x="159" y="1031"/>
                    </a:lnTo>
                    <a:lnTo>
                      <a:pt x="159" y="1046"/>
                    </a:lnTo>
                    <a:lnTo>
                      <a:pt x="159" y="1061"/>
                    </a:lnTo>
                    <a:lnTo>
                      <a:pt x="164" y="1069"/>
                    </a:lnTo>
                    <a:lnTo>
                      <a:pt x="167" y="1080"/>
                    </a:lnTo>
                    <a:lnTo>
                      <a:pt x="169" y="1093"/>
                    </a:lnTo>
                    <a:lnTo>
                      <a:pt x="174" y="1106"/>
                    </a:lnTo>
                    <a:lnTo>
                      <a:pt x="195" y="1130"/>
                    </a:lnTo>
                    <a:lnTo>
                      <a:pt x="210" y="1148"/>
                    </a:lnTo>
                    <a:lnTo>
                      <a:pt x="224" y="1164"/>
                    </a:lnTo>
                    <a:lnTo>
                      <a:pt x="237" y="1176"/>
                    </a:lnTo>
                    <a:lnTo>
                      <a:pt x="254" y="1183"/>
                    </a:lnTo>
                    <a:lnTo>
                      <a:pt x="274" y="1188"/>
                    </a:lnTo>
                    <a:lnTo>
                      <a:pt x="303" y="1191"/>
                    </a:lnTo>
                    <a:lnTo>
                      <a:pt x="341" y="1192"/>
                    </a:lnTo>
                    <a:lnTo>
                      <a:pt x="350" y="1190"/>
                    </a:lnTo>
                    <a:lnTo>
                      <a:pt x="358" y="1187"/>
                    </a:lnTo>
                    <a:lnTo>
                      <a:pt x="368" y="1184"/>
                    </a:lnTo>
                    <a:lnTo>
                      <a:pt x="377" y="1181"/>
                    </a:lnTo>
                    <a:lnTo>
                      <a:pt x="385" y="1178"/>
                    </a:lnTo>
                    <a:lnTo>
                      <a:pt x="394" y="1174"/>
                    </a:lnTo>
                    <a:lnTo>
                      <a:pt x="402" y="1172"/>
                    </a:lnTo>
                    <a:lnTo>
                      <a:pt x="411" y="1171"/>
                    </a:lnTo>
                    <a:lnTo>
                      <a:pt x="433" y="1141"/>
                    </a:lnTo>
                    <a:lnTo>
                      <a:pt x="454" y="1110"/>
                    </a:lnTo>
                    <a:lnTo>
                      <a:pt x="473" y="1076"/>
                    </a:lnTo>
                    <a:lnTo>
                      <a:pt x="492" y="1044"/>
                    </a:lnTo>
                    <a:lnTo>
                      <a:pt x="510" y="1012"/>
                    </a:lnTo>
                    <a:lnTo>
                      <a:pt x="529" y="979"/>
                    </a:lnTo>
                    <a:lnTo>
                      <a:pt x="547" y="948"/>
                    </a:lnTo>
                    <a:lnTo>
                      <a:pt x="567" y="918"/>
                    </a:lnTo>
                    <a:lnTo>
                      <a:pt x="559" y="945"/>
                    </a:lnTo>
                    <a:lnTo>
                      <a:pt x="549" y="966"/>
                    </a:lnTo>
                    <a:lnTo>
                      <a:pt x="539" y="983"/>
                    </a:lnTo>
                    <a:lnTo>
                      <a:pt x="529" y="998"/>
                    </a:lnTo>
                    <a:lnTo>
                      <a:pt x="520" y="1013"/>
                    </a:lnTo>
                    <a:lnTo>
                      <a:pt x="513" y="1025"/>
                    </a:lnTo>
                    <a:lnTo>
                      <a:pt x="508" y="1041"/>
                    </a:lnTo>
                    <a:lnTo>
                      <a:pt x="508" y="1057"/>
                    </a:lnTo>
                    <a:lnTo>
                      <a:pt x="514" y="1065"/>
                    </a:lnTo>
                    <a:lnTo>
                      <a:pt x="525" y="1085"/>
                    </a:lnTo>
                    <a:lnTo>
                      <a:pt x="543" y="1113"/>
                    </a:lnTo>
                    <a:lnTo>
                      <a:pt x="562" y="1145"/>
                    </a:lnTo>
                    <a:lnTo>
                      <a:pt x="582" y="1178"/>
                    </a:lnTo>
                    <a:lnTo>
                      <a:pt x="599" y="1207"/>
                    </a:lnTo>
                    <a:lnTo>
                      <a:pt x="612" y="1230"/>
                    </a:lnTo>
                    <a:lnTo>
                      <a:pt x="619" y="1240"/>
                    </a:lnTo>
                    <a:lnTo>
                      <a:pt x="642" y="1240"/>
                    </a:lnTo>
                    <a:lnTo>
                      <a:pt x="661" y="1234"/>
                    </a:lnTo>
                    <a:lnTo>
                      <a:pt x="677" y="1221"/>
                    </a:lnTo>
                    <a:lnTo>
                      <a:pt x="691" y="1206"/>
                    </a:lnTo>
                    <a:lnTo>
                      <a:pt x="703" y="1188"/>
                    </a:lnTo>
                    <a:lnTo>
                      <a:pt x="714" y="1168"/>
                    </a:lnTo>
                    <a:lnTo>
                      <a:pt x="725" y="1149"/>
                    </a:lnTo>
                    <a:lnTo>
                      <a:pt x="736" y="1133"/>
                    </a:lnTo>
                    <a:lnTo>
                      <a:pt x="749" y="1098"/>
                    </a:lnTo>
                    <a:lnTo>
                      <a:pt x="761" y="1064"/>
                    </a:lnTo>
                    <a:lnTo>
                      <a:pt x="774" y="1028"/>
                    </a:lnTo>
                    <a:lnTo>
                      <a:pt x="788" y="993"/>
                    </a:lnTo>
                    <a:lnTo>
                      <a:pt x="801" y="957"/>
                    </a:lnTo>
                    <a:lnTo>
                      <a:pt x="813" y="922"/>
                    </a:lnTo>
                    <a:lnTo>
                      <a:pt x="826" y="887"/>
                    </a:lnTo>
                    <a:lnTo>
                      <a:pt x="837" y="853"/>
                    </a:lnTo>
                    <a:lnTo>
                      <a:pt x="841" y="853"/>
                    </a:lnTo>
                    <a:lnTo>
                      <a:pt x="843" y="853"/>
                    </a:lnTo>
                    <a:lnTo>
                      <a:pt x="847" y="853"/>
                    </a:lnTo>
                    <a:lnTo>
                      <a:pt x="849" y="853"/>
                    </a:lnTo>
                    <a:lnTo>
                      <a:pt x="839" y="910"/>
                    </a:lnTo>
                    <a:lnTo>
                      <a:pt x="832" y="972"/>
                    </a:lnTo>
                    <a:lnTo>
                      <a:pt x="826" y="1035"/>
                    </a:lnTo>
                    <a:lnTo>
                      <a:pt x="818" y="1095"/>
                    </a:lnTo>
                    <a:lnTo>
                      <a:pt x="818" y="1108"/>
                    </a:lnTo>
                    <a:lnTo>
                      <a:pt x="818" y="1120"/>
                    </a:lnTo>
                    <a:lnTo>
                      <a:pt x="818" y="1133"/>
                    </a:lnTo>
                    <a:lnTo>
                      <a:pt x="818" y="1146"/>
                    </a:lnTo>
                    <a:lnTo>
                      <a:pt x="820" y="1147"/>
                    </a:lnTo>
                    <a:lnTo>
                      <a:pt x="822" y="1148"/>
                    </a:lnTo>
                    <a:lnTo>
                      <a:pt x="825" y="1150"/>
                    </a:lnTo>
                    <a:lnTo>
                      <a:pt x="827" y="1151"/>
                    </a:lnTo>
                    <a:lnTo>
                      <a:pt x="830" y="1167"/>
                    </a:lnTo>
                    <a:lnTo>
                      <a:pt x="835" y="1181"/>
                    </a:lnTo>
                    <a:lnTo>
                      <a:pt x="841" y="1193"/>
                    </a:lnTo>
                    <a:lnTo>
                      <a:pt x="849" y="1204"/>
                    </a:lnTo>
                    <a:lnTo>
                      <a:pt x="858" y="1213"/>
                    </a:lnTo>
                    <a:lnTo>
                      <a:pt x="870" y="1221"/>
                    </a:lnTo>
                    <a:lnTo>
                      <a:pt x="882" y="1230"/>
                    </a:lnTo>
                    <a:lnTo>
                      <a:pt x="897" y="1238"/>
                    </a:lnTo>
                    <a:lnTo>
                      <a:pt x="918" y="1246"/>
                    </a:lnTo>
                    <a:lnTo>
                      <a:pt x="938" y="1251"/>
                    </a:lnTo>
                    <a:lnTo>
                      <a:pt x="956" y="1254"/>
                    </a:lnTo>
                    <a:lnTo>
                      <a:pt x="974" y="1257"/>
                    </a:lnTo>
                    <a:lnTo>
                      <a:pt x="992" y="1258"/>
                    </a:lnTo>
                    <a:lnTo>
                      <a:pt x="1008" y="1257"/>
                    </a:lnTo>
                    <a:lnTo>
                      <a:pt x="1024" y="1256"/>
                    </a:lnTo>
                    <a:lnTo>
                      <a:pt x="1038" y="1254"/>
                    </a:lnTo>
                    <a:lnTo>
                      <a:pt x="1052" y="1252"/>
                    </a:lnTo>
                    <a:lnTo>
                      <a:pt x="1064" y="1248"/>
                    </a:lnTo>
                    <a:lnTo>
                      <a:pt x="1075" y="1243"/>
                    </a:lnTo>
                    <a:lnTo>
                      <a:pt x="1085" y="1239"/>
                    </a:lnTo>
                    <a:lnTo>
                      <a:pt x="1094" y="1234"/>
                    </a:lnTo>
                    <a:lnTo>
                      <a:pt x="1102" y="1230"/>
                    </a:lnTo>
                    <a:lnTo>
                      <a:pt x="1108" y="1225"/>
                    </a:lnTo>
                    <a:lnTo>
                      <a:pt x="1114" y="1219"/>
                    </a:lnTo>
                    <a:lnTo>
                      <a:pt x="1116" y="1215"/>
                    </a:lnTo>
                    <a:lnTo>
                      <a:pt x="1118" y="1200"/>
                    </a:lnTo>
                    <a:lnTo>
                      <a:pt x="1122" y="1183"/>
                    </a:lnTo>
                    <a:lnTo>
                      <a:pt x="1126" y="1171"/>
                    </a:lnTo>
                    <a:lnTo>
                      <a:pt x="1123" y="1136"/>
                    </a:lnTo>
                    <a:lnTo>
                      <a:pt x="1119" y="1113"/>
                    </a:lnTo>
                    <a:lnTo>
                      <a:pt x="1116" y="1091"/>
                    </a:lnTo>
                    <a:lnTo>
                      <a:pt x="1113" y="1059"/>
                    </a:lnTo>
                    <a:lnTo>
                      <a:pt x="1126" y="1062"/>
                    </a:lnTo>
                    <a:lnTo>
                      <a:pt x="1138" y="1066"/>
                    </a:lnTo>
                    <a:lnTo>
                      <a:pt x="1147" y="1069"/>
                    </a:lnTo>
                    <a:lnTo>
                      <a:pt x="1156" y="1071"/>
                    </a:lnTo>
                    <a:lnTo>
                      <a:pt x="1166" y="1073"/>
                    </a:lnTo>
                    <a:lnTo>
                      <a:pt x="1177" y="1074"/>
                    </a:lnTo>
                    <a:lnTo>
                      <a:pt x="1191" y="1074"/>
                    </a:lnTo>
                    <a:lnTo>
                      <a:pt x="1209" y="1072"/>
                    </a:lnTo>
                    <a:lnTo>
                      <a:pt x="1213" y="1080"/>
                    </a:lnTo>
                    <a:lnTo>
                      <a:pt x="1217" y="1088"/>
                    </a:lnTo>
                    <a:lnTo>
                      <a:pt x="1221" y="1095"/>
                    </a:lnTo>
                    <a:lnTo>
                      <a:pt x="1223" y="1103"/>
                    </a:lnTo>
                    <a:lnTo>
                      <a:pt x="1238" y="1122"/>
                    </a:lnTo>
                    <a:lnTo>
                      <a:pt x="1254" y="1139"/>
                    </a:lnTo>
                    <a:lnTo>
                      <a:pt x="1271" y="1153"/>
                    </a:lnTo>
                    <a:lnTo>
                      <a:pt x="1290" y="1163"/>
                    </a:lnTo>
                    <a:lnTo>
                      <a:pt x="1309" y="1170"/>
                    </a:lnTo>
                    <a:lnTo>
                      <a:pt x="1331" y="1176"/>
                    </a:lnTo>
                    <a:lnTo>
                      <a:pt x="1357" y="1178"/>
                    </a:lnTo>
                    <a:lnTo>
                      <a:pt x="1384" y="1178"/>
                    </a:lnTo>
                    <a:lnTo>
                      <a:pt x="1384" y="1156"/>
                    </a:lnTo>
                    <a:lnTo>
                      <a:pt x="1371" y="1156"/>
                    </a:lnTo>
                    <a:lnTo>
                      <a:pt x="1356" y="1155"/>
                    </a:lnTo>
                    <a:lnTo>
                      <a:pt x="1342" y="1154"/>
                    </a:lnTo>
                    <a:lnTo>
                      <a:pt x="1329" y="1150"/>
                    </a:lnTo>
                    <a:lnTo>
                      <a:pt x="1318" y="1147"/>
                    </a:lnTo>
                    <a:lnTo>
                      <a:pt x="1308" y="1143"/>
                    </a:lnTo>
                    <a:lnTo>
                      <a:pt x="1301" y="1137"/>
                    </a:lnTo>
                    <a:lnTo>
                      <a:pt x="1297" y="1130"/>
                    </a:lnTo>
                    <a:lnTo>
                      <a:pt x="1290" y="1126"/>
                    </a:lnTo>
                    <a:lnTo>
                      <a:pt x="1283" y="1122"/>
                    </a:lnTo>
                    <a:lnTo>
                      <a:pt x="1275" y="1117"/>
                    </a:lnTo>
                    <a:lnTo>
                      <a:pt x="1268" y="1111"/>
                    </a:lnTo>
                    <a:lnTo>
                      <a:pt x="1260" y="1104"/>
                    </a:lnTo>
                    <a:lnTo>
                      <a:pt x="1253" y="1099"/>
                    </a:lnTo>
                    <a:lnTo>
                      <a:pt x="1246" y="1094"/>
                    </a:lnTo>
                    <a:lnTo>
                      <a:pt x="1242" y="1090"/>
                    </a:lnTo>
                    <a:lnTo>
                      <a:pt x="1257" y="1088"/>
                    </a:lnTo>
                    <a:lnTo>
                      <a:pt x="1271" y="1080"/>
                    </a:lnTo>
                    <a:lnTo>
                      <a:pt x="1280" y="1071"/>
                    </a:lnTo>
                    <a:lnTo>
                      <a:pt x="1285" y="1060"/>
                    </a:lnTo>
                    <a:lnTo>
                      <a:pt x="1291" y="1049"/>
                    </a:lnTo>
                    <a:lnTo>
                      <a:pt x="1299" y="1042"/>
                    </a:lnTo>
                    <a:lnTo>
                      <a:pt x="1313" y="1038"/>
                    </a:lnTo>
                    <a:lnTo>
                      <a:pt x="1335" y="1040"/>
                    </a:lnTo>
                    <a:lnTo>
                      <a:pt x="1369" y="1049"/>
                    </a:lnTo>
                    <a:lnTo>
                      <a:pt x="1373" y="1053"/>
                    </a:lnTo>
                    <a:lnTo>
                      <a:pt x="1377" y="1057"/>
                    </a:lnTo>
                    <a:lnTo>
                      <a:pt x="1381" y="1062"/>
                    </a:lnTo>
                    <a:lnTo>
                      <a:pt x="1384" y="1065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428"/>
              <p:cNvSpPr/>
              <p:nvPr/>
            </p:nvSpPr>
            <p:spPr>
              <a:xfrm>
                <a:off x="2952720" y="6046560"/>
                <a:ext cx="430200" cy="182520"/>
              </a:xfrm>
              <a:custGeom>
                <a:avLst/>
                <a:gdLst/>
                <a:ahLst/>
                <a:rect l="l" t="t" r="r" b="b"/>
                <a:pathLst>
                  <a:path w="543" h="458">
                    <a:moveTo>
                      <a:pt x="58" y="66"/>
                    </a:moveTo>
                    <a:lnTo>
                      <a:pt x="0" y="0"/>
                    </a:lnTo>
                    <a:lnTo>
                      <a:pt x="91" y="72"/>
                    </a:lnTo>
                    <a:lnTo>
                      <a:pt x="314" y="236"/>
                    </a:lnTo>
                    <a:lnTo>
                      <a:pt x="480" y="376"/>
                    </a:lnTo>
                    <a:lnTo>
                      <a:pt x="543" y="458"/>
                    </a:lnTo>
                    <a:lnTo>
                      <a:pt x="395" y="373"/>
                    </a:lnTo>
                    <a:lnTo>
                      <a:pt x="208" y="258"/>
                    </a:lnTo>
                    <a:lnTo>
                      <a:pt x="86" y="116"/>
                    </a:lnTo>
                    <a:lnTo>
                      <a:pt x="58" y="66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29"/>
              <p:cNvSpPr/>
              <p:nvPr/>
            </p:nvSpPr>
            <p:spPr>
              <a:xfrm>
                <a:off x="2725920" y="5987880"/>
                <a:ext cx="366480" cy="376200"/>
              </a:xfrm>
              <a:custGeom>
                <a:avLst/>
                <a:gdLst/>
                <a:ahLst/>
                <a:rect l="l" t="t" r="r" b="b"/>
                <a:pathLst>
                  <a:path w="463" h="946">
                    <a:moveTo>
                      <a:pt x="0" y="33"/>
                    </a:moveTo>
                    <a:lnTo>
                      <a:pt x="14" y="167"/>
                    </a:lnTo>
                    <a:lnTo>
                      <a:pt x="60" y="472"/>
                    </a:lnTo>
                    <a:lnTo>
                      <a:pt x="128" y="725"/>
                    </a:lnTo>
                    <a:lnTo>
                      <a:pt x="174" y="925"/>
                    </a:lnTo>
                    <a:lnTo>
                      <a:pt x="183" y="946"/>
                    </a:lnTo>
                    <a:lnTo>
                      <a:pt x="229" y="930"/>
                    </a:lnTo>
                    <a:lnTo>
                      <a:pt x="266" y="900"/>
                    </a:lnTo>
                    <a:lnTo>
                      <a:pt x="325" y="900"/>
                    </a:lnTo>
                    <a:lnTo>
                      <a:pt x="315" y="850"/>
                    </a:lnTo>
                    <a:lnTo>
                      <a:pt x="306" y="779"/>
                    </a:lnTo>
                    <a:lnTo>
                      <a:pt x="348" y="850"/>
                    </a:lnTo>
                    <a:lnTo>
                      <a:pt x="366" y="909"/>
                    </a:lnTo>
                    <a:lnTo>
                      <a:pt x="417" y="904"/>
                    </a:lnTo>
                    <a:lnTo>
                      <a:pt x="463" y="921"/>
                    </a:lnTo>
                    <a:lnTo>
                      <a:pt x="435" y="804"/>
                    </a:lnTo>
                    <a:lnTo>
                      <a:pt x="357" y="581"/>
                    </a:lnTo>
                    <a:lnTo>
                      <a:pt x="229" y="326"/>
                    </a:lnTo>
                    <a:lnTo>
                      <a:pt x="128" y="142"/>
                    </a:lnTo>
                    <a:lnTo>
                      <a:pt x="69" y="0"/>
                    </a:lnTo>
                    <a:lnTo>
                      <a:pt x="28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430"/>
              <p:cNvSpPr/>
              <p:nvPr/>
            </p:nvSpPr>
            <p:spPr>
              <a:xfrm>
                <a:off x="2549520" y="6368760"/>
                <a:ext cx="219240" cy="71640"/>
              </a:xfrm>
              <a:custGeom>
                <a:avLst/>
                <a:gdLst/>
                <a:ahLst/>
                <a:rect l="l" t="t" r="r" b="b"/>
                <a:pathLst>
                  <a:path w="276" h="182">
                    <a:moveTo>
                      <a:pt x="60" y="144"/>
                    </a:moveTo>
                    <a:lnTo>
                      <a:pt x="55" y="141"/>
                    </a:lnTo>
                    <a:lnTo>
                      <a:pt x="48" y="136"/>
                    </a:lnTo>
                    <a:lnTo>
                      <a:pt x="41" y="131"/>
                    </a:lnTo>
                    <a:lnTo>
                      <a:pt x="34" y="125"/>
                    </a:lnTo>
                    <a:lnTo>
                      <a:pt x="27" y="120"/>
                    </a:lnTo>
                    <a:lnTo>
                      <a:pt x="22" y="116"/>
                    </a:lnTo>
                    <a:lnTo>
                      <a:pt x="18" y="111"/>
                    </a:lnTo>
                    <a:lnTo>
                      <a:pt x="18" y="107"/>
                    </a:lnTo>
                    <a:lnTo>
                      <a:pt x="11" y="95"/>
                    </a:lnTo>
                    <a:lnTo>
                      <a:pt x="8" y="83"/>
                    </a:lnTo>
                    <a:lnTo>
                      <a:pt x="3" y="72"/>
                    </a:lnTo>
                    <a:lnTo>
                      <a:pt x="0" y="59"/>
                    </a:lnTo>
                    <a:lnTo>
                      <a:pt x="4" y="36"/>
                    </a:lnTo>
                    <a:lnTo>
                      <a:pt x="11" y="21"/>
                    </a:lnTo>
                    <a:lnTo>
                      <a:pt x="20" y="11"/>
                    </a:lnTo>
                    <a:lnTo>
                      <a:pt x="34" y="6"/>
                    </a:lnTo>
                    <a:lnTo>
                      <a:pt x="50" y="4"/>
                    </a:lnTo>
                    <a:lnTo>
                      <a:pt x="69" y="3"/>
                    </a:lnTo>
                    <a:lnTo>
                      <a:pt x="92" y="2"/>
                    </a:lnTo>
                    <a:lnTo>
                      <a:pt x="117" y="0"/>
                    </a:lnTo>
                    <a:lnTo>
                      <a:pt x="123" y="3"/>
                    </a:lnTo>
                    <a:lnTo>
                      <a:pt x="129" y="5"/>
                    </a:lnTo>
                    <a:lnTo>
                      <a:pt x="136" y="7"/>
                    </a:lnTo>
                    <a:lnTo>
                      <a:pt x="141" y="8"/>
                    </a:lnTo>
                    <a:lnTo>
                      <a:pt x="147" y="9"/>
                    </a:lnTo>
                    <a:lnTo>
                      <a:pt x="153" y="9"/>
                    </a:lnTo>
                    <a:lnTo>
                      <a:pt x="159" y="7"/>
                    </a:lnTo>
                    <a:lnTo>
                      <a:pt x="163" y="4"/>
                    </a:lnTo>
                    <a:lnTo>
                      <a:pt x="163" y="8"/>
                    </a:lnTo>
                    <a:lnTo>
                      <a:pt x="162" y="31"/>
                    </a:lnTo>
                    <a:lnTo>
                      <a:pt x="165" y="56"/>
                    </a:lnTo>
                    <a:lnTo>
                      <a:pt x="175" y="68"/>
                    </a:lnTo>
                    <a:lnTo>
                      <a:pt x="176" y="65"/>
                    </a:lnTo>
                    <a:lnTo>
                      <a:pt x="179" y="44"/>
                    </a:lnTo>
                    <a:lnTo>
                      <a:pt x="182" y="23"/>
                    </a:lnTo>
                    <a:lnTo>
                      <a:pt x="184" y="21"/>
                    </a:lnTo>
                    <a:lnTo>
                      <a:pt x="199" y="13"/>
                    </a:lnTo>
                    <a:lnTo>
                      <a:pt x="218" y="12"/>
                    </a:lnTo>
                    <a:lnTo>
                      <a:pt x="239" y="19"/>
                    </a:lnTo>
                    <a:lnTo>
                      <a:pt x="259" y="30"/>
                    </a:lnTo>
                    <a:lnTo>
                      <a:pt x="271" y="50"/>
                    </a:lnTo>
                    <a:lnTo>
                      <a:pt x="276" y="76"/>
                    </a:lnTo>
                    <a:lnTo>
                      <a:pt x="269" y="109"/>
                    </a:lnTo>
                    <a:lnTo>
                      <a:pt x="246" y="151"/>
                    </a:lnTo>
                    <a:lnTo>
                      <a:pt x="231" y="158"/>
                    </a:lnTo>
                    <a:lnTo>
                      <a:pt x="217" y="164"/>
                    </a:lnTo>
                    <a:lnTo>
                      <a:pt x="205" y="169"/>
                    </a:lnTo>
                    <a:lnTo>
                      <a:pt x="192" y="173"/>
                    </a:lnTo>
                    <a:lnTo>
                      <a:pt x="180" y="177"/>
                    </a:lnTo>
                    <a:lnTo>
                      <a:pt x="168" y="179"/>
                    </a:lnTo>
                    <a:lnTo>
                      <a:pt x="157" y="182"/>
                    </a:lnTo>
                    <a:lnTo>
                      <a:pt x="146" y="182"/>
                    </a:lnTo>
                    <a:lnTo>
                      <a:pt x="136" y="182"/>
                    </a:lnTo>
                    <a:lnTo>
                      <a:pt x="124" y="180"/>
                    </a:lnTo>
                    <a:lnTo>
                      <a:pt x="114" y="177"/>
                    </a:lnTo>
                    <a:lnTo>
                      <a:pt x="103" y="173"/>
                    </a:lnTo>
                    <a:lnTo>
                      <a:pt x="93" y="168"/>
                    </a:lnTo>
                    <a:lnTo>
                      <a:pt x="81" y="162"/>
                    </a:lnTo>
                    <a:lnTo>
                      <a:pt x="71" y="153"/>
                    </a:lnTo>
                    <a:lnTo>
                      <a:pt x="60" y="144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431"/>
              <p:cNvSpPr/>
              <p:nvPr/>
            </p:nvSpPr>
            <p:spPr>
              <a:xfrm>
                <a:off x="2301840" y="6335640"/>
                <a:ext cx="146160" cy="88920"/>
              </a:xfrm>
              <a:custGeom>
                <a:avLst/>
                <a:gdLst/>
                <a:ahLst/>
                <a:rect l="l" t="t" r="r" b="b"/>
                <a:pathLst>
                  <a:path w="183" h="225">
                    <a:moveTo>
                      <a:pt x="110" y="225"/>
                    </a:moveTo>
                    <a:lnTo>
                      <a:pt x="108" y="217"/>
                    </a:lnTo>
                    <a:lnTo>
                      <a:pt x="105" y="210"/>
                    </a:lnTo>
                    <a:lnTo>
                      <a:pt x="100" y="203"/>
                    </a:lnTo>
                    <a:lnTo>
                      <a:pt x="95" y="193"/>
                    </a:lnTo>
                    <a:lnTo>
                      <a:pt x="88" y="183"/>
                    </a:lnTo>
                    <a:lnTo>
                      <a:pt x="82" y="169"/>
                    </a:lnTo>
                    <a:lnTo>
                      <a:pt x="73" y="155"/>
                    </a:lnTo>
                    <a:lnTo>
                      <a:pt x="65" y="136"/>
                    </a:lnTo>
                    <a:lnTo>
                      <a:pt x="67" y="134"/>
                    </a:lnTo>
                    <a:lnTo>
                      <a:pt x="70" y="133"/>
                    </a:lnTo>
                    <a:lnTo>
                      <a:pt x="73" y="133"/>
                    </a:lnTo>
                    <a:lnTo>
                      <a:pt x="75" y="130"/>
                    </a:lnTo>
                    <a:lnTo>
                      <a:pt x="80" y="117"/>
                    </a:lnTo>
                    <a:lnTo>
                      <a:pt x="85" y="102"/>
                    </a:lnTo>
                    <a:lnTo>
                      <a:pt x="90" y="88"/>
                    </a:lnTo>
                    <a:lnTo>
                      <a:pt x="95" y="75"/>
                    </a:lnTo>
                    <a:lnTo>
                      <a:pt x="96" y="70"/>
                    </a:lnTo>
                    <a:lnTo>
                      <a:pt x="98" y="65"/>
                    </a:lnTo>
                    <a:lnTo>
                      <a:pt x="99" y="61"/>
                    </a:lnTo>
                    <a:lnTo>
                      <a:pt x="100" y="55"/>
                    </a:lnTo>
                    <a:lnTo>
                      <a:pt x="98" y="57"/>
                    </a:lnTo>
                    <a:lnTo>
                      <a:pt x="94" y="58"/>
                    </a:lnTo>
                    <a:lnTo>
                      <a:pt x="91" y="59"/>
                    </a:lnTo>
                    <a:lnTo>
                      <a:pt x="88" y="60"/>
                    </a:lnTo>
                    <a:lnTo>
                      <a:pt x="87" y="64"/>
                    </a:lnTo>
                    <a:lnTo>
                      <a:pt x="86" y="68"/>
                    </a:lnTo>
                    <a:lnTo>
                      <a:pt x="84" y="71"/>
                    </a:lnTo>
                    <a:lnTo>
                      <a:pt x="82" y="76"/>
                    </a:lnTo>
                    <a:lnTo>
                      <a:pt x="77" y="82"/>
                    </a:lnTo>
                    <a:lnTo>
                      <a:pt x="70" y="90"/>
                    </a:lnTo>
                    <a:lnTo>
                      <a:pt x="61" y="100"/>
                    </a:lnTo>
                    <a:lnTo>
                      <a:pt x="49" y="115"/>
                    </a:lnTo>
                    <a:lnTo>
                      <a:pt x="42" y="108"/>
                    </a:lnTo>
                    <a:lnTo>
                      <a:pt x="34" y="98"/>
                    </a:lnTo>
                    <a:lnTo>
                      <a:pt x="26" y="87"/>
                    </a:lnTo>
                    <a:lnTo>
                      <a:pt x="19" y="73"/>
                    </a:lnTo>
                    <a:lnTo>
                      <a:pt x="12" y="61"/>
                    </a:lnTo>
                    <a:lnTo>
                      <a:pt x="7" y="48"/>
                    </a:lnTo>
                    <a:lnTo>
                      <a:pt x="2" y="37"/>
                    </a:lnTo>
                    <a:lnTo>
                      <a:pt x="0" y="26"/>
                    </a:lnTo>
                    <a:lnTo>
                      <a:pt x="7" y="16"/>
                    </a:lnTo>
                    <a:lnTo>
                      <a:pt x="16" y="7"/>
                    </a:lnTo>
                    <a:lnTo>
                      <a:pt x="29" y="3"/>
                    </a:lnTo>
                    <a:lnTo>
                      <a:pt x="42" y="0"/>
                    </a:lnTo>
                    <a:lnTo>
                      <a:pt x="57" y="0"/>
                    </a:lnTo>
                    <a:lnTo>
                      <a:pt x="72" y="1"/>
                    </a:lnTo>
                    <a:lnTo>
                      <a:pt x="87" y="3"/>
                    </a:lnTo>
                    <a:lnTo>
                      <a:pt x="100" y="5"/>
                    </a:lnTo>
                    <a:lnTo>
                      <a:pt x="107" y="11"/>
                    </a:lnTo>
                    <a:lnTo>
                      <a:pt x="115" y="16"/>
                    </a:lnTo>
                    <a:lnTo>
                      <a:pt x="124" y="22"/>
                    </a:lnTo>
                    <a:lnTo>
                      <a:pt x="134" y="28"/>
                    </a:lnTo>
                    <a:lnTo>
                      <a:pt x="145" y="34"/>
                    </a:lnTo>
                    <a:lnTo>
                      <a:pt x="155" y="39"/>
                    </a:lnTo>
                    <a:lnTo>
                      <a:pt x="164" y="44"/>
                    </a:lnTo>
                    <a:lnTo>
                      <a:pt x="172" y="48"/>
                    </a:lnTo>
                    <a:lnTo>
                      <a:pt x="179" y="69"/>
                    </a:lnTo>
                    <a:lnTo>
                      <a:pt x="183" y="94"/>
                    </a:lnTo>
                    <a:lnTo>
                      <a:pt x="183" y="122"/>
                    </a:lnTo>
                    <a:lnTo>
                      <a:pt x="179" y="149"/>
                    </a:lnTo>
                    <a:lnTo>
                      <a:pt x="171" y="176"/>
                    </a:lnTo>
                    <a:lnTo>
                      <a:pt x="158" y="199"/>
                    </a:lnTo>
                    <a:lnTo>
                      <a:pt x="138" y="215"/>
                    </a:lnTo>
                    <a:lnTo>
                      <a:pt x="110" y="225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432"/>
              <p:cNvSpPr/>
              <p:nvPr/>
            </p:nvSpPr>
            <p:spPr>
              <a:xfrm>
                <a:off x="2584440" y="6386400"/>
                <a:ext cx="104760" cy="23760"/>
              </a:xfrm>
              <a:custGeom>
                <a:avLst/>
                <a:gdLst/>
                <a:ahLst/>
                <a:rect l="l" t="t" r="r" b="b"/>
                <a:pathLst>
                  <a:path w="131" h="59">
                    <a:moveTo>
                      <a:pt x="109" y="59"/>
                    </a:moveTo>
                    <a:lnTo>
                      <a:pt x="102" y="59"/>
                    </a:lnTo>
                    <a:lnTo>
                      <a:pt x="94" y="58"/>
                    </a:lnTo>
                    <a:lnTo>
                      <a:pt x="87" y="58"/>
                    </a:lnTo>
                    <a:lnTo>
                      <a:pt x="80" y="58"/>
                    </a:lnTo>
                    <a:lnTo>
                      <a:pt x="72" y="57"/>
                    </a:lnTo>
                    <a:lnTo>
                      <a:pt x="65" y="57"/>
                    </a:lnTo>
                    <a:lnTo>
                      <a:pt x="57" y="57"/>
                    </a:lnTo>
                    <a:lnTo>
                      <a:pt x="50" y="57"/>
                    </a:lnTo>
                    <a:lnTo>
                      <a:pt x="46" y="55"/>
                    </a:lnTo>
                    <a:lnTo>
                      <a:pt x="40" y="52"/>
                    </a:lnTo>
                    <a:lnTo>
                      <a:pt x="35" y="50"/>
                    </a:lnTo>
                    <a:lnTo>
                      <a:pt x="30" y="47"/>
                    </a:lnTo>
                    <a:lnTo>
                      <a:pt x="26" y="41"/>
                    </a:lnTo>
                    <a:lnTo>
                      <a:pt x="23" y="36"/>
                    </a:lnTo>
                    <a:lnTo>
                      <a:pt x="19" y="32"/>
                    </a:lnTo>
                    <a:lnTo>
                      <a:pt x="15" y="27"/>
                    </a:lnTo>
                    <a:lnTo>
                      <a:pt x="13" y="24"/>
                    </a:lnTo>
                    <a:lnTo>
                      <a:pt x="13" y="20"/>
                    </a:lnTo>
                    <a:lnTo>
                      <a:pt x="12" y="16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5" y="13"/>
                    </a:lnTo>
                    <a:lnTo>
                      <a:pt x="3" y="13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21" y="13"/>
                    </a:lnTo>
                    <a:lnTo>
                      <a:pt x="27" y="21"/>
                    </a:lnTo>
                    <a:lnTo>
                      <a:pt x="35" y="29"/>
                    </a:lnTo>
                    <a:lnTo>
                      <a:pt x="48" y="40"/>
                    </a:lnTo>
                    <a:lnTo>
                      <a:pt x="55" y="43"/>
                    </a:lnTo>
                    <a:lnTo>
                      <a:pt x="62" y="45"/>
                    </a:lnTo>
                    <a:lnTo>
                      <a:pt x="69" y="47"/>
                    </a:lnTo>
                    <a:lnTo>
                      <a:pt x="77" y="49"/>
                    </a:lnTo>
                    <a:lnTo>
                      <a:pt x="89" y="49"/>
                    </a:lnTo>
                    <a:lnTo>
                      <a:pt x="99" y="49"/>
                    </a:lnTo>
                    <a:lnTo>
                      <a:pt x="107" y="49"/>
                    </a:lnTo>
                    <a:lnTo>
                      <a:pt x="112" y="49"/>
                    </a:lnTo>
                    <a:lnTo>
                      <a:pt x="117" y="50"/>
                    </a:lnTo>
                    <a:lnTo>
                      <a:pt x="120" y="51"/>
                    </a:lnTo>
                    <a:lnTo>
                      <a:pt x="125" y="52"/>
                    </a:lnTo>
                    <a:lnTo>
                      <a:pt x="131" y="53"/>
                    </a:lnTo>
                    <a:lnTo>
                      <a:pt x="124" y="56"/>
                    </a:lnTo>
                    <a:lnTo>
                      <a:pt x="118" y="58"/>
                    </a:lnTo>
                    <a:lnTo>
                      <a:pt x="115" y="59"/>
                    </a:lnTo>
                    <a:lnTo>
                      <a:pt x="109" y="59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433"/>
              <p:cNvSpPr/>
              <p:nvPr/>
            </p:nvSpPr>
            <p:spPr>
              <a:xfrm>
                <a:off x="2622600" y="6381720"/>
                <a:ext cx="108000" cy="23760"/>
              </a:xfrm>
              <a:custGeom>
                <a:avLst/>
                <a:gdLst/>
                <a:ahLst/>
                <a:rect l="l" t="t" r="r" b="b"/>
                <a:pathLst>
                  <a:path w="136" h="62">
                    <a:moveTo>
                      <a:pt x="111" y="62"/>
                    </a:moveTo>
                    <a:lnTo>
                      <a:pt x="115" y="59"/>
                    </a:lnTo>
                    <a:lnTo>
                      <a:pt x="118" y="57"/>
                    </a:lnTo>
                    <a:lnTo>
                      <a:pt x="122" y="53"/>
                    </a:lnTo>
                    <a:lnTo>
                      <a:pt x="126" y="51"/>
                    </a:lnTo>
                    <a:lnTo>
                      <a:pt x="124" y="50"/>
                    </a:lnTo>
                    <a:lnTo>
                      <a:pt x="122" y="49"/>
                    </a:lnTo>
                    <a:lnTo>
                      <a:pt x="120" y="48"/>
                    </a:lnTo>
                    <a:lnTo>
                      <a:pt x="117" y="48"/>
                    </a:lnTo>
                    <a:lnTo>
                      <a:pt x="117" y="45"/>
                    </a:lnTo>
                    <a:lnTo>
                      <a:pt x="117" y="41"/>
                    </a:lnTo>
                    <a:lnTo>
                      <a:pt x="117" y="37"/>
                    </a:lnTo>
                    <a:lnTo>
                      <a:pt x="117" y="32"/>
                    </a:lnTo>
                    <a:lnTo>
                      <a:pt x="108" y="30"/>
                    </a:lnTo>
                    <a:lnTo>
                      <a:pt x="102" y="27"/>
                    </a:lnTo>
                    <a:lnTo>
                      <a:pt x="98" y="25"/>
                    </a:lnTo>
                    <a:lnTo>
                      <a:pt x="91" y="20"/>
                    </a:lnTo>
                    <a:lnTo>
                      <a:pt x="85" y="20"/>
                    </a:lnTo>
                    <a:lnTo>
                      <a:pt x="80" y="19"/>
                    </a:lnTo>
                    <a:lnTo>
                      <a:pt x="75" y="18"/>
                    </a:lnTo>
                    <a:lnTo>
                      <a:pt x="69" y="18"/>
                    </a:lnTo>
                    <a:lnTo>
                      <a:pt x="64" y="17"/>
                    </a:lnTo>
                    <a:lnTo>
                      <a:pt x="59" y="16"/>
                    </a:lnTo>
                    <a:lnTo>
                      <a:pt x="53" y="15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5" y="13"/>
                    </a:lnTo>
                    <a:lnTo>
                      <a:pt x="42" y="11"/>
                    </a:lnTo>
                    <a:lnTo>
                      <a:pt x="41" y="10"/>
                    </a:lnTo>
                    <a:lnTo>
                      <a:pt x="37" y="8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1" y="6"/>
                    </a:lnTo>
                    <a:lnTo>
                      <a:pt x="16" y="5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0" y="3"/>
                    </a:lnTo>
                    <a:lnTo>
                      <a:pt x="6" y="2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8" y="1"/>
                    </a:lnTo>
                    <a:lnTo>
                      <a:pt x="46" y="4"/>
                    </a:lnTo>
                    <a:lnTo>
                      <a:pt x="53" y="6"/>
                    </a:lnTo>
                    <a:lnTo>
                      <a:pt x="57" y="7"/>
                    </a:lnTo>
                    <a:lnTo>
                      <a:pt x="62" y="8"/>
                    </a:lnTo>
                    <a:lnTo>
                      <a:pt x="68" y="10"/>
                    </a:lnTo>
                    <a:lnTo>
                      <a:pt x="72" y="11"/>
                    </a:lnTo>
                    <a:lnTo>
                      <a:pt x="79" y="12"/>
                    </a:lnTo>
                    <a:lnTo>
                      <a:pt x="88" y="13"/>
                    </a:lnTo>
                    <a:lnTo>
                      <a:pt x="103" y="20"/>
                    </a:lnTo>
                    <a:lnTo>
                      <a:pt x="115" y="25"/>
                    </a:lnTo>
                    <a:lnTo>
                      <a:pt x="123" y="28"/>
                    </a:lnTo>
                    <a:lnTo>
                      <a:pt x="128" y="31"/>
                    </a:lnTo>
                    <a:lnTo>
                      <a:pt x="131" y="34"/>
                    </a:lnTo>
                    <a:lnTo>
                      <a:pt x="133" y="35"/>
                    </a:lnTo>
                    <a:lnTo>
                      <a:pt x="135" y="37"/>
                    </a:lnTo>
                    <a:lnTo>
                      <a:pt x="136" y="38"/>
                    </a:lnTo>
                    <a:lnTo>
                      <a:pt x="135" y="47"/>
                    </a:lnTo>
                    <a:lnTo>
                      <a:pt x="133" y="53"/>
                    </a:lnTo>
                    <a:lnTo>
                      <a:pt x="131" y="58"/>
                    </a:lnTo>
                    <a:lnTo>
                      <a:pt x="126" y="62"/>
                    </a:lnTo>
                    <a:lnTo>
                      <a:pt x="123" y="62"/>
                    </a:lnTo>
                    <a:lnTo>
                      <a:pt x="120" y="62"/>
                    </a:lnTo>
                    <a:lnTo>
                      <a:pt x="115" y="62"/>
                    </a:lnTo>
                    <a:lnTo>
                      <a:pt x="111" y="62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434"/>
              <p:cNvSpPr/>
              <p:nvPr/>
            </p:nvSpPr>
            <p:spPr>
              <a:xfrm>
                <a:off x="1992240" y="6324480"/>
                <a:ext cx="216000" cy="77760"/>
              </a:xfrm>
              <a:custGeom>
                <a:avLst/>
                <a:gdLst/>
                <a:ahLst/>
                <a:rect l="l" t="t" r="r" b="b"/>
                <a:pathLst>
                  <a:path w="273" h="194">
                    <a:moveTo>
                      <a:pt x="159" y="194"/>
                    </a:moveTo>
                    <a:lnTo>
                      <a:pt x="153" y="194"/>
                    </a:lnTo>
                    <a:lnTo>
                      <a:pt x="146" y="193"/>
                    </a:lnTo>
                    <a:lnTo>
                      <a:pt x="136" y="192"/>
                    </a:lnTo>
                    <a:lnTo>
                      <a:pt x="125" y="191"/>
                    </a:lnTo>
                    <a:lnTo>
                      <a:pt x="114" y="191"/>
                    </a:lnTo>
                    <a:lnTo>
                      <a:pt x="104" y="190"/>
                    </a:lnTo>
                    <a:lnTo>
                      <a:pt x="96" y="189"/>
                    </a:lnTo>
                    <a:lnTo>
                      <a:pt x="90" y="189"/>
                    </a:lnTo>
                    <a:lnTo>
                      <a:pt x="74" y="180"/>
                    </a:lnTo>
                    <a:lnTo>
                      <a:pt x="60" y="167"/>
                    </a:lnTo>
                    <a:lnTo>
                      <a:pt x="47" y="153"/>
                    </a:lnTo>
                    <a:lnTo>
                      <a:pt x="36" y="137"/>
                    </a:lnTo>
                    <a:lnTo>
                      <a:pt x="26" y="121"/>
                    </a:lnTo>
                    <a:lnTo>
                      <a:pt x="16" y="103"/>
                    </a:lnTo>
                    <a:lnTo>
                      <a:pt x="8" y="87"/>
                    </a:lnTo>
                    <a:lnTo>
                      <a:pt x="0" y="70"/>
                    </a:lnTo>
                    <a:lnTo>
                      <a:pt x="3" y="49"/>
                    </a:lnTo>
                    <a:lnTo>
                      <a:pt x="9" y="32"/>
                    </a:lnTo>
                    <a:lnTo>
                      <a:pt x="20" y="19"/>
                    </a:lnTo>
                    <a:lnTo>
                      <a:pt x="35" y="9"/>
                    </a:lnTo>
                    <a:lnTo>
                      <a:pt x="52" y="3"/>
                    </a:lnTo>
                    <a:lnTo>
                      <a:pt x="74" y="0"/>
                    </a:lnTo>
                    <a:lnTo>
                      <a:pt x="98" y="1"/>
                    </a:lnTo>
                    <a:lnTo>
                      <a:pt x="125" y="6"/>
                    </a:lnTo>
                    <a:lnTo>
                      <a:pt x="143" y="22"/>
                    </a:lnTo>
                    <a:lnTo>
                      <a:pt x="161" y="37"/>
                    </a:lnTo>
                    <a:lnTo>
                      <a:pt x="179" y="52"/>
                    </a:lnTo>
                    <a:lnTo>
                      <a:pt x="197" y="67"/>
                    </a:lnTo>
                    <a:lnTo>
                      <a:pt x="214" y="82"/>
                    </a:lnTo>
                    <a:lnTo>
                      <a:pt x="232" y="95"/>
                    </a:lnTo>
                    <a:lnTo>
                      <a:pt x="249" y="110"/>
                    </a:lnTo>
                    <a:lnTo>
                      <a:pt x="265" y="124"/>
                    </a:lnTo>
                    <a:lnTo>
                      <a:pt x="267" y="131"/>
                    </a:lnTo>
                    <a:lnTo>
                      <a:pt x="269" y="135"/>
                    </a:lnTo>
                    <a:lnTo>
                      <a:pt x="269" y="139"/>
                    </a:lnTo>
                    <a:lnTo>
                      <a:pt x="269" y="145"/>
                    </a:lnTo>
                    <a:lnTo>
                      <a:pt x="267" y="147"/>
                    </a:lnTo>
                    <a:lnTo>
                      <a:pt x="267" y="148"/>
                    </a:lnTo>
                    <a:lnTo>
                      <a:pt x="267" y="152"/>
                    </a:lnTo>
                    <a:lnTo>
                      <a:pt x="269" y="156"/>
                    </a:lnTo>
                    <a:lnTo>
                      <a:pt x="269" y="156"/>
                    </a:lnTo>
                    <a:lnTo>
                      <a:pt x="270" y="157"/>
                    </a:lnTo>
                    <a:lnTo>
                      <a:pt x="272" y="158"/>
                    </a:lnTo>
                    <a:lnTo>
                      <a:pt x="273" y="159"/>
                    </a:lnTo>
                    <a:lnTo>
                      <a:pt x="273" y="164"/>
                    </a:lnTo>
                    <a:lnTo>
                      <a:pt x="273" y="170"/>
                    </a:lnTo>
                    <a:lnTo>
                      <a:pt x="273" y="177"/>
                    </a:lnTo>
                    <a:lnTo>
                      <a:pt x="273" y="183"/>
                    </a:lnTo>
                    <a:lnTo>
                      <a:pt x="271" y="184"/>
                    </a:lnTo>
                    <a:lnTo>
                      <a:pt x="269" y="185"/>
                    </a:lnTo>
                    <a:lnTo>
                      <a:pt x="266" y="187"/>
                    </a:lnTo>
                    <a:lnTo>
                      <a:pt x="264" y="188"/>
                    </a:lnTo>
                    <a:lnTo>
                      <a:pt x="251" y="188"/>
                    </a:lnTo>
                    <a:lnTo>
                      <a:pt x="237" y="189"/>
                    </a:lnTo>
                    <a:lnTo>
                      <a:pt x="225" y="190"/>
                    </a:lnTo>
                    <a:lnTo>
                      <a:pt x="212" y="191"/>
                    </a:lnTo>
                    <a:lnTo>
                      <a:pt x="199" y="191"/>
                    </a:lnTo>
                    <a:lnTo>
                      <a:pt x="186" y="192"/>
                    </a:lnTo>
                    <a:lnTo>
                      <a:pt x="173" y="193"/>
                    </a:lnTo>
                    <a:lnTo>
                      <a:pt x="159" y="194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435"/>
              <p:cNvSpPr/>
              <p:nvPr/>
            </p:nvSpPr>
            <p:spPr>
              <a:xfrm>
                <a:off x="2057400" y="6349680"/>
                <a:ext cx="96840" cy="32040"/>
              </a:xfrm>
              <a:custGeom>
                <a:avLst/>
                <a:gdLst/>
                <a:ahLst/>
                <a:rect l="l" t="t" r="r" b="b"/>
                <a:pathLst>
                  <a:path w="121" h="79">
                    <a:moveTo>
                      <a:pt x="103" y="79"/>
                    </a:moveTo>
                    <a:lnTo>
                      <a:pt x="103" y="77"/>
                    </a:lnTo>
                    <a:lnTo>
                      <a:pt x="103" y="74"/>
                    </a:lnTo>
                    <a:lnTo>
                      <a:pt x="103" y="72"/>
                    </a:lnTo>
                    <a:lnTo>
                      <a:pt x="101" y="69"/>
                    </a:lnTo>
                    <a:lnTo>
                      <a:pt x="92" y="61"/>
                    </a:lnTo>
                    <a:lnTo>
                      <a:pt x="80" y="52"/>
                    </a:lnTo>
                    <a:lnTo>
                      <a:pt x="62" y="42"/>
                    </a:lnTo>
                    <a:lnTo>
                      <a:pt x="45" y="30"/>
                    </a:lnTo>
                    <a:lnTo>
                      <a:pt x="28" y="20"/>
                    </a:lnTo>
                    <a:lnTo>
                      <a:pt x="14" y="10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5" y="0"/>
                    </a:lnTo>
                    <a:lnTo>
                      <a:pt x="31" y="7"/>
                    </a:lnTo>
                    <a:lnTo>
                      <a:pt x="47" y="15"/>
                    </a:lnTo>
                    <a:lnTo>
                      <a:pt x="61" y="24"/>
                    </a:lnTo>
                    <a:lnTo>
                      <a:pt x="75" y="32"/>
                    </a:lnTo>
                    <a:lnTo>
                      <a:pt x="88" y="42"/>
                    </a:lnTo>
                    <a:lnTo>
                      <a:pt x="99" y="52"/>
                    </a:lnTo>
                    <a:lnTo>
                      <a:pt x="111" y="63"/>
                    </a:lnTo>
                    <a:lnTo>
                      <a:pt x="121" y="76"/>
                    </a:lnTo>
                    <a:lnTo>
                      <a:pt x="116" y="77"/>
                    </a:lnTo>
                    <a:lnTo>
                      <a:pt x="112" y="77"/>
                    </a:lnTo>
                    <a:lnTo>
                      <a:pt x="107" y="78"/>
                    </a:lnTo>
                    <a:lnTo>
                      <a:pt x="103" y="79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436"/>
              <p:cNvSpPr/>
              <p:nvPr/>
            </p:nvSpPr>
            <p:spPr>
              <a:xfrm>
                <a:off x="2548080" y="6060960"/>
                <a:ext cx="204840" cy="322200"/>
              </a:xfrm>
              <a:custGeom>
                <a:avLst/>
                <a:gdLst/>
                <a:ahLst/>
                <a:rect l="l" t="t" r="r" b="b"/>
                <a:pathLst>
                  <a:path w="256" h="809">
                    <a:moveTo>
                      <a:pt x="0" y="809"/>
                    </a:moveTo>
                    <a:lnTo>
                      <a:pt x="6" y="742"/>
                    </a:lnTo>
                    <a:lnTo>
                      <a:pt x="17" y="634"/>
                    </a:lnTo>
                    <a:lnTo>
                      <a:pt x="27" y="532"/>
                    </a:lnTo>
                    <a:lnTo>
                      <a:pt x="33" y="485"/>
                    </a:lnTo>
                    <a:lnTo>
                      <a:pt x="33" y="394"/>
                    </a:lnTo>
                    <a:lnTo>
                      <a:pt x="34" y="303"/>
                    </a:lnTo>
                    <a:lnTo>
                      <a:pt x="38" y="212"/>
                    </a:lnTo>
                    <a:lnTo>
                      <a:pt x="43" y="120"/>
                    </a:lnTo>
                    <a:lnTo>
                      <a:pt x="47" y="103"/>
                    </a:lnTo>
                    <a:lnTo>
                      <a:pt x="49" y="91"/>
                    </a:lnTo>
                    <a:lnTo>
                      <a:pt x="50" y="77"/>
                    </a:lnTo>
                    <a:lnTo>
                      <a:pt x="54" y="61"/>
                    </a:lnTo>
                    <a:lnTo>
                      <a:pt x="67" y="45"/>
                    </a:lnTo>
                    <a:lnTo>
                      <a:pt x="85" y="36"/>
                    </a:lnTo>
                    <a:lnTo>
                      <a:pt x="103" y="31"/>
                    </a:lnTo>
                    <a:lnTo>
                      <a:pt x="123" y="30"/>
                    </a:lnTo>
                    <a:lnTo>
                      <a:pt x="140" y="28"/>
                    </a:lnTo>
                    <a:lnTo>
                      <a:pt x="156" y="24"/>
                    </a:lnTo>
                    <a:lnTo>
                      <a:pt x="169" y="15"/>
                    </a:lnTo>
                    <a:lnTo>
                      <a:pt x="177" y="0"/>
                    </a:lnTo>
                    <a:lnTo>
                      <a:pt x="179" y="6"/>
                    </a:lnTo>
                    <a:lnTo>
                      <a:pt x="185" y="23"/>
                    </a:lnTo>
                    <a:lnTo>
                      <a:pt x="191" y="45"/>
                    </a:lnTo>
                    <a:lnTo>
                      <a:pt x="199" y="66"/>
                    </a:lnTo>
                    <a:lnTo>
                      <a:pt x="204" y="83"/>
                    </a:lnTo>
                    <a:lnTo>
                      <a:pt x="208" y="92"/>
                    </a:lnTo>
                    <a:lnTo>
                      <a:pt x="209" y="85"/>
                    </a:lnTo>
                    <a:lnTo>
                      <a:pt x="206" y="60"/>
                    </a:lnTo>
                    <a:lnTo>
                      <a:pt x="211" y="97"/>
                    </a:lnTo>
                    <a:lnTo>
                      <a:pt x="218" y="138"/>
                    </a:lnTo>
                    <a:lnTo>
                      <a:pt x="226" y="188"/>
                    </a:lnTo>
                    <a:lnTo>
                      <a:pt x="236" y="255"/>
                    </a:lnTo>
                    <a:lnTo>
                      <a:pt x="244" y="342"/>
                    </a:lnTo>
                    <a:lnTo>
                      <a:pt x="249" y="457"/>
                    </a:lnTo>
                    <a:lnTo>
                      <a:pt x="254" y="606"/>
                    </a:lnTo>
                    <a:lnTo>
                      <a:pt x="256" y="794"/>
                    </a:lnTo>
                    <a:lnTo>
                      <a:pt x="253" y="794"/>
                    </a:lnTo>
                    <a:lnTo>
                      <a:pt x="247" y="793"/>
                    </a:lnTo>
                    <a:lnTo>
                      <a:pt x="239" y="790"/>
                    </a:lnTo>
                    <a:lnTo>
                      <a:pt x="231" y="787"/>
                    </a:lnTo>
                    <a:lnTo>
                      <a:pt x="221" y="784"/>
                    </a:lnTo>
                    <a:lnTo>
                      <a:pt x="211" y="781"/>
                    </a:lnTo>
                    <a:lnTo>
                      <a:pt x="203" y="778"/>
                    </a:lnTo>
                    <a:lnTo>
                      <a:pt x="198" y="775"/>
                    </a:lnTo>
                    <a:lnTo>
                      <a:pt x="192" y="734"/>
                    </a:lnTo>
                    <a:lnTo>
                      <a:pt x="188" y="710"/>
                    </a:lnTo>
                    <a:lnTo>
                      <a:pt x="186" y="697"/>
                    </a:lnTo>
                    <a:lnTo>
                      <a:pt x="185" y="686"/>
                    </a:lnTo>
                    <a:lnTo>
                      <a:pt x="184" y="682"/>
                    </a:lnTo>
                    <a:lnTo>
                      <a:pt x="181" y="678"/>
                    </a:lnTo>
                    <a:lnTo>
                      <a:pt x="180" y="672"/>
                    </a:lnTo>
                    <a:lnTo>
                      <a:pt x="178" y="668"/>
                    </a:lnTo>
                    <a:lnTo>
                      <a:pt x="173" y="670"/>
                    </a:lnTo>
                    <a:lnTo>
                      <a:pt x="171" y="672"/>
                    </a:lnTo>
                    <a:lnTo>
                      <a:pt x="170" y="676"/>
                    </a:lnTo>
                    <a:lnTo>
                      <a:pt x="168" y="681"/>
                    </a:lnTo>
                    <a:lnTo>
                      <a:pt x="164" y="709"/>
                    </a:lnTo>
                    <a:lnTo>
                      <a:pt x="162" y="728"/>
                    </a:lnTo>
                    <a:lnTo>
                      <a:pt x="158" y="744"/>
                    </a:lnTo>
                    <a:lnTo>
                      <a:pt x="153" y="767"/>
                    </a:lnTo>
                    <a:lnTo>
                      <a:pt x="141" y="767"/>
                    </a:lnTo>
                    <a:lnTo>
                      <a:pt x="130" y="769"/>
                    </a:lnTo>
                    <a:lnTo>
                      <a:pt x="117" y="770"/>
                    </a:lnTo>
                    <a:lnTo>
                      <a:pt x="103" y="771"/>
                    </a:lnTo>
                    <a:lnTo>
                      <a:pt x="89" y="772"/>
                    </a:lnTo>
                    <a:lnTo>
                      <a:pt x="76" y="773"/>
                    </a:lnTo>
                    <a:lnTo>
                      <a:pt x="61" y="774"/>
                    </a:lnTo>
                    <a:lnTo>
                      <a:pt x="46" y="775"/>
                    </a:lnTo>
                    <a:lnTo>
                      <a:pt x="39" y="778"/>
                    </a:lnTo>
                    <a:lnTo>
                      <a:pt x="33" y="781"/>
                    </a:lnTo>
                    <a:lnTo>
                      <a:pt x="27" y="784"/>
                    </a:lnTo>
                    <a:lnTo>
                      <a:pt x="23" y="787"/>
                    </a:lnTo>
                    <a:lnTo>
                      <a:pt x="18" y="790"/>
                    </a:lnTo>
                    <a:lnTo>
                      <a:pt x="13" y="796"/>
                    </a:lnTo>
                    <a:lnTo>
                      <a:pt x="6" y="802"/>
                    </a:lnTo>
                    <a:lnTo>
                      <a:pt x="0" y="809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437"/>
              <p:cNvSpPr/>
              <p:nvPr/>
            </p:nvSpPr>
            <p:spPr>
              <a:xfrm>
                <a:off x="2316240" y="6151320"/>
                <a:ext cx="243000" cy="228600"/>
              </a:xfrm>
              <a:custGeom>
                <a:avLst/>
                <a:gdLst/>
                <a:ahLst/>
                <a:rect l="l" t="t" r="r" b="b"/>
                <a:pathLst>
                  <a:path w="305" h="575">
                    <a:moveTo>
                      <a:pt x="143" y="499"/>
                    </a:moveTo>
                    <a:lnTo>
                      <a:pt x="147" y="488"/>
                    </a:lnTo>
                    <a:lnTo>
                      <a:pt x="154" y="473"/>
                    </a:lnTo>
                    <a:lnTo>
                      <a:pt x="160" y="454"/>
                    </a:lnTo>
                    <a:lnTo>
                      <a:pt x="167" y="433"/>
                    </a:lnTo>
                    <a:lnTo>
                      <a:pt x="174" y="412"/>
                    </a:lnTo>
                    <a:lnTo>
                      <a:pt x="179" y="393"/>
                    </a:lnTo>
                    <a:lnTo>
                      <a:pt x="183" y="379"/>
                    </a:lnTo>
                    <a:lnTo>
                      <a:pt x="185" y="370"/>
                    </a:lnTo>
                    <a:lnTo>
                      <a:pt x="183" y="370"/>
                    </a:lnTo>
                    <a:lnTo>
                      <a:pt x="180" y="370"/>
                    </a:lnTo>
                    <a:lnTo>
                      <a:pt x="177" y="370"/>
                    </a:lnTo>
                    <a:lnTo>
                      <a:pt x="174" y="370"/>
                    </a:lnTo>
                    <a:lnTo>
                      <a:pt x="172" y="374"/>
                    </a:lnTo>
                    <a:lnTo>
                      <a:pt x="168" y="379"/>
                    </a:lnTo>
                    <a:lnTo>
                      <a:pt x="164" y="383"/>
                    </a:lnTo>
                    <a:lnTo>
                      <a:pt x="161" y="386"/>
                    </a:lnTo>
                    <a:lnTo>
                      <a:pt x="154" y="396"/>
                    </a:lnTo>
                    <a:lnTo>
                      <a:pt x="149" y="410"/>
                    </a:lnTo>
                    <a:lnTo>
                      <a:pt x="144" y="425"/>
                    </a:lnTo>
                    <a:lnTo>
                      <a:pt x="141" y="440"/>
                    </a:lnTo>
                    <a:lnTo>
                      <a:pt x="136" y="455"/>
                    </a:lnTo>
                    <a:lnTo>
                      <a:pt x="132" y="467"/>
                    </a:lnTo>
                    <a:lnTo>
                      <a:pt x="127" y="478"/>
                    </a:lnTo>
                    <a:lnTo>
                      <a:pt x="121" y="485"/>
                    </a:lnTo>
                    <a:lnTo>
                      <a:pt x="117" y="484"/>
                    </a:lnTo>
                    <a:lnTo>
                      <a:pt x="114" y="482"/>
                    </a:lnTo>
                    <a:lnTo>
                      <a:pt x="111" y="481"/>
                    </a:lnTo>
                    <a:lnTo>
                      <a:pt x="108" y="479"/>
                    </a:lnTo>
                    <a:lnTo>
                      <a:pt x="105" y="477"/>
                    </a:lnTo>
                    <a:lnTo>
                      <a:pt x="100" y="474"/>
                    </a:lnTo>
                    <a:lnTo>
                      <a:pt x="94" y="469"/>
                    </a:lnTo>
                    <a:lnTo>
                      <a:pt x="86" y="464"/>
                    </a:lnTo>
                    <a:lnTo>
                      <a:pt x="67" y="465"/>
                    </a:lnTo>
                    <a:lnTo>
                      <a:pt x="52" y="466"/>
                    </a:lnTo>
                    <a:lnTo>
                      <a:pt x="39" y="466"/>
                    </a:lnTo>
                    <a:lnTo>
                      <a:pt x="31" y="467"/>
                    </a:lnTo>
                    <a:lnTo>
                      <a:pt x="23" y="468"/>
                    </a:lnTo>
                    <a:lnTo>
                      <a:pt x="16" y="469"/>
                    </a:lnTo>
                    <a:lnTo>
                      <a:pt x="9" y="471"/>
                    </a:lnTo>
                    <a:lnTo>
                      <a:pt x="0" y="472"/>
                    </a:lnTo>
                    <a:lnTo>
                      <a:pt x="23" y="421"/>
                    </a:lnTo>
                    <a:lnTo>
                      <a:pt x="40" y="384"/>
                    </a:lnTo>
                    <a:lnTo>
                      <a:pt x="53" y="356"/>
                    </a:lnTo>
                    <a:lnTo>
                      <a:pt x="62" y="335"/>
                    </a:lnTo>
                    <a:lnTo>
                      <a:pt x="68" y="321"/>
                    </a:lnTo>
                    <a:lnTo>
                      <a:pt x="73" y="310"/>
                    </a:lnTo>
                    <a:lnTo>
                      <a:pt x="77" y="300"/>
                    </a:lnTo>
                    <a:lnTo>
                      <a:pt x="81" y="290"/>
                    </a:lnTo>
                    <a:lnTo>
                      <a:pt x="92" y="271"/>
                    </a:lnTo>
                    <a:lnTo>
                      <a:pt x="112" y="241"/>
                    </a:lnTo>
                    <a:lnTo>
                      <a:pt x="136" y="203"/>
                    </a:lnTo>
                    <a:lnTo>
                      <a:pt x="162" y="161"/>
                    </a:lnTo>
                    <a:lnTo>
                      <a:pt x="189" y="122"/>
                    </a:lnTo>
                    <a:lnTo>
                      <a:pt x="211" y="87"/>
                    </a:lnTo>
                    <a:lnTo>
                      <a:pt x="227" y="63"/>
                    </a:lnTo>
                    <a:lnTo>
                      <a:pt x="234" y="54"/>
                    </a:lnTo>
                    <a:lnTo>
                      <a:pt x="238" y="44"/>
                    </a:lnTo>
                    <a:lnTo>
                      <a:pt x="244" y="38"/>
                    </a:lnTo>
                    <a:lnTo>
                      <a:pt x="251" y="32"/>
                    </a:lnTo>
                    <a:lnTo>
                      <a:pt x="258" y="28"/>
                    </a:lnTo>
                    <a:lnTo>
                      <a:pt x="265" y="22"/>
                    </a:lnTo>
                    <a:lnTo>
                      <a:pt x="273" y="17"/>
                    </a:lnTo>
                    <a:lnTo>
                      <a:pt x="280" y="10"/>
                    </a:lnTo>
                    <a:lnTo>
                      <a:pt x="288" y="0"/>
                    </a:lnTo>
                    <a:lnTo>
                      <a:pt x="287" y="85"/>
                    </a:lnTo>
                    <a:lnTo>
                      <a:pt x="294" y="125"/>
                    </a:lnTo>
                    <a:lnTo>
                      <a:pt x="302" y="161"/>
                    </a:lnTo>
                    <a:lnTo>
                      <a:pt x="305" y="233"/>
                    </a:lnTo>
                    <a:lnTo>
                      <a:pt x="296" y="253"/>
                    </a:lnTo>
                    <a:lnTo>
                      <a:pt x="283" y="286"/>
                    </a:lnTo>
                    <a:lnTo>
                      <a:pt x="268" y="327"/>
                    </a:lnTo>
                    <a:lnTo>
                      <a:pt x="251" y="375"/>
                    </a:lnTo>
                    <a:lnTo>
                      <a:pt x="231" y="427"/>
                    </a:lnTo>
                    <a:lnTo>
                      <a:pt x="211" y="480"/>
                    </a:lnTo>
                    <a:lnTo>
                      <a:pt x="190" y="530"/>
                    </a:lnTo>
                    <a:lnTo>
                      <a:pt x="168" y="575"/>
                    </a:lnTo>
                    <a:lnTo>
                      <a:pt x="157" y="566"/>
                    </a:lnTo>
                    <a:lnTo>
                      <a:pt x="149" y="543"/>
                    </a:lnTo>
                    <a:lnTo>
                      <a:pt x="144" y="518"/>
                    </a:lnTo>
                    <a:lnTo>
                      <a:pt x="143" y="499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38"/>
              <p:cNvSpPr/>
              <p:nvPr/>
            </p:nvSpPr>
            <p:spPr>
              <a:xfrm>
                <a:off x="2024280" y="5933880"/>
                <a:ext cx="690480" cy="444600"/>
              </a:xfrm>
              <a:custGeom>
                <a:avLst/>
                <a:gdLst/>
                <a:ahLst/>
                <a:rect l="l" t="t" r="r" b="b"/>
                <a:pathLst>
                  <a:path w="869" h="1120">
                    <a:moveTo>
                      <a:pt x="244" y="1120"/>
                    </a:moveTo>
                    <a:lnTo>
                      <a:pt x="235" y="1111"/>
                    </a:lnTo>
                    <a:lnTo>
                      <a:pt x="222" y="1100"/>
                    </a:lnTo>
                    <a:lnTo>
                      <a:pt x="207" y="1086"/>
                    </a:lnTo>
                    <a:lnTo>
                      <a:pt x="191" y="1072"/>
                    </a:lnTo>
                    <a:lnTo>
                      <a:pt x="175" y="1058"/>
                    </a:lnTo>
                    <a:lnTo>
                      <a:pt x="160" y="1045"/>
                    </a:lnTo>
                    <a:lnTo>
                      <a:pt x="147" y="1034"/>
                    </a:lnTo>
                    <a:lnTo>
                      <a:pt x="137" y="1028"/>
                    </a:lnTo>
                    <a:lnTo>
                      <a:pt x="147" y="1010"/>
                    </a:lnTo>
                    <a:lnTo>
                      <a:pt x="160" y="991"/>
                    </a:lnTo>
                    <a:lnTo>
                      <a:pt x="175" y="972"/>
                    </a:lnTo>
                    <a:lnTo>
                      <a:pt x="191" y="952"/>
                    </a:lnTo>
                    <a:lnTo>
                      <a:pt x="207" y="932"/>
                    </a:lnTo>
                    <a:lnTo>
                      <a:pt x="222" y="913"/>
                    </a:lnTo>
                    <a:lnTo>
                      <a:pt x="235" y="896"/>
                    </a:lnTo>
                    <a:lnTo>
                      <a:pt x="244" y="881"/>
                    </a:lnTo>
                    <a:lnTo>
                      <a:pt x="241" y="881"/>
                    </a:lnTo>
                    <a:lnTo>
                      <a:pt x="239" y="880"/>
                    </a:lnTo>
                    <a:lnTo>
                      <a:pt x="237" y="880"/>
                    </a:lnTo>
                    <a:lnTo>
                      <a:pt x="235" y="879"/>
                    </a:lnTo>
                    <a:lnTo>
                      <a:pt x="220" y="894"/>
                    </a:lnTo>
                    <a:lnTo>
                      <a:pt x="205" y="910"/>
                    </a:lnTo>
                    <a:lnTo>
                      <a:pt x="190" y="925"/>
                    </a:lnTo>
                    <a:lnTo>
                      <a:pt x="176" y="940"/>
                    </a:lnTo>
                    <a:lnTo>
                      <a:pt x="161" y="956"/>
                    </a:lnTo>
                    <a:lnTo>
                      <a:pt x="147" y="972"/>
                    </a:lnTo>
                    <a:lnTo>
                      <a:pt x="134" y="988"/>
                    </a:lnTo>
                    <a:lnTo>
                      <a:pt x="121" y="1005"/>
                    </a:lnTo>
                    <a:lnTo>
                      <a:pt x="107" y="1002"/>
                    </a:lnTo>
                    <a:lnTo>
                      <a:pt x="92" y="999"/>
                    </a:lnTo>
                    <a:lnTo>
                      <a:pt x="78" y="996"/>
                    </a:lnTo>
                    <a:lnTo>
                      <a:pt x="63" y="991"/>
                    </a:lnTo>
                    <a:lnTo>
                      <a:pt x="47" y="987"/>
                    </a:lnTo>
                    <a:lnTo>
                      <a:pt x="32" y="984"/>
                    </a:lnTo>
                    <a:lnTo>
                      <a:pt x="16" y="982"/>
                    </a:lnTo>
                    <a:lnTo>
                      <a:pt x="0" y="980"/>
                    </a:lnTo>
                    <a:lnTo>
                      <a:pt x="3" y="974"/>
                    </a:lnTo>
                    <a:lnTo>
                      <a:pt x="9" y="964"/>
                    </a:lnTo>
                    <a:lnTo>
                      <a:pt x="17" y="952"/>
                    </a:lnTo>
                    <a:lnTo>
                      <a:pt x="26" y="937"/>
                    </a:lnTo>
                    <a:lnTo>
                      <a:pt x="37" y="922"/>
                    </a:lnTo>
                    <a:lnTo>
                      <a:pt x="47" y="909"/>
                    </a:lnTo>
                    <a:lnTo>
                      <a:pt x="56" y="896"/>
                    </a:lnTo>
                    <a:lnTo>
                      <a:pt x="64" y="886"/>
                    </a:lnTo>
                    <a:lnTo>
                      <a:pt x="93" y="848"/>
                    </a:lnTo>
                    <a:lnTo>
                      <a:pt x="123" y="811"/>
                    </a:lnTo>
                    <a:lnTo>
                      <a:pt x="153" y="774"/>
                    </a:lnTo>
                    <a:lnTo>
                      <a:pt x="183" y="738"/>
                    </a:lnTo>
                    <a:lnTo>
                      <a:pt x="213" y="701"/>
                    </a:lnTo>
                    <a:lnTo>
                      <a:pt x="244" y="665"/>
                    </a:lnTo>
                    <a:lnTo>
                      <a:pt x="274" y="629"/>
                    </a:lnTo>
                    <a:lnTo>
                      <a:pt x="304" y="593"/>
                    </a:lnTo>
                    <a:lnTo>
                      <a:pt x="334" y="559"/>
                    </a:lnTo>
                    <a:lnTo>
                      <a:pt x="364" y="523"/>
                    </a:lnTo>
                    <a:lnTo>
                      <a:pt x="394" y="488"/>
                    </a:lnTo>
                    <a:lnTo>
                      <a:pt x="422" y="452"/>
                    </a:lnTo>
                    <a:lnTo>
                      <a:pt x="450" y="417"/>
                    </a:lnTo>
                    <a:lnTo>
                      <a:pt x="478" y="380"/>
                    </a:lnTo>
                    <a:lnTo>
                      <a:pt x="504" y="345"/>
                    </a:lnTo>
                    <a:lnTo>
                      <a:pt x="529" y="308"/>
                    </a:lnTo>
                    <a:lnTo>
                      <a:pt x="541" y="298"/>
                    </a:lnTo>
                    <a:lnTo>
                      <a:pt x="555" y="283"/>
                    </a:lnTo>
                    <a:lnTo>
                      <a:pt x="570" y="265"/>
                    </a:lnTo>
                    <a:lnTo>
                      <a:pt x="585" y="243"/>
                    </a:lnTo>
                    <a:lnTo>
                      <a:pt x="601" y="221"/>
                    </a:lnTo>
                    <a:lnTo>
                      <a:pt x="618" y="195"/>
                    </a:lnTo>
                    <a:lnTo>
                      <a:pt x="634" y="169"/>
                    </a:lnTo>
                    <a:lnTo>
                      <a:pt x="651" y="143"/>
                    </a:lnTo>
                    <a:lnTo>
                      <a:pt x="668" y="117"/>
                    </a:lnTo>
                    <a:lnTo>
                      <a:pt x="685" y="92"/>
                    </a:lnTo>
                    <a:lnTo>
                      <a:pt x="700" y="68"/>
                    </a:lnTo>
                    <a:lnTo>
                      <a:pt x="715" y="47"/>
                    </a:lnTo>
                    <a:lnTo>
                      <a:pt x="729" y="29"/>
                    </a:lnTo>
                    <a:lnTo>
                      <a:pt x="740" y="15"/>
                    </a:lnTo>
                    <a:lnTo>
                      <a:pt x="750" y="5"/>
                    </a:lnTo>
                    <a:lnTo>
                      <a:pt x="760" y="0"/>
                    </a:lnTo>
                    <a:lnTo>
                      <a:pt x="772" y="8"/>
                    </a:lnTo>
                    <a:lnTo>
                      <a:pt x="783" y="17"/>
                    </a:lnTo>
                    <a:lnTo>
                      <a:pt x="792" y="24"/>
                    </a:lnTo>
                    <a:lnTo>
                      <a:pt x="802" y="30"/>
                    </a:lnTo>
                    <a:lnTo>
                      <a:pt x="812" y="36"/>
                    </a:lnTo>
                    <a:lnTo>
                      <a:pt x="822" y="40"/>
                    </a:lnTo>
                    <a:lnTo>
                      <a:pt x="833" y="44"/>
                    </a:lnTo>
                    <a:lnTo>
                      <a:pt x="847" y="46"/>
                    </a:lnTo>
                    <a:lnTo>
                      <a:pt x="853" y="51"/>
                    </a:lnTo>
                    <a:lnTo>
                      <a:pt x="858" y="58"/>
                    </a:lnTo>
                    <a:lnTo>
                      <a:pt x="863" y="64"/>
                    </a:lnTo>
                    <a:lnTo>
                      <a:pt x="869" y="69"/>
                    </a:lnTo>
                    <a:lnTo>
                      <a:pt x="869" y="75"/>
                    </a:lnTo>
                    <a:lnTo>
                      <a:pt x="869" y="81"/>
                    </a:lnTo>
                    <a:lnTo>
                      <a:pt x="869" y="87"/>
                    </a:lnTo>
                    <a:lnTo>
                      <a:pt x="869" y="93"/>
                    </a:lnTo>
                    <a:lnTo>
                      <a:pt x="853" y="122"/>
                    </a:lnTo>
                    <a:lnTo>
                      <a:pt x="837" y="148"/>
                    </a:lnTo>
                    <a:lnTo>
                      <a:pt x="820" y="174"/>
                    </a:lnTo>
                    <a:lnTo>
                      <a:pt x="802" y="198"/>
                    </a:lnTo>
                    <a:lnTo>
                      <a:pt x="785" y="222"/>
                    </a:lnTo>
                    <a:lnTo>
                      <a:pt x="767" y="247"/>
                    </a:lnTo>
                    <a:lnTo>
                      <a:pt x="750" y="273"/>
                    </a:lnTo>
                    <a:lnTo>
                      <a:pt x="733" y="301"/>
                    </a:lnTo>
                    <a:lnTo>
                      <a:pt x="722" y="312"/>
                    </a:lnTo>
                    <a:lnTo>
                      <a:pt x="703" y="336"/>
                    </a:lnTo>
                    <a:lnTo>
                      <a:pt x="679" y="370"/>
                    </a:lnTo>
                    <a:lnTo>
                      <a:pt x="651" y="414"/>
                    </a:lnTo>
                    <a:lnTo>
                      <a:pt x="619" y="464"/>
                    </a:lnTo>
                    <a:lnTo>
                      <a:pt x="585" y="520"/>
                    </a:lnTo>
                    <a:lnTo>
                      <a:pt x="548" y="580"/>
                    </a:lnTo>
                    <a:lnTo>
                      <a:pt x="511" y="641"/>
                    </a:lnTo>
                    <a:lnTo>
                      <a:pt x="473" y="704"/>
                    </a:lnTo>
                    <a:lnTo>
                      <a:pt x="437" y="766"/>
                    </a:lnTo>
                    <a:lnTo>
                      <a:pt x="403" y="824"/>
                    </a:lnTo>
                    <a:lnTo>
                      <a:pt x="370" y="879"/>
                    </a:lnTo>
                    <a:lnTo>
                      <a:pt x="342" y="926"/>
                    </a:lnTo>
                    <a:lnTo>
                      <a:pt x="319" y="966"/>
                    </a:lnTo>
                    <a:lnTo>
                      <a:pt x="300" y="997"/>
                    </a:lnTo>
                    <a:lnTo>
                      <a:pt x="289" y="1015"/>
                    </a:lnTo>
                    <a:lnTo>
                      <a:pt x="273" y="1039"/>
                    </a:lnTo>
                    <a:lnTo>
                      <a:pt x="261" y="1060"/>
                    </a:lnTo>
                    <a:lnTo>
                      <a:pt x="253" y="1079"/>
                    </a:lnTo>
                    <a:lnTo>
                      <a:pt x="248" y="1094"/>
                    </a:lnTo>
                    <a:lnTo>
                      <a:pt x="246" y="1105"/>
                    </a:lnTo>
                    <a:lnTo>
                      <a:pt x="245" y="1114"/>
                    </a:lnTo>
                    <a:lnTo>
                      <a:pt x="244" y="1119"/>
                    </a:lnTo>
                    <a:lnTo>
                      <a:pt x="244" y="112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439"/>
              <p:cNvSpPr/>
              <p:nvPr/>
            </p:nvSpPr>
            <p:spPr>
              <a:xfrm>
                <a:off x="2760840" y="633708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113" h="58">
                    <a:moveTo>
                      <a:pt x="3" y="39"/>
                    </a:moveTo>
                    <a:lnTo>
                      <a:pt x="2" y="32"/>
                    </a:lnTo>
                    <a:lnTo>
                      <a:pt x="2" y="20"/>
                    </a:lnTo>
                    <a:lnTo>
                      <a:pt x="1" y="10"/>
                    </a:lnTo>
                    <a:lnTo>
                      <a:pt x="0" y="1"/>
                    </a:lnTo>
                    <a:lnTo>
                      <a:pt x="10" y="0"/>
                    </a:lnTo>
                    <a:lnTo>
                      <a:pt x="20" y="0"/>
                    </a:lnTo>
                    <a:lnTo>
                      <a:pt x="30" y="0"/>
                    </a:lnTo>
                    <a:lnTo>
                      <a:pt x="38" y="1"/>
                    </a:lnTo>
                    <a:lnTo>
                      <a:pt x="47" y="2"/>
                    </a:lnTo>
                    <a:lnTo>
                      <a:pt x="55" y="6"/>
                    </a:lnTo>
                    <a:lnTo>
                      <a:pt x="64" y="8"/>
                    </a:lnTo>
                    <a:lnTo>
                      <a:pt x="75" y="12"/>
                    </a:lnTo>
                    <a:lnTo>
                      <a:pt x="75" y="15"/>
                    </a:lnTo>
                    <a:lnTo>
                      <a:pt x="76" y="18"/>
                    </a:lnTo>
                    <a:lnTo>
                      <a:pt x="78" y="21"/>
                    </a:lnTo>
                    <a:lnTo>
                      <a:pt x="79" y="25"/>
                    </a:lnTo>
                    <a:lnTo>
                      <a:pt x="84" y="22"/>
                    </a:lnTo>
                    <a:lnTo>
                      <a:pt x="87" y="20"/>
                    </a:lnTo>
                    <a:lnTo>
                      <a:pt x="93" y="19"/>
                    </a:lnTo>
                    <a:lnTo>
                      <a:pt x="102" y="18"/>
                    </a:lnTo>
                    <a:lnTo>
                      <a:pt x="107" y="23"/>
                    </a:lnTo>
                    <a:lnTo>
                      <a:pt x="109" y="27"/>
                    </a:lnTo>
                    <a:lnTo>
                      <a:pt x="110" y="34"/>
                    </a:lnTo>
                    <a:lnTo>
                      <a:pt x="113" y="44"/>
                    </a:lnTo>
                    <a:lnTo>
                      <a:pt x="109" y="47"/>
                    </a:lnTo>
                    <a:lnTo>
                      <a:pt x="106" y="49"/>
                    </a:lnTo>
                    <a:lnTo>
                      <a:pt x="99" y="51"/>
                    </a:lnTo>
                    <a:lnTo>
                      <a:pt x="87" y="56"/>
                    </a:lnTo>
                    <a:lnTo>
                      <a:pt x="72" y="56"/>
                    </a:lnTo>
                    <a:lnTo>
                      <a:pt x="61" y="57"/>
                    </a:lnTo>
                    <a:lnTo>
                      <a:pt x="50" y="58"/>
                    </a:lnTo>
                    <a:lnTo>
                      <a:pt x="41" y="58"/>
                    </a:lnTo>
                    <a:lnTo>
                      <a:pt x="32" y="56"/>
                    </a:lnTo>
                    <a:lnTo>
                      <a:pt x="24" y="53"/>
                    </a:lnTo>
                    <a:lnTo>
                      <a:pt x="15" y="47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440"/>
              <p:cNvSpPr/>
              <p:nvPr/>
            </p:nvSpPr>
            <p:spPr>
              <a:xfrm>
                <a:off x="2838600" y="6203880"/>
                <a:ext cx="63360" cy="128520"/>
              </a:xfrm>
              <a:custGeom>
                <a:avLst/>
                <a:gdLst/>
                <a:ahLst/>
                <a:rect l="l" t="t" r="r" b="b"/>
                <a:pathLst>
                  <a:path w="79" h="327">
                    <a:moveTo>
                      <a:pt x="64" y="327"/>
                    </a:moveTo>
                    <a:lnTo>
                      <a:pt x="62" y="321"/>
                    </a:lnTo>
                    <a:lnTo>
                      <a:pt x="61" y="308"/>
                    </a:lnTo>
                    <a:lnTo>
                      <a:pt x="59" y="289"/>
                    </a:lnTo>
                    <a:lnTo>
                      <a:pt x="56" y="262"/>
                    </a:lnTo>
                    <a:lnTo>
                      <a:pt x="53" y="257"/>
                    </a:lnTo>
                    <a:lnTo>
                      <a:pt x="49" y="251"/>
                    </a:lnTo>
                    <a:lnTo>
                      <a:pt x="44" y="245"/>
                    </a:lnTo>
                    <a:lnTo>
                      <a:pt x="41" y="240"/>
                    </a:lnTo>
                    <a:lnTo>
                      <a:pt x="41" y="233"/>
                    </a:lnTo>
                    <a:lnTo>
                      <a:pt x="41" y="227"/>
                    </a:lnTo>
                    <a:lnTo>
                      <a:pt x="41" y="220"/>
                    </a:lnTo>
                    <a:lnTo>
                      <a:pt x="41" y="214"/>
                    </a:lnTo>
                    <a:lnTo>
                      <a:pt x="33" y="181"/>
                    </a:lnTo>
                    <a:lnTo>
                      <a:pt x="27" y="157"/>
                    </a:lnTo>
                    <a:lnTo>
                      <a:pt x="21" y="137"/>
                    </a:lnTo>
                    <a:lnTo>
                      <a:pt x="18" y="114"/>
                    </a:lnTo>
                    <a:lnTo>
                      <a:pt x="13" y="96"/>
                    </a:lnTo>
                    <a:lnTo>
                      <a:pt x="9" y="77"/>
                    </a:lnTo>
                    <a:lnTo>
                      <a:pt x="4" y="60"/>
                    </a:lnTo>
                    <a:lnTo>
                      <a:pt x="0" y="42"/>
                    </a:lnTo>
                    <a:lnTo>
                      <a:pt x="0" y="33"/>
                    </a:lnTo>
                    <a:lnTo>
                      <a:pt x="0" y="24"/>
                    </a:lnTo>
                    <a:lnTo>
                      <a:pt x="0" y="15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2"/>
                    </a:lnTo>
                    <a:lnTo>
                      <a:pt x="18" y="16"/>
                    </a:lnTo>
                    <a:lnTo>
                      <a:pt x="19" y="28"/>
                    </a:lnTo>
                    <a:lnTo>
                      <a:pt x="19" y="42"/>
                    </a:lnTo>
                    <a:lnTo>
                      <a:pt x="20" y="55"/>
                    </a:lnTo>
                    <a:lnTo>
                      <a:pt x="23" y="63"/>
                    </a:lnTo>
                    <a:lnTo>
                      <a:pt x="26" y="70"/>
                    </a:lnTo>
                    <a:lnTo>
                      <a:pt x="29" y="77"/>
                    </a:lnTo>
                    <a:lnTo>
                      <a:pt x="32" y="85"/>
                    </a:lnTo>
                    <a:lnTo>
                      <a:pt x="44" y="140"/>
                    </a:lnTo>
                    <a:lnTo>
                      <a:pt x="51" y="174"/>
                    </a:lnTo>
                    <a:lnTo>
                      <a:pt x="56" y="203"/>
                    </a:lnTo>
                    <a:lnTo>
                      <a:pt x="62" y="238"/>
                    </a:lnTo>
                    <a:lnTo>
                      <a:pt x="69" y="254"/>
                    </a:lnTo>
                    <a:lnTo>
                      <a:pt x="72" y="264"/>
                    </a:lnTo>
                    <a:lnTo>
                      <a:pt x="76" y="274"/>
                    </a:lnTo>
                    <a:lnTo>
                      <a:pt x="79" y="288"/>
                    </a:lnTo>
                    <a:lnTo>
                      <a:pt x="79" y="300"/>
                    </a:lnTo>
                    <a:lnTo>
                      <a:pt x="78" y="307"/>
                    </a:lnTo>
                    <a:lnTo>
                      <a:pt x="77" y="314"/>
                    </a:lnTo>
                    <a:lnTo>
                      <a:pt x="73" y="326"/>
                    </a:lnTo>
                    <a:lnTo>
                      <a:pt x="71" y="326"/>
                    </a:lnTo>
                    <a:lnTo>
                      <a:pt x="69" y="326"/>
                    </a:lnTo>
                    <a:lnTo>
                      <a:pt x="66" y="326"/>
                    </a:lnTo>
                    <a:lnTo>
                      <a:pt x="64" y="327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441"/>
              <p:cNvSpPr/>
              <p:nvPr/>
            </p:nvSpPr>
            <p:spPr>
              <a:xfrm>
                <a:off x="3468600" y="63118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442"/>
              <p:cNvSpPr/>
              <p:nvPr/>
            </p:nvSpPr>
            <p:spPr>
              <a:xfrm>
                <a:off x="3468600" y="6262560"/>
                <a:ext cx="92160" cy="60120"/>
              </a:xfrm>
              <a:custGeom>
                <a:avLst/>
                <a:gdLst/>
                <a:ahLst/>
                <a:rect l="l" t="t" r="r" b="b"/>
                <a:pathLst>
                  <a:path w="115" h="155">
                    <a:moveTo>
                      <a:pt x="0" y="30"/>
                    </a:moveTo>
                    <a:lnTo>
                      <a:pt x="0" y="94"/>
                    </a:lnTo>
                    <a:lnTo>
                      <a:pt x="5" y="106"/>
                    </a:lnTo>
                    <a:lnTo>
                      <a:pt x="9" y="114"/>
                    </a:lnTo>
                    <a:lnTo>
                      <a:pt x="16" y="122"/>
                    </a:lnTo>
                    <a:lnTo>
                      <a:pt x="23" y="126"/>
                    </a:lnTo>
                    <a:lnTo>
                      <a:pt x="32" y="131"/>
                    </a:lnTo>
                    <a:lnTo>
                      <a:pt x="44" y="137"/>
                    </a:lnTo>
                    <a:lnTo>
                      <a:pt x="55" y="144"/>
                    </a:lnTo>
                    <a:lnTo>
                      <a:pt x="70" y="155"/>
                    </a:lnTo>
                    <a:lnTo>
                      <a:pt x="76" y="155"/>
                    </a:lnTo>
                    <a:lnTo>
                      <a:pt x="83" y="155"/>
                    </a:lnTo>
                    <a:lnTo>
                      <a:pt x="89" y="155"/>
                    </a:lnTo>
                    <a:lnTo>
                      <a:pt x="95" y="155"/>
                    </a:lnTo>
                    <a:lnTo>
                      <a:pt x="100" y="153"/>
                    </a:lnTo>
                    <a:lnTo>
                      <a:pt x="105" y="150"/>
                    </a:lnTo>
                    <a:lnTo>
                      <a:pt x="111" y="148"/>
                    </a:lnTo>
                    <a:lnTo>
                      <a:pt x="115" y="146"/>
                    </a:lnTo>
                    <a:lnTo>
                      <a:pt x="112" y="130"/>
                    </a:lnTo>
                    <a:lnTo>
                      <a:pt x="103" y="109"/>
                    </a:lnTo>
                    <a:lnTo>
                      <a:pt x="89" y="86"/>
                    </a:lnTo>
                    <a:lnTo>
                      <a:pt x="73" y="62"/>
                    </a:lnTo>
                    <a:lnTo>
                      <a:pt x="54" y="39"/>
                    </a:lnTo>
                    <a:lnTo>
                      <a:pt x="37" y="20"/>
                    </a:lnTo>
                    <a:lnTo>
                      <a:pt x="21" y="7"/>
                    </a:lnTo>
                    <a:lnTo>
                      <a:pt x="8" y="0"/>
                    </a:lnTo>
                    <a:lnTo>
                      <a:pt x="6" y="9"/>
                    </a:lnTo>
                    <a:lnTo>
                      <a:pt x="5" y="16"/>
                    </a:lnTo>
                    <a:lnTo>
                      <a:pt x="2" y="23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443"/>
              <p:cNvSpPr/>
              <p:nvPr/>
            </p:nvSpPr>
            <p:spPr>
              <a:xfrm>
                <a:off x="3462480" y="6273720"/>
                <a:ext cx="6120" cy="25200"/>
              </a:xfrm>
              <a:custGeom>
                <a:avLst/>
                <a:gdLst/>
                <a:ahLst/>
                <a:rect l="l" t="t" r="r" b="b"/>
                <a:pathLst>
                  <a:path w="8" h="64">
                    <a:moveTo>
                      <a:pt x="8" y="64"/>
                    </a:moveTo>
                    <a:lnTo>
                      <a:pt x="8" y="0"/>
                    </a:lnTo>
                    <a:lnTo>
                      <a:pt x="5" y="5"/>
                    </a:lnTo>
                    <a:lnTo>
                      <a:pt x="2" y="11"/>
                    </a:lnTo>
                    <a:lnTo>
                      <a:pt x="1" y="19"/>
                    </a:lnTo>
                    <a:lnTo>
                      <a:pt x="0" y="30"/>
                    </a:lnTo>
                    <a:lnTo>
                      <a:pt x="2" y="40"/>
                    </a:lnTo>
                    <a:lnTo>
                      <a:pt x="4" y="49"/>
                    </a:lnTo>
                    <a:lnTo>
                      <a:pt x="6" y="57"/>
                    </a:lnTo>
                    <a:lnTo>
                      <a:pt x="8" y="64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444"/>
              <p:cNvSpPr/>
              <p:nvPr/>
            </p:nvSpPr>
            <p:spPr>
              <a:xfrm>
                <a:off x="3157560" y="6175080"/>
                <a:ext cx="311040" cy="138240"/>
              </a:xfrm>
              <a:custGeom>
                <a:avLst/>
                <a:gdLst/>
                <a:ahLst/>
                <a:rect l="l" t="t" r="r" b="b"/>
                <a:pathLst>
                  <a:path w="391" h="348">
                    <a:moveTo>
                      <a:pt x="391" y="348"/>
                    </a:moveTo>
                    <a:lnTo>
                      <a:pt x="391" y="344"/>
                    </a:lnTo>
                    <a:lnTo>
                      <a:pt x="380" y="329"/>
                    </a:lnTo>
                    <a:lnTo>
                      <a:pt x="372" y="313"/>
                    </a:lnTo>
                    <a:lnTo>
                      <a:pt x="365" y="297"/>
                    </a:lnTo>
                    <a:lnTo>
                      <a:pt x="359" y="279"/>
                    </a:lnTo>
                    <a:lnTo>
                      <a:pt x="363" y="269"/>
                    </a:lnTo>
                    <a:lnTo>
                      <a:pt x="369" y="251"/>
                    </a:lnTo>
                    <a:lnTo>
                      <a:pt x="376" y="230"/>
                    </a:lnTo>
                    <a:lnTo>
                      <a:pt x="381" y="216"/>
                    </a:lnTo>
                    <a:lnTo>
                      <a:pt x="370" y="210"/>
                    </a:lnTo>
                    <a:lnTo>
                      <a:pt x="360" y="204"/>
                    </a:lnTo>
                    <a:lnTo>
                      <a:pt x="350" y="197"/>
                    </a:lnTo>
                    <a:lnTo>
                      <a:pt x="339" y="191"/>
                    </a:lnTo>
                    <a:lnTo>
                      <a:pt x="329" y="186"/>
                    </a:lnTo>
                    <a:lnTo>
                      <a:pt x="320" y="180"/>
                    </a:lnTo>
                    <a:lnTo>
                      <a:pt x="311" y="173"/>
                    </a:lnTo>
                    <a:lnTo>
                      <a:pt x="302" y="166"/>
                    </a:lnTo>
                    <a:lnTo>
                      <a:pt x="297" y="161"/>
                    </a:lnTo>
                    <a:lnTo>
                      <a:pt x="279" y="152"/>
                    </a:lnTo>
                    <a:lnTo>
                      <a:pt x="255" y="140"/>
                    </a:lnTo>
                    <a:lnTo>
                      <a:pt x="226" y="126"/>
                    </a:lnTo>
                    <a:lnTo>
                      <a:pt x="197" y="114"/>
                    </a:lnTo>
                    <a:lnTo>
                      <a:pt x="170" y="101"/>
                    </a:lnTo>
                    <a:lnTo>
                      <a:pt x="149" y="92"/>
                    </a:lnTo>
                    <a:lnTo>
                      <a:pt x="138" y="87"/>
                    </a:lnTo>
                    <a:lnTo>
                      <a:pt x="121" y="75"/>
                    </a:lnTo>
                    <a:lnTo>
                      <a:pt x="103" y="64"/>
                    </a:lnTo>
                    <a:lnTo>
                      <a:pt x="87" y="52"/>
                    </a:lnTo>
                    <a:lnTo>
                      <a:pt x="70" y="42"/>
                    </a:lnTo>
                    <a:lnTo>
                      <a:pt x="53" y="31"/>
                    </a:lnTo>
                    <a:lnTo>
                      <a:pt x="36" y="21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17" y="24"/>
                    </a:lnTo>
                    <a:lnTo>
                      <a:pt x="34" y="48"/>
                    </a:lnTo>
                    <a:lnTo>
                      <a:pt x="54" y="76"/>
                    </a:lnTo>
                    <a:lnTo>
                      <a:pt x="74" y="103"/>
                    </a:lnTo>
                    <a:lnTo>
                      <a:pt x="92" y="128"/>
                    </a:lnTo>
                    <a:lnTo>
                      <a:pt x="104" y="146"/>
                    </a:lnTo>
                    <a:lnTo>
                      <a:pt x="109" y="154"/>
                    </a:lnTo>
                    <a:lnTo>
                      <a:pt x="118" y="168"/>
                    </a:lnTo>
                    <a:lnTo>
                      <a:pt x="124" y="179"/>
                    </a:lnTo>
                    <a:lnTo>
                      <a:pt x="131" y="189"/>
                    </a:lnTo>
                    <a:lnTo>
                      <a:pt x="138" y="207"/>
                    </a:lnTo>
                    <a:lnTo>
                      <a:pt x="150" y="220"/>
                    </a:lnTo>
                    <a:lnTo>
                      <a:pt x="163" y="230"/>
                    </a:lnTo>
                    <a:lnTo>
                      <a:pt x="175" y="237"/>
                    </a:lnTo>
                    <a:lnTo>
                      <a:pt x="186" y="243"/>
                    </a:lnTo>
                    <a:lnTo>
                      <a:pt x="197" y="250"/>
                    </a:lnTo>
                    <a:lnTo>
                      <a:pt x="209" y="256"/>
                    </a:lnTo>
                    <a:lnTo>
                      <a:pt x="222" y="264"/>
                    </a:lnTo>
                    <a:lnTo>
                      <a:pt x="237" y="276"/>
                    </a:lnTo>
                    <a:lnTo>
                      <a:pt x="245" y="281"/>
                    </a:lnTo>
                    <a:lnTo>
                      <a:pt x="254" y="285"/>
                    </a:lnTo>
                    <a:lnTo>
                      <a:pt x="262" y="289"/>
                    </a:lnTo>
                    <a:lnTo>
                      <a:pt x="271" y="292"/>
                    </a:lnTo>
                    <a:lnTo>
                      <a:pt x="279" y="297"/>
                    </a:lnTo>
                    <a:lnTo>
                      <a:pt x="289" y="300"/>
                    </a:lnTo>
                    <a:lnTo>
                      <a:pt x="297" y="304"/>
                    </a:lnTo>
                    <a:lnTo>
                      <a:pt x="305" y="309"/>
                    </a:lnTo>
                    <a:lnTo>
                      <a:pt x="315" y="314"/>
                    </a:lnTo>
                    <a:lnTo>
                      <a:pt x="322" y="318"/>
                    </a:lnTo>
                    <a:lnTo>
                      <a:pt x="329" y="322"/>
                    </a:lnTo>
                    <a:lnTo>
                      <a:pt x="338" y="325"/>
                    </a:lnTo>
                    <a:lnTo>
                      <a:pt x="344" y="326"/>
                    </a:lnTo>
                    <a:lnTo>
                      <a:pt x="350" y="328"/>
                    </a:lnTo>
                    <a:lnTo>
                      <a:pt x="357" y="331"/>
                    </a:lnTo>
                    <a:lnTo>
                      <a:pt x="363" y="334"/>
                    </a:lnTo>
                    <a:lnTo>
                      <a:pt x="370" y="338"/>
                    </a:lnTo>
                    <a:lnTo>
                      <a:pt x="377" y="343"/>
                    </a:lnTo>
                    <a:lnTo>
                      <a:pt x="384" y="346"/>
                    </a:lnTo>
                    <a:lnTo>
                      <a:pt x="391" y="348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445"/>
              <p:cNvSpPr/>
              <p:nvPr/>
            </p:nvSpPr>
            <p:spPr>
              <a:xfrm>
                <a:off x="1886040" y="6232320"/>
                <a:ext cx="112680" cy="87480"/>
              </a:xfrm>
              <a:custGeom>
                <a:avLst/>
                <a:gdLst/>
                <a:ahLst/>
                <a:rect l="l" t="t" r="r" b="b"/>
                <a:pathLst>
                  <a:path w="142" h="221">
                    <a:moveTo>
                      <a:pt x="38" y="183"/>
                    </a:moveTo>
                    <a:lnTo>
                      <a:pt x="25" y="168"/>
                    </a:lnTo>
                    <a:lnTo>
                      <a:pt x="13" y="146"/>
                    </a:lnTo>
                    <a:lnTo>
                      <a:pt x="5" y="121"/>
                    </a:lnTo>
                    <a:lnTo>
                      <a:pt x="1" y="94"/>
                    </a:lnTo>
                    <a:lnTo>
                      <a:pt x="0" y="67"/>
                    </a:lnTo>
                    <a:lnTo>
                      <a:pt x="3" y="42"/>
                    </a:lnTo>
                    <a:lnTo>
                      <a:pt x="12" y="22"/>
                    </a:lnTo>
                    <a:lnTo>
                      <a:pt x="26" y="8"/>
                    </a:lnTo>
                    <a:lnTo>
                      <a:pt x="60" y="0"/>
                    </a:lnTo>
                    <a:lnTo>
                      <a:pt x="87" y="4"/>
                    </a:lnTo>
                    <a:lnTo>
                      <a:pt x="109" y="20"/>
                    </a:lnTo>
                    <a:lnTo>
                      <a:pt x="125" y="43"/>
                    </a:lnTo>
                    <a:lnTo>
                      <a:pt x="136" y="72"/>
                    </a:lnTo>
                    <a:lnTo>
                      <a:pt x="141" y="102"/>
                    </a:lnTo>
                    <a:lnTo>
                      <a:pt x="142" y="133"/>
                    </a:lnTo>
                    <a:lnTo>
                      <a:pt x="138" y="160"/>
                    </a:lnTo>
                    <a:lnTo>
                      <a:pt x="129" y="181"/>
                    </a:lnTo>
                    <a:lnTo>
                      <a:pt x="121" y="198"/>
                    </a:lnTo>
                    <a:lnTo>
                      <a:pt x="111" y="210"/>
                    </a:lnTo>
                    <a:lnTo>
                      <a:pt x="101" y="218"/>
                    </a:lnTo>
                    <a:lnTo>
                      <a:pt x="88" y="221"/>
                    </a:lnTo>
                    <a:lnTo>
                      <a:pt x="74" y="215"/>
                    </a:lnTo>
                    <a:lnTo>
                      <a:pt x="58" y="204"/>
                    </a:lnTo>
                    <a:lnTo>
                      <a:pt x="38" y="183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46"/>
              <p:cNvSpPr/>
              <p:nvPr/>
            </p:nvSpPr>
            <p:spPr>
              <a:xfrm>
                <a:off x="2838600" y="6137280"/>
                <a:ext cx="112680" cy="180720"/>
              </a:xfrm>
              <a:custGeom>
                <a:avLst/>
                <a:gdLst/>
                <a:ahLst/>
                <a:rect l="l" t="t" r="r" b="b"/>
                <a:pathLst>
                  <a:path w="140" h="458">
                    <a:moveTo>
                      <a:pt x="136" y="458"/>
                    </a:moveTo>
                    <a:lnTo>
                      <a:pt x="129" y="432"/>
                    </a:lnTo>
                    <a:lnTo>
                      <a:pt x="123" y="411"/>
                    </a:lnTo>
                    <a:lnTo>
                      <a:pt x="118" y="395"/>
                    </a:lnTo>
                    <a:lnTo>
                      <a:pt x="115" y="381"/>
                    </a:lnTo>
                    <a:lnTo>
                      <a:pt x="111" y="368"/>
                    </a:lnTo>
                    <a:lnTo>
                      <a:pt x="109" y="354"/>
                    </a:lnTo>
                    <a:lnTo>
                      <a:pt x="106" y="337"/>
                    </a:lnTo>
                    <a:lnTo>
                      <a:pt x="101" y="316"/>
                    </a:lnTo>
                    <a:lnTo>
                      <a:pt x="96" y="307"/>
                    </a:lnTo>
                    <a:lnTo>
                      <a:pt x="93" y="299"/>
                    </a:lnTo>
                    <a:lnTo>
                      <a:pt x="88" y="290"/>
                    </a:lnTo>
                    <a:lnTo>
                      <a:pt x="84" y="282"/>
                    </a:lnTo>
                    <a:lnTo>
                      <a:pt x="79" y="274"/>
                    </a:lnTo>
                    <a:lnTo>
                      <a:pt x="76" y="264"/>
                    </a:lnTo>
                    <a:lnTo>
                      <a:pt x="71" y="255"/>
                    </a:lnTo>
                    <a:lnTo>
                      <a:pt x="66" y="244"/>
                    </a:lnTo>
                    <a:lnTo>
                      <a:pt x="61" y="218"/>
                    </a:lnTo>
                    <a:lnTo>
                      <a:pt x="55" y="192"/>
                    </a:lnTo>
                    <a:lnTo>
                      <a:pt x="49" y="165"/>
                    </a:lnTo>
                    <a:lnTo>
                      <a:pt x="43" y="138"/>
                    </a:lnTo>
                    <a:lnTo>
                      <a:pt x="41" y="133"/>
                    </a:lnTo>
                    <a:lnTo>
                      <a:pt x="38" y="127"/>
                    </a:lnTo>
                    <a:lnTo>
                      <a:pt x="34" y="122"/>
                    </a:lnTo>
                    <a:lnTo>
                      <a:pt x="31" y="117"/>
                    </a:lnTo>
                    <a:lnTo>
                      <a:pt x="24" y="88"/>
                    </a:lnTo>
                    <a:lnTo>
                      <a:pt x="16" y="58"/>
                    </a:lnTo>
                    <a:lnTo>
                      <a:pt x="8" y="29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5" y="7"/>
                    </a:lnTo>
                    <a:lnTo>
                      <a:pt x="8" y="17"/>
                    </a:lnTo>
                    <a:lnTo>
                      <a:pt x="12" y="30"/>
                    </a:lnTo>
                    <a:lnTo>
                      <a:pt x="19" y="52"/>
                    </a:lnTo>
                    <a:lnTo>
                      <a:pt x="28" y="81"/>
                    </a:lnTo>
                    <a:lnTo>
                      <a:pt x="40" y="120"/>
                    </a:lnTo>
                    <a:lnTo>
                      <a:pt x="42" y="125"/>
                    </a:lnTo>
                    <a:lnTo>
                      <a:pt x="46" y="129"/>
                    </a:lnTo>
                    <a:lnTo>
                      <a:pt x="49" y="135"/>
                    </a:lnTo>
                    <a:lnTo>
                      <a:pt x="52" y="141"/>
                    </a:lnTo>
                    <a:lnTo>
                      <a:pt x="56" y="164"/>
                    </a:lnTo>
                    <a:lnTo>
                      <a:pt x="61" y="186"/>
                    </a:lnTo>
                    <a:lnTo>
                      <a:pt x="65" y="209"/>
                    </a:lnTo>
                    <a:lnTo>
                      <a:pt x="70" y="232"/>
                    </a:lnTo>
                    <a:lnTo>
                      <a:pt x="73" y="240"/>
                    </a:lnTo>
                    <a:lnTo>
                      <a:pt x="76" y="247"/>
                    </a:lnTo>
                    <a:lnTo>
                      <a:pt x="78" y="256"/>
                    </a:lnTo>
                    <a:lnTo>
                      <a:pt x="81" y="264"/>
                    </a:lnTo>
                    <a:lnTo>
                      <a:pt x="96" y="288"/>
                    </a:lnTo>
                    <a:lnTo>
                      <a:pt x="106" y="303"/>
                    </a:lnTo>
                    <a:lnTo>
                      <a:pt x="110" y="312"/>
                    </a:lnTo>
                    <a:lnTo>
                      <a:pt x="114" y="323"/>
                    </a:lnTo>
                    <a:lnTo>
                      <a:pt x="116" y="340"/>
                    </a:lnTo>
                    <a:lnTo>
                      <a:pt x="119" y="358"/>
                    </a:lnTo>
                    <a:lnTo>
                      <a:pt x="123" y="376"/>
                    </a:lnTo>
                    <a:lnTo>
                      <a:pt x="125" y="395"/>
                    </a:lnTo>
                    <a:lnTo>
                      <a:pt x="129" y="400"/>
                    </a:lnTo>
                    <a:lnTo>
                      <a:pt x="131" y="406"/>
                    </a:lnTo>
                    <a:lnTo>
                      <a:pt x="134" y="418"/>
                    </a:lnTo>
                    <a:lnTo>
                      <a:pt x="140" y="438"/>
                    </a:lnTo>
                    <a:lnTo>
                      <a:pt x="139" y="450"/>
                    </a:lnTo>
                    <a:lnTo>
                      <a:pt x="138" y="455"/>
                    </a:lnTo>
                    <a:lnTo>
                      <a:pt x="137" y="458"/>
                    </a:lnTo>
                    <a:lnTo>
                      <a:pt x="136" y="458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447"/>
              <p:cNvSpPr/>
              <p:nvPr/>
            </p:nvSpPr>
            <p:spPr>
              <a:xfrm>
                <a:off x="2840040" y="6018120"/>
                <a:ext cx="449280" cy="280800"/>
              </a:xfrm>
              <a:custGeom>
                <a:avLst/>
                <a:gdLst/>
                <a:ahLst/>
                <a:rect l="l" t="t" r="r" b="b"/>
                <a:pathLst>
                  <a:path w="566" h="707">
                    <a:moveTo>
                      <a:pt x="414" y="707"/>
                    </a:moveTo>
                    <a:lnTo>
                      <a:pt x="405" y="696"/>
                    </a:lnTo>
                    <a:lnTo>
                      <a:pt x="387" y="672"/>
                    </a:lnTo>
                    <a:lnTo>
                      <a:pt x="361" y="640"/>
                    </a:lnTo>
                    <a:lnTo>
                      <a:pt x="333" y="605"/>
                    </a:lnTo>
                    <a:lnTo>
                      <a:pt x="304" y="569"/>
                    </a:lnTo>
                    <a:lnTo>
                      <a:pt x="279" y="538"/>
                    </a:lnTo>
                    <a:lnTo>
                      <a:pt x="258" y="516"/>
                    </a:lnTo>
                    <a:lnTo>
                      <a:pt x="247" y="506"/>
                    </a:lnTo>
                    <a:lnTo>
                      <a:pt x="239" y="491"/>
                    </a:lnTo>
                    <a:lnTo>
                      <a:pt x="232" y="476"/>
                    </a:lnTo>
                    <a:lnTo>
                      <a:pt x="228" y="466"/>
                    </a:lnTo>
                    <a:lnTo>
                      <a:pt x="224" y="460"/>
                    </a:lnTo>
                    <a:lnTo>
                      <a:pt x="221" y="451"/>
                    </a:lnTo>
                    <a:lnTo>
                      <a:pt x="216" y="442"/>
                    </a:lnTo>
                    <a:lnTo>
                      <a:pt x="212" y="433"/>
                    </a:lnTo>
                    <a:lnTo>
                      <a:pt x="206" y="422"/>
                    </a:lnTo>
                    <a:lnTo>
                      <a:pt x="200" y="412"/>
                    </a:lnTo>
                    <a:lnTo>
                      <a:pt x="194" y="401"/>
                    </a:lnTo>
                    <a:lnTo>
                      <a:pt x="190" y="392"/>
                    </a:lnTo>
                    <a:lnTo>
                      <a:pt x="186" y="384"/>
                    </a:lnTo>
                    <a:lnTo>
                      <a:pt x="176" y="359"/>
                    </a:lnTo>
                    <a:lnTo>
                      <a:pt x="165" y="335"/>
                    </a:lnTo>
                    <a:lnTo>
                      <a:pt x="153" y="312"/>
                    </a:lnTo>
                    <a:lnTo>
                      <a:pt x="143" y="291"/>
                    </a:lnTo>
                    <a:lnTo>
                      <a:pt x="131" y="269"/>
                    </a:lnTo>
                    <a:lnTo>
                      <a:pt x="120" y="247"/>
                    </a:lnTo>
                    <a:lnTo>
                      <a:pt x="108" y="225"/>
                    </a:lnTo>
                    <a:lnTo>
                      <a:pt x="97" y="204"/>
                    </a:lnTo>
                    <a:lnTo>
                      <a:pt x="85" y="183"/>
                    </a:lnTo>
                    <a:lnTo>
                      <a:pt x="74" y="162"/>
                    </a:lnTo>
                    <a:lnTo>
                      <a:pt x="61" y="140"/>
                    </a:lnTo>
                    <a:lnTo>
                      <a:pt x="49" y="119"/>
                    </a:lnTo>
                    <a:lnTo>
                      <a:pt x="37" y="97"/>
                    </a:lnTo>
                    <a:lnTo>
                      <a:pt x="25" y="75"/>
                    </a:lnTo>
                    <a:lnTo>
                      <a:pt x="13" y="53"/>
                    </a:lnTo>
                    <a:lnTo>
                      <a:pt x="0" y="30"/>
                    </a:lnTo>
                    <a:lnTo>
                      <a:pt x="8" y="21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7" y="9"/>
                    </a:lnTo>
                    <a:lnTo>
                      <a:pt x="24" y="6"/>
                    </a:lnTo>
                    <a:lnTo>
                      <a:pt x="36" y="1"/>
                    </a:lnTo>
                    <a:lnTo>
                      <a:pt x="39" y="1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1" y="0"/>
                    </a:lnTo>
                    <a:lnTo>
                      <a:pt x="59" y="3"/>
                    </a:lnTo>
                    <a:lnTo>
                      <a:pt x="64" y="7"/>
                    </a:lnTo>
                    <a:lnTo>
                      <a:pt x="69" y="11"/>
                    </a:lnTo>
                    <a:lnTo>
                      <a:pt x="71" y="15"/>
                    </a:lnTo>
                    <a:lnTo>
                      <a:pt x="74" y="19"/>
                    </a:lnTo>
                    <a:lnTo>
                      <a:pt x="77" y="23"/>
                    </a:lnTo>
                    <a:lnTo>
                      <a:pt x="82" y="29"/>
                    </a:lnTo>
                    <a:lnTo>
                      <a:pt x="89" y="36"/>
                    </a:lnTo>
                    <a:lnTo>
                      <a:pt x="105" y="69"/>
                    </a:lnTo>
                    <a:lnTo>
                      <a:pt x="124" y="100"/>
                    </a:lnTo>
                    <a:lnTo>
                      <a:pt x="148" y="130"/>
                    </a:lnTo>
                    <a:lnTo>
                      <a:pt x="174" y="157"/>
                    </a:lnTo>
                    <a:lnTo>
                      <a:pt x="200" y="182"/>
                    </a:lnTo>
                    <a:lnTo>
                      <a:pt x="223" y="205"/>
                    </a:lnTo>
                    <a:lnTo>
                      <a:pt x="244" y="227"/>
                    </a:lnTo>
                    <a:lnTo>
                      <a:pt x="259" y="247"/>
                    </a:lnTo>
                    <a:lnTo>
                      <a:pt x="273" y="264"/>
                    </a:lnTo>
                    <a:lnTo>
                      <a:pt x="288" y="281"/>
                    </a:lnTo>
                    <a:lnTo>
                      <a:pt x="300" y="298"/>
                    </a:lnTo>
                    <a:lnTo>
                      <a:pt x="313" y="314"/>
                    </a:lnTo>
                    <a:lnTo>
                      <a:pt x="326" y="329"/>
                    </a:lnTo>
                    <a:lnTo>
                      <a:pt x="338" y="345"/>
                    </a:lnTo>
                    <a:lnTo>
                      <a:pt x="351" y="361"/>
                    </a:lnTo>
                    <a:lnTo>
                      <a:pt x="363" y="376"/>
                    </a:lnTo>
                    <a:lnTo>
                      <a:pt x="375" y="392"/>
                    </a:lnTo>
                    <a:lnTo>
                      <a:pt x="388" y="408"/>
                    </a:lnTo>
                    <a:lnTo>
                      <a:pt x="399" y="424"/>
                    </a:lnTo>
                    <a:lnTo>
                      <a:pt x="412" y="442"/>
                    </a:lnTo>
                    <a:lnTo>
                      <a:pt x="425" y="460"/>
                    </a:lnTo>
                    <a:lnTo>
                      <a:pt x="439" y="479"/>
                    </a:lnTo>
                    <a:lnTo>
                      <a:pt x="452" y="497"/>
                    </a:lnTo>
                    <a:lnTo>
                      <a:pt x="466" y="518"/>
                    </a:lnTo>
                    <a:lnTo>
                      <a:pt x="477" y="534"/>
                    </a:lnTo>
                    <a:lnTo>
                      <a:pt x="489" y="554"/>
                    </a:lnTo>
                    <a:lnTo>
                      <a:pt x="505" y="578"/>
                    </a:lnTo>
                    <a:lnTo>
                      <a:pt x="522" y="602"/>
                    </a:lnTo>
                    <a:lnTo>
                      <a:pt x="538" y="626"/>
                    </a:lnTo>
                    <a:lnTo>
                      <a:pt x="550" y="648"/>
                    </a:lnTo>
                    <a:lnTo>
                      <a:pt x="561" y="667"/>
                    </a:lnTo>
                    <a:lnTo>
                      <a:pt x="566" y="680"/>
                    </a:lnTo>
                    <a:lnTo>
                      <a:pt x="561" y="680"/>
                    </a:lnTo>
                    <a:lnTo>
                      <a:pt x="555" y="680"/>
                    </a:lnTo>
                    <a:lnTo>
                      <a:pt x="549" y="680"/>
                    </a:lnTo>
                    <a:lnTo>
                      <a:pt x="543" y="680"/>
                    </a:lnTo>
                    <a:lnTo>
                      <a:pt x="538" y="680"/>
                    </a:lnTo>
                    <a:lnTo>
                      <a:pt x="532" y="680"/>
                    </a:lnTo>
                    <a:lnTo>
                      <a:pt x="526" y="680"/>
                    </a:lnTo>
                    <a:lnTo>
                      <a:pt x="520" y="680"/>
                    </a:lnTo>
                    <a:lnTo>
                      <a:pt x="500" y="685"/>
                    </a:lnTo>
                    <a:lnTo>
                      <a:pt x="481" y="690"/>
                    </a:lnTo>
                    <a:lnTo>
                      <a:pt x="465" y="694"/>
                    </a:lnTo>
                    <a:lnTo>
                      <a:pt x="452" y="698"/>
                    </a:lnTo>
                    <a:lnTo>
                      <a:pt x="441" y="701"/>
                    </a:lnTo>
                    <a:lnTo>
                      <a:pt x="432" y="703"/>
                    </a:lnTo>
                    <a:lnTo>
                      <a:pt x="422" y="706"/>
                    </a:lnTo>
                    <a:lnTo>
                      <a:pt x="414" y="707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448"/>
              <p:cNvSpPr/>
              <p:nvPr/>
            </p:nvSpPr>
            <p:spPr>
              <a:xfrm>
                <a:off x="1951200" y="6043320"/>
                <a:ext cx="525240" cy="250920"/>
              </a:xfrm>
              <a:custGeom>
                <a:avLst/>
                <a:gdLst/>
                <a:ahLst/>
                <a:rect l="l" t="t" r="r" b="b"/>
                <a:pathLst>
                  <a:path w="664" h="631">
                    <a:moveTo>
                      <a:pt x="0" y="472"/>
                    </a:moveTo>
                    <a:lnTo>
                      <a:pt x="6" y="467"/>
                    </a:lnTo>
                    <a:lnTo>
                      <a:pt x="14" y="460"/>
                    </a:lnTo>
                    <a:lnTo>
                      <a:pt x="25" y="451"/>
                    </a:lnTo>
                    <a:lnTo>
                      <a:pt x="38" y="441"/>
                    </a:lnTo>
                    <a:lnTo>
                      <a:pt x="52" y="428"/>
                    </a:lnTo>
                    <a:lnTo>
                      <a:pt x="68" y="416"/>
                    </a:lnTo>
                    <a:lnTo>
                      <a:pt x="84" y="402"/>
                    </a:lnTo>
                    <a:lnTo>
                      <a:pt x="102" y="387"/>
                    </a:lnTo>
                    <a:lnTo>
                      <a:pt x="120" y="374"/>
                    </a:lnTo>
                    <a:lnTo>
                      <a:pt x="137" y="360"/>
                    </a:lnTo>
                    <a:lnTo>
                      <a:pt x="154" y="348"/>
                    </a:lnTo>
                    <a:lnTo>
                      <a:pt x="170" y="336"/>
                    </a:lnTo>
                    <a:lnTo>
                      <a:pt x="185" y="326"/>
                    </a:lnTo>
                    <a:lnTo>
                      <a:pt x="197" y="317"/>
                    </a:lnTo>
                    <a:lnTo>
                      <a:pt x="208" y="311"/>
                    </a:lnTo>
                    <a:lnTo>
                      <a:pt x="217" y="307"/>
                    </a:lnTo>
                    <a:lnTo>
                      <a:pt x="224" y="302"/>
                    </a:lnTo>
                    <a:lnTo>
                      <a:pt x="232" y="298"/>
                    </a:lnTo>
                    <a:lnTo>
                      <a:pt x="239" y="293"/>
                    </a:lnTo>
                    <a:lnTo>
                      <a:pt x="247" y="289"/>
                    </a:lnTo>
                    <a:lnTo>
                      <a:pt x="254" y="285"/>
                    </a:lnTo>
                    <a:lnTo>
                      <a:pt x="261" y="281"/>
                    </a:lnTo>
                    <a:lnTo>
                      <a:pt x="268" y="277"/>
                    </a:lnTo>
                    <a:lnTo>
                      <a:pt x="273" y="271"/>
                    </a:lnTo>
                    <a:lnTo>
                      <a:pt x="297" y="259"/>
                    </a:lnTo>
                    <a:lnTo>
                      <a:pt x="321" y="245"/>
                    </a:lnTo>
                    <a:lnTo>
                      <a:pt x="342" y="233"/>
                    </a:lnTo>
                    <a:lnTo>
                      <a:pt x="363" y="219"/>
                    </a:lnTo>
                    <a:lnTo>
                      <a:pt x="383" y="205"/>
                    </a:lnTo>
                    <a:lnTo>
                      <a:pt x="401" y="191"/>
                    </a:lnTo>
                    <a:lnTo>
                      <a:pt x="420" y="177"/>
                    </a:lnTo>
                    <a:lnTo>
                      <a:pt x="438" y="164"/>
                    </a:lnTo>
                    <a:lnTo>
                      <a:pt x="455" y="149"/>
                    </a:lnTo>
                    <a:lnTo>
                      <a:pt x="473" y="136"/>
                    </a:lnTo>
                    <a:lnTo>
                      <a:pt x="490" y="122"/>
                    </a:lnTo>
                    <a:lnTo>
                      <a:pt x="508" y="110"/>
                    </a:lnTo>
                    <a:lnTo>
                      <a:pt x="527" y="96"/>
                    </a:lnTo>
                    <a:lnTo>
                      <a:pt x="545" y="83"/>
                    </a:lnTo>
                    <a:lnTo>
                      <a:pt x="565" y="71"/>
                    </a:lnTo>
                    <a:lnTo>
                      <a:pt x="585" y="59"/>
                    </a:lnTo>
                    <a:lnTo>
                      <a:pt x="592" y="53"/>
                    </a:lnTo>
                    <a:lnTo>
                      <a:pt x="598" y="48"/>
                    </a:lnTo>
                    <a:lnTo>
                      <a:pt x="605" y="42"/>
                    </a:lnTo>
                    <a:lnTo>
                      <a:pt x="612" y="36"/>
                    </a:lnTo>
                    <a:lnTo>
                      <a:pt x="618" y="31"/>
                    </a:lnTo>
                    <a:lnTo>
                      <a:pt x="625" y="25"/>
                    </a:lnTo>
                    <a:lnTo>
                      <a:pt x="631" y="20"/>
                    </a:lnTo>
                    <a:lnTo>
                      <a:pt x="638" y="13"/>
                    </a:lnTo>
                    <a:lnTo>
                      <a:pt x="643" y="12"/>
                    </a:lnTo>
                    <a:lnTo>
                      <a:pt x="651" y="6"/>
                    </a:lnTo>
                    <a:lnTo>
                      <a:pt x="659" y="1"/>
                    </a:lnTo>
                    <a:lnTo>
                      <a:pt x="664" y="0"/>
                    </a:lnTo>
                    <a:lnTo>
                      <a:pt x="637" y="34"/>
                    </a:lnTo>
                    <a:lnTo>
                      <a:pt x="611" y="68"/>
                    </a:lnTo>
                    <a:lnTo>
                      <a:pt x="583" y="102"/>
                    </a:lnTo>
                    <a:lnTo>
                      <a:pt x="554" y="137"/>
                    </a:lnTo>
                    <a:lnTo>
                      <a:pt x="527" y="171"/>
                    </a:lnTo>
                    <a:lnTo>
                      <a:pt x="498" y="206"/>
                    </a:lnTo>
                    <a:lnTo>
                      <a:pt x="468" y="240"/>
                    </a:lnTo>
                    <a:lnTo>
                      <a:pt x="439" y="275"/>
                    </a:lnTo>
                    <a:lnTo>
                      <a:pt x="410" y="309"/>
                    </a:lnTo>
                    <a:lnTo>
                      <a:pt x="380" y="342"/>
                    </a:lnTo>
                    <a:lnTo>
                      <a:pt x="352" y="377"/>
                    </a:lnTo>
                    <a:lnTo>
                      <a:pt x="323" y="411"/>
                    </a:lnTo>
                    <a:lnTo>
                      <a:pt x="295" y="446"/>
                    </a:lnTo>
                    <a:lnTo>
                      <a:pt x="266" y="479"/>
                    </a:lnTo>
                    <a:lnTo>
                      <a:pt x="239" y="514"/>
                    </a:lnTo>
                    <a:lnTo>
                      <a:pt x="212" y="547"/>
                    </a:lnTo>
                    <a:lnTo>
                      <a:pt x="196" y="556"/>
                    </a:lnTo>
                    <a:lnTo>
                      <a:pt x="180" y="566"/>
                    </a:lnTo>
                    <a:lnTo>
                      <a:pt x="164" y="576"/>
                    </a:lnTo>
                    <a:lnTo>
                      <a:pt x="149" y="587"/>
                    </a:lnTo>
                    <a:lnTo>
                      <a:pt x="133" y="598"/>
                    </a:lnTo>
                    <a:lnTo>
                      <a:pt x="117" y="610"/>
                    </a:lnTo>
                    <a:lnTo>
                      <a:pt x="101" y="620"/>
                    </a:lnTo>
                    <a:lnTo>
                      <a:pt x="84" y="631"/>
                    </a:lnTo>
                    <a:lnTo>
                      <a:pt x="83" y="624"/>
                    </a:lnTo>
                    <a:lnTo>
                      <a:pt x="81" y="608"/>
                    </a:lnTo>
                    <a:lnTo>
                      <a:pt x="76" y="585"/>
                    </a:lnTo>
                    <a:lnTo>
                      <a:pt x="68" y="557"/>
                    </a:lnTo>
                    <a:lnTo>
                      <a:pt x="58" y="528"/>
                    </a:lnTo>
                    <a:lnTo>
                      <a:pt x="44" y="503"/>
                    </a:lnTo>
                    <a:lnTo>
                      <a:pt x="25" y="483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449"/>
              <p:cNvSpPr/>
              <p:nvPr/>
            </p:nvSpPr>
            <p:spPr>
              <a:xfrm>
                <a:off x="3306960" y="6248160"/>
                <a:ext cx="98280" cy="33480"/>
              </a:xfrm>
              <a:custGeom>
                <a:avLst/>
                <a:gdLst/>
                <a:ahLst/>
                <a:rect l="l" t="t" r="r" b="b"/>
                <a:pathLst>
                  <a:path w="125" h="85">
                    <a:moveTo>
                      <a:pt x="110" y="84"/>
                    </a:moveTo>
                    <a:lnTo>
                      <a:pt x="103" y="83"/>
                    </a:lnTo>
                    <a:lnTo>
                      <a:pt x="97" y="81"/>
                    </a:lnTo>
                    <a:lnTo>
                      <a:pt x="89" y="78"/>
                    </a:lnTo>
                    <a:lnTo>
                      <a:pt x="76" y="72"/>
                    </a:lnTo>
                    <a:lnTo>
                      <a:pt x="76" y="71"/>
                    </a:lnTo>
                    <a:lnTo>
                      <a:pt x="76" y="70"/>
                    </a:lnTo>
                    <a:lnTo>
                      <a:pt x="76" y="69"/>
                    </a:lnTo>
                    <a:lnTo>
                      <a:pt x="76" y="67"/>
                    </a:lnTo>
                    <a:lnTo>
                      <a:pt x="68" y="63"/>
                    </a:lnTo>
                    <a:lnTo>
                      <a:pt x="62" y="60"/>
                    </a:lnTo>
                    <a:lnTo>
                      <a:pt x="58" y="58"/>
                    </a:lnTo>
                    <a:lnTo>
                      <a:pt x="52" y="55"/>
                    </a:lnTo>
                    <a:lnTo>
                      <a:pt x="48" y="52"/>
                    </a:lnTo>
                    <a:lnTo>
                      <a:pt x="41" y="49"/>
                    </a:lnTo>
                    <a:lnTo>
                      <a:pt x="34" y="45"/>
                    </a:lnTo>
                    <a:lnTo>
                      <a:pt x="23" y="38"/>
                    </a:lnTo>
                    <a:lnTo>
                      <a:pt x="23" y="36"/>
                    </a:lnTo>
                    <a:lnTo>
                      <a:pt x="22" y="33"/>
                    </a:lnTo>
                    <a:lnTo>
                      <a:pt x="22" y="31"/>
                    </a:lnTo>
                    <a:lnTo>
                      <a:pt x="21" y="29"/>
                    </a:lnTo>
                    <a:lnTo>
                      <a:pt x="16" y="28"/>
                    </a:lnTo>
                    <a:lnTo>
                      <a:pt x="13" y="27"/>
                    </a:lnTo>
                    <a:lnTo>
                      <a:pt x="10" y="27"/>
                    </a:lnTo>
                    <a:lnTo>
                      <a:pt x="5" y="26"/>
                    </a:lnTo>
                    <a:lnTo>
                      <a:pt x="3" y="22"/>
                    </a:lnTo>
                    <a:lnTo>
                      <a:pt x="1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9" y="15"/>
                    </a:lnTo>
                    <a:lnTo>
                      <a:pt x="23" y="20"/>
                    </a:lnTo>
                    <a:lnTo>
                      <a:pt x="28" y="23"/>
                    </a:lnTo>
                    <a:lnTo>
                      <a:pt x="33" y="28"/>
                    </a:lnTo>
                    <a:lnTo>
                      <a:pt x="37" y="32"/>
                    </a:lnTo>
                    <a:lnTo>
                      <a:pt x="49" y="38"/>
                    </a:lnTo>
                    <a:lnTo>
                      <a:pt x="58" y="44"/>
                    </a:lnTo>
                    <a:lnTo>
                      <a:pt x="65" y="48"/>
                    </a:lnTo>
                    <a:lnTo>
                      <a:pt x="71" y="51"/>
                    </a:lnTo>
                    <a:lnTo>
                      <a:pt x="76" y="54"/>
                    </a:lnTo>
                    <a:lnTo>
                      <a:pt x="82" y="58"/>
                    </a:lnTo>
                    <a:lnTo>
                      <a:pt x="89" y="63"/>
                    </a:lnTo>
                    <a:lnTo>
                      <a:pt x="98" y="70"/>
                    </a:lnTo>
                    <a:lnTo>
                      <a:pt x="102" y="70"/>
                    </a:lnTo>
                    <a:lnTo>
                      <a:pt x="105" y="71"/>
                    </a:lnTo>
                    <a:lnTo>
                      <a:pt x="109" y="71"/>
                    </a:lnTo>
                    <a:lnTo>
                      <a:pt x="112" y="72"/>
                    </a:lnTo>
                    <a:lnTo>
                      <a:pt x="112" y="74"/>
                    </a:lnTo>
                    <a:lnTo>
                      <a:pt x="112" y="76"/>
                    </a:lnTo>
                    <a:lnTo>
                      <a:pt x="112" y="78"/>
                    </a:lnTo>
                    <a:lnTo>
                      <a:pt x="112" y="80"/>
                    </a:lnTo>
                    <a:lnTo>
                      <a:pt x="114" y="81"/>
                    </a:lnTo>
                    <a:lnTo>
                      <a:pt x="118" y="81"/>
                    </a:lnTo>
                    <a:lnTo>
                      <a:pt x="121" y="82"/>
                    </a:lnTo>
                    <a:lnTo>
                      <a:pt x="125" y="82"/>
                    </a:lnTo>
                    <a:lnTo>
                      <a:pt x="119" y="84"/>
                    </a:lnTo>
                    <a:lnTo>
                      <a:pt x="115" y="85"/>
                    </a:lnTo>
                    <a:lnTo>
                      <a:pt x="113" y="85"/>
                    </a:lnTo>
                    <a:lnTo>
                      <a:pt x="110" y="84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Freeform 450"/>
              <p:cNvSpPr/>
              <p:nvPr/>
            </p:nvSpPr>
            <p:spPr>
              <a:xfrm>
                <a:off x="2619360" y="6137280"/>
                <a:ext cx="33480" cy="142560"/>
              </a:xfrm>
              <a:custGeom>
                <a:avLst/>
                <a:gdLst/>
                <a:ahLst/>
                <a:rect l="l" t="t" r="r" b="b"/>
                <a:pathLst>
                  <a:path w="43" h="358">
                    <a:moveTo>
                      <a:pt x="27" y="358"/>
                    </a:moveTo>
                    <a:lnTo>
                      <a:pt x="21" y="348"/>
                    </a:lnTo>
                    <a:lnTo>
                      <a:pt x="15" y="336"/>
                    </a:lnTo>
                    <a:lnTo>
                      <a:pt x="10" y="324"/>
                    </a:lnTo>
                    <a:lnTo>
                      <a:pt x="4" y="312"/>
                    </a:lnTo>
                    <a:lnTo>
                      <a:pt x="6" y="311"/>
                    </a:lnTo>
                    <a:lnTo>
                      <a:pt x="8" y="311"/>
                    </a:lnTo>
                    <a:lnTo>
                      <a:pt x="11" y="310"/>
                    </a:lnTo>
                    <a:lnTo>
                      <a:pt x="13" y="310"/>
                    </a:lnTo>
                    <a:lnTo>
                      <a:pt x="11" y="297"/>
                    </a:lnTo>
                    <a:lnTo>
                      <a:pt x="10" y="283"/>
                    </a:lnTo>
                    <a:lnTo>
                      <a:pt x="7" y="269"/>
                    </a:lnTo>
                    <a:lnTo>
                      <a:pt x="5" y="256"/>
                    </a:lnTo>
                    <a:lnTo>
                      <a:pt x="8" y="250"/>
                    </a:lnTo>
                    <a:lnTo>
                      <a:pt x="10" y="245"/>
                    </a:lnTo>
                    <a:lnTo>
                      <a:pt x="11" y="242"/>
                    </a:lnTo>
                    <a:lnTo>
                      <a:pt x="10" y="238"/>
                    </a:lnTo>
                    <a:lnTo>
                      <a:pt x="6" y="240"/>
                    </a:lnTo>
                    <a:lnTo>
                      <a:pt x="4" y="241"/>
                    </a:lnTo>
                    <a:lnTo>
                      <a:pt x="3" y="241"/>
                    </a:lnTo>
                    <a:lnTo>
                      <a:pt x="0" y="240"/>
                    </a:lnTo>
                    <a:lnTo>
                      <a:pt x="3" y="239"/>
                    </a:lnTo>
                    <a:lnTo>
                      <a:pt x="5" y="237"/>
                    </a:lnTo>
                    <a:lnTo>
                      <a:pt x="7" y="236"/>
                    </a:lnTo>
                    <a:lnTo>
                      <a:pt x="10" y="235"/>
                    </a:lnTo>
                    <a:lnTo>
                      <a:pt x="8" y="205"/>
                    </a:lnTo>
                    <a:lnTo>
                      <a:pt x="8" y="181"/>
                    </a:lnTo>
                    <a:lnTo>
                      <a:pt x="11" y="153"/>
                    </a:lnTo>
                    <a:lnTo>
                      <a:pt x="14" y="110"/>
                    </a:lnTo>
                    <a:lnTo>
                      <a:pt x="15" y="104"/>
                    </a:lnTo>
                    <a:lnTo>
                      <a:pt x="18" y="98"/>
                    </a:lnTo>
                    <a:lnTo>
                      <a:pt x="19" y="93"/>
                    </a:lnTo>
                    <a:lnTo>
                      <a:pt x="20" y="88"/>
                    </a:lnTo>
                    <a:lnTo>
                      <a:pt x="19" y="82"/>
                    </a:lnTo>
                    <a:lnTo>
                      <a:pt x="19" y="76"/>
                    </a:lnTo>
                    <a:lnTo>
                      <a:pt x="19" y="70"/>
                    </a:lnTo>
                    <a:lnTo>
                      <a:pt x="18" y="64"/>
                    </a:lnTo>
                    <a:lnTo>
                      <a:pt x="19" y="48"/>
                    </a:lnTo>
                    <a:lnTo>
                      <a:pt x="20" y="32"/>
                    </a:lnTo>
                    <a:lnTo>
                      <a:pt x="21" y="17"/>
                    </a:lnTo>
                    <a:lnTo>
                      <a:pt x="22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38" y="3"/>
                    </a:lnTo>
                    <a:lnTo>
                      <a:pt x="43" y="5"/>
                    </a:lnTo>
                    <a:lnTo>
                      <a:pt x="38" y="66"/>
                    </a:lnTo>
                    <a:lnTo>
                      <a:pt x="35" y="126"/>
                    </a:lnTo>
                    <a:lnTo>
                      <a:pt x="30" y="188"/>
                    </a:lnTo>
                    <a:lnTo>
                      <a:pt x="26" y="249"/>
                    </a:lnTo>
                    <a:lnTo>
                      <a:pt x="26" y="270"/>
                    </a:lnTo>
                    <a:lnTo>
                      <a:pt x="26" y="292"/>
                    </a:lnTo>
                    <a:lnTo>
                      <a:pt x="26" y="314"/>
                    </a:lnTo>
                    <a:lnTo>
                      <a:pt x="25" y="336"/>
                    </a:lnTo>
                    <a:lnTo>
                      <a:pt x="27" y="337"/>
                    </a:lnTo>
                    <a:lnTo>
                      <a:pt x="29" y="337"/>
                    </a:lnTo>
                    <a:lnTo>
                      <a:pt x="31" y="338"/>
                    </a:lnTo>
                    <a:lnTo>
                      <a:pt x="34" y="338"/>
                    </a:lnTo>
                    <a:lnTo>
                      <a:pt x="31" y="344"/>
                    </a:lnTo>
                    <a:lnTo>
                      <a:pt x="30" y="350"/>
                    </a:lnTo>
                    <a:lnTo>
                      <a:pt x="29" y="356"/>
                    </a:lnTo>
                    <a:lnTo>
                      <a:pt x="27" y="358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451"/>
              <p:cNvSpPr/>
              <p:nvPr/>
            </p:nvSpPr>
            <p:spPr>
              <a:xfrm>
                <a:off x="2457360" y="6159240"/>
                <a:ext cx="84240" cy="120600"/>
              </a:xfrm>
              <a:custGeom>
                <a:avLst/>
                <a:gdLst/>
                <a:ahLst/>
                <a:rect l="l" t="t" r="r" b="b"/>
                <a:pathLst>
                  <a:path w="106" h="302">
                    <a:moveTo>
                      <a:pt x="6" y="299"/>
                    </a:moveTo>
                    <a:lnTo>
                      <a:pt x="7" y="298"/>
                    </a:lnTo>
                    <a:lnTo>
                      <a:pt x="7" y="296"/>
                    </a:lnTo>
                    <a:lnTo>
                      <a:pt x="8" y="295"/>
                    </a:lnTo>
                    <a:lnTo>
                      <a:pt x="8" y="294"/>
                    </a:lnTo>
                    <a:lnTo>
                      <a:pt x="4" y="287"/>
                    </a:lnTo>
                    <a:lnTo>
                      <a:pt x="2" y="282"/>
                    </a:lnTo>
                    <a:lnTo>
                      <a:pt x="0" y="278"/>
                    </a:lnTo>
                    <a:lnTo>
                      <a:pt x="0" y="272"/>
                    </a:lnTo>
                    <a:lnTo>
                      <a:pt x="18" y="246"/>
                    </a:lnTo>
                    <a:lnTo>
                      <a:pt x="33" y="216"/>
                    </a:lnTo>
                    <a:lnTo>
                      <a:pt x="46" y="181"/>
                    </a:lnTo>
                    <a:lnTo>
                      <a:pt x="58" y="143"/>
                    </a:lnTo>
                    <a:lnTo>
                      <a:pt x="69" y="106"/>
                    </a:lnTo>
                    <a:lnTo>
                      <a:pt x="78" y="68"/>
                    </a:lnTo>
                    <a:lnTo>
                      <a:pt x="86" y="33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99" y="1"/>
                    </a:lnTo>
                    <a:lnTo>
                      <a:pt x="103" y="1"/>
                    </a:lnTo>
                    <a:lnTo>
                      <a:pt x="106" y="2"/>
                    </a:lnTo>
                    <a:lnTo>
                      <a:pt x="102" y="37"/>
                    </a:lnTo>
                    <a:lnTo>
                      <a:pt x="95" y="70"/>
                    </a:lnTo>
                    <a:lnTo>
                      <a:pt x="87" y="103"/>
                    </a:lnTo>
                    <a:lnTo>
                      <a:pt x="76" y="135"/>
                    </a:lnTo>
                    <a:lnTo>
                      <a:pt x="66" y="167"/>
                    </a:lnTo>
                    <a:lnTo>
                      <a:pt x="54" y="200"/>
                    </a:lnTo>
                    <a:lnTo>
                      <a:pt x="42" y="233"/>
                    </a:lnTo>
                    <a:lnTo>
                      <a:pt x="30" y="267"/>
                    </a:lnTo>
                    <a:lnTo>
                      <a:pt x="29" y="268"/>
                    </a:lnTo>
                    <a:lnTo>
                      <a:pt x="27" y="269"/>
                    </a:lnTo>
                    <a:lnTo>
                      <a:pt x="26" y="271"/>
                    </a:lnTo>
                    <a:lnTo>
                      <a:pt x="23" y="272"/>
                    </a:lnTo>
                    <a:lnTo>
                      <a:pt x="18" y="289"/>
                    </a:lnTo>
                    <a:lnTo>
                      <a:pt x="14" y="297"/>
                    </a:lnTo>
                    <a:lnTo>
                      <a:pt x="11" y="300"/>
                    </a:lnTo>
                    <a:lnTo>
                      <a:pt x="8" y="302"/>
                    </a:lnTo>
                    <a:lnTo>
                      <a:pt x="8" y="301"/>
                    </a:lnTo>
                    <a:lnTo>
                      <a:pt x="7" y="300"/>
                    </a:lnTo>
                    <a:lnTo>
                      <a:pt x="7" y="300"/>
                    </a:lnTo>
                    <a:lnTo>
                      <a:pt x="6" y="299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452"/>
              <p:cNvSpPr/>
              <p:nvPr/>
            </p:nvSpPr>
            <p:spPr>
              <a:xfrm>
                <a:off x="2689200" y="6045120"/>
                <a:ext cx="38160" cy="228600"/>
              </a:xfrm>
              <a:custGeom>
                <a:avLst/>
                <a:gdLst/>
                <a:ahLst/>
                <a:rect l="l" t="t" r="r" b="b"/>
                <a:pathLst>
                  <a:path w="47" h="573">
                    <a:moveTo>
                      <a:pt x="31" y="573"/>
                    </a:moveTo>
                    <a:lnTo>
                      <a:pt x="32" y="566"/>
                    </a:lnTo>
                    <a:lnTo>
                      <a:pt x="32" y="559"/>
                    </a:lnTo>
                    <a:lnTo>
                      <a:pt x="32" y="552"/>
                    </a:lnTo>
                    <a:lnTo>
                      <a:pt x="33" y="544"/>
                    </a:lnTo>
                    <a:lnTo>
                      <a:pt x="31" y="543"/>
                    </a:lnTo>
                    <a:lnTo>
                      <a:pt x="30" y="542"/>
                    </a:lnTo>
                    <a:lnTo>
                      <a:pt x="27" y="542"/>
                    </a:lnTo>
                    <a:lnTo>
                      <a:pt x="25" y="541"/>
                    </a:lnTo>
                    <a:lnTo>
                      <a:pt x="25" y="534"/>
                    </a:lnTo>
                    <a:lnTo>
                      <a:pt x="26" y="528"/>
                    </a:lnTo>
                    <a:lnTo>
                      <a:pt x="27" y="521"/>
                    </a:lnTo>
                    <a:lnTo>
                      <a:pt x="29" y="515"/>
                    </a:lnTo>
                    <a:lnTo>
                      <a:pt x="26" y="502"/>
                    </a:lnTo>
                    <a:lnTo>
                      <a:pt x="24" y="493"/>
                    </a:lnTo>
                    <a:lnTo>
                      <a:pt x="23" y="485"/>
                    </a:lnTo>
                    <a:lnTo>
                      <a:pt x="21" y="474"/>
                    </a:lnTo>
                    <a:lnTo>
                      <a:pt x="22" y="467"/>
                    </a:lnTo>
                    <a:lnTo>
                      <a:pt x="23" y="461"/>
                    </a:lnTo>
                    <a:lnTo>
                      <a:pt x="24" y="454"/>
                    </a:lnTo>
                    <a:lnTo>
                      <a:pt x="25" y="448"/>
                    </a:lnTo>
                    <a:lnTo>
                      <a:pt x="24" y="447"/>
                    </a:lnTo>
                    <a:lnTo>
                      <a:pt x="23" y="447"/>
                    </a:lnTo>
                    <a:lnTo>
                      <a:pt x="22" y="446"/>
                    </a:lnTo>
                    <a:lnTo>
                      <a:pt x="21" y="446"/>
                    </a:lnTo>
                    <a:lnTo>
                      <a:pt x="23" y="431"/>
                    </a:lnTo>
                    <a:lnTo>
                      <a:pt x="24" y="416"/>
                    </a:lnTo>
                    <a:lnTo>
                      <a:pt x="26" y="401"/>
                    </a:lnTo>
                    <a:lnTo>
                      <a:pt x="29" y="387"/>
                    </a:lnTo>
                    <a:lnTo>
                      <a:pt x="26" y="356"/>
                    </a:lnTo>
                    <a:lnTo>
                      <a:pt x="24" y="335"/>
                    </a:lnTo>
                    <a:lnTo>
                      <a:pt x="21" y="313"/>
                    </a:lnTo>
                    <a:lnTo>
                      <a:pt x="14" y="280"/>
                    </a:lnTo>
                    <a:lnTo>
                      <a:pt x="14" y="279"/>
                    </a:lnTo>
                    <a:lnTo>
                      <a:pt x="13" y="277"/>
                    </a:lnTo>
                    <a:lnTo>
                      <a:pt x="11" y="276"/>
                    </a:lnTo>
                    <a:lnTo>
                      <a:pt x="10" y="275"/>
                    </a:lnTo>
                    <a:lnTo>
                      <a:pt x="10" y="256"/>
                    </a:lnTo>
                    <a:lnTo>
                      <a:pt x="8" y="232"/>
                    </a:lnTo>
                    <a:lnTo>
                      <a:pt x="6" y="210"/>
                    </a:lnTo>
                    <a:lnTo>
                      <a:pt x="2" y="200"/>
                    </a:lnTo>
                    <a:lnTo>
                      <a:pt x="2" y="149"/>
                    </a:lnTo>
                    <a:lnTo>
                      <a:pt x="2" y="111"/>
                    </a:lnTo>
                    <a:lnTo>
                      <a:pt x="2" y="74"/>
                    </a:lnTo>
                    <a:lnTo>
                      <a:pt x="0" y="26"/>
                    </a:lnTo>
                    <a:lnTo>
                      <a:pt x="1" y="20"/>
                    </a:lnTo>
                    <a:lnTo>
                      <a:pt x="2" y="13"/>
                    </a:lnTo>
                    <a:lnTo>
                      <a:pt x="3" y="6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7" y="12"/>
                    </a:lnTo>
                    <a:lnTo>
                      <a:pt x="16" y="24"/>
                    </a:lnTo>
                    <a:lnTo>
                      <a:pt x="15" y="36"/>
                    </a:lnTo>
                    <a:lnTo>
                      <a:pt x="14" y="48"/>
                    </a:lnTo>
                    <a:lnTo>
                      <a:pt x="21" y="96"/>
                    </a:lnTo>
                    <a:lnTo>
                      <a:pt x="23" y="145"/>
                    </a:lnTo>
                    <a:lnTo>
                      <a:pt x="24" y="193"/>
                    </a:lnTo>
                    <a:lnTo>
                      <a:pt x="25" y="242"/>
                    </a:lnTo>
                    <a:lnTo>
                      <a:pt x="29" y="263"/>
                    </a:lnTo>
                    <a:lnTo>
                      <a:pt x="33" y="285"/>
                    </a:lnTo>
                    <a:lnTo>
                      <a:pt x="37" y="306"/>
                    </a:lnTo>
                    <a:lnTo>
                      <a:pt x="40" y="328"/>
                    </a:lnTo>
                    <a:lnTo>
                      <a:pt x="41" y="329"/>
                    </a:lnTo>
                    <a:lnTo>
                      <a:pt x="44" y="330"/>
                    </a:lnTo>
                    <a:lnTo>
                      <a:pt x="45" y="331"/>
                    </a:lnTo>
                    <a:lnTo>
                      <a:pt x="47" y="333"/>
                    </a:lnTo>
                    <a:lnTo>
                      <a:pt x="46" y="343"/>
                    </a:lnTo>
                    <a:lnTo>
                      <a:pt x="45" y="358"/>
                    </a:lnTo>
                    <a:lnTo>
                      <a:pt x="42" y="389"/>
                    </a:lnTo>
                    <a:lnTo>
                      <a:pt x="40" y="443"/>
                    </a:lnTo>
                    <a:lnTo>
                      <a:pt x="42" y="487"/>
                    </a:lnTo>
                    <a:lnTo>
                      <a:pt x="45" y="514"/>
                    </a:lnTo>
                    <a:lnTo>
                      <a:pt x="46" y="531"/>
                    </a:lnTo>
                    <a:lnTo>
                      <a:pt x="47" y="544"/>
                    </a:lnTo>
                    <a:lnTo>
                      <a:pt x="39" y="561"/>
                    </a:lnTo>
                    <a:lnTo>
                      <a:pt x="34" y="569"/>
                    </a:lnTo>
                    <a:lnTo>
                      <a:pt x="32" y="573"/>
                    </a:lnTo>
                    <a:lnTo>
                      <a:pt x="31" y="573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453"/>
              <p:cNvSpPr/>
              <p:nvPr/>
            </p:nvSpPr>
            <p:spPr>
              <a:xfrm>
                <a:off x="2048040" y="6151320"/>
                <a:ext cx="223920" cy="93600"/>
              </a:xfrm>
              <a:custGeom>
                <a:avLst/>
                <a:gdLst/>
                <a:ahLst/>
                <a:rect l="l" t="t" r="r" b="b"/>
                <a:pathLst>
                  <a:path w="283" h="239">
                    <a:moveTo>
                      <a:pt x="2" y="239"/>
                    </a:moveTo>
                    <a:lnTo>
                      <a:pt x="2" y="233"/>
                    </a:lnTo>
                    <a:lnTo>
                      <a:pt x="2" y="229"/>
                    </a:lnTo>
                    <a:lnTo>
                      <a:pt x="2" y="224"/>
                    </a:lnTo>
                    <a:lnTo>
                      <a:pt x="0" y="220"/>
                    </a:lnTo>
                    <a:lnTo>
                      <a:pt x="5" y="217"/>
                    </a:lnTo>
                    <a:lnTo>
                      <a:pt x="14" y="210"/>
                    </a:lnTo>
                    <a:lnTo>
                      <a:pt x="28" y="200"/>
                    </a:lnTo>
                    <a:lnTo>
                      <a:pt x="45" y="186"/>
                    </a:lnTo>
                    <a:lnTo>
                      <a:pt x="65" y="171"/>
                    </a:lnTo>
                    <a:lnTo>
                      <a:pt x="87" y="153"/>
                    </a:lnTo>
                    <a:lnTo>
                      <a:pt x="111" y="134"/>
                    </a:lnTo>
                    <a:lnTo>
                      <a:pt x="135" y="115"/>
                    </a:lnTo>
                    <a:lnTo>
                      <a:pt x="159" y="97"/>
                    </a:lnTo>
                    <a:lnTo>
                      <a:pt x="184" y="78"/>
                    </a:lnTo>
                    <a:lnTo>
                      <a:pt x="205" y="60"/>
                    </a:lnTo>
                    <a:lnTo>
                      <a:pt x="225" y="44"/>
                    </a:lnTo>
                    <a:lnTo>
                      <a:pt x="242" y="31"/>
                    </a:lnTo>
                    <a:lnTo>
                      <a:pt x="256" y="20"/>
                    </a:lnTo>
                    <a:lnTo>
                      <a:pt x="265" y="14"/>
                    </a:lnTo>
                    <a:lnTo>
                      <a:pt x="270" y="11"/>
                    </a:lnTo>
                    <a:lnTo>
                      <a:pt x="283" y="0"/>
                    </a:lnTo>
                    <a:lnTo>
                      <a:pt x="278" y="5"/>
                    </a:lnTo>
                    <a:lnTo>
                      <a:pt x="264" y="18"/>
                    </a:lnTo>
                    <a:lnTo>
                      <a:pt x="246" y="36"/>
                    </a:lnTo>
                    <a:lnTo>
                      <a:pt x="226" y="55"/>
                    </a:lnTo>
                    <a:lnTo>
                      <a:pt x="213" y="70"/>
                    </a:lnTo>
                    <a:lnTo>
                      <a:pt x="212" y="77"/>
                    </a:lnTo>
                    <a:lnTo>
                      <a:pt x="227" y="71"/>
                    </a:lnTo>
                    <a:lnTo>
                      <a:pt x="228" y="72"/>
                    </a:lnTo>
                    <a:lnTo>
                      <a:pt x="225" y="78"/>
                    </a:lnTo>
                    <a:lnTo>
                      <a:pt x="218" y="84"/>
                    </a:lnTo>
                    <a:lnTo>
                      <a:pt x="208" y="93"/>
                    </a:lnTo>
                    <a:lnTo>
                      <a:pt x="194" y="104"/>
                    </a:lnTo>
                    <a:lnTo>
                      <a:pt x="179" y="115"/>
                    </a:lnTo>
                    <a:lnTo>
                      <a:pt x="162" y="129"/>
                    </a:lnTo>
                    <a:lnTo>
                      <a:pt x="143" y="141"/>
                    </a:lnTo>
                    <a:lnTo>
                      <a:pt x="125" y="156"/>
                    </a:lnTo>
                    <a:lnTo>
                      <a:pt x="105" y="170"/>
                    </a:lnTo>
                    <a:lnTo>
                      <a:pt x="87" y="182"/>
                    </a:lnTo>
                    <a:lnTo>
                      <a:pt x="70" y="195"/>
                    </a:lnTo>
                    <a:lnTo>
                      <a:pt x="53" y="206"/>
                    </a:lnTo>
                    <a:lnTo>
                      <a:pt x="40" y="216"/>
                    </a:lnTo>
                    <a:lnTo>
                      <a:pt x="28" y="223"/>
                    </a:lnTo>
                    <a:lnTo>
                      <a:pt x="20" y="228"/>
                    </a:lnTo>
                    <a:lnTo>
                      <a:pt x="19" y="231"/>
                    </a:lnTo>
                    <a:lnTo>
                      <a:pt x="18" y="233"/>
                    </a:lnTo>
                    <a:lnTo>
                      <a:pt x="17" y="236"/>
                    </a:lnTo>
                    <a:lnTo>
                      <a:pt x="15" y="239"/>
                    </a:lnTo>
                    <a:lnTo>
                      <a:pt x="12" y="239"/>
                    </a:lnTo>
                    <a:lnTo>
                      <a:pt x="9" y="239"/>
                    </a:lnTo>
                    <a:lnTo>
                      <a:pt x="5" y="239"/>
                    </a:lnTo>
                    <a:lnTo>
                      <a:pt x="2" y="239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454"/>
              <p:cNvSpPr/>
              <p:nvPr/>
            </p:nvSpPr>
            <p:spPr>
              <a:xfrm>
                <a:off x="3063960" y="6153120"/>
                <a:ext cx="92160" cy="88920"/>
              </a:xfrm>
              <a:custGeom>
                <a:avLst/>
                <a:gdLst/>
                <a:ahLst/>
                <a:rect l="l" t="t" r="r" b="b"/>
                <a:pathLst>
                  <a:path w="116" h="224">
                    <a:moveTo>
                      <a:pt x="108" y="224"/>
                    </a:moveTo>
                    <a:lnTo>
                      <a:pt x="108" y="217"/>
                    </a:lnTo>
                    <a:lnTo>
                      <a:pt x="107" y="211"/>
                    </a:lnTo>
                    <a:lnTo>
                      <a:pt x="106" y="204"/>
                    </a:lnTo>
                    <a:lnTo>
                      <a:pt x="105" y="197"/>
                    </a:lnTo>
                    <a:lnTo>
                      <a:pt x="100" y="191"/>
                    </a:lnTo>
                    <a:lnTo>
                      <a:pt x="96" y="184"/>
                    </a:lnTo>
                    <a:lnTo>
                      <a:pt x="92" y="178"/>
                    </a:lnTo>
                    <a:lnTo>
                      <a:pt x="87" y="173"/>
                    </a:lnTo>
                    <a:lnTo>
                      <a:pt x="83" y="167"/>
                    </a:lnTo>
                    <a:lnTo>
                      <a:pt x="78" y="160"/>
                    </a:lnTo>
                    <a:lnTo>
                      <a:pt x="74" y="155"/>
                    </a:lnTo>
                    <a:lnTo>
                      <a:pt x="69" y="149"/>
                    </a:lnTo>
                    <a:lnTo>
                      <a:pt x="63" y="137"/>
                    </a:lnTo>
                    <a:lnTo>
                      <a:pt x="58" y="126"/>
                    </a:lnTo>
                    <a:lnTo>
                      <a:pt x="51" y="114"/>
                    </a:lnTo>
                    <a:lnTo>
                      <a:pt x="45" y="103"/>
                    </a:lnTo>
                    <a:lnTo>
                      <a:pt x="39" y="93"/>
                    </a:lnTo>
                    <a:lnTo>
                      <a:pt x="33" y="81"/>
                    </a:lnTo>
                    <a:lnTo>
                      <a:pt x="28" y="70"/>
                    </a:lnTo>
                    <a:lnTo>
                      <a:pt x="22" y="58"/>
                    </a:lnTo>
                    <a:lnTo>
                      <a:pt x="18" y="44"/>
                    </a:lnTo>
                    <a:lnTo>
                      <a:pt x="15" y="34"/>
                    </a:lnTo>
                    <a:lnTo>
                      <a:pt x="9" y="2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4" y="14"/>
                    </a:lnTo>
                    <a:lnTo>
                      <a:pt x="20" y="28"/>
                    </a:lnTo>
                    <a:lnTo>
                      <a:pt x="26" y="44"/>
                    </a:lnTo>
                    <a:lnTo>
                      <a:pt x="37" y="72"/>
                    </a:lnTo>
                    <a:lnTo>
                      <a:pt x="41" y="80"/>
                    </a:lnTo>
                    <a:lnTo>
                      <a:pt x="46" y="89"/>
                    </a:lnTo>
                    <a:lnTo>
                      <a:pt x="51" y="98"/>
                    </a:lnTo>
                    <a:lnTo>
                      <a:pt x="55" y="107"/>
                    </a:lnTo>
                    <a:lnTo>
                      <a:pt x="60" y="117"/>
                    </a:lnTo>
                    <a:lnTo>
                      <a:pt x="64" y="126"/>
                    </a:lnTo>
                    <a:lnTo>
                      <a:pt x="70" y="134"/>
                    </a:lnTo>
                    <a:lnTo>
                      <a:pt x="75" y="144"/>
                    </a:lnTo>
                    <a:lnTo>
                      <a:pt x="83" y="153"/>
                    </a:lnTo>
                    <a:lnTo>
                      <a:pt x="89" y="161"/>
                    </a:lnTo>
                    <a:lnTo>
                      <a:pt x="93" y="168"/>
                    </a:lnTo>
                    <a:lnTo>
                      <a:pt x="98" y="173"/>
                    </a:lnTo>
                    <a:lnTo>
                      <a:pt x="101" y="179"/>
                    </a:lnTo>
                    <a:lnTo>
                      <a:pt x="105" y="185"/>
                    </a:lnTo>
                    <a:lnTo>
                      <a:pt x="111" y="194"/>
                    </a:lnTo>
                    <a:lnTo>
                      <a:pt x="116" y="204"/>
                    </a:lnTo>
                    <a:lnTo>
                      <a:pt x="114" y="216"/>
                    </a:lnTo>
                    <a:lnTo>
                      <a:pt x="112" y="222"/>
                    </a:lnTo>
                    <a:lnTo>
                      <a:pt x="111" y="224"/>
                    </a:lnTo>
                    <a:lnTo>
                      <a:pt x="108" y="224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Freeform 455"/>
              <p:cNvSpPr/>
              <p:nvPr/>
            </p:nvSpPr>
            <p:spPr>
              <a:xfrm>
                <a:off x="3013200" y="6138720"/>
                <a:ext cx="84240" cy="93600"/>
              </a:xfrm>
              <a:custGeom>
                <a:avLst/>
                <a:gdLst/>
                <a:ahLst/>
                <a:rect l="l" t="t" r="r" b="b"/>
                <a:pathLst>
                  <a:path w="104" h="238">
                    <a:moveTo>
                      <a:pt x="101" y="236"/>
                    </a:moveTo>
                    <a:lnTo>
                      <a:pt x="95" y="221"/>
                    </a:lnTo>
                    <a:lnTo>
                      <a:pt x="91" y="210"/>
                    </a:lnTo>
                    <a:lnTo>
                      <a:pt x="86" y="195"/>
                    </a:lnTo>
                    <a:lnTo>
                      <a:pt x="79" y="171"/>
                    </a:lnTo>
                    <a:lnTo>
                      <a:pt x="68" y="157"/>
                    </a:lnTo>
                    <a:lnTo>
                      <a:pt x="58" y="145"/>
                    </a:lnTo>
                    <a:lnTo>
                      <a:pt x="51" y="137"/>
                    </a:lnTo>
                    <a:lnTo>
                      <a:pt x="47" y="131"/>
                    </a:lnTo>
                    <a:lnTo>
                      <a:pt x="43" y="125"/>
                    </a:lnTo>
                    <a:lnTo>
                      <a:pt x="41" y="121"/>
                    </a:lnTo>
                    <a:lnTo>
                      <a:pt x="40" y="117"/>
                    </a:lnTo>
                    <a:lnTo>
                      <a:pt x="38" y="113"/>
                    </a:lnTo>
                    <a:lnTo>
                      <a:pt x="35" y="100"/>
                    </a:lnTo>
                    <a:lnTo>
                      <a:pt x="32" y="89"/>
                    </a:lnTo>
                    <a:lnTo>
                      <a:pt x="30" y="76"/>
                    </a:lnTo>
                    <a:lnTo>
                      <a:pt x="26" y="65"/>
                    </a:lnTo>
                    <a:lnTo>
                      <a:pt x="19" y="50"/>
                    </a:lnTo>
                    <a:lnTo>
                      <a:pt x="13" y="37"/>
                    </a:lnTo>
                    <a:lnTo>
                      <a:pt x="7" y="22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12" y="15"/>
                    </a:lnTo>
                    <a:lnTo>
                      <a:pt x="18" y="23"/>
                    </a:lnTo>
                    <a:lnTo>
                      <a:pt x="23" y="31"/>
                    </a:lnTo>
                    <a:lnTo>
                      <a:pt x="26" y="41"/>
                    </a:lnTo>
                    <a:lnTo>
                      <a:pt x="31" y="57"/>
                    </a:lnTo>
                    <a:lnTo>
                      <a:pt x="35" y="75"/>
                    </a:lnTo>
                    <a:lnTo>
                      <a:pt x="39" y="92"/>
                    </a:lnTo>
                    <a:lnTo>
                      <a:pt x="43" y="110"/>
                    </a:lnTo>
                    <a:lnTo>
                      <a:pt x="48" y="116"/>
                    </a:lnTo>
                    <a:lnTo>
                      <a:pt x="53" y="121"/>
                    </a:lnTo>
                    <a:lnTo>
                      <a:pt x="56" y="127"/>
                    </a:lnTo>
                    <a:lnTo>
                      <a:pt x="61" y="133"/>
                    </a:lnTo>
                    <a:lnTo>
                      <a:pt x="65" y="138"/>
                    </a:lnTo>
                    <a:lnTo>
                      <a:pt x="70" y="144"/>
                    </a:lnTo>
                    <a:lnTo>
                      <a:pt x="74" y="149"/>
                    </a:lnTo>
                    <a:lnTo>
                      <a:pt x="79" y="156"/>
                    </a:lnTo>
                    <a:lnTo>
                      <a:pt x="94" y="201"/>
                    </a:lnTo>
                    <a:lnTo>
                      <a:pt x="102" y="224"/>
                    </a:lnTo>
                    <a:lnTo>
                      <a:pt x="104" y="234"/>
                    </a:lnTo>
                    <a:lnTo>
                      <a:pt x="103" y="238"/>
                    </a:lnTo>
                    <a:lnTo>
                      <a:pt x="103" y="238"/>
                    </a:lnTo>
                    <a:lnTo>
                      <a:pt x="102" y="237"/>
                    </a:lnTo>
                    <a:lnTo>
                      <a:pt x="102" y="237"/>
                    </a:lnTo>
                    <a:lnTo>
                      <a:pt x="101" y="236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456"/>
              <p:cNvSpPr/>
              <p:nvPr/>
            </p:nvSpPr>
            <p:spPr>
              <a:xfrm>
                <a:off x="2319480" y="6053040"/>
                <a:ext cx="193680" cy="146160"/>
              </a:xfrm>
              <a:custGeom>
                <a:avLst/>
                <a:gdLst/>
                <a:ahLst/>
                <a:rect l="l" t="t" r="r" b="b"/>
                <a:pathLst>
                  <a:path w="246" h="364">
                    <a:moveTo>
                      <a:pt x="6" y="363"/>
                    </a:moveTo>
                    <a:lnTo>
                      <a:pt x="5" y="362"/>
                    </a:lnTo>
                    <a:lnTo>
                      <a:pt x="4" y="361"/>
                    </a:lnTo>
                    <a:lnTo>
                      <a:pt x="2" y="359"/>
                    </a:lnTo>
                    <a:lnTo>
                      <a:pt x="0" y="357"/>
                    </a:lnTo>
                    <a:lnTo>
                      <a:pt x="13" y="338"/>
                    </a:lnTo>
                    <a:lnTo>
                      <a:pt x="26" y="320"/>
                    </a:lnTo>
                    <a:lnTo>
                      <a:pt x="38" y="301"/>
                    </a:lnTo>
                    <a:lnTo>
                      <a:pt x="52" y="282"/>
                    </a:lnTo>
                    <a:lnTo>
                      <a:pt x="65" y="263"/>
                    </a:lnTo>
                    <a:lnTo>
                      <a:pt x="78" y="244"/>
                    </a:lnTo>
                    <a:lnTo>
                      <a:pt x="90" y="225"/>
                    </a:lnTo>
                    <a:lnTo>
                      <a:pt x="104" y="206"/>
                    </a:lnTo>
                    <a:lnTo>
                      <a:pt x="106" y="205"/>
                    </a:lnTo>
                    <a:lnTo>
                      <a:pt x="109" y="203"/>
                    </a:lnTo>
                    <a:lnTo>
                      <a:pt x="111" y="202"/>
                    </a:lnTo>
                    <a:lnTo>
                      <a:pt x="113" y="200"/>
                    </a:lnTo>
                    <a:lnTo>
                      <a:pt x="119" y="191"/>
                    </a:lnTo>
                    <a:lnTo>
                      <a:pt x="125" y="183"/>
                    </a:lnTo>
                    <a:lnTo>
                      <a:pt x="131" y="174"/>
                    </a:lnTo>
                    <a:lnTo>
                      <a:pt x="138" y="164"/>
                    </a:lnTo>
                    <a:lnTo>
                      <a:pt x="146" y="152"/>
                    </a:lnTo>
                    <a:lnTo>
                      <a:pt x="155" y="137"/>
                    </a:lnTo>
                    <a:lnTo>
                      <a:pt x="167" y="117"/>
                    </a:lnTo>
                    <a:lnTo>
                      <a:pt x="184" y="91"/>
                    </a:lnTo>
                    <a:lnTo>
                      <a:pt x="190" y="81"/>
                    </a:lnTo>
                    <a:lnTo>
                      <a:pt x="199" y="71"/>
                    </a:lnTo>
                    <a:lnTo>
                      <a:pt x="205" y="62"/>
                    </a:lnTo>
                    <a:lnTo>
                      <a:pt x="214" y="51"/>
                    </a:lnTo>
                    <a:lnTo>
                      <a:pt x="220" y="39"/>
                    </a:lnTo>
                    <a:lnTo>
                      <a:pt x="227" y="26"/>
                    </a:lnTo>
                    <a:lnTo>
                      <a:pt x="234" y="14"/>
                    </a:lnTo>
                    <a:lnTo>
                      <a:pt x="241" y="0"/>
                    </a:lnTo>
                    <a:lnTo>
                      <a:pt x="242" y="1"/>
                    </a:lnTo>
                    <a:lnTo>
                      <a:pt x="243" y="3"/>
                    </a:lnTo>
                    <a:lnTo>
                      <a:pt x="245" y="4"/>
                    </a:lnTo>
                    <a:lnTo>
                      <a:pt x="246" y="5"/>
                    </a:lnTo>
                    <a:lnTo>
                      <a:pt x="243" y="11"/>
                    </a:lnTo>
                    <a:lnTo>
                      <a:pt x="241" y="17"/>
                    </a:lnTo>
                    <a:lnTo>
                      <a:pt x="239" y="23"/>
                    </a:lnTo>
                    <a:lnTo>
                      <a:pt x="237" y="29"/>
                    </a:lnTo>
                    <a:lnTo>
                      <a:pt x="231" y="38"/>
                    </a:lnTo>
                    <a:lnTo>
                      <a:pt x="226" y="45"/>
                    </a:lnTo>
                    <a:lnTo>
                      <a:pt x="220" y="53"/>
                    </a:lnTo>
                    <a:lnTo>
                      <a:pt x="215" y="61"/>
                    </a:lnTo>
                    <a:lnTo>
                      <a:pt x="210" y="69"/>
                    </a:lnTo>
                    <a:lnTo>
                      <a:pt x="204" y="77"/>
                    </a:lnTo>
                    <a:lnTo>
                      <a:pt x="199" y="85"/>
                    </a:lnTo>
                    <a:lnTo>
                      <a:pt x="193" y="93"/>
                    </a:lnTo>
                    <a:lnTo>
                      <a:pt x="193" y="97"/>
                    </a:lnTo>
                    <a:lnTo>
                      <a:pt x="193" y="100"/>
                    </a:lnTo>
                    <a:lnTo>
                      <a:pt x="193" y="104"/>
                    </a:lnTo>
                    <a:lnTo>
                      <a:pt x="192" y="109"/>
                    </a:lnTo>
                    <a:lnTo>
                      <a:pt x="189" y="110"/>
                    </a:lnTo>
                    <a:lnTo>
                      <a:pt x="186" y="111"/>
                    </a:lnTo>
                    <a:lnTo>
                      <a:pt x="184" y="113"/>
                    </a:lnTo>
                    <a:lnTo>
                      <a:pt x="180" y="114"/>
                    </a:lnTo>
                    <a:lnTo>
                      <a:pt x="172" y="125"/>
                    </a:lnTo>
                    <a:lnTo>
                      <a:pt x="167" y="134"/>
                    </a:lnTo>
                    <a:lnTo>
                      <a:pt x="163" y="142"/>
                    </a:lnTo>
                    <a:lnTo>
                      <a:pt x="157" y="155"/>
                    </a:lnTo>
                    <a:lnTo>
                      <a:pt x="148" y="166"/>
                    </a:lnTo>
                    <a:lnTo>
                      <a:pt x="141" y="175"/>
                    </a:lnTo>
                    <a:lnTo>
                      <a:pt x="134" y="185"/>
                    </a:lnTo>
                    <a:lnTo>
                      <a:pt x="128" y="192"/>
                    </a:lnTo>
                    <a:lnTo>
                      <a:pt x="123" y="200"/>
                    </a:lnTo>
                    <a:lnTo>
                      <a:pt x="118" y="208"/>
                    </a:lnTo>
                    <a:lnTo>
                      <a:pt x="111" y="216"/>
                    </a:lnTo>
                    <a:lnTo>
                      <a:pt x="104" y="225"/>
                    </a:lnTo>
                    <a:lnTo>
                      <a:pt x="104" y="228"/>
                    </a:lnTo>
                    <a:lnTo>
                      <a:pt x="104" y="231"/>
                    </a:lnTo>
                    <a:lnTo>
                      <a:pt x="104" y="234"/>
                    </a:lnTo>
                    <a:lnTo>
                      <a:pt x="103" y="237"/>
                    </a:lnTo>
                    <a:lnTo>
                      <a:pt x="101" y="237"/>
                    </a:lnTo>
                    <a:lnTo>
                      <a:pt x="100" y="238"/>
                    </a:lnTo>
                    <a:lnTo>
                      <a:pt x="97" y="238"/>
                    </a:lnTo>
                    <a:lnTo>
                      <a:pt x="95" y="239"/>
                    </a:lnTo>
                    <a:lnTo>
                      <a:pt x="87" y="252"/>
                    </a:lnTo>
                    <a:lnTo>
                      <a:pt x="78" y="263"/>
                    </a:lnTo>
                    <a:lnTo>
                      <a:pt x="70" y="276"/>
                    </a:lnTo>
                    <a:lnTo>
                      <a:pt x="62" y="288"/>
                    </a:lnTo>
                    <a:lnTo>
                      <a:pt x="52" y="301"/>
                    </a:lnTo>
                    <a:lnTo>
                      <a:pt x="44" y="313"/>
                    </a:lnTo>
                    <a:lnTo>
                      <a:pt x="36" y="327"/>
                    </a:lnTo>
                    <a:lnTo>
                      <a:pt x="28" y="339"/>
                    </a:lnTo>
                    <a:lnTo>
                      <a:pt x="26" y="340"/>
                    </a:lnTo>
                    <a:lnTo>
                      <a:pt x="25" y="342"/>
                    </a:lnTo>
                    <a:lnTo>
                      <a:pt x="22" y="343"/>
                    </a:lnTo>
                    <a:lnTo>
                      <a:pt x="19" y="344"/>
                    </a:lnTo>
                    <a:lnTo>
                      <a:pt x="13" y="356"/>
                    </a:lnTo>
                    <a:lnTo>
                      <a:pt x="10" y="362"/>
                    </a:lnTo>
                    <a:lnTo>
                      <a:pt x="7" y="364"/>
                    </a:lnTo>
                    <a:lnTo>
                      <a:pt x="6" y="363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Freeform 457"/>
              <p:cNvSpPr/>
              <p:nvPr/>
            </p:nvSpPr>
            <p:spPr>
              <a:xfrm>
                <a:off x="3170160" y="6154560"/>
                <a:ext cx="60480" cy="23760"/>
              </a:xfrm>
              <a:custGeom>
                <a:avLst/>
                <a:gdLst/>
                <a:ahLst/>
                <a:rect l="l" t="t" r="r" b="b"/>
                <a:pathLst>
                  <a:path w="76" h="60">
                    <a:moveTo>
                      <a:pt x="71" y="59"/>
                    </a:moveTo>
                    <a:lnTo>
                      <a:pt x="63" y="56"/>
                    </a:lnTo>
                    <a:lnTo>
                      <a:pt x="56" y="52"/>
                    </a:lnTo>
                    <a:lnTo>
                      <a:pt x="49" y="47"/>
                    </a:lnTo>
                    <a:lnTo>
                      <a:pt x="41" y="42"/>
                    </a:lnTo>
                    <a:lnTo>
                      <a:pt x="33" y="36"/>
                    </a:lnTo>
                    <a:lnTo>
                      <a:pt x="25" y="31"/>
                    </a:lnTo>
                    <a:lnTo>
                      <a:pt x="16" y="26"/>
                    </a:lnTo>
                    <a:lnTo>
                      <a:pt x="5" y="21"/>
                    </a:lnTo>
                    <a:lnTo>
                      <a:pt x="2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22" y="12"/>
                    </a:lnTo>
                    <a:lnTo>
                      <a:pt x="30" y="16"/>
                    </a:lnTo>
                    <a:lnTo>
                      <a:pt x="35" y="21"/>
                    </a:lnTo>
                    <a:lnTo>
                      <a:pt x="42" y="26"/>
                    </a:lnTo>
                    <a:lnTo>
                      <a:pt x="48" y="30"/>
                    </a:lnTo>
                    <a:lnTo>
                      <a:pt x="56" y="36"/>
                    </a:lnTo>
                    <a:lnTo>
                      <a:pt x="67" y="45"/>
                    </a:lnTo>
                    <a:lnTo>
                      <a:pt x="69" y="47"/>
                    </a:lnTo>
                    <a:lnTo>
                      <a:pt x="71" y="50"/>
                    </a:lnTo>
                    <a:lnTo>
                      <a:pt x="73" y="52"/>
                    </a:lnTo>
                    <a:lnTo>
                      <a:pt x="76" y="55"/>
                    </a:lnTo>
                    <a:lnTo>
                      <a:pt x="75" y="58"/>
                    </a:lnTo>
                    <a:lnTo>
                      <a:pt x="73" y="60"/>
                    </a:lnTo>
                    <a:lnTo>
                      <a:pt x="72" y="60"/>
                    </a:lnTo>
                    <a:lnTo>
                      <a:pt x="71" y="59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458"/>
              <p:cNvSpPr/>
              <p:nvPr/>
            </p:nvSpPr>
            <p:spPr>
              <a:xfrm>
                <a:off x="2508480" y="6014880"/>
                <a:ext cx="93600" cy="81000"/>
              </a:xfrm>
              <a:custGeom>
                <a:avLst/>
                <a:gdLst/>
                <a:ahLst/>
                <a:rect l="l" t="t" r="r" b="b"/>
                <a:pathLst>
                  <a:path w="118" h="202">
                    <a:moveTo>
                      <a:pt x="0" y="202"/>
                    </a:moveTo>
                    <a:lnTo>
                      <a:pt x="0" y="199"/>
                    </a:lnTo>
                    <a:lnTo>
                      <a:pt x="1" y="195"/>
                    </a:lnTo>
                    <a:lnTo>
                      <a:pt x="2" y="191"/>
                    </a:lnTo>
                    <a:lnTo>
                      <a:pt x="3" y="187"/>
                    </a:lnTo>
                    <a:lnTo>
                      <a:pt x="9" y="178"/>
                    </a:lnTo>
                    <a:lnTo>
                      <a:pt x="15" y="171"/>
                    </a:lnTo>
                    <a:lnTo>
                      <a:pt x="21" y="163"/>
                    </a:lnTo>
                    <a:lnTo>
                      <a:pt x="26" y="154"/>
                    </a:lnTo>
                    <a:lnTo>
                      <a:pt x="32" y="147"/>
                    </a:lnTo>
                    <a:lnTo>
                      <a:pt x="39" y="139"/>
                    </a:lnTo>
                    <a:lnTo>
                      <a:pt x="45" y="131"/>
                    </a:lnTo>
                    <a:lnTo>
                      <a:pt x="51" y="123"/>
                    </a:lnTo>
                    <a:lnTo>
                      <a:pt x="59" y="107"/>
                    </a:lnTo>
                    <a:lnTo>
                      <a:pt x="67" y="93"/>
                    </a:lnTo>
                    <a:lnTo>
                      <a:pt x="75" y="77"/>
                    </a:lnTo>
                    <a:lnTo>
                      <a:pt x="84" y="61"/>
                    </a:lnTo>
                    <a:lnTo>
                      <a:pt x="92" y="47"/>
                    </a:lnTo>
                    <a:lnTo>
                      <a:pt x="100" y="31"/>
                    </a:lnTo>
                    <a:lnTo>
                      <a:pt x="109" y="16"/>
                    </a:lnTo>
                    <a:lnTo>
                      <a:pt x="117" y="0"/>
                    </a:lnTo>
                    <a:lnTo>
                      <a:pt x="117" y="3"/>
                    </a:lnTo>
                    <a:lnTo>
                      <a:pt x="117" y="5"/>
                    </a:lnTo>
                    <a:lnTo>
                      <a:pt x="117" y="8"/>
                    </a:lnTo>
                    <a:lnTo>
                      <a:pt x="118" y="10"/>
                    </a:lnTo>
                    <a:lnTo>
                      <a:pt x="113" y="23"/>
                    </a:lnTo>
                    <a:lnTo>
                      <a:pt x="107" y="34"/>
                    </a:lnTo>
                    <a:lnTo>
                      <a:pt x="101" y="47"/>
                    </a:lnTo>
                    <a:lnTo>
                      <a:pt x="95" y="58"/>
                    </a:lnTo>
                    <a:lnTo>
                      <a:pt x="90" y="71"/>
                    </a:lnTo>
                    <a:lnTo>
                      <a:pt x="83" y="82"/>
                    </a:lnTo>
                    <a:lnTo>
                      <a:pt x="77" y="95"/>
                    </a:lnTo>
                    <a:lnTo>
                      <a:pt x="71" y="106"/>
                    </a:lnTo>
                    <a:lnTo>
                      <a:pt x="67" y="112"/>
                    </a:lnTo>
                    <a:lnTo>
                      <a:pt x="63" y="118"/>
                    </a:lnTo>
                    <a:lnTo>
                      <a:pt x="57" y="124"/>
                    </a:lnTo>
                    <a:lnTo>
                      <a:pt x="52" y="134"/>
                    </a:lnTo>
                    <a:lnTo>
                      <a:pt x="44" y="145"/>
                    </a:lnTo>
                    <a:lnTo>
                      <a:pt x="33" y="161"/>
                    </a:lnTo>
                    <a:lnTo>
                      <a:pt x="19" y="180"/>
                    </a:lnTo>
                    <a:lnTo>
                      <a:pt x="2" y="202"/>
                    </a:lnTo>
                    <a:lnTo>
                      <a:pt x="1" y="202"/>
                    </a:lnTo>
                    <a:lnTo>
                      <a:pt x="1" y="202"/>
                    </a:lnTo>
                    <a:lnTo>
                      <a:pt x="0" y="202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459"/>
              <p:cNvSpPr/>
              <p:nvPr/>
            </p:nvSpPr>
            <p:spPr>
              <a:xfrm>
                <a:off x="2652840" y="5654520"/>
                <a:ext cx="92160" cy="122400"/>
              </a:xfrm>
              <a:custGeom>
                <a:avLst/>
                <a:gdLst/>
                <a:ahLst/>
                <a:rect l="l" t="t" r="r" b="b"/>
                <a:pathLst>
                  <a:path w="116" h="308">
                    <a:moveTo>
                      <a:pt x="0" y="308"/>
                    </a:moveTo>
                    <a:lnTo>
                      <a:pt x="2" y="282"/>
                    </a:lnTo>
                    <a:lnTo>
                      <a:pt x="6" y="259"/>
                    </a:lnTo>
                    <a:lnTo>
                      <a:pt x="12" y="236"/>
                    </a:lnTo>
                    <a:lnTo>
                      <a:pt x="25" y="209"/>
                    </a:lnTo>
                    <a:lnTo>
                      <a:pt x="40" y="193"/>
                    </a:lnTo>
                    <a:lnTo>
                      <a:pt x="54" y="180"/>
                    </a:lnTo>
                    <a:lnTo>
                      <a:pt x="67" y="166"/>
                    </a:lnTo>
                    <a:lnTo>
                      <a:pt x="78" y="154"/>
                    </a:lnTo>
                    <a:lnTo>
                      <a:pt x="87" y="140"/>
                    </a:lnTo>
                    <a:lnTo>
                      <a:pt x="95" y="127"/>
                    </a:lnTo>
                    <a:lnTo>
                      <a:pt x="101" y="112"/>
                    </a:lnTo>
                    <a:lnTo>
                      <a:pt x="105" y="96"/>
                    </a:lnTo>
                    <a:lnTo>
                      <a:pt x="102" y="74"/>
                    </a:lnTo>
                    <a:lnTo>
                      <a:pt x="99" y="47"/>
                    </a:lnTo>
                    <a:lnTo>
                      <a:pt x="99" y="21"/>
                    </a:lnTo>
                    <a:lnTo>
                      <a:pt x="106" y="0"/>
                    </a:lnTo>
                    <a:lnTo>
                      <a:pt x="107" y="5"/>
                    </a:lnTo>
                    <a:lnTo>
                      <a:pt x="107" y="11"/>
                    </a:lnTo>
                    <a:lnTo>
                      <a:pt x="106" y="19"/>
                    </a:lnTo>
                    <a:lnTo>
                      <a:pt x="103" y="32"/>
                    </a:lnTo>
                    <a:lnTo>
                      <a:pt x="107" y="45"/>
                    </a:lnTo>
                    <a:lnTo>
                      <a:pt x="110" y="62"/>
                    </a:lnTo>
                    <a:lnTo>
                      <a:pt x="114" y="78"/>
                    </a:lnTo>
                    <a:lnTo>
                      <a:pt x="116" y="95"/>
                    </a:lnTo>
                    <a:lnTo>
                      <a:pt x="115" y="111"/>
                    </a:lnTo>
                    <a:lnTo>
                      <a:pt x="109" y="128"/>
                    </a:lnTo>
                    <a:lnTo>
                      <a:pt x="99" y="144"/>
                    </a:lnTo>
                    <a:lnTo>
                      <a:pt x="87" y="160"/>
                    </a:lnTo>
                    <a:lnTo>
                      <a:pt x="73" y="177"/>
                    </a:lnTo>
                    <a:lnTo>
                      <a:pt x="59" y="193"/>
                    </a:lnTo>
                    <a:lnTo>
                      <a:pt x="44" y="209"/>
                    </a:lnTo>
                    <a:lnTo>
                      <a:pt x="31" y="225"/>
                    </a:lnTo>
                    <a:lnTo>
                      <a:pt x="15" y="273"/>
                    </a:lnTo>
                    <a:lnTo>
                      <a:pt x="6" y="298"/>
                    </a:lnTo>
                    <a:lnTo>
                      <a:pt x="2" y="307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460"/>
              <p:cNvSpPr/>
              <p:nvPr/>
            </p:nvSpPr>
            <p:spPr>
              <a:xfrm>
                <a:off x="2747880" y="5626080"/>
                <a:ext cx="93960" cy="122040"/>
              </a:xfrm>
              <a:custGeom>
                <a:avLst/>
                <a:gdLst/>
                <a:ahLst/>
                <a:rect l="l" t="t" r="r" b="b"/>
                <a:pathLst>
                  <a:path w="116" h="307">
                    <a:moveTo>
                      <a:pt x="0" y="307"/>
                    </a:moveTo>
                    <a:lnTo>
                      <a:pt x="2" y="282"/>
                    </a:lnTo>
                    <a:lnTo>
                      <a:pt x="5" y="259"/>
                    </a:lnTo>
                    <a:lnTo>
                      <a:pt x="12" y="235"/>
                    </a:lnTo>
                    <a:lnTo>
                      <a:pt x="25" y="208"/>
                    </a:lnTo>
                    <a:lnTo>
                      <a:pt x="40" y="193"/>
                    </a:lnTo>
                    <a:lnTo>
                      <a:pt x="54" y="179"/>
                    </a:lnTo>
                    <a:lnTo>
                      <a:pt x="66" y="166"/>
                    </a:lnTo>
                    <a:lnTo>
                      <a:pt x="78" y="154"/>
                    </a:lnTo>
                    <a:lnTo>
                      <a:pt x="88" y="140"/>
                    </a:lnTo>
                    <a:lnTo>
                      <a:pt x="96" y="126"/>
                    </a:lnTo>
                    <a:lnTo>
                      <a:pt x="102" y="112"/>
                    </a:lnTo>
                    <a:lnTo>
                      <a:pt x="104" y="96"/>
                    </a:lnTo>
                    <a:lnTo>
                      <a:pt x="102" y="74"/>
                    </a:lnTo>
                    <a:lnTo>
                      <a:pt x="99" y="46"/>
                    </a:lnTo>
                    <a:lnTo>
                      <a:pt x="99" y="20"/>
                    </a:lnTo>
                    <a:lnTo>
                      <a:pt x="106" y="0"/>
                    </a:lnTo>
                    <a:lnTo>
                      <a:pt x="107" y="4"/>
                    </a:lnTo>
                    <a:lnTo>
                      <a:pt x="107" y="9"/>
                    </a:lnTo>
                    <a:lnTo>
                      <a:pt x="106" y="18"/>
                    </a:lnTo>
                    <a:lnTo>
                      <a:pt x="103" y="31"/>
                    </a:lnTo>
                    <a:lnTo>
                      <a:pt x="108" y="44"/>
                    </a:lnTo>
                    <a:lnTo>
                      <a:pt x="111" y="61"/>
                    </a:lnTo>
                    <a:lnTo>
                      <a:pt x="114" y="78"/>
                    </a:lnTo>
                    <a:lnTo>
                      <a:pt x="116" y="95"/>
                    </a:lnTo>
                    <a:lnTo>
                      <a:pt x="115" y="111"/>
                    </a:lnTo>
                    <a:lnTo>
                      <a:pt x="109" y="127"/>
                    </a:lnTo>
                    <a:lnTo>
                      <a:pt x="99" y="143"/>
                    </a:lnTo>
                    <a:lnTo>
                      <a:pt x="87" y="160"/>
                    </a:lnTo>
                    <a:lnTo>
                      <a:pt x="73" y="175"/>
                    </a:lnTo>
                    <a:lnTo>
                      <a:pt x="58" y="192"/>
                    </a:lnTo>
                    <a:lnTo>
                      <a:pt x="43" y="208"/>
                    </a:lnTo>
                    <a:lnTo>
                      <a:pt x="31" y="224"/>
                    </a:lnTo>
                    <a:lnTo>
                      <a:pt x="15" y="272"/>
                    </a:lnTo>
                    <a:lnTo>
                      <a:pt x="5" y="297"/>
                    </a:lnTo>
                    <a:lnTo>
                      <a:pt x="2" y="306"/>
                    </a:ln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461"/>
              <p:cNvSpPr/>
              <p:nvPr/>
            </p:nvSpPr>
            <p:spPr>
              <a:xfrm>
                <a:off x="2865600" y="5713200"/>
                <a:ext cx="36360" cy="52560"/>
              </a:xfrm>
              <a:custGeom>
                <a:avLst/>
                <a:gdLst/>
                <a:ahLst/>
                <a:rect l="l" t="t" r="r" b="b"/>
                <a:pathLst>
                  <a:path w="46" h="135">
                    <a:moveTo>
                      <a:pt x="0" y="135"/>
                    </a:moveTo>
                    <a:lnTo>
                      <a:pt x="7" y="118"/>
                    </a:lnTo>
                    <a:lnTo>
                      <a:pt x="10" y="102"/>
                    </a:lnTo>
                    <a:lnTo>
                      <a:pt x="10" y="83"/>
                    </a:lnTo>
                    <a:lnTo>
                      <a:pt x="9" y="61"/>
                    </a:lnTo>
                    <a:lnTo>
                      <a:pt x="10" y="55"/>
                    </a:lnTo>
                    <a:lnTo>
                      <a:pt x="13" y="49"/>
                    </a:lnTo>
                    <a:lnTo>
                      <a:pt x="15" y="44"/>
                    </a:lnTo>
                    <a:lnTo>
                      <a:pt x="17" y="38"/>
                    </a:lnTo>
                    <a:lnTo>
                      <a:pt x="22" y="25"/>
                    </a:lnTo>
                    <a:lnTo>
                      <a:pt x="31" y="14"/>
                    </a:lnTo>
                    <a:lnTo>
                      <a:pt x="40" y="4"/>
                    </a:lnTo>
                    <a:lnTo>
                      <a:pt x="46" y="0"/>
                    </a:lnTo>
                    <a:lnTo>
                      <a:pt x="44" y="7"/>
                    </a:lnTo>
                    <a:lnTo>
                      <a:pt x="35" y="23"/>
                    </a:lnTo>
                    <a:lnTo>
                      <a:pt x="25" y="43"/>
                    </a:lnTo>
                    <a:lnTo>
                      <a:pt x="20" y="57"/>
                    </a:lnTo>
                    <a:lnTo>
                      <a:pt x="19" y="95"/>
                    </a:lnTo>
                    <a:lnTo>
                      <a:pt x="14" y="123"/>
                    </a:lnTo>
                    <a:lnTo>
                      <a:pt x="7" y="135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462"/>
              <p:cNvSpPr/>
              <p:nvPr/>
            </p:nvSpPr>
            <p:spPr>
              <a:xfrm>
                <a:off x="2737080" y="5995800"/>
                <a:ext cx="198360" cy="230040"/>
              </a:xfrm>
              <a:custGeom>
                <a:avLst/>
                <a:gdLst/>
                <a:ahLst/>
                <a:rect l="l" t="t" r="r" b="b"/>
                <a:pathLst>
                  <a:path w="250" h="579">
                    <a:moveTo>
                      <a:pt x="0" y="13"/>
                    </a:moveTo>
                    <a:lnTo>
                      <a:pt x="55" y="81"/>
                    </a:lnTo>
                    <a:lnTo>
                      <a:pt x="184" y="384"/>
                    </a:lnTo>
                    <a:lnTo>
                      <a:pt x="250" y="579"/>
                    </a:lnTo>
                    <a:lnTo>
                      <a:pt x="214" y="444"/>
                    </a:lnTo>
                    <a:lnTo>
                      <a:pt x="135" y="231"/>
                    </a:lnTo>
                    <a:lnTo>
                      <a:pt x="75" y="81"/>
                    </a:lnTo>
                    <a:lnTo>
                      <a:pt x="25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463"/>
              <p:cNvSpPr/>
              <p:nvPr/>
            </p:nvSpPr>
            <p:spPr>
              <a:xfrm>
                <a:off x="2598840" y="6279840"/>
                <a:ext cx="20520" cy="86040"/>
              </a:xfrm>
              <a:custGeom>
                <a:avLst/>
                <a:gdLst/>
                <a:ahLst/>
                <a:rect l="l" t="t" r="r" b="b"/>
                <a:pathLst>
                  <a:path w="25" h="218">
                    <a:moveTo>
                      <a:pt x="6" y="0"/>
                    </a:moveTo>
                    <a:lnTo>
                      <a:pt x="0" y="218"/>
                    </a:lnTo>
                    <a:lnTo>
                      <a:pt x="25" y="218"/>
                    </a:lnTo>
                    <a:lnTo>
                      <a:pt x="10" y="127"/>
                    </a:lnTo>
                    <a:lnTo>
                      <a:pt x="21" y="3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464"/>
              <p:cNvSpPr/>
              <p:nvPr/>
            </p:nvSpPr>
            <p:spPr>
              <a:xfrm>
                <a:off x="2170080" y="6119640"/>
                <a:ext cx="331920" cy="235080"/>
              </a:xfrm>
              <a:custGeom>
                <a:avLst/>
                <a:gdLst/>
                <a:ahLst/>
                <a:rect l="l" t="t" r="r" b="b"/>
                <a:pathLst>
                  <a:path w="417" h="591">
                    <a:moveTo>
                      <a:pt x="362" y="54"/>
                    </a:moveTo>
                    <a:lnTo>
                      <a:pt x="258" y="213"/>
                    </a:lnTo>
                    <a:lnTo>
                      <a:pt x="133" y="401"/>
                    </a:lnTo>
                    <a:lnTo>
                      <a:pt x="0" y="568"/>
                    </a:lnTo>
                    <a:lnTo>
                      <a:pt x="24" y="591"/>
                    </a:lnTo>
                    <a:lnTo>
                      <a:pt x="69" y="483"/>
                    </a:lnTo>
                    <a:lnTo>
                      <a:pt x="144" y="401"/>
                    </a:lnTo>
                    <a:lnTo>
                      <a:pt x="262" y="221"/>
                    </a:lnTo>
                    <a:lnTo>
                      <a:pt x="417" y="0"/>
                    </a:lnTo>
                    <a:lnTo>
                      <a:pt x="362" y="54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465"/>
              <p:cNvSpPr/>
              <p:nvPr/>
            </p:nvSpPr>
            <p:spPr>
              <a:xfrm>
                <a:off x="1965240" y="6086160"/>
                <a:ext cx="433440" cy="150840"/>
              </a:xfrm>
              <a:custGeom>
                <a:avLst/>
                <a:gdLst/>
                <a:ahLst/>
                <a:rect l="l" t="t" r="r" b="b"/>
                <a:pathLst>
                  <a:path w="546" h="379">
                    <a:moveTo>
                      <a:pt x="546" y="19"/>
                    </a:moveTo>
                    <a:lnTo>
                      <a:pt x="535" y="0"/>
                    </a:lnTo>
                    <a:lnTo>
                      <a:pt x="302" y="169"/>
                    </a:lnTo>
                    <a:lnTo>
                      <a:pt x="178" y="269"/>
                    </a:lnTo>
                    <a:lnTo>
                      <a:pt x="0" y="378"/>
                    </a:lnTo>
                    <a:lnTo>
                      <a:pt x="15" y="379"/>
                    </a:lnTo>
                    <a:lnTo>
                      <a:pt x="38" y="370"/>
                    </a:lnTo>
                    <a:lnTo>
                      <a:pt x="67" y="356"/>
                    </a:lnTo>
                    <a:lnTo>
                      <a:pt x="98" y="337"/>
                    </a:lnTo>
                    <a:lnTo>
                      <a:pt x="128" y="317"/>
                    </a:lnTo>
                    <a:lnTo>
                      <a:pt x="154" y="300"/>
                    </a:lnTo>
                    <a:lnTo>
                      <a:pt x="172" y="288"/>
                    </a:lnTo>
                    <a:lnTo>
                      <a:pt x="178" y="282"/>
                    </a:lnTo>
                    <a:lnTo>
                      <a:pt x="302" y="192"/>
                    </a:lnTo>
                    <a:lnTo>
                      <a:pt x="436" y="124"/>
                    </a:lnTo>
                    <a:lnTo>
                      <a:pt x="546" y="19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466"/>
              <p:cNvSpPr/>
              <p:nvPr/>
            </p:nvSpPr>
            <p:spPr>
              <a:xfrm>
                <a:off x="3208320" y="6208560"/>
                <a:ext cx="244440" cy="63360"/>
              </a:xfrm>
              <a:custGeom>
                <a:avLst/>
                <a:gdLst/>
                <a:ahLst/>
                <a:rect l="l" t="t" r="r" b="b"/>
                <a:pathLst>
                  <a:path w="309" h="159">
                    <a:moveTo>
                      <a:pt x="1" y="0"/>
                    </a:moveTo>
                    <a:lnTo>
                      <a:pt x="43" y="16"/>
                    </a:lnTo>
                    <a:lnTo>
                      <a:pt x="153" y="75"/>
                    </a:lnTo>
                    <a:lnTo>
                      <a:pt x="309" y="138"/>
                    </a:lnTo>
                    <a:lnTo>
                      <a:pt x="309" y="159"/>
                    </a:lnTo>
                    <a:lnTo>
                      <a:pt x="264" y="138"/>
                    </a:lnTo>
                    <a:lnTo>
                      <a:pt x="195" y="104"/>
                    </a:lnTo>
                    <a:lnTo>
                      <a:pt x="70" y="46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2" y="10"/>
                    </a:lnTo>
                    <a:lnTo>
                      <a:pt x="0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467"/>
              <p:cNvSpPr/>
              <p:nvPr/>
            </p:nvSpPr>
            <p:spPr>
              <a:xfrm>
                <a:off x="2849760" y="6018120"/>
                <a:ext cx="164880" cy="104760"/>
              </a:xfrm>
              <a:custGeom>
                <a:avLst/>
                <a:gdLst/>
                <a:ahLst/>
                <a:rect l="l" t="t" r="r" b="b"/>
                <a:pathLst>
                  <a:path w="209" h="262">
                    <a:moveTo>
                      <a:pt x="0" y="0"/>
                    </a:moveTo>
                    <a:lnTo>
                      <a:pt x="68" y="67"/>
                    </a:lnTo>
                    <a:lnTo>
                      <a:pt x="209" y="262"/>
                    </a:lnTo>
                    <a:lnTo>
                      <a:pt x="154" y="212"/>
                    </a:lnTo>
                    <a:lnTo>
                      <a:pt x="63" y="78"/>
                    </a:lnTo>
                    <a:lnTo>
                      <a:pt x="31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468"/>
              <p:cNvSpPr/>
              <p:nvPr/>
            </p:nvSpPr>
            <p:spPr>
              <a:xfrm>
                <a:off x="2621160" y="594972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63" y="0"/>
                    </a:moveTo>
                    <a:lnTo>
                      <a:pt x="43" y="38"/>
                    </a:lnTo>
                    <a:lnTo>
                      <a:pt x="0" y="133"/>
                    </a:lnTo>
                    <a:lnTo>
                      <a:pt x="32" y="83"/>
                    </a:lnTo>
                    <a:lnTo>
                      <a:pt x="93" y="1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469"/>
              <p:cNvSpPr/>
              <p:nvPr/>
            </p:nvSpPr>
            <p:spPr>
              <a:xfrm>
                <a:off x="2065320" y="5933880"/>
                <a:ext cx="600120" cy="360360"/>
              </a:xfrm>
              <a:custGeom>
                <a:avLst/>
                <a:gdLst/>
                <a:ahLst/>
                <a:rect l="l" t="t" r="r" b="b"/>
                <a:pathLst>
                  <a:path w="756" h="911">
                    <a:moveTo>
                      <a:pt x="703" y="0"/>
                    </a:moveTo>
                    <a:lnTo>
                      <a:pt x="610" y="115"/>
                    </a:lnTo>
                    <a:lnTo>
                      <a:pt x="431" y="375"/>
                    </a:lnTo>
                    <a:lnTo>
                      <a:pt x="311" y="526"/>
                    </a:lnTo>
                    <a:lnTo>
                      <a:pt x="173" y="665"/>
                    </a:lnTo>
                    <a:lnTo>
                      <a:pt x="60" y="817"/>
                    </a:lnTo>
                    <a:lnTo>
                      <a:pt x="0" y="911"/>
                    </a:lnTo>
                    <a:lnTo>
                      <a:pt x="47" y="887"/>
                    </a:lnTo>
                    <a:lnTo>
                      <a:pt x="100" y="828"/>
                    </a:lnTo>
                    <a:lnTo>
                      <a:pt x="179" y="713"/>
                    </a:lnTo>
                    <a:lnTo>
                      <a:pt x="272" y="641"/>
                    </a:lnTo>
                    <a:lnTo>
                      <a:pt x="232" y="726"/>
                    </a:lnTo>
                    <a:lnTo>
                      <a:pt x="232" y="774"/>
                    </a:lnTo>
                    <a:lnTo>
                      <a:pt x="285" y="720"/>
                    </a:lnTo>
                    <a:lnTo>
                      <a:pt x="325" y="611"/>
                    </a:lnTo>
                    <a:lnTo>
                      <a:pt x="477" y="381"/>
                    </a:lnTo>
                    <a:lnTo>
                      <a:pt x="590" y="254"/>
                    </a:lnTo>
                    <a:lnTo>
                      <a:pt x="657" y="169"/>
                    </a:lnTo>
                    <a:lnTo>
                      <a:pt x="756" y="24"/>
                    </a:lnTo>
                    <a:lnTo>
                      <a:pt x="703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470"/>
              <p:cNvSpPr/>
              <p:nvPr/>
            </p:nvSpPr>
            <p:spPr>
              <a:xfrm>
                <a:off x="2239920" y="5954400"/>
                <a:ext cx="466920" cy="320760"/>
              </a:xfrm>
              <a:custGeom>
                <a:avLst/>
                <a:gdLst/>
                <a:ahLst/>
                <a:rect l="l" t="t" r="r" b="b"/>
                <a:pathLst>
                  <a:path w="590" h="809">
                    <a:moveTo>
                      <a:pt x="484" y="91"/>
                    </a:moveTo>
                    <a:lnTo>
                      <a:pt x="364" y="260"/>
                    </a:lnTo>
                    <a:lnTo>
                      <a:pt x="318" y="351"/>
                    </a:lnTo>
                    <a:lnTo>
                      <a:pt x="193" y="514"/>
                    </a:lnTo>
                    <a:lnTo>
                      <a:pt x="145" y="581"/>
                    </a:lnTo>
                    <a:lnTo>
                      <a:pt x="53" y="714"/>
                    </a:lnTo>
                    <a:lnTo>
                      <a:pt x="0" y="809"/>
                    </a:lnTo>
                    <a:lnTo>
                      <a:pt x="5" y="805"/>
                    </a:lnTo>
                    <a:lnTo>
                      <a:pt x="18" y="792"/>
                    </a:lnTo>
                    <a:lnTo>
                      <a:pt x="37" y="775"/>
                    </a:lnTo>
                    <a:lnTo>
                      <a:pt x="58" y="754"/>
                    </a:lnTo>
                    <a:lnTo>
                      <a:pt x="81" y="733"/>
                    </a:lnTo>
                    <a:lnTo>
                      <a:pt x="100" y="711"/>
                    </a:lnTo>
                    <a:lnTo>
                      <a:pt x="117" y="692"/>
                    </a:lnTo>
                    <a:lnTo>
                      <a:pt x="126" y="678"/>
                    </a:lnTo>
                    <a:lnTo>
                      <a:pt x="135" y="662"/>
                    </a:lnTo>
                    <a:lnTo>
                      <a:pt x="152" y="635"/>
                    </a:lnTo>
                    <a:lnTo>
                      <a:pt x="174" y="603"/>
                    </a:lnTo>
                    <a:lnTo>
                      <a:pt x="197" y="570"/>
                    </a:lnTo>
                    <a:lnTo>
                      <a:pt x="220" y="537"/>
                    </a:lnTo>
                    <a:lnTo>
                      <a:pt x="240" y="510"/>
                    </a:lnTo>
                    <a:lnTo>
                      <a:pt x="254" y="491"/>
                    </a:lnTo>
                    <a:lnTo>
                      <a:pt x="258" y="484"/>
                    </a:lnTo>
                    <a:lnTo>
                      <a:pt x="371" y="339"/>
                    </a:lnTo>
                    <a:lnTo>
                      <a:pt x="418" y="212"/>
                    </a:lnTo>
                    <a:lnTo>
                      <a:pt x="504" y="122"/>
                    </a:lnTo>
                    <a:lnTo>
                      <a:pt x="590" y="0"/>
                    </a:lnTo>
                    <a:lnTo>
                      <a:pt x="556" y="0"/>
                    </a:lnTo>
                    <a:lnTo>
                      <a:pt x="484" y="91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471"/>
              <p:cNvSpPr/>
              <p:nvPr/>
            </p:nvSpPr>
            <p:spPr>
              <a:xfrm>
                <a:off x="2592360" y="6038640"/>
                <a:ext cx="100080" cy="300240"/>
              </a:xfrm>
              <a:custGeom>
                <a:avLst/>
                <a:gdLst/>
                <a:ahLst/>
                <a:rect l="l" t="t" r="r" b="b"/>
                <a:pathLst>
                  <a:path w="124" h="753">
                    <a:moveTo>
                      <a:pt x="11" y="96"/>
                    </a:moveTo>
                    <a:lnTo>
                      <a:pt x="11" y="194"/>
                    </a:lnTo>
                    <a:lnTo>
                      <a:pt x="0" y="351"/>
                    </a:lnTo>
                    <a:lnTo>
                      <a:pt x="0" y="447"/>
                    </a:lnTo>
                    <a:lnTo>
                      <a:pt x="11" y="545"/>
                    </a:lnTo>
                    <a:lnTo>
                      <a:pt x="18" y="411"/>
                    </a:lnTo>
                    <a:lnTo>
                      <a:pt x="26" y="272"/>
                    </a:lnTo>
                    <a:lnTo>
                      <a:pt x="72" y="187"/>
                    </a:lnTo>
                    <a:lnTo>
                      <a:pt x="72" y="236"/>
                    </a:lnTo>
                    <a:lnTo>
                      <a:pt x="72" y="369"/>
                    </a:lnTo>
                    <a:lnTo>
                      <a:pt x="78" y="495"/>
                    </a:lnTo>
                    <a:lnTo>
                      <a:pt x="58" y="675"/>
                    </a:lnTo>
                    <a:lnTo>
                      <a:pt x="58" y="753"/>
                    </a:lnTo>
                    <a:lnTo>
                      <a:pt x="117" y="603"/>
                    </a:lnTo>
                    <a:lnTo>
                      <a:pt x="124" y="363"/>
                    </a:lnTo>
                    <a:lnTo>
                      <a:pt x="91" y="122"/>
                    </a:lnTo>
                    <a:lnTo>
                      <a:pt x="91" y="0"/>
                    </a:lnTo>
                    <a:lnTo>
                      <a:pt x="58" y="42"/>
                    </a:lnTo>
                    <a:lnTo>
                      <a:pt x="11" y="96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472"/>
              <p:cNvSpPr/>
              <p:nvPr/>
            </p:nvSpPr>
            <p:spPr>
              <a:xfrm>
                <a:off x="2685960" y="6005520"/>
                <a:ext cx="27000" cy="117360"/>
              </a:xfrm>
              <a:custGeom>
                <a:avLst/>
                <a:gdLst/>
                <a:ahLst/>
                <a:rect l="l" t="t" r="r" b="b"/>
                <a:pathLst>
                  <a:path w="34" h="295">
                    <a:moveTo>
                      <a:pt x="0" y="48"/>
                    </a:moveTo>
                    <a:lnTo>
                      <a:pt x="7" y="126"/>
                    </a:lnTo>
                    <a:lnTo>
                      <a:pt x="0" y="236"/>
                    </a:lnTo>
                    <a:lnTo>
                      <a:pt x="7" y="295"/>
                    </a:lnTo>
                    <a:lnTo>
                      <a:pt x="34" y="180"/>
                    </a:lnTo>
                    <a:lnTo>
                      <a:pt x="34" y="108"/>
                    </a:lnTo>
                    <a:lnTo>
                      <a:pt x="2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473"/>
              <p:cNvSpPr/>
              <p:nvPr/>
            </p:nvSpPr>
            <p:spPr>
              <a:xfrm>
                <a:off x="2860920" y="6343560"/>
                <a:ext cx="247320" cy="54000"/>
              </a:xfrm>
              <a:custGeom>
                <a:avLst/>
                <a:gdLst/>
                <a:ahLst/>
                <a:rect l="l" t="t" r="r" b="b"/>
                <a:pathLst>
                  <a:path w="311" h="134">
                    <a:moveTo>
                      <a:pt x="0" y="71"/>
                    </a:moveTo>
                    <a:lnTo>
                      <a:pt x="41" y="25"/>
                    </a:lnTo>
                    <a:lnTo>
                      <a:pt x="96" y="4"/>
                    </a:lnTo>
                    <a:lnTo>
                      <a:pt x="155" y="0"/>
                    </a:lnTo>
                    <a:lnTo>
                      <a:pt x="191" y="59"/>
                    </a:lnTo>
                    <a:lnTo>
                      <a:pt x="191" y="8"/>
                    </a:lnTo>
                    <a:lnTo>
                      <a:pt x="247" y="0"/>
                    </a:lnTo>
                    <a:lnTo>
                      <a:pt x="293" y="17"/>
                    </a:lnTo>
                    <a:lnTo>
                      <a:pt x="311" y="50"/>
                    </a:lnTo>
                    <a:lnTo>
                      <a:pt x="284" y="105"/>
                    </a:lnTo>
                    <a:lnTo>
                      <a:pt x="219" y="134"/>
                    </a:lnTo>
                    <a:lnTo>
                      <a:pt x="145" y="134"/>
                    </a:lnTo>
                    <a:lnTo>
                      <a:pt x="91" y="134"/>
                    </a:lnTo>
                    <a:lnTo>
                      <a:pt x="41" y="121"/>
                    </a:lnTo>
                    <a:lnTo>
                      <a:pt x="39" y="119"/>
                    </a:lnTo>
                    <a:lnTo>
                      <a:pt x="36" y="112"/>
                    </a:lnTo>
                    <a:lnTo>
                      <a:pt x="30" y="104"/>
                    </a:lnTo>
                    <a:lnTo>
                      <a:pt x="23" y="93"/>
                    </a:lnTo>
                    <a:lnTo>
                      <a:pt x="16" y="84"/>
                    </a:lnTo>
                    <a:lnTo>
                      <a:pt x="10" y="75"/>
                    </a:lnTo>
                    <a:lnTo>
                      <a:pt x="5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474"/>
              <p:cNvSpPr/>
              <p:nvPr/>
            </p:nvSpPr>
            <p:spPr>
              <a:xfrm>
                <a:off x="3092400" y="6298920"/>
                <a:ext cx="61920" cy="41400"/>
              </a:xfrm>
              <a:custGeom>
                <a:avLst/>
                <a:gdLst/>
                <a:ahLst/>
                <a:rect l="l" t="t" r="r" b="b"/>
                <a:pathLst>
                  <a:path w="77" h="105">
                    <a:moveTo>
                      <a:pt x="40" y="92"/>
                    </a:moveTo>
                    <a:lnTo>
                      <a:pt x="0" y="71"/>
                    </a:lnTo>
                    <a:lnTo>
                      <a:pt x="0" y="25"/>
                    </a:lnTo>
                    <a:lnTo>
                      <a:pt x="31" y="0"/>
                    </a:lnTo>
                    <a:lnTo>
                      <a:pt x="77" y="17"/>
                    </a:lnTo>
                    <a:lnTo>
                      <a:pt x="77" y="55"/>
                    </a:lnTo>
                    <a:lnTo>
                      <a:pt x="72" y="105"/>
                    </a:lnTo>
                    <a:lnTo>
                      <a:pt x="40" y="92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475"/>
              <p:cNvSpPr/>
              <p:nvPr/>
            </p:nvSpPr>
            <p:spPr>
              <a:xfrm>
                <a:off x="2729160" y="5994360"/>
                <a:ext cx="125280" cy="183960"/>
              </a:xfrm>
              <a:custGeom>
                <a:avLst/>
                <a:gdLst/>
                <a:ahLst/>
                <a:rect l="l" t="t" r="r" b="b"/>
                <a:pathLst>
                  <a:path w="159" h="466">
                    <a:moveTo>
                      <a:pt x="0" y="0"/>
                    </a:moveTo>
                    <a:lnTo>
                      <a:pt x="14" y="133"/>
                    </a:lnTo>
                    <a:lnTo>
                      <a:pt x="27" y="369"/>
                    </a:lnTo>
                    <a:lnTo>
                      <a:pt x="80" y="466"/>
                    </a:lnTo>
                    <a:lnTo>
                      <a:pt x="79" y="457"/>
                    </a:lnTo>
                    <a:lnTo>
                      <a:pt x="76" y="434"/>
                    </a:lnTo>
                    <a:lnTo>
                      <a:pt x="72" y="405"/>
                    </a:lnTo>
                    <a:lnTo>
                      <a:pt x="67" y="375"/>
                    </a:lnTo>
                    <a:lnTo>
                      <a:pt x="64" y="340"/>
                    </a:lnTo>
                    <a:lnTo>
                      <a:pt x="61" y="298"/>
                    </a:lnTo>
                    <a:lnTo>
                      <a:pt x="60" y="263"/>
                    </a:lnTo>
                    <a:lnTo>
                      <a:pt x="60" y="248"/>
                    </a:lnTo>
                    <a:lnTo>
                      <a:pt x="120" y="326"/>
                    </a:lnTo>
                    <a:lnTo>
                      <a:pt x="159" y="424"/>
                    </a:lnTo>
                    <a:lnTo>
                      <a:pt x="120" y="267"/>
                    </a:lnTo>
                    <a:lnTo>
                      <a:pt x="60" y="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476"/>
              <p:cNvSpPr/>
              <p:nvPr/>
            </p:nvSpPr>
            <p:spPr>
              <a:xfrm>
                <a:off x="2765520" y="5986440"/>
                <a:ext cx="203040" cy="287280"/>
              </a:xfrm>
              <a:custGeom>
                <a:avLst/>
                <a:gdLst/>
                <a:ahLst/>
                <a:rect l="l" t="t" r="r" b="b"/>
                <a:pathLst>
                  <a:path w="254" h="725">
                    <a:moveTo>
                      <a:pt x="0" y="35"/>
                    </a:moveTo>
                    <a:lnTo>
                      <a:pt x="47" y="102"/>
                    </a:lnTo>
                    <a:lnTo>
                      <a:pt x="119" y="295"/>
                    </a:lnTo>
                    <a:lnTo>
                      <a:pt x="171" y="380"/>
                    </a:lnTo>
                    <a:lnTo>
                      <a:pt x="211" y="586"/>
                    </a:lnTo>
                    <a:lnTo>
                      <a:pt x="244" y="725"/>
                    </a:lnTo>
                    <a:lnTo>
                      <a:pt x="251" y="653"/>
                    </a:lnTo>
                    <a:lnTo>
                      <a:pt x="252" y="648"/>
                    </a:lnTo>
                    <a:lnTo>
                      <a:pt x="253" y="634"/>
                    </a:lnTo>
                    <a:lnTo>
                      <a:pt x="254" y="603"/>
                    </a:lnTo>
                    <a:lnTo>
                      <a:pt x="251" y="555"/>
                    </a:lnTo>
                    <a:lnTo>
                      <a:pt x="245" y="522"/>
                    </a:lnTo>
                    <a:lnTo>
                      <a:pt x="233" y="483"/>
                    </a:lnTo>
                    <a:lnTo>
                      <a:pt x="218" y="443"/>
                    </a:lnTo>
                    <a:lnTo>
                      <a:pt x="202" y="402"/>
                    </a:lnTo>
                    <a:lnTo>
                      <a:pt x="186" y="365"/>
                    </a:lnTo>
                    <a:lnTo>
                      <a:pt x="172" y="335"/>
                    </a:lnTo>
                    <a:lnTo>
                      <a:pt x="162" y="315"/>
                    </a:lnTo>
                    <a:lnTo>
                      <a:pt x="158" y="308"/>
                    </a:lnTo>
                    <a:lnTo>
                      <a:pt x="72" y="96"/>
                    </a:lnTo>
                    <a:lnTo>
                      <a:pt x="26" y="0"/>
                    </a:lnTo>
                    <a:lnTo>
                      <a:pt x="21" y="4"/>
                    </a:lnTo>
                    <a:lnTo>
                      <a:pt x="13" y="15"/>
                    </a:lnTo>
                    <a:lnTo>
                      <a:pt x="4" y="27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477"/>
              <p:cNvSpPr/>
              <p:nvPr/>
            </p:nvSpPr>
            <p:spPr>
              <a:xfrm>
                <a:off x="2739960" y="5995800"/>
                <a:ext cx="30240" cy="101520"/>
              </a:xfrm>
              <a:custGeom>
                <a:avLst/>
                <a:gdLst/>
                <a:ahLst/>
                <a:rect l="l" t="t" r="r" b="b"/>
                <a:pathLst>
                  <a:path w="39" h="254">
                    <a:moveTo>
                      <a:pt x="0" y="0"/>
                    </a:moveTo>
                    <a:lnTo>
                      <a:pt x="0" y="54"/>
                    </a:lnTo>
                    <a:lnTo>
                      <a:pt x="0" y="139"/>
                    </a:lnTo>
                    <a:lnTo>
                      <a:pt x="20" y="254"/>
                    </a:lnTo>
                    <a:lnTo>
                      <a:pt x="34" y="193"/>
                    </a:lnTo>
                    <a:lnTo>
                      <a:pt x="39" y="1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478"/>
              <p:cNvSpPr/>
              <p:nvPr/>
            </p:nvSpPr>
            <p:spPr>
              <a:xfrm>
                <a:off x="2765520" y="5987880"/>
                <a:ext cx="73080" cy="96840"/>
              </a:xfrm>
              <a:custGeom>
                <a:avLst/>
                <a:gdLst/>
                <a:ahLst/>
                <a:rect l="l" t="t" r="r" b="b"/>
                <a:pathLst>
                  <a:path w="92" h="242">
                    <a:moveTo>
                      <a:pt x="0" y="0"/>
                    </a:moveTo>
                    <a:lnTo>
                      <a:pt x="19" y="54"/>
                    </a:lnTo>
                    <a:lnTo>
                      <a:pt x="92" y="242"/>
                    </a:lnTo>
                    <a:lnTo>
                      <a:pt x="92" y="145"/>
                    </a:lnTo>
                    <a:lnTo>
                      <a:pt x="47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479"/>
              <p:cNvSpPr/>
              <p:nvPr/>
            </p:nvSpPr>
            <p:spPr>
              <a:xfrm>
                <a:off x="2849760" y="6018120"/>
                <a:ext cx="131760" cy="127080"/>
              </a:xfrm>
              <a:custGeom>
                <a:avLst/>
                <a:gdLst/>
                <a:ahLst/>
                <a:rect l="l" t="t" r="r" b="b"/>
                <a:pathLst>
                  <a:path w="165" h="321">
                    <a:moveTo>
                      <a:pt x="0" y="0"/>
                    </a:moveTo>
                    <a:lnTo>
                      <a:pt x="52" y="85"/>
                    </a:lnTo>
                    <a:lnTo>
                      <a:pt x="158" y="248"/>
                    </a:lnTo>
                    <a:lnTo>
                      <a:pt x="165" y="321"/>
                    </a:lnTo>
                    <a:lnTo>
                      <a:pt x="65" y="211"/>
                    </a:lnTo>
                    <a:lnTo>
                      <a:pt x="5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480"/>
              <p:cNvSpPr/>
              <p:nvPr/>
            </p:nvSpPr>
            <p:spPr>
              <a:xfrm>
                <a:off x="2849760" y="6013440"/>
                <a:ext cx="241200" cy="193680"/>
              </a:xfrm>
              <a:custGeom>
                <a:avLst/>
                <a:gdLst/>
                <a:ahLst/>
                <a:rect l="l" t="t" r="r" b="b"/>
                <a:pathLst>
                  <a:path w="304" h="489">
                    <a:moveTo>
                      <a:pt x="0" y="6"/>
                    </a:moveTo>
                    <a:lnTo>
                      <a:pt x="46" y="0"/>
                    </a:lnTo>
                    <a:lnTo>
                      <a:pt x="85" y="49"/>
                    </a:lnTo>
                    <a:lnTo>
                      <a:pt x="231" y="248"/>
                    </a:lnTo>
                    <a:lnTo>
                      <a:pt x="264" y="326"/>
                    </a:lnTo>
                    <a:lnTo>
                      <a:pt x="304" y="489"/>
                    </a:lnTo>
                    <a:lnTo>
                      <a:pt x="257" y="357"/>
                    </a:lnTo>
                    <a:lnTo>
                      <a:pt x="158" y="205"/>
                    </a:lnTo>
                    <a:lnTo>
                      <a:pt x="79" y="7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481"/>
              <p:cNvSpPr/>
              <p:nvPr/>
            </p:nvSpPr>
            <p:spPr>
              <a:xfrm>
                <a:off x="3187800" y="6286320"/>
                <a:ext cx="122040" cy="81000"/>
              </a:xfrm>
              <a:custGeom>
                <a:avLst/>
                <a:gdLst/>
                <a:ahLst/>
                <a:rect l="l" t="t" r="r" b="b"/>
                <a:pathLst>
                  <a:path w="155" h="204">
                    <a:moveTo>
                      <a:pt x="0" y="52"/>
                    </a:moveTo>
                    <a:lnTo>
                      <a:pt x="52" y="8"/>
                    </a:lnTo>
                    <a:lnTo>
                      <a:pt x="91" y="0"/>
                    </a:lnTo>
                    <a:lnTo>
                      <a:pt x="136" y="4"/>
                    </a:lnTo>
                    <a:lnTo>
                      <a:pt x="155" y="49"/>
                    </a:lnTo>
                    <a:lnTo>
                      <a:pt x="146" y="121"/>
                    </a:lnTo>
                    <a:lnTo>
                      <a:pt x="126" y="178"/>
                    </a:lnTo>
                    <a:lnTo>
                      <a:pt x="88" y="204"/>
                    </a:lnTo>
                    <a:lnTo>
                      <a:pt x="48" y="157"/>
                    </a:lnTo>
                    <a:lnTo>
                      <a:pt x="17" y="109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482"/>
              <p:cNvSpPr/>
              <p:nvPr/>
            </p:nvSpPr>
            <p:spPr>
              <a:xfrm>
                <a:off x="2217960" y="6008400"/>
                <a:ext cx="268200" cy="103320"/>
              </a:xfrm>
              <a:custGeom>
                <a:avLst/>
                <a:gdLst/>
                <a:ahLst/>
                <a:rect l="l" t="t" r="r" b="b"/>
                <a:pathLst>
                  <a:path w="337" h="260">
                    <a:moveTo>
                      <a:pt x="337" y="0"/>
                    </a:moveTo>
                    <a:lnTo>
                      <a:pt x="219" y="78"/>
                    </a:lnTo>
                    <a:lnTo>
                      <a:pt x="86" y="174"/>
                    </a:lnTo>
                    <a:lnTo>
                      <a:pt x="0" y="260"/>
                    </a:lnTo>
                    <a:lnTo>
                      <a:pt x="113" y="181"/>
                    </a:lnTo>
                    <a:lnTo>
                      <a:pt x="291" y="90"/>
                    </a:lnTo>
                    <a:lnTo>
                      <a:pt x="337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483"/>
            <p:cNvGrpSpPr/>
            <p:nvPr/>
          </p:nvGrpSpPr>
          <p:grpSpPr>
            <a:xfrm>
              <a:off x="2016000" y="5661000"/>
              <a:ext cx="1441440" cy="973080"/>
              <a:chOff x="2016000" y="5661000"/>
              <a:chExt cx="1441440" cy="973080"/>
            </a:xfrm>
          </p:grpSpPr>
          <p:grpSp>
            <p:nvGrpSpPr>
              <p:cNvPr id="649" name="Group 484"/>
              <p:cNvGrpSpPr/>
              <p:nvPr/>
            </p:nvGrpSpPr>
            <p:grpSpPr>
              <a:xfrm>
                <a:off x="2052360" y="5661000"/>
                <a:ext cx="1405080" cy="534960"/>
                <a:chOff x="2052360" y="5661000"/>
                <a:chExt cx="1405080" cy="534960"/>
              </a:xfrm>
            </p:grpSpPr>
            <p:grpSp>
              <p:nvGrpSpPr>
                <p:cNvPr id="650" name="Group 485"/>
                <p:cNvGrpSpPr/>
                <p:nvPr/>
              </p:nvGrpSpPr>
              <p:grpSpPr>
                <a:xfrm>
                  <a:off x="2052360" y="5803920"/>
                  <a:ext cx="1405080" cy="392040"/>
                  <a:chOff x="2052360" y="5803920"/>
                  <a:chExt cx="1405080" cy="392040"/>
                </a:xfrm>
              </p:grpSpPr>
              <p:sp>
                <p:nvSpPr>
                  <p:cNvPr id="651" name="Freeform 486"/>
                  <p:cNvSpPr/>
                  <p:nvPr/>
                </p:nvSpPr>
                <p:spPr>
                  <a:xfrm>
                    <a:off x="2052360" y="5803920"/>
                    <a:ext cx="1405080" cy="392040"/>
                  </a:xfrm>
                  <a:custGeom>
                    <a:avLst/>
                    <a:gdLst/>
                    <a:ahLst/>
                    <a:rect l="l" t="t" r="r" b="b"/>
                    <a:pathLst>
                      <a:path w="809" h="599">
                        <a:moveTo>
                          <a:pt x="281" y="39"/>
                        </a:moveTo>
                        <a:lnTo>
                          <a:pt x="276" y="57"/>
                        </a:lnTo>
                        <a:lnTo>
                          <a:pt x="273" y="75"/>
                        </a:lnTo>
                        <a:lnTo>
                          <a:pt x="268" y="93"/>
                        </a:lnTo>
                        <a:lnTo>
                          <a:pt x="264" y="112"/>
                        </a:lnTo>
                        <a:lnTo>
                          <a:pt x="245" y="145"/>
                        </a:lnTo>
                        <a:lnTo>
                          <a:pt x="228" y="167"/>
                        </a:lnTo>
                        <a:lnTo>
                          <a:pt x="212" y="181"/>
                        </a:lnTo>
                        <a:lnTo>
                          <a:pt x="197" y="191"/>
                        </a:lnTo>
                        <a:lnTo>
                          <a:pt x="184" y="203"/>
                        </a:lnTo>
                        <a:lnTo>
                          <a:pt x="174" y="220"/>
                        </a:lnTo>
                        <a:lnTo>
                          <a:pt x="165" y="246"/>
                        </a:lnTo>
                        <a:lnTo>
                          <a:pt x="158" y="285"/>
                        </a:lnTo>
                        <a:lnTo>
                          <a:pt x="152" y="286"/>
                        </a:lnTo>
                        <a:lnTo>
                          <a:pt x="146" y="289"/>
                        </a:lnTo>
                        <a:lnTo>
                          <a:pt x="142" y="290"/>
                        </a:lnTo>
                        <a:lnTo>
                          <a:pt x="136" y="291"/>
                        </a:lnTo>
                        <a:lnTo>
                          <a:pt x="131" y="293"/>
                        </a:lnTo>
                        <a:lnTo>
                          <a:pt x="125" y="294"/>
                        </a:lnTo>
                        <a:lnTo>
                          <a:pt x="121" y="295"/>
                        </a:lnTo>
                        <a:lnTo>
                          <a:pt x="115" y="296"/>
                        </a:lnTo>
                        <a:lnTo>
                          <a:pt x="108" y="293"/>
                        </a:lnTo>
                        <a:lnTo>
                          <a:pt x="102" y="290"/>
                        </a:lnTo>
                        <a:lnTo>
                          <a:pt x="95" y="286"/>
                        </a:lnTo>
                        <a:lnTo>
                          <a:pt x="90" y="284"/>
                        </a:lnTo>
                        <a:lnTo>
                          <a:pt x="83" y="281"/>
                        </a:lnTo>
                        <a:lnTo>
                          <a:pt x="77" y="278"/>
                        </a:lnTo>
                        <a:lnTo>
                          <a:pt x="70" y="276"/>
                        </a:lnTo>
                        <a:lnTo>
                          <a:pt x="64" y="273"/>
                        </a:lnTo>
                        <a:lnTo>
                          <a:pt x="56" y="262"/>
                        </a:lnTo>
                        <a:lnTo>
                          <a:pt x="48" y="252"/>
                        </a:lnTo>
                        <a:lnTo>
                          <a:pt x="40" y="243"/>
                        </a:lnTo>
                        <a:lnTo>
                          <a:pt x="32" y="232"/>
                        </a:lnTo>
                        <a:lnTo>
                          <a:pt x="32" y="250"/>
                        </a:lnTo>
                        <a:lnTo>
                          <a:pt x="33" y="269"/>
                        </a:lnTo>
                        <a:lnTo>
                          <a:pt x="33" y="286"/>
                        </a:lnTo>
                        <a:lnTo>
                          <a:pt x="34" y="305"/>
                        </a:lnTo>
                        <a:lnTo>
                          <a:pt x="17" y="346"/>
                        </a:lnTo>
                        <a:lnTo>
                          <a:pt x="6" y="386"/>
                        </a:lnTo>
                        <a:lnTo>
                          <a:pt x="0" y="423"/>
                        </a:lnTo>
                        <a:lnTo>
                          <a:pt x="1" y="459"/>
                        </a:lnTo>
                        <a:lnTo>
                          <a:pt x="11" y="491"/>
                        </a:lnTo>
                        <a:lnTo>
                          <a:pt x="32" y="520"/>
                        </a:lnTo>
                        <a:lnTo>
                          <a:pt x="64" y="545"/>
                        </a:lnTo>
                        <a:lnTo>
                          <a:pt x="109" y="566"/>
                        </a:lnTo>
                        <a:lnTo>
                          <a:pt x="117" y="563"/>
                        </a:lnTo>
                        <a:lnTo>
                          <a:pt x="125" y="559"/>
                        </a:lnTo>
                        <a:lnTo>
                          <a:pt x="133" y="556"/>
                        </a:lnTo>
                        <a:lnTo>
                          <a:pt x="143" y="553"/>
                        </a:lnTo>
                        <a:lnTo>
                          <a:pt x="151" y="550"/>
                        </a:lnTo>
                        <a:lnTo>
                          <a:pt x="159" y="547"/>
                        </a:lnTo>
                        <a:lnTo>
                          <a:pt x="167" y="542"/>
                        </a:lnTo>
                        <a:lnTo>
                          <a:pt x="175" y="539"/>
                        </a:lnTo>
                        <a:lnTo>
                          <a:pt x="181" y="531"/>
                        </a:lnTo>
                        <a:lnTo>
                          <a:pt x="188" y="522"/>
                        </a:lnTo>
                        <a:lnTo>
                          <a:pt x="194" y="515"/>
                        </a:lnTo>
                        <a:lnTo>
                          <a:pt x="200" y="507"/>
                        </a:lnTo>
                        <a:lnTo>
                          <a:pt x="211" y="501"/>
                        </a:lnTo>
                        <a:lnTo>
                          <a:pt x="220" y="494"/>
                        </a:lnTo>
                        <a:lnTo>
                          <a:pt x="230" y="488"/>
                        </a:lnTo>
                        <a:lnTo>
                          <a:pt x="241" y="482"/>
                        </a:lnTo>
                        <a:lnTo>
                          <a:pt x="251" y="475"/>
                        </a:lnTo>
                        <a:lnTo>
                          <a:pt x="261" y="469"/>
                        </a:lnTo>
                        <a:lnTo>
                          <a:pt x="270" y="463"/>
                        </a:lnTo>
                        <a:lnTo>
                          <a:pt x="281" y="457"/>
                        </a:lnTo>
                        <a:lnTo>
                          <a:pt x="291" y="458"/>
                        </a:lnTo>
                        <a:lnTo>
                          <a:pt x="300" y="459"/>
                        </a:lnTo>
                        <a:lnTo>
                          <a:pt x="311" y="460"/>
                        </a:lnTo>
                        <a:lnTo>
                          <a:pt x="321" y="461"/>
                        </a:lnTo>
                        <a:lnTo>
                          <a:pt x="332" y="462"/>
                        </a:lnTo>
                        <a:lnTo>
                          <a:pt x="342" y="463"/>
                        </a:lnTo>
                        <a:lnTo>
                          <a:pt x="351" y="464"/>
                        </a:lnTo>
                        <a:lnTo>
                          <a:pt x="361" y="465"/>
                        </a:lnTo>
                        <a:lnTo>
                          <a:pt x="367" y="472"/>
                        </a:lnTo>
                        <a:lnTo>
                          <a:pt x="373" y="479"/>
                        </a:lnTo>
                        <a:lnTo>
                          <a:pt x="379" y="486"/>
                        </a:lnTo>
                        <a:lnTo>
                          <a:pt x="384" y="493"/>
                        </a:lnTo>
                        <a:lnTo>
                          <a:pt x="389" y="501"/>
                        </a:lnTo>
                        <a:lnTo>
                          <a:pt x="395" y="507"/>
                        </a:lnTo>
                        <a:lnTo>
                          <a:pt x="401" y="514"/>
                        </a:lnTo>
                        <a:lnTo>
                          <a:pt x="406" y="520"/>
                        </a:lnTo>
                        <a:lnTo>
                          <a:pt x="412" y="520"/>
                        </a:lnTo>
                        <a:lnTo>
                          <a:pt x="418" y="520"/>
                        </a:lnTo>
                        <a:lnTo>
                          <a:pt x="424" y="520"/>
                        </a:lnTo>
                        <a:lnTo>
                          <a:pt x="429" y="520"/>
                        </a:lnTo>
                        <a:lnTo>
                          <a:pt x="435" y="520"/>
                        </a:lnTo>
                        <a:lnTo>
                          <a:pt x="441" y="520"/>
                        </a:lnTo>
                        <a:lnTo>
                          <a:pt x="447" y="520"/>
                        </a:lnTo>
                        <a:lnTo>
                          <a:pt x="452" y="520"/>
                        </a:lnTo>
                        <a:lnTo>
                          <a:pt x="458" y="520"/>
                        </a:lnTo>
                        <a:lnTo>
                          <a:pt x="465" y="519"/>
                        </a:lnTo>
                        <a:lnTo>
                          <a:pt x="471" y="519"/>
                        </a:lnTo>
                        <a:lnTo>
                          <a:pt x="478" y="518"/>
                        </a:lnTo>
                        <a:lnTo>
                          <a:pt x="484" y="517"/>
                        </a:lnTo>
                        <a:lnTo>
                          <a:pt x="489" y="517"/>
                        </a:lnTo>
                        <a:lnTo>
                          <a:pt x="496" y="516"/>
                        </a:lnTo>
                        <a:lnTo>
                          <a:pt x="502" y="516"/>
                        </a:lnTo>
                        <a:lnTo>
                          <a:pt x="507" y="520"/>
                        </a:lnTo>
                        <a:lnTo>
                          <a:pt x="511" y="525"/>
                        </a:lnTo>
                        <a:lnTo>
                          <a:pt x="516" y="528"/>
                        </a:lnTo>
                        <a:lnTo>
                          <a:pt x="520" y="532"/>
                        </a:lnTo>
                        <a:lnTo>
                          <a:pt x="525" y="536"/>
                        </a:lnTo>
                        <a:lnTo>
                          <a:pt x="530" y="540"/>
                        </a:lnTo>
                        <a:lnTo>
                          <a:pt x="534" y="544"/>
                        </a:lnTo>
                        <a:lnTo>
                          <a:pt x="539" y="549"/>
                        </a:lnTo>
                        <a:lnTo>
                          <a:pt x="542" y="554"/>
                        </a:lnTo>
                        <a:lnTo>
                          <a:pt x="547" y="559"/>
                        </a:lnTo>
                        <a:lnTo>
                          <a:pt x="551" y="564"/>
                        </a:lnTo>
                        <a:lnTo>
                          <a:pt x="556" y="568"/>
                        </a:lnTo>
                        <a:lnTo>
                          <a:pt x="560" y="574"/>
                        </a:lnTo>
                        <a:lnTo>
                          <a:pt x="564" y="579"/>
                        </a:lnTo>
                        <a:lnTo>
                          <a:pt x="569" y="584"/>
                        </a:lnTo>
                        <a:lnTo>
                          <a:pt x="573" y="589"/>
                        </a:lnTo>
                        <a:lnTo>
                          <a:pt x="580" y="579"/>
                        </a:lnTo>
                        <a:lnTo>
                          <a:pt x="588" y="568"/>
                        </a:lnTo>
                        <a:lnTo>
                          <a:pt x="595" y="559"/>
                        </a:lnTo>
                        <a:lnTo>
                          <a:pt x="603" y="549"/>
                        </a:lnTo>
                        <a:lnTo>
                          <a:pt x="606" y="537"/>
                        </a:lnTo>
                        <a:lnTo>
                          <a:pt x="609" y="526"/>
                        </a:lnTo>
                        <a:lnTo>
                          <a:pt x="611" y="514"/>
                        </a:lnTo>
                        <a:lnTo>
                          <a:pt x="614" y="503"/>
                        </a:lnTo>
                        <a:lnTo>
                          <a:pt x="619" y="519"/>
                        </a:lnTo>
                        <a:lnTo>
                          <a:pt x="626" y="535"/>
                        </a:lnTo>
                        <a:lnTo>
                          <a:pt x="632" y="552"/>
                        </a:lnTo>
                        <a:lnTo>
                          <a:pt x="638" y="568"/>
                        </a:lnTo>
                        <a:lnTo>
                          <a:pt x="644" y="572"/>
                        </a:lnTo>
                        <a:lnTo>
                          <a:pt x="650" y="576"/>
                        </a:lnTo>
                        <a:lnTo>
                          <a:pt x="656" y="579"/>
                        </a:lnTo>
                        <a:lnTo>
                          <a:pt x="662" y="583"/>
                        </a:lnTo>
                        <a:lnTo>
                          <a:pt x="668" y="587"/>
                        </a:lnTo>
                        <a:lnTo>
                          <a:pt x="675" y="591"/>
                        </a:lnTo>
                        <a:lnTo>
                          <a:pt x="680" y="595"/>
                        </a:lnTo>
                        <a:lnTo>
                          <a:pt x="686" y="599"/>
                        </a:lnTo>
                        <a:lnTo>
                          <a:pt x="728" y="594"/>
                        </a:lnTo>
                        <a:lnTo>
                          <a:pt x="758" y="580"/>
                        </a:lnTo>
                        <a:lnTo>
                          <a:pt x="778" y="558"/>
                        </a:lnTo>
                        <a:lnTo>
                          <a:pt x="791" y="530"/>
                        </a:lnTo>
                        <a:lnTo>
                          <a:pt x="799" y="497"/>
                        </a:lnTo>
                        <a:lnTo>
                          <a:pt x="802" y="462"/>
                        </a:lnTo>
                        <a:lnTo>
                          <a:pt x="806" y="425"/>
                        </a:lnTo>
                        <a:lnTo>
                          <a:pt x="809" y="388"/>
                        </a:lnTo>
                        <a:lnTo>
                          <a:pt x="808" y="354"/>
                        </a:lnTo>
                        <a:lnTo>
                          <a:pt x="806" y="321"/>
                        </a:lnTo>
                        <a:lnTo>
                          <a:pt x="805" y="289"/>
                        </a:lnTo>
                        <a:lnTo>
                          <a:pt x="802" y="255"/>
                        </a:lnTo>
                        <a:lnTo>
                          <a:pt x="798" y="261"/>
                        </a:lnTo>
                        <a:lnTo>
                          <a:pt x="793" y="269"/>
                        </a:lnTo>
                        <a:lnTo>
                          <a:pt x="790" y="275"/>
                        </a:lnTo>
                        <a:lnTo>
                          <a:pt x="785" y="282"/>
                        </a:lnTo>
                        <a:lnTo>
                          <a:pt x="781" y="290"/>
                        </a:lnTo>
                        <a:lnTo>
                          <a:pt x="776" y="296"/>
                        </a:lnTo>
                        <a:lnTo>
                          <a:pt x="771" y="303"/>
                        </a:lnTo>
                        <a:lnTo>
                          <a:pt x="767" y="309"/>
                        </a:lnTo>
                        <a:lnTo>
                          <a:pt x="760" y="318"/>
                        </a:lnTo>
                        <a:lnTo>
                          <a:pt x="752" y="326"/>
                        </a:lnTo>
                        <a:lnTo>
                          <a:pt x="745" y="333"/>
                        </a:lnTo>
                        <a:lnTo>
                          <a:pt x="738" y="342"/>
                        </a:lnTo>
                        <a:lnTo>
                          <a:pt x="730" y="350"/>
                        </a:lnTo>
                        <a:lnTo>
                          <a:pt x="723" y="357"/>
                        </a:lnTo>
                        <a:lnTo>
                          <a:pt x="716" y="366"/>
                        </a:lnTo>
                        <a:lnTo>
                          <a:pt x="709" y="374"/>
                        </a:lnTo>
                        <a:lnTo>
                          <a:pt x="709" y="359"/>
                        </a:lnTo>
                        <a:lnTo>
                          <a:pt x="709" y="344"/>
                        </a:lnTo>
                        <a:lnTo>
                          <a:pt x="709" y="328"/>
                        </a:lnTo>
                        <a:lnTo>
                          <a:pt x="709" y="314"/>
                        </a:lnTo>
                        <a:lnTo>
                          <a:pt x="707" y="293"/>
                        </a:lnTo>
                        <a:lnTo>
                          <a:pt x="703" y="272"/>
                        </a:lnTo>
                        <a:lnTo>
                          <a:pt x="700" y="251"/>
                        </a:lnTo>
                        <a:lnTo>
                          <a:pt x="698" y="230"/>
                        </a:lnTo>
                        <a:lnTo>
                          <a:pt x="693" y="224"/>
                        </a:lnTo>
                        <a:lnTo>
                          <a:pt x="688" y="217"/>
                        </a:lnTo>
                        <a:lnTo>
                          <a:pt x="684" y="211"/>
                        </a:lnTo>
                        <a:lnTo>
                          <a:pt x="679" y="205"/>
                        </a:lnTo>
                        <a:lnTo>
                          <a:pt x="675" y="199"/>
                        </a:lnTo>
                        <a:lnTo>
                          <a:pt x="670" y="192"/>
                        </a:lnTo>
                        <a:lnTo>
                          <a:pt x="665" y="186"/>
                        </a:lnTo>
                        <a:lnTo>
                          <a:pt x="661" y="180"/>
                        </a:lnTo>
                        <a:lnTo>
                          <a:pt x="660" y="197"/>
                        </a:lnTo>
                        <a:lnTo>
                          <a:pt x="659" y="214"/>
                        </a:lnTo>
                        <a:lnTo>
                          <a:pt x="657" y="231"/>
                        </a:lnTo>
                        <a:lnTo>
                          <a:pt x="656" y="249"/>
                        </a:lnTo>
                        <a:lnTo>
                          <a:pt x="650" y="253"/>
                        </a:lnTo>
                        <a:lnTo>
                          <a:pt x="645" y="258"/>
                        </a:lnTo>
                        <a:lnTo>
                          <a:pt x="638" y="262"/>
                        </a:lnTo>
                        <a:lnTo>
                          <a:pt x="632" y="268"/>
                        </a:lnTo>
                        <a:lnTo>
                          <a:pt x="626" y="272"/>
                        </a:lnTo>
                        <a:lnTo>
                          <a:pt x="621" y="277"/>
                        </a:lnTo>
                        <a:lnTo>
                          <a:pt x="614" y="281"/>
                        </a:lnTo>
                        <a:lnTo>
                          <a:pt x="608" y="286"/>
                        </a:lnTo>
                        <a:lnTo>
                          <a:pt x="608" y="238"/>
                        </a:lnTo>
                        <a:lnTo>
                          <a:pt x="606" y="197"/>
                        </a:lnTo>
                        <a:lnTo>
                          <a:pt x="601" y="158"/>
                        </a:lnTo>
                        <a:lnTo>
                          <a:pt x="592" y="122"/>
                        </a:lnTo>
                        <a:lnTo>
                          <a:pt x="577" y="91"/>
                        </a:lnTo>
                        <a:lnTo>
                          <a:pt x="554" y="60"/>
                        </a:lnTo>
                        <a:lnTo>
                          <a:pt x="523" y="31"/>
                        </a:lnTo>
                        <a:lnTo>
                          <a:pt x="481" y="0"/>
                        </a:lnTo>
                        <a:lnTo>
                          <a:pt x="486" y="18"/>
                        </a:lnTo>
                        <a:lnTo>
                          <a:pt x="489" y="36"/>
                        </a:lnTo>
                        <a:lnTo>
                          <a:pt x="493" y="55"/>
                        </a:lnTo>
                        <a:lnTo>
                          <a:pt x="497" y="72"/>
                        </a:lnTo>
                        <a:lnTo>
                          <a:pt x="497" y="91"/>
                        </a:lnTo>
                        <a:lnTo>
                          <a:pt x="497" y="109"/>
                        </a:lnTo>
                        <a:lnTo>
                          <a:pt x="497" y="128"/>
                        </a:lnTo>
                        <a:lnTo>
                          <a:pt x="497" y="146"/>
                        </a:lnTo>
                        <a:lnTo>
                          <a:pt x="492" y="152"/>
                        </a:lnTo>
                        <a:lnTo>
                          <a:pt x="486" y="156"/>
                        </a:lnTo>
                        <a:lnTo>
                          <a:pt x="481" y="161"/>
                        </a:lnTo>
                        <a:lnTo>
                          <a:pt x="475" y="165"/>
                        </a:lnTo>
                        <a:lnTo>
                          <a:pt x="470" y="170"/>
                        </a:lnTo>
                        <a:lnTo>
                          <a:pt x="465" y="176"/>
                        </a:lnTo>
                        <a:lnTo>
                          <a:pt x="459" y="180"/>
                        </a:lnTo>
                        <a:lnTo>
                          <a:pt x="454" y="185"/>
                        </a:lnTo>
                        <a:lnTo>
                          <a:pt x="454" y="170"/>
                        </a:lnTo>
                        <a:lnTo>
                          <a:pt x="454" y="155"/>
                        </a:lnTo>
                        <a:lnTo>
                          <a:pt x="452" y="140"/>
                        </a:lnTo>
                        <a:lnTo>
                          <a:pt x="452" y="126"/>
                        </a:lnTo>
                        <a:lnTo>
                          <a:pt x="447" y="112"/>
                        </a:lnTo>
                        <a:lnTo>
                          <a:pt x="440" y="98"/>
                        </a:lnTo>
                        <a:lnTo>
                          <a:pt x="433" y="84"/>
                        </a:lnTo>
                        <a:lnTo>
                          <a:pt x="427" y="70"/>
                        </a:lnTo>
                        <a:lnTo>
                          <a:pt x="420" y="84"/>
                        </a:lnTo>
                        <a:lnTo>
                          <a:pt x="414" y="98"/>
                        </a:lnTo>
                        <a:lnTo>
                          <a:pt x="408" y="112"/>
                        </a:lnTo>
                        <a:lnTo>
                          <a:pt x="402" y="126"/>
                        </a:lnTo>
                        <a:lnTo>
                          <a:pt x="396" y="130"/>
                        </a:lnTo>
                        <a:lnTo>
                          <a:pt x="390" y="134"/>
                        </a:lnTo>
                        <a:lnTo>
                          <a:pt x="384" y="138"/>
                        </a:lnTo>
                        <a:lnTo>
                          <a:pt x="380" y="141"/>
                        </a:lnTo>
                        <a:lnTo>
                          <a:pt x="374" y="145"/>
                        </a:lnTo>
                        <a:lnTo>
                          <a:pt x="368" y="150"/>
                        </a:lnTo>
                        <a:lnTo>
                          <a:pt x="363" y="154"/>
                        </a:lnTo>
                        <a:lnTo>
                          <a:pt x="357" y="158"/>
                        </a:lnTo>
                        <a:lnTo>
                          <a:pt x="356" y="143"/>
                        </a:lnTo>
                        <a:lnTo>
                          <a:pt x="355" y="128"/>
                        </a:lnTo>
                        <a:lnTo>
                          <a:pt x="352" y="113"/>
                        </a:lnTo>
                        <a:lnTo>
                          <a:pt x="351" y="98"/>
                        </a:lnTo>
                        <a:lnTo>
                          <a:pt x="345" y="89"/>
                        </a:lnTo>
                        <a:lnTo>
                          <a:pt x="338" y="80"/>
                        </a:lnTo>
                        <a:lnTo>
                          <a:pt x="333" y="70"/>
                        </a:lnTo>
                        <a:lnTo>
                          <a:pt x="326" y="62"/>
                        </a:lnTo>
                        <a:lnTo>
                          <a:pt x="320" y="59"/>
                        </a:lnTo>
                        <a:lnTo>
                          <a:pt x="314" y="56"/>
                        </a:lnTo>
                        <a:lnTo>
                          <a:pt x="308" y="52"/>
                        </a:lnTo>
                        <a:lnTo>
                          <a:pt x="304" y="50"/>
                        </a:lnTo>
                        <a:lnTo>
                          <a:pt x="298" y="47"/>
                        </a:lnTo>
                        <a:lnTo>
                          <a:pt x="292" y="44"/>
                        </a:lnTo>
                        <a:lnTo>
                          <a:pt x="287" y="42"/>
                        </a:lnTo>
                        <a:lnTo>
                          <a:pt x="281" y="39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Freeform 487"/>
                  <p:cNvSpPr/>
                  <p:nvPr/>
                </p:nvSpPr>
                <p:spPr>
                  <a:xfrm>
                    <a:off x="2197080" y="5877000"/>
                    <a:ext cx="102060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7" h="404">
                        <a:moveTo>
                          <a:pt x="207" y="65"/>
                        </a:moveTo>
                        <a:lnTo>
                          <a:pt x="206" y="76"/>
                        </a:lnTo>
                        <a:lnTo>
                          <a:pt x="205" y="88"/>
                        </a:lnTo>
                        <a:lnTo>
                          <a:pt x="204" y="99"/>
                        </a:lnTo>
                        <a:lnTo>
                          <a:pt x="203" y="111"/>
                        </a:lnTo>
                        <a:lnTo>
                          <a:pt x="190" y="131"/>
                        </a:lnTo>
                        <a:lnTo>
                          <a:pt x="179" y="146"/>
                        </a:lnTo>
                        <a:lnTo>
                          <a:pt x="167" y="157"/>
                        </a:lnTo>
                        <a:lnTo>
                          <a:pt x="157" y="166"/>
                        </a:lnTo>
                        <a:lnTo>
                          <a:pt x="148" y="175"/>
                        </a:lnTo>
                        <a:lnTo>
                          <a:pt x="139" y="188"/>
                        </a:lnTo>
                        <a:lnTo>
                          <a:pt x="133" y="206"/>
                        </a:lnTo>
                        <a:lnTo>
                          <a:pt x="128" y="231"/>
                        </a:lnTo>
                        <a:lnTo>
                          <a:pt x="122" y="229"/>
                        </a:lnTo>
                        <a:lnTo>
                          <a:pt x="116" y="227"/>
                        </a:lnTo>
                        <a:lnTo>
                          <a:pt x="111" y="225"/>
                        </a:lnTo>
                        <a:lnTo>
                          <a:pt x="105" y="223"/>
                        </a:lnTo>
                        <a:lnTo>
                          <a:pt x="97" y="219"/>
                        </a:lnTo>
                        <a:lnTo>
                          <a:pt x="90" y="216"/>
                        </a:lnTo>
                        <a:lnTo>
                          <a:pt x="82" y="213"/>
                        </a:lnTo>
                        <a:lnTo>
                          <a:pt x="74" y="209"/>
                        </a:lnTo>
                        <a:lnTo>
                          <a:pt x="65" y="206"/>
                        </a:lnTo>
                        <a:lnTo>
                          <a:pt x="55" y="204"/>
                        </a:lnTo>
                        <a:lnTo>
                          <a:pt x="46" y="200"/>
                        </a:lnTo>
                        <a:lnTo>
                          <a:pt x="37" y="197"/>
                        </a:lnTo>
                        <a:lnTo>
                          <a:pt x="28" y="195"/>
                        </a:lnTo>
                        <a:lnTo>
                          <a:pt x="19" y="192"/>
                        </a:lnTo>
                        <a:lnTo>
                          <a:pt x="9" y="189"/>
                        </a:lnTo>
                        <a:lnTo>
                          <a:pt x="0" y="186"/>
                        </a:lnTo>
                        <a:lnTo>
                          <a:pt x="7" y="191"/>
                        </a:lnTo>
                        <a:lnTo>
                          <a:pt x="14" y="196"/>
                        </a:lnTo>
                        <a:lnTo>
                          <a:pt x="21" y="202"/>
                        </a:lnTo>
                        <a:lnTo>
                          <a:pt x="28" y="208"/>
                        </a:lnTo>
                        <a:lnTo>
                          <a:pt x="35" y="213"/>
                        </a:lnTo>
                        <a:lnTo>
                          <a:pt x="42" y="218"/>
                        </a:lnTo>
                        <a:lnTo>
                          <a:pt x="49" y="223"/>
                        </a:lnTo>
                        <a:lnTo>
                          <a:pt x="55" y="229"/>
                        </a:lnTo>
                        <a:lnTo>
                          <a:pt x="45" y="254"/>
                        </a:lnTo>
                        <a:lnTo>
                          <a:pt x="37" y="279"/>
                        </a:lnTo>
                        <a:lnTo>
                          <a:pt x="34" y="302"/>
                        </a:lnTo>
                        <a:lnTo>
                          <a:pt x="35" y="324"/>
                        </a:lnTo>
                        <a:lnTo>
                          <a:pt x="42" y="343"/>
                        </a:lnTo>
                        <a:lnTo>
                          <a:pt x="54" y="361"/>
                        </a:lnTo>
                        <a:lnTo>
                          <a:pt x="75" y="377"/>
                        </a:lnTo>
                        <a:lnTo>
                          <a:pt x="103" y="389"/>
                        </a:lnTo>
                        <a:lnTo>
                          <a:pt x="107" y="387"/>
                        </a:lnTo>
                        <a:lnTo>
                          <a:pt x="112" y="385"/>
                        </a:lnTo>
                        <a:lnTo>
                          <a:pt x="118" y="383"/>
                        </a:lnTo>
                        <a:lnTo>
                          <a:pt x="122" y="381"/>
                        </a:lnTo>
                        <a:lnTo>
                          <a:pt x="128" y="379"/>
                        </a:lnTo>
                        <a:lnTo>
                          <a:pt x="133" y="377"/>
                        </a:lnTo>
                        <a:lnTo>
                          <a:pt x="138" y="375"/>
                        </a:lnTo>
                        <a:lnTo>
                          <a:pt x="143" y="373"/>
                        </a:lnTo>
                        <a:lnTo>
                          <a:pt x="146" y="368"/>
                        </a:lnTo>
                        <a:lnTo>
                          <a:pt x="150" y="363"/>
                        </a:lnTo>
                        <a:lnTo>
                          <a:pt x="153" y="358"/>
                        </a:lnTo>
                        <a:lnTo>
                          <a:pt x="158" y="353"/>
                        </a:lnTo>
                        <a:lnTo>
                          <a:pt x="164" y="349"/>
                        </a:lnTo>
                        <a:lnTo>
                          <a:pt x="171" y="346"/>
                        </a:lnTo>
                        <a:lnTo>
                          <a:pt x="176" y="341"/>
                        </a:lnTo>
                        <a:lnTo>
                          <a:pt x="183" y="337"/>
                        </a:lnTo>
                        <a:lnTo>
                          <a:pt x="189" y="333"/>
                        </a:lnTo>
                        <a:lnTo>
                          <a:pt x="196" y="330"/>
                        </a:lnTo>
                        <a:lnTo>
                          <a:pt x="202" y="326"/>
                        </a:lnTo>
                        <a:lnTo>
                          <a:pt x="207" y="323"/>
                        </a:lnTo>
                        <a:lnTo>
                          <a:pt x="213" y="323"/>
                        </a:lnTo>
                        <a:lnTo>
                          <a:pt x="220" y="324"/>
                        </a:lnTo>
                        <a:lnTo>
                          <a:pt x="226" y="324"/>
                        </a:lnTo>
                        <a:lnTo>
                          <a:pt x="233" y="325"/>
                        </a:lnTo>
                        <a:lnTo>
                          <a:pt x="239" y="326"/>
                        </a:lnTo>
                        <a:lnTo>
                          <a:pt x="244" y="327"/>
                        </a:lnTo>
                        <a:lnTo>
                          <a:pt x="251" y="327"/>
                        </a:lnTo>
                        <a:lnTo>
                          <a:pt x="257" y="328"/>
                        </a:lnTo>
                        <a:lnTo>
                          <a:pt x="264" y="336"/>
                        </a:lnTo>
                        <a:lnTo>
                          <a:pt x="271" y="345"/>
                        </a:lnTo>
                        <a:lnTo>
                          <a:pt x="278" y="353"/>
                        </a:lnTo>
                        <a:lnTo>
                          <a:pt x="285" y="361"/>
                        </a:lnTo>
                        <a:lnTo>
                          <a:pt x="291" y="361"/>
                        </a:lnTo>
                        <a:lnTo>
                          <a:pt x="298" y="361"/>
                        </a:lnTo>
                        <a:lnTo>
                          <a:pt x="305" y="361"/>
                        </a:lnTo>
                        <a:lnTo>
                          <a:pt x="313" y="361"/>
                        </a:lnTo>
                        <a:lnTo>
                          <a:pt x="320" y="360"/>
                        </a:lnTo>
                        <a:lnTo>
                          <a:pt x="328" y="360"/>
                        </a:lnTo>
                        <a:lnTo>
                          <a:pt x="335" y="360"/>
                        </a:lnTo>
                        <a:lnTo>
                          <a:pt x="343" y="359"/>
                        </a:lnTo>
                        <a:lnTo>
                          <a:pt x="349" y="364"/>
                        </a:lnTo>
                        <a:lnTo>
                          <a:pt x="355" y="369"/>
                        </a:lnTo>
                        <a:lnTo>
                          <a:pt x="361" y="374"/>
                        </a:lnTo>
                        <a:lnTo>
                          <a:pt x="365" y="379"/>
                        </a:lnTo>
                        <a:lnTo>
                          <a:pt x="371" y="385"/>
                        </a:lnTo>
                        <a:lnTo>
                          <a:pt x="377" y="392"/>
                        </a:lnTo>
                        <a:lnTo>
                          <a:pt x="381" y="398"/>
                        </a:lnTo>
                        <a:lnTo>
                          <a:pt x="387" y="404"/>
                        </a:lnTo>
                        <a:lnTo>
                          <a:pt x="392" y="398"/>
                        </a:lnTo>
                        <a:lnTo>
                          <a:pt x="396" y="392"/>
                        </a:lnTo>
                        <a:lnTo>
                          <a:pt x="402" y="385"/>
                        </a:lnTo>
                        <a:lnTo>
                          <a:pt x="407" y="379"/>
                        </a:lnTo>
                        <a:lnTo>
                          <a:pt x="408" y="372"/>
                        </a:lnTo>
                        <a:lnTo>
                          <a:pt x="409" y="364"/>
                        </a:lnTo>
                        <a:lnTo>
                          <a:pt x="411" y="358"/>
                        </a:lnTo>
                        <a:lnTo>
                          <a:pt x="412" y="351"/>
                        </a:lnTo>
                        <a:lnTo>
                          <a:pt x="416" y="359"/>
                        </a:lnTo>
                        <a:lnTo>
                          <a:pt x="419" y="369"/>
                        </a:lnTo>
                        <a:lnTo>
                          <a:pt x="422" y="377"/>
                        </a:lnTo>
                        <a:lnTo>
                          <a:pt x="425" y="386"/>
                        </a:lnTo>
                        <a:lnTo>
                          <a:pt x="432" y="390"/>
                        </a:lnTo>
                        <a:lnTo>
                          <a:pt x="439" y="394"/>
                        </a:lnTo>
                        <a:lnTo>
                          <a:pt x="446" y="398"/>
                        </a:lnTo>
                        <a:lnTo>
                          <a:pt x="453" y="402"/>
                        </a:lnTo>
                        <a:lnTo>
                          <a:pt x="479" y="399"/>
                        </a:lnTo>
                        <a:lnTo>
                          <a:pt x="498" y="392"/>
                        </a:lnTo>
                        <a:lnTo>
                          <a:pt x="511" y="379"/>
                        </a:lnTo>
                        <a:lnTo>
                          <a:pt x="519" y="363"/>
                        </a:lnTo>
                        <a:lnTo>
                          <a:pt x="525" y="346"/>
                        </a:lnTo>
                        <a:lnTo>
                          <a:pt x="529" y="325"/>
                        </a:lnTo>
                        <a:lnTo>
                          <a:pt x="531" y="303"/>
                        </a:lnTo>
                        <a:lnTo>
                          <a:pt x="533" y="280"/>
                        </a:lnTo>
                        <a:lnTo>
                          <a:pt x="540" y="270"/>
                        </a:lnTo>
                        <a:lnTo>
                          <a:pt x="547" y="260"/>
                        </a:lnTo>
                        <a:lnTo>
                          <a:pt x="554" y="251"/>
                        </a:lnTo>
                        <a:lnTo>
                          <a:pt x="561" y="240"/>
                        </a:lnTo>
                        <a:lnTo>
                          <a:pt x="567" y="230"/>
                        </a:lnTo>
                        <a:lnTo>
                          <a:pt x="574" y="220"/>
                        </a:lnTo>
                        <a:lnTo>
                          <a:pt x="581" y="210"/>
                        </a:lnTo>
                        <a:lnTo>
                          <a:pt x="587" y="200"/>
                        </a:lnTo>
                        <a:lnTo>
                          <a:pt x="579" y="205"/>
                        </a:lnTo>
                        <a:lnTo>
                          <a:pt x="571" y="208"/>
                        </a:lnTo>
                        <a:lnTo>
                          <a:pt x="563" y="212"/>
                        </a:lnTo>
                        <a:lnTo>
                          <a:pt x="556" y="216"/>
                        </a:lnTo>
                        <a:lnTo>
                          <a:pt x="548" y="220"/>
                        </a:lnTo>
                        <a:lnTo>
                          <a:pt x="540" y="223"/>
                        </a:lnTo>
                        <a:lnTo>
                          <a:pt x="532" y="228"/>
                        </a:lnTo>
                        <a:lnTo>
                          <a:pt x="524" y="232"/>
                        </a:lnTo>
                        <a:lnTo>
                          <a:pt x="517" y="237"/>
                        </a:lnTo>
                        <a:lnTo>
                          <a:pt x="511" y="242"/>
                        </a:lnTo>
                        <a:lnTo>
                          <a:pt x="505" y="246"/>
                        </a:lnTo>
                        <a:lnTo>
                          <a:pt x="498" y="252"/>
                        </a:lnTo>
                        <a:lnTo>
                          <a:pt x="491" y="257"/>
                        </a:lnTo>
                        <a:lnTo>
                          <a:pt x="484" y="261"/>
                        </a:lnTo>
                        <a:lnTo>
                          <a:pt x="478" y="266"/>
                        </a:lnTo>
                        <a:lnTo>
                          <a:pt x="471" y="271"/>
                        </a:lnTo>
                        <a:lnTo>
                          <a:pt x="471" y="262"/>
                        </a:lnTo>
                        <a:lnTo>
                          <a:pt x="471" y="253"/>
                        </a:lnTo>
                        <a:lnTo>
                          <a:pt x="471" y="243"/>
                        </a:lnTo>
                        <a:lnTo>
                          <a:pt x="471" y="235"/>
                        </a:lnTo>
                        <a:lnTo>
                          <a:pt x="477" y="220"/>
                        </a:lnTo>
                        <a:lnTo>
                          <a:pt x="481" y="206"/>
                        </a:lnTo>
                        <a:lnTo>
                          <a:pt x="487" y="191"/>
                        </a:lnTo>
                        <a:lnTo>
                          <a:pt x="492" y="176"/>
                        </a:lnTo>
                        <a:lnTo>
                          <a:pt x="493" y="168"/>
                        </a:lnTo>
                        <a:lnTo>
                          <a:pt x="494" y="161"/>
                        </a:lnTo>
                        <a:lnTo>
                          <a:pt x="494" y="152"/>
                        </a:lnTo>
                        <a:lnTo>
                          <a:pt x="495" y="145"/>
                        </a:lnTo>
                        <a:lnTo>
                          <a:pt x="491" y="150"/>
                        </a:lnTo>
                        <a:lnTo>
                          <a:pt x="486" y="155"/>
                        </a:lnTo>
                        <a:lnTo>
                          <a:pt x="481" y="161"/>
                        </a:lnTo>
                        <a:lnTo>
                          <a:pt x="477" y="166"/>
                        </a:lnTo>
                        <a:lnTo>
                          <a:pt x="472" y="171"/>
                        </a:lnTo>
                        <a:lnTo>
                          <a:pt x="468" y="177"/>
                        </a:lnTo>
                        <a:lnTo>
                          <a:pt x="463" y="183"/>
                        </a:lnTo>
                        <a:lnTo>
                          <a:pt x="458" y="188"/>
                        </a:lnTo>
                        <a:lnTo>
                          <a:pt x="453" y="191"/>
                        </a:lnTo>
                        <a:lnTo>
                          <a:pt x="446" y="195"/>
                        </a:lnTo>
                        <a:lnTo>
                          <a:pt x="440" y="198"/>
                        </a:lnTo>
                        <a:lnTo>
                          <a:pt x="434" y="202"/>
                        </a:lnTo>
                        <a:lnTo>
                          <a:pt x="427" y="207"/>
                        </a:lnTo>
                        <a:lnTo>
                          <a:pt x="422" y="210"/>
                        </a:lnTo>
                        <a:lnTo>
                          <a:pt x="415" y="214"/>
                        </a:lnTo>
                        <a:lnTo>
                          <a:pt x="409" y="217"/>
                        </a:lnTo>
                        <a:lnTo>
                          <a:pt x="411" y="186"/>
                        </a:lnTo>
                        <a:lnTo>
                          <a:pt x="418" y="155"/>
                        </a:lnTo>
                        <a:lnTo>
                          <a:pt x="426" y="125"/>
                        </a:lnTo>
                        <a:lnTo>
                          <a:pt x="433" y="96"/>
                        </a:lnTo>
                        <a:lnTo>
                          <a:pt x="437" y="69"/>
                        </a:lnTo>
                        <a:lnTo>
                          <a:pt x="434" y="43"/>
                        </a:lnTo>
                        <a:lnTo>
                          <a:pt x="423" y="20"/>
                        </a:lnTo>
                        <a:lnTo>
                          <a:pt x="400" y="0"/>
                        </a:lnTo>
                        <a:lnTo>
                          <a:pt x="395" y="17"/>
                        </a:lnTo>
                        <a:lnTo>
                          <a:pt x="389" y="33"/>
                        </a:lnTo>
                        <a:lnTo>
                          <a:pt x="385" y="51"/>
                        </a:lnTo>
                        <a:lnTo>
                          <a:pt x="379" y="68"/>
                        </a:lnTo>
                        <a:lnTo>
                          <a:pt x="379" y="79"/>
                        </a:lnTo>
                        <a:lnTo>
                          <a:pt x="379" y="90"/>
                        </a:lnTo>
                        <a:lnTo>
                          <a:pt x="379" y="101"/>
                        </a:lnTo>
                        <a:lnTo>
                          <a:pt x="379" y="113"/>
                        </a:lnTo>
                        <a:lnTo>
                          <a:pt x="372" y="118"/>
                        </a:lnTo>
                        <a:lnTo>
                          <a:pt x="366" y="123"/>
                        </a:lnTo>
                        <a:lnTo>
                          <a:pt x="359" y="128"/>
                        </a:lnTo>
                        <a:lnTo>
                          <a:pt x="354" y="134"/>
                        </a:lnTo>
                        <a:lnTo>
                          <a:pt x="347" y="140"/>
                        </a:lnTo>
                        <a:lnTo>
                          <a:pt x="340" y="145"/>
                        </a:lnTo>
                        <a:lnTo>
                          <a:pt x="334" y="150"/>
                        </a:lnTo>
                        <a:lnTo>
                          <a:pt x="327" y="155"/>
                        </a:lnTo>
                        <a:lnTo>
                          <a:pt x="324" y="146"/>
                        </a:lnTo>
                        <a:lnTo>
                          <a:pt x="320" y="137"/>
                        </a:lnTo>
                        <a:lnTo>
                          <a:pt x="317" y="127"/>
                        </a:lnTo>
                        <a:lnTo>
                          <a:pt x="313" y="119"/>
                        </a:lnTo>
                        <a:lnTo>
                          <a:pt x="309" y="111"/>
                        </a:lnTo>
                        <a:lnTo>
                          <a:pt x="305" y="101"/>
                        </a:lnTo>
                        <a:lnTo>
                          <a:pt x="302" y="93"/>
                        </a:lnTo>
                        <a:lnTo>
                          <a:pt x="297" y="84"/>
                        </a:lnTo>
                        <a:lnTo>
                          <a:pt x="294" y="93"/>
                        </a:lnTo>
                        <a:lnTo>
                          <a:pt x="290" y="101"/>
                        </a:lnTo>
                        <a:lnTo>
                          <a:pt x="286" y="111"/>
                        </a:lnTo>
                        <a:lnTo>
                          <a:pt x="282" y="119"/>
                        </a:lnTo>
                        <a:lnTo>
                          <a:pt x="275" y="124"/>
                        </a:lnTo>
                        <a:lnTo>
                          <a:pt x="268" y="128"/>
                        </a:lnTo>
                        <a:lnTo>
                          <a:pt x="260" y="134"/>
                        </a:lnTo>
                        <a:lnTo>
                          <a:pt x="253" y="139"/>
                        </a:lnTo>
                        <a:lnTo>
                          <a:pt x="252" y="129"/>
                        </a:lnTo>
                        <a:lnTo>
                          <a:pt x="252" y="120"/>
                        </a:lnTo>
                        <a:lnTo>
                          <a:pt x="252" y="111"/>
                        </a:lnTo>
                        <a:lnTo>
                          <a:pt x="251" y="102"/>
                        </a:lnTo>
                        <a:lnTo>
                          <a:pt x="247" y="96"/>
                        </a:lnTo>
                        <a:lnTo>
                          <a:pt x="243" y="91"/>
                        </a:lnTo>
                        <a:lnTo>
                          <a:pt x="240" y="84"/>
                        </a:lnTo>
                        <a:lnTo>
                          <a:pt x="235" y="79"/>
                        </a:lnTo>
                        <a:lnTo>
                          <a:pt x="228" y="75"/>
                        </a:lnTo>
                        <a:lnTo>
                          <a:pt x="221" y="72"/>
                        </a:lnTo>
                        <a:lnTo>
                          <a:pt x="214" y="69"/>
                        </a:lnTo>
                        <a:lnTo>
                          <a:pt x="207" y="65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Freeform 488"/>
                  <p:cNvSpPr/>
                  <p:nvPr/>
                </p:nvSpPr>
                <p:spPr>
                  <a:xfrm>
                    <a:off x="2304720" y="5913360"/>
                    <a:ext cx="9748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2" h="378">
                        <a:moveTo>
                          <a:pt x="203" y="69"/>
                        </a:moveTo>
                        <a:lnTo>
                          <a:pt x="201" y="79"/>
                        </a:lnTo>
                        <a:lnTo>
                          <a:pt x="200" y="90"/>
                        </a:lnTo>
                        <a:lnTo>
                          <a:pt x="199" y="100"/>
                        </a:lnTo>
                        <a:lnTo>
                          <a:pt x="198" y="111"/>
                        </a:lnTo>
                        <a:lnTo>
                          <a:pt x="187" y="129"/>
                        </a:lnTo>
                        <a:lnTo>
                          <a:pt x="176" y="143"/>
                        </a:lnTo>
                        <a:lnTo>
                          <a:pt x="166" y="153"/>
                        </a:lnTo>
                        <a:lnTo>
                          <a:pt x="155" y="162"/>
                        </a:lnTo>
                        <a:lnTo>
                          <a:pt x="146" y="171"/>
                        </a:lnTo>
                        <a:lnTo>
                          <a:pt x="138" y="184"/>
                        </a:lnTo>
                        <a:lnTo>
                          <a:pt x="132" y="200"/>
                        </a:lnTo>
                        <a:lnTo>
                          <a:pt x="129" y="223"/>
                        </a:lnTo>
                        <a:lnTo>
                          <a:pt x="124" y="221"/>
                        </a:lnTo>
                        <a:lnTo>
                          <a:pt x="119" y="218"/>
                        </a:lnTo>
                        <a:lnTo>
                          <a:pt x="114" y="215"/>
                        </a:lnTo>
                        <a:lnTo>
                          <a:pt x="108" y="213"/>
                        </a:lnTo>
                        <a:lnTo>
                          <a:pt x="101" y="210"/>
                        </a:lnTo>
                        <a:lnTo>
                          <a:pt x="94" y="207"/>
                        </a:lnTo>
                        <a:lnTo>
                          <a:pt x="87" y="204"/>
                        </a:lnTo>
                        <a:lnTo>
                          <a:pt x="81" y="200"/>
                        </a:lnTo>
                        <a:lnTo>
                          <a:pt x="70" y="198"/>
                        </a:lnTo>
                        <a:lnTo>
                          <a:pt x="61" y="195"/>
                        </a:lnTo>
                        <a:lnTo>
                          <a:pt x="51" y="193"/>
                        </a:lnTo>
                        <a:lnTo>
                          <a:pt x="40" y="190"/>
                        </a:lnTo>
                        <a:lnTo>
                          <a:pt x="31" y="188"/>
                        </a:lnTo>
                        <a:lnTo>
                          <a:pt x="21" y="186"/>
                        </a:lnTo>
                        <a:lnTo>
                          <a:pt x="10" y="183"/>
                        </a:lnTo>
                        <a:lnTo>
                          <a:pt x="0" y="181"/>
                        </a:lnTo>
                        <a:lnTo>
                          <a:pt x="8" y="185"/>
                        </a:lnTo>
                        <a:lnTo>
                          <a:pt x="16" y="190"/>
                        </a:lnTo>
                        <a:lnTo>
                          <a:pt x="24" y="194"/>
                        </a:lnTo>
                        <a:lnTo>
                          <a:pt x="32" y="199"/>
                        </a:lnTo>
                        <a:lnTo>
                          <a:pt x="40" y="204"/>
                        </a:lnTo>
                        <a:lnTo>
                          <a:pt x="47" y="209"/>
                        </a:lnTo>
                        <a:lnTo>
                          <a:pt x="55" y="213"/>
                        </a:lnTo>
                        <a:lnTo>
                          <a:pt x="63" y="218"/>
                        </a:lnTo>
                        <a:lnTo>
                          <a:pt x="54" y="241"/>
                        </a:lnTo>
                        <a:lnTo>
                          <a:pt x="47" y="264"/>
                        </a:lnTo>
                        <a:lnTo>
                          <a:pt x="44" y="285"/>
                        </a:lnTo>
                        <a:lnTo>
                          <a:pt x="45" y="305"/>
                        </a:lnTo>
                        <a:lnTo>
                          <a:pt x="51" y="324"/>
                        </a:lnTo>
                        <a:lnTo>
                          <a:pt x="62" y="339"/>
                        </a:lnTo>
                        <a:lnTo>
                          <a:pt x="81" y="354"/>
                        </a:lnTo>
                        <a:lnTo>
                          <a:pt x="106" y="365"/>
                        </a:lnTo>
                        <a:lnTo>
                          <a:pt x="111" y="363"/>
                        </a:lnTo>
                        <a:lnTo>
                          <a:pt x="115" y="361"/>
                        </a:lnTo>
                        <a:lnTo>
                          <a:pt x="120" y="359"/>
                        </a:lnTo>
                        <a:lnTo>
                          <a:pt x="124" y="357"/>
                        </a:lnTo>
                        <a:lnTo>
                          <a:pt x="129" y="356"/>
                        </a:lnTo>
                        <a:lnTo>
                          <a:pt x="134" y="354"/>
                        </a:lnTo>
                        <a:lnTo>
                          <a:pt x="138" y="352"/>
                        </a:lnTo>
                        <a:lnTo>
                          <a:pt x="143" y="350"/>
                        </a:lnTo>
                        <a:lnTo>
                          <a:pt x="146" y="346"/>
                        </a:lnTo>
                        <a:lnTo>
                          <a:pt x="150" y="340"/>
                        </a:lnTo>
                        <a:lnTo>
                          <a:pt x="153" y="336"/>
                        </a:lnTo>
                        <a:lnTo>
                          <a:pt x="157" y="332"/>
                        </a:lnTo>
                        <a:lnTo>
                          <a:pt x="162" y="329"/>
                        </a:lnTo>
                        <a:lnTo>
                          <a:pt x="168" y="325"/>
                        </a:lnTo>
                        <a:lnTo>
                          <a:pt x="174" y="322"/>
                        </a:lnTo>
                        <a:lnTo>
                          <a:pt x="180" y="317"/>
                        </a:lnTo>
                        <a:lnTo>
                          <a:pt x="185" y="314"/>
                        </a:lnTo>
                        <a:lnTo>
                          <a:pt x="191" y="311"/>
                        </a:lnTo>
                        <a:lnTo>
                          <a:pt x="197" y="307"/>
                        </a:lnTo>
                        <a:lnTo>
                          <a:pt x="203" y="304"/>
                        </a:lnTo>
                        <a:lnTo>
                          <a:pt x="208" y="304"/>
                        </a:lnTo>
                        <a:lnTo>
                          <a:pt x="213" y="305"/>
                        </a:lnTo>
                        <a:lnTo>
                          <a:pt x="219" y="305"/>
                        </a:lnTo>
                        <a:lnTo>
                          <a:pt x="225" y="306"/>
                        </a:lnTo>
                        <a:lnTo>
                          <a:pt x="229" y="307"/>
                        </a:lnTo>
                        <a:lnTo>
                          <a:pt x="235" y="308"/>
                        </a:lnTo>
                        <a:lnTo>
                          <a:pt x="241" y="308"/>
                        </a:lnTo>
                        <a:lnTo>
                          <a:pt x="246" y="309"/>
                        </a:lnTo>
                        <a:lnTo>
                          <a:pt x="253" y="316"/>
                        </a:lnTo>
                        <a:lnTo>
                          <a:pt x="260" y="324"/>
                        </a:lnTo>
                        <a:lnTo>
                          <a:pt x="266" y="332"/>
                        </a:lnTo>
                        <a:lnTo>
                          <a:pt x="273" y="339"/>
                        </a:lnTo>
                        <a:lnTo>
                          <a:pt x="279" y="339"/>
                        </a:lnTo>
                        <a:lnTo>
                          <a:pt x="286" y="339"/>
                        </a:lnTo>
                        <a:lnTo>
                          <a:pt x="291" y="339"/>
                        </a:lnTo>
                        <a:lnTo>
                          <a:pt x="297" y="339"/>
                        </a:lnTo>
                        <a:lnTo>
                          <a:pt x="305" y="338"/>
                        </a:lnTo>
                        <a:lnTo>
                          <a:pt x="312" y="338"/>
                        </a:lnTo>
                        <a:lnTo>
                          <a:pt x="319" y="337"/>
                        </a:lnTo>
                        <a:lnTo>
                          <a:pt x="326" y="337"/>
                        </a:lnTo>
                        <a:lnTo>
                          <a:pt x="330" y="341"/>
                        </a:lnTo>
                        <a:lnTo>
                          <a:pt x="336" y="346"/>
                        </a:lnTo>
                        <a:lnTo>
                          <a:pt x="341" y="351"/>
                        </a:lnTo>
                        <a:lnTo>
                          <a:pt x="347" y="355"/>
                        </a:lnTo>
                        <a:lnTo>
                          <a:pt x="351" y="360"/>
                        </a:lnTo>
                        <a:lnTo>
                          <a:pt x="356" y="367"/>
                        </a:lnTo>
                        <a:lnTo>
                          <a:pt x="360" y="373"/>
                        </a:lnTo>
                        <a:lnTo>
                          <a:pt x="365" y="378"/>
                        </a:lnTo>
                        <a:lnTo>
                          <a:pt x="370" y="373"/>
                        </a:lnTo>
                        <a:lnTo>
                          <a:pt x="374" y="367"/>
                        </a:lnTo>
                        <a:lnTo>
                          <a:pt x="378" y="360"/>
                        </a:lnTo>
                        <a:lnTo>
                          <a:pt x="382" y="355"/>
                        </a:lnTo>
                        <a:lnTo>
                          <a:pt x="383" y="349"/>
                        </a:lnTo>
                        <a:lnTo>
                          <a:pt x="386" y="341"/>
                        </a:lnTo>
                        <a:lnTo>
                          <a:pt x="387" y="335"/>
                        </a:lnTo>
                        <a:lnTo>
                          <a:pt x="388" y="329"/>
                        </a:lnTo>
                        <a:lnTo>
                          <a:pt x="391" y="336"/>
                        </a:lnTo>
                        <a:lnTo>
                          <a:pt x="394" y="345"/>
                        </a:lnTo>
                        <a:lnTo>
                          <a:pt x="397" y="352"/>
                        </a:lnTo>
                        <a:lnTo>
                          <a:pt x="400" y="360"/>
                        </a:lnTo>
                        <a:lnTo>
                          <a:pt x="405" y="364"/>
                        </a:lnTo>
                        <a:lnTo>
                          <a:pt x="412" y="368"/>
                        </a:lnTo>
                        <a:lnTo>
                          <a:pt x="418" y="371"/>
                        </a:lnTo>
                        <a:lnTo>
                          <a:pt x="424" y="375"/>
                        </a:lnTo>
                        <a:lnTo>
                          <a:pt x="448" y="373"/>
                        </a:lnTo>
                        <a:lnTo>
                          <a:pt x="465" y="365"/>
                        </a:lnTo>
                        <a:lnTo>
                          <a:pt x="477" y="354"/>
                        </a:lnTo>
                        <a:lnTo>
                          <a:pt x="485" y="340"/>
                        </a:lnTo>
                        <a:lnTo>
                          <a:pt x="491" y="324"/>
                        </a:lnTo>
                        <a:lnTo>
                          <a:pt x="493" y="305"/>
                        </a:lnTo>
                        <a:lnTo>
                          <a:pt x="495" y="285"/>
                        </a:lnTo>
                        <a:lnTo>
                          <a:pt x="497" y="265"/>
                        </a:lnTo>
                        <a:lnTo>
                          <a:pt x="505" y="256"/>
                        </a:lnTo>
                        <a:lnTo>
                          <a:pt x="514" y="247"/>
                        </a:lnTo>
                        <a:lnTo>
                          <a:pt x="522" y="238"/>
                        </a:lnTo>
                        <a:lnTo>
                          <a:pt x="530" y="229"/>
                        </a:lnTo>
                        <a:lnTo>
                          <a:pt x="538" y="220"/>
                        </a:lnTo>
                        <a:lnTo>
                          <a:pt x="546" y="211"/>
                        </a:lnTo>
                        <a:lnTo>
                          <a:pt x="554" y="203"/>
                        </a:lnTo>
                        <a:lnTo>
                          <a:pt x="562" y="193"/>
                        </a:lnTo>
                        <a:lnTo>
                          <a:pt x="554" y="196"/>
                        </a:lnTo>
                        <a:lnTo>
                          <a:pt x="545" y="200"/>
                        </a:lnTo>
                        <a:lnTo>
                          <a:pt x="537" y="204"/>
                        </a:lnTo>
                        <a:lnTo>
                          <a:pt x="529" y="207"/>
                        </a:lnTo>
                        <a:lnTo>
                          <a:pt x="519" y="211"/>
                        </a:lnTo>
                        <a:lnTo>
                          <a:pt x="511" y="214"/>
                        </a:lnTo>
                        <a:lnTo>
                          <a:pt x="502" y="218"/>
                        </a:lnTo>
                        <a:lnTo>
                          <a:pt x="494" y="221"/>
                        </a:lnTo>
                        <a:lnTo>
                          <a:pt x="487" y="226"/>
                        </a:lnTo>
                        <a:lnTo>
                          <a:pt x="481" y="230"/>
                        </a:lnTo>
                        <a:lnTo>
                          <a:pt x="474" y="235"/>
                        </a:lnTo>
                        <a:lnTo>
                          <a:pt x="467" y="239"/>
                        </a:lnTo>
                        <a:lnTo>
                          <a:pt x="462" y="243"/>
                        </a:lnTo>
                        <a:lnTo>
                          <a:pt x="455" y="249"/>
                        </a:lnTo>
                        <a:lnTo>
                          <a:pt x="448" y="253"/>
                        </a:lnTo>
                        <a:lnTo>
                          <a:pt x="441" y="257"/>
                        </a:lnTo>
                        <a:lnTo>
                          <a:pt x="441" y="249"/>
                        </a:lnTo>
                        <a:lnTo>
                          <a:pt x="441" y="240"/>
                        </a:lnTo>
                        <a:lnTo>
                          <a:pt x="441" y="232"/>
                        </a:lnTo>
                        <a:lnTo>
                          <a:pt x="441" y="223"/>
                        </a:lnTo>
                        <a:lnTo>
                          <a:pt x="448" y="210"/>
                        </a:lnTo>
                        <a:lnTo>
                          <a:pt x="455" y="196"/>
                        </a:lnTo>
                        <a:lnTo>
                          <a:pt x="461" y="183"/>
                        </a:lnTo>
                        <a:lnTo>
                          <a:pt x="467" y="169"/>
                        </a:lnTo>
                        <a:lnTo>
                          <a:pt x="470" y="162"/>
                        </a:lnTo>
                        <a:lnTo>
                          <a:pt x="472" y="155"/>
                        </a:lnTo>
                        <a:lnTo>
                          <a:pt x="474" y="148"/>
                        </a:lnTo>
                        <a:lnTo>
                          <a:pt x="477" y="141"/>
                        </a:lnTo>
                        <a:lnTo>
                          <a:pt x="472" y="146"/>
                        </a:lnTo>
                        <a:lnTo>
                          <a:pt x="466" y="150"/>
                        </a:lnTo>
                        <a:lnTo>
                          <a:pt x="462" y="156"/>
                        </a:lnTo>
                        <a:lnTo>
                          <a:pt x="456" y="160"/>
                        </a:lnTo>
                        <a:lnTo>
                          <a:pt x="451" y="165"/>
                        </a:lnTo>
                        <a:lnTo>
                          <a:pt x="446" y="169"/>
                        </a:lnTo>
                        <a:lnTo>
                          <a:pt x="441" y="174"/>
                        </a:lnTo>
                        <a:lnTo>
                          <a:pt x="435" y="180"/>
                        </a:lnTo>
                        <a:lnTo>
                          <a:pt x="429" y="183"/>
                        </a:lnTo>
                        <a:lnTo>
                          <a:pt x="423" y="187"/>
                        </a:lnTo>
                        <a:lnTo>
                          <a:pt x="417" y="190"/>
                        </a:lnTo>
                        <a:lnTo>
                          <a:pt x="410" y="193"/>
                        </a:lnTo>
                        <a:lnTo>
                          <a:pt x="404" y="197"/>
                        </a:lnTo>
                        <a:lnTo>
                          <a:pt x="397" y="200"/>
                        </a:lnTo>
                        <a:lnTo>
                          <a:pt x="391" y="205"/>
                        </a:lnTo>
                        <a:lnTo>
                          <a:pt x="385" y="208"/>
                        </a:lnTo>
                        <a:lnTo>
                          <a:pt x="388" y="180"/>
                        </a:lnTo>
                        <a:lnTo>
                          <a:pt x="396" y="150"/>
                        </a:lnTo>
                        <a:lnTo>
                          <a:pt x="405" y="121"/>
                        </a:lnTo>
                        <a:lnTo>
                          <a:pt x="416" y="93"/>
                        </a:lnTo>
                        <a:lnTo>
                          <a:pt x="421" y="66"/>
                        </a:lnTo>
                        <a:lnTo>
                          <a:pt x="421" y="41"/>
                        </a:lnTo>
                        <a:lnTo>
                          <a:pt x="413" y="19"/>
                        </a:lnTo>
                        <a:lnTo>
                          <a:pt x="394" y="0"/>
                        </a:lnTo>
                        <a:lnTo>
                          <a:pt x="387" y="17"/>
                        </a:lnTo>
                        <a:lnTo>
                          <a:pt x="380" y="33"/>
                        </a:lnTo>
                        <a:lnTo>
                          <a:pt x="373" y="50"/>
                        </a:lnTo>
                        <a:lnTo>
                          <a:pt x="367" y="67"/>
                        </a:lnTo>
                        <a:lnTo>
                          <a:pt x="367" y="77"/>
                        </a:lnTo>
                        <a:lnTo>
                          <a:pt x="367" y="88"/>
                        </a:lnTo>
                        <a:lnTo>
                          <a:pt x="367" y="98"/>
                        </a:lnTo>
                        <a:lnTo>
                          <a:pt x="367" y="109"/>
                        </a:lnTo>
                        <a:lnTo>
                          <a:pt x="360" y="114"/>
                        </a:lnTo>
                        <a:lnTo>
                          <a:pt x="353" y="119"/>
                        </a:lnTo>
                        <a:lnTo>
                          <a:pt x="347" y="124"/>
                        </a:lnTo>
                        <a:lnTo>
                          <a:pt x="341" y="129"/>
                        </a:lnTo>
                        <a:lnTo>
                          <a:pt x="334" y="136"/>
                        </a:lnTo>
                        <a:lnTo>
                          <a:pt x="327" y="141"/>
                        </a:lnTo>
                        <a:lnTo>
                          <a:pt x="320" y="146"/>
                        </a:lnTo>
                        <a:lnTo>
                          <a:pt x="313" y="151"/>
                        </a:lnTo>
                        <a:lnTo>
                          <a:pt x="310" y="143"/>
                        </a:lnTo>
                        <a:lnTo>
                          <a:pt x="305" y="135"/>
                        </a:lnTo>
                        <a:lnTo>
                          <a:pt x="302" y="126"/>
                        </a:lnTo>
                        <a:lnTo>
                          <a:pt x="297" y="118"/>
                        </a:lnTo>
                        <a:lnTo>
                          <a:pt x="294" y="111"/>
                        </a:lnTo>
                        <a:lnTo>
                          <a:pt x="290" y="102"/>
                        </a:lnTo>
                        <a:lnTo>
                          <a:pt x="287" y="95"/>
                        </a:lnTo>
                        <a:lnTo>
                          <a:pt x="283" y="88"/>
                        </a:lnTo>
                        <a:lnTo>
                          <a:pt x="280" y="95"/>
                        </a:lnTo>
                        <a:lnTo>
                          <a:pt x="276" y="102"/>
                        </a:lnTo>
                        <a:lnTo>
                          <a:pt x="273" y="111"/>
                        </a:lnTo>
                        <a:lnTo>
                          <a:pt x="269" y="118"/>
                        </a:lnTo>
                        <a:lnTo>
                          <a:pt x="264" y="122"/>
                        </a:lnTo>
                        <a:lnTo>
                          <a:pt x="257" y="127"/>
                        </a:lnTo>
                        <a:lnTo>
                          <a:pt x="250" y="132"/>
                        </a:lnTo>
                        <a:lnTo>
                          <a:pt x="244" y="137"/>
                        </a:lnTo>
                        <a:lnTo>
                          <a:pt x="243" y="128"/>
                        </a:lnTo>
                        <a:lnTo>
                          <a:pt x="243" y="119"/>
                        </a:lnTo>
                        <a:lnTo>
                          <a:pt x="242" y="111"/>
                        </a:lnTo>
                        <a:lnTo>
                          <a:pt x="241" y="102"/>
                        </a:lnTo>
                        <a:lnTo>
                          <a:pt x="237" y="97"/>
                        </a:lnTo>
                        <a:lnTo>
                          <a:pt x="234" y="92"/>
                        </a:lnTo>
                        <a:lnTo>
                          <a:pt x="230" y="88"/>
                        </a:lnTo>
                        <a:lnTo>
                          <a:pt x="227" y="82"/>
                        </a:lnTo>
                        <a:lnTo>
                          <a:pt x="221" y="79"/>
                        </a:lnTo>
                        <a:lnTo>
                          <a:pt x="214" y="76"/>
                        </a:lnTo>
                        <a:lnTo>
                          <a:pt x="208" y="73"/>
                        </a:lnTo>
                        <a:lnTo>
                          <a:pt x="203" y="69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" name="Group 489"/>
                <p:cNvGrpSpPr/>
                <p:nvPr/>
              </p:nvGrpSpPr>
              <p:grpSpPr>
                <a:xfrm>
                  <a:off x="2124000" y="5661000"/>
                  <a:ext cx="1150920" cy="504720"/>
                  <a:chOff x="2124000" y="5661000"/>
                  <a:chExt cx="1150920" cy="504720"/>
                </a:xfrm>
              </p:grpSpPr>
              <p:sp>
                <p:nvSpPr>
                  <p:cNvPr id="655" name="Freeform 490"/>
                  <p:cNvSpPr/>
                  <p:nvPr/>
                </p:nvSpPr>
                <p:spPr>
                  <a:xfrm>
                    <a:off x="2124000" y="5661000"/>
                    <a:ext cx="1150920" cy="504720"/>
                  </a:xfrm>
                  <a:custGeom>
                    <a:avLst/>
                    <a:gdLst/>
                    <a:ahLst/>
                    <a:rect l="l" t="t" r="r" b="b"/>
                    <a:pathLst>
                      <a:path w="854" h="626">
                        <a:moveTo>
                          <a:pt x="298" y="34"/>
                        </a:moveTo>
                        <a:lnTo>
                          <a:pt x="278" y="112"/>
                        </a:lnTo>
                        <a:lnTo>
                          <a:pt x="259" y="146"/>
                        </a:lnTo>
                        <a:lnTo>
                          <a:pt x="240" y="169"/>
                        </a:lnTo>
                        <a:lnTo>
                          <a:pt x="223" y="183"/>
                        </a:lnTo>
                        <a:lnTo>
                          <a:pt x="208" y="194"/>
                        </a:lnTo>
                        <a:lnTo>
                          <a:pt x="194" y="206"/>
                        </a:lnTo>
                        <a:lnTo>
                          <a:pt x="183" y="224"/>
                        </a:lnTo>
                        <a:lnTo>
                          <a:pt x="174" y="251"/>
                        </a:lnTo>
                        <a:lnTo>
                          <a:pt x="167" y="294"/>
                        </a:lnTo>
                        <a:lnTo>
                          <a:pt x="122" y="305"/>
                        </a:lnTo>
                        <a:lnTo>
                          <a:pt x="68" y="281"/>
                        </a:lnTo>
                        <a:lnTo>
                          <a:pt x="41" y="237"/>
                        </a:lnTo>
                        <a:lnTo>
                          <a:pt x="37" y="315"/>
                        </a:lnTo>
                        <a:lnTo>
                          <a:pt x="18" y="358"/>
                        </a:lnTo>
                        <a:lnTo>
                          <a:pt x="5" y="400"/>
                        </a:lnTo>
                        <a:lnTo>
                          <a:pt x="0" y="440"/>
                        </a:lnTo>
                        <a:lnTo>
                          <a:pt x="1" y="478"/>
                        </a:lnTo>
                        <a:lnTo>
                          <a:pt x="12" y="512"/>
                        </a:lnTo>
                        <a:lnTo>
                          <a:pt x="34" y="542"/>
                        </a:lnTo>
                        <a:lnTo>
                          <a:pt x="69" y="569"/>
                        </a:lnTo>
                        <a:lnTo>
                          <a:pt x="116" y="591"/>
                        </a:lnTo>
                        <a:lnTo>
                          <a:pt x="185" y="562"/>
                        </a:lnTo>
                        <a:lnTo>
                          <a:pt x="212" y="529"/>
                        </a:lnTo>
                        <a:lnTo>
                          <a:pt x="298" y="475"/>
                        </a:lnTo>
                        <a:lnTo>
                          <a:pt x="382" y="485"/>
                        </a:lnTo>
                        <a:lnTo>
                          <a:pt x="429" y="543"/>
                        </a:lnTo>
                        <a:lnTo>
                          <a:pt x="478" y="543"/>
                        </a:lnTo>
                        <a:lnTo>
                          <a:pt x="531" y="538"/>
                        </a:lnTo>
                        <a:lnTo>
                          <a:pt x="567" y="572"/>
                        </a:lnTo>
                        <a:lnTo>
                          <a:pt x="604" y="615"/>
                        </a:lnTo>
                        <a:lnTo>
                          <a:pt x="636" y="572"/>
                        </a:lnTo>
                        <a:lnTo>
                          <a:pt x="647" y="523"/>
                        </a:lnTo>
                        <a:lnTo>
                          <a:pt x="673" y="593"/>
                        </a:lnTo>
                        <a:lnTo>
                          <a:pt x="725" y="626"/>
                        </a:lnTo>
                        <a:lnTo>
                          <a:pt x="769" y="621"/>
                        </a:lnTo>
                        <a:lnTo>
                          <a:pt x="800" y="605"/>
                        </a:lnTo>
                        <a:lnTo>
                          <a:pt x="822" y="582"/>
                        </a:lnTo>
                        <a:lnTo>
                          <a:pt x="835" y="553"/>
                        </a:lnTo>
                        <a:lnTo>
                          <a:pt x="843" y="518"/>
                        </a:lnTo>
                        <a:lnTo>
                          <a:pt x="847" y="481"/>
                        </a:lnTo>
                        <a:lnTo>
                          <a:pt x="851" y="442"/>
                        </a:lnTo>
                        <a:lnTo>
                          <a:pt x="854" y="402"/>
                        </a:lnTo>
                        <a:lnTo>
                          <a:pt x="838" y="261"/>
                        </a:lnTo>
                        <a:lnTo>
                          <a:pt x="807" y="320"/>
                        </a:lnTo>
                        <a:lnTo>
                          <a:pt x="748" y="388"/>
                        </a:lnTo>
                        <a:lnTo>
                          <a:pt x="748" y="325"/>
                        </a:lnTo>
                        <a:lnTo>
                          <a:pt x="732" y="237"/>
                        </a:lnTo>
                        <a:lnTo>
                          <a:pt x="689" y="184"/>
                        </a:lnTo>
                        <a:lnTo>
                          <a:pt x="689" y="257"/>
                        </a:lnTo>
                        <a:lnTo>
                          <a:pt x="642" y="296"/>
                        </a:lnTo>
                        <a:lnTo>
                          <a:pt x="641" y="246"/>
                        </a:lnTo>
                        <a:lnTo>
                          <a:pt x="639" y="202"/>
                        </a:lnTo>
                        <a:lnTo>
                          <a:pt x="632" y="162"/>
                        </a:lnTo>
                        <a:lnTo>
                          <a:pt x="620" y="127"/>
                        </a:lnTo>
                        <a:lnTo>
                          <a:pt x="602" y="93"/>
                        </a:lnTo>
                        <a:lnTo>
                          <a:pt x="577" y="62"/>
                        </a:lnTo>
                        <a:lnTo>
                          <a:pt x="542" y="31"/>
                        </a:lnTo>
                        <a:lnTo>
                          <a:pt x="498" y="0"/>
                        </a:lnTo>
                        <a:lnTo>
                          <a:pt x="520" y="73"/>
                        </a:lnTo>
                        <a:lnTo>
                          <a:pt x="520" y="151"/>
                        </a:lnTo>
                        <a:lnTo>
                          <a:pt x="478" y="189"/>
                        </a:lnTo>
                        <a:lnTo>
                          <a:pt x="478" y="127"/>
                        </a:lnTo>
                        <a:lnTo>
                          <a:pt x="451" y="68"/>
                        </a:lnTo>
                        <a:lnTo>
                          <a:pt x="423" y="127"/>
                        </a:lnTo>
                        <a:lnTo>
                          <a:pt x="376" y="160"/>
                        </a:lnTo>
                        <a:lnTo>
                          <a:pt x="372" y="97"/>
                        </a:lnTo>
                        <a:lnTo>
                          <a:pt x="344" y="59"/>
                        </a:lnTo>
                        <a:lnTo>
                          <a:pt x="298" y="34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Freeform 491"/>
                  <p:cNvSpPr/>
                  <p:nvPr/>
                </p:nvSpPr>
                <p:spPr>
                  <a:xfrm>
                    <a:off x="2268360" y="5732280"/>
                    <a:ext cx="936000" cy="416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7" h="515">
                        <a:moveTo>
                          <a:pt x="235" y="51"/>
                        </a:moveTo>
                        <a:lnTo>
                          <a:pt x="233" y="65"/>
                        </a:lnTo>
                        <a:lnTo>
                          <a:pt x="229" y="81"/>
                        </a:lnTo>
                        <a:lnTo>
                          <a:pt x="227" y="97"/>
                        </a:lnTo>
                        <a:lnTo>
                          <a:pt x="224" y="112"/>
                        </a:lnTo>
                        <a:lnTo>
                          <a:pt x="207" y="140"/>
                        </a:lnTo>
                        <a:lnTo>
                          <a:pt x="192" y="158"/>
                        </a:lnTo>
                        <a:lnTo>
                          <a:pt x="179" y="171"/>
                        </a:lnTo>
                        <a:lnTo>
                          <a:pt x="166" y="181"/>
                        </a:lnTo>
                        <a:lnTo>
                          <a:pt x="154" y="192"/>
                        </a:lnTo>
                        <a:lnTo>
                          <a:pt x="144" y="206"/>
                        </a:lnTo>
                        <a:lnTo>
                          <a:pt x="136" y="229"/>
                        </a:lnTo>
                        <a:lnTo>
                          <a:pt x="130" y="263"/>
                        </a:lnTo>
                        <a:lnTo>
                          <a:pt x="122" y="264"/>
                        </a:lnTo>
                        <a:lnTo>
                          <a:pt x="114" y="264"/>
                        </a:lnTo>
                        <a:lnTo>
                          <a:pt x="105" y="265"/>
                        </a:lnTo>
                        <a:lnTo>
                          <a:pt x="97" y="266"/>
                        </a:lnTo>
                        <a:lnTo>
                          <a:pt x="91" y="263"/>
                        </a:lnTo>
                        <a:lnTo>
                          <a:pt x="86" y="261"/>
                        </a:lnTo>
                        <a:lnTo>
                          <a:pt x="81" y="257"/>
                        </a:lnTo>
                        <a:lnTo>
                          <a:pt x="76" y="255"/>
                        </a:lnTo>
                        <a:lnTo>
                          <a:pt x="70" y="253"/>
                        </a:lnTo>
                        <a:lnTo>
                          <a:pt x="66" y="251"/>
                        </a:lnTo>
                        <a:lnTo>
                          <a:pt x="60" y="248"/>
                        </a:lnTo>
                        <a:lnTo>
                          <a:pt x="54" y="246"/>
                        </a:lnTo>
                        <a:lnTo>
                          <a:pt x="48" y="242"/>
                        </a:lnTo>
                        <a:lnTo>
                          <a:pt x="42" y="238"/>
                        </a:lnTo>
                        <a:lnTo>
                          <a:pt x="36" y="233"/>
                        </a:lnTo>
                        <a:lnTo>
                          <a:pt x="30" y="229"/>
                        </a:lnTo>
                        <a:lnTo>
                          <a:pt x="23" y="225"/>
                        </a:lnTo>
                        <a:lnTo>
                          <a:pt x="17" y="221"/>
                        </a:lnTo>
                        <a:lnTo>
                          <a:pt x="10" y="217"/>
                        </a:lnTo>
                        <a:lnTo>
                          <a:pt x="5" y="213"/>
                        </a:lnTo>
                        <a:lnTo>
                          <a:pt x="10" y="228"/>
                        </a:lnTo>
                        <a:lnTo>
                          <a:pt x="17" y="243"/>
                        </a:lnTo>
                        <a:lnTo>
                          <a:pt x="23" y="258"/>
                        </a:lnTo>
                        <a:lnTo>
                          <a:pt x="29" y="273"/>
                        </a:lnTo>
                        <a:lnTo>
                          <a:pt x="15" y="308"/>
                        </a:lnTo>
                        <a:lnTo>
                          <a:pt x="5" y="341"/>
                        </a:lnTo>
                        <a:lnTo>
                          <a:pt x="0" y="372"/>
                        </a:lnTo>
                        <a:lnTo>
                          <a:pt x="2" y="402"/>
                        </a:lnTo>
                        <a:lnTo>
                          <a:pt x="10" y="429"/>
                        </a:lnTo>
                        <a:lnTo>
                          <a:pt x="28" y="453"/>
                        </a:lnTo>
                        <a:lnTo>
                          <a:pt x="54" y="474"/>
                        </a:lnTo>
                        <a:lnTo>
                          <a:pt x="92" y="491"/>
                        </a:lnTo>
                        <a:lnTo>
                          <a:pt x="99" y="488"/>
                        </a:lnTo>
                        <a:lnTo>
                          <a:pt x="106" y="486"/>
                        </a:lnTo>
                        <a:lnTo>
                          <a:pt x="113" y="483"/>
                        </a:lnTo>
                        <a:lnTo>
                          <a:pt x="120" y="480"/>
                        </a:lnTo>
                        <a:lnTo>
                          <a:pt x="127" y="477"/>
                        </a:lnTo>
                        <a:lnTo>
                          <a:pt x="134" y="474"/>
                        </a:lnTo>
                        <a:lnTo>
                          <a:pt x="141" y="472"/>
                        </a:lnTo>
                        <a:lnTo>
                          <a:pt x="148" y="468"/>
                        </a:lnTo>
                        <a:lnTo>
                          <a:pt x="153" y="462"/>
                        </a:lnTo>
                        <a:lnTo>
                          <a:pt x="158" y="455"/>
                        </a:lnTo>
                        <a:lnTo>
                          <a:pt x="164" y="449"/>
                        </a:lnTo>
                        <a:lnTo>
                          <a:pt x="168" y="441"/>
                        </a:lnTo>
                        <a:lnTo>
                          <a:pt x="176" y="436"/>
                        </a:lnTo>
                        <a:lnTo>
                          <a:pt x="184" y="431"/>
                        </a:lnTo>
                        <a:lnTo>
                          <a:pt x="194" y="426"/>
                        </a:lnTo>
                        <a:lnTo>
                          <a:pt x="202" y="420"/>
                        </a:lnTo>
                        <a:lnTo>
                          <a:pt x="210" y="415"/>
                        </a:lnTo>
                        <a:lnTo>
                          <a:pt x="219" y="410"/>
                        </a:lnTo>
                        <a:lnTo>
                          <a:pt x="227" y="405"/>
                        </a:lnTo>
                        <a:lnTo>
                          <a:pt x="235" y="399"/>
                        </a:lnTo>
                        <a:lnTo>
                          <a:pt x="243" y="401"/>
                        </a:lnTo>
                        <a:lnTo>
                          <a:pt x="252" y="402"/>
                        </a:lnTo>
                        <a:lnTo>
                          <a:pt x="260" y="403"/>
                        </a:lnTo>
                        <a:lnTo>
                          <a:pt x="270" y="403"/>
                        </a:lnTo>
                        <a:lnTo>
                          <a:pt x="278" y="404"/>
                        </a:lnTo>
                        <a:lnTo>
                          <a:pt x="286" y="405"/>
                        </a:lnTo>
                        <a:lnTo>
                          <a:pt x="295" y="406"/>
                        </a:lnTo>
                        <a:lnTo>
                          <a:pt x="303" y="407"/>
                        </a:lnTo>
                        <a:lnTo>
                          <a:pt x="308" y="413"/>
                        </a:lnTo>
                        <a:lnTo>
                          <a:pt x="312" y="418"/>
                        </a:lnTo>
                        <a:lnTo>
                          <a:pt x="317" y="425"/>
                        </a:lnTo>
                        <a:lnTo>
                          <a:pt x="323" y="430"/>
                        </a:lnTo>
                        <a:lnTo>
                          <a:pt x="327" y="436"/>
                        </a:lnTo>
                        <a:lnTo>
                          <a:pt x="332" y="441"/>
                        </a:lnTo>
                        <a:lnTo>
                          <a:pt x="336" y="448"/>
                        </a:lnTo>
                        <a:lnTo>
                          <a:pt x="341" y="453"/>
                        </a:lnTo>
                        <a:lnTo>
                          <a:pt x="346" y="453"/>
                        </a:lnTo>
                        <a:lnTo>
                          <a:pt x="350" y="453"/>
                        </a:lnTo>
                        <a:lnTo>
                          <a:pt x="355" y="453"/>
                        </a:lnTo>
                        <a:lnTo>
                          <a:pt x="361" y="453"/>
                        </a:lnTo>
                        <a:lnTo>
                          <a:pt x="365" y="453"/>
                        </a:lnTo>
                        <a:lnTo>
                          <a:pt x="370" y="453"/>
                        </a:lnTo>
                        <a:lnTo>
                          <a:pt x="374" y="453"/>
                        </a:lnTo>
                        <a:lnTo>
                          <a:pt x="379" y="453"/>
                        </a:lnTo>
                        <a:lnTo>
                          <a:pt x="385" y="453"/>
                        </a:lnTo>
                        <a:lnTo>
                          <a:pt x="389" y="452"/>
                        </a:lnTo>
                        <a:lnTo>
                          <a:pt x="395" y="452"/>
                        </a:lnTo>
                        <a:lnTo>
                          <a:pt x="400" y="451"/>
                        </a:lnTo>
                        <a:lnTo>
                          <a:pt x="405" y="451"/>
                        </a:lnTo>
                        <a:lnTo>
                          <a:pt x="410" y="451"/>
                        </a:lnTo>
                        <a:lnTo>
                          <a:pt x="416" y="450"/>
                        </a:lnTo>
                        <a:lnTo>
                          <a:pt x="422" y="450"/>
                        </a:lnTo>
                        <a:lnTo>
                          <a:pt x="428" y="456"/>
                        </a:lnTo>
                        <a:lnTo>
                          <a:pt x="435" y="462"/>
                        </a:lnTo>
                        <a:lnTo>
                          <a:pt x="442" y="469"/>
                        </a:lnTo>
                        <a:lnTo>
                          <a:pt x="450" y="476"/>
                        </a:lnTo>
                        <a:lnTo>
                          <a:pt x="457" y="484"/>
                        </a:lnTo>
                        <a:lnTo>
                          <a:pt x="465" y="493"/>
                        </a:lnTo>
                        <a:lnTo>
                          <a:pt x="472" y="503"/>
                        </a:lnTo>
                        <a:lnTo>
                          <a:pt x="479" y="511"/>
                        </a:lnTo>
                        <a:lnTo>
                          <a:pt x="486" y="503"/>
                        </a:lnTo>
                        <a:lnTo>
                          <a:pt x="492" y="493"/>
                        </a:lnTo>
                        <a:lnTo>
                          <a:pt x="499" y="484"/>
                        </a:lnTo>
                        <a:lnTo>
                          <a:pt x="504" y="476"/>
                        </a:lnTo>
                        <a:lnTo>
                          <a:pt x="507" y="466"/>
                        </a:lnTo>
                        <a:lnTo>
                          <a:pt x="509" y="457"/>
                        </a:lnTo>
                        <a:lnTo>
                          <a:pt x="510" y="448"/>
                        </a:lnTo>
                        <a:lnTo>
                          <a:pt x="513" y="438"/>
                        </a:lnTo>
                        <a:lnTo>
                          <a:pt x="518" y="452"/>
                        </a:lnTo>
                        <a:lnTo>
                          <a:pt x="523" y="464"/>
                        </a:lnTo>
                        <a:lnTo>
                          <a:pt x="529" y="478"/>
                        </a:lnTo>
                        <a:lnTo>
                          <a:pt x="533" y="490"/>
                        </a:lnTo>
                        <a:lnTo>
                          <a:pt x="538" y="493"/>
                        </a:lnTo>
                        <a:lnTo>
                          <a:pt x="542" y="497"/>
                        </a:lnTo>
                        <a:lnTo>
                          <a:pt x="547" y="500"/>
                        </a:lnTo>
                        <a:lnTo>
                          <a:pt x="553" y="503"/>
                        </a:lnTo>
                        <a:lnTo>
                          <a:pt x="557" y="506"/>
                        </a:lnTo>
                        <a:lnTo>
                          <a:pt x="562" y="509"/>
                        </a:lnTo>
                        <a:lnTo>
                          <a:pt x="568" y="512"/>
                        </a:lnTo>
                        <a:lnTo>
                          <a:pt x="572" y="515"/>
                        </a:lnTo>
                        <a:lnTo>
                          <a:pt x="607" y="511"/>
                        </a:lnTo>
                        <a:lnTo>
                          <a:pt x="632" y="500"/>
                        </a:lnTo>
                        <a:lnTo>
                          <a:pt x="650" y="482"/>
                        </a:lnTo>
                        <a:lnTo>
                          <a:pt x="661" y="459"/>
                        </a:lnTo>
                        <a:lnTo>
                          <a:pt x="667" y="433"/>
                        </a:lnTo>
                        <a:lnTo>
                          <a:pt x="671" y="404"/>
                        </a:lnTo>
                        <a:lnTo>
                          <a:pt x="674" y="373"/>
                        </a:lnTo>
                        <a:lnTo>
                          <a:pt x="677" y="342"/>
                        </a:lnTo>
                        <a:lnTo>
                          <a:pt x="682" y="315"/>
                        </a:lnTo>
                        <a:lnTo>
                          <a:pt x="686" y="287"/>
                        </a:lnTo>
                        <a:lnTo>
                          <a:pt x="692" y="260"/>
                        </a:lnTo>
                        <a:lnTo>
                          <a:pt x="697" y="232"/>
                        </a:lnTo>
                        <a:lnTo>
                          <a:pt x="691" y="238"/>
                        </a:lnTo>
                        <a:lnTo>
                          <a:pt x="685" y="244"/>
                        </a:lnTo>
                        <a:lnTo>
                          <a:pt x="678" y="249"/>
                        </a:lnTo>
                        <a:lnTo>
                          <a:pt x="673" y="254"/>
                        </a:lnTo>
                        <a:lnTo>
                          <a:pt x="667" y="260"/>
                        </a:lnTo>
                        <a:lnTo>
                          <a:pt x="661" y="266"/>
                        </a:lnTo>
                        <a:lnTo>
                          <a:pt x="654" y="271"/>
                        </a:lnTo>
                        <a:lnTo>
                          <a:pt x="648" y="277"/>
                        </a:lnTo>
                        <a:lnTo>
                          <a:pt x="642" y="284"/>
                        </a:lnTo>
                        <a:lnTo>
                          <a:pt x="635" y="291"/>
                        </a:lnTo>
                        <a:lnTo>
                          <a:pt x="628" y="297"/>
                        </a:lnTo>
                        <a:lnTo>
                          <a:pt x="621" y="303"/>
                        </a:lnTo>
                        <a:lnTo>
                          <a:pt x="614" y="311"/>
                        </a:lnTo>
                        <a:lnTo>
                          <a:pt x="607" y="317"/>
                        </a:lnTo>
                        <a:lnTo>
                          <a:pt x="600" y="324"/>
                        </a:lnTo>
                        <a:lnTo>
                          <a:pt x="593" y="331"/>
                        </a:lnTo>
                        <a:lnTo>
                          <a:pt x="593" y="318"/>
                        </a:lnTo>
                        <a:lnTo>
                          <a:pt x="593" y="305"/>
                        </a:lnTo>
                        <a:lnTo>
                          <a:pt x="593" y="293"/>
                        </a:lnTo>
                        <a:lnTo>
                          <a:pt x="593" y="280"/>
                        </a:lnTo>
                        <a:lnTo>
                          <a:pt x="594" y="263"/>
                        </a:lnTo>
                        <a:lnTo>
                          <a:pt x="594" y="244"/>
                        </a:lnTo>
                        <a:lnTo>
                          <a:pt x="594" y="226"/>
                        </a:lnTo>
                        <a:lnTo>
                          <a:pt x="595" y="207"/>
                        </a:lnTo>
                        <a:lnTo>
                          <a:pt x="591" y="197"/>
                        </a:lnTo>
                        <a:lnTo>
                          <a:pt x="586" y="186"/>
                        </a:lnTo>
                        <a:lnTo>
                          <a:pt x="580" y="176"/>
                        </a:lnTo>
                        <a:lnTo>
                          <a:pt x="576" y="166"/>
                        </a:lnTo>
                        <a:lnTo>
                          <a:pt x="571" y="180"/>
                        </a:lnTo>
                        <a:lnTo>
                          <a:pt x="568" y="194"/>
                        </a:lnTo>
                        <a:lnTo>
                          <a:pt x="563" y="208"/>
                        </a:lnTo>
                        <a:lnTo>
                          <a:pt x="557" y="223"/>
                        </a:lnTo>
                        <a:lnTo>
                          <a:pt x="552" y="227"/>
                        </a:lnTo>
                        <a:lnTo>
                          <a:pt x="546" y="231"/>
                        </a:lnTo>
                        <a:lnTo>
                          <a:pt x="539" y="235"/>
                        </a:lnTo>
                        <a:lnTo>
                          <a:pt x="533" y="240"/>
                        </a:lnTo>
                        <a:lnTo>
                          <a:pt x="528" y="245"/>
                        </a:lnTo>
                        <a:lnTo>
                          <a:pt x="522" y="249"/>
                        </a:lnTo>
                        <a:lnTo>
                          <a:pt x="515" y="253"/>
                        </a:lnTo>
                        <a:lnTo>
                          <a:pt x="509" y="257"/>
                        </a:lnTo>
                        <a:lnTo>
                          <a:pt x="510" y="217"/>
                        </a:lnTo>
                        <a:lnTo>
                          <a:pt x="511" y="179"/>
                        </a:lnTo>
                        <a:lnTo>
                          <a:pt x="513" y="145"/>
                        </a:lnTo>
                        <a:lnTo>
                          <a:pt x="510" y="112"/>
                        </a:lnTo>
                        <a:lnTo>
                          <a:pt x="502" y="82"/>
                        </a:lnTo>
                        <a:lnTo>
                          <a:pt x="488" y="53"/>
                        </a:lnTo>
                        <a:lnTo>
                          <a:pt x="466" y="27"/>
                        </a:lnTo>
                        <a:lnTo>
                          <a:pt x="433" y="0"/>
                        </a:lnTo>
                        <a:lnTo>
                          <a:pt x="433" y="18"/>
                        </a:lnTo>
                        <a:lnTo>
                          <a:pt x="433" y="36"/>
                        </a:lnTo>
                        <a:lnTo>
                          <a:pt x="433" y="54"/>
                        </a:lnTo>
                        <a:lnTo>
                          <a:pt x="433" y="72"/>
                        </a:lnTo>
                        <a:lnTo>
                          <a:pt x="433" y="86"/>
                        </a:lnTo>
                        <a:lnTo>
                          <a:pt x="433" y="102"/>
                        </a:lnTo>
                        <a:lnTo>
                          <a:pt x="433" y="117"/>
                        </a:lnTo>
                        <a:lnTo>
                          <a:pt x="433" y="132"/>
                        </a:lnTo>
                        <a:lnTo>
                          <a:pt x="427" y="137"/>
                        </a:lnTo>
                        <a:lnTo>
                          <a:pt x="422" y="143"/>
                        </a:lnTo>
                        <a:lnTo>
                          <a:pt x="415" y="148"/>
                        </a:lnTo>
                        <a:lnTo>
                          <a:pt x="409" y="152"/>
                        </a:lnTo>
                        <a:lnTo>
                          <a:pt x="403" y="157"/>
                        </a:lnTo>
                        <a:lnTo>
                          <a:pt x="397" y="162"/>
                        </a:lnTo>
                        <a:lnTo>
                          <a:pt x="392" y="168"/>
                        </a:lnTo>
                        <a:lnTo>
                          <a:pt x="386" y="173"/>
                        </a:lnTo>
                        <a:lnTo>
                          <a:pt x="385" y="160"/>
                        </a:lnTo>
                        <a:lnTo>
                          <a:pt x="382" y="148"/>
                        </a:lnTo>
                        <a:lnTo>
                          <a:pt x="381" y="136"/>
                        </a:lnTo>
                        <a:lnTo>
                          <a:pt x="379" y="124"/>
                        </a:lnTo>
                        <a:lnTo>
                          <a:pt x="373" y="112"/>
                        </a:lnTo>
                        <a:lnTo>
                          <a:pt x="367" y="101"/>
                        </a:lnTo>
                        <a:lnTo>
                          <a:pt x="363" y="89"/>
                        </a:lnTo>
                        <a:lnTo>
                          <a:pt x="357" y="78"/>
                        </a:lnTo>
                        <a:lnTo>
                          <a:pt x="352" y="89"/>
                        </a:lnTo>
                        <a:lnTo>
                          <a:pt x="347" y="101"/>
                        </a:lnTo>
                        <a:lnTo>
                          <a:pt x="342" y="112"/>
                        </a:lnTo>
                        <a:lnTo>
                          <a:pt x="336" y="124"/>
                        </a:lnTo>
                        <a:lnTo>
                          <a:pt x="332" y="127"/>
                        </a:lnTo>
                        <a:lnTo>
                          <a:pt x="327" y="130"/>
                        </a:lnTo>
                        <a:lnTo>
                          <a:pt x="323" y="133"/>
                        </a:lnTo>
                        <a:lnTo>
                          <a:pt x="318" y="136"/>
                        </a:lnTo>
                        <a:lnTo>
                          <a:pt x="313" y="140"/>
                        </a:lnTo>
                        <a:lnTo>
                          <a:pt x="308" y="144"/>
                        </a:lnTo>
                        <a:lnTo>
                          <a:pt x="303" y="147"/>
                        </a:lnTo>
                        <a:lnTo>
                          <a:pt x="298" y="150"/>
                        </a:lnTo>
                        <a:lnTo>
                          <a:pt x="297" y="137"/>
                        </a:lnTo>
                        <a:lnTo>
                          <a:pt x="297" y="125"/>
                        </a:lnTo>
                        <a:lnTo>
                          <a:pt x="296" y="113"/>
                        </a:lnTo>
                        <a:lnTo>
                          <a:pt x="295" y="101"/>
                        </a:lnTo>
                        <a:lnTo>
                          <a:pt x="289" y="92"/>
                        </a:lnTo>
                        <a:lnTo>
                          <a:pt x="283" y="85"/>
                        </a:lnTo>
                        <a:lnTo>
                          <a:pt x="279" y="77"/>
                        </a:lnTo>
                        <a:lnTo>
                          <a:pt x="273" y="69"/>
                        </a:lnTo>
                        <a:lnTo>
                          <a:pt x="268" y="67"/>
                        </a:lnTo>
                        <a:lnTo>
                          <a:pt x="264" y="64"/>
                        </a:lnTo>
                        <a:lnTo>
                          <a:pt x="259" y="62"/>
                        </a:lnTo>
                        <a:lnTo>
                          <a:pt x="255" y="60"/>
                        </a:lnTo>
                        <a:lnTo>
                          <a:pt x="249" y="58"/>
                        </a:lnTo>
                        <a:lnTo>
                          <a:pt x="244" y="55"/>
                        </a:lnTo>
                        <a:lnTo>
                          <a:pt x="240" y="53"/>
                        </a:lnTo>
                        <a:lnTo>
                          <a:pt x="235" y="51"/>
                        </a:lnTo>
                        <a:close/>
                      </a:path>
                    </a:pathLst>
                  </a:cu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Freeform 492"/>
                  <p:cNvSpPr/>
                  <p:nvPr/>
                </p:nvSpPr>
                <p:spPr>
                  <a:xfrm>
                    <a:off x="2411280" y="5805000"/>
                    <a:ext cx="574200" cy="32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3" h="431">
                        <a:moveTo>
                          <a:pt x="213" y="61"/>
                        </a:moveTo>
                        <a:lnTo>
                          <a:pt x="212" y="74"/>
                        </a:lnTo>
                        <a:lnTo>
                          <a:pt x="210" y="86"/>
                        </a:lnTo>
                        <a:lnTo>
                          <a:pt x="209" y="99"/>
                        </a:lnTo>
                        <a:lnTo>
                          <a:pt x="208" y="110"/>
                        </a:lnTo>
                        <a:lnTo>
                          <a:pt x="194" y="133"/>
                        </a:lnTo>
                        <a:lnTo>
                          <a:pt x="181" y="149"/>
                        </a:lnTo>
                        <a:lnTo>
                          <a:pt x="170" y="161"/>
                        </a:lnTo>
                        <a:lnTo>
                          <a:pt x="158" y="170"/>
                        </a:lnTo>
                        <a:lnTo>
                          <a:pt x="148" y="179"/>
                        </a:lnTo>
                        <a:lnTo>
                          <a:pt x="139" y="193"/>
                        </a:lnTo>
                        <a:lnTo>
                          <a:pt x="132" y="212"/>
                        </a:lnTo>
                        <a:lnTo>
                          <a:pt x="127" y="239"/>
                        </a:lnTo>
                        <a:lnTo>
                          <a:pt x="121" y="238"/>
                        </a:lnTo>
                        <a:lnTo>
                          <a:pt x="114" y="236"/>
                        </a:lnTo>
                        <a:lnTo>
                          <a:pt x="107" y="235"/>
                        </a:lnTo>
                        <a:lnTo>
                          <a:pt x="102" y="234"/>
                        </a:lnTo>
                        <a:lnTo>
                          <a:pt x="94" y="230"/>
                        </a:lnTo>
                        <a:lnTo>
                          <a:pt x="86" y="226"/>
                        </a:lnTo>
                        <a:lnTo>
                          <a:pt x="76" y="222"/>
                        </a:lnTo>
                        <a:lnTo>
                          <a:pt x="68" y="219"/>
                        </a:lnTo>
                        <a:lnTo>
                          <a:pt x="60" y="216"/>
                        </a:lnTo>
                        <a:lnTo>
                          <a:pt x="51" y="212"/>
                        </a:lnTo>
                        <a:lnTo>
                          <a:pt x="43" y="209"/>
                        </a:lnTo>
                        <a:lnTo>
                          <a:pt x="34" y="206"/>
                        </a:lnTo>
                        <a:lnTo>
                          <a:pt x="26" y="202"/>
                        </a:lnTo>
                        <a:lnTo>
                          <a:pt x="16" y="199"/>
                        </a:lnTo>
                        <a:lnTo>
                          <a:pt x="8" y="196"/>
                        </a:lnTo>
                        <a:lnTo>
                          <a:pt x="0" y="193"/>
                        </a:lnTo>
                        <a:lnTo>
                          <a:pt x="6" y="199"/>
                        </a:lnTo>
                        <a:lnTo>
                          <a:pt x="12" y="204"/>
                        </a:lnTo>
                        <a:lnTo>
                          <a:pt x="18" y="211"/>
                        </a:lnTo>
                        <a:lnTo>
                          <a:pt x="25" y="216"/>
                        </a:lnTo>
                        <a:lnTo>
                          <a:pt x="30" y="222"/>
                        </a:lnTo>
                        <a:lnTo>
                          <a:pt x="36" y="228"/>
                        </a:lnTo>
                        <a:lnTo>
                          <a:pt x="42" y="234"/>
                        </a:lnTo>
                        <a:lnTo>
                          <a:pt x="48" y="240"/>
                        </a:lnTo>
                        <a:lnTo>
                          <a:pt x="36" y="268"/>
                        </a:lnTo>
                        <a:lnTo>
                          <a:pt x="28" y="294"/>
                        </a:lnTo>
                        <a:lnTo>
                          <a:pt x="25" y="319"/>
                        </a:lnTo>
                        <a:lnTo>
                          <a:pt x="26" y="343"/>
                        </a:lnTo>
                        <a:lnTo>
                          <a:pt x="33" y="365"/>
                        </a:lnTo>
                        <a:lnTo>
                          <a:pt x="46" y="384"/>
                        </a:lnTo>
                        <a:lnTo>
                          <a:pt x="68" y="402"/>
                        </a:lnTo>
                        <a:lnTo>
                          <a:pt x="98" y="415"/>
                        </a:lnTo>
                        <a:lnTo>
                          <a:pt x="104" y="413"/>
                        </a:lnTo>
                        <a:lnTo>
                          <a:pt x="110" y="410"/>
                        </a:lnTo>
                        <a:lnTo>
                          <a:pt x="115" y="408"/>
                        </a:lnTo>
                        <a:lnTo>
                          <a:pt x="120" y="406"/>
                        </a:lnTo>
                        <a:lnTo>
                          <a:pt x="126" y="404"/>
                        </a:lnTo>
                        <a:lnTo>
                          <a:pt x="132" y="401"/>
                        </a:lnTo>
                        <a:lnTo>
                          <a:pt x="136" y="399"/>
                        </a:lnTo>
                        <a:lnTo>
                          <a:pt x="142" y="397"/>
                        </a:lnTo>
                        <a:lnTo>
                          <a:pt x="147" y="391"/>
                        </a:lnTo>
                        <a:lnTo>
                          <a:pt x="151" y="386"/>
                        </a:lnTo>
                        <a:lnTo>
                          <a:pt x="155" y="381"/>
                        </a:lnTo>
                        <a:lnTo>
                          <a:pt x="159" y="376"/>
                        </a:lnTo>
                        <a:lnTo>
                          <a:pt x="166" y="372"/>
                        </a:lnTo>
                        <a:lnTo>
                          <a:pt x="173" y="367"/>
                        </a:lnTo>
                        <a:lnTo>
                          <a:pt x="180" y="363"/>
                        </a:lnTo>
                        <a:lnTo>
                          <a:pt x="187" y="358"/>
                        </a:lnTo>
                        <a:lnTo>
                          <a:pt x="193" y="354"/>
                        </a:lnTo>
                        <a:lnTo>
                          <a:pt x="200" y="350"/>
                        </a:lnTo>
                        <a:lnTo>
                          <a:pt x="206" y="345"/>
                        </a:lnTo>
                        <a:lnTo>
                          <a:pt x="213" y="341"/>
                        </a:lnTo>
                        <a:lnTo>
                          <a:pt x="220" y="342"/>
                        </a:lnTo>
                        <a:lnTo>
                          <a:pt x="226" y="342"/>
                        </a:lnTo>
                        <a:lnTo>
                          <a:pt x="233" y="343"/>
                        </a:lnTo>
                        <a:lnTo>
                          <a:pt x="240" y="344"/>
                        </a:lnTo>
                        <a:lnTo>
                          <a:pt x="247" y="345"/>
                        </a:lnTo>
                        <a:lnTo>
                          <a:pt x="254" y="345"/>
                        </a:lnTo>
                        <a:lnTo>
                          <a:pt x="261" y="347"/>
                        </a:lnTo>
                        <a:lnTo>
                          <a:pt x="267" y="348"/>
                        </a:lnTo>
                        <a:lnTo>
                          <a:pt x="276" y="357"/>
                        </a:lnTo>
                        <a:lnTo>
                          <a:pt x="282" y="366"/>
                        </a:lnTo>
                        <a:lnTo>
                          <a:pt x="289" y="376"/>
                        </a:lnTo>
                        <a:lnTo>
                          <a:pt x="297" y="385"/>
                        </a:lnTo>
                        <a:lnTo>
                          <a:pt x="305" y="385"/>
                        </a:lnTo>
                        <a:lnTo>
                          <a:pt x="312" y="385"/>
                        </a:lnTo>
                        <a:lnTo>
                          <a:pt x="320" y="385"/>
                        </a:lnTo>
                        <a:lnTo>
                          <a:pt x="327" y="385"/>
                        </a:lnTo>
                        <a:lnTo>
                          <a:pt x="332" y="385"/>
                        </a:lnTo>
                        <a:lnTo>
                          <a:pt x="337" y="384"/>
                        </a:lnTo>
                        <a:lnTo>
                          <a:pt x="340" y="384"/>
                        </a:lnTo>
                        <a:lnTo>
                          <a:pt x="345" y="383"/>
                        </a:lnTo>
                        <a:lnTo>
                          <a:pt x="349" y="383"/>
                        </a:lnTo>
                        <a:lnTo>
                          <a:pt x="354" y="383"/>
                        </a:lnTo>
                        <a:lnTo>
                          <a:pt x="357" y="382"/>
                        </a:lnTo>
                        <a:lnTo>
                          <a:pt x="362" y="382"/>
                        </a:lnTo>
                        <a:lnTo>
                          <a:pt x="368" y="387"/>
                        </a:lnTo>
                        <a:lnTo>
                          <a:pt x="373" y="392"/>
                        </a:lnTo>
                        <a:lnTo>
                          <a:pt x="379" y="398"/>
                        </a:lnTo>
                        <a:lnTo>
                          <a:pt x="385" y="403"/>
                        </a:lnTo>
                        <a:lnTo>
                          <a:pt x="391" y="410"/>
                        </a:lnTo>
                        <a:lnTo>
                          <a:pt x="398" y="416"/>
                        </a:lnTo>
                        <a:lnTo>
                          <a:pt x="403" y="424"/>
                        </a:lnTo>
                        <a:lnTo>
                          <a:pt x="409" y="431"/>
                        </a:lnTo>
                        <a:lnTo>
                          <a:pt x="414" y="424"/>
                        </a:lnTo>
                        <a:lnTo>
                          <a:pt x="419" y="416"/>
                        </a:lnTo>
                        <a:lnTo>
                          <a:pt x="424" y="410"/>
                        </a:lnTo>
                        <a:lnTo>
                          <a:pt x="429" y="403"/>
                        </a:lnTo>
                        <a:lnTo>
                          <a:pt x="431" y="396"/>
                        </a:lnTo>
                        <a:lnTo>
                          <a:pt x="432" y="388"/>
                        </a:lnTo>
                        <a:lnTo>
                          <a:pt x="434" y="380"/>
                        </a:lnTo>
                        <a:lnTo>
                          <a:pt x="436" y="373"/>
                        </a:lnTo>
                        <a:lnTo>
                          <a:pt x="440" y="383"/>
                        </a:lnTo>
                        <a:lnTo>
                          <a:pt x="444" y="392"/>
                        </a:lnTo>
                        <a:lnTo>
                          <a:pt x="447" y="402"/>
                        </a:lnTo>
                        <a:lnTo>
                          <a:pt x="451" y="412"/>
                        </a:lnTo>
                        <a:lnTo>
                          <a:pt x="459" y="416"/>
                        </a:lnTo>
                        <a:lnTo>
                          <a:pt x="467" y="422"/>
                        </a:lnTo>
                        <a:lnTo>
                          <a:pt x="474" y="426"/>
                        </a:lnTo>
                        <a:lnTo>
                          <a:pt x="482" y="431"/>
                        </a:lnTo>
                        <a:lnTo>
                          <a:pt x="509" y="428"/>
                        </a:lnTo>
                        <a:lnTo>
                          <a:pt x="530" y="420"/>
                        </a:lnTo>
                        <a:lnTo>
                          <a:pt x="545" y="405"/>
                        </a:lnTo>
                        <a:lnTo>
                          <a:pt x="554" y="388"/>
                        </a:lnTo>
                        <a:lnTo>
                          <a:pt x="560" y="367"/>
                        </a:lnTo>
                        <a:lnTo>
                          <a:pt x="562" y="344"/>
                        </a:lnTo>
                        <a:lnTo>
                          <a:pt x="566" y="320"/>
                        </a:lnTo>
                        <a:lnTo>
                          <a:pt x="568" y="295"/>
                        </a:lnTo>
                        <a:lnTo>
                          <a:pt x="574" y="285"/>
                        </a:lnTo>
                        <a:lnTo>
                          <a:pt x="580" y="273"/>
                        </a:lnTo>
                        <a:lnTo>
                          <a:pt x="585" y="263"/>
                        </a:lnTo>
                        <a:lnTo>
                          <a:pt x="591" y="251"/>
                        </a:lnTo>
                        <a:lnTo>
                          <a:pt x="596" y="241"/>
                        </a:lnTo>
                        <a:lnTo>
                          <a:pt x="601" y="231"/>
                        </a:lnTo>
                        <a:lnTo>
                          <a:pt x="607" y="219"/>
                        </a:lnTo>
                        <a:lnTo>
                          <a:pt x="613" y="209"/>
                        </a:lnTo>
                        <a:lnTo>
                          <a:pt x="606" y="213"/>
                        </a:lnTo>
                        <a:lnTo>
                          <a:pt x="598" y="217"/>
                        </a:lnTo>
                        <a:lnTo>
                          <a:pt x="591" y="221"/>
                        </a:lnTo>
                        <a:lnTo>
                          <a:pt x="584" y="225"/>
                        </a:lnTo>
                        <a:lnTo>
                          <a:pt x="576" y="231"/>
                        </a:lnTo>
                        <a:lnTo>
                          <a:pt x="569" y="235"/>
                        </a:lnTo>
                        <a:lnTo>
                          <a:pt x="561" y="239"/>
                        </a:lnTo>
                        <a:lnTo>
                          <a:pt x="554" y="243"/>
                        </a:lnTo>
                        <a:lnTo>
                          <a:pt x="547" y="248"/>
                        </a:lnTo>
                        <a:lnTo>
                          <a:pt x="540" y="254"/>
                        </a:lnTo>
                        <a:lnTo>
                          <a:pt x="533" y="260"/>
                        </a:lnTo>
                        <a:lnTo>
                          <a:pt x="528" y="265"/>
                        </a:lnTo>
                        <a:lnTo>
                          <a:pt x="521" y="270"/>
                        </a:lnTo>
                        <a:lnTo>
                          <a:pt x="514" y="275"/>
                        </a:lnTo>
                        <a:lnTo>
                          <a:pt x="507" y="281"/>
                        </a:lnTo>
                        <a:lnTo>
                          <a:pt x="500" y="286"/>
                        </a:lnTo>
                        <a:lnTo>
                          <a:pt x="500" y="277"/>
                        </a:lnTo>
                        <a:lnTo>
                          <a:pt x="500" y="266"/>
                        </a:lnTo>
                        <a:lnTo>
                          <a:pt x="500" y="257"/>
                        </a:lnTo>
                        <a:lnTo>
                          <a:pt x="500" y="246"/>
                        </a:lnTo>
                        <a:lnTo>
                          <a:pt x="505" y="231"/>
                        </a:lnTo>
                        <a:lnTo>
                          <a:pt x="509" y="215"/>
                        </a:lnTo>
                        <a:lnTo>
                          <a:pt x="513" y="199"/>
                        </a:lnTo>
                        <a:lnTo>
                          <a:pt x="517" y="185"/>
                        </a:lnTo>
                        <a:lnTo>
                          <a:pt x="517" y="176"/>
                        </a:lnTo>
                        <a:lnTo>
                          <a:pt x="516" y="167"/>
                        </a:lnTo>
                        <a:lnTo>
                          <a:pt x="515" y="158"/>
                        </a:lnTo>
                        <a:lnTo>
                          <a:pt x="514" y="150"/>
                        </a:lnTo>
                        <a:lnTo>
                          <a:pt x="506" y="162"/>
                        </a:lnTo>
                        <a:lnTo>
                          <a:pt x="499" y="173"/>
                        </a:lnTo>
                        <a:lnTo>
                          <a:pt x="491" y="185"/>
                        </a:lnTo>
                        <a:lnTo>
                          <a:pt x="483" y="196"/>
                        </a:lnTo>
                        <a:lnTo>
                          <a:pt x="476" y="200"/>
                        </a:lnTo>
                        <a:lnTo>
                          <a:pt x="470" y="203"/>
                        </a:lnTo>
                        <a:lnTo>
                          <a:pt x="463" y="208"/>
                        </a:lnTo>
                        <a:lnTo>
                          <a:pt x="457" y="212"/>
                        </a:lnTo>
                        <a:lnTo>
                          <a:pt x="452" y="216"/>
                        </a:lnTo>
                        <a:lnTo>
                          <a:pt x="445" y="219"/>
                        </a:lnTo>
                        <a:lnTo>
                          <a:pt x="439" y="223"/>
                        </a:lnTo>
                        <a:lnTo>
                          <a:pt x="432" y="227"/>
                        </a:lnTo>
                        <a:lnTo>
                          <a:pt x="434" y="194"/>
                        </a:lnTo>
                        <a:lnTo>
                          <a:pt x="440" y="162"/>
                        </a:lnTo>
                        <a:lnTo>
                          <a:pt x="446" y="130"/>
                        </a:lnTo>
                        <a:lnTo>
                          <a:pt x="451" y="100"/>
                        </a:lnTo>
                        <a:lnTo>
                          <a:pt x="452" y="72"/>
                        </a:lnTo>
                        <a:lnTo>
                          <a:pt x="446" y="46"/>
                        </a:lnTo>
                        <a:lnTo>
                          <a:pt x="432" y="22"/>
                        </a:lnTo>
                        <a:lnTo>
                          <a:pt x="407" y="0"/>
                        </a:lnTo>
                        <a:lnTo>
                          <a:pt x="403" y="16"/>
                        </a:lnTo>
                        <a:lnTo>
                          <a:pt x="400" y="34"/>
                        </a:lnTo>
                        <a:lnTo>
                          <a:pt x="396" y="51"/>
                        </a:lnTo>
                        <a:lnTo>
                          <a:pt x="392" y="69"/>
                        </a:lnTo>
                        <a:lnTo>
                          <a:pt x="392" y="81"/>
                        </a:lnTo>
                        <a:lnTo>
                          <a:pt x="392" y="93"/>
                        </a:lnTo>
                        <a:lnTo>
                          <a:pt x="392" y="105"/>
                        </a:lnTo>
                        <a:lnTo>
                          <a:pt x="392" y="118"/>
                        </a:lnTo>
                        <a:lnTo>
                          <a:pt x="385" y="123"/>
                        </a:lnTo>
                        <a:lnTo>
                          <a:pt x="379" y="128"/>
                        </a:lnTo>
                        <a:lnTo>
                          <a:pt x="372" y="133"/>
                        </a:lnTo>
                        <a:lnTo>
                          <a:pt x="367" y="139"/>
                        </a:lnTo>
                        <a:lnTo>
                          <a:pt x="360" y="144"/>
                        </a:lnTo>
                        <a:lnTo>
                          <a:pt x="353" y="150"/>
                        </a:lnTo>
                        <a:lnTo>
                          <a:pt x="347" y="155"/>
                        </a:lnTo>
                        <a:lnTo>
                          <a:pt x="340" y="161"/>
                        </a:lnTo>
                        <a:lnTo>
                          <a:pt x="338" y="150"/>
                        </a:lnTo>
                        <a:lnTo>
                          <a:pt x="334" y="140"/>
                        </a:lnTo>
                        <a:lnTo>
                          <a:pt x="331" y="130"/>
                        </a:lnTo>
                        <a:lnTo>
                          <a:pt x="327" y="120"/>
                        </a:lnTo>
                        <a:lnTo>
                          <a:pt x="324" y="110"/>
                        </a:lnTo>
                        <a:lnTo>
                          <a:pt x="319" y="101"/>
                        </a:lnTo>
                        <a:lnTo>
                          <a:pt x="316" y="93"/>
                        </a:lnTo>
                        <a:lnTo>
                          <a:pt x="311" y="83"/>
                        </a:lnTo>
                        <a:lnTo>
                          <a:pt x="307" y="93"/>
                        </a:lnTo>
                        <a:lnTo>
                          <a:pt x="303" y="101"/>
                        </a:lnTo>
                        <a:lnTo>
                          <a:pt x="299" y="110"/>
                        </a:lnTo>
                        <a:lnTo>
                          <a:pt x="294" y="120"/>
                        </a:lnTo>
                        <a:lnTo>
                          <a:pt x="286" y="125"/>
                        </a:lnTo>
                        <a:lnTo>
                          <a:pt x="279" y="130"/>
                        </a:lnTo>
                        <a:lnTo>
                          <a:pt x="272" y="137"/>
                        </a:lnTo>
                        <a:lnTo>
                          <a:pt x="264" y="142"/>
                        </a:lnTo>
                        <a:lnTo>
                          <a:pt x="263" y="131"/>
                        </a:lnTo>
                        <a:lnTo>
                          <a:pt x="263" y="122"/>
                        </a:lnTo>
                        <a:lnTo>
                          <a:pt x="262" y="111"/>
                        </a:lnTo>
                        <a:lnTo>
                          <a:pt x="261" y="102"/>
                        </a:lnTo>
                        <a:lnTo>
                          <a:pt x="256" y="96"/>
                        </a:lnTo>
                        <a:lnTo>
                          <a:pt x="253" y="90"/>
                        </a:lnTo>
                        <a:lnTo>
                          <a:pt x="248" y="83"/>
                        </a:lnTo>
                        <a:lnTo>
                          <a:pt x="243" y="77"/>
                        </a:lnTo>
                        <a:lnTo>
                          <a:pt x="235" y="73"/>
                        </a:lnTo>
                        <a:lnTo>
                          <a:pt x="228" y="69"/>
                        </a:lnTo>
                        <a:lnTo>
                          <a:pt x="221" y="66"/>
                        </a:lnTo>
                        <a:lnTo>
                          <a:pt x="213" y="61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8" name="Group 493"/>
              <p:cNvGrpSpPr/>
              <p:nvPr/>
            </p:nvGrpSpPr>
            <p:grpSpPr>
              <a:xfrm>
                <a:off x="2016000" y="5769000"/>
                <a:ext cx="863640" cy="865080"/>
                <a:chOff x="2016000" y="5769000"/>
                <a:chExt cx="863640" cy="865080"/>
              </a:xfrm>
            </p:grpSpPr>
            <p:sp>
              <p:nvSpPr>
                <p:cNvPr id="659" name="AutoShape 494"/>
                <p:cNvSpPr/>
                <p:nvPr/>
              </p:nvSpPr>
              <p:spPr>
                <a:xfrm>
                  <a:off x="2016000" y="5769000"/>
                  <a:ext cx="863640" cy="86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95"/>
                <p:cNvSpPr/>
                <p:nvPr/>
              </p:nvSpPr>
              <p:spPr>
                <a:xfrm>
                  <a:off x="2498400" y="5911920"/>
                  <a:ext cx="306360" cy="234720"/>
                </a:xfrm>
                <a:custGeom>
                  <a:avLst/>
                  <a:gdLst/>
                  <a:ahLst/>
                  <a:rect l="l" t="t" r="r" b="b"/>
                  <a:pathLst>
                    <a:path w="767" h="571">
                      <a:moveTo>
                        <a:pt x="266" y="42"/>
                      </a:moveTo>
                      <a:lnTo>
                        <a:pt x="262" y="59"/>
                      </a:lnTo>
                      <a:lnTo>
                        <a:pt x="259" y="77"/>
                      </a:lnTo>
                      <a:lnTo>
                        <a:pt x="254" y="93"/>
                      </a:lnTo>
                      <a:lnTo>
                        <a:pt x="251" y="111"/>
                      </a:lnTo>
                      <a:lnTo>
                        <a:pt x="234" y="142"/>
                      </a:lnTo>
                      <a:lnTo>
                        <a:pt x="216" y="163"/>
                      </a:lnTo>
                      <a:lnTo>
                        <a:pt x="201" y="177"/>
                      </a:lnTo>
                      <a:lnTo>
                        <a:pt x="188" y="186"/>
                      </a:lnTo>
                      <a:lnTo>
                        <a:pt x="175" y="198"/>
                      </a:lnTo>
                      <a:lnTo>
                        <a:pt x="163" y="214"/>
                      </a:lnTo>
                      <a:lnTo>
                        <a:pt x="155" y="240"/>
                      </a:lnTo>
                      <a:lnTo>
                        <a:pt x="148" y="277"/>
                      </a:lnTo>
                      <a:lnTo>
                        <a:pt x="144" y="278"/>
                      </a:lnTo>
                      <a:lnTo>
                        <a:pt x="139" y="279"/>
                      </a:lnTo>
                      <a:lnTo>
                        <a:pt x="133" y="280"/>
                      </a:lnTo>
                      <a:lnTo>
                        <a:pt x="129" y="281"/>
                      </a:lnTo>
                      <a:lnTo>
                        <a:pt x="124" y="282"/>
                      </a:lnTo>
                      <a:lnTo>
                        <a:pt x="119" y="282"/>
                      </a:lnTo>
                      <a:lnTo>
                        <a:pt x="114" y="283"/>
                      </a:lnTo>
                      <a:lnTo>
                        <a:pt x="109" y="284"/>
                      </a:lnTo>
                      <a:lnTo>
                        <a:pt x="104" y="281"/>
                      </a:lnTo>
                      <a:lnTo>
                        <a:pt x="98" y="279"/>
                      </a:lnTo>
                      <a:lnTo>
                        <a:pt x="91" y="276"/>
                      </a:lnTo>
                      <a:lnTo>
                        <a:pt x="85" y="274"/>
                      </a:lnTo>
                      <a:lnTo>
                        <a:pt x="79" y="272"/>
                      </a:lnTo>
                      <a:lnTo>
                        <a:pt x="74" y="269"/>
                      </a:lnTo>
                      <a:lnTo>
                        <a:pt x="67" y="267"/>
                      </a:lnTo>
                      <a:lnTo>
                        <a:pt x="61" y="264"/>
                      </a:lnTo>
                      <a:lnTo>
                        <a:pt x="56" y="258"/>
                      </a:lnTo>
                      <a:lnTo>
                        <a:pt x="52" y="253"/>
                      </a:lnTo>
                      <a:lnTo>
                        <a:pt x="47" y="249"/>
                      </a:lnTo>
                      <a:lnTo>
                        <a:pt x="43" y="244"/>
                      </a:lnTo>
                      <a:lnTo>
                        <a:pt x="37" y="240"/>
                      </a:lnTo>
                      <a:lnTo>
                        <a:pt x="32" y="234"/>
                      </a:lnTo>
                      <a:lnTo>
                        <a:pt x="28" y="230"/>
                      </a:lnTo>
                      <a:lnTo>
                        <a:pt x="23" y="225"/>
                      </a:lnTo>
                      <a:lnTo>
                        <a:pt x="25" y="242"/>
                      </a:lnTo>
                      <a:lnTo>
                        <a:pt x="29" y="259"/>
                      </a:lnTo>
                      <a:lnTo>
                        <a:pt x="31" y="276"/>
                      </a:lnTo>
                      <a:lnTo>
                        <a:pt x="33" y="294"/>
                      </a:lnTo>
                      <a:lnTo>
                        <a:pt x="17" y="333"/>
                      </a:lnTo>
                      <a:lnTo>
                        <a:pt x="6" y="370"/>
                      </a:lnTo>
                      <a:lnTo>
                        <a:pt x="0" y="406"/>
                      </a:lnTo>
                      <a:lnTo>
                        <a:pt x="2" y="439"/>
                      </a:lnTo>
                      <a:lnTo>
                        <a:pt x="11" y="469"/>
                      </a:lnTo>
                      <a:lnTo>
                        <a:pt x="31" y="498"/>
                      </a:lnTo>
                      <a:lnTo>
                        <a:pt x="62" y="522"/>
                      </a:lnTo>
                      <a:lnTo>
                        <a:pt x="105" y="541"/>
                      </a:lnTo>
                      <a:lnTo>
                        <a:pt x="112" y="538"/>
                      </a:lnTo>
                      <a:lnTo>
                        <a:pt x="120" y="534"/>
                      </a:lnTo>
                      <a:lnTo>
                        <a:pt x="127" y="531"/>
                      </a:lnTo>
                      <a:lnTo>
                        <a:pt x="135" y="528"/>
                      </a:lnTo>
                      <a:lnTo>
                        <a:pt x="143" y="525"/>
                      </a:lnTo>
                      <a:lnTo>
                        <a:pt x="151" y="522"/>
                      </a:lnTo>
                      <a:lnTo>
                        <a:pt x="158" y="518"/>
                      </a:lnTo>
                      <a:lnTo>
                        <a:pt x="166" y="515"/>
                      </a:lnTo>
                      <a:lnTo>
                        <a:pt x="171" y="508"/>
                      </a:lnTo>
                      <a:lnTo>
                        <a:pt x="178" y="500"/>
                      </a:lnTo>
                      <a:lnTo>
                        <a:pt x="184" y="492"/>
                      </a:lnTo>
                      <a:lnTo>
                        <a:pt x="190" y="485"/>
                      </a:lnTo>
                      <a:lnTo>
                        <a:pt x="199" y="479"/>
                      </a:lnTo>
                      <a:lnTo>
                        <a:pt x="209" y="472"/>
                      </a:lnTo>
                      <a:lnTo>
                        <a:pt x="219" y="466"/>
                      </a:lnTo>
                      <a:lnTo>
                        <a:pt x="228" y="461"/>
                      </a:lnTo>
                      <a:lnTo>
                        <a:pt x="237" y="455"/>
                      </a:lnTo>
                      <a:lnTo>
                        <a:pt x="247" y="448"/>
                      </a:lnTo>
                      <a:lnTo>
                        <a:pt x="257" y="443"/>
                      </a:lnTo>
                      <a:lnTo>
                        <a:pt x="266" y="437"/>
                      </a:lnTo>
                      <a:lnTo>
                        <a:pt x="275" y="438"/>
                      </a:lnTo>
                      <a:lnTo>
                        <a:pt x="285" y="439"/>
                      </a:lnTo>
                      <a:lnTo>
                        <a:pt x="295" y="440"/>
                      </a:lnTo>
                      <a:lnTo>
                        <a:pt x="304" y="441"/>
                      </a:lnTo>
                      <a:lnTo>
                        <a:pt x="313" y="442"/>
                      </a:lnTo>
                      <a:lnTo>
                        <a:pt x="323" y="443"/>
                      </a:lnTo>
                      <a:lnTo>
                        <a:pt x="333" y="444"/>
                      </a:lnTo>
                      <a:lnTo>
                        <a:pt x="342" y="445"/>
                      </a:lnTo>
                      <a:lnTo>
                        <a:pt x="348" y="452"/>
                      </a:lnTo>
                      <a:lnTo>
                        <a:pt x="353" y="459"/>
                      </a:lnTo>
                      <a:lnTo>
                        <a:pt x="359" y="465"/>
                      </a:lnTo>
                      <a:lnTo>
                        <a:pt x="364" y="471"/>
                      </a:lnTo>
                      <a:lnTo>
                        <a:pt x="370" y="478"/>
                      </a:lnTo>
                      <a:lnTo>
                        <a:pt x="374" y="484"/>
                      </a:lnTo>
                      <a:lnTo>
                        <a:pt x="380" y="491"/>
                      </a:lnTo>
                      <a:lnTo>
                        <a:pt x="385" y="498"/>
                      </a:lnTo>
                      <a:lnTo>
                        <a:pt x="390" y="498"/>
                      </a:lnTo>
                      <a:lnTo>
                        <a:pt x="396" y="498"/>
                      </a:lnTo>
                      <a:lnTo>
                        <a:pt x="401" y="498"/>
                      </a:lnTo>
                      <a:lnTo>
                        <a:pt x="406" y="498"/>
                      </a:lnTo>
                      <a:lnTo>
                        <a:pt x="412" y="498"/>
                      </a:lnTo>
                      <a:lnTo>
                        <a:pt x="417" y="498"/>
                      </a:lnTo>
                      <a:lnTo>
                        <a:pt x="423" y="498"/>
                      </a:lnTo>
                      <a:lnTo>
                        <a:pt x="428" y="498"/>
                      </a:lnTo>
                      <a:lnTo>
                        <a:pt x="434" y="498"/>
                      </a:lnTo>
                      <a:lnTo>
                        <a:pt x="440" y="496"/>
                      </a:lnTo>
                      <a:lnTo>
                        <a:pt x="446" y="496"/>
                      </a:lnTo>
                      <a:lnTo>
                        <a:pt x="452" y="495"/>
                      </a:lnTo>
                      <a:lnTo>
                        <a:pt x="458" y="494"/>
                      </a:lnTo>
                      <a:lnTo>
                        <a:pt x="464" y="494"/>
                      </a:lnTo>
                      <a:lnTo>
                        <a:pt x="470" y="493"/>
                      </a:lnTo>
                      <a:lnTo>
                        <a:pt x="475" y="493"/>
                      </a:lnTo>
                      <a:lnTo>
                        <a:pt x="484" y="501"/>
                      </a:lnTo>
                      <a:lnTo>
                        <a:pt x="493" y="508"/>
                      </a:lnTo>
                      <a:lnTo>
                        <a:pt x="501" y="516"/>
                      </a:lnTo>
                      <a:lnTo>
                        <a:pt x="509" y="524"/>
                      </a:lnTo>
                      <a:lnTo>
                        <a:pt x="517" y="533"/>
                      </a:lnTo>
                      <a:lnTo>
                        <a:pt x="525" y="542"/>
                      </a:lnTo>
                      <a:lnTo>
                        <a:pt x="534" y="553"/>
                      </a:lnTo>
                      <a:lnTo>
                        <a:pt x="542" y="562"/>
                      </a:lnTo>
                      <a:lnTo>
                        <a:pt x="549" y="553"/>
                      </a:lnTo>
                      <a:lnTo>
                        <a:pt x="556" y="542"/>
                      </a:lnTo>
                      <a:lnTo>
                        <a:pt x="563" y="533"/>
                      </a:lnTo>
                      <a:lnTo>
                        <a:pt x="571" y="524"/>
                      </a:lnTo>
                      <a:lnTo>
                        <a:pt x="573" y="512"/>
                      </a:lnTo>
                      <a:lnTo>
                        <a:pt x="576" y="502"/>
                      </a:lnTo>
                      <a:lnTo>
                        <a:pt x="578" y="490"/>
                      </a:lnTo>
                      <a:lnTo>
                        <a:pt x="580" y="480"/>
                      </a:lnTo>
                      <a:lnTo>
                        <a:pt x="586" y="495"/>
                      </a:lnTo>
                      <a:lnTo>
                        <a:pt x="592" y="511"/>
                      </a:lnTo>
                      <a:lnTo>
                        <a:pt x="598" y="527"/>
                      </a:lnTo>
                      <a:lnTo>
                        <a:pt x="603" y="541"/>
                      </a:lnTo>
                      <a:lnTo>
                        <a:pt x="609" y="545"/>
                      </a:lnTo>
                      <a:lnTo>
                        <a:pt x="615" y="549"/>
                      </a:lnTo>
                      <a:lnTo>
                        <a:pt x="621" y="552"/>
                      </a:lnTo>
                      <a:lnTo>
                        <a:pt x="626" y="556"/>
                      </a:lnTo>
                      <a:lnTo>
                        <a:pt x="631" y="559"/>
                      </a:lnTo>
                      <a:lnTo>
                        <a:pt x="637" y="563"/>
                      </a:lnTo>
                      <a:lnTo>
                        <a:pt x="642" y="566"/>
                      </a:lnTo>
                      <a:lnTo>
                        <a:pt x="648" y="571"/>
                      </a:lnTo>
                      <a:lnTo>
                        <a:pt x="687" y="565"/>
                      </a:lnTo>
                      <a:lnTo>
                        <a:pt x="716" y="553"/>
                      </a:lnTo>
                      <a:lnTo>
                        <a:pt x="736" y="532"/>
                      </a:lnTo>
                      <a:lnTo>
                        <a:pt x="748" y="506"/>
                      </a:lnTo>
                      <a:lnTo>
                        <a:pt x="755" y="476"/>
                      </a:lnTo>
                      <a:lnTo>
                        <a:pt x="759" y="441"/>
                      </a:lnTo>
                      <a:lnTo>
                        <a:pt x="762" y="407"/>
                      </a:lnTo>
                      <a:lnTo>
                        <a:pt x="766" y="371"/>
                      </a:lnTo>
                      <a:lnTo>
                        <a:pt x="767" y="341"/>
                      </a:lnTo>
                      <a:lnTo>
                        <a:pt x="767" y="310"/>
                      </a:lnTo>
                      <a:lnTo>
                        <a:pt x="767" y="278"/>
                      </a:lnTo>
                      <a:lnTo>
                        <a:pt x="767" y="247"/>
                      </a:lnTo>
                      <a:lnTo>
                        <a:pt x="762" y="253"/>
                      </a:lnTo>
                      <a:lnTo>
                        <a:pt x="758" y="259"/>
                      </a:lnTo>
                      <a:lnTo>
                        <a:pt x="753" y="266"/>
                      </a:lnTo>
                      <a:lnTo>
                        <a:pt x="748" y="272"/>
                      </a:lnTo>
                      <a:lnTo>
                        <a:pt x="743" y="278"/>
                      </a:lnTo>
                      <a:lnTo>
                        <a:pt x="738" y="284"/>
                      </a:lnTo>
                      <a:lnTo>
                        <a:pt x="732" y="292"/>
                      </a:lnTo>
                      <a:lnTo>
                        <a:pt x="728" y="298"/>
                      </a:lnTo>
                      <a:lnTo>
                        <a:pt x="721" y="305"/>
                      </a:lnTo>
                      <a:lnTo>
                        <a:pt x="713" y="313"/>
                      </a:lnTo>
                      <a:lnTo>
                        <a:pt x="706" y="321"/>
                      </a:lnTo>
                      <a:lnTo>
                        <a:pt x="699" y="328"/>
                      </a:lnTo>
                      <a:lnTo>
                        <a:pt x="692" y="336"/>
                      </a:lnTo>
                      <a:lnTo>
                        <a:pt x="685" y="344"/>
                      </a:lnTo>
                      <a:lnTo>
                        <a:pt x="677" y="351"/>
                      </a:lnTo>
                      <a:lnTo>
                        <a:pt x="670" y="359"/>
                      </a:lnTo>
                      <a:lnTo>
                        <a:pt x="670" y="344"/>
                      </a:lnTo>
                      <a:lnTo>
                        <a:pt x="670" y="330"/>
                      </a:lnTo>
                      <a:lnTo>
                        <a:pt x="670" y="316"/>
                      </a:lnTo>
                      <a:lnTo>
                        <a:pt x="670" y="302"/>
                      </a:lnTo>
                      <a:lnTo>
                        <a:pt x="669" y="282"/>
                      </a:lnTo>
                      <a:lnTo>
                        <a:pt x="668" y="261"/>
                      </a:lnTo>
                      <a:lnTo>
                        <a:pt x="665" y="242"/>
                      </a:lnTo>
                      <a:lnTo>
                        <a:pt x="664" y="222"/>
                      </a:lnTo>
                      <a:lnTo>
                        <a:pt x="656" y="210"/>
                      </a:lnTo>
                      <a:lnTo>
                        <a:pt x="649" y="198"/>
                      </a:lnTo>
                      <a:lnTo>
                        <a:pt x="641" y="186"/>
                      </a:lnTo>
                      <a:lnTo>
                        <a:pt x="633" y="175"/>
                      </a:lnTo>
                      <a:lnTo>
                        <a:pt x="631" y="190"/>
                      </a:lnTo>
                      <a:lnTo>
                        <a:pt x="629" y="207"/>
                      </a:lnTo>
                      <a:lnTo>
                        <a:pt x="626" y="223"/>
                      </a:lnTo>
                      <a:lnTo>
                        <a:pt x="624" y="240"/>
                      </a:lnTo>
                      <a:lnTo>
                        <a:pt x="618" y="244"/>
                      </a:lnTo>
                      <a:lnTo>
                        <a:pt x="613" y="249"/>
                      </a:lnTo>
                      <a:lnTo>
                        <a:pt x="606" y="253"/>
                      </a:lnTo>
                      <a:lnTo>
                        <a:pt x="600" y="257"/>
                      </a:lnTo>
                      <a:lnTo>
                        <a:pt x="594" y="263"/>
                      </a:lnTo>
                      <a:lnTo>
                        <a:pt x="588" y="267"/>
                      </a:lnTo>
                      <a:lnTo>
                        <a:pt x="581" y="272"/>
                      </a:lnTo>
                      <a:lnTo>
                        <a:pt x="576" y="276"/>
                      </a:lnTo>
                      <a:lnTo>
                        <a:pt x="576" y="231"/>
                      </a:lnTo>
                      <a:lnTo>
                        <a:pt x="575" y="190"/>
                      </a:lnTo>
                      <a:lnTo>
                        <a:pt x="572" y="153"/>
                      </a:lnTo>
                      <a:lnTo>
                        <a:pt x="565" y="119"/>
                      </a:lnTo>
                      <a:lnTo>
                        <a:pt x="553" y="87"/>
                      </a:lnTo>
                      <a:lnTo>
                        <a:pt x="532" y="58"/>
                      </a:lnTo>
                      <a:lnTo>
                        <a:pt x="504" y="29"/>
                      </a:lnTo>
                      <a:lnTo>
                        <a:pt x="465" y="0"/>
                      </a:lnTo>
                      <a:lnTo>
                        <a:pt x="469" y="18"/>
                      </a:lnTo>
                      <a:lnTo>
                        <a:pt x="471" y="36"/>
                      </a:lnTo>
                      <a:lnTo>
                        <a:pt x="474" y="54"/>
                      </a:lnTo>
                      <a:lnTo>
                        <a:pt x="477" y="71"/>
                      </a:lnTo>
                      <a:lnTo>
                        <a:pt x="477" y="89"/>
                      </a:lnTo>
                      <a:lnTo>
                        <a:pt x="477" y="106"/>
                      </a:lnTo>
                      <a:lnTo>
                        <a:pt x="477" y="124"/>
                      </a:lnTo>
                      <a:lnTo>
                        <a:pt x="477" y="141"/>
                      </a:lnTo>
                      <a:lnTo>
                        <a:pt x="471" y="147"/>
                      </a:lnTo>
                      <a:lnTo>
                        <a:pt x="465" y="151"/>
                      </a:lnTo>
                      <a:lnTo>
                        <a:pt x="459" y="156"/>
                      </a:lnTo>
                      <a:lnTo>
                        <a:pt x="455" y="161"/>
                      </a:lnTo>
                      <a:lnTo>
                        <a:pt x="449" y="165"/>
                      </a:lnTo>
                      <a:lnTo>
                        <a:pt x="443" y="171"/>
                      </a:lnTo>
                      <a:lnTo>
                        <a:pt x="437" y="176"/>
                      </a:lnTo>
                      <a:lnTo>
                        <a:pt x="432" y="181"/>
                      </a:lnTo>
                      <a:lnTo>
                        <a:pt x="431" y="166"/>
                      </a:lnTo>
                      <a:lnTo>
                        <a:pt x="431" y="153"/>
                      </a:lnTo>
                      <a:lnTo>
                        <a:pt x="429" y="138"/>
                      </a:lnTo>
                      <a:lnTo>
                        <a:pt x="428" y="125"/>
                      </a:lnTo>
                      <a:lnTo>
                        <a:pt x="423" y="111"/>
                      </a:lnTo>
                      <a:lnTo>
                        <a:pt x="417" y="99"/>
                      </a:lnTo>
                      <a:lnTo>
                        <a:pt x="410" y="85"/>
                      </a:lnTo>
                      <a:lnTo>
                        <a:pt x="404" y="72"/>
                      </a:lnTo>
                      <a:lnTo>
                        <a:pt x="398" y="85"/>
                      </a:lnTo>
                      <a:lnTo>
                        <a:pt x="393" y="99"/>
                      </a:lnTo>
                      <a:lnTo>
                        <a:pt x="386" y="111"/>
                      </a:lnTo>
                      <a:lnTo>
                        <a:pt x="380" y="125"/>
                      </a:lnTo>
                      <a:lnTo>
                        <a:pt x="374" y="128"/>
                      </a:lnTo>
                      <a:lnTo>
                        <a:pt x="370" y="132"/>
                      </a:lnTo>
                      <a:lnTo>
                        <a:pt x="364" y="135"/>
                      </a:lnTo>
                      <a:lnTo>
                        <a:pt x="359" y="139"/>
                      </a:lnTo>
                      <a:lnTo>
                        <a:pt x="353" y="143"/>
                      </a:lnTo>
                      <a:lnTo>
                        <a:pt x="348" y="148"/>
                      </a:lnTo>
                      <a:lnTo>
                        <a:pt x="343" y="151"/>
                      </a:lnTo>
                      <a:lnTo>
                        <a:pt x="337" y="155"/>
                      </a:lnTo>
                      <a:lnTo>
                        <a:pt x="336" y="140"/>
                      </a:lnTo>
                      <a:lnTo>
                        <a:pt x="335" y="127"/>
                      </a:lnTo>
                      <a:lnTo>
                        <a:pt x="334" y="112"/>
                      </a:lnTo>
                      <a:lnTo>
                        <a:pt x="333" y="99"/>
                      </a:lnTo>
                      <a:lnTo>
                        <a:pt x="327" y="90"/>
                      </a:lnTo>
                      <a:lnTo>
                        <a:pt x="321" y="81"/>
                      </a:lnTo>
                      <a:lnTo>
                        <a:pt x="314" y="72"/>
                      </a:lnTo>
                      <a:lnTo>
                        <a:pt x="309" y="63"/>
                      </a:lnTo>
                      <a:lnTo>
                        <a:pt x="303" y="61"/>
                      </a:lnTo>
                      <a:lnTo>
                        <a:pt x="298" y="58"/>
                      </a:lnTo>
                      <a:lnTo>
                        <a:pt x="292" y="56"/>
                      </a:lnTo>
                      <a:lnTo>
                        <a:pt x="288" y="53"/>
                      </a:lnTo>
                      <a:lnTo>
                        <a:pt x="282" y="50"/>
                      </a:lnTo>
                      <a:lnTo>
                        <a:pt x="276" y="47"/>
                      </a:lnTo>
                      <a:lnTo>
                        <a:pt x="272" y="45"/>
                      </a:lnTo>
                      <a:lnTo>
                        <a:pt x="266" y="42"/>
                      </a:lnTo>
                      <a:close/>
                    </a:path>
                  </a:pathLst>
                </a:custGeom>
                <a:solidFill>
                  <a:srgbClr val="d8a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496"/>
                <p:cNvSpPr/>
                <p:nvPr/>
              </p:nvSpPr>
              <p:spPr>
                <a:xfrm>
                  <a:off x="2508120" y="5921280"/>
                  <a:ext cx="293760" cy="223920"/>
                </a:xfrm>
                <a:custGeom>
                  <a:avLst/>
                  <a:gdLst/>
                  <a:ahLst/>
                  <a:rect l="l" t="t" r="r" b="b"/>
                  <a:pathLst>
                    <a:path w="733" h="543">
                      <a:moveTo>
                        <a:pt x="251" y="46"/>
                      </a:moveTo>
                      <a:lnTo>
                        <a:pt x="248" y="63"/>
                      </a:lnTo>
                      <a:lnTo>
                        <a:pt x="244" y="79"/>
                      </a:lnTo>
                      <a:lnTo>
                        <a:pt x="241" y="95"/>
                      </a:lnTo>
                      <a:lnTo>
                        <a:pt x="238" y="111"/>
                      </a:lnTo>
                      <a:lnTo>
                        <a:pt x="221" y="141"/>
                      </a:lnTo>
                      <a:lnTo>
                        <a:pt x="205" y="161"/>
                      </a:lnTo>
                      <a:lnTo>
                        <a:pt x="190" y="174"/>
                      </a:lnTo>
                      <a:lnTo>
                        <a:pt x="177" y="184"/>
                      </a:lnTo>
                      <a:lnTo>
                        <a:pt x="165" y="195"/>
                      </a:lnTo>
                      <a:lnTo>
                        <a:pt x="154" y="210"/>
                      </a:lnTo>
                      <a:lnTo>
                        <a:pt x="146" y="234"/>
                      </a:lnTo>
                      <a:lnTo>
                        <a:pt x="140" y="270"/>
                      </a:lnTo>
                      <a:lnTo>
                        <a:pt x="136" y="271"/>
                      </a:lnTo>
                      <a:lnTo>
                        <a:pt x="131" y="271"/>
                      </a:lnTo>
                      <a:lnTo>
                        <a:pt x="127" y="272"/>
                      </a:lnTo>
                      <a:lnTo>
                        <a:pt x="122" y="272"/>
                      </a:lnTo>
                      <a:lnTo>
                        <a:pt x="117" y="273"/>
                      </a:lnTo>
                      <a:lnTo>
                        <a:pt x="113" y="274"/>
                      </a:lnTo>
                      <a:lnTo>
                        <a:pt x="108" y="274"/>
                      </a:lnTo>
                      <a:lnTo>
                        <a:pt x="104" y="275"/>
                      </a:lnTo>
                      <a:lnTo>
                        <a:pt x="98" y="272"/>
                      </a:lnTo>
                      <a:lnTo>
                        <a:pt x="92" y="270"/>
                      </a:lnTo>
                      <a:lnTo>
                        <a:pt x="86" y="267"/>
                      </a:lnTo>
                      <a:lnTo>
                        <a:pt x="82" y="265"/>
                      </a:lnTo>
                      <a:lnTo>
                        <a:pt x="76" y="263"/>
                      </a:lnTo>
                      <a:lnTo>
                        <a:pt x="70" y="259"/>
                      </a:lnTo>
                      <a:lnTo>
                        <a:pt x="64" y="257"/>
                      </a:lnTo>
                      <a:lnTo>
                        <a:pt x="59" y="254"/>
                      </a:lnTo>
                      <a:lnTo>
                        <a:pt x="53" y="250"/>
                      </a:lnTo>
                      <a:lnTo>
                        <a:pt x="47" y="246"/>
                      </a:lnTo>
                      <a:lnTo>
                        <a:pt x="41" y="242"/>
                      </a:lnTo>
                      <a:lnTo>
                        <a:pt x="37" y="236"/>
                      </a:lnTo>
                      <a:lnTo>
                        <a:pt x="31" y="232"/>
                      </a:lnTo>
                      <a:lnTo>
                        <a:pt x="25" y="228"/>
                      </a:lnTo>
                      <a:lnTo>
                        <a:pt x="20" y="223"/>
                      </a:lnTo>
                      <a:lnTo>
                        <a:pt x="14" y="219"/>
                      </a:lnTo>
                      <a:lnTo>
                        <a:pt x="18" y="235"/>
                      </a:lnTo>
                      <a:lnTo>
                        <a:pt x="23" y="251"/>
                      </a:lnTo>
                      <a:lnTo>
                        <a:pt x="26" y="267"/>
                      </a:lnTo>
                      <a:lnTo>
                        <a:pt x="31" y="283"/>
                      </a:lnTo>
                      <a:lnTo>
                        <a:pt x="16" y="320"/>
                      </a:lnTo>
                      <a:lnTo>
                        <a:pt x="6" y="356"/>
                      </a:lnTo>
                      <a:lnTo>
                        <a:pt x="0" y="389"/>
                      </a:lnTo>
                      <a:lnTo>
                        <a:pt x="2" y="420"/>
                      </a:lnTo>
                      <a:lnTo>
                        <a:pt x="11" y="450"/>
                      </a:lnTo>
                      <a:lnTo>
                        <a:pt x="30" y="476"/>
                      </a:lnTo>
                      <a:lnTo>
                        <a:pt x="59" y="498"/>
                      </a:lnTo>
                      <a:lnTo>
                        <a:pt x="99" y="516"/>
                      </a:lnTo>
                      <a:lnTo>
                        <a:pt x="106" y="513"/>
                      </a:lnTo>
                      <a:lnTo>
                        <a:pt x="114" y="510"/>
                      </a:lnTo>
                      <a:lnTo>
                        <a:pt x="121" y="507"/>
                      </a:lnTo>
                      <a:lnTo>
                        <a:pt x="128" y="504"/>
                      </a:lnTo>
                      <a:lnTo>
                        <a:pt x="136" y="501"/>
                      </a:lnTo>
                      <a:lnTo>
                        <a:pt x="143" y="498"/>
                      </a:lnTo>
                      <a:lnTo>
                        <a:pt x="150" y="494"/>
                      </a:lnTo>
                      <a:lnTo>
                        <a:pt x="157" y="491"/>
                      </a:lnTo>
                      <a:lnTo>
                        <a:pt x="162" y="484"/>
                      </a:lnTo>
                      <a:lnTo>
                        <a:pt x="168" y="477"/>
                      </a:lnTo>
                      <a:lnTo>
                        <a:pt x="174" y="470"/>
                      </a:lnTo>
                      <a:lnTo>
                        <a:pt x="180" y="463"/>
                      </a:lnTo>
                      <a:lnTo>
                        <a:pt x="189" y="458"/>
                      </a:lnTo>
                      <a:lnTo>
                        <a:pt x="198" y="452"/>
                      </a:lnTo>
                      <a:lnTo>
                        <a:pt x="207" y="446"/>
                      </a:lnTo>
                      <a:lnTo>
                        <a:pt x="216" y="440"/>
                      </a:lnTo>
                      <a:lnTo>
                        <a:pt x="224" y="435"/>
                      </a:lnTo>
                      <a:lnTo>
                        <a:pt x="234" y="430"/>
                      </a:lnTo>
                      <a:lnTo>
                        <a:pt x="242" y="423"/>
                      </a:lnTo>
                      <a:lnTo>
                        <a:pt x="251" y="418"/>
                      </a:lnTo>
                      <a:lnTo>
                        <a:pt x="260" y="419"/>
                      </a:lnTo>
                      <a:lnTo>
                        <a:pt x="269" y="420"/>
                      </a:lnTo>
                      <a:lnTo>
                        <a:pt x="279" y="421"/>
                      </a:lnTo>
                      <a:lnTo>
                        <a:pt x="288" y="422"/>
                      </a:lnTo>
                      <a:lnTo>
                        <a:pt x="297" y="423"/>
                      </a:lnTo>
                      <a:lnTo>
                        <a:pt x="305" y="424"/>
                      </a:lnTo>
                      <a:lnTo>
                        <a:pt x="314" y="426"/>
                      </a:lnTo>
                      <a:lnTo>
                        <a:pt x="322" y="427"/>
                      </a:lnTo>
                      <a:lnTo>
                        <a:pt x="328" y="433"/>
                      </a:lnTo>
                      <a:lnTo>
                        <a:pt x="333" y="438"/>
                      </a:lnTo>
                      <a:lnTo>
                        <a:pt x="338" y="444"/>
                      </a:lnTo>
                      <a:lnTo>
                        <a:pt x="343" y="451"/>
                      </a:lnTo>
                      <a:lnTo>
                        <a:pt x="349" y="457"/>
                      </a:lnTo>
                      <a:lnTo>
                        <a:pt x="353" y="463"/>
                      </a:lnTo>
                      <a:lnTo>
                        <a:pt x="359" y="469"/>
                      </a:lnTo>
                      <a:lnTo>
                        <a:pt x="364" y="476"/>
                      </a:lnTo>
                      <a:lnTo>
                        <a:pt x="368" y="476"/>
                      </a:lnTo>
                      <a:lnTo>
                        <a:pt x="373" y="476"/>
                      </a:lnTo>
                      <a:lnTo>
                        <a:pt x="379" y="476"/>
                      </a:lnTo>
                      <a:lnTo>
                        <a:pt x="383" y="476"/>
                      </a:lnTo>
                      <a:lnTo>
                        <a:pt x="389" y="476"/>
                      </a:lnTo>
                      <a:lnTo>
                        <a:pt x="394" y="476"/>
                      </a:lnTo>
                      <a:lnTo>
                        <a:pt x="400" y="476"/>
                      </a:lnTo>
                      <a:lnTo>
                        <a:pt x="404" y="476"/>
                      </a:lnTo>
                      <a:lnTo>
                        <a:pt x="410" y="475"/>
                      </a:lnTo>
                      <a:lnTo>
                        <a:pt x="416" y="475"/>
                      </a:lnTo>
                      <a:lnTo>
                        <a:pt x="421" y="474"/>
                      </a:lnTo>
                      <a:lnTo>
                        <a:pt x="426" y="474"/>
                      </a:lnTo>
                      <a:lnTo>
                        <a:pt x="432" y="473"/>
                      </a:lnTo>
                      <a:lnTo>
                        <a:pt x="438" y="473"/>
                      </a:lnTo>
                      <a:lnTo>
                        <a:pt x="442" y="471"/>
                      </a:lnTo>
                      <a:lnTo>
                        <a:pt x="448" y="471"/>
                      </a:lnTo>
                      <a:lnTo>
                        <a:pt x="456" y="479"/>
                      </a:lnTo>
                      <a:lnTo>
                        <a:pt x="464" y="485"/>
                      </a:lnTo>
                      <a:lnTo>
                        <a:pt x="472" y="492"/>
                      </a:lnTo>
                      <a:lnTo>
                        <a:pt x="480" y="500"/>
                      </a:lnTo>
                      <a:lnTo>
                        <a:pt x="488" y="509"/>
                      </a:lnTo>
                      <a:lnTo>
                        <a:pt x="496" y="518"/>
                      </a:lnTo>
                      <a:lnTo>
                        <a:pt x="503" y="528"/>
                      </a:lnTo>
                      <a:lnTo>
                        <a:pt x="511" y="536"/>
                      </a:lnTo>
                      <a:lnTo>
                        <a:pt x="518" y="528"/>
                      </a:lnTo>
                      <a:lnTo>
                        <a:pt x="525" y="518"/>
                      </a:lnTo>
                      <a:lnTo>
                        <a:pt x="532" y="509"/>
                      </a:lnTo>
                      <a:lnTo>
                        <a:pt x="538" y="500"/>
                      </a:lnTo>
                      <a:lnTo>
                        <a:pt x="540" y="489"/>
                      </a:lnTo>
                      <a:lnTo>
                        <a:pt x="542" y="479"/>
                      </a:lnTo>
                      <a:lnTo>
                        <a:pt x="545" y="469"/>
                      </a:lnTo>
                      <a:lnTo>
                        <a:pt x="547" y="459"/>
                      </a:lnTo>
                      <a:lnTo>
                        <a:pt x="553" y="474"/>
                      </a:lnTo>
                      <a:lnTo>
                        <a:pt x="557" y="487"/>
                      </a:lnTo>
                      <a:lnTo>
                        <a:pt x="563" y="502"/>
                      </a:lnTo>
                      <a:lnTo>
                        <a:pt x="569" y="516"/>
                      </a:lnTo>
                      <a:lnTo>
                        <a:pt x="575" y="520"/>
                      </a:lnTo>
                      <a:lnTo>
                        <a:pt x="579" y="523"/>
                      </a:lnTo>
                      <a:lnTo>
                        <a:pt x="585" y="526"/>
                      </a:lnTo>
                      <a:lnTo>
                        <a:pt x="590" y="529"/>
                      </a:lnTo>
                      <a:lnTo>
                        <a:pt x="595" y="533"/>
                      </a:lnTo>
                      <a:lnTo>
                        <a:pt x="601" y="536"/>
                      </a:lnTo>
                      <a:lnTo>
                        <a:pt x="607" y="539"/>
                      </a:lnTo>
                      <a:lnTo>
                        <a:pt x="613" y="543"/>
                      </a:lnTo>
                      <a:lnTo>
                        <a:pt x="649" y="538"/>
                      </a:lnTo>
                      <a:lnTo>
                        <a:pt x="676" y="526"/>
                      </a:lnTo>
                      <a:lnTo>
                        <a:pt x="693" y="507"/>
                      </a:lnTo>
                      <a:lnTo>
                        <a:pt x="706" y="482"/>
                      </a:lnTo>
                      <a:lnTo>
                        <a:pt x="712" y="454"/>
                      </a:lnTo>
                      <a:lnTo>
                        <a:pt x="716" y="422"/>
                      </a:lnTo>
                      <a:lnTo>
                        <a:pt x="718" y="390"/>
                      </a:lnTo>
                      <a:lnTo>
                        <a:pt x="722" y="357"/>
                      </a:lnTo>
                      <a:lnTo>
                        <a:pt x="724" y="327"/>
                      </a:lnTo>
                      <a:lnTo>
                        <a:pt x="728" y="298"/>
                      </a:lnTo>
                      <a:lnTo>
                        <a:pt x="730" y="269"/>
                      </a:lnTo>
                      <a:lnTo>
                        <a:pt x="733" y="240"/>
                      </a:lnTo>
                      <a:lnTo>
                        <a:pt x="728" y="246"/>
                      </a:lnTo>
                      <a:lnTo>
                        <a:pt x="722" y="251"/>
                      </a:lnTo>
                      <a:lnTo>
                        <a:pt x="716" y="257"/>
                      </a:lnTo>
                      <a:lnTo>
                        <a:pt x="710" y="264"/>
                      </a:lnTo>
                      <a:lnTo>
                        <a:pt x="705" y="269"/>
                      </a:lnTo>
                      <a:lnTo>
                        <a:pt x="700" y="275"/>
                      </a:lnTo>
                      <a:lnTo>
                        <a:pt x="694" y="281"/>
                      </a:lnTo>
                      <a:lnTo>
                        <a:pt x="689" y="288"/>
                      </a:lnTo>
                      <a:lnTo>
                        <a:pt x="682" y="295"/>
                      </a:lnTo>
                      <a:lnTo>
                        <a:pt x="675" y="301"/>
                      </a:lnTo>
                      <a:lnTo>
                        <a:pt x="668" y="309"/>
                      </a:lnTo>
                      <a:lnTo>
                        <a:pt x="661" y="316"/>
                      </a:lnTo>
                      <a:lnTo>
                        <a:pt x="653" y="323"/>
                      </a:lnTo>
                      <a:lnTo>
                        <a:pt x="646" y="329"/>
                      </a:lnTo>
                      <a:lnTo>
                        <a:pt x="639" y="337"/>
                      </a:lnTo>
                      <a:lnTo>
                        <a:pt x="632" y="344"/>
                      </a:lnTo>
                      <a:lnTo>
                        <a:pt x="632" y="332"/>
                      </a:lnTo>
                      <a:lnTo>
                        <a:pt x="632" y="318"/>
                      </a:lnTo>
                      <a:lnTo>
                        <a:pt x="632" y="305"/>
                      </a:lnTo>
                      <a:lnTo>
                        <a:pt x="632" y="292"/>
                      </a:lnTo>
                      <a:lnTo>
                        <a:pt x="632" y="272"/>
                      </a:lnTo>
                      <a:lnTo>
                        <a:pt x="631" y="253"/>
                      </a:lnTo>
                      <a:lnTo>
                        <a:pt x="631" y="234"/>
                      </a:lnTo>
                      <a:lnTo>
                        <a:pt x="630" y="215"/>
                      </a:lnTo>
                      <a:lnTo>
                        <a:pt x="624" y="203"/>
                      </a:lnTo>
                      <a:lnTo>
                        <a:pt x="617" y="193"/>
                      </a:lnTo>
                      <a:lnTo>
                        <a:pt x="611" y="181"/>
                      </a:lnTo>
                      <a:lnTo>
                        <a:pt x="604" y="170"/>
                      </a:lnTo>
                      <a:lnTo>
                        <a:pt x="601" y="185"/>
                      </a:lnTo>
                      <a:lnTo>
                        <a:pt x="598" y="201"/>
                      </a:lnTo>
                      <a:lnTo>
                        <a:pt x="594" y="217"/>
                      </a:lnTo>
                      <a:lnTo>
                        <a:pt x="592" y="231"/>
                      </a:lnTo>
                      <a:lnTo>
                        <a:pt x="585" y="235"/>
                      </a:lnTo>
                      <a:lnTo>
                        <a:pt x="579" y="240"/>
                      </a:lnTo>
                      <a:lnTo>
                        <a:pt x="572" y="245"/>
                      </a:lnTo>
                      <a:lnTo>
                        <a:pt x="566" y="249"/>
                      </a:lnTo>
                      <a:lnTo>
                        <a:pt x="561" y="253"/>
                      </a:lnTo>
                      <a:lnTo>
                        <a:pt x="555" y="258"/>
                      </a:lnTo>
                      <a:lnTo>
                        <a:pt x="548" y="263"/>
                      </a:lnTo>
                      <a:lnTo>
                        <a:pt x="542" y="267"/>
                      </a:lnTo>
                      <a:lnTo>
                        <a:pt x="543" y="224"/>
                      </a:lnTo>
                      <a:lnTo>
                        <a:pt x="543" y="185"/>
                      </a:lnTo>
                      <a:lnTo>
                        <a:pt x="542" y="149"/>
                      </a:lnTo>
                      <a:lnTo>
                        <a:pt x="538" y="115"/>
                      </a:lnTo>
                      <a:lnTo>
                        <a:pt x="528" y="85"/>
                      </a:lnTo>
                      <a:lnTo>
                        <a:pt x="511" y="55"/>
                      </a:lnTo>
                      <a:lnTo>
                        <a:pt x="486" y="28"/>
                      </a:lnTo>
                      <a:lnTo>
                        <a:pt x="450" y="0"/>
                      </a:lnTo>
                      <a:lnTo>
                        <a:pt x="451" y="18"/>
                      </a:lnTo>
                      <a:lnTo>
                        <a:pt x="452" y="36"/>
                      </a:lnTo>
                      <a:lnTo>
                        <a:pt x="454" y="54"/>
                      </a:lnTo>
                      <a:lnTo>
                        <a:pt x="455" y="71"/>
                      </a:lnTo>
                      <a:lnTo>
                        <a:pt x="455" y="88"/>
                      </a:lnTo>
                      <a:lnTo>
                        <a:pt x="455" y="104"/>
                      </a:lnTo>
                      <a:lnTo>
                        <a:pt x="455" y="121"/>
                      </a:lnTo>
                      <a:lnTo>
                        <a:pt x="455" y="136"/>
                      </a:lnTo>
                      <a:lnTo>
                        <a:pt x="449" y="141"/>
                      </a:lnTo>
                      <a:lnTo>
                        <a:pt x="443" y="147"/>
                      </a:lnTo>
                      <a:lnTo>
                        <a:pt x="438" y="152"/>
                      </a:lnTo>
                      <a:lnTo>
                        <a:pt x="432" y="156"/>
                      </a:lnTo>
                      <a:lnTo>
                        <a:pt x="426" y="161"/>
                      </a:lnTo>
                      <a:lnTo>
                        <a:pt x="420" y="166"/>
                      </a:lnTo>
                      <a:lnTo>
                        <a:pt x="414" y="172"/>
                      </a:lnTo>
                      <a:lnTo>
                        <a:pt x="409" y="177"/>
                      </a:lnTo>
                      <a:lnTo>
                        <a:pt x="408" y="163"/>
                      </a:lnTo>
                      <a:lnTo>
                        <a:pt x="406" y="150"/>
                      </a:lnTo>
                      <a:lnTo>
                        <a:pt x="405" y="137"/>
                      </a:lnTo>
                      <a:lnTo>
                        <a:pt x="404" y="124"/>
                      </a:lnTo>
                      <a:lnTo>
                        <a:pt x="398" y="112"/>
                      </a:lnTo>
                      <a:lnTo>
                        <a:pt x="393" y="100"/>
                      </a:lnTo>
                      <a:lnTo>
                        <a:pt x="387" y="87"/>
                      </a:lnTo>
                      <a:lnTo>
                        <a:pt x="381" y="75"/>
                      </a:lnTo>
                      <a:lnTo>
                        <a:pt x="375" y="87"/>
                      </a:lnTo>
                      <a:lnTo>
                        <a:pt x="371" y="100"/>
                      </a:lnTo>
                      <a:lnTo>
                        <a:pt x="365" y="112"/>
                      </a:lnTo>
                      <a:lnTo>
                        <a:pt x="359" y="124"/>
                      </a:lnTo>
                      <a:lnTo>
                        <a:pt x="355" y="127"/>
                      </a:lnTo>
                      <a:lnTo>
                        <a:pt x="349" y="131"/>
                      </a:lnTo>
                      <a:lnTo>
                        <a:pt x="344" y="134"/>
                      </a:lnTo>
                      <a:lnTo>
                        <a:pt x="338" y="138"/>
                      </a:lnTo>
                      <a:lnTo>
                        <a:pt x="334" y="141"/>
                      </a:lnTo>
                      <a:lnTo>
                        <a:pt x="328" y="146"/>
                      </a:lnTo>
                      <a:lnTo>
                        <a:pt x="324" y="149"/>
                      </a:lnTo>
                      <a:lnTo>
                        <a:pt x="319" y="153"/>
                      </a:lnTo>
                      <a:lnTo>
                        <a:pt x="318" y="139"/>
                      </a:lnTo>
                      <a:lnTo>
                        <a:pt x="317" y="126"/>
                      </a:lnTo>
                      <a:lnTo>
                        <a:pt x="315" y="113"/>
                      </a:lnTo>
                      <a:lnTo>
                        <a:pt x="314" y="100"/>
                      </a:lnTo>
                      <a:lnTo>
                        <a:pt x="309" y="91"/>
                      </a:lnTo>
                      <a:lnTo>
                        <a:pt x="303" y="83"/>
                      </a:lnTo>
                      <a:lnTo>
                        <a:pt x="298" y="75"/>
                      </a:lnTo>
                      <a:lnTo>
                        <a:pt x="291" y="66"/>
                      </a:lnTo>
                      <a:lnTo>
                        <a:pt x="287" y="64"/>
                      </a:lnTo>
                      <a:lnTo>
                        <a:pt x="282" y="61"/>
                      </a:lnTo>
                      <a:lnTo>
                        <a:pt x="276" y="59"/>
                      </a:lnTo>
                      <a:lnTo>
                        <a:pt x="272" y="56"/>
                      </a:lnTo>
                      <a:lnTo>
                        <a:pt x="266" y="54"/>
                      </a:lnTo>
                      <a:lnTo>
                        <a:pt x="261" y="52"/>
                      </a:lnTo>
                      <a:lnTo>
                        <a:pt x="256" y="48"/>
                      </a:lnTo>
                      <a:lnTo>
                        <a:pt x="251" y="46"/>
                      </a:lnTo>
                      <a:close/>
                    </a:path>
                  </a:pathLst>
                </a:custGeom>
                <a:solidFill>
                  <a:srgbClr val="dda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497"/>
                <p:cNvSpPr/>
                <p:nvPr/>
              </p:nvSpPr>
              <p:spPr>
                <a:xfrm>
                  <a:off x="2520720" y="5911920"/>
                  <a:ext cx="266760" cy="199800"/>
                </a:xfrm>
                <a:custGeom>
                  <a:avLst/>
                  <a:gdLst/>
                  <a:ahLst/>
                  <a:rect l="l" t="t" r="r" b="b"/>
                  <a:pathLst>
                    <a:path w="666" h="485">
                      <a:moveTo>
                        <a:pt x="225" y="53"/>
                      </a:moveTo>
                      <a:lnTo>
                        <a:pt x="223" y="67"/>
                      </a:lnTo>
                      <a:lnTo>
                        <a:pt x="221" y="81"/>
                      </a:lnTo>
                      <a:lnTo>
                        <a:pt x="217" y="96"/>
                      </a:lnTo>
                      <a:lnTo>
                        <a:pt x="215" y="110"/>
                      </a:lnTo>
                      <a:lnTo>
                        <a:pt x="200" y="136"/>
                      </a:lnTo>
                      <a:lnTo>
                        <a:pt x="186" y="154"/>
                      </a:lnTo>
                      <a:lnTo>
                        <a:pt x="172" y="167"/>
                      </a:lnTo>
                      <a:lnTo>
                        <a:pt x="160" y="176"/>
                      </a:lnTo>
                      <a:lnTo>
                        <a:pt x="149" y="187"/>
                      </a:lnTo>
                      <a:lnTo>
                        <a:pt x="139" y="200"/>
                      </a:lnTo>
                      <a:lnTo>
                        <a:pt x="132" y="222"/>
                      </a:lnTo>
                      <a:lnTo>
                        <a:pt x="126" y="253"/>
                      </a:lnTo>
                      <a:lnTo>
                        <a:pt x="118" y="253"/>
                      </a:lnTo>
                      <a:lnTo>
                        <a:pt x="111" y="253"/>
                      </a:lnTo>
                      <a:lnTo>
                        <a:pt x="103" y="253"/>
                      </a:lnTo>
                      <a:lnTo>
                        <a:pt x="95" y="253"/>
                      </a:lnTo>
                      <a:lnTo>
                        <a:pt x="91" y="251"/>
                      </a:lnTo>
                      <a:lnTo>
                        <a:pt x="86" y="249"/>
                      </a:lnTo>
                      <a:lnTo>
                        <a:pt x="80" y="247"/>
                      </a:lnTo>
                      <a:lnTo>
                        <a:pt x="76" y="244"/>
                      </a:lnTo>
                      <a:lnTo>
                        <a:pt x="71" y="242"/>
                      </a:lnTo>
                      <a:lnTo>
                        <a:pt x="65" y="240"/>
                      </a:lnTo>
                      <a:lnTo>
                        <a:pt x="61" y="238"/>
                      </a:lnTo>
                      <a:lnTo>
                        <a:pt x="56" y="236"/>
                      </a:lnTo>
                      <a:lnTo>
                        <a:pt x="49" y="231"/>
                      </a:lnTo>
                      <a:lnTo>
                        <a:pt x="42" y="228"/>
                      </a:lnTo>
                      <a:lnTo>
                        <a:pt x="35" y="224"/>
                      </a:lnTo>
                      <a:lnTo>
                        <a:pt x="28" y="220"/>
                      </a:lnTo>
                      <a:lnTo>
                        <a:pt x="20" y="216"/>
                      </a:lnTo>
                      <a:lnTo>
                        <a:pt x="13" y="213"/>
                      </a:lnTo>
                      <a:lnTo>
                        <a:pt x="6" y="208"/>
                      </a:lnTo>
                      <a:lnTo>
                        <a:pt x="0" y="205"/>
                      </a:lnTo>
                      <a:lnTo>
                        <a:pt x="8" y="219"/>
                      </a:lnTo>
                      <a:lnTo>
                        <a:pt x="16" y="233"/>
                      </a:lnTo>
                      <a:lnTo>
                        <a:pt x="24" y="247"/>
                      </a:lnTo>
                      <a:lnTo>
                        <a:pt x="32" y="261"/>
                      </a:lnTo>
                      <a:lnTo>
                        <a:pt x="19" y="293"/>
                      </a:lnTo>
                      <a:lnTo>
                        <a:pt x="10" y="324"/>
                      </a:lnTo>
                      <a:lnTo>
                        <a:pt x="5" y="354"/>
                      </a:lnTo>
                      <a:lnTo>
                        <a:pt x="6" y="381"/>
                      </a:lnTo>
                      <a:lnTo>
                        <a:pt x="15" y="406"/>
                      </a:lnTo>
                      <a:lnTo>
                        <a:pt x="31" y="429"/>
                      </a:lnTo>
                      <a:lnTo>
                        <a:pt x="56" y="448"/>
                      </a:lnTo>
                      <a:lnTo>
                        <a:pt x="92" y="464"/>
                      </a:lnTo>
                      <a:lnTo>
                        <a:pt x="97" y="462"/>
                      </a:lnTo>
                      <a:lnTo>
                        <a:pt x="104" y="459"/>
                      </a:lnTo>
                      <a:lnTo>
                        <a:pt x="110" y="457"/>
                      </a:lnTo>
                      <a:lnTo>
                        <a:pt x="117" y="454"/>
                      </a:lnTo>
                      <a:lnTo>
                        <a:pt x="123" y="452"/>
                      </a:lnTo>
                      <a:lnTo>
                        <a:pt x="130" y="449"/>
                      </a:lnTo>
                      <a:lnTo>
                        <a:pt x="135" y="447"/>
                      </a:lnTo>
                      <a:lnTo>
                        <a:pt x="142" y="444"/>
                      </a:lnTo>
                      <a:lnTo>
                        <a:pt x="147" y="437"/>
                      </a:lnTo>
                      <a:lnTo>
                        <a:pt x="153" y="431"/>
                      </a:lnTo>
                      <a:lnTo>
                        <a:pt x="157" y="425"/>
                      </a:lnTo>
                      <a:lnTo>
                        <a:pt x="162" y="418"/>
                      </a:lnTo>
                      <a:lnTo>
                        <a:pt x="170" y="413"/>
                      </a:lnTo>
                      <a:lnTo>
                        <a:pt x="178" y="408"/>
                      </a:lnTo>
                      <a:lnTo>
                        <a:pt x="185" y="404"/>
                      </a:lnTo>
                      <a:lnTo>
                        <a:pt x="193" y="399"/>
                      </a:lnTo>
                      <a:lnTo>
                        <a:pt x="201" y="393"/>
                      </a:lnTo>
                      <a:lnTo>
                        <a:pt x="209" y="389"/>
                      </a:lnTo>
                      <a:lnTo>
                        <a:pt x="217" y="384"/>
                      </a:lnTo>
                      <a:lnTo>
                        <a:pt x="225" y="379"/>
                      </a:lnTo>
                      <a:lnTo>
                        <a:pt x="233" y="380"/>
                      </a:lnTo>
                      <a:lnTo>
                        <a:pt x="241" y="381"/>
                      </a:lnTo>
                      <a:lnTo>
                        <a:pt x="248" y="382"/>
                      </a:lnTo>
                      <a:lnTo>
                        <a:pt x="256" y="382"/>
                      </a:lnTo>
                      <a:lnTo>
                        <a:pt x="264" y="383"/>
                      </a:lnTo>
                      <a:lnTo>
                        <a:pt x="272" y="384"/>
                      </a:lnTo>
                      <a:lnTo>
                        <a:pt x="279" y="385"/>
                      </a:lnTo>
                      <a:lnTo>
                        <a:pt x="287" y="386"/>
                      </a:lnTo>
                      <a:lnTo>
                        <a:pt x="292" y="391"/>
                      </a:lnTo>
                      <a:lnTo>
                        <a:pt x="297" y="397"/>
                      </a:lnTo>
                      <a:lnTo>
                        <a:pt x="301" y="402"/>
                      </a:lnTo>
                      <a:lnTo>
                        <a:pt x="306" y="407"/>
                      </a:lnTo>
                      <a:lnTo>
                        <a:pt x="309" y="413"/>
                      </a:lnTo>
                      <a:lnTo>
                        <a:pt x="314" y="418"/>
                      </a:lnTo>
                      <a:lnTo>
                        <a:pt x="319" y="424"/>
                      </a:lnTo>
                      <a:lnTo>
                        <a:pt x="323" y="429"/>
                      </a:lnTo>
                      <a:lnTo>
                        <a:pt x="328" y="429"/>
                      </a:lnTo>
                      <a:lnTo>
                        <a:pt x="332" y="429"/>
                      </a:lnTo>
                      <a:lnTo>
                        <a:pt x="336" y="429"/>
                      </a:lnTo>
                      <a:lnTo>
                        <a:pt x="340" y="429"/>
                      </a:lnTo>
                      <a:lnTo>
                        <a:pt x="345" y="429"/>
                      </a:lnTo>
                      <a:lnTo>
                        <a:pt x="350" y="429"/>
                      </a:lnTo>
                      <a:lnTo>
                        <a:pt x="354" y="429"/>
                      </a:lnTo>
                      <a:lnTo>
                        <a:pt x="359" y="429"/>
                      </a:lnTo>
                      <a:lnTo>
                        <a:pt x="363" y="429"/>
                      </a:lnTo>
                      <a:lnTo>
                        <a:pt x="368" y="428"/>
                      </a:lnTo>
                      <a:lnTo>
                        <a:pt x="373" y="428"/>
                      </a:lnTo>
                      <a:lnTo>
                        <a:pt x="378" y="427"/>
                      </a:lnTo>
                      <a:lnTo>
                        <a:pt x="383" y="427"/>
                      </a:lnTo>
                      <a:lnTo>
                        <a:pt x="388" y="427"/>
                      </a:lnTo>
                      <a:lnTo>
                        <a:pt x="393" y="426"/>
                      </a:lnTo>
                      <a:lnTo>
                        <a:pt x="398" y="426"/>
                      </a:lnTo>
                      <a:lnTo>
                        <a:pt x="405" y="432"/>
                      </a:lnTo>
                      <a:lnTo>
                        <a:pt x="412" y="438"/>
                      </a:lnTo>
                      <a:lnTo>
                        <a:pt x="419" y="445"/>
                      </a:lnTo>
                      <a:lnTo>
                        <a:pt x="426" y="451"/>
                      </a:lnTo>
                      <a:lnTo>
                        <a:pt x="431" y="459"/>
                      </a:lnTo>
                      <a:lnTo>
                        <a:pt x="438" y="466"/>
                      </a:lnTo>
                      <a:lnTo>
                        <a:pt x="445" y="475"/>
                      </a:lnTo>
                      <a:lnTo>
                        <a:pt x="452" y="483"/>
                      </a:lnTo>
                      <a:lnTo>
                        <a:pt x="458" y="475"/>
                      </a:lnTo>
                      <a:lnTo>
                        <a:pt x="465" y="466"/>
                      </a:lnTo>
                      <a:lnTo>
                        <a:pt x="471" y="459"/>
                      </a:lnTo>
                      <a:lnTo>
                        <a:pt x="476" y="451"/>
                      </a:lnTo>
                      <a:lnTo>
                        <a:pt x="479" y="441"/>
                      </a:lnTo>
                      <a:lnTo>
                        <a:pt x="480" y="432"/>
                      </a:lnTo>
                      <a:lnTo>
                        <a:pt x="482" y="424"/>
                      </a:lnTo>
                      <a:lnTo>
                        <a:pt x="484" y="414"/>
                      </a:lnTo>
                      <a:lnTo>
                        <a:pt x="489" y="427"/>
                      </a:lnTo>
                      <a:lnTo>
                        <a:pt x="494" y="438"/>
                      </a:lnTo>
                      <a:lnTo>
                        <a:pt x="498" y="451"/>
                      </a:lnTo>
                      <a:lnTo>
                        <a:pt x="503" y="463"/>
                      </a:lnTo>
                      <a:lnTo>
                        <a:pt x="507" y="466"/>
                      </a:lnTo>
                      <a:lnTo>
                        <a:pt x="512" y="469"/>
                      </a:lnTo>
                      <a:lnTo>
                        <a:pt x="517" y="472"/>
                      </a:lnTo>
                      <a:lnTo>
                        <a:pt x="521" y="474"/>
                      </a:lnTo>
                      <a:lnTo>
                        <a:pt x="525" y="477"/>
                      </a:lnTo>
                      <a:lnTo>
                        <a:pt x="529" y="480"/>
                      </a:lnTo>
                      <a:lnTo>
                        <a:pt x="534" y="482"/>
                      </a:lnTo>
                      <a:lnTo>
                        <a:pt x="538" y="485"/>
                      </a:lnTo>
                      <a:lnTo>
                        <a:pt x="571" y="481"/>
                      </a:lnTo>
                      <a:lnTo>
                        <a:pt x="595" y="471"/>
                      </a:lnTo>
                      <a:lnTo>
                        <a:pt x="611" y="455"/>
                      </a:lnTo>
                      <a:lnTo>
                        <a:pt x="621" y="434"/>
                      </a:lnTo>
                      <a:lnTo>
                        <a:pt x="628" y="409"/>
                      </a:lnTo>
                      <a:lnTo>
                        <a:pt x="632" y="383"/>
                      </a:lnTo>
                      <a:lnTo>
                        <a:pt x="634" y="355"/>
                      </a:lnTo>
                      <a:lnTo>
                        <a:pt x="637" y="325"/>
                      </a:lnTo>
                      <a:lnTo>
                        <a:pt x="644" y="299"/>
                      </a:lnTo>
                      <a:lnTo>
                        <a:pt x="651" y="274"/>
                      </a:lnTo>
                      <a:lnTo>
                        <a:pt x="658" y="248"/>
                      </a:lnTo>
                      <a:lnTo>
                        <a:pt x="666" y="223"/>
                      </a:lnTo>
                      <a:lnTo>
                        <a:pt x="659" y="228"/>
                      </a:lnTo>
                      <a:lnTo>
                        <a:pt x="652" y="234"/>
                      </a:lnTo>
                      <a:lnTo>
                        <a:pt x="646" y="239"/>
                      </a:lnTo>
                      <a:lnTo>
                        <a:pt x="640" y="243"/>
                      </a:lnTo>
                      <a:lnTo>
                        <a:pt x="633" y="248"/>
                      </a:lnTo>
                      <a:lnTo>
                        <a:pt x="627" y="253"/>
                      </a:lnTo>
                      <a:lnTo>
                        <a:pt x="620" y="259"/>
                      </a:lnTo>
                      <a:lnTo>
                        <a:pt x="614" y="264"/>
                      </a:lnTo>
                      <a:lnTo>
                        <a:pt x="608" y="270"/>
                      </a:lnTo>
                      <a:lnTo>
                        <a:pt x="601" y="276"/>
                      </a:lnTo>
                      <a:lnTo>
                        <a:pt x="594" y="283"/>
                      </a:lnTo>
                      <a:lnTo>
                        <a:pt x="587" y="289"/>
                      </a:lnTo>
                      <a:lnTo>
                        <a:pt x="580" y="295"/>
                      </a:lnTo>
                      <a:lnTo>
                        <a:pt x="573" y="301"/>
                      </a:lnTo>
                      <a:lnTo>
                        <a:pt x="566" y="308"/>
                      </a:lnTo>
                      <a:lnTo>
                        <a:pt x="559" y="314"/>
                      </a:lnTo>
                      <a:lnTo>
                        <a:pt x="559" y="303"/>
                      </a:lnTo>
                      <a:lnTo>
                        <a:pt x="559" y="291"/>
                      </a:lnTo>
                      <a:lnTo>
                        <a:pt x="559" y="280"/>
                      </a:lnTo>
                      <a:lnTo>
                        <a:pt x="559" y="268"/>
                      </a:lnTo>
                      <a:lnTo>
                        <a:pt x="561" y="250"/>
                      </a:lnTo>
                      <a:lnTo>
                        <a:pt x="563" y="234"/>
                      </a:lnTo>
                      <a:lnTo>
                        <a:pt x="565" y="216"/>
                      </a:lnTo>
                      <a:lnTo>
                        <a:pt x="566" y="199"/>
                      </a:lnTo>
                      <a:lnTo>
                        <a:pt x="563" y="189"/>
                      </a:lnTo>
                      <a:lnTo>
                        <a:pt x="559" y="179"/>
                      </a:lnTo>
                      <a:lnTo>
                        <a:pt x="556" y="169"/>
                      </a:lnTo>
                      <a:lnTo>
                        <a:pt x="552" y="159"/>
                      </a:lnTo>
                      <a:lnTo>
                        <a:pt x="547" y="173"/>
                      </a:lnTo>
                      <a:lnTo>
                        <a:pt x="541" y="186"/>
                      </a:lnTo>
                      <a:lnTo>
                        <a:pt x="535" y="199"/>
                      </a:lnTo>
                      <a:lnTo>
                        <a:pt x="529" y="213"/>
                      </a:lnTo>
                      <a:lnTo>
                        <a:pt x="523" y="217"/>
                      </a:lnTo>
                      <a:lnTo>
                        <a:pt x="517" y="221"/>
                      </a:lnTo>
                      <a:lnTo>
                        <a:pt x="511" y="225"/>
                      </a:lnTo>
                      <a:lnTo>
                        <a:pt x="505" y="229"/>
                      </a:lnTo>
                      <a:lnTo>
                        <a:pt x="499" y="234"/>
                      </a:lnTo>
                      <a:lnTo>
                        <a:pt x="492" y="238"/>
                      </a:lnTo>
                      <a:lnTo>
                        <a:pt x="487" y="242"/>
                      </a:lnTo>
                      <a:lnTo>
                        <a:pt x="480" y="246"/>
                      </a:lnTo>
                      <a:lnTo>
                        <a:pt x="481" y="208"/>
                      </a:lnTo>
                      <a:lnTo>
                        <a:pt x="484" y="172"/>
                      </a:lnTo>
                      <a:lnTo>
                        <a:pt x="487" y="139"/>
                      </a:lnTo>
                      <a:lnTo>
                        <a:pt x="487" y="107"/>
                      </a:lnTo>
                      <a:lnTo>
                        <a:pt x="482" y="77"/>
                      </a:lnTo>
                      <a:lnTo>
                        <a:pt x="472" y="50"/>
                      </a:lnTo>
                      <a:lnTo>
                        <a:pt x="452" y="24"/>
                      </a:lnTo>
                      <a:lnTo>
                        <a:pt x="421" y="0"/>
                      </a:lnTo>
                      <a:lnTo>
                        <a:pt x="420" y="16"/>
                      </a:lnTo>
                      <a:lnTo>
                        <a:pt x="419" y="34"/>
                      </a:lnTo>
                      <a:lnTo>
                        <a:pt x="416" y="51"/>
                      </a:lnTo>
                      <a:lnTo>
                        <a:pt x="415" y="69"/>
                      </a:lnTo>
                      <a:lnTo>
                        <a:pt x="415" y="83"/>
                      </a:lnTo>
                      <a:lnTo>
                        <a:pt x="415" y="98"/>
                      </a:lnTo>
                      <a:lnTo>
                        <a:pt x="415" y="111"/>
                      </a:lnTo>
                      <a:lnTo>
                        <a:pt x="415" y="126"/>
                      </a:lnTo>
                      <a:lnTo>
                        <a:pt x="409" y="131"/>
                      </a:lnTo>
                      <a:lnTo>
                        <a:pt x="404" y="136"/>
                      </a:lnTo>
                      <a:lnTo>
                        <a:pt x="397" y="142"/>
                      </a:lnTo>
                      <a:lnTo>
                        <a:pt x="391" y="147"/>
                      </a:lnTo>
                      <a:lnTo>
                        <a:pt x="385" y="152"/>
                      </a:lnTo>
                      <a:lnTo>
                        <a:pt x="380" y="157"/>
                      </a:lnTo>
                      <a:lnTo>
                        <a:pt x="373" y="163"/>
                      </a:lnTo>
                      <a:lnTo>
                        <a:pt x="367" y="168"/>
                      </a:lnTo>
                      <a:lnTo>
                        <a:pt x="365" y="156"/>
                      </a:lnTo>
                      <a:lnTo>
                        <a:pt x="363" y="144"/>
                      </a:lnTo>
                      <a:lnTo>
                        <a:pt x="361" y="132"/>
                      </a:lnTo>
                      <a:lnTo>
                        <a:pt x="359" y="121"/>
                      </a:lnTo>
                      <a:lnTo>
                        <a:pt x="354" y="110"/>
                      </a:lnTo>
                      <a:lnTo>
                        <a:pt x="348" y="99"/>
                      </a:lnTo>
                      <a:lnTo>
                        <a:pt x="344" y="88"/>
                      </a:lnTo>
                      <a:lnTo>
                        <a:pt x="338" y="78"/>
                      </a:lnTo>
                      <a:lnTo>
                        <a:pt x="333" y="88"/>
                      </a:lnTo>
                      <a:lnTo>
                        <a:pt x="329" y="99"/>
                      </a:lnTo>
                      <a:lnTo>
                        <a:pt x="323" y="110"/>
                      </a:lnTo>
                      <a:lnTo>
                        <a:pt x="319" y="121"/>
                      </a:lnTo>
                      <a:lnTo>
                        <a:pt x="314" y="124"/>
                      </a:lnTo>
                      <a:lnTo>
                        <a:pt x="310" y="127"/>
                      </a:lnTo>
                      <a:lnTo>
                        <a:pt x="306" y="130"/>
                      </a:lnTo>
                      <a:lnTo>
                        <a:pt x="301" y="133"/>
                      </a:lnTo>
                      <a:lnTo>
                        <a:pt x="297" y="136"/>
                      </a:lnTo>
                      <a:lnTo>
                        <a:pt x="293" y="140"/>
                      </a:lnTo>
                      <a:lnTo>
                        <a:pt x="289" y="143"/>
                      </a:lnTo>
                      <a:lnTo>
                        <a:pt x="284" y="146"/>
                      </a:lnTo>
                      <a:lnTo>
                        <a:pt x="283" y="134"/>
                      </a:lnTo>
                      <a:lnTo>
                        <a:pt x="282" y="123"/>
                      </a:lnTo>
                      <a:lnTo>
                        <a:pt x="281" y="111"/>
                      </a:lnTo>
                      <a:lnTo>
                        <a:pt x="279" y="100"/>
                      </a:lnTo>
                      <a:lnTo>
                        <a:pt x="275" y="93"/>
                      </a:lnTo>
                      <a:lnTo>
                        <a:pt x="270" y="85"/>
                      </a:lnTo>
                      <a:lnTo>
                        <a:pt x="264" y="78"/>
                      </a:lnTo>
                      <a:lnTo>
                        <a:pt x="260" y="71"/>
                      </a:lnTo>
                      <a:lnTo>
                        <a:pt x="255" y="69"/>
                      </a:lnTo>
                      <a:lnTo>
                        <a:pt x="252" y="66"/>
                      </a:lnTo>
                      <a:lnTo>
                        <a:pt x="247" y="64"/>
                      </a:lnTo>
                      <a:lnTo>
                        <a:pt x="243" y="61"/>
                      </a:lnTo>
                      <a:lnTo>
                        <a:pt x="238" y="59"/>
                      </a:lnTo>
                      <a:lnTo>
                        <a:pt x="234" y="57"/>
                      </a:lnTo>
                      <a:lnTo>
                        <a:pt x="230" y="55"/>
                      </a:lnTo>
                      <a:lnTo>
                        <a:pt x="225" y="5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498"/>
                <p:cNvSpPr/>
                <p:nvPr/>
              </p:nvSpPr>
              <p:spPr>
                <a:xfrm>
                  <a:off x="2531880" y="5952960"/>
                  <a:ext cx="255600" cy="190440"/>
                </a:xfrm>
                <a:custGeom>
                  <a:avLst/>
                  <a:gdLst/>
                  <a:ahLst/>
                  <a:rect l="l" t="t" r="r" b="b"/>
                  <a:pathLst>
                    <a:path w="641" h="458">
                      <a:moveTo>
                        <a:pt x="221" y="57"/>
                      </a:moveTo>
                      <a:lnTo>
                        <a:pt x="218" y="71"/>
                      </a:lnTo>
                      <a:lnTo>
                        <a:pt x="216" y="83"/>
                      </a:lnTo>
                      <a:lnTo>
                        <a:pt x="213" y="97"/>
                      </a:lnTo>
                      <a:lnTo>
                        <a:pt x="211" y="110"/>
                      </a:lnTo>
                      <a:lnTo>
                        <a:pt x="197" y="134"/>
                      </a:lnTo>
                      <a:lnTo>
                        <a:pt x="185" y="151"/>
                      </a:lnTo>
                      <a:lnTo>
                        <a:pt x="171" y="163"/>
                      </a:lnTo>
                      <a:lnTo>
                        <a:pt x="159" y="172"/>
                      </a:lnTo>
                      <a:lnTo>
                        <a:pt x="149" y="182"/>
                      </a:lnTo>
                      <a:lnTo>
                        <a:pt x="140" y="196"/>
                      </a:lnTo>
                      <a:lnTo>
                        <a:pt x="133" y="217"/>
                      </a:lnTo>
                      <a:lnTo>
                        <a:pt x="127" y="246"/>
                      </a:lnTo>
                      <a:lnTo>
                        <a:pt x="120" y="245"/>
                      </a:lnTo>
                      <a:lnTo>
                        <a:pt x="113" y="245"/>
                      </a:lnTo>
                      <a:lnTo>
                        <a:pt x="106" y="244"/>
                      </a:lnTo>
                      <a:lnTo>
                        <a:pt x="99" y="244"/>
                      </a:lnTo>
                      <a:lnTo>
                        <a:pt x="95" y="242"/>
                      </a:lnTo>
                      <a:lnTo>
                        <a:pt x="90" y="240"/>
                      </a:lnTo>
                      <a:lnTo>
                        <a:pt x="86" y="238"/>
                      </a:lnTo>
                      <a:lnTo>
                        <a:pt x="81" y="236"/>
                      </a:lnTo>
                      <a:lnTo>
                        <a:pt x="76" y="234"/>
                      </a:lnTo>
                      <a:lnTo>
                        <a:pt x="72" y="232"/>
                      </a:lnTo>
                      <a:lnTo>
                        <a:pt x="67" y="229"/>
                      </a:lnTo>
                      <a:lnTo>
                        <a:pt x="63" y="227"/>
                      </a:lnTo>
                      <a:lnTo>
                        <a:pt x="54" y="224"/>
                      </a:lnTo>
                      <a:lnTo>
                        <a:pt x="48" y="220"/>
                      </a:lnTo>
                      <a:lnTo>
                        <a:pt x="40" y="217"/>
                      </a:lnTo>
                      <a:lnTo>
                        <a:pt x="31" y="213"/>
                      </a:lnTo>
                      <a:lnTo>
                        <a:pt x="23" y="210"/>
                      </a:lnTo>
                      <a:lnTo>
                        <a:pt x="16" y="206"/>
                      </a:lnTo>
                      <a:lnTo>
                        <a:pt x="8" y="202"/>
                      </a:lnTo>
                      <a:lnTo>
                        <a:pt x="0" y="199"/>
                      </a:lnTo>
                      <a:lnTo>
                        <a:pt x="5" y="205"/>
                      </a:lnTo>
                      <a:lnTo>
                        <a:pt x="11" y="212"/>
                      </a:lnTo>
                      <a:lnTo>
                        <a:pt x="15" y="218"/>
                      </a:lnTo>
                      <a:lnTo>
                        <a:pt x="21" y="224"/>
                      </a:lnTo>
                      <a:lnTo>
                        <a:pt x="26" y="232"/>
                      </a:lnTo>
                      <a:lnTo>
                        <a:pt x="31" y="238"/>
                      </a:lnTo>
                      <a:lnTo>
                        <a:pt x="36" y="244"/>
                      </a:lnTo>
                      <a:lnTo>
                        <a:pt x="41" y="250"/>
                      </a:lnTo>
                      <a:lnTo>
                        <a:pt x="28" y="281"/>
                      </a:lnTo>
                      <a:lnTo>
                        <a:pt x="20" y="309"/>
                      </a:lnTo>
                      <a:lnTo>
                        <a:pt x="15" y="337"/>
                      </a:lnTo>
                      <a:lnTo>
                        <a:pt x="16" y="362"/>
                      </a:lnTo>
                      <a:lnTo>
                        <a:pt x="25" y="386"/>
                      </a:lnTo>
                      <a:lnTo>
                        <a:pt x="40" y="407"/>
                      </a:lnTo>
                      <a:lnTo>
                        <a:pt x="64" y="425"/>
                      </a:lnTo>
                      <a:lnTo>
                        <a:pt x="96" y="440"/>
                      </a:lnTo>
                      <a:lnTo>
                        <a:pt x="102" y="437"/>
                      </a:lnTo>
                      <a:lnTo>
                        <a:pt x="107" y="435"/>
                      </a:lnTo>
                      <a:lnTo>
                        <a:pt x="113" y="432"/>
                      </a:lnTo>
                      <a:lnTo>
                        <a:pt x="120" y="430"/>
                      </a:lnTo>
                      <a:lnTo>
                        <a:pt x="126" y="428"/>
                      </a:lnTo>
                      <a:lnTo>
                        <a:pt x="132" y="426"/>
                      </a:lnTo>
                      <a:lnTo>
                        <a:pt x="137" y="423"/>
                      </a:lnTo>
                      <a:lnTo>
                        <a:pt x="143" y="421"/>
                      </a:lnTo>
                      <a:lnTo>
                        <a:pt x="148" y="414"/>
                      </a:lnTo>
                      <a:lnTo>
                        <a:pt x="152" y="408"/>
                      </a:lnTo>
                      <a:lnTo>
                        <a:pt x="157" y="403"/>
                      </a:lnTo>
                      <a:lnTo>
                        <a:pt x="162" y="397"/>
                      </a:lnTo>
                      <a:lnTo>
                        <a:pt x="168" y="392"/>
                      </a:lnTo>
                      <a:lnTo>
                        <a:pt x="177" y="388"/>
                      </a:lnTo>
                      <a:lnTo>
                        <a:pt x="183" y="383"/>
                      </a:lnTo>
                      <a:lnTo>
                        <a:pt x="192" y="379"/>
                      </a:lnTo>
                      <a:lnTo>
                        <a:pt x="198" y="374"/>
                      </a:lnTo>
                      <a:lnTo>
                        <a:pt x="206" y="369"/>
                      </a:lnTo>
                      <a:lnTo>
                        <a:pt x="213" y="364"/>
                      </a:lnTo>
                      <a:lnTo>
                        <a:pt x="221" y="360"/>
                      </a:lnTo>
                      <a:lnTo>
                        <a:pt x="228" y="361"/>
                      </a:lnTo>
                      <a:lnTo>
                        <a:pt x="235" y="362"/>
                      </a:lnTo>
                      <a:lnTo>
                        <a:pt x="242" y="363"/>
                      </a:lnTo>
                      <a:lnTo>
                        <a:pt x="250" y="363"/>
                      </a:lnTo>
                      <a:lnTo>
                        <a:pt x="257" y="364"/>
                      </a:lnTo>
                      <a:lnTo>
                        <a:pt x="264" y="365"/>
                      </a:lnTo>
                      <a:lnTo>
                        <a:pt x="271" y="366"/>
                      </a:lnTo>
                      <a:lnTo>
                        <a:pt x="278" y="367"/>
                      </a:lnTo>
                      <a:lnTo>
                        <a:pt x="286" y="377"/>
                      </a:lnTo>
                      <a:lnTo>
                        <a:pt x="295" y="387"/>
                      </a:lnTo>
                      <a:lnTo>
                        <a:pt x="303" y="397"/>
                      </a:lnTo>
                      <a:lnTo>
                        <a:pt x="311" y="407"/>
                      </a:lnTo>
                      <a:lnTo>
                        <a:pt x="319" y="407"/>
                      </a:lnTo>
                      <a:lnTo>
                        <a:pt x="327" y="407"/>
                      </a:lnTo>
                      <a:lnTo>
                        <a:pt x="337" y="407"/>
                      </a:lnTo>
                      <a:lnTo>
                        <a:pt x="345" y="407"/>
                      </a:lnTo>
                      <a:lnTo>
                        <a:pt x="349" y="407"/>
                      </a:lnTo>
                      <a:lnTo>
                        <a:pt x="354" y="406"/>
                      </a:lnTo>
                      <a:lnTo>
                        <a:pt x="358" y="406"/>
                      </a:lnTo>
                      <a:lnTo>
                        <a:pt x="363" y="405"/>
                      </a:lnTo>
                      <a:lnTo>
                        <a:pt x="367" y="405"/>
                      </a:lnTo>
                      <a:lnTo>
                        <a:pt x="371" y="405"/>
                      </a:lnTo>
                      <a:lnTo>
                        <a:pt x="376" y="404"/>
                      </a:lnTo>
                      <a:lnTo>
                        <a:pt x="380" y="404"/>
                      </a:lnTo>
                      <a:lnTo>
                        <a:pt x="387" y="409"/>
                      </a:lnTo>
                      <a:lnTo>
                        <a:pt x="393" y="415"/>
                      </a:lnTo>
                      <a:lnTo>
                        <a:pt x="400" y="422"/>
                      </a:lnTo>
                      <a:lnTo>
                        <a:pt x="406" y="427"/>
                      </a:lnTo>
                      <a:lnTo>
                        <a:pt x="413" y="434"/>
                      </a:lnTo>
                      <a:lnTo>
                        <a:pt x="420" y="441"/>
                      </a:lnTo>
                      <a:lnTo>
                        <a:pt x="425" y="450"/>
                      </a:lnTo>
                      <a:lnTo>
                        <a:pt x="432" y="457"/>
                      </a:lnTo>
                      <a:lnTo>
                        <a:pt x="438" y="450"/>
                      </a:lnTo>
                      <a:lnTo>
                        <a:pt x="443" y="441"/>
                      </a:lnTo>
                      <a:lnTo>
                        <a:pt x="448" y="434"/>
                      </a:lnTo>
                      <a:lnTo>
                        <a:pt x="454" y="427"/>
                      </a:lnTo>
                      <a:lnTo>
                        <a:pt x="456" y="419"/>
                      </a:lnTo>
                      <a:lnTo>
                        <a:pt x="458" y="410"/>
                      </a:lnTo>
                      <a:lnTo>
                        <a:pt x="460" y="402"/>
                      </a:lnTo>
                      <a:lnTo>
                        <a:pt x="461" y="393"/>
                      </a:lnTo>
                      <a:lnTo>
                        <a:pt x="466" y="405"/>
                      </a:lnTo>
                      <a:lnTo>
                        <a:pt x="469" y="415"/>
                      </a:lnTo>
                      <a:lnTo>
                        <a:pt x="474" y="427"/>
                      </a:lnTo>
                      <a:lnTo>
                        <a:pt x="477" y="438"/>
                      </a:lnTo>
                      <a:lnTo>
                        <a:pt x="485" y="444"/>
                      </a:lnTo>
                      <a:lnTo>
                        <a:pt x="494" y="448"/>
                      </a:lnTo>
                      <a:lnTo>
                        <a:pt x="502" y="453"/>
                      </a:lnTo>
                      <a:lnTo>
                        <a:pt x="510" y="458"/>
                      </a:lnTo>
                      <a:lnTo>
                        <a:pt x="540" y="455"/>
                      </a:lnTo>
                      <a:lnTo>
                        <a:pt x="563" y="445"/>
                      </a:lnTo>
                      <a:lnTo>
                        <a:pt x="578" y="430"/>
                      </a:lnTo>
                      <a:lnTo>
                        <a:pt x="589" y="410"/>
                      </a:lnTo>
                      <a:lnTo>
                        <a:pt x="595" y="388"/>
                      </a:lnTo>
                      <a:lnTo>
                        <a:pt x="598" y="363"/>
                      </a:lnTo>
                      <a:lnTo>
                        <a:pt x="601" y="337"/>
                      </a:lnTo>
                      <a:lnTo>
                        <a:pt x="604" y="310"/>
                      </a:lnTo>
                      <a:lnTo>
                        <a:pt x="608" y="298"/>
                      </a:lnTo>
                      <a:lnTo>
                        <a:pt x="613" y="286"/>
                      </a:lnTo>
                      <a:lnTo>
                        <a:pt x="618" y="274"/>
                      </a:lnTo>
                      <a:lnTo>
                        <a:pt x="622" y="263"/>
                      </a:lnTo>
                      <a:lnTo>
                        <a:pt x="627" y="251"/>
                      </a:lnTo>
                      <a:lnTo>
                        <a:pt x="631" y="239"/>
                      </a:lnTo>
                      <a:lnTo>
                        <a:pt x="636" y="227"/>
                      </a:lnTo>
                      <a:lnTo>
                        <a:pt x="641" y="216"/>
                      </a:lnTo>
                      <a:lnTo>
                        <a:pt x="634" y="220"/>
                      </a:lnTo>
                      <a:lnTo>
                        <a:pt x="627" y="225"/>
                      </a:lnTo>
                      <a:lnTo>
                        <a:pt x="620" y="229"/>
                      </a:lnTo>
                      <a:lnTo>
                        <a:pt x="613" y="235"/>
                      </a:lnTo>
                      <a:lnTo>
                        <a:pt x="606" y="239"/>
                      </a:lnTo>
                      <a:lnTo>
                        <a:pt x="599" y="244"/>
                      </a:lnTo>
                      <a:lnTo>
                        <a:pt x="592" y="248"/>
                      </a:lnTo>
                      <a:lnTo>
                        <a:pt x="585" y="253"/>
                      </a:lnTo>
                      <a:lnTo>
                        <a:pt x="578" y="260"/>
                      </a:lnTo>
                      <a:lnTo>
                        <a:pt x="572" y="265"/>
                      </a:lnTo>
                      <a:lnTo>
                        <a:pt x="565" y="271"/>
                      </a:lnTo>
                      <a:lnTo>
                        <a:pt x="558" y="276"/>
                      </a:lnTo>
                      <a:lnTo>
                        <a:pt x="551" y="283"/>
                      </a:lnTo>
                      <a:lnTo>
                        <a:pt x="544" y="289"/>
                      </a:lnTo>
                      <a:lnTo>
                        <a:pt x="537" y="294"/>
                      </a:lnTo>
                      <a:lnTo>
                        <a:pt x="530" y="300"/>
                      </a:lnTo>
                      <a:lnTo>
                        <a:pt x="530" y="289"/>
                      </a:lnTo>
                      <a:lnTo>
                        <a:pt x="530" y="279"/>
                      </a:lnTo>
                      <a:lnTo>
                        <a:pt x="530" y="267"/>
                      </a:lnTo>
                      <a:lnTo>
                        <a:pt x="530" y="257"/>
                      </a:lnTo>
                      <a:lnTo>
                        <a:pt x="534" y="240"/>
                      </a:lnTo>
                      <a:lnTo>
                        <a:pt x="537" y="224"/>
                      </a:lnTo>
                      <a:lnTo>
                        <a:pt x="539" y="209"/>
                      </a:lnTo>
                      <a:lnTo>
                        <a:pt x="543" y="192"/>
                      </a:lnTo>
                      <a:lnTo>
                        <a:pt x="540" y="182"/>
                      </a:lnTo>
                      <a:lnTo>
                        <a:pt x="538" y="173"/>
                      </a:lnTo>
                      <a:lnTo>
                        <a:pt x="536" y="164"/>
                      </a:lnTo>
                      <a:lnTo>
                        <a:pt x="534" y="155"/>
                      </a:lnTo>
                      <a:lnTo>
                        <a:pt x="528" y="167"/>
                      </a:lnTo>
                      <a:lnTo>
                        <a:pt x="521" y="179"/>
                      </a:lnTo>
                      <a:lnTo>
                        <a:pt x="514" y="192"/>
                      </a:lnTo>
                      <a:lnTo>
                        <a:pt x="507" y="204"/>
                      </a:lnTo>
                      <a:lnTo>
                        <a:pt x="501" y="209"/>
                      </a:lnTo>
                      <a:lnTo>
                        <a:pt x="494" y="213"/>
                      </a:lnTo>
                      <a:lnTo>
                        <a:pt x="489" y="217"/>
                      </a:lnTo>
                      <a:lnTo>
                        <a:pt x="483" y="221"/>
                      </a:lnTo>
                      <a:lnTo>
                        <a:pt x="476" y="225"/>
                      </a:lnTo>
                      <a:lnTo>
                        <a:pt x="470" y="228"/>
                      </a:lnTo>
                      <a:lnTo>
                        <a:pt x="463" y="233"/>
                      </a:lnTo>
                      <a:lnTo>
                        <a:pt x="458" y="237"/>
                      </a:lnTo>
                      <a:lnTo>
                        <a:pt x="460" y="201"/>
                      </a:lnTo>
                      <a:lnTo>
                        <a:pt x="463" y="167"/>
                      </a:lnTo>
                      <a:lnTo>
                        <a:pt x="468" y="134"/>
                      </a:lnTo>
                      <a:lnTo>
                        <a:pt x="470" y="103"/>
                      </a:lnTo>
                      <a:lnTo>
                        <a:pt x="468" y="74"/>
                      </a:lnTo>
                      <a:lnTo>
                        <a:pt x="460" y="48"/>
                      </a:lnTo>
                      <a:lnTo>
                        <a:pt x="443" y="23"/>
                      </a:lnTo>
                      <a:lnTo>
                        <a:pt x="415" y="0"/>
                      </a:lnTo>
                      <a:lnTo>
                        <a:pt x="413" y="16"/>
                      </a:lnTo>
                      <a:lnTo>
                        <a:pt x="410" y="34"/>
                      </a:lnTo>
                      <a:lnTo>
                        <a:pt x="407" y="51"/>
                      </a:lnTo>
                      <a:lnTo>
                        <a:pt x="405" y="69"/>
                      </a:lnTo>
                      <a:lnTo>
                        <a:pt x="405" y="82"/>
                      </a:lnTo>
                      <a:lnTo>
                        <a:pt x="405" y="95"/>
                      </a:lnTo>
                      <a:lnTo>
                        <a:pt x="405" y="108"/>
                      </a:lnTo>
                      <a:lnTo>
                        <a:pt x="405" y="122"/>
                      </a:lnTo>
                      <a:lnTo>
                        <a:pt x="399" y="127"/>
                      </a:lnTo>
                      <a:lnTo>
                        <a:pt x="393" y="132"/>
                      </a:lnTo>
                      <a:lnTo>
                        <a:pt x="386" y="138"/>
                      </a:lnTo>
                      <a:lnTo>
                        <a:pt x="380" y="143"/>
                      </a:lnTo>
                      <a:lnTo>
                        <a:pt x="373" y="148"/>
                      </a:lnTo>
                      <a:lnTo>
                        <a:pt x="368" y="153"/>
                      </a:lnTo>
                      <a:lnTo>
                        <a:pt x="361" y="158"/>
                      </a:lnTo>
                      <a:lnTo>
                        <a:pt x="355" y="164"/>
                      </a:lnTo>
                      <a:lnTo>
                        <a:pt x="353" y="153"/>
                      </a:lnTo>
                      <a:lnTo>
                        <a:pt x="350" y="142"/>
                      </a:lnTo>
                      <a:lnTo>
                        <a:pt x="347" y="131"/>
                      </a:lnTo>
                      <a:lnTo>
                        <a:pt x="345" y="121"/>
                      </a:lnTo>
                      <a:lnTo>
                        <a:pt x="340" y="110"/>
                      </a:lnTo>
                      <a:lnTo>
                        <a:pt x="335" y="100"/>
                      </a:lnTo>
                      <a:lnTo>
                        <a:pt x="331" y="91"/>
                      </a:lnTo>
                      <a:lnTo>
                        <a:pt x="326" y="80"/>
                      </a:lnTo>
                      <a:lnTo>
                        <a:pt x="322" y="91"/>
                      </a:lnTo>
                      <a:lnTo>
                        <a:pt x="317" y="100"/>
                      </a:lnTo>
                      <a:lnTo>
                        <a:pt x="312" y="110"/>
                      </a:lnTo>
                      <a:lnTo>
                        <a:pt x="308" y="121"/>
                      </a:lnTo>
                      <a:lnTo>
                        <a:pt x="300" y="126"/>
                      </a:lnTo>
                      <a:lnTo>
                        <a:pt x="292" y="132"/>
                      </a:lnTo>
                      <a:lnTo>
                        <a:pt x="282" y="139"/>
                      </a:lnTo>
                      <a:lnTo>
                        <a:pt x="274" y="144"/>
                      </a:lnTo>
                      <a:lnTo>
                        <a:pt x="273" y="133"/>
                      </a:lnTo>
                      <a:lnTo>
                        <a:pt x="273" y="122"/>
                      </a:lnTo>
                      <a:lnTo>
                        <a:pt x="272" y="111"/>
                      </a:lnTo>
                      <a:lnTo>
                        <a:pt x="271" y="101"/>
                      </a:lnTo>
                      <a:lnTo>
                        <a:pt x="266" y="94"/>
                      </a:lnTo>
                      <a:lnTo>
                        <a:pt x="262" y="87"/>
                      </a:lnTo>
                      <a:lnTo>
                        <a:pt x="257" y="81"/>
                      </a:lnTo>
                      <a:lnTo>
                        <a:pt x="253" y="74"/>
                      </a:lnTo>
                      <a:lnTo>
                        <a:pt x="244" y="70"/>
                      </a:lnTo>
                      <a:lnTo>
                        <a:pt x="236" y="65"/>
                      </a:lnTo>
                      <a:lnTo>
                        <a:pt x="228" y="61"/>
                      </a:lnTo>
                      <a:lnTo>
                        <a:pt x="221" y="5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99"/>
                <p:cNvSpPr/>
                <p:nvPr/>
              </p:nvSpPr>
              <p:spPr>
                <a:xfrm>
                  <a:off x="2555640" y="5985000"/>
                  <a:ext cx="214200" cy="145800"/>
                </a:xfrm>
                <a:custGeom>
                  <a:avLst/>
                  <a:gdLst/>
                  <a:ahLst/>
                  <a:rect l="l" t="t" r="r" b="b"/>
                  <a:pathLst>
                    <a:path w="534" h="352">
                      <a:moveTo>
                        <a:pt x="195" y="74"/>
                      </a:moveTo>
                      <a:lnTo>
                        <a:pt x="195" y="82"/>
                      </a:lnTo>
                      <a:lnTo>
                        <a:pt x="195" y="92"/>
                      </a:lnTo>
                      <a:lnTo>
                        <a:pt x="193" y="101"/>
                      </a:lnTo>
                      <a:lnTo>
                        <a:pt x="193" y="111"/>
                      </a:lnTo>
                      <a:lnTo>
                        <a:pt x="183" y="128"/>
                      </a:lnTo>
                      <a:lnTo>
                        <a:pt x="173" y="141"/>
                      </a:lnTo>
                      <a:lnTo>
                        <a:pt x="162" y="151"/>
                      </a:lnTo>
                      <a:lnTo>
                        <a:pt x="153" y="160"/>
                      </a:lnTo>
                      <a:lnTo>
                        <a:pt x="145" y="168"/>
                      </a:lnTo>
                      <a:lnTo>
                        <a:pt x="137" y="180"/>
                      </a:lnTo>
                      <a:lnTo>
                        <a:pt x="131" y="195"/>
                      </a:lnTo>
                      <a:lnTo>
                        <a:pt x="128" y="216"/>
                      </a:lnTo>
                      <a:lnTo>
                        <a:pt x="123" y="213"/>
                      </a:lnTo>
                      <a:lnTo>
                        <a:pt x="120" y="210"/>
                      </a:lnTo>
                      <a:lnTo>
                        <a:pt x="115" y="207"/>
                      </a:lnTo>
                      <a:lnTo>
                        <a:pt x="110" y="204"/>
                      </a:lnTo>
                      <a:lnTo>
                        <a:pt x="105" y="201"/>
                      </a:lnTo>
                      <a:lnTo>
                        <a:pt x="98" y="197"/>
                      </a:lnTo>
                      <a:lnTo>
                        <a:pt x="92" y="195"/>
                      </a:lnTo>
                      <a:lnTo>
                        <a:pt x="85" y="192"/>
                      </a:lnTo>
                      <a:lnTo>
                        <a:pt x="75" y="190"/>
                      </a:lnTo>
                      <a:lnTo>
                        <a:pt x="63" y="188"/>
                      </a:lnTo>
                      <a:lnTo>
                        <a:pt x="53" y="186"/>
                      </a:lnTo>
                      <a:lnTo>
                        <a:pt x="43" y="183"/>
                      </a:lnTo>
                      <a:lnTo>
                        <a:pt x="32" y="181"/>
                      </a:lnTo>
                      <a:lnTo>
                        <a:pt x="22" y="179"/>
                      </a:lnTo>
                      <a:lnTo>
                        <a:pt x="10" y="177"/>
                      </a:lnTo>
                      <a:lnTo>
                        <a:pt x="0" y="174"/>
                      </a:lnTo>
                      <a:lnTo>
                        <a:pt x="9" y="179"/>
                      </a:lnTo>
                      <a:lnTo>
                        <a:pt x="17" y="183"/>
                      </a:lnTo>
                      <a:lnTo>
                        <a:pt x="26" y="187"/>
                      </a:lnTo>
                      <a:lnTo>
                        <a:pt x="36" y="191"/>
                      </a:lnTo>
                      <a:lnTo>
                        <a:pt x="44" y="195"/>
                      </a:lnTo>
                      <a:lnTo>
                        <a:pt x="53" y="199"/>
                      </a:lnTo>
                      <a:lnTo>
                        <a:pt x="61" y="204"/>
                      </a:lnTo>
                      <a:lnTo>
                        <a:pt x="70" y="208"/>
                      </a:lnTo>
                      <a:lnTo>
                        <a:pt x="62" y="229"/>
                      </a:lnTo>
                      <a:lnTo>
                        <a:pt x="55" y="250"/>
                      </a:lnTo>
                      <a:lnTo>
                        <a:pt x="53" y="268"/>
                      </a:lnTo>
                      <a:lnTo>
                        <a:pt x="53" y="286"/>
                      </a:lnTo>
                      <a:lnTo>
                        <a:pt x="59" y="303"/>
                      </a:lnTo>
                      <a:lnTo>
                        <a:pt x="69" y="318"/>
                      </a:lnTo>
                      <a:lnTo>
                        <a:pt x="85" y="330"/>
                      </a:lnTo>
                      <a:lnTo>
                        <a:pt x="108" y="340"/>
                      </a:lnTo>
                      <a:lnTo>
                        <a:pt x="116" y="337"/>
                      </a:lnTo>
                      <a:lnTo>
                        <a:pt x="125" y="333"/>
                      </a:lnTo>
                      <a:lnTo>
                        <a:pt x="134" y="330"/>
                      </a:lnTo>
                      <a:lnTo>
                        <a:pt x="142" y="327"/>
                      </a:lnTo>
                      <a:lnTo>
                        <a:pt x="145" y="323"/>
                      </a:lnTo>
                      <a:lnTo>
                        <a:pt x="148" y="319"/>
                      </a:lnTo>
                      <a:lnTo>
                        <a:pt x="151" y="314"/>
                      </a:lnTo>
                      <a:lnTo>
                        <a:pt x="154" y="310"/>
                      </a:lnTo>
                      <a:lnTo>
                        <a:pt x="159" y="307"/>
                      </a:lnTo>
                      <a:lnTo>
                        <a:pt x="165" y="304"/>
                      </a:lnTo>
                      <a:lnTo>
                        <a:pt x="169" y="301"/>
                      </a:lnTo>
                      <a:lnTo>
                        <a:pt x="175" y="298"/>
                      </a:lnTo>
                      <a:lnTo>
                        <a:pt x="180" y="295"/>
                      </a:lnTo>
                      <a:lnTo>
                        <a:pt x="185" y="291"/>
                      </a:lnTo>
                      <a:lnTo>
                        <a:pt x="190" y="288"/>
                      </a:lnTo>
                      <a:lnTo>
                        <a:pt x="195" y="285"/>
                      </a:lnTo>
                      <a:lnTo>
                        <a:pt x="200" y="285"/>
                      </a:lnTo>
                      <a:lnTo>
                        <a:pt x="205" y="286"/>
                      </a:lnTo>
                      <a:lnTo>
                        <a:pt x="211" y="286"/>
                      </a:lnTo>
                      <a:lnTo>
                        <a:pt x="215" y="287"/>
                      </a:lnTo>
                      <a:lnTo>
                        <a:pt x="221" y="288"/>
                      </a:lnTo>
                      <a:lnTo>
                        <a:pt x="226" y="288"/>
                      </a:lnTo>
                      <a:lnTo>
                        <a:pt x="231" y="289"/>
                      </a:lnTo>
                      <a:lnTo>
                        <a:pt x="236" y="289"/>
                      </a:lnTo>
                      <a:lnTo>
                        <a:pt x="242" y="297"/>
                      </a:lnTo>
                      <a:lnTo>
                        <a:pt x="248" y="303"/>
                      </a:lnTo>
                      <a:lnTo>
                        <a:pt x="253" y="310"/>
                      </a:lnTo>
                      <a:lnTo>
                        <a:pt x="259" y="318"/>
                      </a:lnTo>
                      <a:lnTo>
                        <a:pt x="265" y="318"/>
                      </a:lnTo>
                      <a:lnTo>
                        <a:pt x="271" y="318"/>
                      </a:lnTo>
                      <a:lnTo>
                        <a:pt x="275" y="318"/>
                      </a:lnTo>
                      <a:lnTo>
                        <a:pt x="281" y="318"/>
                      </a:lnTo>
                      <a:lnTo>
                        <a:pt x="288" y="316"/>
                      </a:lnTo>
                      <a:lnTo>
                        <a:pt x="295" y="316"/>
                      </a:lnTo>
                      <a:lnTo>
                        <a:pt x="300" y="315"/>
                      </a:lnTo>
                      <a:lnTo>
                        <a:pt x="307" y="315"/>
                      </a:lnTo>
                      <a:lnTo>
                        <a:pt x="312" y="320"/>
                      </a:lnTo>
                      <a:lnTo>
                        <a:pt x="317" y="323"/>
                      </a:lnTo>
                      <a:lnTo>
                        <a:pt x="320" y="327"/>
                      </a:lnTo>
                      <a:lnTo>
                        <a:pt x="325" y="331"/>
                      </a:lnTo>
                      <a:lnTo>
                        <a:pt x="329" y="336"/>
                      </a:lnTo>
                      <a:lnTo>
                        <a:pt x="334" y="342"/>
                      </a:lnTo>
                      <a:lnTo>
                        <a:pt x="337" y="347"/>
                      </a:lnTo>
                      <a:lnTo>
                        <a:pt x="342" y="352"/>
                      </a:lnTo>
                      <a:lnTo>
                        <a:pt x="347" y="347"/>
                      </a:lnTo>
                      <a:lnTo>
                        <a:pt x="350" y="342"/>
                      </a:lnTo>
                      <a:lnTo>
                        <a:pt x="353" y="336"/>
                      </a:lnTo>
                      <a:lnTo>
                        <a:pt x="358" y="331"/>
                      </a:lnTo>
                      <a:lnTo>
                        <a:pt x="359" y="326"/>
                      </a:lnTo>
                      <a:lnTo>
                        <a:pt x="360" y="320"/>
                      </a:lnTo>
                      <a:lnTo>
                        <a:pt x="362" y="313"/>
                      </a:lnTo>
                      <a:lnTo>
                        <a:pt x="363" y="308"/>
                      </a:lnTo>
                      <a:lnTo>
                        <a:pt x="365" y="315"/>
                      </a:lnTo>
                      <a:lnTo>
                        <a:pt x="368" y="322"/>
                      </a:lnTo>
                      <a:lnTo>
                        <a:pt x="371" y="328"/>
                      </a:lnTo>
                      <a:lnTo>
                        <a:pt x="373" y="335"/>
                      </a:lnTo>
                      <a:lnTo>
                        <a:pt x="379" y="338"/>
                      </a:lnTo>
                      <a:lnTo>
                        <a:pt x="385" y="342"/>
                      </a:lnTo>
                      <a:lnTo>
                        <a:pt x="389" y="345"/>
                      </a:lnTo>
                      <a:lnTo>
                        <a:pt x="395" y="348"/>
                      </a:lnTo>
                      <a:lnTo>
                        <a:pt x="416" y="346"/>
                      </a:lnTo>
                      <a:lnTo>
                        <a:pt x="432" y="339"/>
                      </a:lnTo>
                      <a:lnTo>
                        <a:pt x="443" y="330"/>
                      </a:lnTo>
                      <a:lnTo>
                        <a:pt x="450" y="318"/>
                      </a:lnTo>
                      <a:lnTo>
                        <a:pt x="455" y="303"/>
                      </a:lnTo>
                      <a:lnTo>
                        <a:pt x="458" y="286"/>
                      </a:lnTo>
                      <a:lnTo>
                        <a:pt x="459" y="268"/>
                      </a:lnTo>
                      <a:lnTo>
                        <a:pt x="462" y="250"/>
                      </a:lnTo>
                      <a:lnTo>
                        <a:pt x="471" y="241"/>
                      </a:lnTo>
                      <a:lnTo>
                        <a:pt x="480" y="234"/>
                      </a:lnTo>
                      <a:lnTo>
                        <a:pt x="489" y="226"/>
                      </a:lnTo>
                      <a:lnTo>
                        <a:pt x="499" y="217"/>
                      </a:lnTo>
                      <a:lnTo>
                        <a:pt x="507" y="210"/>
                      </a:lnTo>
                      <a:lnTo>
                        <a:pt x="516" y="202"/>
                      </a:lnTo>
                      <a:lnTo>
                        <a:pt x="525" y="194"/>
                      </a:lnTo>
                      <a:lnTo>
                        <a:pt x="534" y="186"/>
                      </a:lnTo>
                      <a:lnTo>
                        <a:pt x="525" y="189"/>
                      </a:lnTo>
                      <a:lnTo>
                        <a:pt x="517" y="192"/>
                      </a:lnTo>
                      <a:lnTo>
                        <a:pt x="508" y="195"/>
                      </a:lnTo>
                      <a:lnTo>
                        <a:pt x="500" y="198"/>
                      </a:lnTo>
                      <a:lnTo>
                        <a:pt x="490" y="202"/>
                      </a:lnTo>
                      <a:lnTo>
                        <a:pt x="481" y="205"/>
                      </a:lnTo>
                      <a:lnTo>
                        <a:pt x="473" y="208"/>
                      </a:lnTo>
                      <a:lnTo>
                        <a:pt x="464" y="211"/>
                      </a:lnTo>
                      <a:lnTo>
                        <a:pt x="457" y="215"/>
                      </a:lnTo>
                      <a:lnTo>
                        <a:pt x="450" y="219"/>
                      </a:lnTo>
                      <a:lnTo>
                        <a:pt x="443" y="222"/>
                      </a:lnTo>
                      <a:lnTo>
                        <a:pt x="438" y="227"/>
                      </a:lnTo>
                      <a:lnTo>
                        <a:pt x="431" y="231"/>
                      </a:lnTo>
                      <a:lnTo>
                        <a:pt x="424" y="235"/>
                      </a:lnTo>
                      <a:lnTo>
                        <a:pt x="418" y="239"/>
                      </a:lnTo>
                      <a:lnTo>
                        <a:pt x="411" y="243"/>
                      </a:lnTo>
                      <a:lnTo>
                        <a:pt x="411" y="236"/>
                      </a:lnTo>
                      <a:lnTo>
                        <a:pt x="411" y="228"/>
                      </a:lnTo>
                      <a:lnTo>
                        <a:pt x="411" y="220"/>
                      </a:lnTo>
                      <a:lnTo>
                        <a:pt x="411" y="213"/>
                      </a:lnTo>
                      <a:lnTo>
                        <a:pt x="419" y="201"/>
                      </a:lnTo>
                      <a:lnTo>
                        <a:pt x="427" y="187"/>
                      </a:lnTo>
                      <a:lnTo>
                        <a:pt x="434" y="174"/>
                      </a:lnTo>
                      <a:lnTo>
                        <a:pt x="442" y="162"/>
                      </a:lnTo>
                      <a:lnTo>
                        <a:pt x="446" y="156"/>
                      </a:lnTo>
                      <a:lnTo>
                        <a:pt x="449" y="148"/>
                      </a:lnTo>
                      <a:lnTo>
                        <a:pt x="452" y="142"/>
                      </a:lnTo>
                      <a:lnTo>
                        <a:pt x="456" y="136"/>
                      </a:lnTo>
                      <a:lnTo>
                        <a:pt x="450" y="140"/>
                      </a:lnTo>
                      <a:lnTo>
                        <a:pt x="444" y="144"/>
                      </a:lnTo>
                      <a:lnTo>
                        <a:pt x="439" y="149"/>
                      </a:lnTo>
                      <a:lnTo>
                        <a:pt x="434" y="154"/>
                      </a:lnTo>
                      <a:lnTo>
                        <a:pt x="428" y="158"/>
                      </a:lnTo>
                      <a:lnTo>
                        <a:pt x="423" y="163"/>
                      </a:lnTo>
                      <a:lnTo>
                        <a:pt x="417" y="167"/>
                      </a:lnTo>
                      <a:lnTo>
                        <a:pt x="411" y="171"/>
                      </a:lnTo>
                      <a:lnTo>
                        <a:pt x="404" y="174"/>
                      </a:lnTo>
                      <a:lnTo>
                        <a:pt x="398" y="179"/>
                      </a:lnTo>
                      <a:lnTo>
                        <a:pt x="393" y="182"/>
                      </a:lnTo>
                      <a:lnTo>
                        <a:pt x="386" y="185"/>
                      </a:lnTo>
                      <a:lnTo>
                        <a:pt x="380" y="189"/>
                      </a:lnTo>
                      <a:lnTo>
                        <a:pt x="374" y="192"/>
                      </a:lnTo>
                      <a:lnTo>
                        <a:pt x="367" y="196"/>
                      </a:lnTo>
                      <a:lnTo>
                        <a:pt x="360" y="199"/>
                      </a:lnTo>
                      <a:lnTo>
                        <a:pt x="364" y="173"/>
                      </a:lnTo>
                      <a:lnTo>
                        <a:pt x="373" y="145"/>
                      </a:lnTo>
                      <a:lnTo>
                        <a:pt x="385" y="117"/>
                      </a:lnTo>
                      <a:lnTo>
                        <a:pt x="397" y="90"/>
                      </a:lnTo>
                      <a:lnTo>
                        <a:pt x="405" y="63"/>
                      </a:lnTo>
                      <a:lnTo>
                        <a:pt x="409" y="39"/>
                      </a:lnTo>
                      <a:lnTo>
                        <a:pt x="403" y="18"/>
                      </a:lnTo>
                      <a:lnTo>
                        <a:pt x="386" y="0"/>
                      </a:lnTo>
                      <a:lnTo>
                        <a:pt x="378" y="17"/>
                      </a:lnTo>
                      <a:lnTo>
                        <a:pt x="371" y="33"/>
                      </a:lnTo>
                      <a:lnTo>
                        <a:pt x="363" y="50"/>
                      </a:lnTo>
                      <a:lnTo>
                        <a:pt x="355" y="67"/>
                      </a:lnTo>
                      <a:lnTo>
                        <a:pt x="355" y="76"/>
                      </a:lnTo>
                      <a:lnTo>
                        <a:pt x="355" y="86"/>
                      </a:lnTo>
                      <a:lnTo>
                        <a:pt x="355" y="95"/>
                      </a:lnTo>
                      <a:lnTo>
                        <a:pt x="355" y="104"/>
                      </a:lnTo>
                      <a:lnTo>
                        <a:pt x="348" y="110"/>
                      </a:lnTo>
                      <a:lnTo>
                        <a:pt x="340" y="115"/>
                      </a:lnTo>
                      <a:lnTo>
                        <a:pt x="333" y="121"/>
                      </a:lnTo>
                      <a:lnTo>
                        <a:pt x="326" y="126"/>
                      </a:lnTo>
                      <a:lnTo>
                        <a:pt x="319" y="132"/>
                      </a:lnTo>
                      <a:lnTo>
                        <a:pt x="312" y="137"/>
                      </a:lnTo>
                      <a:lnTo>
                        <a:pt x="306" y="143"/>
                      </a:lnTo>
                      <a:lnTo>
                        <a:pt x="299" y="148"/>
                      </a:lnTo>
                      <a:lnTo>
                        <a:pt x="295" y="141"/>
                      </a:lnTo>
                      <a:lnTo>
                        <a:pt x="290" y="133"/>
                      </a:lnTo>
                      <a:lnTo>
                        <a:pt x="286" y="125"/>
                      </a:lnTo>
                      <a:lnTo>
                        <a:pt x="281" y="118"/>
                      </a:lnTo>
                      <a:lnTo>
                        <a:pt x="279" y="111"/>
                      </a:lnTo>
                      <a:lnTo>
                        <a:pt x="275" y="103"/>
                      </a:lnTo>
                      <a:lnTo>
                        <a:pt x="272" y="97"/>
                      </a:lnTo>
                      <a:lnTo>
                        <a:pt x="268" y="90"/>
                      </a:lnTo>
                      <a:lnTo>
                        <a:pt x="266" y="97"/>
                      </a:lnTo>
                      <a:lnTo>
                        <a:pt x="262" y="103"/>
                      </a:lnTo>
                      <a:lnTo>
                        <a:pt x="259" y="111"/>
                      </a:lnTo>
                      <a:lnTo>
                        <a:pt x="256" y="118"/>
                      </a:lnTo>
                      <a:lnTo>
                        <a:pt x="250" y="122"/>
                      </a:lnTo>
                      <a:lnTo>
                        <a:pt x="245" y="125"/>
                      </a:lnTo>
                      <a:lnTo>
                        <a:pt x="239" y="130"/>
                      </a:lnTo>
                      <a:lnTo>
                        <a:pt x="234" y="134"/>
                      </a:lnTo>
                      <a:lnTo>
                        <a:pt x="234" y="126"/>
                      </a:lnTo>
                      <a:lnTo>
                        <a:pt x="233" y="119"/>
                      </a:lnTo>
                      <a:lnTo>
                        <a:pt x="231" y="111"/>
                      </a:lnTo>
                      <a:lnTo>
                        <a:pt x="230" y="103"/>
                      </a:lnTo>
                      <a:lnTo>
                        <a:pt x="228" y="99"/>
                      </a:lnTo>
                      <a:lnTo>
                        <a:pt x="224" y="95"/>
                      </a:lnTo>
                      <a:lnTo>
                        <a:pt x="221" y="90"/>
                      </a:lnTo>
                      <a:lnTo>
                        <a:pt x="218" y="86"/>
                      </a:lnTo>
                      <a:lnTo>
                        <a:pt x="212" y="82"/>
                      </a:lnTo>
                      <a:lnTo>
                        <a:pt x="206" y="79"/>
                      </a:lnTo>
                      <a:lnTo>
                        <a:pt x="200" y="76"/>
                      </a:lnTo>
                      <a:lnTo>
                        <a:pt x="195" y="74"/>
                      </a:lnTo>
                      <a:close/>
                    </a:path>
                  </a:pathLst>
                </a:custGeom>
                <a:solidFill>
                  <a:srgbClr val="f9f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500"/>
                <p:cNvSpPr/>
                <p:nvPr/>
              </p:nvSpPr>
              <p:spPr>
                <a:xfrm>
                  <a:off x="2533320" y="6054840"/>
                  <a:ext cx="104760" cy="123480"/>
                </a:xfrm>
                <a:custGeom>
                  <a:avLst/>
                  <a:gdLst/>
                  <a:ahLst/>
                  <a:rect l="l" t="t" r="r" b="b"/>
                  <a:pathLst>
                    <a:path w="265" h="303">
                      <a:moveTo>
                        <a:pt x="219" y="0"/>
                      </a:moveTo>
                      <a:lnTo>
                        <a:pt x="159" y="73"/>
                      </a:lnTo>
                      <a:lnTo>
                        <a:pt x="53" y="212"/>
                      </a:lnTo>
                      <a:lnTo>
                        <a:pt x="0" y="303"/>
                      </a:lnTo>
                      <a:lnTo>
                        <a:pt x="92" y="193"/>
                      </a:lnTo>
                      <a:lnTo>
                        <a:pt x="178" y="78"/>
                      </a:lnTo>
                      <a:lnTo>
                        <a:pt x="265" y="24"/>
                      </a:lnTo>
                      <a:lnTo>
                        <a:pt x="219" y="0"/>
                      </a:lnTo>
                      <a:close/>
                    </a:path>
                  </a:pathLst>
                </a:custGeom>
                <a:solidFill>
                  <a:srgbClr val="e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6" name="Group 501"/>
          <p:cNvGrpSpPr/>
          <p:nvPr/>
        </p:nvGrpSpPr>
        <p:grpSpPr>
          <a:xfrm>
            <a:off x="395280" y="4834080"/>
            <a:ext cx="5363640" cy="1044000"/>
            <a:chOff x="395280" y="4834080"/>
            <a:chExt cx="5363640" cy="1044000"/>
          </a:xfrm>
        </p:grpSpPr>
        <p:grpSp>
          <p:nvGrpSpPr>
            <p:cNvPr id="667" name="Group 502"/>
            <p:cNvGrpSpPr/>
            <p:nvPr/>
          </p:nvGrpSpPr>
          <p:grpSpPr>
            <a:xfrm>
              <a:off x="395280" y="4835520"/>
              <a:ext cx="5331600" cy="1005840"/>
              <a:chOff x="395280" y="4835520"/>
              <a:chExt cx="5331600" cy="1005840"/>
            </a:xfrm>
          </p:grpSpPr>
          <p:grpSp>
            <p:nvGrpSpPr>
              <p:cNvPr id="668" name="Group 503"/>
              <p:cNvGrpSpPr/>
              <p:nvPr/>
            </p:nvGrpSpPr>
            <p:grpSpPr>
              <a:xfrm>
                <a:off x="395280" y="4835520"/>
                <a:ext cx="4572000" cy="1005840"/>
                <a:chOff x="395280" y="4835520"/>
                <a:chExt cx="4572000" cy="1005840"/>
              </a:xfrm>
            </p:grpSpPr>
            <p:grpSp>
              <p:nvGrpSpPr>
                <p:cNvPr id="669" name="Group 504"/>
                <p:cNvGrpSpPr/>
                <p:nvPr/>
              </p:nvGrpSpPr>
              <p:grpSpPr>
                <a:xfrm>
                  <a:off x="395280" y="4835520"/>
                  <a:ext cx="1190160" cy="1005840"/>
                  <a:chOff x="395280" y="4835520"/>
                  <a:chExt cx="1190160" cy="1005840"/>
                </a:xfrm>
              </p:grpSpPr>
              <p:grpSp>
                <p:nvGrpSpPr>
                  <p:cNvPr id="670" name="Group 505"/>
                  <p:cNvGrpSpPr/>
                  <p:nvPr/>
                </p:nvGrpSpPr>
                <p:grpSpPr>
                  <a:xfrm>
                    <a:off x="1204560" y="4835520"/>
                    <a:ext cx="380880" cy="191160"/>
                    <a:chOff x="1204560" y="4835520"/>
                    <a:chExt cx="380880" cy="191160"/>
                  </a:xfrm>
                </p:grpSpPr>
                <p:sp>
                  <p:nvSpPr>
                    <p:cNvPr id="671" name="AutoShape 506"/>
                    <p:cNvSpPr/>
                    <p:nvPr/>
                  </p:nvSpPr>
                  <p:spPr>
                    <a:xfrm>
                      <a:off x="1204560" y="48355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WordArt 507"/>
                    <p:cNvSpPr txBox="1"/>
                    <p:nvPr/>
                  </p:nvSpPr>
                  <p:spPr>
                    <a:xfrm rot="15600">
                      <a:off x="1243440" y="48506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敵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673" name="Group 508"/>
                  <p:cNvGrpSpPr/>
                  <p:nvPr/>
                </p:nvGrpSpPr>
                <p:grpSpPr>
                  <a:xfrm>
                    <a:off x="1085760" y="4955040"/>
                    <a:ext cx="380880" cy="191160"/>
                    <a:chOff x="1085760" y="4955040"/>
                    <a:chExt cx="380880" cy="191160"/>
                  </a:xfrm>
                </p:grpSpPr>
                <p:sp>
                  <p:nvSpPr>
                    <p:cNvPr id="674" name="AutoShape 509"/>
                    <p:cNvSpPr/>
                    <p:nvPr/>
                  </p:nvSpPr>
                  <p:spPr>
                    <a:xfrm>
                      <a:off x="1085760" y="495504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WordArt 510"/>
                    <p:cNvSpPr txBox="1"/>
                    <p:nvPr/>
                  </p:nvSpPr>
                  <p:spPr>
                    <a:xfrm rot="15600">
                      <a:off x="1124640" y="497016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國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676" name="Group 511"/>
                  <p:cNvGrpSpPr/>
                  <p:nvPr/>
                </p:nvGrpSpPr>
                <p:grpSpPr>
                  <a:xfrm>
                    <a:off x="943200" y="5098680"/>
                    <a:ext cx="380880" cy="191160"/>
                    <a:chOff x="943200" y="5098680"/>
                    <a:chExt cx="380880" cy="191160"/>
                  </a:xfrm>
                </p:grpSpPr>
                <p:sp>
                  <p:nvSpPr>
                    <p:cNvPr id="677" name="AutoShape 512"/>
                    <p:cNvSpPr/>
                    <p:nvPr/>
                  </p:nvSpPr>
                  <p:spPr>
                    <a:xfrm>
                      <a:off x="943200" y="5098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WordArt 513"/>
                    <p:cNvSpPr txBox="1"/>
                    <p:nvPr/>
                  </p:nvSpPr>
                  <p:spPr>
                    <a:xfrm rot="15600">
                      <a:off x="982080" y="5113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外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679" name="Group 514"/>
                  <p:cNvGrpSpPr/>
                  <p:nvPr/>
                </p:nvGrpSpPr>
                <p:grpSpPr>
                  <a:xfrm>
                    <a:off x="823320" y="5219280"/>
                    <a:ext cx="380880" cy="191160"/>
                    <a:chOff x="823320" y="5219280"/>
                    <a:chExt cx="380880" cy="191160"/>
                  </a:xfrm>
                </p:grpSpPr>
                <p:sp>
                  <p:nvSpPr>
                    <p:cNvPr id="680" name="AutoShape 515"/>
                    <p:cNvSpPr/>
                    <p:nvPr/>
                  </p:nvSpPr>
                  <p:spPr>
                    <a:xfrm>
                      <a:off x="823320" y="52192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WordArt 516"/>
                    <p:cNvSpPr txBox="1"/>
                    <p:nvPr/>
                  </p:nvSpPr>
                  <p:spPr>
                    <a:xfrm rot="15600">
                      <a:off x="862200" y="52344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患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682" name="Group 517"/>
                  <p:cNvGrpSpPr/>
                  <p:nvPr/>
                </p:nvGrpSpPr>
                <p:grpSpPr>
                  <a:xfrm>
                    <a:off x="680400" y="5362920"/>
                    <a:ext cx="380880" cy="191160"/>
                    <a:chOff x="680400" y="5362920"/>
                    <a:chExt cx="380880" cy="191160"/>
                  </a:xfrm>
                </p:grpSpPr>
                <p:sp>
                  <p:nvSpPr>
                    <p:cNvPr id="683" name="AutoShape 518"/>
                    <p:cNvSpPr/>
                    <p:nvPr/>
                  </p:nvSpPr>
                  <p:spPr>
                    <a:xfrm>
                      <a:off x="680400" y="536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WordArt 519"/>
                    <p:cNvSpPr txBox="1"/>
                    <p:nvPr/>
                  </p:nvSpPr>
                  <p:spPr>
                    <a:xfrm rot="15600">
                      <a:off x="719280" y="537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者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685" name="Group 520"/>
                  <p:cNvGrpSpPr/>
                  <p:nvPr/>
                </p:nvGrpSpPr>
                <p:grpSpPr>
                  <a:xfrm>
                    <a:off x="537840" y="5506560"/>
                    <a:ext cx="380880" cy="191520"/>
                    <a:chOff x="537840" y="5506560"/>
                    <a:chExt cx="380880" cy="191520"/>
                  </a:xfrm>
                </p:grpSpPr>
                <p:sp>
                  <p:nvSpPr>
                    <p:cNvPr id="686" name="AutoShape 521"/>
                    <p:cNvSpPr/>
                    <p:nvPr/>
                  </p:nvSpPr>
                  <p:spPr>
                    <a:xfrm>
                      <a:off x="537840" y="550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WordArt 522"/>
                    <p:cNvSpPr txBox="1"/>
                    <p:nvPr/>
                  </p:nvSpPr>
                  <p:spPr>
                    <a:xfrm rot="15600">
                      <a:off x="576720" y="552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國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688" name="Group 523"/>
                  <p:cNvGrpSpPr/>
                  <p:nvPr/>
                </p:nvGrpSpPr>
                <p:grpSpPr>
                  <a:xfrm>
                    <a:off x="395280" y="5650200"/>
                    <a:ext cx="380880" cy="191160"/>
                    <a:chOff x="395280" y="5650200"/>
                    <a:chExt cx="380880" cy="191160"/>
                  </a:xfrm>
                </p:grpSpPr>
                <p:sp>
                  <p:nvSpPr>
                    <p:cNvPr id="689" name="AutoShape 524"/>
                    <p:cNvSpPr/>
                    <p:nvPr/>
                  </p:nvSpPr>
                  <p:spPr>
                    <a:xfrm>
                      <a:off x="395280" y="565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WordArt 525"/>
                    <p:cNvSpPr txBox="1"/>
                    <p:nvPr/>
                  </p:nvSpPr>
                  <p:spPr>
                    <a:xfrm rot="15600">
                      <a:off x="434160" y="566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恒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691" name="Group 526"/>
                <p:cNvGrpSpPr/>
                <p:nvPr/>
              </p:nvGrpSpPr>
              <p:grpSpPr>
                <a:xfrm>
                  <a:off x="657000" y="4835520"/>
                  <a:ext cx="1190880" cy="1005840"/>
                  <a:chOff x="657000" y="4835520"/>
                  <a:chExt cx="1190880" cy="1005840"/>
                </a:xfrm>
              </p:grpSpPr>
              <p:grpSp>
                <p:nvGrpSpPr>
                  <p:cNvPr id="692" name="Group 527"/>
                  <p:cNvGrpSpPr/>
                  <p:nvPr/>
                </p:nvGrpSpPr>
                <p:grpSpPr>
                  <a:xfrm>
                    <a:off x="1466640" y="4835520"/>
                    <a:ext cx="381240" cy="191160"/>
                    <a:chOff x="1466640" y="4835520"/>
                    <a:chExt cx="381240" cy="191160"/>
                  </a:xfrm>
                </p:grpSpPr>
                <p:sp>
                  <p:nvSpPr>
                    <p:cNvPr id="693" name="AutoShape 528"/>
                    <p:cNvSpPr/>
                    <p:nvPr/>
                  </p:nvSpPr>
                  <p:spPr>
                    <a:xfrm>
                      <a:off x="1466640" y="483552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WordArt 529"/>
                    <p:cNvSpPr txBox="1"/>
                    <p:nvPr/>
                  </p:nvSpPr>
                  <p:spPr>
                    <a:xfrm rot="15600">
                      <a:off x="1506240" y="485064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法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695" name="Group 530"/>
                  <p:cNvGrpSpPr/>
                  <p:nvPr/>
                </p:nvGrpSpPr>
                <p:grpSpPr>
                  <a:xfrm>
                    <a:off x="1347840" y="4955040"/>
                    <a:ext cx="381240" cy="191160"/>
                    <a:chOff x="1347840" y="4955040"/>
                    <a:chExt cx="381240" cy="191160"/>
                  </a:xfrm>
                </p:grpSpPr>
                <p:sp>
                  <p:nvSpPr>
                    <p:cNvPr id="696" name="AutoShape 531"/>
                    <p:cNvSpPr/>
                    <p:nvPr/>
                  </p:nvSpPr>
                  <p:spPr>
                    <a:xfrm>
                      <a:off x="1347840" y="495504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WordArt 532"/>
                    <p:cNvSpPr txBox="1"/>
                    <p:nvPr/>
                  </p:nvSpPr>
                  <p:spPr>
                    <a:xfrm rot="15600">
                      <a:off x="1387440" y="497016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家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698" name="Group 533"/>
                  <p:cNvGrpSpPr/>
                  <p:nvPr/>
                </p:nvGrpSpPr>
                <p:grpSpPr>
                  <a:xfrm>
                    <a:off x="1204920" y="5098680"/>
                    <a:ext cx="380880" cy="191160"/>
                    <a:chOff x="1204920" y="5098680"/>
                    <a:chExt cx="380880" cy="191160"/>
                  </a:xfrm>
                </p:grpSpPr>
                <p:sp>
                  <p:nvSpPr>
                    <p:cNvPr id="699" name="AutoShape 534"/>
                    <p:cNvSpPr/>
                    <p:nvPr/>
                  </p:nvSpPr>
                  <p:spPr>
                    <a:xfrm>
                      <a:off x="1204920" y="5098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WordArt 535"/>
                    <p:cNvSpPr txBox="1"/>
                    <p:nvPr/>
                  </p:nvSpPr>
                  <p:spPr>
                    <a:xfrm rot="15600">
                      <a:off x="1243800" y="5113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拂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01" name="Group 536"/>
                  <p:cNvGrpSpPr/>
                  <p:nvPr/>
                </p:nvGrpSpPr>
                <p:grpSpPr>
                  <a:xfrm>
                    <a:off x="1085400" y="5219280"/>
                    <a:ext cx="381240" cy="191160"/>
                    <a:chOff x="1085400" y="5219280"/>
                    <a:chExt cx="381240" cy="191160"/>
                  </a:xfrm>
                </p:grpSpPr>
                <p:sp>
                  <p:nvSpPr>
                    <p:cNvPr id="702" name="AutoShape 537"/>
                    <p:cNvSpPr/>
                    <p:nvPr/>
                  </p:nvSpPr>
                  <p:spPr>
                    <a:xfrm>
                      <a:off x="1085400" y="521928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WordArt 538"/>
                    <p:cNvSpPr txBox="1"/>
                    <p:nvPr/>
                  </p:nvSpPr>
                  <p:spPr>
                    <a:xfrm rot="15600">
                      <a:off x="1125000" y="523440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士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04" name="Group 539"/>
                  <p:cNvGrpSpPr/>
                  <p:nvPr/>
                </p:nvGrpSpPr>
                <p:grpSpPr>
                  <a:xfrm>
                    <a:off x="942480" y="5362920"/>
                    <a:ext cx="381240" cy="191160"/>
                    <a:chOff x="942480" y="5362920"/>
                    <a:chExt cx="381240" cy="191160"/>
                  </a:xfrm>
                </p:grpSpPr>
                <p:sp>
                  <p:nvSpPr>
                    <p:cNvPr id="705" name="AutoShape 540"/>
                    <p:cNvSpPr/>
                    <p:nvPr/>
                  </p:nvSpPr>
                  <p:spPr>
                    <a:xfrm>
                      <a:off x="942480" y="536292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WordArt 541"/>
                    <p:cNvSpPr txBox="1"/>
                    <p:nvPr/>
                  </p:nvSpPr>
                  <p:spPr>
                    <a:xfrm rot="15600">
                      <a:off x="982080" y="537804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出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07" name="Group 542"/>
                  <p:cNvGrpSpPr/>
                  <p:nvPr/>
                </p:nvGrpSpPr>
                <p:grpSpPr>
                  <a:xfrm>
                    <a:off x="799560" y="5506560"/>
                    <a:ext cx="380880" cy="191520"/>
                    <a:chOff x="799560" y="5506560"/>
                    <a:chExt cx="380880" cy="191520"/>
                  </a:xfrm>
                </p:grpSpPr>
                <p:sp>
                  <p:nvSpPr>
                    <p:cNvPr id="708" name="AutoShape 543"/>
                    <p:cNvSpPr/>
                    <p:nvPr/>
                  </p:nvSpPr>
                  <p:spPr>
                    <a:xfrm>
                      <a:off x="799560" y="550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WordArt 544"/>
                    <p:cNvSpPr txBox="1"/>
                    <p:nvPr/>
                  </p:nvSpPr>
                  <p:spPr>
                    <a:xfrm rot="15600">
                      <a:off x="838440" y="552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則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10" name="Group 545"/>
                  <p:cNvGrpSpPr/>
                  <p:nvPr/>
                </p:nvGrpSpPr>
                <p:grpSpPr>
                  <a:xfrm>
                    <a:off x="657000" y="5650200"/>
                    <a:ext cx="381240" cy="191160"/>
                    <a:chOff x="657000" y="5650200"/>
                    <a:chExt cx="381240" cy="191160"/>
                  </a:xfrm>
                </p:grpSpPr>
                <p:sp>
                  <p:nvSpPr>
                    <p:cNvPr id="711" name="AutoShape 546"/>
                    <p:cNvSpPr/>
                    <p:nvPr/>
                  </p:nvSpPr>
                  <p:spPr>
                    <a:xfrm>
                      <a:off x="657000" y="565020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WordArt 547"/>
                    <p:cNvSpPr txBox="1"/>
                    <p:nvPr/>
                  </p:nvSpPr>
                  <p:spPr>
                    <a:xfrm rot="15600">
                      <a:off x="696600" y="566532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無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713" name="Group 548"/>
                <p:cNvGrpSpPr/>
                <p:nvPr/>
              </p:nvGrpSpPr>
              <p:grpSpPr>
                <a:xfrm>
                  <a:off x="919080" y="4835520"/>
                  <a:ext cx="1190160" cy="1005840"/>
                  <a:chOff x="919080" y="4835520"/>
                  <a:chExt cx="1190160" cy="1005840"/>
                </a:xfrm>
              </p:grpSpPr>
              <p:grpSp>
                <p:nvGrpSpPr>
                  <p:cNvPr id="714" name="Group 549"/>
                  <p:cNvGrpSpPr/>
                  <p:nvPr/>
                </p:nvGrpSpPr>
                <p:grpSpPr>
                  <a:xfrm>
                    <a:off x="1728360" y="4835520"/>
                    <a:ext cx="380880" cy="191160"/>
                    <a:chOff x="1728360" y="4835520"/>
                    <a:chExt cx="380880" cy="191160"/>
                  </a:xfrm>
                </p:grpSpPr>
                <p:sp>
                  <p:nvSpPr>
                    <p:cNvPr id="715" name="AutoShape 550"/>
                    <p:cNvSpPr/>
                    <p:nvPr/>
                  </p:nvSpPr>
                  <p:spPr>
                    <a:xfrm>
                      <a:off x="1728360" y="48355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WordArt 551"/>
                    <p:cNvSpPr txBox="1"/>
                    <p:nvPr/>
                  </p:nvSpPr>
                  <p:spPr>
                    <a:xfrm rot="15600">
                      <a:off x="1767240" y="48506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聲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17" name="Group 552"/>
                  <p:cNvGrpSpPr/>
                  <p:nvPr/>
                </p:nvGrpSpPr>
                <p:grpSpPr>
                  <a:xfrm>
                    <a:off x="1609560" y="4955040"/>
                    <a:ext cx="380880" cy="191160"/>
                    <a:chOff x="1609560" y="4955040"/>
                    <a:chExt cx="380880" cy="191160"/>
                  </a:xfrm>
                </p:grpSpPr>
                <p:sp>
                  <p:nvSpPr>
                    <p:cNvPr id="718" name="AutoShape 553"/>
                    <p:cNvSpPr/>
                    <p:nvPr/>
                  </p:nvSpPr>
                  <p:spPr>
                    <a:xfrm>
                      <a:off x="1609560" y="495504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WordArt 554"/>
                    <p:cNvSpPr txBox="1"/>
                    <p:nvPr/>
                  </p:nvSpPr>
                  <p:spPr>
                    <a:xfrm rot="15600">
                      <a:off x="1648440" y="497016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而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20" name="Group 555"/>
                  <p:cNvGrpSpPr/>
                  <p:nvPr/>
                </p:nvGrpSpPr>
                <p:grpSpPr>
                  <a:xfrm>
                    <a:off x="1467000" y="5098680"/>
                    <a:ext cx="380880" cy="191160"/>
                    <a:chOff x="1467000" y="5098680"/>
                    <a:chExt cx="380880" cy="191160"/>
                  </a:xfrm>
                </p:grpSpPr>
                <p:sp>
                  <p:nvSpPr>
                    <p:cNvPr id="721" name="AutoShape 556"/>
                    <p:cNvSpPr/>
                    <p:nvPr/>
                  </p:nvSpPr>
                  <p:spPr>
                    <a:xfrm>
                      <a:off x="1467000" y="5098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WordArt 557"/>
                    <p:cNvSpPr txBox="1"/>
                    <p:nvPr/>
                  </p:nvSpPr>
                  <p:spPr>
                    <a:xfrm rot="15600">
                      <a:off x="1505880" y="5113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後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23" name="Group 558"/>
                  <p:cNvGrpSpPr/>
                  <p:nvPr/>
                </p:nvGrpSpPr>
                <p:grpSpPr>
                  <a:xfrm>
                    <a:off x="1347120" y="5219280"/>
                    <a:ext cx="380880" cy="191160"/>
                    <a:chOff x="1347120" y="5219280"/>
                    <a:chExt cx="380880" cy="191160"/>
                  </a:xfrm>
                </p:grpSpPr>
                <p:sp>
                  <p:nvSpPr>
                    <p:cNvPr id="724" name="AutoShape 559"/>
                    <p:cNvSpPr/>
                    <p:nvPr/>
                  </p:nvSpPr>
                  <p:spPr>
                    <a:xfrm>
                      <a:off x="1347120" y="52192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WordArt 560"/>
                    <p:cNvSpPr txBox="1"/>
                    <p:nvPr/>
                  </p:nvSpPr>
                  <p:spPr>
                    <a:xfrm rot="15600">
                      <a:off x="1386000" y="52344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喩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26" name="Group 561"/>
                  <p:cNvGrpSpPr/>
                  <p:nvPr/>
                </p:nvGrpSpPr>
                <p:grpSpPr>
                  <a:xfrm>
                    <a:off x="1204200" y="5362920"/>
                    <a:ext cx="380880" cy="191160"/>
                    <a:chOff x="1204200" y="5362920"/>
                    <a:chExt cx="380880" cy="191160"/>
                  </a:xfrm>
                </p:grpSpPr>
                <p:sp>
                  <p:nvSpPr>
                    <p:cNvPr id="727" name="AutoShape 562"/>
                    <p:cNvSpPr/>
                    <p:nvPr/>
                  </p:nvSpPr>
                  <p:spPr>
                    <a:xfrm>
                      <a:off x="1204200" y="536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WordArt 563"/>
                    <p:cNvSpPr txBox="1"/>
                    <p:nvPr/>
                  </p:nvSpPr>
                  <p:spPr>
                    <a:xfrm rot="15600">
                      <a:off x="1243080" y="537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入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29" name="Group 564"/>
                  <p:cNvGrpSpPr/>
                  <p:nvPr/>
                </p:nvGrpSpPr>
                <p:grpSpPr>
                  <a:xfrm>
                    <a:off x="1061640" y="5506560"/>
                    <a:ext cx="380880" cy="191520"/>
                    <a:chOff x="1061640" y="5506560"/>
                    <a:chExt cx="380880" cy="191520"/>
                  </a:xfrm>
                </p:grpSpPr>
                <p:sp>
                  <p:nvSpPr>
                    <p:cNvPr id="730" name="AutoShape 565"/>
                    <p:cNvSpPr/>
                    <p:nvPr/>
                  </p:nvSpPr>
                  <p:spPr>
                    <a:xfrm>
                      <a:off x="1061640" y="550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WordArt 566"/>
                    <p:cNvSpPr txBox="1"/>
                    <p:nvPr/>
                  </p:nvSpPr>
                  <p:spPr>
                    <a:xfrm rot="15600">
                      <a:off x="1100520" y="552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則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32" name="Group 567"/>
                  <p:cNvGrpSpPr/>
                  <p:nvPr/>
                </p:nvGrpSpPr>
                <p:grpSpPr>
                  <a:xfrm>
                    <a:off x="919080" y="5650200"/>
                    <a:ext cx="380880" cy="191160"/>
                    <a:chOff x="919080" y="5650200"/>
                    <a:chExt cx="380880" cy="191160"/>
                  </a:xfrm>
                </p:grpSpPr>
                <p:sp>
                  <p:nvSpPr>
                    <p:cNvPr id="733" name="AutoShape 568"/>
                    <p:cNvSpPr/>
                    <p:nvPr/>
                  </p:nvSpPr>
                  <p:spPr>
                    <a:xfrm>
                      <a:off x="919080" y="565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WordArt 569"/>
                    <p:cNvSpPr txBox="1"/>
                    <p:nvPr/>
                  </p:nvSpPr>
                  <p:spPr>
                    <a:xfrm rot="15600">
                      <a:off x="957960" y="566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無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735" name="Group 570"/>
                <p:cNvGrpSpPr/>
                <p:nvPr/>
              </p:nvGrpSpPr>
              <p:grpSpPr>
                <a:xfrm>
                  <a:off x="1181160" y="4835520"/>
                  <a:ext cx="1190160" cy="1005840"/>
                  <a:chOff x="1181160" y="4835520"/>
                  <a:chExt cx="1190160" cy="1005840"/>
                </a:xfrm>
              </p:grpSpPr>
              <p:grpSp>
                <p:nvGrpSpPr>
                  <p:cNvPr id="736" name="Group 571"/>
                  <p:cNvGrpSpPr/>
                  <p:nvPr/>
                </p:nvGrpSpPr>
                <p:grpSpPr>
                  <a:xfrm>
                    <a:off x="1990440" y="4835520"/>
                    <a:ext cx="380880" cy="191160"/>
                    <a:chOff x="1990440" y="4835520"/>
                    <a:chExt cx="380880" cy="191160"/>
                  </a:xfrm>
                </p:grpSpPr>
                <p:sp>
                  <p:nvSpPr>
                    <p:cNvPr id="737" name="AutoShape 572"/>
                    <p:cNvSpPr/>
                    <p:nvPr/>
                  </p:nvSpPr>
                  <p:spPr>
                    <a:xfrm>
                      <a:off x="1990440" y="48355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WordArt 573"/>
                    <p:cNvSpPr txBox="1"/>
                    <p:nvPr/>
                  </p:nvSpPr>
                  <p:spPr>
                    <a:xfrm rot="15600">
                      <a:off x="2029320" y="48506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後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39" name="Group 574"/>
                  <p:cNvGrpSpPr/>
                  <p:nvPr/>
                </p:nvGrpSpPr>
                <p:grpSpPr>
                  <a:xfrm>
                    <a:off x="1871640" y="4955040"/>
                    <a:ext cx="380880" cy="191160"/>
                    <a:chOff x="1871640" y="4955040"/>
                    <a:chExt cx="380880" cy="191160"/>
                  </a:xfrm>
                </p:grpSpPr>
                <p:sp>
                  <p:nvSpPr>
                    <p:cNvPr id="740" name="AutoShape 575"/>
                    <p:cNvSpPr/>
                    <p:nvPr/>
                  </p:nvSpPr>
                  <p:spPr>
                    <a:xfrm>
                      <a:off x="1871640" y="495504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WordArt 576"/>
                    <p:cNvSpPr txBox="1"/>
                    <p:nvPr/>
                  </p:nvSpPr>
                  <p:spPr>
                    <a:xfrm rot="15600">
                      <a:off x="1910520" y="497016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作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42" name="Group 577"/>
                  <p:cNvGrpSpPr/>
                  <p:nvPr/>
                </p:nvGrpSpPr>
                <p:grpSpPr>
                  <a:xfrm>
                    <a:off x="1729080" y="5098680"/>
                    <a:ext cx="380880" cy="191160"/>
                    <a:chOff x="1729080" y="5098680"/>
                    <a:chExt cx="380880" cy="191160"/>
                  </a:xfrm>
                </p:grpSpPr>
                <p:sp>
                  <p:nvSpPr>
                    <p:cNvPr id="743" name="AutoShape 578"/>
                    <p:cNvSpPr/>
                    <p:nvPr/>
                  </p:nvSpPr>
                  <p:spPr>
                    <a:xfrm>
                      <a:off x="1729080" y="5098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WordArt 579"/>
                    <p:cNvSpPr txBox="1"/>
                    <p:nvPr/>
                  </p:nvSpPr>
                  <p:spPr>
                    <a:xfrm rot="15600">
                      <a:off x="1767960" y="5113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徵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45" name="Group 580"/>
                  <p:cNvGrpSpPr/>
                  <p:nvPr/>
                </p:nvGrpSpPr>
                <p:grpSpPr>
                  <a:xfrm>
                    <a:off x="1609200" y="5219280"/>
                    <a:ext cx="380880" cy="191160"/>
                    <a:chOff x="1609200" y="5219280"/>
                    <a:chExt cx="380880" cy="191160"/>
                  </a:xfrm>
                </p:grpSpPr>
                <p:sp>
                  <p:nvSpPr>
                    <p:cNvPr id="746" name="AutoShape 581"/>
                    <p:cNvSpPr/>
                    <p:nvPr/>
                  </p:nvSpPr>
                  <p:spPr>
                    <a:xfrm>
                      <a:off x="1609200" y="52192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WordArt 582"/>
                    <p:cNvSpPr txBox="1"/>
                    <p:nvPr/>
                  </p:nvSpPr>
                  <p:spPr>
                    <a:xfrm rot="15600">
                      <a:off x="1648080" y="52344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於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48" name="Group 583"/>
                  <p:cNvGrpSpPr/>
                  <p:nvPr/>
                </p:nvGrpSpPr>
                <p:grpSpPr>
                  <a:xfrm>
                    <a:off x="1466280" y="5362920"/>
                    <a:ext cx="380880" cy="191160"/>
                    <a:chOff x="1466280" y="5362920"/>
                    <a:chExt cx="380880" cy="191160"/>
                  </a:xfrm>
                </p:grpSpPr>
                <p:sp>
                  <p:nvSpPr>
                    <p:cNvPr id="749" name="AutoShape 584"/>
                    <p:cNvSpPr/>
                    <p:nvPr/>
                  </p:nvSpPr>
                  <p:spPr>
                    <a:xfrm>
                      <a:off x="1466280" y="536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WordArt 585"/>
                    <p:cNvSpPr txBox="1"/>
                    <p:nvPr/>
                  </p:nvSpPr>
                  <p:spPr>
                    <a:xfrm rot="15600">
                      <a:off x="1505160" y="537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色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51" name="Group 586"/>
                  <p:cNvGrpSpPr/>
                  <p:nvPr/>
                </p:nvGrpSpPr>
                <p:grpSpPr>
                  <a:xfrm>
                    <a:off x="1323720" y="5506560"/>
                    <a:ext cx="380880" cy="191520"/>
                    <a:chOff x="1323720" y="5506560"/>
                    <a:chExt cx="380880" cy="191520"/>
                  </a:xfrm>
                </p:grpSpPr>
                <p:sp>
                  <p:nvSpPr>
                    <p:cNvPr id="752" name="AutoShape 587"/>
                    <p:cNvSpPr/>
                    <p:nvPr/>
                  </p:nvSpPr>
                  <p:spPr>
                    <a:xfrm>
                      <a:off x="1323720" y="550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WordArt 588"/>
                    <p:cNvSpPr txBox="1"/>
                    <p:nvPr/>
                  </p:nvSpPr>
                  <p:spPr>
                    <a:xfrm rot="15600">
                      <a:off x="1362600" y="552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發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54" name="Group 589"/>
                  <p:cNvGrpSpPr/>
                  <p:nvPr/>
                </p:nvGrpSpPr>
                <p:grpSpPr>
                  <a:xfrm>
                    <a:off x="1181160" y="5650200"/>
                    <a:ext cx="380880" cy="191160"/>
                    <a:chOff x="1181160" y="5650200"/>
                    <a:chExt cx="380880" cy="191160"/>
                  </a:xfrm>
                </p:grpSpPr>
                <p:sp>
                  <p:nvSpPr>
                    <p:cNvPr id="755" name="AutoShape 590"/>
                    <p:cNvSpPr/>
                    <p:nvPr/>
                  </p:nvSpPr>
                  <p:spPr>
                    <a:xfrm>
                      <a:off x="1181160" y="565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WordArt 591"/>
                    <p:cNvSpPr txBox="1"/>
                    <p:nvPr/>
                  </p:nvSpPr>
                  <p:spPr>
                    <a:xfrm rot="15600">
                      <a:off x="1220040" y="566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於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757" name="Group 592"/>
                <p:cNvGrpSpPr/>
                <p:nvPr/>
              </p:nvGrpSpPr>
              <p:grpSpPr>
                <a:xfrm>
                  <a:off x="1442880" y="4835520"/>
                  <a:ext cx="1190880" cy="1005840"/>
                  <a:chOff x="1442880" y="4835520"/>
                  <a:chExt cx="1190880" cy="1005840"/>
                </a:xfrm>
              </p:grpSpPr>
              <p:grpSp>
                <p:nvGrpSpPr>
                  <p:cNvPr id="758" name="Group 593"/>
                  <p:cNvGrpSpPr/>
                  <p:nvPr/>
                </p:nvGrpSpPr>
                <p:grpSpPr>
                  <a:xfrm>
                    <a:off x="2252520" y="4835520"/>
                    <a:ext cx="381240" cy="191160"/>
                    <a:chOff x="2252520" y="4835520"/>
                    <a:chExt cx="381240" cy="191160"/>
                  </a:xfrm>
                </p:grpSpPr>
                <p:sp>
                  <p:nvSpPr>
                    <p:cNvPr id="759" name="AutoShape 594"/>
                    <p:cNvSpPr/>
                    <p:nvPr/>
                  </p:nvSpPr>
                  <p:spPr>
                    <a:xfrm>
                      <a:off x="2252520" y="483552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WordArt 595"/>
                    <p:cNvSpPr txBox="1"/>
                    <p:nvPr/>
                  </p:nvSpPr>
                  <p:spPr>
                    <a:xfrm rot="15600">
                      <a:off x="2292120" y="485064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困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61" name="Group 596"/>
                  <p:cNvGrpSpPr/>
                  <p:nvPr/>
                </p:nvGrpSpPr>
                <p:grpSpPr>
                  <a:xfrm>
                    <a:off x="2133720" y="4955040"/>
                    <a:ext cx="381240" cy="191160"/>
                    <a:chOff x="2133720" y="4955040"/>
                    <a:chExt cx="381240" cy="191160"/>
                  </a:xfrm>
                </p:grpSpPr>
                <p:sp>
                  <p:nvSpPr>
                    <p:cNvPr id="762" name="AutoShape 597"/>
                    <p:cNvSpPr/>
                    <p:nvPr/>
                  </p:nvSpPr>
                  <p:spPr>
                    <a:xfrm>
                      <a:off x="2133720" y="495504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WordArt 598"/>
                    <p:cNvSpPr txBox="1"/>
                    <p:nvPr/>
                  </p:nvSpPr>
                  <p:spPr>
                    <a:xfrm rot="15600">
                      <a:off x="2173320" y="497016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於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64" name="Group 599"/>
                  <p:cNvGrpSpPr/>
                  <p:nvPr/>
                </p:nvGrpSpPr>
                <p:grpSpPr>
                  <a:xfrm>
                    <a:off x="1990800" y="5098680"/>
                    <a:ext cx="380880" cy="191160"/>
                    <a:chOff x="1990800" y="5098680"/>
                    <a:chExt cx="380880" cy="191160"/>
                  </a:xfrm>
                </p:grpSpPr>
                <p:sp>
                  <p:nvSpPr>
                    <p:cNvPr id="765" name="AutoShape 600"/>
                    <p:cNvSpPr/>
                    <p:nvPr/>
                  </p:nvSpPr>
                  <p:spPr>
                    <a:xfrm>
                      <a:off x="1990800" y="5098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WordArt 601"/>
                    <p:cNvSpPr txBox="1"/>
                    <p:nvPr/>
                  </p:nvSpPr>
                  <p:spPr>
                    <a:xfrm rot="15600">
                      <a:off x="2029680" y="5113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心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67" name="Group 602"/>
                  <p:cNvGrpSpPr/>
                  <p:nvPr/>
                </p:nvGrpSpPr>
                <p:grpSpPr>
                  <a:xfrm>
                    <a:off x="1871280" y="5219280"/>
                    <a:ext cx="381240" cy="191160"/>
                    <a:chOff x="1871280" y="5219280"/>
                    <a:chExt cx="381240" cy="191160"/>
                  </a:xfrm>
                </p:grpSpPr>
                <p:sp>
                  <p:nvSpPr>
                    <p:cNvPr id="768" name="AutoShape 603"/>
                    <p:cNvSpPr/>
                    <p:nvPr/>
                  </p:nvSpPr>
                  <p:spPr>
                    <a:xfrm>
                      <a:off x="1871280" y="521928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WordArt 604"/>
                    <p:cNvSpPr txBox="1"/>
                    <p:nvPr/>
                  </p:nvSpPr>
                  <p:spPr>
                    <a:xfrm rot="15600">
                      <a:off x="1910880" y="523440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衡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70" name="Group 605"/>
                  <p:cNvGrpSpPr/>
                  <p:nvPr/>
                </p:nvGrpSpPr>
                <p:grpSpPr>
                  <a:xfrm>
                    <a:off x="1728360" y="5362920"/>
                    <a:ext cx="381240" cy="191160"/>
                    <a:chOff x="1728360" y="5362920"/>
                    <a:chExt cx="381240" cy="191160"/>
                  </a:xfrm>
                </p:grpSpPr>
                <p:sp>
                  <p:nvSpPr>
                    <p:cNvPr id="771" name="AutoShape 606"/>
                    <p:cNvSpPr/>
                    <p:nvPr/>
                  </p:nvSpPr>
                  <p:spPr>
                    <a:xfrm>
                      <a:off x="1728360" y="536292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WordArt 607"/>
                    <p:cNvSpPr txBox="1"/>
                    <p:nvPr/>
                  </p:nvSpPr>
                  <p:spPr>
                    <a:xfrm rot="15600">
                      <a:off x="1767960" y="537804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於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73" name="Group 608"/>
                  <p:cNvGrpSpPr/>
                  <p:nvPr/>
                </p:nvGrpSpPr>
                <p:grpSpPr>
                  <a:xfrm>
                    <a:off x="1585440" y="5506560"/>
                    <a:ext cx="380880" cy="191520"/>
                    <a:chOff x="1585440" y="5506560"/>
                    <a:chExt cx="380880" cy="191520"/>
                  </a:xfrm>
                </p:grpSpPr>
                <p:sp>
                  <p:nvSpPr>
                    <p:cNvPr id="774" name="AutoShape 609"/>
                    <p:cNvSpPr/>
                    <p:nvPr/>
                  </p:nvSpPr>
                  <p:spPr>
                    <a:xfrm>
                      <a:off x="1585440" y="550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WordArt 610"/>
                    <p:cNvSpPr txBox="1"/>
                    <p:nvPr/>
                  </p:nvSpPr>
                  <p:spPr>
                    <a:xfrm rot="15600">
                      <a:off x="1624320" y="552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虑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76" name="Group 611"/>
                  <p:cNvGrpSpPr/>
                  <p:nvPr/>
                </p:nvGrpSpPr>
                <p:grpSpPr>
                  <a:xfrm>
                    <a:off x="1442880" y="5650200"/>
                    <a:ext cx="381240" cy="191160"/>
                    <a:chOff x="1442880" y="5650200"/>
                    <a:chExt cx="381240" cy="191160"/>
                  </a:xfrm>
                </p:grpSpPr>
                <p:sp>
                  <p:nvSpPr>
                    <p:cNvPr id="777" name="AutoShape 612"/>
                    <p:cNvSpPr/>
                    <p:nvPr/>
                  </p:nvSpPr>
                  <p:spPr>
                    <a:xfrm>
                      <a:off x="1442880" y="565020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WordArt 613"/>
                    <p:cNvSpPr txBox="1"/>
                    <p:nvPr/>
                  </p:nvSpPr>
                  <p:spPr>
                    <a:xfrm rot="15600">
                      <a:off x="1482480" y="566532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而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779" name="Group 614"/>
                <p:cNvGrpSpPr/>
                <p:nvPr/>
              </p:nvGrpSpPr>
              <p:grpSpPr>
                <a:xfrm>
                  <a:off x="1704960" y="4835520"/>
                  <a:ext cx="1190160" cy="1005840"/>
                  <a:chOff x="1704960" y="4835520"/>
                  <a:chExt cx="1190160" cy="1005840"/>
                </a:xfrm>
              </p:grpSpPr>
              <p:grpSp>
                <p:nvGrpSpPr>
                  <p:cNvPr id="780" name="Group 615"/>
                  <p:cNvGrpSpPr/>
                  <p:nvPr/>
                </p:nvGrpSpPr>
                <p:grpSpPr>
                  <a:xfrm>
                    <a:off x="2514240" y="4835520"/>
                    <a:ext cx="380880" cy="191160"/>
                    <a:chOff x="2514240" y="4835520"/>
                    <a:chExt cx="380880" cy="191160"/>
                  </a:xfrm>
                </p:grpSpPr>
                <p:sp>
                  <p:nvSpPr>
                    <p:cNvPr id="781" name="AutoShape 616"/>
                    <p:cNvSpPr/>
                    <p:nvPr/>
                  </p:nvSpPr>
                  <p:spPr>
                    <a:xfrm>
                      <a:off x="2514240" y="48355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WordArt 617"/>
                    <p:cNvSpPr txBox="1"/>
                    <p:nvPr/>
                  </p:nvSpPr>
                  <p:spPr>
                    <a:xfrm rot="15600">
                      <a:off x="2553120" y="48506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人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83" name="Group 618"/>
                  <p:cNvGrpSpPr/>
                  <p:nvPr/>
                </p:nvGrpSpPr>
                <p:grpSpPr>
                  <a:xfrm>
                    <a:off x="2395440" y="4955040"/>
                    <a:ext cx="380880" cy="191160"/>
                    <a:chOff x="2395440" y="4955040"/>
                    <a:chExt cx="380880" cy="191160"/>
                  </a:xfrm>
                </p:grpSpPr>
                <p:sp>
                  <p:nvSpPr>
                    <p:cNvPr id="784" name="AutoShape 619"/>
                    <p:cNvSpPr/>
                    <p:nvPr/>
                  </p:nvSpPr>
                  <p:spPr>
                    <a:xfrm>
                      <a:off x="2395440" y="495504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WordArt 620"/>
                    <p:cNvSpPr txBox="1"/>
                    <p:nvPr/>
                  </p:nvSpPr>
                  <p:spPr>
                    <a:xfrm rot="15600">
                      <a:off x="2434320" y="497016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衡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86" name="Group 621"/>
                  <p:cNvGrpSpPr/>
                  <p:nvPr/>
                </p:nvGrpSpPr>
                <p:grpSpPr>
                  <a:xfrm>
                    <a:off x="2252880" y="5098680"/>
                    <a:ext cx="380880" cy="191160"/>
                    <a:chOff x="2252880" y="5098680"/>
                    <a:chExt cx="380880" cy="191160"/>
                  </a:xfrm>
                </p:grpSpPr>
                <p:sp>
                  <p:nvSpPr>
                    <p:cNvPr id="787" name="AutoShape 622"/>
                    <p:cNvSpPr/>
                    <p:nvPr/>
                  </p:nvSpPr>
                  <p:spPr>
                    <a:xfrm>
                      <a:off x="2252880" y="5098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WordArt 623"/>
                    <p:cNvSpPr txBox="1"/>
                    <p:nvPr/>
                  </p:nvSpPr>
                  <p:spPr>
                    <a:xfrm rot="15600">
                      <a:off x="2291760" y="5113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過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89" name="Group 624"/>
                  <p:cNvGrpSpPr/>
                  <p:nvPr/>
                </p:nvGrpSpPr>
                <p:grpSpPr>
                  <a:xfrm>
                    <a:off x="2133000" y="5219280"/>
                    <a:ext cx="380880" cy="191160"/>
                    <a:chOff x="2133000" y="5219280"/>
                    <a:chExt cx="380880" cy="191160"/>
                  </a:xfrm>
                </p:grpSpPr>
                <p:sp>
                  <p:nvSpPr>
                    <p:cNvPr id="790" name="AutoShape 625"/>
                    <p:cNvSpPr/>
                    <p:nvPr/>
                  </p:nvSpPr>
                  <p:spPr>
                    <a:xfrm>
                      <a:off x="2133000" y="52192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WordArt 626"/>
                    <p:cNvSpPr txBox="1"/>
                    <p:nvPr/>
                  </p:nvSpPr>
                  <p:spPr>
                    <a:xfrm rot="15600">
                      <a:off x="2171880" y="52344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然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92" name="Group 627"/>
                  <p:cNvGrpSpPr/>
                  <p:nvPr/>
                </p:nvGrpSpPr>
                <p:grpSpPr>
                  <a:xfrm>
                    <a:off x="1990080" y="5362920"/>
                    <a:ext cx="380880" cy="191160"/>
                    <a:chOff x="1990080" y="5362920"/>
                    <a:chExt cx="380880" cy="191160"/>
                  </a:xfrm>
                </p:grpSpPr>
                <p:sp>
                  <p:nvSpPr>
                    <p:cNvPr id="793" name="AutoShape 628"/>
                    <p:cNvSpPr/>
                    <p:nvPr/>
                  </p:nvSpPr>
                  <p:spPr>
                    <a:xfrm>
                      <a:off x="1990080" y="536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WordArt 629"/>
                    <p:cNvSpPr txBox="1"/>
                    <p:nvPr/>
                  </p:nvSpPr>
                  <p:spPr>
                    <a:xfrm rot="15600">
                      <a:off x="2028960" y="537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後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95" name="Group 630"/>
                  <p:cNvGrpSpPr/>
                  <p:nvPr/>
                </p:nvGrpSpPr>
                <p:grpSpPr>
                  <a:xfrm>
                    <a:off x="1847520" y="5506560"/>
                    <a:ext cx="380880" cy="191520"/>
                    <a:chOff x="1847520" y="5506560"/>
                    <a:chExt cx="380880" cy="191520"/>
                  </a:xfrm>
                </p:grpSpPr>
                <p:sp>
                  <p:nvSpPr>
                    <p:cNvPr id="796" name="AutoShape 631"/>
                    <p:cNvSpPr/>
                    <p:nvPr/>
                  </p:nvSpPr>
                  <p:spPr>
                    <a:xfrm>
                      <a:off x="1847520" y="550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WordArt 632"/>
                    <p:cNvSpPr txBox="1"/>
                    <p:nvPr/>
                  </p:nvSpPr>
                  <p:spPr>
                    <a:xfrm rot="15600">
                      <a:off x="1886400" y="552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能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798" name="Group 633"/>
                  <p:cNvGrpSpPr/>
                  <p:nvPr/>
                </p:nvGrpSpPr>
                <p:grpSpPr>
                  <a:xfrm>
                    <a:off x="1704960" y="5650200"/>
                    <a:ext cx="380880" cy="191160"/>
                    <a:chOff x="1704960" y="5650200"/>
                    <a:chExt cx="380880" cy="191160"/>
                  </a:xfrm>
                </p:grpSpPr>
                <p:sp>
                  <p:nvSpPr>
                    <p:cNvPr id="799" name="AutoShape 634"/>
                    <p:cNvSpPr/>
                    <p:nvPr/>
                  </p:nvSpPr>
                  <p:spPr>
                    <a:xfrm>
                      <a:off x="1704960" y="565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WordArt 635"/>
                    <p:cNvSpPr txBox="1"/>
                    <p:nvPr/>
                  </p:nvSpPr>
                  <p:spPr>
                    <a:xfrm rot="15600">
                      <a:off x="1743840" y="566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改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801" name="Group 636"/>
                <p:cNvGrpSpPr/>
                <p:nvPr/>
              </p:nvGrpSpPr>
              <p:grpSpPr>
                <a:xfrm>
                  <a:off x="1966680" y="4835520"/>
                  <a:ext cx="1190880" cy="1005840"/>
                  <a:chOff x="1966680" y="4835520"/>
                  <a:chExt cx="1190880" cy="1005840"/>
                </a:xfrm>
              </p:grpSpPr>
              <p:grpSp>
                <p:nvGrpSpPr>
                  <p:cNvPr id="802" name="Group 637"/>
                  <p:cNvGrpSpPr/>
                  <p:nvPr/>
                </p:nvGrpSpPr>
                <p:grpSpPr>
                  <a:xfrm>
                    <a:off x="2776320" y="4835520"/>
                    <a:ext cx="381240" cy="191160"/>
                    <a:chOff x="2776320" y="4835520"/>
                    <a:chExt cx="381240" cy="191160"/>
                  </a:xfrm>
                </p:grpSpPr>
                <p:sp>
                  <p:nvSpPr>
                    <p:cNvPr id="803" name="AutoShape 638"/>
                    <p:cNvSpPr/>
                    <p:nvPr/>
                  </p:nvSpPr>
                  <p:spPr>
                    <a:xfrm>
                      <a:off x="2776320" y="483552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WordArt 639"/>
                    <p:cNvSpPr txBox="1"/>
                    <p:nvPr/>
                  </p:nvSpPr>
                  <p:spPr>
                    <a:xfrm rot="15600">
                      <a:off x="2815920" y="485064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所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05" name="Group 640"/>
                  <p:cNvGrpSpPr/>
                  <p:nvPr/>
                </p:nvGrpSpPr>
                <p:grpSpPr>
                  <a:xfrm>
                    <a:off x="2657520" y="4955040"/>
                    <a:ext cx="381240" cy="191160"/>
                    <a:chOff x="2657520" y="4955040"/>
                    <a:chExt cx="381240" cy="191160"/>
                  </a:xfrm>
                </p:grpSpPr>
                <p:sp>
                  <p:nvSpPr>
                    <p:cNvPr id="806" name="AutoShape 641"/>
                    <p:cNvSpPr/>
                    <p:nvPr/>
                  </p:nvSpPr>
                  <p:spPr>
                    <a:xfrm>
                      <a:off x="2657520" y="495504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WordArt 642"/>
                    <p:cNvSpPr txBox="1"/>
                    <p:nvPr/>
                  </p:nvSpPr>
                  <p:spPr>
                    <a:xfrm rot="15600">
                      <a:off x="2697120" y="497016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不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08" name="Group 643"/>
                  <p:cNvGrpSpPr/>
                  <p:nvPr/>
                </p:nvGrpSpPr>
                <p:grpSpPr>
                  <a:xfrm>
                    <a:off x="2514600" y="5098680"/>
                    <a:ext cx="380880" cy="191160"/>
                    <a:chOff x="2514600" y="5098680"/>
                    <a:chExt cx="380880" cy="191160"/>
                  </a:xfrm>
                </p:grpSpPr>
                <p:sp>
                  <p:nvSpPr>
                    <p:cNvPr id="809" name="AutoShape 644"/>
                    <p:cNvSpPr/>
                    <p:nvPr/>
                  </p:nvSpPr>
                  <p:spPr>
                    <a:xfrm>
                      <a:off x="2514600" y="5098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WordArt 645"/>
                    <p:cNvSpPr txBox="1"/>
                    <p:nvPr/>
                  </p:nvSpPr>
                  <p:spPr>
                    <a:xfrm rot="15600">
                      <a:off x="2553480" y="5113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能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11" name="Group 646"/>
                  <p:cNvGrpSpPr/>
                  <p:nvPr/>
                </p:nvGrpSpPr>
                <p:grpSpPr>
                  <a:xfrm>
                    <a:off x="2395080" y="5219280"/>
                    <a:ext cx="381240" cy="191160"/>
                    <a:chOff x="2395080" y="5219280"/>
                    <a:chExt cx="381240" cy="191160"/>
                  </a:xfrm>
                </p:grpSpPr>
                <p:sp>
                  <p:nvSpPr>
                    <p:cNvPr id="812" name="AutoShape 647"/>
                    <p:cNvSpPr/>
                    <p:nvPr/>
                  </p:nvSpPr>
                  <p:spPr>
                    <a:xfrm>
                      <a:off x="2395080" y="521928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WordArt 648"/>
                    <p:cNvSpPr txBox="1"/>
                    <p:nvPr/>
                  </p:nvSpPr>
                  <p:spPr>
                    <a:xfrm rot="15600">
                      <a:off x="2434680" y="523440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 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14" name="Group 649"/>
                  <p:cNvGrpSpPr/>
                  <p:nvPr/>
                </p:nvGrpSpPr>
                <p:grpSpPr>
                  <a:xfrm>
                    <a:off x="2252160" y="5362920"/>
                    <a:ext cx="381240" cy="191160"/>
                    <a:chOff x="2252160" y="5362920"/>
                    <a:chExt cx="381240" cy="191160"/>
                  </a:xfrm>
                </p:grpSpPr>
                <p:sp>
                  <p:nvSpPr>
                    <p:cNvPr id="815" name="AutoShape 650"/>
                    <p:cNvSpPr/>
                    <p:nvPr/>
                  </p:nvSpPr>
                  <p:spPr>
                    <a:xfrm>
                      <a:off x="2252160" y="536292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WordArt 651"/>
                    <p:cNvSpPr txBox="1"/>
                    <p:nvPr/>
                  </p:nvSpPr>
                  <p:spPr>
                    <a:xfrm rot="15600">
                      <a:off x="2291760" y="537804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 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17" name="Group 652"/>
                  <p:cNvGrpSpPr/>
                  <p:nvPr/>
                </p:nvGrpSpPr>
                <p:grpSpPr>
                  <a:xfrm>
                    <a:off x="2109240" y="5506560"/>
                    <a:ext cx="380880" cy="191520"/>
                    <a:chOff x="2109240" y="5506560"/>
                    <a:chExt cx="380880" cy="191520"/>
                  </a:xfrm>
                </p:grpSpPr>
                <p:sp>
                  <p:nvSpPr>
                    <p:cNvPr id="818" name="AutoShape 653"/>
                    <p:cNvSpPr/>
                    <p:nvPr/>
                  </p:nvSpPr>
                  <p:spPr>
                    <a:xfrm>
                      <a:off x="2109240" y="550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WordArt 654"/>
                    <p:cNvSpPr txBox="1"/>
                    <p:nvPr/>
                  </p:nvSpPr>
                  <p:spPr>
                    <a:xfrm rot="15600">
                      <a:off x="2148120" y="552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 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20" name="Group 655"/>
                  <p:cNvGrpSpPr/>
                  <p:nvPr/>
                </p:nvGrpSpPr>
                <p:grpSpPr>
                  <a:xfrm>
                    <a:off x="1966680" y="5650200"/>
                    <a:ext cx="381240" cy="191160"/>
                    <a:chOff x="1966680" y="5650200"/>
                    <a:chExt cx="381240" cy="191160"/>
                  </a:xfrm>
                </p:grpSpPr>
                <p:sp>
                  <p:nvSpPr>
                    <p:cNvPr id="821" name="AutoShape 656"/>
                    <p:cNvSpPr/>
                    <p:nvPr/>
                  </p:nvSpPr>
                  <p:spPr>
                    <a:xfrm>
                      <a:off x="1966680" y="565020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WordArt 657"/>
                    <p:cNvSpPr txBox="1"/>
                    <p:nvPr/>
                  </p:nvSpPr>
                  <p:spPr>
                    <a:xfrm rot="15600">
                      <a:off x="2006280" y="566532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 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823" name="Group 658"/>
                <p:cNvGrpSpPr/>
                <p:nvPr/>
              </p:nvGrpSpPr>
              <p:grpSpPr>
                <a:xfrm>
                  <a:off x="2228760" y="4835520"/>
                  <a:ext cx="1190160" cy="1005840"/>
                  <a:chOff x="2228760" y="4835520"/>
                  <a:chExt cx="1190160" cy="1005840"/>
                </a:xfrm>
              </p:grpSpPr>
              <p:grpSp>
                <p:nvGrpSpPr>
                  <p:cNvPr id="824" name="Group 659"/>
                  <p:cNvGrpSpPr/>
                  <p:nvPr/>
                </p:nvGrpSpPr>
                <p:grpSpPr>
                  <a:xfrm>
                    <a:off x="3038040" y="4835520"/>
                    <a:ext cx="380880" cy="191160"/>
                    <a:chOff x="3038040" y="4835520"/>
                    <a:chExt cx="380880" cy="191160"/>
                  </a:xfrm>
                </p:grpSpPr>
                <p:sp>
                  <p:nvSpPr>
                    <p:cNvPr id="825" name="AutoShape 660"/>
                    <p:cNvSpPr/>
                    <p:nvPr/>
                  </p:nvSpPr>
                  <p:spPr>
                    <a:xfrm>
                      <a:off x="3038040" y="48355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WordArt 661"/>
                    <p:cNvSpPr txBox="1"/>
                    <p:nvPr/>
                  </p:nvSpPr>
                  <p:spPr>
                    <a:xfrm rot="15600">
                      <a:off x="3076920" y="48506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乎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27" name="Group 662"/>
                  <p:cNvGrpSpPr/>
                  <p:nvPr/>
                </p:nvGrpSpPr>
                <p:grpSpPr>
                  <a:xfrm>
                    <a:off x="2919240" y="4955040"/>
                    <a:ext cx="380880" cy="191160"/>
                    <a:chOff x="2919240" y="4955040"/>
                    <a:chExt cx="380880" cy="191160"/>
                  </a:xfrm>
                </p:grpSpPr>
                <p:sp>
                  <p:nvSpPr>
                    <p:cNvPr id="828" name="AutoShape 663"/>
                    <p:cNvSpPr/>
                    <p:nvPr/>
                  </p:nvSpPr>
                  <p:spPr>
                    <a:xfrm>
                      <a:off x="2919240" y="495504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WordArt 664"/>
                    <p:cNvSpPr txBox="1"/>
                    <p:nvPr/>
                  </p:nvSpPr>
                  <p:spPr>
                    <a:xfrm rot="15600">
                      <a:off x="2958120" y="497016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乎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30" name="Group 665"/>
                  <p:cNvGrpSpPr/>
                  <p:nvPr/>
                </p:nvGrpSpPr>
                <p:grpSpPr>
                  <a:xfrm>
                    <a:off x="2776680" y="5098680"/>
                    <a:ext cx="380880" cy="191160"/>
                    <a:chOff x="2776680" y="5098680"/>
                    <a:chExt cx="380880" cy="191160"/>
                  </a:xfrm>
                </p:grpSpPr>
                <p:sp>
                  <p:nvSpPr>
                    <p:cNvPr id="831" name="AutoShape 666"/>
                    <p:cNvSpPr/>
                    <p:nvPr/>
                  </p:nvSpPr>
                  <p:spPr>
                    <a:xfrm>
                      <a:off x="2776680" y="5098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WordArt 667"/>
                    <p:cNvSpPr txBox="1"/>
                    <p:nvPr/>
                  </p:nvSpPr>
                  <p:spPr>
                    <a:xfrm rot="15600">
                      <a:off x="2815560" y="5113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乎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33" name="Group 668"/>
                  <p:cNvGrpSpPr/>
                  <p:nvPr/>
                </p:nvGrpSpPr>
                <p:grpSpPr>
                  <a:xfrm>
                    <a:off x="2656800" y="5219280"/>
                    <a:ext cx="380880" cy="191160"/>
                    <a:chOff x="2656800" y="5219280"/>
                    <a:chExt cx="380880" cy="191160"/>
                  </a:xfrm>
                </p:grpSpPr>
                <p:sp>
                  <p:nvSpPr>
                    <p:cNvPr id="834" name="AutoShape 669"/>
                    <p:cNvSpPr/>
                    <p:nvPr/>
                  </p:nvSpPr>
                  <p:spPr>
                    <a:xfrm>
                      <a:off x="2656800" y="52192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WordArt 670"/>
                    <p:cNvSpPr txBox="1"/>
                    <p:nvPr/>
                  </p:nvSpPr>
                  <p:spPr>
                    <a:xfrm rot="15600">
                      <a:off x="2695680" y="52344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乎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36" name="Group 671"/>
                  <p:cNvGrpSpPr/>
                  <p:nvPr/>
                </p:nvGrpSpPr>
                <p:grpSpPr>
                  <a:xfrm>
                    <a:off x="2513880" y="5362920"/>
                    <a:ext cx="380880" cy="191160"/>
                    <a:chOff x="2513880" y="5362920"/>
                    <a:chExt cx="380880" cy="191160"/>
                  </a:xfrm>
                </p:grpSpPr>
                <p:sp>
                  <p:nvSpPr>
                    <p:cNvPr id="837" name="AutoShape 672"/>
                    <p:cNvSpPr/>
                    <p:nvPr/>
                  </p:nvSpPr>
                  <p:spPr>
                    <a:xfrm>
                      <a:off x="2513880" y="536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WordArt 673"/>
                    <p:cNvSpPr txBox="1"/>
                    <p:nvPr/>
                  </p:nvSpPr>
                  <p:spPr>
                    <a:xfrm rot="15600">
                      <a:off x="2552760" y="537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乎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39" name="Group 674"/>
                  <p:cNvGrpSpPr/>
                  <p:nvPr/>
                </p:nvGrpSpPr>
                <p:grpSpPr>
                  <a:xfrm>
                    <a:off x="2371320" y="5506560"/>
                    <a:ext cx="380880" cy="191520"/>
                    <a:chOff x="2371320" y="5506560"/>
                    <a:chExt cx="380880" cy="191520"/>
                  </a:xfrm>
                </p:grpSpPr>
                <p:sp>
                  <p:nvSpPr>
                    <p:cNvPr id="840" name="AutoShape 675"/>
                    <p:cNvSpPr/>
                    <p:nvPr/>
                  </p:nvSpPr>
                  <p:spPr>
                    <a:xfrm>
                      <a:off x="2371320" y="550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WordArt 676"/>
                    <p:cNvSpPr txBox="1"/>
                    <p:nvPr/>
                  </p:nvSpPr>
                  <p:spPr>
                    <a:xfrm rot="15600">
                      <a:off x="2410200" y="552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乎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42" name="Group 677"/>
                  <p:cNvGrpSpPr/>
                  <p:nvPr/>
                </p:nvGrpSpPr>
                <p:grpSpPr>
                  <a:xfrm>
                    <a:off x="2228760" y="5650200"/>
                    <a:ext cx="380880" cy="191160"/>
                    <a:chOff x="2228760" y="5650200"/>
                    <a:chExt cx="380880" cy="191160"/>
                  </a:xfrm>
                </p:grpSpPr>
                <p:sp>
                  <p:nvSpPr>
                    <p:cNvPr id="843" name="AutoShape 678"/>
                    <p:cNvSpPr/>
                    <p:nvPr/>
                  </p:nvSpPr>
                  <p:spPr>
                    <a:xfrm>
                      <a:off x="2228760" y="565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WordArt 679"/>
                    <p:cNvSpPr txBox="1"/>
                    <p:nvPr/>
                  </p:nvSpPr>
                  <p:spPr>
                    <a:xfrm rot="15600">
                      <a:off x="2267640" y="566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乎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845" name="Group 680"/>
                <p:cNvGrpSpPr/>
                <p:nvPr/>
              </p:nvGrpSpPr>
              <p:grpSpPr>
                <a:xfrm>
                  <a:off x="2490840" y="4835520"/>
                  <a:ext cx="1190160" cy="1005840"/>
                  <a:chOff x="2490840" y="4835520"/>
                  <a:chExt cx="1190160" cy="1005840"/>
                </a:xfrm>
              </p:grpSpPr>
              <p:grpSp>
                <p:nvGrpSpPr>
                  <p:cNvPr id="846" name="Group 681"/>
                  <p:cNvGrpSpPr/>
                  <p:nvPr/>
                </p:nvGrpSpPr>
                <p:grpSpPr>
                  <a:xfrm>
                    <a:off x="3300120" y="4835520"/>
                    <a:ext cx="380880" cy="191160"/>
                    <a:chOff x="3300120" y="4835520"/>
                    <a:chExt cx="380880" cy="191160"/>
                  </a:xfrm>
                </p:grpSpPr>
                <p:sp>
                  <p:nvSpPr>
                    <p:cNvPr id="847" name="AutoShape 682"/>
                    <p:cNvSpPr/>
                    <p:nvPr/>
                  </p:nvSpPr>
                  <p:spPr>
                    <a:xfrm>
                      <a:off x="3300120" y="48355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WordArt 683"/>
                    <p:cNvSpPr txBox="1"/>
                    <p:nvPr/>
                  </p:nvSpPr>
                  <p:spPr>
                    <a:xfrm rot="15600">
                      <a:off x="3339000" y="48506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動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49" name="Group 684"/>
                  <p:cNvGrpSpPr/>
                  <p:nvPr/>
                </p:nvGrpSpPr>
                <p:grpSpPr>
                  <a:xfrm>
                    <a:off x="3181320" y="4955040"/>
                    <a:ext cx="380880" cy="191160"/>
                    <a:chOff x="3181320" y="4955040"/>
                    <a:chExt cx="380880" cy="191160"/>
                  </a:xfrm>
                </p:grpSpPr>
                <p:sp>
                  <p:nvSpPr>
                    <p:cNvPr id="850" name="AutoShape 685"/>
                    <p:cNvSpPr/>
                    <p:nvPr/>
                  </p:nvSpPr>
                  <p:spPr>
                    <a:xfrm>
                      <a:off x="3181320" y="495504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WordArt 686"/>
                    <p:cNvSpPr txBox="1"/>
                    <p:nvPr/>
                  </p:nvSpPr>
                  <p:spPr>
                    <a:xfrm rot="15600">
                      <a:off x="3220200" y="497016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心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52" name="Group 687"/>
                  <p:cNvGrpSpPr/>
                  <p:nvPr/>
                </p:nvGrpSpPr>
                <p:grpSpPr>
                  <a:xfrm>
                    <a:off x="3038760" y="5098680"/>
                    <a:ext cx="380880" cy="191160"/>
                    <a:chOff x="3038760" y="5098680"/>
                    <a:chExt cx="380880" cy="191160"/>
                  </a:xfrm>
                </p:grpSpPr>
                <p:sp>
                  <p:nvSpPr>
                    <p:cNvPr id="853" name="AutoShape 688"/>
                    <p:cNvSpPr/>
                    <p:nvPr/>
                  </p:nvSpPr>
                  <p:spPr>
                    <a:xfrm>
                      <a:off x="3038760" y="5098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WordArt 689"/>
                    <p:cNvSpPr txBox="1"/>
                    <p:nvPr/>
                  </p:nvSpPr>
                  <p:spPr>
                    <a:xfrm rot="15600">
                      <a:off x="3077640" y="5113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忍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55" name="Group 690"/>
                  <p:cNvGrpSpPr/>
                  <p:nvPr/>
                </p:nvGrpSpPr>
                <p:grpSpPr>
                  <a:xfrm>
                    <a:off x="2918880" y="5219280"/>
                    <a:ext cx="380880" cy="191160"/>
                    <a:chOff x="2918880" y="5219280"/>
                    <a:chExt cx="380880" cy="191160"/>
                  </a:xfrm>
                </p:grpSpPr>
                <p:sp>
                  <p:nvSpPr>
                    <p:cNvPr id="856" name="AutoShape 691"/>
                    <p:cNvSpPr/>
                    <p:nvPr/>
                  </p:nvSpPr>
                  <p:spPr>
                    <a:xfrm>
                      <a:off x="2918880" y="52192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WordArt 692"/>
                    <p:cNvSpPr txBox="1"/>
                    <p:nvPr/>
                  </p:nvSpPr>
                  <p:spPr>
                    <a:xfrm rot="15600">
                      <a:off x="2957760" y="52344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性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58" name="Group 693"/>
                  <p:cNvGrpSpPr/>
                  <p:nvPr/>
                </p:nvGrpSpPr>
                <p:grpSpPr>
                  <a:xfrm>
                    <a:off x="2775960" y="5362920"/>
                    <a:ext cx="380880" cy="191160"/>
                    <a:chOff x="2775960" y="5362920"/>
                    <a:chExt cx="380880" cy="191160"/>
                  </a:xfrm>
                </p:grpSpPr>
                <p:sp>
                  <p:nvSpPr>
                    <p:cNvPr id="859" name="AutoShape 694"/>
                    <p:cNvSpPr/>
                    <p:nvPr/>
                  </p:nvSpPr>
                  <p:spPr>
                    <a:xfrm>
                      <a:off x="2775960" y="536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WordArt 695"/>
                    <p:cNvSpPr txBox="1"/>
                    <p:nvPr/>
                  </p:nvSpPr>
                  <p:spPr>
                    <a:xfrm rot="15600">
                      <a:off x="2814840" y="537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曾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61" name="Group 696"/>
                  <p:cNvGrpSpPr/>
                  <p:nvPr/>
                </p:nvGrpSpPr>
                <p:grpSpPr>
                  <a:xfrm>
                    <a:off x="2633400" y="5506560"/>
                    <a:ext cx="380880" cy="191520"/>
                    <a:chOff x="2633400" y="5506560"/>
                    <a:chExt cx="380880" cy="191520"/>
                  </a:xfrm>
                </p:grpSpPr>
                <p:sp>
                  <p:nvSpPr>
                    <p:cNvPr id="862" name="AutoShape 697"/>
                    <p:cNvSpPr/>
                    <p:nvPr/>
                  </p:nvSpPr>
                  <p:spPr>
                    <a:xfrm>
                      <a:off x="2633400" y="550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WordArt 698"/>
                    <p:cNvSpPr txBox="1"/>
                    <p:nvPr/>
                  </p:nvSpPr>
                  <p:spPr>
                    <a:xfrm rot="15600">
                      <a:off x="2672280" y="552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益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64" name="Group 699"/>
                  <p:cNvGrpSpPr/>
                  <p:nvPr/>
                </p:nvGrpSpPr>
                <p:grpSpPr>
                  <a:xfrm>
                    <a:off x="2490840" y="5650200"/>
                    <a:ext cx="380880" cy="191160"/>
                    <a:chOff x="2490840" y="5650200"/>
                    <a:chExt cx="380880" cy="191160"/>
                  </a:xfrm>
                </p:grpSpPr>
                <p:sp>
                  <p:nvSpPr>
                    <p:cNvPr id="865" name="AutoShape 700"/>
                    <p:cNvSpPr/>
                    <p:nvPr/>
                  </p:nvSpPr>
                  <p:spPr>
                    <a:xfrm>
                      <a:off x="2490840" y="565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WordArt 701"/>
                    <p:cNvSpPr txBox="1"/>
                    <p:nvPr/>
                  </p:nvSpPr>
                  <p:spPr>
                    <a:xfrm rot="15600">
                      <a:off x="2529720" y="566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其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867" name="Group 702"/>
                <p:cNvGrpSpPr/>
                <p:nvPr/>
              </p:nvGrpSpPr>
              <p:grpSpPr>
                <a:xfrm>
                  <a:off x="2752920" y="4835520"/>
                  <a:ext cx="1190880" cy="1005840"/>
                  <a:chOff x="2752920" y="4835520"/>
                  <a:chExt cx="1190880" cy="1005840"/>
                </a:xfrm>
              </p:grpSpPr>
              <p:grpSp>
                <p:nvGrpSpPr>
                  <p:cNvPr id="868" name="Group 703"/>
                  <p:cNvGrpSpPr/>
                  <p:nvPr/>
                </p:nvGrpSpPr>
                <p:grpSpPr>
                  <a:xfrm>
                    <a:off x="3562560" y="4835520"/>
                    <a:ext cx="381240" cy="191160"/>
                    <a:chOff x="3562560" y="4835520"/>
                    <a:chExt cx="381240" cy="191160"/>
                  </a:xfrm>
                </p:grpSpPr>
                <p:sp>
                  <p:nvSpPr>
                    <p:cNvPr id="869" name="AutoShape 704"/>
                    <p:cNvSpPr/>
                    <p:nvPr/>
                  </p:nvSpPr>
                  <p:spPr>
                    <a:xfrm>
                      <a:off x="3562560" y="483552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WordArt 705"/>
                    <p:cNvSpPr txBox="1"/>
                    <p:nvPr/>
                  </p:nvSpPr>
                  <p:spPr>
                    <a:xfrm rot="15600">
                      <a:off x="3602160" y="485064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拂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71" name="Group 706"/>
                  <p:cNvGrpSpPr/>
                  <p:nvPr/>
                </p:nvGrpSpPr>
                <p:grpSpPr>
                  <a:xfrm>
                    <a:off x="3443760" y="4955040"/>
                    <a:ext cx="381240" cy="191160"/>
                    <a:chOff x="3443760" y="4955040"/>
                    <a:chExt cx="381240" cy="191160"/>
                  </a:xfrm>
                </p:grpSpPr>
                <p:sp>
                  <p:nvSpPr>
                    <p:cNvPr id="872" name="AutoShape 707"/>
                    <p:cNvSpPr/>
                    <p:nvPr/>
                  </p:nvSpPr>
                  <p:spPr>
                    <a:xfrm>
                      <a:off x="3443760" y="495504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WordArt 708"/>
                    <p:cNvSpPr txBox="1"/>
                    <p:nvPr/>
                  </p:nvSpPr>
                  <p:spPr>
                    <a:xfrm rot="15600">
                      <a:off x="3483360" y="497016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亂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74" name="Group 709"/>
                  <p:cNvGrpSpPr/>
                  <p:nvPr/>
                </p:nvGrpSpPr>
                <p:grpSpPr>
                  <a:xfrm>
                    <a:off x="3300840" y="5098680"/>
                    <a:ext cx="380880" cy="191160"/>
                    <a:chOff x="3300840" y="5098680"/>
                    <a:chExt cx="380880" cy="191160"/>
                  </a:xfrm>
                </p:grpSpPr>
                <p:sp>
                  <p:nvSpPr>
                    <p:cNvPr id="875" name="AutoShape 710"/>
                    <p:cNvSpPr/>
                    <p:nvPr/>
                  </p:nvSpPr>
                  <p:spPr>
                    <a:xfrm>
                      <a:off x="3300840" y="5098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WordArt 711"/>
                    <p:cNvSpPr txBox="1"/>
                    <p:nvPr/>
                  </p:nvSpPr>
                  <p:spPr>
                    <a:xfrm rot="15600">
                      <a:off x="3339720" y="5113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其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77" name="Group 712"/>
                  <p:cNvGrpSpPr/>
                  <p:nvPr/>
                </p:nvGrpSpPr>
                <p:grpSpPr>
                  <a:xfrm>
                    <a:off x="3181320" y="5219280"/>
                    <a:ext cx="381240" cy="191160"/>
                    <a:chOff x="3181320" y="5219280"/>
                    <a:chExt cx="381240" cy="191160"/>
                  </a:xfrm>
                </p:grpSpPr>
                <p:sp>
                  <p:nvSpPr>
                    <p:cNvPr id="878" name="AutoShape 713"/>
                    <p:cNvSpPr/>
                    <p:nvPr/>
                  </p:nvSpPr>
                  <p:spPr>
                    <a:xfrm>
                      <a:off x="3181320" y="521928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9" name="WordArt 714"/>
                    <p:cNvSpPr txBox="1"/>
                    <p:nvPr/>
                  </p:nvSpPr>
                  <p:spPr>
                    <a:xfrm rot="15600">
                      <a:off x="3220920" y="523440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所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80" name="Group 715"/>
                  <p:cNvGrpSpPr/>
                  <p:nvPr/>
                </p:nvGrpSpPr>
                <p:grpSpPr>
                  <a:xfrm>
                    <a:off x="3038400" y="5362920"/>
                    <a:ext cx="381240" cy="191160"/>
                    <a:chOff x="3038400" y="5362920"/>
                    <a:chExt cx="381240" cy="191160"/>
                  </a:xfrm>
                </p:grpSpPr>
                <p:sp>
                  <p:nvSpPr>
                    <p:cNvPr id="881" name="AutoShape 716"/>
                    <p:cNvSpPr/>
                    <p:nvPr/>
                  </p:nvSpPr>
                  <p:spPr>
                    <a:xfrm>
                      <a:off x="3038400" y="536292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WordArt 717"/>
                    <p:cNvSpPr txBox="1"/>
                    <p:nvPr/>
                  </p:nvSpPr>
                  <p:spPr>
                    <a:xfrm rot="15600">
                      <a:off x="3078000" y="537804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爲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83" name="Group 718"/>
                  <p:cNvGrpSpPr/>
                  <p:nvPr/>
                </p:nvGrpSpPr>
                <p:grpSpPr>
                  <a:xfrm>
                    <a:off x="2895480" y="5506560"/>
                    <a:ext cx="380880" cy="191520"/>
                    <a:chOff x="2895480" y="5506560"/>
                    <a:chExt cx="380880" cy="191520"/>
                  </a:xfrm>
                </p:grpSpPr>
                <p:sp>
                  <p:nvSpPr>
                    <p:cNvPr id="884" name="AutoShape 719"/>
                    <p:cNvSpPr/>
                    <p:nvPr/>
                  </p:nvSpPr>
                  <p:spPr>
                    <a:xfrm>
                      <a:off x="2895480" y="550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WordArt 720"/>
                    <p:cNvSpPr txBox="1"/>
                    <p:nvPr/>
                  </p:nvSpPr>
                  <p:spPr>
                    <a:xfrm rot="15600">
                      <a:off x="2934360" y="552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所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86" name="Group 721"/>
                  <p:cNvGrpSpPr/>
                  <p:nvPr/>
                </p:nvGrpSpPr>
                <p:grpSpPr>
                  <a:xfrm>
                    <a:off x="2752920" y="5650200"/>
                    <a:ext cx="381240" cy="191160"/>
                    <a:chOff x="2752920" y="5650200"/>
                    <a:chExt cx="381240" cy="191160"/>
                  </a:xfrm>
                </p:grpSpPr>
                <p:sp>
                  <p:nvSpPr>
                    <p:cNvPr id="887" name="AutoShape 722"/>
                    <p:cNvSpPr/>
                    <p:nvPr/>
                  </p:nvSpPr>
                  <p:spPr>
                    <a:xfrm>
                      <a:off x="2752920" y="565020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WordArt 723"/>
                    <p:cNvSpPr txBox="1"/>
                    <p:nvPr/>
                  </p:nvSpPr>
                  <p:spPr>
                    <a:xfrm rot="15600">
                      <a:off x="2792520" y="566532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以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889" name="Group 724"/>
                <p:cNvGrpSpPr/>
                <p:nvPr/>
              </p:nvGrpSpPr>
              <p:grpSpPr>
                <a:xfrm>
                  <a:off x="3015000" y="4835520"/>
                  <a:ext cx="1190160" cy="1005840"/>
                  <a:chOff x="3015000" y="4835520"/>
                  <a:chExt cx="1190160" cy="1005840"/>
                </a:xfrm>
              </p:grpSpPr>
              <p:grpSp>
                <p:nvGrpSpPr>
                  <p:cNvPr id="890" name="Group 725"/>
                  <p:cNvGrpSpPr/>
                  <p:nvPr/>
                </p:nvGrpSpPr>
                <p:grpSpPr>
                  <a:xfrm>
                    <a:off x="3824280" y="4835520"/>
                    <a:ext cx="380880" cy="191160"/>
                    <a:chOff x="3824280" y="4835520"/>
                    <a:chExt cx="380880" cy="191160"/>
                  </a:xfrm>
                </p:grpSpPr>
                <p:sp>
                  <p:nvSpPr>
                    <p:cNvPr id="891" name="AutoShape 726"/>
                    <p:cNvSpPr/>
                    <p:nvPr/>
                  </p:nvSpPr>
                  <p:spPr>
                    <a:xfrm>
                      <a:off x="3824280" y="48355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WordArt 727"/>
                    <p:cNvSpPr txBox="1"/>
                    <p:nvPr/>
                  </p:nvSpPr>
                  <p:spPr>
                    <a:xfrm rot="15600">
                      <a:off x="3863160" y="48506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軆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93" name="Group 728"/>
                  <p:cNvGrpSpPr/>
                  <p:nvPr/>
                </p:nvGrpSpPr>
                <p:grpSpPr>
                  <a:xfrm>
                    <a:off x="3705480" y="4955040"/>
                    <a:ext cx="380880" cy="191160"/>
                    <a:chOff x="3705480" y="4955040"/>
                    <a:chExt cx="380880" cy="191160"/>
                  </a:xfrm>
                </p:grpSpPr>
                <p:sp>
                  <p:nvSpPr>
                    <p:cNvPr id="894" name="AutoShape 729"/>
                    <p:cNvSpPr/>
                    <p:nvPr/>
                  </p:nvSpPr>
                  <p:spPr>
                    <a:xfrm>
                      <a:off x="3705480" y="495504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WordArt 730"/>
                    <p:cNvSpPr txBox="1"/>
                    <p:nvPr/>
                  </p:nvSpPr>
                  <p:spPr>
                    <a:xfrm rot="15600">
                      <a:off x="3744360" y="497016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膚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96" name="Group 731"/>
                  <p:cNvGrpSpPr/>
                  <p:nvPr/>
                </p:nvGrpSpPr>
                <p:grpSpPr>
                  <a:xfrm>
                    <a:off x="3562920" y="5098680"/>
                    <a:ext cx="380880" cy="191160"/>
                    <a:chOff x="3562920" y="5098680"/>
                    <a:chExt cx="380880" cy="191160"/>
                  </a:xfrm>
                </p:grpSpPr>
                <p:sp>
                  <p:nvSpPr>
                    <p:cNvPr id="897" name="AutoShape 732"/>
                    <p:cNvSpPr/>
                    <p:nvPr/>
                  </p:nvSpPr>
                  <p:spPr>
                    <a:xfrm>
                      <a:off x="3562920" y="5098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WordArt 733"/>
                    <p:cNvSpPr txBox="1"/>
                    <p:nvPr/>
                  </p:nvSpPr>
                  <p:spPr>
                    <a:xfrm rot="15600">
                      <a:off x="3601800" y="5113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空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899" name="Group 734"/>
                  <p:cNvGrpSpPr/>
                  <p:nvPr/>
                </p:nvGrpSpPr>
                <p:grpSpPr>
                  <a:xfrm>
                    <a:off x="3443040" y="5219280"/>
                    <a:ext cx="380880" cy="191160"/>
                    <a:chOff x="3443040" y="5219280"/>
                    <a:chExt cx="380880" cy="191160"/>
                  </a:xfrm>
                </p:grpSpPr>
                <p:sp>
                  <p:nvSpPr>
                    <p:cNvPr id="900" name="AutoShape 735"/>
                    <p:cNvSpPr/>
                    <p:nvPr/>
                  </p:nvSpPr>
                  <p:spPr>
                    <a:xfrm>
                      <a:off x="3443040" y="52192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1" name="WordArt 736"/>
                    <p:cNvSpPr txBox="1"/>
                    <p:nvPr/>
                  </p:nvSpPr>
                  <p:spPr>
                    <a:xfrm rot="15600">
                      <a:off x="3481920" y="52344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乏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02" name="Group 737"/>
                  <p:cNvGrpSpPr/>
                  <p:nvPr/>
                </p:nvGrpSpPr>
                <p:grpSpPr>
                  <a:xfrm>
                    <a:off x="3300120" y="5362920"/>
                    <a:ext cx="380880" cy="191160"/>
                    <a:chOff x="3300120" y="5362920"/>
                    <a:chExt cx="380880" cy="191160"/>
                  </a:xfrm>
                </p:grpSpPr>
                <p:sp>
                  <p:nvSpPr>
                    <p:cNvPr id="903" name="AutoShape 738"/>
                    <p:cNvSpPr/>
                    <p:nvPr/>
                  </p:nvSpPr>
                  <p:spPr>
                    <a:xfrm>
                      <a:off x="3300120" y="536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WordArt 739"/>
                    <p:cNvSpPr txBox="1"/>
                    <p:nvPr/>
                  </p:nvSpPr>
                  <p:spPr>
                    <a:xfrm rot="15600">
                      <a:off x="3339000" y="537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其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05" name="Group 740"/>
                  <p:cNvGrpSpPr/>
                  <p:nvPr/>
                </p:nvGrpSpPr>
                <p:grpSpPr>
                  <a:xfrm>
                    <a:off x="3157560" y="5506560"/>
                    <a:ext cx="380880" cy="191520"/>
                    <a:chOff x="3157560" y="5506560"/>
                    <a:chExt cx="380880" cy="191520"/>
                  </a:xfrm>
                </p:grpSpPr>
                <p:sp>
                  <p:nvSpPr>
                    <p:cNvPr id="906" name="AutoShape 741"/>
                    <p:cNvSpPr/>
                    <p:nvPr/>
                  </p:nvSpPr>
                  <p:spPr>
                    <a:xfrm>
                      <a:off x="3157560" y="550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7" name="WordArt 742"/>
                    <p:cNvSpPr txBox="1"/>
                    <p:nvPr/>
                  </p:nvSpPr>
                  <p:spPr>
                    <a:xfrm rot="15600">
                      <a:off x="3196440" y="552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身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08" name="Group 743"/>
                  <p:cNvGrpSpPr/>
                  <p:nvPr/>
                </p:nvGrpSpPr>
                <p:grpSpPr>
                  <a:xfrm>
                    <a:off x="3015000" y="5650200"/>
                    <a:ext cx="380880" cy="191160"/>
                    <a:chOff x="3015000" y="5650200"/>
                    <a:chExt cx="380880" cy="191160"/>
                  </a:xfrm>
                </p:grpSpPr>
                <p:sp>
                  <p:nvSpPr>
                    <p:cNvPr id="909" name="AutoShape 744"/>
                    <p:cNvSpPr/>
                    <p:nvPr/>
                  </p:nvSpPr>
                  <p:spPr>
                    <a:xfrm>
                      <a:off x="3015000" y="565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WordArt 745"/>
                    <p:cNvSpPr txBox="1"/>
                    <p:nvPr/>
                  </p:nvSpPr>
                  <p:spPr>
                    <a:xfrm rot="15600">
                      <a:off x="3053880" y="566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行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911" name="Group 746"/>
                <p:cNvGrpSpPr/>
                <p:nvPr/>
              </p:nvGrpSpPr>
              <p:grpSpPr>
                <a:xfrm>
                  <a:off x="3277080" y="4835520"/>
                  <a:ext cx="1190160" cy="1005840"/>
                  <a:chOff x="3277080" y="4835520"/>
                  <a:chExt cx="1190160" cy="1005840"/>
                </a:xfrm>
              </p:grpSpPr>
              <p:grpSp>
                <p:nvGrpSpPr>
                  <p:cNvPr id="912" name="Group 747"/>
                  <p:cNvGrpSpPr/>
                  <p:nvPr/>
                </p:nvGrpSpPr>
                <p:grpSpPr>
                  <a:xfrm>
                    <a:off x="4086360" y="4835520"/>
                    <a:ext cx="380880" cy="191160"/>
                    <a:chOff x="4086360" y="4835520"/>
                    <a:chExt cx="380880" cy="191160"/>
                  </a:xfrm>
                </p:grpSpPr>
                <p:sp>
                  <p:nvSpPr>
                    <p:cNvPr id="913" name="AutoShape 748"/>
                    <p:cNvSpPr/>
                    <p:nvPr/>
                  </p:nvSpPr>
                  <p:spPr>
                    <a:xfrm>
                      <a:off x="4086360" y="48355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4" name="WordArt 749"/>
                    <p:cNvSpPr txBox="1"/>
                    <p:nvPr/>
                  </p:nvSpPr>
                  <p:spPr>
                    <a:xfrm rot="15600">
                      <a:off x="4125240" y="48506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志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15" name="Group 750"/>
                  <p:cNvGrpSpPr/>
                  <p:nvPr/>
                </p:nvGrpSpPr>
                <p:grpSpPr>
                  <a:xfrm>
                    <a:off x="3967560" y="4955040"/>
                    <a:ext cx="380880" cy="191160"/>
                    <a:chOff x="3967560" y="4955040"/>
                    <a:chExt cx="380880" cy="191160"/>
                  </a:xfrm>
                </p:grpSpPr>
                <p:sp>
                  <p:nvSpPr>
                    <p:cNvPr id="916" name="AutoShape 751"/>
                    <p:cNvSpPr/>
                    <p:nvPr/>
                  </p:nvSpPr>
                  <p:spPr>
                    <a:xfrm>
                      <a:off x="3967560" y="495504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WordArt 752"/>
                    <p:cNvSpPr txBox="1"/>
                    <p:nvPr/>
                  </p:nvSpPr>
                  <p:spPr>
                    <a:xfrm rot="15600">
                      <a:off x="4006440" y="497016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劳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18" name="Group 753"/>
                  <p:cNvGrpSpPr/>
                  <p:nvPr/>
                </p:nvGrpSpPr>
                <p:grpSpPr>
                  <a:xfrm>
                    <a:off x="3825000" y="5098680"/>
                    <a:ext cx="380880" cy="191160"/>
                    <a:chOff x="3825000" y="5098680"/>
                    <a:chExt cx="380880" cy="191160"/>
                  </a:xfrm>
                </p:grpSpPr>
                <p:sp>
                  <p:nvSpPr>
                    <p:cNvPr id="919" name="AutoShape 754"/>
                    <p:cNvSpPr/>
                    <p:nvPr/>
                  </p:nvSpPr>
                  <p:spPr>
                    <a:xfrm>
                      <a:off x="3825000" y="5098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0" name="WordArt 755"/>
                    <p:cNvSpPr txBox="1"/>
                    <p:nvPr/>
                  </p:nvSpPr>
                  <p:spPr>
                    <a:xfrm rot="15600">
                      <a:off x="3863880" y="5113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其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21" name="Group 756"/>
                  <p:cNvGrpSpPr/>
                  <p:nvPr/>
                </p:nvGrpSpPr>
                <p:grpSpPr>
                  <a:xfrm>
                    <a:off x="3705120" y="5219280"/>
                    <a:ext cx="380880" cy="191160"/>
                    <a:chOff x="3705120" y="5219280"/>
                    <a:chExt cx="380880" cy="191160"/>
                  </a:xfrm>
                </p:grpSpPr>
                <p:sp>
                  <p:nvSpPr>
                    <p:cNvPr id="922" name="AutoShape 757"/>
                    <p:cNvSpPr/>
                    <p:nvPr/>
                  </p:nvSpPr>
                  <p:spPr>
                    <a:xfrm>
                      <a:off x="3705120" y="52192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3" name="WordArt 758"/>
                    <p:cNvSpPr txBox="1"/>
                    <p:nvPr/>
                  </p:nvSpPr>
                  <p:spPr>
                    <a:xfrm rot="15600">
                      <a:off x="3744000" y="52344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筋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24" name="Group 759"/>
                  <p:cNvGrpSpPr/>
                  <p:nvPr/>
                </p:nvGrpSpPr>
                <p:grpSpPr>
                  <a:xfrm>
                    <a:off x="3562200" y="5362920"/>
                    <a:ext cx="380880" cy="191160"/>
                    <a:chOff x="3562200" y="5362920"/>
                    <a:chExt cx="380880" cy="191160"/>
                  </a:xfrm>
                </p:grpSpPr>
                <p:sp>
                  <p:nvSpPr>
                    <p:cNvPr id="925" name="AutoShape 760"/>
                    <p:cNvSpPr/>
                    <p:nvPr/>
                  </p:nvSpPr>
                  <p:spPr>
                    <a:xfrm>
                      <a:off x="3562200" y="536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6" name="WordArt 761"/>
                    <p:cNvSpPr txBox="1"/>
                    <p:nvPr/>
                  </p:nvSpPr>
                  <p:spPr>
                    <a:xfrm rot="15600">
                      <a:off x="3601080" y="537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骨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27" name="Group 762"/>
                  <p:cNvGrpSpPr/>
                  <p:nvPr/>
                </p:nvGrpSpPr>
                <p:grpSpPr>
                  <a:xfrm>
                    <a:off x="3419640" y="5506560"/>
                    <a:ext cx="380880" cy="191520"/>
                    <a:chOff x="3419640" y="5506560"/>
                    <a:chExt cx="380880" cy="191520"/>
                  </a:xfrm>
                </p:grpSpPr>
                <p:sp>
                  <p:nvSpPr>
                    <p:cNvPr id="928" name="AutoShape 763"/>
                    <p:cNvSpPr/>
                    <p:nvPr/>
                  </p:nvSpPr>
                  <p:spPr>
                    <a:xfrm>
                      <a:off x="3419640" y="550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WordArt 764"/>
                    <p:cNvSpPr txBox="1"/>
                    <p:nvPr/>
                  </p:nvSpPr>
                  <p:spPr>
                    <a:xfrm rot="15600">
                      <a:off x="3458520" y="552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饿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30" name="Group 765"/>
                  <p:cNvGrpSpPr/>
                  <p:nvPr/>
                </p:nvGrpSpPr>
                <p:grpSpPr>
                  <a:xfrm>
                    <a:off x="3277080" y="5650200"/>
                    <a:ext cx="380880" cy="191160"/>
                    <a:chOff x="3277080" y="5650200"/>
                    <a:chExt cx="380880" cy="191160"/>
                  </a:xfrm>
                </p:grpSpPr>
                <p:sp>
                  <p:nvSpPr>
                    <p:cNvPr id="931" name="AutoShape 766"/>
                    <p:cNvSpPr/>
                    <p:nvPr/>
                  </p:nvSpPr>
                  <p:spPr>
                    <a:xfrm>
                      <a:off x="3277080" y="565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2" name="WordArt 767"/>
                    <p:cNvSpPr txBox="1"/>
                    <p:nvPr/>
                  </p:nvSpPr>
                  <p:spPr>
                    <a:xfrm rot="15600">
                      <a:off x="3315960" y="566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其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933" name="Group 768"/>
                <p:cNvGrpSpPr/>
                <p:nvPr/>
              </p:nvGrpSpPr>
              <p:grpSpPr>
                <a:xfrm>
                  <a:off x="3538800" y="4835520"/>
                  <a:ext cx="1190160" cy="1005840"/>
                  <a:chOff x="3538800" y="4835520"/>
                  <a:chExt cx="1190160" cy="1005840"/>
                </a:xfrm>
              </p:grpSpPr>
              <p:grpSp>
                <p:nvGrpSpPr>
                  <p:cNvPr id="934" name="Group 769"/>
                  <p:cNvGrpSpPr/>
                  <p:nvPr/>
                </p:nvGrpSpPr>
                <p:grpSpPr>
                  <a:xfrm>
                    <a:off x="4348080" y="4835520"/>
                    <a:ext cx="380880" cy="191160"/>
                    <a:chOff x="4348080" y="4835520"/>
                    <a:chExt cx="380880" cy="191160"/>
                  </a:xfrm>
                </p:grpSpPr>
                <p:sp>
                  <p:nvSpPr>
                    <p:cNvPr id="935" name="AutoShape 770"/>
                    <p:cNvSpPr/>
                    <p:nvPr/>
                  </p:nvSpPr>
                  <p:spPr>
                    <a:xfrm>
                      <a:off x="4348080" y="48355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WordArt 771"/>
                    <p:cNvSpPr txBox="1"/>
                    <p:nvPr/>
                  </p:nvSpPr>
                  <p:spPr>
                    <a:xfrm rot="15600">
                      <a:off x="4386960" y="48506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人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37" name="Group 772"/>
                  <p:cNvGrpSpPr/>
                  <p:nvPr/>
                </p:nvGrpSpPr>
                <p:grpSpPr>
                  <a:xfrm>
                    <a:off x="4229280" y="4955040"/>
                    <a:ext cx="380880" cy="191160"/>
                    <a:chOff x="4229280" y="4955040"/>
                    <a:chExt cx="380880" cy="191160"/>
                  </a:xfrm>
                </p:grpSpPr>
                <p:sp>
                  <p:nvSpPr>
                    <p:cNvPr id="938" name="AutoShape 773"/>
                    <p:cNvSpPr/>
                    <p:nvPr/>
                  </p:nvSpPr>
                  <p:spPr>
                    <a:xfrm>
                      <a:off x="4229280" y="495504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WordArt 774"/>
                    <p:cNvSpPr txBox="1"/>
                    <p:nvPr/>
                  </p:nvSpPr>
                  <p:spPr>
                    <a:xfrm rot="15600">
                      <a:off x="4268160" y="497016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也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40" name="Group 775"/>
                  <p:cNvGrpSpPr/>
                  <p:nvPr/>
                </p:nvGrpSpPr>
                <p:grpSpPr>
                  <a:xfrm>
                    <a:off x="4086720" y="5098680"/>
                    <a:ext cx="380880" cy="191160"/>
                    <a:chOff x="4086720" y="5098680"/>
                    <a:chExt cx="380880" cy="191160"/>
                  </a:xfrm>
                </p:grpSpPr>
                <p:sp>
                  <p:nvSpPr>
                    <p:cNvPr id="941" name="AutoShape 776"/>
                    <p:cNvSpPr/>
                    <p:nvPr/>
                  </p:nvSpPr>
                  <p:spPr>
                    <a:xfrm>
                      <a:off x="4086720" y="5098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WordArt 777"/>
                    <p:cNvSpPr txBox="1"/>
                    <p:nvPr/>
                  </p:nvSpPr>
                  <p:spPr>
                    <a:xfrm rot="15600">
                      <a:off x="4125600" y="5113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必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43" name="Group 778"/>
                  <p:cNvGrpSpPr/>
                  <p:nvPr/>
                </p:nvGrpSpPr>
                <p:grpSpPr>
                  <a:xfrm>
                    <a:off x="3966840" y="5219280"/>
                    <a:ext cx="380880" cy="191160"/>
                    <a:chOff x="3966840" y="5219280"/>
                    <a:chExt cx="380880" cy="191160"/>
                  </a:xfrm>
                </p:grpSpPr>
                <p:sp>
                  <p:nvSpPr>
                    <p:cNvPr id="944" name="AutoShape 779"/>
                    <p:cNvSpPr/>
                    <p:nvPr/>
                  </p:nvSpPr>
                  <p:spPr>
                    <a:xfrm>
                      <a:off x="3966840" y="52192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WordArt 780"/>
                    <p:cNvSpPr txBox="1"/>
                    <p:nvPr/>
                  </p:nvSpPr>
                  <p:spPr>
                    <a:xfrm rot="15600">
                      <a:off x="4005720" y="52344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先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46" name="Group 781"/>
                  <p:cNvGrpSpPr/>
                  <p:nvPr/>
                </p:nvGrpSpPr>
                <p:grpSpPr>
                  <a:xfrm>
                    <a:off x="3823920" y="5362920"/>
                    <a:ext cx="380880" cy="191160"/>
                    <a:chOff x="3823920" y="5362920"/>
                    <a:chExt cx="380880" cy="191160"/>
                  </a:xfrm>
                </p:grpSpPr>
                <p:sp>
                  <p:nvSpPr>
                    <p:cNvPr id="947" name="AutoShape 782"/>
                    <p:cNvSpPr/>
                    <p:nvPr/>
                  </p:nvSpPr>
                  <p:spPr>
                    <a:xfrm>
                      <a:off x="3823920" y="536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8" name="WordArt 783"/>
                    <p:cNvSpPr txBox="1"/>
                    <p:nvPr/>
                  </p:nvSpPr>
                  <p:spPr>
                    <a:xfrm rot="15600">
                      <a:off x="3862800" y="537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苦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49" name="Group 784"/>
                  <p:cNvGrpSpPr/>
                  <p:nvPr/>
                </p:nvGrpSpPr>
                <p:grpSpPr>
                  <a:xfrm>
                    <a:off x="3681360" y="5506560"/>
                    <a:ext cx="380880" cy="191520"/>
                    <a:chOff x="3681360" y="5506560"/>
                    <a:chExt cx="380880" cy="191520"/>
                  </a:xfrm>
                </p:grpSpPr>
                <p:sp>
                  <p:nvSpPr>
                    <p:cNvPr id="950" name="AutoShape 785"/>
                    <p:cNvSpPr/>
                    <p:nvPr/>
                  </p:nvSpPr>
                  <p:spPr>
                    <a:xfrm>
                      <a:off x="3681360" y="550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WordArt 786"/>
                    <p:cNvSpPr txBox="1"/>
                    <p:nvPr/>
                  </p:nvSpPr>
                  <p:spPr>
                    <a:xfrm rot="15600">
                      <a:off x="3720240" y="552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其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52" name="Group 787"/>
                  <p:cNvGrpSpPr/>
                  <p:nvPr/>
                </p:nvGrpSpPr>
                <p:grpSpPr>
                  <a:xfrm>
                    <a:off x="3538800" y="5650200"/>
                    <a:ext cx="380880" cy="191160"/>
                    <a:chOff x="3538800" y="5650200"/>
                    <a:chExt cx="380880" cy="191160"/>
                  </a:xfrm>
                </p:grpSpPr>
                <p:sp>
                  <p:nvSpPr>
                    <p:cNvPr id="953" name="AutoShape 788"/>
                    <p:cNvSpPr/>
                    <p:nvPr/>
                  </p:nvSpPr>
                  <p:spPr>
                    <a:xfrm>
                      <a:off x="3538800" y="565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4" name="WordArt 789"/>
                    <p:cNvSpPr txBox="1"/>
                    <p:nvPr/>
                  </p:nvSpPr>
                  <p:spPr>
                    <a:xfrm rot="15600">
                      <a:off x="3577680" y="566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心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955" name="Group 790"/>
                <p:cNvGrpSpPr/>
                <p:nvPr/>
              </p:nvGrpSpPr>
              <p:grpSpPr>
                <a:xfrm>
                  <a:off x="3777120" y="4835520"/>
                  <a:ext cx="1190160" cy="1005840"/>
                  <a:chOff x="3777120" y="4835520"/>
                  <a:chExt cx="1190160" cy="1005840"/>
                </a:xfrm>
              </p:grpSpPr>
              <p:grpSp>
                <p:nvGrpSpPr>
                  <p:cNvPr id="956" name="Group 791"/>
                  <p:cNvGrpSpPr/>
                  <p:nvPr/>
                </p:nvGrpSpPr>
                <p:grpSpPr>
                  <a:xfrm>
                    <a:off x="4586400" y="4835520"/>
                    <a:ext cx="380880" cy="191160"/>
                    <a:chOff x="4586400" y="4835520"/>
                    <a:chExt cx="380880" cy="191160"/>
                  </a:xfrm>
                </p:grpSpPr>
                <p:sp>
                  <p:nvSpPr>
                    <p:cNvPr id="957" name="AutoShape 792"/>
                    <p:cNvSpPr/>
                    <p:nvPr/>
                  </p:nvSpPr>
                  <p:spPr>
                    <a:xfrm>
                      <a:off x="4586400" y="48355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8" name="WordArt 793"/>
                    <p:cNvSpPr txBox="1"/>
                    <p:nvPr/>
                  </p:nvSpPr>
                  <p:spPr>
                    <a:xfrm rot="15600">
                      <a:off x="4625280" y="48506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故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59" name="Group 794"/>
                  <p:cNvGrpSpPr/>
                  <p:nvPr/>
                </p:nvGrpSpPr>
                <p:grpSpPr>
                  <a:xfrm>
                    <a:off x="4467600" y="4955040"/>
                    <a:ext cx="380880" cy="191160"/>
                    <a:chOff x="4467600" y="4955040"/>
                    <a:chExt cx="380880" cy="191160"/>
                  </a:xfrm>
                </p:grpSpPr>
                <p:sp>
                  <p:nvSpPr>
                    <p:cNvPr id="960" name="AutoShape 795"/>
                    <p:cNvSpPr/>
                    <p:nvPr/>
                  </p:nvSpPr>
                  <p:spPr>
                    <a:xfrm>
                      <a:off x="4467600" y="495504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WordArt 796"/>
                    <p:cNvSpPr txBox="1"/>
                    <p:nvPr/>
                  </p:nvSpPr>
                  <p:spPr>
                    <a:xfrm rot="15600">
                      <a:off x="4506480" y="497016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天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62" name="Group 797"/>
                  <p:cNvGrpSpPr/>
                  <p:nvPr/>
                </p:nvGrpSpPr>
                <p:grpSpPr>
                  <a:xfrm>
                    <a:off x="4325040" y="5098680"/>
                    <a:ext cx="380880" cy="191160"/>
                    <a:chOff x="4325040" y="5098680"/>
                    <a:chExt cx="380880" cy="191160"/>
                  </a:xfrm>
                </p:grpSpPr>
                <p:sp>
                  <p:nvSpPr>
                    <p:cNvPr id="963" name="AutoShape 798"/>
                    <p:cNvSpPr/>
                    <p:nvPr/>
                  </p:nvSpPr>
                  <p:spPr>
                    <a:xfrm>
                      <a:off x="4325040" y="5098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WordArt 799"/>
                    <p:cNvSpPr txBox="1"/>
                    <p:nvPr/>
                  </p:nvSpPr>
                  <p:spPr>
                    <a:xfrm rot="15600">
                      <a:off x="4363920" y="5113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降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65" name="Group 800"/>
                  <p:cNvGrpSpPr/>
                  <p:nvPr/>
                </p:nvGrpSpPr>
                <p:grpSpPr>
                  <a:xfrm>
                    <a:off x="4205160" y="5219280"/>
                    <a:ext cx="380880" cy="191160"/>
                    <a:chOff x="4205160" y="5219280"/>
                    <a:chExt cx="380880" cy="191160"/>
                  </a:xfrm>
                </p:grpSpPr>
                <p:sp>
                  <p:nvSpPr>
                    <p:cNvPr id="966" name="AutoShape 801"/>
                    <p:cNvSpPr/>
                    <p:nvPr/>
                  </p:nvSpPr>
                  <p:spPr>
                    <a:xfrm>
                      <a:off x="4205160" y="52192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7" name="WordArt 802"/>
                    <p:cNvSpPr txBox="1"/>
                    <p:nvPr/>
                  </p:nvSpPr>
                  <p:spPr>
                    <a:xfrm rot="15600">
                      <a:off x="4244040" y="52344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大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68" name="Group 803"/>
                  <p:cNvGrpSpPr/>
                  <p:nvPr/>
                </p:nvGrpSpPr>
                <p:grpSpPr>
                  <a:xfrm>
                    <a:off x="4062240" y="5362920"/>
                    <a:ext cx="380880" cy="191160"/>
                    <a:chOff x="4062240" y="5362920"/>
                    <a:chExt cx="380880" cy="191160"/>
                  </a:xfrm>
                </p:grpSpPr>
                <p:sp>
                  <p:nvSpPr>
                    <p:cNvPr id="969" name="AutoShape 804"/>
                    <p:cNvSpPr/>
                    <p:nvPr/>
                  </p:nvSpPr>
                  <p:spPr>
                    <a:xfrm>
                      <a:off x="4062240" y="536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WordArt 805"/>
                    <p:cNvSpPr txBox="1"/>
                    <p:nvPr/>
                  </p:nvSpPr>
                  <p:spPr>
                    <a:xfrm rot="15600">
                      <a:off x="4101120" y="537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任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71" name="Group 806"/>
                  <p:cNvGrpSpPr/>
                  <p:nvPr/>
                </p:nvGrpSpPr>
                <p:grpSpPr>
                  <a:xfrm>
                    <a:off x="3919680" y="5506560"/>
                    <a:ext cx="380880" cy="191520"/>
                    <a:chOff x="3919680" y="5506560"/>
                    <a:chExt cx="380880" cy="191520"/>
                  </a:xfrm>
                </p:grpSpPr>
                <p:sp>
                  <p:nvSpPr>
                    <p:cNvPr id="972" name="AutoShape 807"/>
                    <p:cNvSpPr/>
                    <p:nvPr/>
                  </p:nvSpPr>
                  <p:spPr>
                    <a:xfrm>
                      <a:off x="3919680" y="550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WordArt 808"/>
                    <p:cNvSpPr txBox="1"/>
                    <p:nvPr/>
                  </p:nvSpPr>
                  <p:spPr>
                    <a:xfrm rot="15600">
                      <a:off x="3958560" y="552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於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974" name="Group 809"/>
                  <p:cNvGrpSpPr/>
                  <p:nvPr/>
                </p:nvGrpSpPr>
                <p:grpSpPr>
                  <a:xfrm>
                    <a:off x="3777120" y="5650200"/>
                    <a:ext cx="380880" cy="191160"/>
                    <a:chOff x="3777120" y="5650200"/>
                    <a:chExt cx="380880" cy="191160"/>
                  </a:xfrm>
                </p:grpSpPr>
                <p:sp>
                  <p:nvSpPr>
                    <p:cNvPr id="975" name="AutoShape 810"/>
                    <p:cNvSpPr/>
                    <p:nvPr/>
                  </p:nvSpPr>
                  <p:spPr>
                    <a:xfrm>
                      <a:off x="3777120" y="565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WordArt 811"/>
                    <p:cNvSpPr txBox="1"/>
                    <p:nvPr/>
                  </p:nvSpPr>
                  <p:spPr>
                    <a:xfrm rot="15600">
                      <a:off x="3816000" y="566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是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</p:grpSp>
          <p:grpSp>
            <p:nvGrpSpPr>
              <p:cNvPr id="977" name="Group 812"/>
              <p:cNvGrpSpPr/>
              <p:nvPr/>
            </p:nvGrpSpPr>
            <p:grpSpPr>
              <a:xfrm>
                <a:off x="4031280" y="4835520"/>
                <a:ext cx="1190160" cy="1005840"/>
                <a:chOff x="4031280" y="4835520"/>
                <a:chExt cx="1190160" cy="1005840"/>
              </a:xfrm>
            </p:grpSpPr>
            <p:grpSp>
              <p:nvGrpSpPr>
                <p:cNvPr id="978" name="Group 813"/>
                <p:cNvGrpSpPr/>
                <p:nvPr/>
              </p:nvGrpSpPr>
              <p:grpSpPr>
                <a:xfrm>
                  <a:off x="4840560" y="4835520"/>
                  <a:ext cx="380880" cy="191160"/>
                  <a:chOff x="4840560" y="4835520"/>
                  <a:chExt cx="380880" cy="191160"/>
                </a:xfrm>
              </p:grpSpPr>
              <p:sp>
                <p:nvSpPr>
                  <p:cNvPr id="979" name="AutoShape 814"/>
                  <p:cNvSpPr/>
                  <p:nvPr/>
                </p:nvSpPr>
                <p:spPr>
                  <a:xfrm>
                    <a:off x="4840560" y="4835520"/>
                    <a:ext cx="38088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WordArt 815"/>
                  <p:cNvSpPr txBox="1"/>
                  <p:nvPr/>
                </p:nvSpPr>
                <p:spPr>
                  <a:xfrm rot="15600">
                    <a:off x="4879440" y="4850640"/>
                    <a:ext cx="31464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981" name="Group 816"/>
                <p:cNvGrpSpPr/>
                <p:nvPr/>
              </p:nvGrpSpPr>
              <p:grpSpPr>
                <a:xfrm>
                  <a:off x="4721760" y="4955040"/>
                  <a:ext cx="380880" cy="191160"/>
                  <a:chOff x="4721760" y="4955040"/>
                  <a:chExt cx="380880" cy="191160"/>
                </a:xfrm>
              </p:grpSpPr>
              <p:sp>
                <p:nvSpPr>
                  <p:cNvPr id="982" name="AutoShape 817"/>
                  <p:cNvSpPr/>
                  <p:nvPr/>
                </p:nvSpPr>
                <p:spPr>
                  <a:xfrm>
                    <a:off x="4721760" y="4955040"/>
                    <a:ext cx="38088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WordArt 818"/>
                  <p:cNvSpPr txBox="1"/>
                  <p:nvPr/>
                </p:nvSpPr>
                <p:spPr>
                  <a:xfrm rot="15600">
                    <a:off x="4760640" y="4970160"/>
                    <a:ext cx="31464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984" name="Group 819"/>
                <p:cNvGrpSpPr/>
                <p:nvPr/>
              </p:nvGrpSpPr>
              <p:grpSpPr>
                <a:xfrm>
                  <a:off x="4579200" y="5098680"/>
                  <a:ext cx="380880" cy="191160"/>
                  <a:chOff x="4579200" y="5098680"/>
                  <a:chExt cx="380880" cy="191160"/>
                </a:xfrm>
              </p:grpSpPr>
              <p:sp>
                <p:nvSpPr>
                  <p:cNvPr id="985" name="AutoShape 820"/>
                  <p:cNvSpPr/>
                  <p:nvPr/>
                </p:nvSpPr>
                <p:spPr>
                  <a:xfrm>
                    <a:off x="4579200" y="5098680"/>
                    <a:ext cx="38088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WordArt 821"/>
                  <p:cNvSpPr txBox="1"/>
                  <p:nvPr/>
                </p:nvSpPr>
                <p:spPr>
                  <a:xfrm rot="15600">
                    <a:off x="4618080" y="5113800"/>
                    <a:ext cx="31464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987" name="Group 822"/>
                <p:cNvGrpSpPr/>
                <p:nvPr/>
              </p:nvGrpSpPr>
              <p:grpSpPr>
                <a:xfrm>
                  <a:off x="4459320" y="5219280"/>
                  <a:ext cx="380880" cy="191160"/>
                  <a:chOff x="4459320" y="5219280"/>
                  <a:chExt cx="380880" cy="191160"/>
                </a:xfrm>
              </p:grpSpPr>
              <p:sp>
                <p:nvSpPr>
                  <p:cNvPr id="988" name="AutoShape 823"/>
                  <p:cNvSpPr/>
                  <p:nvPr/>
                </p:nvSpPr>
                <p:spPr>
                  <a:xfrm>
                    <a:off x="4459320" y="5219280"/>
                    <a:ext cx="38088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WordArt 824"/>
                  <p:cNvSpPr txBox="1"/>
                  <p:nvPr/>
                </p:nvSpPr>
                <p:spPr>
                  <a:xfrm rot="15600">
                    <a:off x="4498200" y="5234400"/>
                    <a:ext cx="31464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990" name="Group 825"/>
                <p:cNvGrpSpPr/>
                <p:nvPr/>
              </p:nvGrpSpPr>
              <p:grpSpPr>
                <a:xfrm>
                  <a:off x="4316400" y="5362920"/>
                  <a:ext cx="380880" cy="191160"/>
                  <a:chOff x="4316400" y="5362920"/>
                  <a:chExt cx="380880" cy="191160"/>
                </a:xfrm>
              </p:grpSpPr>
              <p:sp>
                <p:nvSpPr>
                  <p:cNvPr id="991" name="AutoShape 826"/>
                  <p:cNvSpPr/>
                  <p:nvPr/>
                </p:nvSpPr>
                <p:spPr>
                  <a:xfrm>
                    <a:off x="4316400" y="5362920"/>
                    <a:ext cx="38088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WordArt 827"/>
                  <p:cNvSpPr txBox="1"/>
                  <p:nvPr/>
                </p:nvSpPr>
                <p:spPr>
                  <a:xfrm rot="15600">
                    <a:off x="4355280" y="5378040"/>
                    <a:ext cx="31464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993" name="Group 828"/>
                <p:cNvGrpSpPr/>
                <p:nvPr/>
              </p:nvGrpSpPr>
              <p:grpSpPr>
                <a:xfrm>
                  <a:off x="4173840" y="5506560"/>
                  <a:ext cx="380880" cy="191520"/>
                  <a:chOff x="4173840" y="5506560"/>
                  <a:chExt cx="380880" cy="191520"/>
                </a:xfrm>
              </p:grpSpPr>
              <p:sp>
                <p:nvSpPr>
                  <p:cNvPr id="994" name="AutoShape 829"/>
                  <p:cNvSpPr/>
                  <p:nvPr/>
                </p:nvSpPr>
                <p:spPr>
                  <a:xfrm>
                    <a:off x="4173840" y="55065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WordArt 830"/>
                  <p:cNvSpPr txBox="1"/>
                  <p:nvPr/>
                </p:nvSpPr>
                <p:spPr>
                  <a:xfrm rot="15600">
                    <a:off x="4212720" y="55216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996" name="Group 831"/>
                <p:cNvGrpSpPr/>
                <p:nvPr/>
              </p:nvGrpSpPr>
              <p:grpSpPr>
                <a:xfrm>
                  <a:off x="4031280" y="5650200"/>
                  <a:ext cx="380880" cy="191160"/>
                  <a:chOff x="4031280" y="5650200"/>
                  <a:chExt cx="380880" cy="191160"/>
                </a:xfrm>
              </p:grpSpPr>
              <p:sp>
                <p:nvSpPr>
                  <p:cNvPr id="997" name="AutoShape 832"/>
                  <p:cNvSpPr/>
                  <p:nvPr/>
                </p:nvSpPr>
                <p:spPr>
                  <a:xfrm>
                    <a:off x="4031280" y="5650200"/>
                    <a:ext cx="38088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WordArt 833"/>
                  <p:cNvSpPr txBox="1"/>
                  <p:nvPr/>
                </p:nvSpPr>
                <p:spPr>
                  <a:xfrm rot="15600">
                    <a:off x="4070160" y="5665320"/>
                    <a:ext cx="31464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999" name="Group 834"/>
              <p:cNvGrpSpPr/>
              <p:nvPr/>
            </p:nvGrpSpPr>
            <p:grpSpPr>
              <a:xfrm>
                <a:off x="4283640" y="4835520"/>
                <a:ext cx="1190880" cy="1005840"/>
                <a:chOff x="4283640" y="4835520"/>
                <a:chExt cx="1190880" cy="1005840"/>
              </a:xfrm>
            </p:grpSpPr>
            <p:grpSp>
              <p:nvGrpSpPr>
                <p:cNvPr id="1000" name="Group 835"/>
                <p:cNvGrpSpPr/>
                <p:nvPr/>
              </p:nvGrpSpPr>
              <p:grpSpPr>
                <a:xfrm>
                  <a:off x="5093280" y="4835520"/>
                  <a:ext cx="381240" cy="191160"/>
                  <a:chOff x="5093280" y="4835520"/>
                  <a:chExt cx="381240" cy="191160"/>
                </a:xfrm>
              </p:grpSpPr>
              <p:sp>
                <p:nvSpPr>
                  <p:cNvPr id="1001" name="AutoShape 836"/>
                  <p:cNvSpPr/>
                  <p:nvPr/>
                </p:nvSpPr>
                <p:spPr>
                  <a:xfrm>
                    <a:off x="5093280" y="483552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WordArt 837"/>
                  <p:cNvSpPr txBox="1"/>
                  <p:nvPr/>
                </p:nvSpPr>
                <p:spPr>
                  <a:xfrm rot="15600">
                    <a:off x="5132880" y="485064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003" name="Group 838"/>
                <p:cNvGrpSpPr/>
                <p:nvPr/>
              </p:nvGrpSpPr>
              <p:grpSpPr>
                <a:xfrm>
                  <a:off x="4974480" y="4955040"/>
                  <a:ext cx="381240" cy="191160"/>
                  <a:chOff x="4974480" y="4955040"/>
                  <a:chExt cx="381240" cy="191160"/>
                </a:xfrm>
              </p:grpSpPr>
              <p:sp>
                <p:nvSpPr>
                  <p:cNvPr id="1004" name="AutoShape 839"/>
                  <p:cNvSpPr/>
                  <p:nvPr/>
                </p:nvSpPr>
                <p:spPr>
                  <a:xfrm>
                    <a:off x="4974480" y="495504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WordArt 840"/>
                  <p:cNvSpPr txBox="1"/>
                  <p:nvPr/>
                </p:nvSpPr>
                <p:spPr>
                  <a:xfrm rot="15600">
                    <a:off x="5014080" y="497016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006" name="Group 841"/>
                <p:cNvGrpSpPr/>
                <p:nvPr/>
              </p:nvGrpSpPr>
              <p:grpSpPr>
                <a:xfrm>
                  <a:off x="4831560" y="5098680"/>
                  <a:ext cx="380880" cy="191160"/>
                  <a:chOff x="4831560" y="5098680"/>
                  <a:chExt cx="380880" cy="191160"/>
                </a:xfrm>
              </p:grpSpPr>
              <p:sp>
                <p:nvSpPr>
                  <p:cNvPr id="1007" name="AutoShape 842"/>
                  <p:cNvSpPr/>
                  <p:nvPr/>
                </p:nvSpPr>
                <p:spPr>
                  <a:xfrm>
                    <a:off x="4831560" y="5098680"/>
                    <a:ext cx="38088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WordArt 843"/>
                  <p:cNvSpPr txBox="1"/>
                  <p:nvPr/>
                </p:nvSpPr>
                <p:spPr>
                  <a:xfrm rot="15600">
                    <a:off x="4870440" y="5113800"/>
                    <a:ext cx="31464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009" name="Group 844"/>
                <p:cNvGrpSpPr/>
                <p:nvPr/>
              </p:nvGrpSpPr>
              <p:grpSpPr>
                <a:xfrm>
                  <a:off x="4712040" y="5219280"/>
                  <a:ext cx="381240" cy="191160"/>
                  <a:chOff x="4712040" y="5219280"/>
                  <a:chExt cx="381240" cy="191160"/>
                </a:xfrm>
              </p:grpSpPr>
              <p:sp>
                <p:nvSpPr>
                  <p:cNvPr id="1010" name="AutoShape 845"/>
                  <p:cNvSpPr/>
                  <p:nvPr/>
                </p:nvSpPr>
                <p:spPr>
                  <a:xfrm>
                    <a:off x="4712040" y="521928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WordArt 846"/>
                  <p:cNvSpPr txBox="1"/>
                  <p:nvPr/>
                </p:nvSpPr>
                <p:spPr>
                  <a:xfrm rot="15600">
                    <a:off x="4751640" y="523440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012" name="Group 847"/>
                <p:cNvGrpSpPr/>
                <p:nvPr/>
              </p:nvGrpSpPr>
              <p:grpSpPr>
                <a:xfrm>
                  <a:off x="4569120" y="5362920"/>
                  <a:ext cx="381240" cy="191160"/>
                  <a:chOff x="4569120" y="5362920"/>
                  <a:chExt cx="381240" cy="191160"/>
                </a:xfrm>
              </p:grpSpPr>
              <p:sp>
                <p:nvSpPr>
                  <p:cNvPr id="1013" name="AutoShape 848"/>
                  <p:cNvSpPr/>
                  <p:nvPr/>
                </p:nvSpPr>
                <p:spPr>
                  <a:xfrm>
                    <a:off x="4569120" y="536292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WordArt 849"/>
                  <p:cNvSpPr txBox="1"/>
                  <p:nvPr/>
                </p:nvSpPr>
                <p:spPr>
                  <a:xfrm rot="15600">
                    <a:off x="4608720" y="537804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015" name="Group 850"/>
                <p:cNvGrpSpPr/>
                <p:nvPr/>
              </p:nvGrpSpPr>
              <p:grpSpPr>
                <a:xfrm>
                  <a:off x="4426200" y="5506560"/>
                  <a:ext cx="380880" cy="191520"/>
                  <a:chOff x="4426200" y="5506560"/>
                  <a:chExt cx="380880" cy="191520"/>
                </a:xfrm>
              </p:grpSpPr>
              <p:sp>
                <p:nvSpPr>
                  <p:cNvPr id="1016" name="AutoShape 851"/>
                  <p:cNvSpPr/>
                  <p:nvPr/>
                </p:nvSpPr>
                <p:spPr>
                  <a:xfrm>
                    <a:off x="4426200" y="55065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WordArt 852"/>
                  <p:cNvSpPr txBox="1"/>
                  <p:nvPr/>
                </p:nvSpPr>
                <p:spPr>
                  <a:xfrm rot="15600">
                    <a:off x="4465080" y="55216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018" name="Group 853"/>
                <p:cNvGrpSpPr/>
                <p:nvPr/>
              </p:nvGrpSpPr>
              <p:grpSpPr>
                <a:xfrm>
                  <a:off x="4283640" y="5650200"/>
                  <a:ext cx="381240" cy="191160"/>
                  <a:chOff x="4283640" y="5650200"/>
                  <a:chExt cx="381240" cy="191160"/>
                </a:xfrm>
              </p:grpSpPr>
              <p:sp>
                <p:nvSpPr>
                  <p:cNvPr id="1019" name="AutoShape 854"/>
                  <p:cNvSpPr/>
                  <p:nvPr/>
                </p:nvSpPr>
                <p:spPr>
                  <a:xfrm>
                    <a:off x="4283640" y="565020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WordArt 855"/>
                  <p:cNvSpPr txBox="1"/>
                  <p:nvPr/>
                </p:nvSpPr>
                <p:spPr>
                  <a:xfrm rot="15600">
                    <a:off x="4323240" y="566532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1021" name="Group 856"/>
              <p:cNvGrpSpPr/>
              <p:nvPr/>
            </p:nvGrpSpPr>
            <p:grpSpPr>
              <a:xfrm>
                <a:off x="4536000" y="4835520"/>
                <a:ext cx="1190880" cy="1005840"/>
                <a:chOff x="4536000" y="4835520"/>
                <a:chExt cx="1190880" cy="1005840"/>
              </a:xfrm>
            </p:grpSpPr>
            <p:grpSp>
              <p:nvGrpSpPr>
                <p:cNvPr id="1022" name="Group 857"/>
                <p:cNvGrpSpPr/>
                <p:nvPr/>
              </p:nvGrpSpPr>
              <p:grpSpPr>
                <a:xfrm>
                  <a:off x="5345640" y="4835520"/>
                  <a:ext cx="381240" cy="191160"/>
                  <a:chOff x="5345640" y="4835520"/>
                  <a:chExt cx="381240" cy="191160"/>
                </a:xfrm>
              </p:grpSpPr>
              <p:sp>
                <p:nvSpPr>
                  <p:cNvPr id="1023" name="AutoShape 858"/>
                  <p:cNvSpPr/>
                  <p:nvPr/>
                </p:nvSpPr>
                <p:spPr>
                  <a:xfrm>
                    <a:off x="5345640" y="483552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WordArt 859"/>
                  <p:cNvSpPr txBox="1"/>
                  <p:nvPr/>
                </p:nvSpPr>
                <p:spPr>
                  <a:xfrm rot="15600">
                    <a:off x="5385240" y="485064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困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025" name="Group 860"/>
                <p:cNvGrpSpPr/>
                <p:nvPr/>
              </p:nvGrpSpPr>
              <p:grpSpPr>
                <a:xfrm>
                  <a:off x="5226840" y="4955040"/>
                  <a:ext cx="381240" cy="191160"/>
                  <a:chOff x="5226840" y="4955040"/>
                  <a:chExt cx="381240" cy="191160"/>
                </a:xfrm>
              </p:grpSpPr>
              <p:sp>
                <p:nvSpPr>
                  <p:cNvPr id="1026" name="AutoShape 861"/>
                  <p:cNvSpPr/>
                  <p:nvPr/>
                </p:nvSpPr>
                <p:spPr>
                  <a:xfrm>
                    <a:off x="5226840" y="495504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WordArt 862"/>
                  <p:cNvSpPr txBox="1"/>
                  <p:nvPr/>
                </p:nvSpPr>
                <p:spPr>
                  <a:xfrm rot="15600">
                    <a:off x="5266440" y="497016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於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028" name="Group 863"/>
                <p:cNvGrpSpPr/>
                <p:nvPr/>
              </p:nvGrpSpPr>
              <p:grpSpPr>
                <a:xfrm>
                  <a:off x="5083920" y="5098680"/>
                  <a:ext cx="380880" cy="191160"/>
                  <a:chOff x="5083920" y="5098680"/>
                  <a:chExt cx="380880" cy="191160"/>
                </a:xfrm>
              </p:grpSpPr>
              <p:sp>
                <p:nvSpPr>
                  <p:cNvPr id="1029" name="AutoShape 864"/>
                  <p:cNvSpPr/>
                  <p:nvPr/>
                </p:nvSpPr>
                <p:spPr>
                  <a:xfrm>
                    <a:off x="5083920" y="5098680"/>
                    <a:ext cx="38088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WordArt 865"/>
                  <p:cNvSpPr txBox="1"/>
                  <p:nvPr/>
                </p:nvSpPr>
                <p:spPr>
                  <a:xfrm rot="15600">
                    <a:off x="5122800" y="5113800"/>
                    <a:ext cx="31464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心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031" name="Group 866"/>
                <p:cNvGrpSpPr/>
                <p:nvPr/>
              </p:nvGrpSpPr>
              <p:grpSpPr>
                <a:xfrm>
                  <a:off x="4964400" y="5219280"/>
                  <a:ext cx="381240" cy="191160"/>
                  <a:chOff x="4964400" y="5219280"/>
                  <a:chExt cx="381240" cy="191160"/>
                </a:xfrm>
              </p:grpSpPr>
              <p:sp>
                <p:nvSpPr>
                  <p:cNvPr id="1032" name="AutoShape 867"/>
                  <p:cNvSpPr/>
                  <p:nvPr/>
                </p:nvSpPr>
                <p:spPr>
                  <a:xfrm>
                    <a:off x="4964400" y="521928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WordArt 868"/>
                  <p:cNvSpPr txBox="1"/>
                  <p:nvPr/>
                </p:nvSpPr>
                <p:spPr>
                  <a:xfrm rot="15600">
                    <a:off x="5004000" y="523440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衡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034" name="Group 869"/>
                <p:cNvGrpSpPr/>
                <p:nvPr/>
              </p:nvGrpSpPr>
              <p:grpSpPr>
                <a:xfrm>
                  <a:off x="4821480" y="5362920"/>
                  <a:ext cx="381240" cy="191160"/>
                  <a:chOff x="4821480" y="5362920"/>
                  <a:chExt cx="381240" cy="191160"/>
                </a:xfrm>
              </p:grpSpPr>
              <p:sp>
                <p:nvSpPr>
                  <p:cNvPr id="1035" name="AutoShape 870"/>
                  <p:cNvSpPr/>
                  <p:nvPr/>
                </p:nvSpPr>
                <p:spPr>
                  <a:xfrm>
                    <a:off x="4821480" y="536292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WordArt 871"/>
                  <p:cNvSpPr txBox="1"/>
                  <p:nvPr/>
                </p:nvSpPr>
                <p:spPr>
                  <a:xfrm rot="15600">
                    <a:off x="4861080" y="537804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於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037" name="Group 872"/>
                <p:cNvGrpSpPr/>
                <p:nvPr/>
              </p:nvGrpSpPr>
              <p:grpSpPr>
                <a:xfrm>
                  <a:off x="4678560" y="5506560"/>
                  <a:ext cx="380880" cy="191520"/>
                  <a:chOff x="4678560" y="5506560"/>
                  <a:chExt cx="380880" cy="191520"/>
                </a:xfrm>
              </p:grpSpPr>
              <p:sp>
                <p:nvSpPr>
                  <p:cNvPr id="1038" name="AutoShape 873"/>
                  <p:cNvSpPr/>
                  <p:nvPr/>
                </p:nvSpPr>
                <p:spPr>
                  <a:xfrm>
                    <a:off x="4678560" y="55065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WordArt 874"/>
                  <p:cNvSpPr txBox="1"/>
                  <p:nvPr/>
                </p:nvSpPr>
                <p:spPr>
                  <a:xfrm rot="15600">
                    <a:off x="4717440" y="55216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虑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040" name="Group 875"/>
                <p:cNvGrpSpPr/>
                <p:nvPr/>
              </p:nvGrpSpPr>
              <p:grpSpPr>
                <a:xfrm>
                  <a:off x="4536000" y="5650200"/>
                  <a:ext cx="381240" cy="191160"/>
                  <a:chOff x="4536000" y="5650200"/>
                  <a:chExt cx="381240" cy="191160"/>
                </a:xfrm>
              </p:grpSpPr>
              <p:sp>
                <p:nvSpPr>
                  <p:cNvPr id="1041" name="AutoShape 876"/>
                  <p:cNvSpPr/>
                  <p:nvPr/>
                </p:nvSpPr>
                <p:spPr>
                  <a:xfrm>
                    <a:off x="4536000" y="565020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WordArt 877"/>
                  <p:cNvSpPr txBox="1"/>
                  <p:nvPr/>
                </p:nvSpPr>
                <p:spPr>
                  <a:xfrm rot="15600">
                    <a:off x="4575600" y="566532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而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</p:grpSp>
        <p:sp>
          <p:nvSpPr>
            <p:cNvPr id="1043" name="Rectangle 878"/>
            <p:cNvSpPr/>
            <p:nvPr/>
          </p:nvSpPr>
          <p:spPr>
            <a:xfrm>
              <a:off x="395280" y="5770440"/>
              <a:ext cx="4430160" cy="10764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AutoShape 879"/>
            <p:cNvSpPr/>
            <p:nvPr/>
          </p:nvSpPr>
          <p:spPr>
            <a:xfrm flipH="1" rot="16200000">
              <a:off x="4770000" y="4886280"/>
              <a:ext cx="1041120" cy="936720"/>
            </a:xfrm>
            <a:prstGeom prst="parallelogram">
              <a:avLst>
                <a:gd name="adj" fmla="val 100149"/>
              </a:avLst>
            </a:prstGeom>
            <a:solidFill>
              <a:srgbClr val="5f5f5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5" name="AutoShape 880"/>
          <p:cNvSpPr/>
          <p:nvPr/>
        </p:nvSpPr>
        <p:spPr>
          <a:xfrm>
            <a:off x="5977080" y="944640"/>
            <a:ext cx="252360" cy="720720"/>
          </a:xfrm>
          <a:custGeom>
            <a:avLst/>
            <a:gdLst>
              <a:gd name="textAreaLeft" fmla="*/ 33840 w 252360"/>
              <a:gd name="textAreaRight" fmla="*/ 218520 w 25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AutoShape 881"/>
          <p:cNvSpPr/>
          <p:nvPr/>
        </p:nvSpPr>
        <p:spPr>
          <a:xfrm>
            <a:off x="5977080" y="2457360"/>
            <a:ext cx="252360" cy="720720"/>
          </a:xfrm>
          <a:custGeom>
            <a:avLst/>
            <a:gdLst>
              <a:gd name="textAreaLeft" fmla="*/ 33840 w 252360"/>
              <a:gd name="textAreaRight" fmla="*/ 218520 w 25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AutoShape 882"/>
          <p:cNvSpPr/>
          <p:nvPr/>
        </p:nvSpPr>
        <p:spPr>
          <a:xfrm>
            <a:off x="6012000" y="3933720"/>
            <a:ext cx="252360" cy="720720"/>
          </a:xfrm>
          <a:custGeom>
            <a:avLst/>
            <a:gdLst>
              <a:gd name="textAreaLeft" fmla="*/ 33840 w 252360"/>
              <a:gd name="textAreaRight" fmla="*/ 218520 w 25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Rectangle 883"/>
          <p:cNvSpPr/>
          <p:nvPr/>
        </p:nvSpPr>
        <p:spPr>
          <a:xfrm>
            <a:off x="6480000" y="29700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用胶泥刻字，薄如钱唇，每字为一印，火烧令坚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884"/>
          <p:cNvSpPr/>
          <p:nvPr/>
        </p:nvSpPr>
        <p:spPr>
          <a:xfrm>
            <a:off x="6516720" y="170028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先设一铁板，其上以松脂、蜡和纸灰之类冒之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Rectangle 885"/>
          <p:cNvSpPr/>
          <p:nvPr/>
        </p:nvSpPr>
        <p:spPr>
          <a:xfrm>
            <a:off x="6516720" y="3321000"/>
            <a:ext cx="24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欲印，则以一铁范置铁板上，乃密布字印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886"/>
          <p:cNvSpPr/>
          <p:nvPr/>
        </p:nvSpPr>
        <p:spPr>
          <a:xfrm>
            <a:off x="6516720" y="4941720"/>
            <a:ext cx="24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满铁范为一板，持就火炀之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AutoShape 887"/>
          <p:cNvSpPr/>
          <p:nvPr/>
        </p:nvSpPr>
        <p:spPr>
          <a:xfrm>
            <a:off x="6084720" y="5481720"/>
            <a:ext cx="252720" cy="720720"/>
          </a:xfrm>
          <a:custGeom>
            <a:avLst/>
            <a:gdLst>
              <a:gd name="textAreaLeft" fmla="*/ 33840 w 252720"/>
              <a:gd name="textAreaRight" fmla="*/ 218880 w 25272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3" name="Group 888"/>
          <p:cNvGrpSpPr/>
          <p:nvPr/>
        </p:nvGrpSpPr>
        <p:grpSpPr>
          <a:xfrm>
            <a:off x="4896000" y="3392640"/>
            <a:ext cx="380880" cy="191880"/>
            <a:chOff x="4896000" y="3392640"/>
            <a:chExt cx="380880" cy="191880"/>
          </a:xfrm>
        </p:grpSpPr>
        <p:sp>
          <p:nvSpPr>
            <p:cNvPr id="1054" name="AutoShape 889"/>
            <p:cNvSpPr/>
            <p:nvPr/>
          </p:nvSpPr>
          <p:spPr>
            <a:xfrm>
              <a:off x="4896000" y="3392640"/>
              <a:ext cx="380880" cy="191880"/>
            </a:xfrm>
            <a:prstGeom prst="cube">
              <a:avLst>
                <a:gd name="adj" fmla="val 66597"/>
              </a:avLst>
            </a:prstGeom>
            <a:solidFill>
              <a:srgbClr val="ffcc99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WordArt 890"/>
            <p:cNvSpPr txBox="1"/>
            <p:nvPr/>
          </p:nvSpPr>
          <p:spPr>
            <a:xfrm rot="15600">
              <a:off x="4934880" y="3407760"/>
              <a:ext cx="314640" cy="88920"/>
            </a:xfrm>
            <a:prstGeom prst="rect">
              <a:avLst/>
            </a:prstGeom>
          </p:spPr>
          <p:txBody>
            <a:bodyPr wrap="none" lIns="90000" rIns="90000" tIns="42480" bIns="42480" anchor="t" anchorCtr="1">
              <a:prstTxWarp prst="textPlain">
                <a:avLst>
                  <a:gd name="adj" fmla="val 6931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1" strike="noStrike">
                  <a:ln w="9360">
                    <a:solidFill>
                      <a:srgbClr val="cc9900"/>
                    </a:solidFill>
                    <a:round/>
                  </a:ln>
                  <a:solidFill>
                    <a:srgbClr val="ffcc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宋体"/>
                </a:rPr>
                <a:t>任</a:t>
              </a:r>
              <a:endParaRPr b="0" i="1" lang="en-US" sz="1800" spc="1" strike="noStrike">
                <a:ln w="9360">
                  <a:solidFill>
                    <a:srgbClr val="cc9900"/>
                  </a:solidFill>
                  <a:round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1056" name="Group 891"/>
          <p:cNvGrpSpPr/>
          <p:nvPr/>
        </p:nvGrpSpPr>
        <p:grpSpPr>
          <a:xfrm>
            <a:off x="4751280" y="3537000"/>
            <a:ext cx="381240" cy="190440"/>
            <a:chOff x="4751280" y="3537000"/>
            <a:chExt cx="381240" cy="190440"/>
          </a:xfrm>
        </p:grpSpPr>
        <p:sp>
          <p:nvSpPr>
            <p:cNvPr id="1057" name="AutoShape 892"/>
            <p:cNvSpPr/>
            <p:nvPr/>
          </p:nvSpPr>
          <p:spPr>
            <a:xfrm>
              <a:off x="4751280" y="3537000"/>
              <a:ext cx="381240" cy="190440"/>
            </a:xfrm>
            <a:prstGeom prst="cube">
              <a:avLst>
                <a:gd name="adj" fmla="val 66597"/>
              </a:avLst>
            </a:prstGeom>
            <a:solidFill>
              <a:srgbClr val="ffcc99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WordArt 893"/>
            <p:cNvSpPr txBox="1"/>
            <p:nvPr/>
          </p:nvSpPr>
          <p:spPr>
            <a:xfrm rot="15600">
              <a:off x="4790880" y="3551760"/>
              <a:ext cx="315000" cy="88200"/>
            </a:xfrm>
            <a:prstGeom prst="rect">
              <a:avLst/>
            </a:prstGeom>
          </p:spPr>
          <p:txBody>
            <a:bodyPr wrap="none" lIns="90000" rIns="90000" tIns="41760" bIns="41760" anchor="t" anchorCtr="1">
              <a:prstTxWarp prst="textPlain">
                <a:avLst>
                  <a:gd name="adj" fmla="val 6931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1" strike="noStrike">
                  <a:ln w="9360">
                    <a:solidFill>
                      <a:srgbClr val="cc9900"/>
                    </a:solidFill>
                    <a:round/>
                  </a:ln>
                  <a:solidFill>
                    <a:srgbClr val="ffcc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宋体"/>
                </a:rPr>
                <a:t>於</a:t>
              </a:r>
              <a:endParaRPr b="0" i="1" lang="en-US" sz="1800" spc="1" strike="noStrike">
                <a:ln w="9360">
                  <a:solidFill>
                    <a:srgbClr val="cc9900"/>
                  </a:solidFill>
                  <a:round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1059" name="Group 894"/>
          <p:cNvGrpSpPr/>
          <p:nvPr/>
        </p:nvGrpSpPr>
        <p:grpSpPr>
          <a:xfrm>
            <a:off x="4608360" y="3681360"/>
            <a:ext cx="381240" cy="192240"/>
            <a:chOff x="4608360" y="3681360"/>
            <a:chExt cx="381240" cy="192240"/>
          </a:xfrm>
        </p:grpSpPr>
        <p:sp>
          <p:nvSpPr>
            <p:cNvPr id="1060" name="AutoShape 895"/>
            <p:cNvSpPr/>
            <p:nvPr/>
          </p:nvSpPr>
          <p:spPr>
            <a:xfrm>
              <a:off x="4608360" y="3681360"/>
              <a:ext cx="381240" cy="192240"/>
            </a:xfrm>
            <a:prstGeom prst="cube">
              <a:avLst>
                <a:gd name="adj" fmla="val 66597"/>
              </a:avLst>
            </a:prstGeom>
            <a:solidFill>
              <a:srgbClr val="ffcc99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WordArt 896"/>
            <p:cNvSpPr txBox="1"/>
            <p:nvPr/>
          </p:nvSpPr>
          <p:spPr>
            <a:xfrm rot="15600">
              <a:off x="4647960" y="3696480"/>
              <a:ext cx="315000" cy="89280"/>
            </a:xfrm>
            <a:prstGeom prst="rect">
              <a:avLst/>
            </a:prstGeom>
          </p:spPr>
          <p:txBody>
            <a:bodyPr wrap="none" lIns="90000" rIns="90000" tIns="42840" bIns="42840" anchor="t" anchorCtr="1">
              <a:prstTxWarp prst="textPlain">
                <a:avLst>
                  <a:gd name="adj" fmla="val 6931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1" strike="noStrike">
                  <a:ln w="9360">
                    <a:solidFill>
                      <a:srgbClr val="cc9900"/>
                    </a:solidFill>
                    <a:round/>
                  </a:ln>
                  <a:solidFill>
                    <a:srgbClr val="ffcc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宋体"/>
                </a:rPr>
                <a:t>是</a:t>
              </a:r>
              <a:endParaRPr b="0" i="1" lang="en-US" sz="1800" spc="1" strike="noStrike">
                <a:ln w="9360">
                  <a:solidFill>
                    <a:srgbClr val="cc9900"/>
                  </a:solidFill>
                  <a:round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8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0"/>
                            </p:stCondLst>
                            <p:childTnLst>
                              <p:par>
                                <p:cTn id="38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500"/>
                            </p:stCondLst>
                            <p:childTnLst>
                              <p:par>
                                <p:cTn id="395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1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8500"/>
                            </p:stCondLst>
                            <p:childTnLst>
                              <p:par>
                                <p:cTn id="40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4.81481E-006 L 0.32674 -4.81481E-006 E">
                                      <p:cBhvr>
                                        <p:cTn id="404" dur="5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9000"/>
                            </p:stCondLst>
                            <p:childTnLst>
                              <p:par>
                                <p:cTn id="406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07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9500"/>
                            </p:stCondLst>
                            <p:childTnLst>
                              <p:par>
                                <p:cTn id="40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1.48148E-006 L 0.18907 -1.48148E-006 E">
                                      <p:cBhvr>
                                        <p:cTn id="410" dur="5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48148E-006 L 0.32292 0.04745 E">
                                      <p:cBhvr>
                                        <p:cTn id="413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0.25209 0.04745 E">
                                      <p:cBhvr>
                                        <p:cTn id="416" dur="5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L 0.18907 0.04745 E">
                                      <p:cBhvr>
                                        <p:cTn id="419" dur="5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"/>
                            </p:stCondLst>
                            <p:childTnLst>
                              <p:par>
                                <p:cTn id="425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7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1"/>
                            </p:stCondLst>
                            <p:childTnLst>
                              <p:par>
                                <p:cTn id="42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1"/>
                            </p:stCondLst>
                            <p:childTnLst>
                              <p:par>
                                <p:cTn id="43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"/>
                            </p:stCondLst>
                            <p:childTnLst>
                              <p:par>
                                <p:cTn id="441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3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1"/>
                            </p:stCondLst>
                            <p:childTnLst>
                              <p:par>
                                <p:cTn id="445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1"/>
                            </p:stCondLst>
                            <p:childTnLst>
                              <p:par>
                                <p:cTn id="449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501"/>
                            </p:stCondLst>
                            <p:childTnLst>
                              <p:par>
                                <p:cTn id="454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6501"/>
                            </p:stCondLst>
                            <p:childTnLst>
                              <p:par>
                                <p:cTn id="459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"/>
                            </p:stCondLst>
                            <p:childTnLst>
                              <p:par>
                                <p:cTn id="468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0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1"/>
                            </p:stCondLst>
                            <p:childTnLst>
                              <p:par>
                                <p:cTn id="472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1"/>
                            </p:stCondLst>
                            <p:childTnLst>
                              <p:par>
                                <p:cTn id="47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8" dur="10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1"/>
                            </p:stCondLst>
                            <p:childTnLst>
                              <p:par>
                                <p:cTn id="480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2"/>
          <p:cNvGrpSpPr/>
          <p:nvPr/>
        </p:nvGrpSpPr>
        <p:grpSpPr>
          <a:xfrm>
            <a:off x="358920" y="693720"/>
            <a:ext cx="5363640" cy="1044360"/>
            <a:chOff x="358920" y="693720"/>
            <a:chExt cx="5363640" cy="1044360"/>
          </a:xfrm>
        </p:grpSpPr>
        <p:grpSp>
          <p:nvGrpSpPr>
            <p:cNvPr id="1063" name="Group 3"/>
            <p:cNvGrpSpPr/>
            <p:nvPr/>
          </p:nvGrpSpPr>
          <p:grpSpPr>
            <a:xfrm>
              <a:off x="358920" y="695160"/>
              <a:ext cx="5331600" cy="1006200"/>
              <a:chOff x="358920" y="695160"/>
              <a:chExt cx="5331600" cy="1006200"/>
            </a:xfrm>
          </p:grpSpPr>
          <p:grpSp>
            <p:nvGrpSpPr>
              <p:cNvPr id="1064" name="Group 4"/>
              <p:cNvGrpSpPr/>
              <p:nvPr/>
            </p:nvGrpSpPr>
            <p:grpSpPr>
              <a:xfrm>
                <a:off x="358920" y="695160"/>
                <a:ext cx="4572000" cy="1006200"/>
                <a:chOff x="358920" y="695160"/>
                <a:chExt cx="4572000" cy="1006200"/>
              </a:xfrm>
            </p:grpSpPr>
            <p:grpSp>
              <p:nvGrpSpPr>
                <p:cNvPr id="1065" name="Group 5"/>
                <p:cNvGrpSpPr/>
                <p:nvPr/>
              </p:nvGrpSpPr>
              <p:grpSpPr>
                <a:xfrm>
                  <a:off x="358920" y="695160"/>
                  <a:ext cx="1190160" cy="1006200"/>
                  <a:chOff x="358920" y="695160"/>
                  <a:chExt cx="1190160" cy="1006200"/>
                </a:xfrm>
              </p:grpSpPr>
              <p:grpSp>
                <p:nvGrpSpPr>
                  <p:cNvPr id="1066" name="Group 6"/>
                  <p:cNvGrpSpPr/>
                  <p:nvPr/>
                </p:nvGrpSpPr>
                <p:grpSpPr>
                  <a:xfrm>
                    <a:off x="1168200" y="695160"/>
                    <a:ext cx="380880" cy="191160"/>
                    <a:chOff x="1168200" y="695160"/>
                    <a:chExt cx="380880" cy="191160"/>
                  </a:xfrm>
                </p:grpSpPr>
                <p:sp>
                  <p:nvSpPr>
                    <p:cNvPr id="1067" name="AutoShape 7"/>
                    <p:cNvSpPr/>
                    <p:nvPr/>
                  </p:nvSpPr>
                  <p:spPr>
                    <a:xfrm>
                      <a:off x="1168200" y="69516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8" name="WordArt 8"/>
                    <p:cNvSpPr txBox="1"/>
                    <p:nvPr/>
                  </p:nvSpPr>
                  <p:spPr>
                    <a:xfrm rot="15600">
                      <a:off x="1207080" y="71028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敵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069" name="Group 9"/>
                  <p:cNvGrpSpPr/>
                  <p:nvPr/>
                </p:nvGrpSpPr>
                <p:grpSpPr>
                  <a:xfrm>
                    <a:off x="1049400" y="814680"/>
                    <a:ext cx="380880" cy="191160"/>
                    <a:chOff x="1049400" y="814680"/>
                    <a:chExt cx="380880" cy="191160"/>
                  </a:xfrm>
                </p:grpSpPr>
                <p:sp>
                  <p:nvSpPr>
                    <p:cNvPr id="1070" name="AutoShape 10"/>
                    <p:cNvSpPr/>
                    <p:nvPr/>
                  </p:nvSpPr>
                  <p:spPr>
                    <a:xfrm>
                      <a:off x="1049400" y="814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WordArt 11"/>
                    <p:cNvSpPr txBox="1"/>
                    <p:nvPr/>
                  </p:nvSpPr>
                  <p:spPr>
                    <a:xfrm rot="15600">
                      <a:off x="1088280" y="829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國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072" name="Group 12"/>
                  <p:cNvGrpSpPr/>
                  <p:nvPr/>
                </p:nvGrpSpPr>
                <p:grpSpPr>
                  <a:xfrm>
                    <a:off x="906840" y="958320"/>
                    <a:ext cx="380880" cy="191160"/>
                    <a:chOff x="906840" y="958320"/>
                    <a:chExt cx="380880" cy="191160"/>
                  </a:xfrm>
                </p:grpSpPr>
                <p:sp>
                  <p:nvSpPr>
                    <p:cNvPr id="1073" name="AutoShape 13"/>
                    <p:cNvSpPr/>
                    <p:nvPr/>
                  </p:nvSpPr>
                  <p:spPr>
                    <a:xfrm>
                      <a:off x="906840" y="9583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4" name="WordArt 14"/>
                    <p:cNvSpPr txBox="1"/>
                    <p:nvPr/>
                  </p:nvSpPr>
                  <p:spPr>
                    <a:xfrm rot="15600">
                      <a:off x="945720" y="9734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外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075" name="Group 15"/>
                  <p:cNvGrpSpPr/>
                  <p:nvPr/>
                </p:nvGrpSpPr>
                <p:grpSpPr>
                  <a:xfrm>
                    <a:off x="786960" y="1078920"/>
                    <a:ext cx="380880" cy="191160"/>
                    <a:chOff x="786960" y="1078920"/>
                    <a:chExt cx="380880" cy="191160"/>
                  </a:xfrm>
                </p:grpSpPr>
                <p:sp>
                  <p:nvSpPr>
                    <p:cNvPr id="1076" name="AutoShape 16"/>
                    <p:cNvSpPr/>
                    <p:nvPr/>
                  </p:nvSpPr>
                  <p:spPr>
                    <a:xfrm>
                      <a:off x="786960" y="1078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7" name="WordArt 17"/>
                    <p:cNvSpPr txBox="1"/>
                    <p:nvPr/>
                  </p:nvSpPr>
                  <p:spPr>
                    <a:xfrm rot="15600">
                      <a:off x="825840" y="1094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患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078" name="Group 18"/>
                  <p:cNvGrpSpPr/>
                  <p:nvPr/>
                </p:nvGrpSpPr>
                <p:grpSpPr>
                  <a:xfrm>
                    <a:off x="644040" y="1222920"/>
                    <a:ext cx="380880" cy="191160"/>
                    <a:chOff x="644040" y="1222920"/>
                    <a:chExt cx="380880" cy="191160"/>
                  </a:xfrm>
                </p:grpSpPr>
                <p:sp>
                  <p:nvSpPr>
                    <p:cNvPr id="1079" name="AutoShape 19"/>
                    <p:cNvSpPr/>
                    <p:nvPr/>
                  </p:nvSpPr>
                  <p:spPr>
                    <a:xfrm>
                      <a:off x="644040" y="122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WordArt 20"/>
                    <p:cNvSpPr txBox="1"/>
                    <p:nvPr/>
                  </p:nvSpPr>
                  <p:spPr>
                    <a:xfrm rot="15600">
                      <a:off x="682920" y="123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者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081" name="Group 21"/>
                  <p:cNvGrpSpPr/>
                  <p:nvPr/>
                </p:nvGrpSpPr>
                <p:grpSpPr>
                  <a:xfrm>
                    <a:off x="501480" y="1366560"/>
                    <a:ext cx="380880" cy="191520"/>
                    <a:chOff x="501480" y="1366560"/>
                    <a:chExt cx="380880" cy="191520"/>
                  </a:xfrm>
                </p:grpSpPr>
                <p:sp>
                  <p:nvSpPr>
                    <p:cNvPr id="1082" name="AutoShape 22"/>
                    <p:cNvSpPr/>
                    <p:nvPr/>
                  </p:nvSpPr>
                  <p:spPr>
                    <a:xfrm>
                      <a:off x="501480" y="136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3" name="WordArt 23"/>
                    <p:cNvSpPr txBox="1"/>
                    <p:nvPr/>
                  </p:nvSpPr>
                  <p:spPr>
                    <a:xfrm rot="15600">
                      <a:off x="540360" y="138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國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084" name="Group 24"/>
                  <p:cNvGrpSpPr/>
                  <p:nvPr/>
                </p:nvGrpSpPr>
                <p:grpSpPr>
                  <a:xfrm>
                    <a:off x="358920" y="1510200"/>
                    <a:ext cx="380880" cy="191160"/>
                    <a:chOff x="358920" y="1510200"/>
                    <a:chExt cx="380880" cy="191160"/>
                  </a:xfrm>
                </p:grpSpPr>
                <p:sp>
                  <p:nvSpPr>
                    <p:cNvPr id="1085" name="AutoShape 25"/>
                    <p:cNvSpPr/>
                    <p:nvPr/>
                  </p:nvSpPr>
                  <p:spPr>
                    <a:xfrm>
                      <a:off x="358920" y="151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WordArt 26"/>
                    <p:cNvSpPr txBox="1"/>
                    <p:nvPr/>
                  </p:nvSpPr>
                  <p:spPr>
                    <a:xfrm rot="15600">
                      <a:off x="397800" y="152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恒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1087" name="Group 27"/>
                <p:cNvGrpSpPr/>
                <p:nvPr/>
              </p:nvGrpSpPr>
              <p:grpSpPr>
                <a:xfrm>
                  <a:off x="620640" y="695160"/>
                  <a:ext cx="1190880" cy="1006200"/>
                  <a:chOff x="620640" y="695160"/>
                  <a:chExt cx="1190880" cy="1006200"/>
                </a:xfrm>
              </p:grpSpPr>
              <p:grpSp>
                <p:nvGrpSpPr>
                  <p:cNvPr id="1088" name="Group 28"/>
                  <p:cNvGrpSpPr/>
                  <p:nvPr/>
                </p:nvGrpSpPr>
                <p:grpSpPr>
                  <a:xfrm>
                    <a:off x="1430280" y="695160"/>
                    <a:ext cx="381240" cy="191160"/>
                    <a:chOff x="1430280" y="695160"/>
                    <a:chExt cx="381240" cy="191160"/>
                  </a:xfrm>
                </p:grpSpPr>
                <p:sp>
                  <p:nvSpPr>
                    <p:cNvPr id="1089" name="AutoShape 29"/>
                    <p:cNvSpPr/>
                    <p:nvPr/>
                  </p:nvSpPr>
                  <p:spPr>
                    <a:xfrm>
                      <a:off x="1430280" y="69516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0" name="WordArt 30"/>
                    <p:cNvSpPr txBox="1"/>
                    <p:nvPr/>
                  </p:nvSpPr>
                  <p:spPr>
                    <a:xfrm rot="15600">
                      <a:off x="1469880" y="71028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法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091" name="Group 31"/>
                  <p:cNvGrpSpPr/>
                  <p:nvPr/>
                </p:nvGrpSpPr>
                <p:grpSpPr>
                  <a:xfrm>
                    <a:off x="1311480" y="814680"/>
                    <a:ext cx="381240" cy="191160"/>
                    <a:chOff x="1311480" y="814680"/>
                    <a:chExt cx="381240" cy="191160"/>
                  </a:xfrm>
                </p:grpSpPr>
                <p:sp>
                  <p:nvSpPr>
                    <p:cNvPr id="1092" name="AutoShape 32"/>
                    <p:cNvSpPr/>
                    <p:nvPr/>
                  </p:nvSpPr>
                  <p:spPr>
                    <a:xfrm>
                      <a:off x="1311480" y="81468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WordArt 33"/>
                    <p:cNvSpPr txBox="1"/>
                    <p:nvPr/>
                  </p:nvSpPr>
                  <p:spPr>
                    <a:xfrm rot="15600">
                      <a:off x="1351080" y="82980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家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094" name="Group 34"/>
                  <p:cNvGrpSpPr/>
                  <p:nvPr/>
                </p:nvGrpSpPr>
                <p:grpSpPr>
                  <a:xfrm>
                    <a:off x="1168560" y="958320"/>
                    <a:ext cx="380880" cy="191160"/>
                    <a:chOff x="1168560" y="958320"/>
                    <a:chExt cx="380880" cy="191160"/>
                  </a:xfrm>
                </p:grpSpPr>
                <p:sp>
                  <p:nvSpPr>
                    <p:cNvPr id="1095" name="AutoShape 35"/>
                    <p:cNvSpPr/>
                    <p:nvPr/>
                  </p:nvSpPr>
                  <p:spPr>
                    <a:xfrm>
                      <a:off x="1168560" y="9583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6" name="WordArt 36"/>
                    <p:cNvSpPr txBox="1"/>
                    <p:nvPr/>
                  </p:nvSpPr>
                  <p:spPr>
                    <a:xfrm rot="15600">
                      <a:off x="1207440" y="9734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拂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097" name="Group 37"/>
                  <p:cNvGrpSpPr/>
                  <p:nvPr/>
                </p:nvGrpSpPr>
                <p:grpSpPr>
                  <a:xfrm>
                    <a:off x="1049040" y="1078920"/>
                    <a:ext cx="381240" cy="191160"/>
                    <a:chOff x="1049040" y="1078920"/>
                    <a:chExt cx="381240" cy="191160"/>
                  </a:xfrm>
                </p:grpSpPr>
                <p:sp>
                  <p:nvSpPr>
                    <p:cNvPr id="1098" name="AutoShape 38"/>
                    <p:cNvSpPr/>
                    <p:nvPr/>
                  </p:nvSpPr>
                  <p:spPr>
                    <a:xfrm>
                      <a:off x="1049040" y="107892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9" name="WordArt 39"/>
                    <p:cNvSpPr txBox="1"/>
                    <p:nvPr/>
                  </p:nvSpPr>
                  <p:spPr>
                    <a:xfrm rot="15600">
                      <a:off x="1088640" y="109404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士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00" name="Group 40"/>
                  <p:cNvGrpSpPr/>
                  <p:nvPr/>
                </p:nvGrpSpPr>
                <p:grpSpPr>
                  <a:xfrm>
                    <a:off x="906120" y="1222920"/>
                    <a:ext cx="381240" cy="191160"/>
                    <a:chOff x="906120" y="1222920"/>
                    <a:chExt cx="381240" cy="191160"/>
                  </a:xfrm>
                </p:grpSpPr>
                <p:sp>
                  <p:nvSpPr>
                    <p:cNvPr id="1101" name="AutoShape 41"/>
                    <p:cNvSpPr/>
                    <p:nvPr/>
                  </p:nvSpPr>
                  <p:spPr>
                    <a:xfrm>
                      <a:off x="906120" y="122292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2" name="WordArt 42"/>
                    <p:cNvSpPr txBox="1"/>
                    <p:nvPr/>
                  </p:nvSpPr>
                  <p:spPr>
                    <a:xfrm rot="15600">
                      <a:off x="945720" y="123804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出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03" name="Group 43"/>
                  <p:cNvGrpSpPr/>
                  <p:nvPr/>
                </p:nvGrpSpPr>
                <p:grpSpPr>
                  <a:xfrm>
                    <a:off x="763200" y="1366560"/>
                    <a:ext cx="380880" cy="191520"/>
                    <a:chOff x="763200" y="1366560"/>
                    <a:chExt cx="380880" cy="191520"/>
                  </a:xfrm>
                </p:grpSpPr>
                <p:sp>
                  <p:nvSpPr>
                    <p:cNvPr id="1104" name="AutoShape 44"/>
                    <p:cNvSpPr/>
                    <p:nvPr/>
                  </p:nvSpPr>
                  <p:spPr>
                    <a:xfrm>
                      <a:off x="763200" y="136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5" name="WordArt 45"/>
                    <p:cNvSpPr txBox="1"/>
                    <p:nvPr/>
                  </p:nvSpPr>
                  <p:spPr>
                    <a:xfrm rot="15600">
                      <a:off x="802080" y="138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則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06" name="Group 46"/>
                  <p:cNvGrpSpPr/>
                  <p:nvPr/>
                </p:nvGrpSpPr>
                <p:grpSpPr>
                  <a:xfrm>
                    <a:off x="620640" y="1510200"/>
                    <a:ext cx="381240" cy="191160"/>
                    <a:chOff x="620640" y="1510200"/>
                    <a:chExt cx="381240" cy="191160"/>
                  </a:xfrm>
                </p:grpSpPr>
                <p:sp>
                  <p:nvSpPr>
                    <p:cNvPr id="1107" name="AutoShape 47"/>
                    <p:cNvSpPr/>
                    <p:nvPr/>
                  </p:nvSpPr>
                  <p:spPr>
                    <a:xfrm>
                      <a:off x="620640" y="151020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8" name="WordArt 48"/>
                    <p:cNvSpPr txBox="1"/>
                    <p:nvPr/>
                  </p:nvSpPr>
                  <p:spPr>
                    <a:xfrm rot="15600">
                      <a:off x="660240" y="152532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無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1109" name="Group 49"/>
                <p:cNvGrpSpPr/>
                <p:nvPr/>
              </p:nvGrpSpPr>
              <p:grpSpPr>
                <a:xfrm>
                  <a:off x="882720" y="695160"/>
                  <a:ext cx="1190160" cy="1006200"/>
                  <a:chOff x="882720" y="695160"/>
                  <a:chExt cx="1190160" cy="1006200"/>
                </a:xfrm>
              </p:grpSpPr>
              <p:grpSp>
                <p:nvGrpSpPr>
                  <p:cNvPr id="1110" name="Group 50"/>
                  <p:cNvGrpSpPr/>
                  <p:nvPr/>
                </p:nvGrpSpPr>
                <p:grpSpPr>
                  <a:xfrm>
                    <a:off x="1692000" y="695160"/>
                    <a:ext cx="380880" cy="191160"/>
                    <a:chOff x="1692000" y="695160"/>
                    <a:chExt cx="380880" cy="191160"/>
                  </a:xfrm>
                </p:grpSpPr>
                <p:sp>
                  <p:nvSpPr>
                    <p:cNvPr id="1111" name="AutoShape 51"/>
                    <p:cNvSpPr/>
                    <p:nvPr/>
                  </p:nvSpPr>
                  <p:spPr>
                    <a:xfrm>
                      <a:off x="1692000" y="69516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2" name="WordArt 52"/>
                    <p:cNvSpPr txBox="1"/>
                    <p:nvPr/>
                  </p:nvSpPr>
                  <p:spPr>
                    <a:xfrm rot="15600">
                      <a:off x="1730880" y="71028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聲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13" name="Group 53"/>
                  <p:cNvGrpSpPr/>
                  <p:nvPr/>
                </p:nvGrpSpPr>
                <p:grpSpPr>
                  <a:xfrm>
                    <a:off x="1573200" y="814680"/>
                    <a:ext cx="380880" cy="191160"/>
                    <a:chOff x="1573200" y="814680"/>
                    <a:chExt cx="380880" cy="191160"/>
                  </a:xfrm>
                </p:grpSpPr>
                <p:sp>
                  <p:nvSpPr>
                    <p:cNvPr id="1114" name="AutoShape 54"/>
                    <p:cNvSpPr/>
                    <p:nvPr/>
                  </p:nvSpPr>
                  <p:spPr>
                    <a:xfrm>
                      <a:off x="1573200" y="814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WordArt 55"/>
                    <p:cNvSpPr txBox="1"/>
                    <p:nvPr/>
                  </p:nvSpPr>
                  <p:spPr>
                    <a:xfrm rot="15600">
                      <a:off x="1612080" y="829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而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16" name="Group 56"/>
                  <p:cNvGrpSpPr/>
                  <p:nvPr/>
                </p:nvGrpSpPr>
                <p:grpSpPr>
                  <a:xfrm>
                    <a:off x="1430640" y="958320"/>
                    <a:ext cx="380880" cy="191160"/>
                    <a:chOff x="1430640" y="958320"/>
                    <a:chExt cx="380880" cy="191160"/>
                  </a:xfrm>
                </p:grpSpPr>
                <p:sp>
                  <p:nvSpPr>
                    <p:cNvPr id="1117" name="AutoShape 57"/>
                    <p:cNvSpPr/>
                    <p:nvPr/>
                  </p:nvSpPr>
                  <p:spPr>
                    <a:xfrm>
                      <a:off x="1430640" y="9583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8" name="WordArt 58"/>
                    <p:cNvSpPr txBox="1"/>
                    <p:nvPr/>
                  </p:nvSpPr>
                  <p:spPr>
                    <a:xfrm rot="15600">
                      <a:off x="1469520" y="9734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後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19" name="Group 59"/>
                  <p:cNvGrpSpPr/>
                  <p:nvPr/>
                </p:nvGrpSpPr>
                <p:grpSpPr>
                  <a:xfrm>
                    <a:off x="1310760" y="1078920"/>
                    <a:ext cx="380880" cy="191160"/>
                    <a:chOff x="1310760" y="1078920"/>
                    <a:chExt cx="380880" cy="191160"/>
                  </a:xfrm>
                </p:grpSpPr>
                <p:sp>
                  <p:nvSpPr>
                    <p:cNvPr id="1120" name="AutoShape 60"/>
                    <p:cNvSpPr/>
                    <p:nvPr/>
                  </p:nvSpPr>
                  <p:spPr>
                    <a:xfrm>
                      <a:off x="1310760" y="1078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1" name="WordArt 61"/>
                    <p:cNvSpPr txBox="1"/>
                    <p:nvPr/>
                  </p:nvSpPr>
                  <p:spPr>
                    <a:xfrm rot="15600">
                      <a:off x="1349640" y="1094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喩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22" name="Group 62"/>
                  <p:cNvGrpSpPr/>
                  <p:nvPr/>
                </p:nvGrpSpPr>
                <p:grpSpPr>
                  <a:xfrm>
                    <a:off x="1167840" y="1222920"/>
                    <a:ext cx="380880" cy="191160"/>
                    <a:chOff x="1167840" y="1222920"/>
                    <a:chExt cx="380880" cy="191160"/>
                  </a:xfrm>
                </p:grpSpPr>
                <p:sp>
                  <p:nvSpPr>
                    <p:cNvPr id="1123" name="AutoShape 63"/>
                    <p:cNvSpPr/>
                    <p:nvPr/>
                  </p:nvSpPr>
                  <p:spPr>
                    <a:xfrm>
                      <a:off x="1167840" y="122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4" name="WordArt 64"/>
                    <p:cNvSpPr txBox="1"/>
                    <p:nvPr/>
                  </p:nvSpPr>
                  <p:spPr>
                    <a:xfrm rot="15600">
                      <a:off x="1206720" y="123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入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25" name="Group 65"/>
                  <p:cNvGrpSpPr/>
                  <p:nvPr/>
                </p:nvGrpSpPr>
                <p:grpSpPr>
                  <a:xfrm>
                    <a:off x="1025280" y="1366560"/>
                    <a:ext cx="380880" cy="191520"/>
                    <a:chOff x="1025280" y="1366560"/>
                    <a:chExt cx="380880" cy="191520"/>
                  </a:xfrm>
                </p:grpSpPr>
                <p:sp>
                  <p:nvSpPr>
                    <p:cNvPr id="1126" name="AutoShape 66"/>
                    <p:cNvSpPr/>
                    <p:nvPr/>
                  </p:nvSpPr>
                  <p:spPr>
                    <a:xfrm>
                      <a:off x="1025280" y="136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7" name="WordArt 67"/>
                    <p:cNvSpPr txBox="1"/>
                    <p:nvPr/>
                  </p:nvSpPr>
                  <p:spPr>
                    <a:xfrm rot="15600">
                      <a:off x="1064160" y="138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則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28" name="Group 68"/>
                  <p:cNvGrpSpPr/>
                  <p:nvPr/>
                </p:nvGrpSpPr>
                <p:grpSpPr>
                  <a:xfrm>
                    <a:off x="882720" y="1510200"/>
                    <a:ext cx="380880" cy="191160"/>
                    <a:chOff x="882720" y="1510200"/>
                    <a:chExt cx="380880" cy="191160"/>
                  </a:xfrm>
                </p:grpSpPr>
                <p:sp>
                  <p:nvSpPr>
                    <p:cNvPr id="1129" name="AutoShape 69"/>
                    <p:cNvSpPr/>
                    <p:nvPr/>
                  </p:nvSpPr>
                  <p:spPr>
                    <a:xfrm>
                      <a:off x="882720" y="151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0" name="WordArt 70"/>
                    <p:cNvSpPr txBox="1"/>
                    <p:nvPr/>
                  </p:nvSpPr>
                  <p:spPr>
                    <a:xfrm rot="15600">
                      <a:off x="921600" y="152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無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1131" name="Group 71"/>
                <p:cNvGrpSpPr/>
                <p:nvPr/>
              </p:nvGrpSpPr>
              <p:grpSpPr>
                <a:xfrm>
                  <a:off x="1144800" y="695160"/>
                  <a:ext cx="1190160" cy="1006200"/>
                  <a:chOff x="1144800" y="695160"/>
                  <a:chExt cx="1190160" cy="1006200"/>
                </a:xfrm>
              </p:grpSpPr>
              <p:grpSp>
                <p:nvGrpSpPr>
                  <p:cNvPr id="1132" name="Group 72"/>
                  <p:cNvGrpSpPr/>
                  <p:nvPr/>
                </p:nvGrpSpPr>
                <p:grpSpPr>
                  <a:xfrm>
                    <a:off x="1954080" y="695160"/>
                    <a:ext cx="380880" cy="191160"/>
                    <a:chOff x="1954080" y="695160"/>
                    <a:chExt cx="380880" cy="191160"/>
                  </a:xfrm>
                </p:grpSpPr>
                <p:sp>
                  <p:nvSpPr>
                    <p:cNvPr id="1133" name="AutoShape 73"/>
                    <p:cNvSpPr/>
                    <p:nvPr/>
                  </p:nvSpPr>
                  <p:spPr>
                    <a:xfrm>
                      <a:off x="1954080" y="69516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4" name="WordArt 74"/>
                    <p:cNvSpPr txBox="1"/>
                    <p:nvPr/>
                  </p:nvSpPr>
                  <p:spPr>
                    <a:xfrm rot="15600">
                      <a:off x="1992960" y="71028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後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35" name="Group 75"/>
                  <p:cNvGrpSpPr/>
                  <p:nvPr/>
                </p:nvGrpSpPr>
                <p:grpSpPr>
                  <a:xfrm>
                    <a:off x="1835280" y="814680"/>
                    <a:ext cx="380880" cy="191160"/>
                    <a:chOff x="1835280" y="814680"/>
                    <a:chExt cx="380880" cy="191160"/>
                  </a:xfrm>
                </p:grpSpPr>
                <p:sp>
                  <p:nvSpPr>
                    <p:cNvPr id="1136" name="AutoShape 76"/>
                    <p:cNvSpPr/>
                    <p:nvPr/>
                  </p:nvSpPr>
                  <p:spPr>
                    <a:xfrm>
                      <a:off x="1835280" y="814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7" name="WordArt 77"/>
                    <p:cNvSpPr txBox="1"/>
                    <p:nvPr/>
                  </p:nvSpPr>
                  <p:spPr>
                    <a:xfrm rot="15600">
                      <a:off x="1874160" y="829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作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38" name="Group 78"/>
                  <p:cNvGrpSpPr/>
                  <p:nvPr/>
                </p:nvGrpSpPr>
                <p:grpSpPr>
                  <a:xfrm>
                    <a:off x="1692720" y="958320"/>
                    <a:ext cx="380880" cy="191160"/>
                    <a:chOff x="1692720" y="958320"/>
                    <a:chExt cx="380880" cy="191160"/>
                  </a:xfrm>
                </p:grpSpPr>
                <p:sp>
                  <p:nvSpPr>
                    <p:cNvPr id="1139" name="AutoShape 79"/>
                    <p:cNvSpPr/>
                    <p:nvPr/>
                  </p:nvSpPr>
                  <p:spPr>
                    <a:xfrm>
                      <a:off x="1692720" y="9583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WordArt 80"/>
                    <p:cNvSpPr txBox="1"/>
                    <p:nvPr/>
                  </p:nvSpPr>
                  <p:spPr>
                    <a:xfrm rot="15600">
                      <a:off x="1731600" y="9734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徵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41" name="Group 81"/>
                  <p:cNvGrpSpPr/>
                  <p:nvPr/>
                </p:nvGrpSpPr>
                <p:grpSpPr>
                  <a:xfrm>
                    <a:off x="1572840" y="1078920"/>
                    <a:ext cx="380880" cy="191160"/>
                    <a:chOff x="1572840" y="1078920"/>
                    <a:chExt cx="380880" cy="191160"/>
                  </a:xfrm>
                </p:grpSpPr>
                <p:sp>
                  <p:nvSpPr>
                    <p:cNvPr id="1142" name="AutoShape 82"/>
                    <p:cNvSpPr/>
                    <p:nvPr/>
                  </p:nvSpPr>
                  <p:spPr>
                    <a:xfrm>
                      <a:off x="1572840" y="1078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WordArt 83"/>
                    <p:cNvSpPr txBox="1"/>
                    <p:nvPr/>
                  </p:nvSpPr>
                  <p:spPr>
                    <a:xfrm rot="15600">
                      <a:off x="1611720" y="1094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於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44" name="Group 84"/>
                  <p:cNvGrpSpPr/>
                  <p:nvPr/>
                </p:nvGrpSpPr>
                <p:grpSpPr>
                  <a:xfrm>
                    <a:off x="1429920" y="1222920"/>
                    <a:ext cx="380880" cy="191160"/>
                    <a:chOff x="1429920" y="1222920"/>
                    <a:chExt cx="380880" cy="191160"/>
                  </a:xfrm>
                </p:grpSpPr>
                <p:sp>
                  <p:nvSpPr>
                    <p:cNvPr id="1145" name="AutoShape 85"/>
                    <p:cNvSpPr/>
                    <p:nvPr/>
                  </p:nvSpPr>
                  <p:spPr>
                    <a:xfrm>
                      <a:off x="1429920" y="122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WordArt 86"/>
                    <p:cNvSpPr txBox="1"/>
                    <p:nvPr/>
                  </p:nvSpPr>
                  <p:spPr>
                    <a:xfrm rot="15600">
                      <a:off x="1468800" y="123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色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47" name="Group 87"/>
                  <p:cNvGrpSpPr/>
                  <p:nvPr/>
                </p:nvGrpSpPr>
                <p:grpSpPr>
                  <a:xfrm>
                    <a:off x="1287360" y="1366560"/>
                    <a:ext cx="380880" cy="191520"/>
                    <a:chOff x="1287360" y="1366560"/>
                    <a:chExt cx="380880" cy="191520"/>
                  </a:xfrm>
                </p:grpSpPr>
                <p:sp>
                  <p:nvSpPr>
                    <p:cNvPr id="1148" name="AutoShape 88"/>
                    <p:cNvSpPr/>
                    <p:nvPr/>
                  </p:nvSpPr>
                  <p:spPr>
                    <a:xfrm>
                      <a:off x="1287360" y="136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WordArt 89"/>
                    <p:cNvSpPr txBox="1"/>
                    <p:nvPr/>
                  </p:nvSpPr>
                  <p:spPr>
                    <a:xfrm rot="15600">
                      <a:off x="1326240" y="138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發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50" name="Group 90"/>
                  <p:cNvGrpSpPr/>
                  <p:nvPr/>
                </p:nvGrpSpPr>
                <p:grpSpPr>
                  <a:xfrm>
                    <a:off x="1144800" y="1510200"/>
                    <a:ext cx="380880" cy="191160"/>
                    <a:chOff x="1144800" y="1510200"/>
                    <a:chExt cx="380880" cy="191160"/>
                  </a:xfrm>
                </p:grpSpPr>
                <p:sp>
                  <p:nvSpPr>
                    <p:cNvPr id="1151" name="AutoShape 91"/>
                    <p:cNvSpPr/>
                    <p:nvPr/>
                  </p:nvSpPr>
                  <p:spPr>
                    <a:xfrm>
                      <a:off x="1144800" y="151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WordArt 92"/>
                    <p:cNvSpPr txBox="1"/>
                    <p:nvPr/>
                  </p:nvSpPr>
                  <p:spPr>
                    <a:xfrm rot="15600">
                      <a:off x="1183680" y="152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於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1153" name="Group 93"/>
                <p:cNvGrpSpPr/>
                <p:nvPr/>
              </p:nvGrpSpPr>
              <p:grpSpPr>
                <a:xfrm>
                  <a:off x="1406520" y="695160"/>
                  <a:ext cx="1190880" cy="1006200"/>
                  <a:chOff x="1406520" y="695160"/>
                  <a:chExt cx="1190880" cy="1006200"/>
                </a:xfrm>
              </p:grpSpPr>
              <p:grpSp>
                <p:nvGrpSpPr>
                  <p:cNvPr id="1154" name="Group 94"/>
                  <p:cNvGrpSpPr/>
                  <p:nvPr/>
                </p:nvGrpSpPr>
                <p:grpSpPr>
                  <a:xfrm>
                    <a:off x="2216160" y="695160"/>
                    <a:ext cx="381240" cy="191160"/>
                    <a:chOff x="2216160" y="695160"/>
                    <a:chExt cx="381240" cy="191160"/>
                  </a:xfrm>
                </p:grpSpPr>
                <p:sp>
                  <p:nvSpPr>
                    <p:cNvPr id="1155" name="AutoShape 95"/>
                    <p:cNvSpPr/>
                    <p:nvPr/>
                  </p:nvSpPr>
                  <p:spPr>
                    <a:xfrm>
                      <a:off x="2216160" y="69516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6" name="WordArt 96"/>
                    <p:cNvSpPr txBox="1"/>
                    <p:nvPr/>
                  </p:nvSpPr>
                  <p:spPr>
                    <a:xfrm rot="15600">
                      <a:off x="2255760" y="71028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困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57" name="Group 97"/>
                  <p:cNvGrpSpPr/>
                  <p:nvPr/>
                </p:nvGrpSpPr>
                <p:grpSpPr>
                  <a:xfrm>
                    <a:off x="2097360" y="814680"/>
                    <a:ext cx="381240" cy="191160"/>
                    <a:chOff x="2097360" y="814680"/>
                    <a:chExt cx="381240" cy="191160"/>
                  </a:xfrm>
                </p:grpSpPr>
                <p:sp>
                  <p:nvSpPr>
                    <p:cNvPr id="1158" name="AutoShape 98"/>
                    <p:cNvSpPr/>
                    <p:nvPr/>
                  </p:nvSpPr>
                  <p:spPr>
                    <a:xfrm>
                      <a:off x="2097360" y="81468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9" name="WordArt 99"/>
                    <p:cNvSpPr txBox="1"/>
                    <p:nvPr/>
                  </p:nvSpPr>
                  <p:spPr>
                    <a:xfrm rot="15600">
                      <a:off x="2136960" y="82980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於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60" name="Group 100"/>
                  <p:cNvGrpSpPr/>
                  <p:nvPr/>
                </p:nvGrpSpPr>
                <p:grpSpPr>
                  <a:xfrm>
                    <a:off x="1954440" y="958320"/>
                    <a:ext cx="380880" cy="191160"/>
                    <a:chOff x="1954440" y="958320"/>
                    <a:chExt cx="380880" cy="191160"/>
                  </a:xfrm>
                </p:grpSpPr>
                <p:sp>
                  <p:nvSpPr>
                    <p:cNvPr id="1161" name="AutoShape 101"/>
                    <p:cNvSpPr/>
                    <p:nvPr/>
                  </p:nvSpPr>
                  <p:spPr>
                    <a:xfrm>
                      <a:off x="1954440" y="9583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WordArt 102"/>
                    <p:cNvSpPr txBox="1"/>
                    <p:nvPr/>
                  </p:nvSpPr>
                  <p:spPr>
                    <a:xfrm rot="15600">
                      <a:off x="1993320" y="9734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心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63" name="Group 103"/>
                  <p:cNvGrpSpPr/>
                  <p:nvPr/>
                </p:nvGrpSpPr>
                <p:grpSpPr>
                  <a:xfrm>
                    <a:off x="1834920" y="1078920"/>
                    <a:ext cx="381240" cy="191160"/>
                    <a:chOff x="1834920" y="1078920"/>
                    <a:chExt cx="381240" cy="191160"/>
                  </a:xfrm>
                </p:grpSpPr>
                <p:sp>
                  <p:nvSpPr>
                    <p:cNvPr id="1164" name="AutoShape 104"/>
                    <p:cNvSpPr/>
                    <p:nvPr/>
                  </p:nvSpPr>
                  <p:spPr>
                    <a:xfrm>
                      <a:off x="1834920" y="107892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5" name="WordArt 105"/>
                    <p:cNvSpPr txBox="1"/>
                    <p:nvPr/>
                  </p:nvSpPr>
                  <p:spPr>
                    <a:xfrm rot="15600">
                      <a:off x="1874520" y="109404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衡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66" name="Group 106"/>
                  <p:cNvGrpSpPr/>
                  <p:nvPr/>
                </p:nvGrpSpPr>
                <p:grpSpPr>
                  <a:xfrm>
                    <a:off x="1692000" y="1222920"/>
                    <a:ext cx="381240" cy="191160"/>
                    <a:chOff x="1692000" y="1222920"/>
                    <a:chExt cx="381240" cy="191160"/>
                  </a:xfrm>
                </p:grpSpPr>
                <p:sp>
                  <p:nvSpPr>
                    <p:cNvPr id="1167" name="AutoShape 107"/>
                    <p:cNvSpPr/>
                    <p:nvPr/>
                  </p:nvSpPr>
                  <p:spPr>
                    <a:xfrm>
                      <a:off x="1692000" y="122292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WordArt 108"/>
                    <p:cNvSpPr txBox="1"/>
                    <p:nvPr/>
                  </p:nvSpPr>
                  <p:spPr>
                    <a:xfrm rot="15600">
                      <a:off x="1731600" y="123804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於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69" name="Group 109"/>
                  <p:cNvGrpSpPr/>
                  <p:nvPr/>
                </p:nvGrpSpPr>
                <p:grpSpPr>
                  <a:xfrm>
                    <a:off x="1549080" y="1366560"/>
                    <a:ext cx="380880" cy="191520"/>
                    <a:chOff x="1549080" y="1366560"/>
                    <a:chExt cx="380880" cy="191520"/>
                  </a:xfrm>
                </p:grpSpPr>
                <p:sp>
                  <p:nvSpPr>
                    <p:cNvPr id="1170" name="AutoShape 110"/>
                    <p:cNvSpPr/>
                    <p:nvPr/>
                  </p:nvSpPr>
                  <p:spPr>
                    <a:xfrm>
                      <a:off x="1549080" y="136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1" name="WordArt 111"/>
                    <p:cNvSpPr txBox="1"/>
                    <p:nvPr/>
                  </p:nvSpPr>
                  <p:spPr>
                    <a:xfrm rot="15600">
                      <a:off x="1587960" y="138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虑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72" name="Group 112"/>
                  <p:cNvGrpSpPr/>
                  <p:nvPr/>
                </p:nvGrpSpPr>
                <p:grpSpPr>
                  <a:xfrm>
                    <a:off x="1406520" y="1510200"/>
                    <a:ext cx="381240" cy="191160"/>
                    <a:chOff x="1406520" y="1510200"/>
                    <a:chExt cx="381240" cy="191160"/>
                  </a:xfrm>
                </p:grpSpPr>
                <p:sp>
                  <p:nvSpPr>
                    <p:cNvPr id="1173" name="AutoShape 113"/>
                    <p:cNvSpPr/>
                    <p:nvPr/>
                  </p:nvSpPr>
                  <p:spPr>
                    <a:xfrm>
                      <a:off x="1406520" y="151020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4" name="WordArt 114"/>
                    <p:cNvSpPr txBox="1"/>
                    <p:nvPr/>
                  </p:nvSpPr>
                  <p:spPr>
                    <a:xfrm rot="15600">
                      <a:off x="1446120" y="152532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而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1175" name="Group 115"/>
                <p:cNvGrpSpPr/>
                <p:nvPr/>
              </p:nvGrpSpPr>
              <p:grpSpPr>
                <a:xfrm>
                  <a:off x="1668600" y="695160"/>
                  <a:ext cx="1190160" cy="1006200"/>
                  <a:chOff x="1668600" y="695160"/>
                  <a:chExt cx="1190160" cy="1006200"/>
                </a:xfrm>
              </p:grpSpPr>
              <p:grpSp>
                <p:nvGrpSpPr>
                  <p:cNvPr id="1176" name="Group 116"/>
                  <p:cNvGrpSpPr/>
                  <p:nvPr/>
                </p:nvGrpSpPr>
                <p:grpSpPr>
                  <a:xfrm>
                    <a:off x="2477880" y="695160"/>
                    <a:ext cx="380880" cy="191160"/>
                    <a:chOff x="2477880" y="695160"/>
                    <a:chExt cx="380880" cy="191160"/>
                  </a:xfrm>
                </p:grpSpPr>
                <p:sp>
                  <p:nvSpPr>
                    <p:cNvPr id="1177" name="AutoShape 117"/>
                    <p:cNvSpPr/>
                    <p:nvPr/>
                  </p:nvSpPr>
                  <p:spPr>
                    <a:xfrm>
                      <a:off x="2477880" y="69516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WordArt 118"/>
                    <p:cNvSpPr txBox="1"/>
                    <p:nvPr/>
                  </p:nvSpPr>
                  <p:spPr>
                    <a:xfrm rot="15600">
                      <a:off x="2516760" y="71028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人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79" name="Group 119"/>
                  <p:cNvGrpSpPr/>
                  <p:nvPr/>
                </p:nvGrpSpPr>
                <p:grpSpPr>
                  <a:xfrm>
                    <a:off x="2359080" y="814680"/>
                    <a:ext cx="380880" cy="191160"/>
                    <a:chOff x="2359080" y="814680"/>
                    <a:chExt cx="380880" cy="191160"/>
                  </a:xfrm>
                </p:grpSpPr>
                <p:sp>
                  <p:nvSpPr>
                    <p:cNvPr id="1180" name="AutoShape 120"/>
                    <p:cNvSpPr/>
                    <p:nvPr/>
                  </p:nvSpPr>
                  <p:spPr>
                    <a:xfrm>
                      <a:off x="2359080" y="814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1" name="WordArt 121"/>
                    <p:cNvSpPr txBox="1"/>
                    <p:nvPr/>
                  </p:nvSpPr>
                  <p:spPr>
                    <a:xfrm rot="15600">
                      <a:off x="2397960" y="829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衡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82" name="Group 122"/>
                  <p:cNvGrpSpPr/>
                  <p:nvPr/>
                </p:nvGrpSpPr>
                <p:grpSpPr>
                  <a:xfrm>
                    <a:off x="2216520" y="958320"/>
                    <a:ext cx="380880" cy="191160"/>
                    <a:chOff x="2216520" y="958320"/>
                    <a:chExt cx="380880" cy="191160"/>
                  </a:xfrm>
                </p:grpSpPr>
                <p:sp>
                  <p:nvSpPr>
                    <p:cNvPr id="1183" name="AutoShape 123"/>
                    <p:cNvSpPr/>
                    <p:nvPr/>
                  </p:nvSpPr>
                  <p:spPr>
                    <a:xfrm>
                      <a:off x="2216520" y="9583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WordArt 124"/>
                    <p:cNvSpPr txBox="1"/>
                    <p:nvPr/>
                  </p:nvSpPr>
                  <p:spPr>
                    <a:xfrm rot="15600">
                      <a:off x="2255400" y="9734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過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85" name="Group 125"/>
                  <p:cNvGrpSpPr/>
                  <p:nvPr/>
                </p:nvGrpSpPr>
                <p:grpSpPr>
                  <a:xfrm>
                    <a:off x="2096640" y="1078920"/>
                    <a:ext cx="380880" cy="191160"/>
                    <a:chOff x="2096640" y="1078920"/>
                    <a:chExt cx="380880" cy="191160"/>
                  </a:xfrm>
                </p:grpSpPr>
                <p:sp>
                  <p:nvSpPr>
                    <p:cNvPr id="1186" name="AutoShape 126"/>
                    <p:cNvSpPr/>
                    <p:nvPr/>
                  </p:nvSpPr>
                  <p:spPr>
                    <a:xfrm>
                      <a:off x="2096640" y="1078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7" name="WordArt 127"/>
                    <p:cNvSpPr txBox="1"/>
                    <p:nvPr/>
                  </p:nvSpPr>
                  <p:spPr>
                    <a:xfrm rot="15600">
                      <a:off x="2135520" y="1094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然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88" name="Group 128"/>
                  <p:cNvGrpSpPr/>
                  <p:nvPr/>
                </p:nvGrpSpPr>
                <p:grpSpPr>
                  <a:xfrm>
                    <a:off x="1953720" y="1222920"/>
                    <a:ext cx="380880" cy="191160"/>
                    <a:chOff x="1953720" y="1222920"/>
                    <a:chExt cx="380880" cy="191160"/>
                  </a:xfrm>
                </p:grpSpPr>
                <p:sp>
                  <p:nvSpPr>
                    <p:cNvPr id="1189" name="AutoShape 129"/>
                    <p:cNvSpPr/>
                    <p:nvPr/>
                  </p:nvSpPr>
                  <p:spPr>
                    <a:xfrm>
                      <a:off x="1953720" y="122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0" name="WordArt 130"/>
                    <p:cNvSpPr txBox="1"/>
                    <p:nvPr/>
                  </p:nvSpPr>
                  <p:spPr>
                    <a:xfrm rot="15600">
                      <a:off x="1992600" y="123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後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91" name="Group 131"/>
                  <p:cNvGrpSpPr/>
                  <p:nvPr/>
                </p:nvGrpSpPr>
                <p:grpSpPr>
                  <a:xfrm>
                    <a:off x="1811160" y="1366560"/>
                    <a:ext cx="380880" cy="191520"/>
                    <a:chOff x="1811160" y="1366560"/>
                    <a:chExt cx="380880" cy="191520"/>
                  </a:xfrm>
                </p:grpSpPr>
                <p:sp>
                  <p:nvSpPr>
                    <p:cNvPr id="1192" name="AutoShape 132"/>
                    <p:cNvSpPr/>
                    <p:nvPr/>
                  </p:nvSpPr>
                  <p:spPr>
                    <a:xfrm>
                      <a:off x="1811160" y="136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3" name="WordArt 133"/>
                    <p:cNvSpPr txBox="1"/>
                    <p:nvPr/>
                  </p:nvSpPr>
                  <p:spPr>
                    <a:xfrm rot="15600">
                      <a:off x="1850040" y="138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能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194" name="Group 134"/>
                  <p:cNvGrpSpPr/>
                  <p:nvPr/>
                </p:nvGrpSpPr>
                <p:grpSpPr>
                  <a:xfrm>
                    <a:off x="1668600" y="1510200"/>
                    <a:ext cx="380880" cy="191160"/>
                    <a:chOff x="1668600" y="1510200"/>
                    <a:chExt cx="380880" cy="191160"/>
                  </a:xfrm>
                </p:grpSpPr>
                <p:sp>
                  <p:nvSpPr>
                    <p:cNvPr id="1195" name="AutoShape 135"/>
                    <p:cNvSpPr/>
                    <p:nvPr/>
                  </p:nvSpPr>
                  <p:spPr>
                    <a:xfrm>
                      <a:off x="1668600" y="151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6" name="WordArt 136"/>
                    <p:cNvSpPr txBox="1"/>
                    <p:nvPr/>
                  </p:nvSpPr>
                  <p:spPr>
                    <a:xfrm rot="15600">
                      <a:off x="1707480" y="152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改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1197" name="Group 137"/>
                <p:cNvGrpSpPr/>
                <p:nvPr/>
              </p:nvGrpSpPr>
              <p:grpSpPr>
                <a:xfrm>
                  <a:off x="1930320" y="695160"/>
                  <a:ext cx="1190880" cy="1006200"/>
                  <a:chOff x="1930320" y="695160"/>
                  <a:chExt cx="1190880" cy="1006200"/>
                </a:xfrm>
              </p:grpSpPr>
              <p:grpSp>
                <p:nvGrpSpPr>
                  <p:cNvPr id="1198" name="Group 138"/>
                  <p:cNvGrpSpPr/>
                  <p:nvPr/>
                </p:nvGrpSpPr>
                <p:grpSpPr>
                  <a:xfrm>
                    <a:off x="2739960" y="695160"/>
                    <a:ext cx="381240" cy="191160"/>
                    <a:chOff x="2739960" y="695160"/>
                    <a:chExt cx="381240" cy="191160"/>
                  </a:xfrm>
                </p:grpSpPr>
                <p:sp>
                  <p:nvSpPr>
                    <p:cNvPr id="1199" name="AutoShape 139"/>
                    <p:cNvSpPr/>
                    <p:nvPr/>
                  </p:nvSpPr>
                  <p:spPr>
                    <a:xfrm>
                      <a:off x="2739960" y="69516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0" name="WordArt 140"/>
                    <p:cNvSpPr txBox="1"/>
                    <p:nvPr/>
                  </p:nvSpPr>
                  <p:spPr>
                    <a:xfrm rot="15600">
                      <a:off x="2779560" y="71028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所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01" name="Group 141"/>
                  <p:cNvGrpSpPr/>
                  <p:nvPr/>
                </p:nvGrpSpPr>
                <p:grpSpPr>
                  <a:xfrm>
                    <a:off x="2621160" y="814680"/>
                    <a:ext cx="381240" cy="191160"/>
                    <a:chOff x="2621160" y="814680"/>
                    <a:chExt cx="381240" cy="191160"/>
                  </a:xfrm>
                </p:grpSpPr>
                <p:sp>
                  <p:nvSpPr>
                    <p:cNvPr id="1202" name="AutoShape 142"/>
                    <p:cNvSpPr/>
                    <p:nvPr/>
                  </p:nvSpPr>
                  <p:spPr>
                    <a:xfrm>
                      <a:off x="2621160" y="81468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WordArt 143"/>
                    <p:cNvSpPr txBox="1"/>
                    <p:nvPr/>
                  </p:nvSpPr>
                  <p:spPr>
                    <a:xfrm rot="15600">
                      <a:off x="2660760" y="82980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不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04" name="Group 144"/>
                  <p:cNvGrpSpPr/>
                  <p:nvPr/>
                </p:nvGrpSpPr>
                <p:grpSpPr>
                  <a:xfrm>
                    <a:off x="2478240" y="958320"/>
                    <a:ext cx="380880" cy="191160"/>
                    <a:chOff x="2478240" y="958320"/>
                    <a:chExt cx="380880" cy="191160"/>
                  </a:xfrm>
                </p:grpSpPr>
                <p:sp>
                  <p:nvSpPr>
                    <p:cNvPr id="1205" name="AutoShape 145"/>
                    <p:cNvSpPr/>
                    <p:nvPr/>
                  </p:nvSpPr>
                  <p:spPr>
                    <a:xfrm>
                      <a:off x="2478240" y="9583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WordArt 146"/>
                    <p:cNvSpPr txBox="1"/>
                    <p:nvPr/>
                  </p:nvSpPr>
                  <p:spPr>
                    <a:xfrm rot="15600">
                      <a:off x="2517120" y="9734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能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07" name="Group 147"/>
                  <p:cNvGrpSpPr/>
                  <p:nvPr/>
                </p:nvGrpSpPr>
                <p:grpSpPr>
                  <a:xfrm>
                    <a:off x="2358720" y="1078920"/>
                    <a:ext cx="381240" cy="191160"/>
                    <a:chOff x="2358720" y="1078920"/>
                    <a:chExt cx="381240" cy="191160"/>
                  </a:xfrm>
                </p:grpSpPr>
                <p:sp>
                  <p:nvSpPr>
                    <p:cNvPr id="1208" name="AutoShape 148"/>
                    <p:cNvSpPr/>
                    <p:nvPr/>
                  </p:nvSpPr>
                  <p:spPr>
                    <a:xfrm>
                      <a:off x="2358720" y="107892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WordArt 149"/>
                    <p:cNvSpPr txBox="1"/>
                    <p:nvPr/>
                  </p:nvSpPr>
                  <p:spPr>
                    <a:xfrm rot="15600">
                      <a:off x="2398320" y="109404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 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10" name="Group 150"/>
                  <p:cNvGrpSpPr/>
                  <p:nvPr/>
                </p:nvGrpSpPr>
                <p:grpSpPr>
                  <a:xfrm>
                    <a:off x="2215800" y="1222920"/>
                    <a:ext cx="381240" cy="191160"/>
                    <a:chOff x="2215800" y="1222920"/>
                    <a:chExt cx="381240" cy="191160"/>
                  </a:xfrm>
                </p:grpSpPr>
                <p:sp>
                  <p:nvSpPr>
                    <p:cNvPr id="1211" name="AutoShape 151"/>
                    <p:cNvSpPr/>
                    <p:nvPr/>
                  </p:nvSpPr>
                  <p:spPr>
                    <a:xfrm>
                      <a:off x="2215800" y="122292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WordArt 152"/>
                    <p:cNvSpPr txBox="1"/>
                    <p:nvPr/>
                  </p:nvSpPr>
                  <p:spPr>
                    <a:xfrm rot="15600">
                      <a:off x="2255400" y="123804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 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13" name="Group 153"/>
                  <p:cNvGrpSpPr/>
                  <p:nvPr/>
                </p:nvGrpSpPr>
                <p:grpSpPr>
                  <a:xfrm>
                    <a:off x="2072880" y="1366560"/>
                    <a:ext cx="380880" cy="191520"/>
                    <a:chOff x="2072880" y="1366560"/>
                    <a:chExt cx="380880" cy="191520"/>
                  </a:xfrm>
                </p:grpSpPr>
                <p:sp>
                  <p:nvSpPr>
                    <p:cNvPr id="1214" name="AutoShape 154"/>
                    <p:cNvSpPr/>
                    <p:nvPr/>
                  </p:nvSpPr>
                  <p:spPr>
                    <a:xfrm>
                      <a:off x="2072880" y="136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5" name="WordArt 155"/>
                    <p:cNvSpPr txBox="1"/>
                    <p:nvPr/>
                  </p:nvSpPr>
                  <p:spPr>
                    <a:xfrm rot="15600">
                      <a:off x="2111760" y="138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 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16" name="Group 156"/>
                  <p:cNvGrpSpPr/>
                  <p:nvPr/>
                </p:nvGrpSpPr>
                <p:grpSpPr>
                  <a:xfrm>
                    <a:off x="1930320" y="1510200"/>
                    <a:ext cx="381240" cy="191160"/>
                    <a:chOff x="1930320" y="1510200"/>
                    <a:chExt cx="381240" cy="191160"/>
                  </a:xfrm>
                </p:grpSpPr>
                <p:sp>
                  <p:nvSpPr>
                    <p:cNvPr id="1217" name="AutoShape 157"/>
                    <p:cNvSpPr/>
                    <p:nvPr/>
                  </p:nvSpPr>
                  <p:spPr>
                    <a:xfrm>
                      <a:off x="1930320" y="151020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8" name="WordArt 158"/>
                    <p:cNvSpPr txBox="1"/>
                    <p:nvPr/>
                  </p:nvSpPr>
                  <p:spPr>
                    <a:xfrm rot="15600">
                      <a:off x="1969920" y="152532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 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1219" name="Group 159"/>
                <p:cNvGrpSpPr/>
                <p:nvPr/>
              </p:nvGrpSpPr>
              <p:grpSpPr>
                <a:xfrm>
                  <a:off x="2192400" y="695160"/>
                  <a:ext cx="1190160" cy="1006200"/>
                  <a:chOff x="2192400" y="695160"/>
                  <a:chExt cx="1190160" cy="1006200"/>
                </a:xfrm>
              </p:grpSpPr>
              <p:grpSp>
                <p:nvGrpSpPr>
                  <p:cNvPr id="1220" name="Group 160"/>
                  <p:cNvGrpSpPr/>
                  <p:nvPr/>
                </p:nvGrpSpPr>
                <p:grpSpPr>
                  <a:xfrm>
                    <a:off x="3001680" y="695160"/>
                    <a:ext cx="380880" cy="191160"/>
                    <a:chOff x="3001680" y="695160"/>
                    <a:chExt cx="380880" cy="191160"/>
                  </a:xfrm>
                </p:grpSpPr>
                <p:sp>
                  <p:nvSpPr>
                    <p:cNvPr id="1221" name="AutoShape 161"/>
                    <p:cNvSpPr/>
                    <p:nvPr/>
                  </p:nvSpPr>
                  <p:spPr>
                    <a:xfrm>
                      <a:off x="3001680" y="69516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2" name="WordArt 162"/>
                    <p:cNvSpPr txBox="1"/>
                    <p:nvPr/>
                  </p:nvSpPr>
                  <p:spPr>
                    <a:xfrm rot="15600">
                      <a:off x="3040560" y="71028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乎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23" name="Group 163"/>
                  <p:cNvGrpSpPr/>
                  <p:nvPr/>
                </p:nvGrpSpPr>
                <p:grpSpPr>
                  <a:xfrm>
                    <a:off x="2882880" y="814680"/>
                    <a:ext cx="380880" cy="191160"/>
                    <a:chOff x="2882880" y="814680"/>
                    <a:chExt cx="380880" cy="191160"/>
                  </a:xfrm>
                </p:grpSpPr>
                <p:sp>
                  <p:nvSpPr>
                    <p:cNvPr id="1224" name="AutoShape 164"/>
                    <p:cNvSpPr/>
                    <p:nvPr/>
                  </p:nvSpPr>
                  <p:spPr>
                    <a:xfrm>
                      <a:off x="2882880" y="814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5" name="WordArt 165"/>
                    <p:cNvSpPr txBox="1"/>
                    <p:nvPr/>
                  </p:nvSpPr>
                  <p:spPr>
                    <a:xfrm rot="15600">
                      <a:off x="2921760" y="829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乎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26" name="Group 166"/>
                  <p:cNvGrpSpPr/>
                  <p:nvPr/>
                </p:nvGrpSpPr>
                <p:grpSpPr>
                  <a:xfrm>
                    <a:off x="2740320" y="958320"/>
                    <a:ext cx="380880" cy="191160"/>
                    <a:chOff x="2740320" y="958320"/>
                    <a:chExt cx="380880" cy="191160"/>
                  </a:xfrm>
                </p:grpSpPr>
                <p:sp>
                  <p:nvSpPr>
                    <p:cNvPr id="1227" name="AutoShape 167"/>
                    <p:cNvSpPr/>
                    <p:nvPr/>
                  </p:nvSpPr>
                  <p:spPr>
                    <a:xfrm>
                      <a:off x="2740320" y="9583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WordArt 168"/>
                    <p:cNvSpPr txBox="1"/>
                    <p:nvPr/>
                  </p:nvSpPr>
                  <p:spPr>
                    <a:xfrm rot="15600">
                      <a:off x="2779200" y="9734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乎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29" name="Group 169"/>
                  <p:cNvGrpSpPr/>
                  <p:nvPr/>
                </p:nvGrpSpPr>
                <p:grpSpPr>
                  <a:xfrm>
                    <a:off x="2620440" y="1078920"/>
                    <a:ext cx="380880" cy="191160"/>
                    <a:chOff x="2620440" y="1078920"/>
                    <a:chExt cx="380880" cy="191160"/>
                  </a:xfrm>
                </p:grpSpPr>
                <p:sp>
                  <p:nvSpPr>
                    <p:cNvPr id="1230" name="AutoShape 170"/>
                    <p:cNvSpPr/>
                    <p:nvPr/>
                  </p:nvSpPr>
                  <p:spPr>
                    <a:xfrm>
                      <a:off x="2620440" y="1078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1" name="WordArt 171"/>
                    <p:cNvSpPr txBox="1"/>
                    <p:nvPr/>
                  </p:nvSpPr>
                  <p:spPr>
                    <a:xfrm rot="15600">
                      <a:off x="2659320" y="1094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乎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32" name="Group 172"/>
                  <p:cNvGrpSpPr/>
                  <p:nvPr/>
                </p:nvGrpSpPr>
                <p:grpSpPr>
                  <a:xfrm>
                    <a:off x="2477520" y="1222920"/>
                    <a:ext cx="380880" cy="191160"/>
                    <a:chOff x="2477520" y="1222920"/>
                    <a:chExt cx="380880" cy="191160"/>
                  </a:xfrm>
                </p:grpSpPr>
                <p:sp>
                  <p:nvSpPr>
                    <p:cNvPr id="1233" name="AutoShape 173"/>
                    <p:cNvSpPr/>
                    <p:nvPr/>
                  </p:nvSpPr>
                  <p:spPr>
                    <a:xfrm>
                      <a:off x="2477520" y="122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4" name="WordArt 174"/>
                    <p:cNvSpPr txBox="1"/>
                    <p:nvPr/>
                  </p:nvSpPr>
                  <p:spPr>
                    <a:xfrm rot="15600">
                      <a:off x="2516400" y="123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乎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35" name="Group 175"/>
                  <p:cNvGrpSpPr/>
                  <p:nvPr/>
                </p:nvGrpSpPr>
                <p:grpSpPr>
                  <a:xfrm>
                    <a:off x="2334960" y="1366560"/>
                    <a:ext cx="380880" cy="191520"/>
                    <a:chOff x="2334960" y="1366560"/>
                    <a:chExt cx="380880" cy="191520"/>
                  </a:xfrm>
                </p:grpSpPr>
                <p:sp>
                  <p:nvSpPr>
                    <p:cNvPr id="1236" name="AutoShape 176"/>
                    <p:cNvSpPr/>
                    <p:nvPr/>
                  </p:nvSpPr>
                  <p:spPr>
                    <a:xfrm>
                      <a:off x="2334960" y="136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7" name="WordArt 177"/>
                    <p:cNvSpPr txBox="1"/>
                    <p:nvPr/>
                  </p:nvSpPr>
                  <p:spPr>
                    <a:xfrm rot="15600">
                      <a:off x="2373840" y="138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乎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38" name="Group 178"/>
                  <p:cNvGrpSpPr/>
                  <p:nvPr/>
                </p:nvGrpSpPr>
                <p:grpSpPr>
                  <a:xfrm>
                    <a:off x="2192400" y="1510200"/>
                    <a:ext cx="380880" cy="191160"/>
                    <a:chOff x="2192400" y="1510200"/>
                    <a:chExt cx="380880" cy="191160"/>
                  </a:xfrm>
                </p:grpSpPr>
                <p:sp>
                  <p:nvSpPr>
                    <p:cNvPr id="1239" name="AutoShape 179"/>
                    <p:cNvSpPr/>
                    <p:nvPr/>
                  </p:nvSpPr>
                  <p:spPr>
                    <a:xfrm>
                      <a:off x="2192400" y="151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0" name="WordArt 180"/>
                    <p:cNvSpPr txBox="1"/>
                    <p:nvPr/>
                  </p:nvSpPr>
                  <p:spPr>
                    <a:xfrm rot="15600">
                      <a:off x="2231280" y="152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乎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1241" name="Group 181"/>
                <p:cNvGrpSpPr/>
                <p:nvPr/>
              </p:nvGrpSpPr>
              <p:grpSpPr>
                <a:xfrm>
                  <a:off x="2454480" y="695160"/>
                  <a:ext cx="1190160" cy="1006200"/>
                  <a:chOff x="2454480" y="695160"/>
                  <a:chExt cx="1190160" cy="1006200"/>
                </a:xfrm>
              </p:grpSpPr>
              <p:grpSp>
                <p:nvGrpSpPr>
                  <p:cNvPr id="1242" name="Group 182"/>
                  <p:cNvGrpSpPr/>
                  <p:nvPr/>
                </p:nvGrpSpPr>
                <p:grpSpPr>
                  <a:xfrm>
                    <a:off x="3263760" y="695160"/>
                    <a:ext cx="380880" cy="191160"/>
                    <a:chOff x="3263760" y="695160"/>
                    <a:chExt cx="380880" cy="191160"/>
                  </a:xfrm>
                </p:grpSpPr>
                <p:sp>
                  <p:nvSpPr>
                    <p:cNvPr id="1243" name="AutoShape 183"/>
                    <p:cNvSpPr/>
                    <p:nvPr/>
                  </p:nvSpPr>
                  <p:spPr>
                    <a:xfrm>
                      <a:off x="3263760" y="69516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4" name="WordArt 184"/>
                    <p:cNvSpPr txBox="1"/>
                    <p:nvPr/>
                  </p:nvSpPr>
                  <p:spPr>
                    <a:xfrm rot="15600">
                      <a:off x="3302640" y="71028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動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45" name="Group 185"/>
                  <p:cNvGrpSpPr/>
                  <p:nvPr/>
                </p:nvGrpSpPr>
                <p:grpSpPr>
                  <a:xfrm>
                    <a:off x="3144960" y="814680"/>
                    <a:ext cx="380880" cy="191160"/>
                    <a:chOff x="3144960" y="814680"/>
                    <a:chExt cx="380880" cy="191160"/>
                  </a:xfrm>
                </p:grpSpPr>
                <p:sp>
                  <p:nvSpPr>
                    <p:cNvPr id="1246" name="AutoShape 186"/>
                    <p:cNvSpPr/>
                    <p:nvPr/>
                  </p:nvSpPr>
                  <p:spPr>
                    <a:xfrm>
                      <a:off x="3144960" y="814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7" name="WordArt 187"/>
                    <p:cNvSpPr txBox="1"/>
                    <p:nvPr/>
                  </p:nvSpPr>
                  <p:spPr>
                    <a:xfrm rot="15600">
                      <a:off x="3183840" y="829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心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48" name="Group 188"/>
                  <p:cNvGrpSpPr/>
                  <p:nvPr/>
                </p:nvGrpSpPr>
                <p:grpSpPr>
                  <a:xfrm>
                    <a:off x="3002400" y="958320"/>
                    <a:ext cx="380880" cy="191160"/>
                    <a:chOff x="3002400" y="958320"/>
                    <a:chExt cx="380880" cy="191160"/>
                  </a:xfrm>
                </p:grpSpPr>
                <p:sp>
                  <p:nvSpPr>
                    <p:cNvPr id="1249" name="AutoShape 189"/>
                    <p:cNvSpPr/>
                    <p:nvPr/>
                  </p:nvSpPr>
                  <p:spPr>
                    <a:xfrm>
                      <a:off x="3002400" y="9583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WordArt 190"/>
                    <p:cNvSpPr txBox="1"/>
                    <p:nvPr/>
                  </p:nvSpPr>
                  <p:spPr>
                    <a:xfrm rot="15600">
                      <a:off x="3041280" y="9734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忍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51" name="Group 191"/>
                  <p:cNvGrpSpPr/>
                  <p:nvPr/>
                </p:nvGrpSpPr>
                <p:grpSpPr>
                  <a:xfrm>
                    <a:off x="2882520" y="1078920"/>
                    <a:ext cx="380880" cy="191160"/>
                    <a:chOff x="2882520" y="1078920"/>
                    <a:chExt cx="380880" cy="191160"/>
                  </a:xfrm>
                </p:grpSpPr>
                <p:sp>
                  <p:nvSpPr>
                    <p:cNvPr id="1252" name="AutoShape 192"/>
                    <p:cNvSpPr/>
                    <p:nvPr/>
                  </p:nvSpPr>
                  <p:spPr>
                    <a:xfrm>
                      <a:off x="2882520" y="1078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3" name="WordArt 193"/>
                    <p:cNvSpPr txBox="1"/>
                    <p:nvPr/>
                  </p:nvSpPr>
                  <p:spPr>
                    <a:xfrm rot="15600">
                      <a:off x="2921400" y="1094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性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54" name="Group 194"/>
                  <p:cNvGrpSpPr/>
                  <p:nvPr/>
                </p:nvGrpSpPr>
                <p:grpSpPr>
                  <a:xfrm>
                    <a:off x="2739600" y="1222920"/>
                    <a:ext cx="380880" cy="191160"/>
                    <a:chOff x="2739600" y="1222920"/>
                    <a:chExt cx="380880" cy="191160"/>
                  </a:xfrm>
                </p:grpSpPr>
                <p:sp>
                  <p:nvSpPr>
                    <p:cNvPr id="1255" name="AutoShape 195"/>
                    <p:cNvSpPr/>
                    <p:nvPr/>
                  </p:nvSpPr>
                  <p:spPr>
                    <a:xfrm>
                      <a:off x="2739600" y="122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6" name="WordArt 196"/>
                    <p:cNvSpPr txBox="1"/>
                    <p:nvPr/>
                  </p:nvSpPr>
                  <p:spPr>
                    <a:xfrm rot="15600">
                      <a:off x="2778480" y="123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曾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57" name="Group 197"/>
                  <p:cNvGrpSpPr/>
                  <p:nvPr/>
                </p:nvGrpSpPr>
                <p:grpSpPr>
                  <a:xfrm>
                    <a:off x="2597040" y="1366560"/>
                    <a:ext cx="380880" cy="191520"/>
                    <a:chOff x="2597040" y="1366560"/>
                    <a:chExt cx="380880" cy="191520"/>
                  </a:xfrm>
                </p:grpSpPr>
                <p:sp>
                  <p:nvSpPr>
                    <p:cNvPr id="1258" name="AutoShape 198"/>
                    <p:cNvSpPr/>
                    <p:nvPr/>
                  </p:nvSpPr>
                  <p:spPr>
                    <a:xfrm>
                      <a:off x="2597040" y="136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9" name="WordArt 199"/>
                    <p:cNvSpPr txBox="1"/>
                    <p:nvPr/>
                  </p:nvSpPr>
                  <p:spPr>
                    <a:xfrm rot="15600">
                      <a:off x="2635920" y="138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益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60" name="Group 200"/>
                  <p:cNvGrpSpPr/>
                  <p:nvPr/>
                </p:nvGrpSpPr>
                <p:grpSpPr>
                  <a:xfrm>
                    <a:off x="2454480" y="1510200"/>
                    <a:ext cx="380880" cy="191160"/>
                    <a:chOff x="2454480" y="1510200"/>
                    <a:chExt cx="380880" cy="191160"/>
                  </a:xfrm>
                </p:grpSpPr>
                <p:sp>
                  <p:nvSpPr>
                    <p:cNvPr id="1261" name="AutoShape 201"/>
                    <p:cNvSpPr/>
                    <p:nvPr/>
                  </p:nvSpPr>
                  <p:spPr>
                    <a:xfrm>
                      <a:off x="2454480" y="151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2" name="WordArt 202"/>
                    <p:cNvSpPr txBox="1"/>
                    <p:nvPr/>
                  </p:nvSpPr>
                  <p:spPr>
                    <a:xfrm rot="15600">
                      <a:off x="2493360" y="152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其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1263" name="Group 203"/>
                <p:cNvGrpSpPr/>
                <p:nvPr/>
              </p:nvGrpSpPr>
              <p:grpSpPr>
                <a:xfrm>
                  <a:off x="2716560" y="695160"/>
                  <a:ext cx="1190880" cy="1006200"/>
                  <a:chOff x="2716560" y="695160"/>
                  <a:chExt cx="1190880" cy="1006200"/>
                </a:xfrm>
              </p:grpSpPr>
              <p:grpSp>
                <p:nvGrpSpPr>
                  <p:cNvPr id="1264" name="Group 204"/>
                  <p:cNvGrpSpPr/>
                  <p:nvPr/>
                </p:nvGrpSpPr>
                <p:grpSpPr>
                  <a:xfrm>
                    <a:off x="3526200" y="695160"/>
                    <a:ext cx="381240" cy="191160"/>
                    <a:chOff x="3526200" y="695160"/>
                    <a:chExt cx="381240" cy="191160"/>
                  </a:xfrm>
                </p:grpSpPr>
                <p:sp>
                  <p:nvSpPr>
                    <p:cNvPr id="1265" name="AutoShape 205"/>
                    <p:cNvSpPr/>
                    <p:nvPr/>
                  </p:nvSpPr>
                  <p:spPr>
                    <a:xfrm>
                      <a:off x="3526200" y="69516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6" name="WordArt 206"/>
                    <p:cNvSpPr txBox="1"/>
                    <p:nvPr/>
                  </p:nvSpPr>
                  <p:spPr>
                    <a:xfrm rot="15600">
                      <a:off x="3565800" y="71028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拂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67" name="Group 207"/>
                  <p:cNvGrpSpPr/>
                  <p:nvPr/>
                </p:nvGrpSpPr>
                <p:grpSpPr>
                  <a:xfrm>
                    <a:off x="3407400" y="814680"/>
                    <a:ext cx="381240" cy="191160"/>
                    <a:chOff x="3407400" y="814680"/>
                    <a:chExt cx="381240" cy="191160"/>
                  </a:xfrm>
                </p:grpSpPr>
                <p:sp>
                  <p:nvSpPr>
                    <p:cNvPr id="1268" name="AutoShape 208"/>
                    <p:cNvSpPr/>
                    <p:nvPr/>
                  </p:nvSpPr>
                  <p:spPr>
                    <a:xfrm>
                      <a:off x="3407400" y="81468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9" name="WordArt 209"/>
                    <p:cNvSpPr txBox="1"/>
                    <p:nvPr/>
                  </p:nvSpPr>
                  <p:spPr>
                    <a:xfrm rot="15600">
                      <a:off x="3447000" y="82980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亂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70" name="Group 210"/>
                  <p:cNvGrpSpPr/>
                  <p:nvPr/>
                </p:nvGrpSpPr>
                <p:grpSpPr>
                  <a:xfrm>
                    <a:off x="3264480" y="958320"/>
                    <a:ext cx="380880" cy="191160"/>
                    <a:chOff x="3264480" y="958320"/>
                    <a:chExt cx="380880" cy="191160"/>
                  </a:xfrm>
                </p:grpSpPr>
                <p:sp>
                  <p:nvSpPr>
                    <p:cNvPr id="1271" name="AutoShape 211"/>
                    <p:cNvSpPr/>
                    <p:nvPr/>
                  </p:nvSpPr>
                  <p:spPr>
                    <a:xfrm>
                      <a:off x="3264480" y="9583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2" name="WordArt 212"/>
                    <p:cNvSpPr txBox="1"/>
                    <p:nvPr/>
                  </p:nvSpPr>
                  <p:spPr>
                    <a:xfrm rot="15600">
                      <a:off x="3303360" y="9734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其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73" name="Group 213"/>
                  <p:cNvGrpSpPr/>
                  <p:nvPr/>
                </p:nvGrpSpPr>
                <p:grpSpPr>
                  <a:xfrm>
                    <a:off x="3144960" y="1078920"/>
                    <a:ext cx="381240" cy="191160"/>
                    <a:chOff x="3144960" y="1078920"/>
                    <a:chExt cx="381240" cy="191160"/>
                  </a:xfrm>
                </p:grpSpPr>
                <p:sp>
                  <p:nvSpPr>
                    <p:cNvPr id="1274" name="AutoShape 214"/>
                    <p:cNvSpPr/>
                    <p:nvPr/>
                  </p:nvSpPr>
                  <p:spPr>
                    <a:xfrm>
                      <a:off x="3144960" y="107892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5" name="WordArt 215"/>
                    <p:cNvSpPr txBox="1"/>
                    <p:nvPr/>
                  </p:nvSpPr>
                  <p:spPr>
                    <a:xfrm rot="15600">
                      <a:off x="3184560" y="109404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所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76" name="Group 216"/>
                  <p:cNvGrpSpPr/>
                  <p:nvPr/>
                </p:nvGrpSpPr>
                <p:grpSpPr>
                  <a:xfrm>
                    <a:off x="3002040" y="1222920"/>
                    <a:ext cx="381240" cy="191160"/>
                    <a:chOff x="3002040" y="1222920"/>
                    <a:chExt cx="381240" cy="191160"/>
                  </a:xfrm>
                </p:grpSpPr>
                <p:sp>
                  <p:nvSpPr>
                    <p:cNvPr id="1277" name="AutoShape 217"/>
                    <p:cNvSpPr/>
                    <p:nvPr/>
                  </p:nvSpPr>
                  <p:spPr>
                    <a:xfrm>
                      <a:off x="3002040" y="122292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8" name="WordArt 218"/>
                    <p:cNvSpPr txBox="1"/>
                    <p:nvPr/>
                  </p:nvSpPr>
                  <p:spPr>
                    <a:xfrm rot="15600">
                      <a:off x="3041640" y="123804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爲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79" name="Group 219"/>
                  <p:cNvGrpSpPr/>
                  <p:nvPr/>
                </p:nvGrpSpPr>
                <p:grpSpPr>
                  <a:xfrm>
                    <a:off x="2859120" y="1366560"/>
                    <a:ext cx="380880" cy="191520"/>
                    <a:chOff x="2859120" y="1366560"/>
                    <a:chExt cx="380880" cy="191520"/>
                  </a:xfrm>
                </p:grpSpPr>
                <p:sp>
                  <p:nvSpPr>
                    <p:cNvPr id="1280" name="AutoShape 220"/>
                    <p:cNvSpPr/>
                    <p:nvPr/>
                  </p:nvSpPr>
                  <p:spPr>
                    <a:xfrm>
                      <a:off x="2859120" y="136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1" name="WordArt 221"/>
                    <p:cNvSpPr txBox="1"/>
                    <p:nvPr/>
                  </p:nvSpPr>
                  <p:spPr>
                    <a:xfrm rot="15600">
                      <a:off x="2898000" y="138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所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82" name="Group 222"/>
                  <p:cNvGrpSpPr/>
                  <p:nvPr/>
                </p:nvGrpSpPr>
                <p:grpSpPr>
                  <a:xfrm>
                    <a:off x="2716560" y="1510200"/>
                    <a:ext cx="381240" cy="191160"/>
                    <a:chOff x="2716560" y="1510200"/>
                    <a:chExt cx="381240" cy="191160"/>
                  </a:xfrm>
                </p:grpSpPr>
                <p:sp>
                  <p:nvSpPr>
                    <p:cNvPr id="1283" name="AutoShape 223"/>
                    <p:cNvSpPr/>
                    <p:nvPr/>
                  </p:nvSpPr>
                  <p:spPr>
                    <a:xfrm>
                      <a:off x="2716560" y="1510200"/>
                      <a:ext cx="38124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4" name="WordArt 224"/>
                    <p:cNvSpPr txBox="1"/>
                    <p:nvPr/>
                  </p:nvSpPr>
                  <p:spPr>
                    <a:xfrm rot="15600">
                      <a:off x="2756160" y="1525320"/>
                      <a:ext cx="31500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以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1285" name="Group 225"/>
                <p:cNvGrpSpPr/>
                <p:nvPr/>
              </p:nvGrpSpPr>
              <p:grpSpPr>
                <a:xfrm>
                  <a:off x="2978640" y="695160"/>
                  <a:ext cx="1190160" cy="1006200"/>
                  <a:chOff x="2978640" y="695160"/>
                  <a:chExt cx="1190160" cy="1006200"/>
                </a:xfrm>
              </p:grpSpPr>
              <p:grpSp>
                <p:nvGrpSpPr>
                  <p:cNvPr id="1286" name="Group 226"/>
                  <p:cNvGrpSpPr/>
                  <p:nvPr/>
                </p:nvGrpSpPr>
                <p:grpSpPr>
                  <a:xfrm>
                    <a:off x="3787920" y="695160"/>
                    <a:ext cx="380880" cy="191160"/>
                    <a:chOff x="3787920" y="695160"/>
                    <a:chExt cx="380880" cy="191160"/>
                  </a:xfrm>
                </p:grpSpPr>
                <p:sp>
                  <p:nvSpPr>
                    <p:cNvPr id="1287" name="AutoShape 227"/>
                    <p:cNvSpPr/>
                    <p:nvPr/>
                  </p:nvSpPr>
                  <p:spPr>
                    <a:xfrm>
                      <a:off x="3787920" y="69516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8" name="WordArt 228"/>
                    <p:cNvSpPr txBox="1"/>
                    <p:nvPr/>
                  </p:nvSpPr>
                  <p:spPr>
                    <a:xfrm rot="15600">
                      <a:off x="3826800" y="71028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軆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89" name="Group 229"/>
                  <p:cNvGrpSpPr/>
                  <p:nvPr/>
                </p:nvGrpSpPr>
                <p:grpSpPr>
                  <a:xfrm>
                    <a:off x="3669120" y="814680"/>
                    <a:ext cx="380880" cy="191160"/>
                    <a:chOff x="3669120" y="814680"/>
                    <a:chExt cx="380880" cy="191160"/>
                  </a:xfrm>
                </p:grpSpPr>
                <p:sp>
                  <p:nvSpPr>
                    <p:cNvPr id="1290" name="AutoShape 230"/>
                    <p:cNvSpPr/>
                    <p:nvPr/>
                  </p:nvSpPr>
                  <p:spPr>
                    <a:xfrm>
                      <a:off x="3669120" y="814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1" name="WordArt 231"/>
                    <p:cNvSpPr txBox="1"/>
                    <p:nvPr/>
                  </p:nvSpPr>
                  <p:spPr>
                    <a:xfrm rot="15600">
                      <a:off x="3708000" y="829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膚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92" name="Group 232"/>
                  <p:cNvGrpSpPr/>
                  <p:nvPr/>
                </p:nvGrpSpPr>
                <p:grpSpPr>
                  <a:xfrm>
                    <a:off x="3526560" y="958320"/>
                    <a:ext cx="380880" cy="191160"/>
                    <a:chOff x="3526560" y="958320"/>
                    <a:chExt cx="380880" cy="191160"/>
                  </a:xfrm>
                </p:grpSpPr>
                <p:sp>
                  <p:nvSpPr>
                    <p:cNvPr id="1293" name="AutoShape 233"/>
                    <p:cNvSpPr/>
                    <p:nvPr/>
                  </p:nvSpPr>
                  <p:spPr>
                    <a:xfrm>
                      <a:off x="3526560" y="9583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4" name="WordArt 234"/>
                    <p:cNvSpPr txBox="1"/>
                    <p:nvPr/>
                  </p:nvSpPr>
                  <p:spPr>
                    <a:xfrm rot="15600">
                      <a:off x="3565440" y="9734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空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95" name="Group 235"/>
                  <p:cNvGrpSpPr/>
                  <p:nvPr/>
                </p:nvGrpSpPr>
                <p:grpSpPr>
                  <a:xfrm>
                    <a:off x="3406680" y="1078920"/>
                    <a:ext cx="380880" cy="191160"/>
                    <a:chOff x="3406680" y="1078920"/>
                    <a:chExt cx="380880" cy="191160"/>
                  </a:xfrm>
                </p:grpSpPr>
                <p:sp>
                  <p:nvSpPr>
                    <p:cNvPr id="1296" name="AutoShape 236"/>
                    <p:cNvSpPr/>
                    <p:nvPr/>
                  </p:nvSpPr>
                  <p:spPr>
                    <a:xfrm>
                      <a:off x="3406680" y="1078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WordArt 237"/>
                    <p:cNvSpPr txBox="1"/>
                    <p:nvPr/>
                  </p:nvSpPr>
                  <p:spPr>
                    <a:xfrm rot="15600">
                      <a:off x="3445560" y="1094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乏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298" name="Group 238"/>
                  <p:cNvGrpSpPr/>
                  <p:nvPr/>
                </p:nvGrpSpPr>
                <p:grpSpPr>
                  <a:xfrm>
                    <a:off x="3263760" y="1222920"/>
                    <a:ext cx="380880" cy="191160"/>
                    <a:chOff x="3263760" y="1222920"/>
                    <a:chExt cx="380880" cy="191160"/>
                  </a:xfrm>
                </p:grpSpPr>
                <p:sp>
                  <p:nvSpPr>
                    <p:cNvPr id="1299" name="AutoShape 239"/>
                    <p:cNvSpPr/>
                    <p:nvPr/>
                  </p:nvSpPr>
                  <p:spPr>
                    <a:xfrm>
                      <a:off x="3263760" y="122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0" name="WordArt 240"/>
                    <p:cNvSpPr txBox="1"/>
                    <p:nvPr/>
                  </p:nvSpPr>
                  <p:spPr>
                    <a:xfrm rot="15600">
                      <a:off x="3302640" y="123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其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01" name="Group 241"/>
                  <p:cNvGrpSpPr/>
                  <p:nvPr/>
                </p:nvGrpSpPr>
                <p:grpSpPr>
                  <a:xfrm>
                    <a:off x="3121200" y="1366560"/>
                    <a:ext cx="380880" cy="191520"/>
                    <a:chOff x="3121200" y="1366560"/>
                    <a:chExt cx="380880" cy="191520"/>
                  </a:xfrm>
                </p:grpSpPr>
                <p:sp>
                  <p:nvSpPr>
                    <p:cNvPr id="1302" name="AutoShape 242"/>
                    <p:cNvSpPr/>
                    <p:nvPr/>
                  </p:nvSpPr>
                  <p:spPr>
                    <a:xfrm>
                      <a:off x="3121200" y="136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3" name="WordArt 243"/>
                    <p:cNvSpPr txBox="1"/>
                    <p:nvPr/>
                  </p:nvSpPr>
                  <p:spPr>
                    <a:xfrm rot="15600">
                      <a:off x="3160080" y="138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身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04" name="Group 244"/>
                  <p:cNvGrpSpPr/>
                  <p:nvPr/>
                </p:nvGrpSpPr>
                <p:grpSpPr>
                  <a:xfrm>
                    <a:off x="2978640" y="1510200"/>
                    <a:ext cx="380880" cy="191160"/>
                    <a:chOff x="2978640" y="1510200"/>
                    <a:chExt cx="380880" cy="191160"/>
                  </a:xfrm>
                </p:grpSpPr>
                <p:sp>
                  <p:nvSpPr>
                    <p:cNvPr id="1305" name="AutoShape 245"/>
                    <p:cNvSpPr/>
                    <p:nvPr/>
                  </p:nvSpPr>
                  <p:spPr>
                    <a:xfrm>
                      <a:off x="2978640" y="151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6" name="WordArt 246"/>
                    <p:cNvSpPr txBox="1"/>
                    <p:nvPr/>
                  </p:nvSpPr>
                  <p:spPr>
                    <a:xfrm rot="15600">
                      <a:off x="3017520" y="152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行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1307" name="Group 247"/>
                <p:cNvGrpSpPr/>
                <p:nvPr/>
              </p:nvGrpSpPr>
              <p:grpSpPr>
                <a:xfrm>
                  <a:off x="3240720" y="695160"/>
                  <a:ext cx="1190160" cy="1006200"/>
                  <a:chOff x="3240720" y="695160"/>
                  <a:chExt cx="1190160" cy="1006200"/>
                </a:xfrm>
              </p:grpSpPr>
              <p:grpSp>
                <p:nvGrpSpPr>
                  <p:cNvPr id="1308" name="Group 248"/>
                  <p:cNvGrpSpPr/>
                  <p:nvPr/>
                </p:nvGrpSpPr>
                <p:grpSpPr>
                  <a:xfrm>
                    <a:off x="4050000" y="695160"/>
                    <a:ext cx="380880" cy="191160"/>
                    <a:chOff x="4050000" y="695160"/>
                    <a:chExt cx="380880" cy="191160"/>
                  </a:xfrm>
                </p:grpSpPr>
                <p:sp>
                  <p:nvSpPr>
                    <p:cNvPr id="1309" name="AutoShape 249"/>
                    <p:cNvSpPr/>
                    <p:nvPr/>
                  </p:nvSpPr>
                  <p:spPr>
                    <a:xfrm>
                      <a:off x="4050000" y="69516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0" name="WordArt 250"/>
                    <p:cNvSpPr txBox="1"/>
                    <p:nvPr/>
                  </p:nvSpPr>
                  <p:spPr>
                    <a:xfrm rot="15600">
                      <a:off x="4088880" y="71028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志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11" name="Group 251"/>
                  <p:cNvGrpSpPr/>
                  <p:nvPr/>
                </p:nvGrpSpPr>
                <p:grpSpPr>
                  <a:xfrm>
                    <a:off x="3931200" y="814680"/>
                    <a:ext cx="380880" cy="191160"/>
                    <a:chOff x="3931200" y="814680"/>
                    <a:chExt cx="380880" cy="191160"/>
                  </a:xfrm>
                </p:grpSpPr>
                <p:sp>
                  <p:nvSpPr>
                    <p:cNvPr id="1312" name="AutoShape 252"/>
                    <p:cNvSpPr/>
                    <p:nvPr/>
                  </p:nvSpPr>
                  <p:spPr>
                    <a:xfrm>
                      <a:off x="3931200" y="814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3" name="WordArt 253"/>
                    <p:cNvSpPr txBox="1"/>
                    <p:nvPr/>
                  </p:nvSpPr>
                  <p:spPr>
                    <a:xfrm rot="15600">
                      <a:off x="3970080" y="829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劳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14" name="Group 254"/>
                  <p:cNvGrpSpPr/>
                  <p:nvPr/>
                </p:nvGrpSpPr>
                <p:grpSpPr>
                  <a:xfrm>
                    <a:off x="3788640" y="958320"/>
                    <a:ext cx="380880" cy="191160"/>
                    <a:chOff x="3788640" y="958320"/>
                    <a:chExt cx="380880" cy="191160"/>
                  </a:xfrm>
                </p:grpSpPr>
                <p:sp>
                  <p:nvSpPr>
                    <p:cNvPr id="1315" name="AutoShape 255"/>
                    <p:cNvSpPr/>
                    <p:nvPr/>
                  </p:nvSpPr>
                  <p:spPr>
                    <a:xfrm>
                      <a:off x="3788640" y="9583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6" name="WordArt 256"/>
                    <p:cNvSpPr txBox="1"/>
                    <p:nvPr/>
                  </p:nvSpPr>
                  <p:spPr>
                    <a:xfrm rot="15600">
                      <a:off x="3827520" y="9734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其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17" name="Group 257"/>
                  <p:cNvGrpSpPr/>
                  <p:nvPr/>
                </p:nvGrpSpPr>
                <p:grpSpPr>
                  <a:xfrm>
                    <a:off x="3668760" y="1078920"/>
                    <a:ext cx="380880" cy="191160"/>
                    <a:chOff x="3668760" y="1078920"/>
                    <a:chExt cx="380880" cy="191160"/>
                  </a:xfrm>
                </p:grpSpPr>
                <p:sp>
                  <p:nvSpPr>
                    <p:cNvPr id="1318" name="AutoShape 258"/>
                    <p:cNvSpPr/>
                    <p:nvPr/>
                  </p:nvSpPr>
                  <p:spPr>
                    <a:xfrm>
                      <a:off x="3668760" y="1078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WordArt 259"/>
                    <p:cNvSpPr txBox="1"/>
                    <p:nvPr/>
                  </p:nvSpPr>
                  <p:spPr>
                    <a:xfrm rot="15600">
                      <a:off x="3707640" y="1094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筋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20" name="Group 260"/>
                  <p:cNvGrpSpPr/>
                  <p:nvPr/>
                </p:nvGrpSpPr>
                <p:grpSpPr>
                  <a:xfrm>
                    <a:off x="3525840" y="1222920"/>
                    <a:ext cx="380880" cy="191160"/>
                    <a:chOff x="3525840" y="1222920"/>
                    <a:chExt cx="380880" cy="191160"/>
                  </a:xfrm>
                </p:grpSpPr>
                <p:sp>
                  <p:nvSpPr>
                    <p:cNvPr id="1321" name="AutoShape 261"/>
                    <p:cNvSpPr/>
                    <p:nvPr/>
                  </p:nvSpPr>
                  <p:spPr>
                    <a:xfrm>
                      <a:off x="3525840" y="122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2" name="WordArt 262"/>
                    <p:cNvSpPr txBox="1"/>
                    <p:nvPr/>
                  </p:nvSpPr>
                  <p:spPr>
                    <a:xfrm rot="15600">
                      <a:off x="3564720" y="123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骨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23" name="Group 263"/>
                  <p:cNvGrpSpPr/>
                  <p:nvPr/>
                </p:nvGrpSpPr>
                <p:grpSpPr>
                  <a:xfrm>
                    <a:off x="3383280" y="1366560"/>
                    <a:ext cx="380880" cy="191520"/>
                    <a:chOff x="3383280" y="1366560"/>
                    <a:chExt cx="380880" cy="191520"/>
                  </a:xfrm>
                </p:grpSpPr>
                <p:sp>
                  <p:nvSpPr>
                    <p:cNvPr id="1324" name="AutoShape 264"/>
                    <p:cNvSpPr/>
                    <p:nvPr/>
                  </p:nvSpPr>
                  <p:spPr>
                    <a:xfrm>
                      <a:off x="3383280" y="136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5" name="WordArt 265"/>
                    <p:cNvSpPr txBox="1"/>
                    <p:nvPr/>
                  </p:nvSpPr>
                  <p:spPr>
                    <a:xfrm rot="15600">
                      <a:off x="3422160" y="138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饿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26" name="Group 266"/>
                  <p:cNvGrpSpPr/>
                  <p:nvPr/>
                </p:nvGrpSpPr>
                <p:grpSpPr>
                  <a:xfrm>
                    <a:off x="3240720" y="1510200"/>
                    <a:ext cx="380880" cy="191160"/>
                    <a:chOff x="3240720" y="1510200"/>
                    <a:chExt cx="380880" cy="191160"/>
                  </a:xfrm>
                </p:grpSpPr>
                <p:sp>
                  <p:nvSpPr>
                    <p:cNvPr id="1327" name="AutoShape 267"/>
                    <p:cNvSpPr/>
                    <p:nvPr/>
                  </p:nvSpPr>
                  <p:spPr>
                    <a:xfrm>
                      <a:off x="3240720" y="151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8" name="WordArt 268"/>
                    <p:cNvSpPr txBox="1"/>
                    <p:nvPr/>
                  </p:nvSpPr>
                  <p:spPr>
                    <a:xfrm rot="15600">
                      <a:off x="3279600" y="152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其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1329" name="Group 269"/>
                <p:cNvGrpSpPr/>
                <p:nvPr/>
              </p:nvGrpSpPr>
              <p:grpSpPr>
                <a:xfrm>
                  <a:off x="3502440" y="695160"/>
                  <a:ext cx="1190160" cy="1006200"/>
                  <a:chOff x="3502440" y="695160"/>
                  <a:chExt cx="1190160" cy="1006200"/>
                </a:xfrm>
              </p:grpSpPr>
              <p:grpSp>
                <p:nvGrpSpPr>
                  <p:cNvPr id="1330" name="Group 270"/>
                  <p:cNvGrpSpPr/>
                  <p:nvPr/>
                </p:nvGrpSpPr>
                <p:grpSpPr>
                  <a:xfrm>
                    <a:off x="4311720" y="695160"/>
                    <a:ext cx="380880" cy="191160"/>
                    <a:chOff x="4311720" y="695160"/>
                    <a:chExt cx="380880" cy="191160"/>
                  </a:xfrm>
                </p:grpSpPr>
                <p:sp>
                  <p:nvSpPr>
                    <p:cNvPr id="1331" name="AutoShape 271"/>
                    <p:cNvSpPr/>
                    <p:nvPr/>
                  </p:nvSpPr>
                  <p:spPr>
                    <a:xfrm>
                      <a:off x="4311720" y="69516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2" name="WordArt 272"/>
                    <p:cNvSpPr txBox="1"/>
                    <p:nvPr/>
                  </p:nvSpPr>
                  <p:spPr>
                    <a:xfrm rot="15600">
                      <a:off x="4350600" y="71028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人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33" name="Group 273"/>
                  <p:cNvGrpSpPr/>
                  <p:nvPr/>
                </p:nvGrpSpPr>
                <p:grpSpPr>
                  <a:xfrm>
                    <a:off x="4192920" y="814680"/>
                    <a:ext cx="380880" cy="191160"/>
                    <a:chOff x="4192920" y="814680"/>
                    <a:chExt cx="380880" cy="191160"/>
                  </a:xfrm>
                </p:grpSpPr>
                <p:sp>
                  <p:nvSpPr>
                    <p:cNvPr id="1334" name="AutoShape 274"/>
                    <p:cNvSpPr/>
                    <p:nvPr/>
                  </p:nvSpPr>
                  <p:spPr>
                    <a:xfrm>
                      <a:off x="4192920" y="814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5" name="WordArt 275"/>
                    <p:cNvSpPr txBox="1"/>
                    <p:nvPr/>
                  </p:nvSpPr>
                  <p:spPr>
                    <a:xfrm rot="15600">
                      <a:off x="4231800" y="829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也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36" name="Group 276"/>
                  <p:cNvGrpSpPr/>
                  <p:nvPr/>
                </p:nvGrpSpPr>
                <p:grpSpPr>
                  <a:xfrm>
                    <a:off x="4050360" y="958320"/>
                    <a:ext cx="380880" cy="191160"/>
                    <a:chOff x="4050360" y="958320"/>
                    <a:chExt cx="380880" cy="191160"/>
                  </a:xfrm>
                </p:grpSpPr>
                <p:sp>
                  <p:nvSpPr>
                    <p:cNvPr id="1337" name="AutoShape 277"/>
                    <p:cNvSpPr/>
                    <p:nvPr/>
                  </p:nvSpPr>
                  <p:spPr>
                    <a:xfrm>
                      <a:off x="4050360" y="9583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8" name="WordArt 278"/>
                    <p:cNvSpPr txBox="1"/>
                    <p:nvPr/>
                  </p:nvSpPr>
                  <p:spPr>
                    <a:xfrm rot="15600">
                      <a:off x="4089240" y="9734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必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39" name="Group 279"/>
                  <p:cNvGrpSpPr/>
                  <p:nvPr/>
                </p:nvGrpSpPr>
                <p:grpSpPr>
                  <a:xfrm>
                    <a:off x="3930480" y="1078920"/>
                    <a:ext cx="380880" cy="191160"/>
                    <a:chOff x="3930480" y="1078920"/>
                    <a:chExt cx="380880" cy="191160"/>
                  </a:xfrm>
                </p:grpSpPr>
                <p:sp>
                  <p:nvSpPr>
                    <p:cNvPr id="1340" name="AutoShape 280"/>
                    <p:cNvSpPr/>
                    <p:nvPr/>
                  </p:nvSpPr>
                  <p:spPr>
                    <a:xfrm>
                      <a:off x="3930480" y="1078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1" name="WordArt 281"/>
                    <p:cNvSpPr txBox="1"/>
                    <p:nvPr/>
                  </p:nvSpPr>
                  <p:spPr>
                    <a:xfrm rot="15600">
                      <a:off x="3969360" y="1094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先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42" name="Group 282"/>
                  <p:cNvGrpSpPr/>
                  <p:nvPr/>
                </p:nvGrpSpPr>
                <p:grpSpPr>
                  <a:xfrm>
                    <a:off x="3787560" y="1222920"/>
                    <a:ext cx="380880" cy="191160"/>
                    <a:chOff x="3787560" y="1222920"/>
                    <a:chExt cx="380880" cy="191160"/>
                  </a:xfrm>
                </p:grpSpPr>
                <p:sp>
                  <p:nvSpPr>
                    <p:cNvPr id="1343" name="AutoShape 283"/>
                    <p:cNvSpPr/>
                    <p:nvPr/>
                  </p:nvSpPr>
                  <p:spPr>
                    <a:xfrm>
                      <a:off x="3787560" y="122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4" name="WordArt 284"/>
                    <p:cNvSpPr txBox="1"/>
                    <p:nvPr/>
                  </p:nvSpPr>
                  <p:spPr>
                    <a:xfrm rot="15600">
                      <a:off x="3826440" y="123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苦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45" name="Group 285"/>
                  <p:cNvGrpSpPr/>
                  <p:nvPr/>
                </p:nvGrpSpPr>
                <p:grpSpPr>
                  <a:xfrm>
                    <a:off x="3645000" y="1366560"/>
                    <a:ext cx="380880" cy="191520"/>
                    <a:chOff x="3645000" y="1366560"/>
                    <a:chExt cx="380880" cy="191520"/>
                  </a:xfrm>
                </p:grpSpPr>
                <p:sp>
                  <p:nvSpPr>
                    <p:cNvPr id="1346" name="AutoShape 286"/>
                    <p:cNvSpPr/>
                    <p:nvPr/>
                  </p:nvSpPr>
                  <p:spPr>
                    <a:xfrm>
                      <a:off x="3645000" y="136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7" name="WordArt 287"/>
                    <p:cNvSpPr txBox="1"/>
                    <p:nvPr/>
                  </p:nvSpPr>
                  <p:spPr>
                    <a:xfrm rot="15600">
                      <a:off x="3683880" y="138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其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48" name="Group 288"/>
                  <p:cNvGrpSpPr/>
                  <p:nvPr/>
                </p:nvGrpSpPr>
                <p:grpSpPr>
                  <a:xfrm>
                    <a:off x="3502440" y="1510200"/>
                    <a:ext cx="380880" cy="191160"/>
                    <a:chOff x="3502440" y="1510200"/>
                    <a:chExt cx="380880" cy="191160"/>
                  </a:xfrm>
                </p:grpSpPr>
                <p:sp>
                  <p:nvSpPr>
                    <p:cNvPr id="1349" name="AutoShape 289"/>
                    <p:cNvSpPr/>
                    <p:nvPr/>
                  </p:nvSpPr>
                  <p:spPr>
                    <a:xfrm>
                      <a:off x="3502440" y="151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0" name="WordArt 290"/>
                    <p:cNvSpPr txBox="1"/>
                    <p:nvPr/>
                  </p:nvSpPr>
                  <p:spPr>
                    <a:xfrm rot="15600">
                      <a:off x="3541320" y="152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心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  <p:grpSp>
              <p:nvGrpSpPr>
                <p:cNvPr id="1351" name="Group 291"/>
                <p:cNvGrpSpPr/>
                <p:nvPr/>
              </p:nvGrpSpPr>
              <p:grpSpPr>
                <a:xfrm>
                  <a:off x="3740760" y="695160"/>
                  <a:ext cx="1190160" cy="1006200"/>
                  <a:chOff x="3740760" y="695160"/>
                  <a:chExt cx="1190160" cy="1006200"/>
                </a:xfrm>
              </p:grpSpPr>
              <p:grpSp>
                <p:nvGrpSpPr>
                  <p:cNvPr id="1352" name="Group 292"/>
                  <p:cNvGrpSpPr/>
                  <p:nvPr/>
                </p:nvGrpSpPr>
                <p:grpSpPr>
                  <a:xfrm>
                    <a:off x="4550040" y="695160"/>
                    <a:ext cx="380880" cy="191160"/>
                    <a:chOff x="4550040" y="695160"/>
                    <a:chExt cx="380880" cy="191160"/>
                  </a:xfrm>
                </p:grpSpPr>
                <p:sp>
                  <p:nvSpPr>
                    <p:cNvPr id="1353" name="AutoShape 293"/>
                    <p:cNvSpPr/>
                    <p:nvPr/>
                  </p:nvSpPr>
                  <p:spPr>
                    <a:xfrm>
                      <a:off x="4550040" y="69516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4" name="WordArt 294"/>
                    <p:cNvSpPr txBox="1"/>
                    <p:nvPr/>
                  </p:nvSpPr>
                  <p:spPr>
                    <a:xfrm rot="15600">
                      <a:off x="4588920" y="71028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故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55" name="Group 295"/>
                  <p:cNvGrpSpPr/>
                  <p:nvPr/>
                </p:nvGrpSpPr>
                <p:grpSpPr>
                  <a:xfrm>
                    <a:off x="4431240" y="814680"/>
                    <a:ext cx="380880" cy="191160"/>
                    <a:chOff x="4431240" y="814680"/>
                    <a:chExt cx="380880" cy="191160"/>
                  </a:xfrm>
                </p:grpSpPr>
                <p:sp>
                  <p:nvSpPr>
                    <p:cNvPr id="1356" name="AutoShape 296"/>
                    <p:cNvSpPr/>
                    <p:nvPr/>
                  </p:nvSpPr>
                  <p:spPr>
                    <a:xfrm>
                      <a:off x="4431240" y="81468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7" name="WordArt 297"/>
                    <p:cNvSpPr txBox="1"/>
                    <p:nvPr/>
                  </p:nvSpPr>
                  <p:spPr>
                    <a:xfrm rot="15600">
                      <a:off x="4470120" y="82980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天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58" name="Group 298"/>
                  <p:cNvGrpSpPr/>
                  <p:nvPr/>
                </p:nvGrpSpPr>
                <p:grpSpPr>
                  <a:xfrm>
                    <a:off x="4288680" y="958320"/>
                    <a:ext cx="380880" cy="191160"/>
                    <a:chOff x="4288680" y="958320"/>
                    <a:chExt cx="380880" cy="191160"/>
                  </a:xfrm>
                </p:grpSpPr>
                <p:sp>
                  <p:nvSpPr>
                    <p:cNvPr id="1359" name="AutoShape 299"/>
                    <p:cNvSpPr/>
                    <p:nvPr/>
                  </p:nvSpPr>
                  <p:spPr>
                    <a:xfrm>
                      <a:off x="4288680" y="9583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0" name="WordArt 300"/>
                    <p:cNvSpPr txBox="1"/>
                    <p:nvPr/>
                  </p:nvSpPr>
                  <p:spPr>
                    <a:xfrm rot="15600">
                      <a:off x="4327560" y="9734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降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61" name="Group 301"/>
                  <p:cNvGrpSpPr/>
                  <p:nvPr/>
                </p:nvGrpSpPr>
                <p:grpSpPr>
                  <a:xfrm>
                    <a:off x="4168800" y="1078920"/>
                    <a:ext cx="380880" cy="191160"/>
                    <a:chOff x="4168800" y="1078920"/>
                    <a:chExt cx="380880" cy="191160"/>
                  </a:xfrm>
                </p:grpSpPr>
                <p:sp>
                  <p:nvSpPr>
                    <p:cNvPr id="1362" name="AutoShape 302"/>
                    <p:cNvSpPr/>
                    <p:nvPr/>
                  </p:nvSpPr>
                  <p:spPr>
                    <a:xfrm>
                      <a:off x="4168800" y="1078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WordArt 303"/>
                    <p:cNvSpPr txBox="1"/>
                    <p:nvPr/>
                  </p:nvSpPr>
                  <p:spPr>
                    <a:xfrm rot="15600">
                      <a:off x="4207680" y="1094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大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64" name="Group 304"/>
                  <p:cNvGrpSpPr/>
                  <p:nvPr/>
                </p:nvGrpSpPr>
                <p:grpSpPr>
                  <a:xfrm>
                    <a:off x="4025880" y="1222920"/>
                    <a:ext cx="380880" cy="191160"/>
                    <a:chOff x="4025880" y="1222920"/>
                    <a:chExt cx="380880" cy="191160"/>
                  </a:xfrm>
                </p:grpSpPr>
                <p:sp>
                  <p:nvSpPr>
                    <p:cNvPr id="1365" name="AutoShape 305"/>
                    <p:cNvSpPr/>
                    <p:nvPr/>
                  </p:nvSpPr>
                  <p:spPr>
                    <a:xfrm>
                      <a:off x="4025880" y="122292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6" name="WordArt 306"/>
                    <p:cNvSpPr txBox="1"/>
                    <p:nvPr/>
                  </p:nvSpPr>
                  <p:spPr>
                    <a:xfrm rot="15600">
                      <a:off x="4064760" y="123804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任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67" name="Group 307"/>
                  <p:cNvGrpSpPr/>
                  <p:nvPr/>
                </p:nvGrpSpPr>
                <p:grpSpPr>
                  <a:xfrm>
                    <a:off x="3883320" y="1366560"/>
                    <a:ext cx="380880" cy="191520"/>
                    <a:chOff x="3883320" y="1366560"/>
                    <a:chExt cx="380880" cy="191520"/>
                  </a:xfrm>
                </p:grpSpPr>
                <p:sp>
                  <p:nvSpPr>
                    <p:cNvPr id="1368" name="AutoShape 308"/>
                    <p:cNvSpPr/>
                    <p:nvPr/>
                  </p:nvSpPr>
                  <p:spPr>
                    <a:xfrm>
                      <a:off x="3883320" y="1366560"/>
                      <a:ext cx="380880" cy="19152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9" name="WordArt 309"/>
                    <p:cNvSpPr txBox="1"/>
                    <p:nvPr/>
                  </p:nvSpPr>
                  <p:spPr>
                    <a:xfrm rot="15600">
                      <a:off x="3922200" y="1381680"/>
                      <a:ext cx="314640" cy="88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480" bIns="4248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於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  <p:grpSp>
                <p:nvGrpSpPr>
                  <p:cNvPr id="1370" name="Group 310"/>
                  <p:cNvGrpSpPr/>
                  <p:nvPr/>
                </p:nvGrpSpPr>
                <p:grpSpPr>
                  <a:xfrm>
                    <a:off x="3740760" y="1510200"/>
                    <a:ext cx="380880" cy="191160"/>
                    <a:chOff x="3740760" y="1510200"/>
                    <a:chExt cx="380880" cy="191160"/>
                  </a:xfrm>
                </p:grpSpPr>
                <p:sp>
                  <p:nvSpPr>
                    <p:cNvPr id="1371" name="AutoShape 311"/>
                    <p:cNvSpPr/>
                    <p:nvPr/>
                  </p:nvSpPr>
                  <p:spPr>
                    <a:xfrm>
                      <a:off x="3740760" y="1510200"/>
                      <a:ext cx="380880" cy="191160"/>
                    </a:xfrm>
                    <a:prstGeom prst="cube">
                      <a:avLst>
                        <a:gd name="adj" fmla="val 66597"/>
                      </a:avLst>
                    </a:prstGeom>
                    <a:solidFill>
                      <a:srgbClr val="ffcc99"/>
                    </a:solidFill>
                    <a:ln w="9360">
                      <a:solidFill>
                        <a:srgbClr val="cc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2" name="WordArt 312"/>
                    <p:cNvSpPr txBox="1"/>
                    <p:nvPr/>
                  </p:nvSpPr>
                  <p:spPr>
                    <a:xfrm rot="15600">
                      <a:off x="3779640" y="1525320"/>
                      <a:ext cx="314640" cy="885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2120" bIns="42120" anchor="t" anchorCtr="1">
                      <a:prstTxWarp prst="textPlain">
                        <a:avLst>
                          <a:gd name="adj" fmla="val 69310"/>
                        </a:avLst>
                      </a:prstTxWarp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</a:rPr>
                        <a:t>是</a:t>
                      </a:r>
                      <a:endParaRPr b="0" i="1" lang="en-US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  <a:ea typeface="宋体"/>
                      </a:endParaRPr>
                    </a:p>
                  </p:txBody>
                </p:sp>
              </p:grpSp>
            </p:grpSp>
          </p:grpSp>
          <p:grpSp>
            <p:nvGrpSpPr>
              <p:cNvPr id="1373" name="Group 313"/>
              <p:cNvGrpSpPr/>
              <p:nvPr/>
            </p:nvGrpSpPr>
            <p:grpSpPr>
              <a:xfrm>
                <a:off x="3994920" y="695160"/>
                <a:ext cx="1190160" cy="1006200"/>
                <a:chOff x="3994920" y="695160"/>
                <a:chExt cx="1190160" cy="1006200"/>
              </a:xfrm>
            </p:grpSpPr>
            <p:grpSp>
              <p:nvGrpSpPr>
                <p:cNvPr id="1374" name="Group 314"/>
                <p:cNvGrpSpPr/>
                <p:nvPr/>
              </p:nvGrpSpPr>
              <p:grpSpPr>
                <a:xfrm>
                  <a:off x="4804200" y="695160"/>
                  <a:ext cx="380880" cy="191160"/>
                  <a:chOff x="4804200" y="695160"/>
                  <a:chExt cx="380880" cy="191160"/>
                </a:xfrm>
              </p:grpSpPr>
              <p:sp>
                <p:nvSpPr>
                  <p:cNvPr id="1375" name="AutoShape 315"/>
                  <p:cNvSpPr/>
                  <p:nvPr/>
                </p:nvSpPr>
                <p:spPr>
                  <a:xfrm>
                    <a:off x="4804200" y="695160"/>
                    <a:ext cx="38088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WordArt 316"/>
                  <p:cNvSpPr txBox="1"/>
                  <p:nvPr/>
                </p:nvSpPr>
                <p:spPr>
                  <a:xfrm rot="15600">
                    <a:off x="4843080" y="710280"/>
                    <a:ext cx="31464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377" name="Group 317"/>
                <p:cNvGrpSpPr/>
                <p:nvPr/>
              </p:nvGrpSpPr>
              <p:grpSpPr>
                <a:xfrm>
                  <a:off x="4685400" y="814680"/>
                  <a:ext cx="380880" cy="191160"/>
                  <a:chOff x="4685400" y="814680"/>
                  <a:chExt cx="380880" cy="191160"/>
                </a:xfrm>
              </p:grpSpPr>
              <p:sp>
                <p:nvSpPr>
                  <p:cNvPr id="1378" name="AutoShape 318"/>
                  <p:cNvSpPr/>
                  <p:nvPr/>
                </p:nvSpPr>
                <p:spPr>
                  <a:xfrm>
                    <a:off x="4685400" y="814680"/>
                    <a:ext cx="38088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WordArt 319"/>
                  <p:cNvSpPr txBox="1"/>
                  <p:nvPr/>
                </p:nvSpPr>
                <p:spPr>
                  <a:xfrm rot="15600">
                    <a:off x="4724280" y="829800"/>
                    <a:ext cx="31464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380" name="Group 320"/>
                <p:cNvGrpSpPr/>
                <p:nvPr/>
              </p:nvGrpSpPr>
              <p:grpSpPr>
                <a:xfrm>
                  <a:off x="4542840" y="958320"/>
                  <a:ext cx="380880" cy="191160"/>
                  <a:chOff x="4542840" y="958320"/>
                  <a:chExt cx="380880" cy="191160"/>
                </a:xfrm>
              </p:grpSpPr>
              <p:sp>
                <p:nvSpPr>
                  <p:cNvPr id="1381" name="AutoShape 321"/>
                  <p:cNvSpPr/>
                  <p:nvPr/>
                </p:nvSpPr>
                <p:spPr>
                  <a:xfrm>
                    <a:off x="4542840" y="958320"/>
                    <a:ext cx="38088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WordArt 322"/>
                  <p:cNvSpPr txBox="1"/>
                  <p:nvPr/>
                </p:nvSpPr>
                <p:spPr>
                  <a:xfrm rot="15600">
                    <a:off x="4581720" y="973440"/>
                    <a:ext cx="31464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383" name="Group 323"/>
                <p:cNvGrpSpPr/>
                <p:nvPr/>
              </p:nvGrpSpPr>
              <p:grpSpPr>
                <a:xfrm>
                  <a:off x="4422960" y="1078920"/>
                  <a:ext cx="380880" cy="191160"/>
                  <a:chOff x="4422960" y="1078920"/>
                  <a:chExt cx="380880" cy="191160"/>
                </a:xfrm>
              </p:grpSpPr>
              <p:sp>
                <p:nvSpPr>
                  <p:cNvPr id="1384" name="AutoShape 324"/>
                  <p:cNvSpPr/>
                  <p:nvPr/>
                </p:nvSpPr>
                <p:spPr>
                  <a:xfrm>
                    <a:off x="4422960" y="1078920"/>
                    <a:ext cx="38088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WordArt 325"/>
                  <p:cNvSpPr txBox="1"/>
                  <p:nvPr/>
                </p:nvSpPr>
                <p:spPr>
                  <a:xfrm rot="15600">
                    <a:off x="4461840" y="1094040"/>
                    <a:ext cx="31464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386" name="Group 326"/>
                <p:cNvGrpSpPr/>
                <p:nvPr/>
              </p:nvGrpSpPr>
              <p:grpSpPr>
                <a:xfrm>
                  <a:off x="4280040" y="1222920"/>
                  <a:ext cx="380880" cy="191160"/>
                  <a:chOff x="4280040" y="1222920"/>
                  <a:chExt cx="380880" cy="191160"/>
                </a:xfrm>
              </p:grpSpPr>
              <p:sp>
                <p:nvSpPr>
                  <p:cNvPr id="1387" name="AutoShape 327"/>
                  <p:cNvSpPr/>
                  <p:nvPr/>
                </p:nvSpPr>
                <p:spPr>
                  <a:xfrm>
                    <a:off x="4280040" y="1222920"/>
                    <a:ext cx="38088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WordArt 328"/>
                  <p:cNvSpPr txBox="1"/>
                  <p:nvPr/>
                </p:nvSpPr>
                <p:spPr>
                  <a:xfrm rot="15600">
                    <a:off x="4318920" y="1238040"/>
                    <a:ext cx="31464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389" name="Group 329"/>
                <p:cNvGrpSpPr/>
                <p:nvPr/>
              </p:nvGrpSpPr>
              <p:grpSpPr>
                <a:xfrm>
                  <a:off x="4137480" y="1366560"/>
                  <a:ext cx="380880" cy="191520"/>
                  <a:chOff x="4137480" y="1366560"/>
                  <a:chExt cx="380880" cy="191520"/>
                </a:xfrm>
              </p:grpSpPr>
              <p:sp>
                <p:nvSpPr>
                  <p:cNvPr id="1390" name="AutoShape 330"/>
                  <p:cNvSpPr/>
                  <p:nvPr/>
                </p:nvSpPr>
                <p:spPr>
                  <a:xfrm>
                    <a:off x="4137480" y="13665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WordArt 331"/>
                  <p:cNvSpPr txBox="1"/>
                  <p:nvPr/>
                </p:nvSpPr>
                <p:spPr>
                  <a:xfrm rot="15600">
                    <a:off x="4176360" y="13816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392" name="Group 332"/>
                <p:cNvGrpSpPr/>
                <p:nvPr/>
              </p:nvGrpSpPr>
              <p:grpSpPr>
                <a:xfrm>
                  <a:off x="3994920" y="1510200"/>
                  <a:ext cx="380880" cy="191160"/>
                  <a:chOff x="3994920" y="1510200"/>
                  <a:chExt cx="380880" cy="191160"/>
                </a:xfrm>
              </p:grpSpPr>
              <p:sp>
                <p:nvSpPr>
                  <p:cNvPr id="1393" name="AutoShape 333"/>
                  <p:cNvSpPr/>
                  <p:nvPr/>
                </p:nvSpPr>
                <p:spPr>
                  <a:xfrm>
                    <a:off x="3994920" y="1510200"/>
                    <a:ext cx="38088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WordArt 334"/>
                  <p:cNvSpPr txBox="1"/>
                  <p:nvPr/>
                </p:nvSpPr>
                <p:spPr>
                  <a:xfrm rot="15600">
                    <a:off x="4033800" y="1525320"/>
                    <a:ext cx="31464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1395" name="Group 335"/>
              <p:cNvGrpSpPr/>
              <p:nvPr/>
            </p:nvGrpSpPr>
            <p:grpSpPr>
              <a:xfrm>
                <a:off x="4247280" y="695160"/>
                <a:ext cx="1190880" cy="1006200"/>
                <a:chOff x="4247280" y="695160"/>
                <a:chExt cx="1190880" cy="1006200"/>
              </a:xfrm>
            </p:grpSpPr>
            <p:grpSp>
              <p:nvGrpSpPr>
                <p:cNvPr id="1396" name="Group 336"/>
                <p:cNvGrpSpPr/>
                <p:nvPr/>
              </p:nvGrpSpPr>
              <p:grpSpPr>
                <a:xfrm>
                  <a:off x="5056920" y="695160"/>
                  <a:ext cx="381240" cy="191160"/>
                  <a:chOff x="5056920" y="695160"/>
                  <a:chExt cx="381240" cy="191160"/>
                </a:xfrm>
              </p:grpSpPr>
              <p:sp>
                <p:nvSpPr>
                  <p:cNvPr id="1397" name="AutoShape 337"/>
                  <p:cNvSpPr/>
                  <p:nvPr/>
                </p:nvSpPr>
                <p:spPr>
                  <a:xfrm>
                    <a:off x="5056920" y="69516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WordArt 338"/>
                  <p:cNvSpPr txBox="1"/>
                  <p:nvPr/>
                </p:nvSpPr>
                <p:spPr>
                  <a:xfrm rot="15600">
                    <a:off x="5096520" y="71028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399" name="Group 339"/>
                <p:cNvGrpSpPr/>
                <p:nvPr/>
              </p:nvGrpSpPr>
              <p:grpSpPr>
                <a:xfrm>
                  <a:off x="4938120" y="814680"/>
                  <a:ext cx="381240" cy="191160"/>
                  <a:chOff x="4938120" y="814680"/>
                  <a:chExt cx="381240" cy="191160"/>
                </a:xfrm>
              </p:grpSpPr>
              <p:sp>
                <p:nvSpPr>
                  <p:cNvPr id="1400" name="AutoShape 340"/>
                  <p:cNvSpPr/>
                  <p:nvPr/>
                </p:nvSpPr>
                <p:spPr>
                  <a:xfrm>
                    <a:off x="4938120" y="81468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WordArt 341"/>
                  <p:cNvSpPr txBox="1"/>
                  <p:nvPr/>
                </p:nvSpPr>
                <p:spPr>
                  <a:xfrm rot="15600">
                    <a:off x="4977720" y="82980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402" name="Group 342"/>
                <p:cNvGrpSpPr/>
                <p:nvPr/>
              </p:nvGrpSpPr>
              <p:grpSpPr>
                <a:xfrm>
                  <a:off x="4795200" y="958320"/>
                  <a:ext cx="380880" cy="191160"/>
                  <a:chOff x="4795200" y="958320"/>
                  <a:chExt cx="380880" cy="191160"/>
                </a:xfrm>
              </p:grpSpPr>
              <p:sp>
                <p:nvSpPr>
                  <p:cNvPr id="1403" name="AutoShape 343"/>
                  <p:cNvSpPr/>
                  <p:nvPr/>
                </p:nvSpPr>
                <p:spPr>
                  <a:xfrm>
                    <a:off x="4795200" y="958320"/>
                    <a:ext cx="38088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WordArt 344"/>
                  <p:cNvSpPr txBox="1"/>
                  <p:nvPr/>
                </p:nvSpPr>
                <p:spPr>
                  <a:xfrm rot="15600">
                    <a:off x="4834080" y="973440"/>
                    <a:ext cx="31464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405" name="Group 345"/>
                <p:cNvGrpSpPr/>
                <p:nvPr/>
              </p:nvGrpSpPr>
              <p:grpSpPr>
                <a:xfrm>
                  <a:off x="4675680" y="1078920"/>
                  <a:ext cx="381240" cy="191160"/>
                  <a:chOff x="4675680" y="1078920"/>
                  <a:chExt cx="381240" cy="191160"/>
                </a:xfrm>
              </p:grpSpPr>
              <p:sp>
                <p:nvSpPr>
                  <p:cNvPr id="1406" name="AutoShape 346"/>
                  <p:cNvSpPr/>
                  <p:nvPr/>
                </p:nvSpPr>
                <p:spPr>
                  <a:xfrm>
                    <a:off x="4675680" y="107892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WordArt 347"/>
                  <p:cNvSpPr txBox="1"/>
                  <p:nvPr/>
                </p:nvSpPr>
                <p:spPr>
                  <a:xfrm rot="15600">
                    <a:off x="4715280" y="109404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408" name="Group 348"/>
                <p:cNvGrpSpPr/>
                <p:nvPr/>
              </p:nvGrpSpPr>
              <p:grpSpPr>
                <a:xfrm>
                  <a:off x="4532760" y="1222920"/>
                  <a:ext cx="381240" cy="191160"/>
                  <a:chOff x="4532760" y="1222920"/>
                  <a:chExt cx="381240" cy="191160"/>
                </a:xfrm>
              </p:grpSpPr>
              <p:sp>
                <p:nvSpPr>
                  <p:cNvPr id="1409" name="AutoShape 349"/>
                  <p:cNvSpPr/>
                  <p:nvPr/>
                </p:nvSpPr>
                <p:spPr>
                  <a:xfrm>
                    <a:off x="4532760" y="122292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WordArt 350"/>
                  <p:cNvSpPr txBox="1"/>
                  <p:nvPr/>
                </p:nvSpPr>
                <p:spPr>
                  <a:xfrm rot="15600">
                    <a:off x="4572360" y="123804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411" name="Group 351"/>
                <p:cNvGrpSpPr/>
                <p:nvPr/>
              </p:nvGrpSpPr>
              <p:grpSpPr>
                <a:xfrm>
                  <a:off x="4389840" y="1366560"/>
                  <a:ext cx="380880" cy="191520"/>
                  <a:chOff x="4389840" y="1366560"/>
                  <a:chExt cx="380880" cy="191520"/>
                </a:xfrm>
              </p:grpSpPr>
              <p:sp>
                <p:nvSpPr>
                  <p:cNvPr id="1412" name="AutoShape 352"/>
                  <p:cNvSpPr/>
                  <p:nvPr/>
                </p:nvSpPr>
                <p:spPr>
                  <a:xfrm>
                    <a:off x="4389840" y="13665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WordArt 353"/>
                  <p:cNvSpPr txBox="1"/>
                  <p:nvPr/>
                </p:nvSpPr>
                <p:spPr>
                  <a:xfrm rot="15600">
                    <a:off x="4428720" y="13816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414" name="Group 354"/>
                <p:cNvGrpSpPr/>
                <p:nvPr/>
              </p:nvGrpSpPr>
              <p:grpSpPr>
                <a:xfrm>
                  <a:off x="4247280" y="1510200"/>
                  <a:ext cx="381240" cy="191160"/>
                  <a:chOff x="4247280" y="1510200"/>
                  <a:chExt cx="381240" cy="191160"/>
                </a:xfrm>
              </p:grpSpPr>
              <p:sp>
                <p:nvSpPr>
                  <p:cNvPr id="1415" name="AutoShape 355"/>
                  <p:cNvSpPr/>
                  <p:nvPr/>
                </p:nvSpPr>
                <p:spPr>
                  <a:xfrm>
                    <a:off x="4247280" y="151020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WordArt 356"/>
                  <p:cNvSpPr txBox="1"/>
                  <p:nvPr/>
                </p:nvSpPr>
                <p:spPr>
                  <a:xfrm rot="15600">
                    <a:off x="4286880" y="152532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乎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  <p:grpSp>
            <p:nvGrpSpPr>
              <p:cNvPr id="1417" name="Group 357"/>
              <p:cNvGrpSpPr/>
              <p:nvPr/>
            </p:nvGrpSpPr>
            <p:grpSpPr>
              <a:xfrm>
                <a:off x="4499640" y="695160"/>
                <a:ext cx="1190880" cy="1006200"/>
                <a:chOff x="4499640" y="695160"/>
                <a:chExt cx="1190880" cy="1006200"/>
              </a:xfrm>
            </p:grpSpPr>
            <p:grpSp>
              <p:nvGrpSpPr>
                <p:cNvPr id="1418" name="Group 358"/>
                <p:cNvGrpSpPr/>
                <p:nvPr/>
              </p:nvGrpSpPr>
              <p:grpSpPr>
                <a:xfrm>
                  <a:off x="5309280" y="695160"/>
                  <a:ext cx="381240" cy="191160"/>
                  <a:chOff x="5309280" y="695160"/>
                  <a:chExt cx="381240" cy="191160"/>
                </a:xfrm>
              </p:grpSpPr>
              <p:sp>
                <p:nvSpPr>
                  <p:cNvPr id="1419" name="AutoShape 359"/>
                  <p:cNvSpPr/>
                  <p:nvPr/>
                </p:nvSpPr>
                <p:spPr>
                  <a:xfrm>
                    <a:off x="5309280" y="69516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WordArt 360"/>
                  <p:cNvSpPr txBox="1"/>
                  <p:nvPr/>
                </p:nvSpPr>
                <p:spPr>
                  <a:xfrm rot="15600">
                    <a:off x="5348880" y="71028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困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421" name="Group 361"/>
                <p:cNvGrpSpPr/>
                <p:nvPr/>
              </p:nvGrpSpPr>
              <p:grpSpPr>
                <a:xfrm>
                  <a:off x="5190480" y="814680"/>
                  <a:ext cx="381240" cy="191160"/>
                  <a:chOff x="5190480" y="814680"/>
                  <a:chExt cx="381240" cy="191160"/>
                </a:xfrm>
              </p:grpSpPr>
              <p:sp>
                <p:nvSpPr>
                  <p:cNvPr id="1422" name="AutoShape 362"/>
                  <p:cNvSpPr/>
                  <p:nvPr/>
                </p:nvSpPr>
                <p:spPr>
                  <a:xfrm>
                    <a:off x="5190480" y="81468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WordArt 363"/>
                  <p:cNvSpPr txBox="1"/>
                  <p:nvPr/>
                </p:nvSpPr>
                <p:spPr>
                  <a:xfrm rot="15600">
                    <a:off x="5230080" y="82980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於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424" name="Group 364"/>
                <p:cNvGrpSpPr/>
                <p:nvPr/>
              </p:nvGrpSpPr>
              <p:grpSpPr>
                <a:xfrm>
                  <a:off x="5047560" y="958320"/>
                  <a:ext cx="380880" cy="191160"/>
                  <a:chOff x="5047560" y="958320"/>
                  <a:chExt cx="380880" cy="191160"/>
                </a:xfrm>
              </p:grpSpPr>
              <p:sp>
                <p:nvSpPr>
                  <p:cNvPr id="1425" name="AutoShape 365"/>
                  <p:cNvSpPr/>
                  <p:nvPr/>
                </p:nvSpPr>
                <p:spPr>
                  <a:xfrm>
                    <a:off x="5047560" y="958320"/>
                    <a:ext cx="38088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WordArt 366"/>
                  <p:cNvSpPr txBox="1"/>
                  <p:nvPr/>
                </p:nvSpPr>
                <p:spPr>
                  <a:xfrm rot="15600">
                    <a:off x="5086440" y="973440"/>
                    <a:ext cx="31464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心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427" name="Group 367"/>
                <p:cNvGrpSpPr/>
                <p:nvPr/>
              </p:nvGrpSpPr>
              <p:grpSpPr>
                <a:xfrm>
                  <a:off x="4928040" y="1078920"/>
                  <a:ext cx="381240" cy="191160"/>
                  <a:chOff x="4928040" y="1078920"/>
                  <a:chExt cx="381240" cy="191160"/>
                </a:xfrm>
              </p:grpSpPr>
              <p:sp>
                <p:nvSpPr>
                  <p:cNvPr id="1428" name="AutoShape 368"/>
                  <p:cNvSpPr/>
                  <p:nvPr/>
                </p:nvSpPr>
                <p:spPr>
                  <a:xfrm>
                    <a:off x="4928040" y="107892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WordArt 369"/>
                  <p:cNvSpPr txBox="1"/>
                  <p:nvPr/>
                </p:nvSpPr>
                <p:spPr>
                  <a:xfrm rot="15600">
                    <a:off x="4967640" y="109404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衡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430" name="Group 370"/>
                <p:cNvGrpSpPr/>
                <p:nvPr/>
              </p:nvGrpSpPr>
              <p:grpSpPr>
                <a:xfrm>
                  <a:off x="4785120" y="1222920"/>
                  <a:ext cx="381240" cy="191160"/>
                  <a:chOff x="4785120" y="1222920"/>
                  <a:chExt cx="381240" cy="191160"/>
                </a:xfrm>
              </p:grpSpPr>
              <p:sp>
                <p:nvSpPr>
                  <p:cNvPr id="1431" name="AutoShape 371"/>
                  <p:cNvSpPr/>
                  <p:nvPr/>
                </p:nvSpPr>
                <p:spPr>
                  <a:xfrm>
                    <a:off x="4785120" y="122292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WordArt 372"/>
                  <p:cNvSpPr txBox="1"/>
                  <p:nvPr/>
                </p:nvSpPr>
                <p:spPr>
                  <a:xfrm rot="15600">
                    <a:off x="4824720" y="123804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於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433" name="Group 373"/>
                <p:cNvGrpSpPr/>
                <p:nvPr/>
              </p:nvGrpSpPr>
              <p:grpSpPr>
                <a:xfrm>
                  <a:off x="4642200" y="1366560"/>
                  <a:ext cx="380880" cy="191520"/>
                  <a:chOff x="4642200" y="1366560"/>
                  <a:chExt cx="380880" cy="191520"/>
                </a:xfrm>
              </p:grpSpPr>
              <p:sp>
                <p:nvSpPr>
                  <p:cNvPr id="1434" name="AutoShape 374"/>
                  <p:cNvSpPr/>
                  <p:nvPr/>
                </p:nvSpPr>
                <p:spPr>
                  <a:xfrm>
                    <a:off x="4642200" y="1366560"/>
                    <a:ext cx="380880" cy="19152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WordArt 375"/>
                  <p:cNvSpPr txBox="1"/>
                  <p:nvPr/>
                </p:nvSpPr>
                <p:spPr>
                  <a:xfrm rot="15600">
                    <a:off x="4681080" y="1381680"/>
                    <a:ext cx="314640" cy="88920"/>
                  </a:xfrm>
                  <a:prstGeom prst="rect">
                    <a:avLst/>
                  </a:prstGeom>
                </p:spPr>
                <p:txBody>
                  <a:bodyPr wrap="none" lIns="90000" rIns="90000" tIns="42480" bIns="4248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虑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1436" name="Group 376"/>
                <p:cNvGrpSpPr/>
                <p:nvPr/>
              </p:nvGrpSpPr>
              <p:grpSpPr>
                <a:xfrm>
                  <a:off x="4499640" y="1510200"/>
                  <a:ext cx="381240" cy="191160"/>
                  <a:chOff x="4499640" y="1510200"/>
                  <a:chExt cx="381240" cy="191160"/>
                </a:xfrm>
              </p:grpSpPr>
              <p:sp>
                <p:nvSpPr>
                  <p:cNvPr id="1437" name="AutoShape 377"/>
                  <p:cNvSpPr/>
                  <p:nvPr/>
                </p:nvSpPr>
                <p:spPr>
                  <a:xfrm>
                    <a:off x="4499640" y="1510200"/>
                    <a:ext cx="381240" cy="191160"/>
                  </a:xfrm>
                  <a:prstGeom prst="cube">
                    <a:avLst>
                      <a:gd name="adj" fmla="val 66597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WordArt 378"/>
                  <p:cNvSpPr txBox="1"/>
                  <p:nvPr/>
                </p:nvSpPr>
                <p:spPr>
                  <a:xfrm rot="15600">
                    <a:off x="4539240" y="1525320"/>
                    <a:ext cx="315000" cy="88560"/>
                  </a:xfrm>
                  <a:prstGeom prst="rect">
                    <a:avLst/>
                  </a:prstGeom>
                </p:spPr>
                <p:txBody>
                  <a:bodyPr wrap="none" lIns="90000" rIns="90000" tIns="42120" bIns="42120" anchor="t" anchorCtr="1">
                    <a:prstTxWarp prst="textPlain">
                      <a:avLst>
                        <a:gd name="adj" fmla="val 69310"/>
                      </a:avLst>
                    </a:prstTxWarp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1" strike="noStrike">
                        <a:ln w="9360">
                          <a:solidFill>
                            <a:srgbClr val="cc9900"/>
                          </a:solidFill>
                          <a:round/>
                        </a:ln>
                        <a:solidFill>
                          <a:srgbClr val="ffcc99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宋体"/>
                      </a:rPr>
                      <a:t>而</a:t>
                    </a:r>
                    <a:endParaRPr b="0" i="1" lang="en-US" sz="1800" spc="1" strike="noStrike">
                      <a:ln w="9360">
                        <a:solidFill>
                          <a:srgbClr val="cc9900"/>
                        </a:solidFill>
                        <a:round/>
                      </a:ln>
                      <a:solidFill>
                        <a:srgbClr val="ffcc99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宋体"/>
                      <a:ea typeface="宋体"/>
                    </a:endParaRPr>
                  </a:p>
                </p:txBody>
              </p:sp>
            </p:grpSp>
          </p:grpSp>
        </p:grpSp>
        <p:sp>
          <p:nvSpPr>
            <p:cNvPr id="1439" name="Rectangle 379"/>
            <p:cNvSpPr/>
            <p:nvPr/>
          </p:nvSpPr>
          <p:spPr>
            <a:xfrm>
              <a:off x="358920" y="1630440"/>
              <a:ext cx="4430160" cy="10764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AutoShape 380"/>
            <p:cNvSpPr/>
            <p:nvPr/>
          </p:nvSpPr>
          <p:spPr>
            <a:xfrm flipH="1" rot="16200000">
              <a:off x="4733280" y="745920"/>
              <a:ext cx="1041480" cy="936720"/>
            </a:xfrm>
            <a:prstGeom prst="parallelogram">
              <a:avLst>
                <a:gd name="adj" fmla="val 100183"/>
              </a:avLst>
            </a:prstGeom>
            <a:solidFill>
              <a:srgbClr val="5f5f5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1" name="AutoShape 381"/>
          <p:cNvSpPr/>
          <p:nvPr/>
        </p:nvSpPr>
        <p:spPr>
          <a:xfrm>
            <a:off x="-1297080" y="-936720"/>
            <a:ext cx="5256360" cy="936720"/>
          </a:xfrm>
          <a:prstGeom prst="parallelogram">
            <a:avLst>
              <a:gd name="adj" fmla="val 94459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Rectangle 382"/>
          <p:cNvSpPr/>
          <p:nvPr/>
        </p:nvSpPr>
        <p:spPr>
          <a:xfrm>
            <a:off x="6443640" y="62064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药稍熔，则以一平板按其面，则字平如砥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3" name="Group 383"/>
          <p:cNvGrpSpPr/>
          <p:nvPr/>
        </p:nvGrpSpPr>
        <p:grpSpPr>
          <a:xfrm>
            <a:off x="250920" y="3284640"/>
            <a:ext cx="5544720" cy="2557080"/>
            <a:chOff x="250920" y="3284640"/>
            <a:chExt cx="5544720" cy="2557080"/>
          </a:xfrm>
        </p:grpSpPr>
        <p:grpSp>
          <p:nvGrpSpPr>
            <p:cNvPr id="1444" name="Group 384"/>
            <p:cNvGrpSpPr/>
            <p:nvPr/>
          </p:nvGrpSpPr>
          <p:grpSpPr>
            <a:xfrm>
              <a:off x="250920" y="4797360"/>
              <a:ext cx="5364000" cy="1044360"/>
              <a:chOff x="250920" y="4797360"/>
              <a:chExt cx="5364000" cy="1044360"/>
            </a:xfrm>
          </p:grpSpPr>
          <p:sp>
            <p:nvSpPr>
              <p:cNvPr id="1445" name="AutoShape 385"/>
              <p:cNvSpPr/>
              <p:nvPr/>
            </p:nvSpPr>
            <p:spPr>
              <a:xfrm>
                <a:off x="250920" y="4797360"/>
                <a:ext cx="5364000" cy="1044360"/>
              </a:xfrm>
              <a:prstGeom prst="cube">
                <a:avLst>
                  <a:gd name="adj" fmla="val 89643"/>
                </a:avLst>
              </a:prstGeom>
              <a:solidFill>
                <a:srgbClr val="5f5f5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46" name="Group 386"/>
              <p:cNvGrpSpPr/>
              <p:nvPr/>
            </p:nvGrpSpPr>
            <p:grpSpPr>
              <a:xfrm>
                <a:off x="250920" y="4797360"/>
                <a:ext cx="5220720" cy="1044360"/>
                <a:chOff x="250920" y="4797360"/>
                <a:chExt cx="5220720" cy="1044360"/>
              </a:xfrm>
            </p:grpSpPr>
            <p:sp>
              <p:nvSpPr>
                <p:cNvPr id="1447" name="AutoShape 387"/>
                <p:cNvSpPr/>
                <p:nvPr/>
              </p:nvSpPr>
              <p:spPr>
                <a:xfrm>
                  <a:off x="431640" y="4941720"/>
                  <a:ext cx="5040000" cy="792360"/>
                </a:xfrm>
                <a:prstGeom prst="parallelogram">
                  <a:avLst>
                    <a:gd name="adj" fmla="val 99445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8" name="Group 388"/>
                <p:cNvGrpSpPr/>
                <p:nvPr/>
              </p:nvGrpSpPr>
              <p:grpSpPr>
                <a:xfrm>
                  <a:off x="250920" y="4797360"/>
                  <a:ext cx="3285360" cy="1008000"/>
                  <a:chOff x="250920" y="4797360"/>
                  <a:chExt cx="3285360" cy="1008000"/>
                </a:xfrm>
              </p:grpSpPr>
              <p:grpSp>
                <p:nvGrpSpPr>
                  <p:cNvPr id="1449" name="Group 389"/>
                  <p:cNvGrpSpPr/>
                  <p:nvPr/>
                </p:nvGrpSpPr>
                <p:grpSpPr>
                  <a:xfrm>
                    <a:off x="250920" y="4797360"/>
                    <a:ext cx="1190160" cy="1008000"/>
                    <a:chOff x="250920" y="4797360"/>
                    <a:chExt cx="1190160" cy="1008000"/>
                  </a:xfrm>
                </p:grpSpPr>
                <p:grpSp>
                  <p:nvGrpSpPr>
                    <p:cNvPr id="1450" name="Group 390"/>
                    <p:cNvGrpSpPr/>
                    <p:nvPr/>
                  </p:nvGrpSpPr>
                  <p:grpSpPr>
                    <a:xfrm>
                      <a:off x="1060200" y="4797360"/>
                      <a:ext cx="380880" cy="191520"/>
                      <a:chOff x="1060200" y="4797360"/>
                      <a:chExt cx="380880" cy="191520"/>
                    </a:xfrm>
                  </p:grpSpPr>
                  <p:sp>
                    <p:nvSpPr>
                      <p:cNvPr id="1451" name="AutoShape 391"/>
                      <p:cNvSpPr/>
                      <p:nvPr/>
                    </p:nvSpPr>
                    <p:spPr>
                      <a:xfrm>
                        <a:off x="1060200" y="479736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52" name="WordArt 392"/>
                      <p:cNvSpPr txBox="1"/>
                      <p:nvPr/>
                    </p:nvSpPr>
                    <p:spPr>
                      <a:xfrm rot="15600">
                        <a:off x="1099080" y="481248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敵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453" name="Group 393"/>
                    <p:cNvGrpSpPr/>
                    <p:nvPr/>
                  </p:nvGrpSpPr>
                  <p:grpSpPr>
                    <a:xfrm>
                      <a:off x="941400" y="4916880"/>
                      <a:ext cx="380880" cy="191520"/>
                      <a:chOff x="941400" y="4916880"/>
                      <a:chExt cx="380880" cy="191520"/>
                    </a:xfrm>
                  </p:grpSpPr>
                  <p:sp>
                    <p:nvSpPr>
                      <p:cNvPr id="1454" name="AutoShape 394"/>
                      <p:cNvSpPr/>
                      <p:nvPr/>
                    </p:nvSpPr>
                    <p:spPr>
                      <a:xfrm>
                        <a:off x="941400" y="49168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55" name="WordArt 395"/>
                      <p:cNvSpPr txBox="1"/>
                      <p:nvPr/>
                    </p:nvSpPr>
                    <p:spPr>
                      <a:xfrm rot="15600">
                        <a:off x="980280" y="49320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國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456" name="Group 396"/>
                    <p:cNvGrpSpPr/>
                    <p:nvPr/>
                  </p:nvGrpSpPr>
                  <p:grpSpPr>
                    <a:xfrm>
                      <a:off x="798840" y="5060880"/>
                      <a:ext cx="380880" cy="191520"/>
                      <a:chOff x="798840" y="5060880"/>
                      <a:chExt cx="380880" cy="191520"/>
                    </a:xfrm>
                  </p:grpSpPr>
                  <p:sp>
                    <p:nvSpPr>
                      <p:cNvPr id="1457" name="AutoShape 397"/>
                      <p:cNvSpPr/>
                      <p:nvPr/>
                    </p:nvSpPr>
                    <p:spPr>
                      <a:xfrm>
                        <a:off x="798840" y="50608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58" name="WordArt 398"/>
                      <p:cNvSpPr txBox="1"/>
                      <p:nvPr/>
                    </p:nvSpPr>
                    <p:spPr>
                      <a:xfrm rot="15600">
                        <a:off x="837720" y="50760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外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459" name="Group 399"/>
                    <p:cNvGrpSpPr/>
                    <p:nvPr/>
                  </p:nvGrpSpPr>
                  <p:grpSpPr>
                    <a:xfrm>
                      <a:off x="678960" y="5181480"/>
                      <a:ext cx="380880" cy="191520"/>
                      <a:chOff x="678960" y="5181480"/>
                      <a:chExt cx="380880" cy="191520"/>
                    </a:xfrm>
                  </p:grpSpPr>
                  <p:sp>
                    <p:nvSpPr>
                      <p:cNvPr id="1460" name="AutoShape 400"/>
                      <p:cNvSpPr/>
                      <p:nvPr/>
                    </p:nvSpPr>
                    <p:spPr>
                      <a:xfrm>
                        <a:off x="678960" y="51814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61" name="WordArt 401"/>
                      <p:cNvSpPr txBox="1"/>
                      <p:nvPr/>
                    </p:nvSpPr>
                    <p:spPr>
                      <a:xfrm rot="15600">
                        <a:off x="717840" y="51966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患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462" name="Group 402"/>
                    <p:cNvGrpSpPr/>
                    <p:nvPr/>
                  </p:nvGrpSpPr>
                  <p:grpSpPr>
                    <a:xfrm>
                      <a:off x="536040" y="5325840"/>
                      <a:ext cx="380880" cy="191520"/>
                      <a:chOff x="536040" y="5325840"/>
                      <a:chExt cx="380880" cy="191520"/>
                    </a:xfrm>
                  </p:grpSpPr>
                  <p:sp>
                    <p:nvSpPr>
                      <p:cNvPr id="1463" name="AutoShape 403"/>
                      <p:cNvSpPr/>
                      <p:nvPr/>
                    </p:nvSpPr>
                    <p:spPr>
                      <a:xfrm>
                        <a:off x="536040" y="532584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64" name="WordArt 404"/>
                      <p:cNvSpPr txBox="1"/>
                      <p:nvPr/>
                    </p:nvSpPr>
                    <p:spPr>
                      <a:xfrm rot="15600">
                        <a:off x="574920" y="534096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者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465" name="Group 405"/>
                    <p:cNvGrpSpPr/>
                    <p:nvPr/>
                  </p:nvGrpSpPr>
                  <p:grpSpPr>
                    <a:xfrm>
                      <a:off x="393480" y="5469480"/>
                      <a:ext cx="380880" cy="191520"/>
                      <a:chOff x="393480" y="5469480"/>
                      <a:chExt cx="380880" cy="191520"/>
                    </a:xfrm>
                  </p:grpSpPr>
                  <p:sp>
                    <p:nvSpPr>
                      <p:cNvPr id="1466" name="AutoShape 406"/>
                      <p:cNvSpPr/>
                      <p:nvPr/>
                    </p:nvSpPr>
                    <p:spPr>
                      <a:xfrm>
                        <a:off x="393480" y="54694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67" name="WordArt 407"/>
                      <p:cNvSpPr txBox="1"/>
                      <p:nvPr/>
                    </p:nvSpPr>
                    <p:spPr>
                      <a:xfrm rot="15600">
                        <a:off x="432360" y="54846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國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468" name="Group 408"/>
                    <p:cNvGrpSpPr/>
                    <p:nvPr/>
                  </p:nvGrpSpPr>
                  <p:grpSpPr>
                    <a:xfrm>
                      <a:off x="250920" y="5613840"/>
                      <a:ext cx="380880" cy="191520"/>
                      <a:chOff x="250920" y="5613840"/>
                      <a:chExt cx="380880" cy="191520"/>
                    </a:xfrm>
                  </p:grpSpPr>
                  <p:sp>
                    <p:nvSpPr>
                      <p:cNvPr id="1469" name="AutoShape 409"/>
                      <p:cNvSpPr/>
                      <p:nvPr/>
                    </p:nvSpPr>
                    <p:spPr>
                      <a:xfrm>
                        <a:off x="250920" y="561384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0" name="WordArt 410"/>
                      <p:cNvSpPr txBox="1"/>
                      <p:nvPr/>
                    </p:nvSpPr>
                    <p:spPr>
                      <a:xfrm rot="15600">
                        <a:off x="289800" y="562896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恒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</p:grpSp>
              <p:grpSp>
                <p:nvGrpSpPr>
                  <p:cNvPr id="1471" name="Group 411"/>
                  <p:cNvGrpSpPr/>
                  <p:nvPr/>
                </p:nvGrpSpPr>
                <p:grpSpPr>
                  <a:xfrm>
                    <a:off x="512640" y="4797360"/>
                    <a:ext cx="1189800" cy="1008000"/>
                    <a:chOff x="512640" y="4797360"/>
                    <a:chExt cx="1189800" cy="1008000"/>
                  </a:xfrm>
                </p:grpSpPr>
                <p:grpSp>
                  <p:nvGrpSpPr>
                    <p:cNvPr id="1472" name="Group 412"/>
                    <p:cNvGrpSpPr/>
                    <p:nvPr/>
                  </p:nvGrpSpPr>
                  <p:grpSpPr>
                    <a:xfrm>
                      <a:off x="1321560" y="4797360"/>
                      <a:ext cx="380880" cy="191520"/>
                      <a:chOff x="1321560" y="4797360"/>
                      <a:chExt cx="380880" cy="191520"/>
                    </a:xfrm>
                  </p:grpSpPr>
                  <p:sp>
                    <p:nvSpPr>
                      <p:cNvPr id="1473" name="AutoShape 413"/>
                      <p:cNvSpPr/>
                      <p:nvPr/>
                    </p:nvSpPr>
                    <p:spPr>
                      <a:xfrm>
                        <a:off x="1321560" y="479736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4" name="WordArt 414"/>
                      <p:cNvSpPr txBox="1"/>
                      <p:nvPr/>
                    </p:nvSpPr>
                    <p:spPr>
                      <a:xfrm rot="15600">
                        <a:off x="1360440" y="481248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法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475" name="Group 415"/>
                    <p:cNvGrpSpPr/>
                    <p:nvPr/>
                  </p:nvGrpSpPr>
                  <p:grpSpPr>
                    <a:xfrm>
                      <a:off x="1202760" y="4916880"/>
                      <a:ext cx="380880" cy="191520"/>
                      <a:chOff x="1202760" y="4916880"/>
                      <a:chExt cx="380880" cy="191520"/>
                    </a:xfrm>
                  </p:grpSpPr>
                  <p:sp>
                    <p:nvSpPr>
                      <p:cNvPr id="1476" name="AutoShape 416"/>
                      <p:cNvSpPr/>
                      <p:nvPr/>
                    </p:nvSpPr>
                    <p:spPr>
                      <a:xfrm>
                        <a:off x="1202760" y="49168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WordArt 417"/>
                      <p:cNvSpPr txBox="1"/>
                      <p:nvPr/>
                    </p:nvSpPr>
                    <p:spPr>
                      <a:xfrm rot="15600">
                        <a:off x="1241640" y="49320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家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478" name="Group 418"/>
                    <p:cNvGrpSpPr/>
                    <p:nvPr/>
                  </p:nvGrpSpPr>
                  <p:grpSpPr>
                    <a:xfrm>
                      <a:off x="1060200" y="5060880"/>
                      <a:ext cx="380520" cy="191520"/>
                      <a:chOff x="1060200" y="5060880"/>
                      <a:chExt cx="380520" cy="191520"/>
                    </a:xfrm>
                  </p:grpSpPr>
                  <p:sp>
                    <p:nvSpPr>
                      <p:cNvPr id="1479" name="AutoShape 419"/>
                      <p:cNvSpPr/>
                      <p:nvPr/>
                    </p:nvSpPr>
                    <p:spPr>
                      <a:xfrm>
                        <a:off x="1060200" y="5060880"/>
                        <a:ext cx="38052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0" name="WordArt 420"/>
                      <p:cNvSpPr txBox="1"/>
                      <p:nvPr/>
                    </p:nvSpPr>
                    <p:spPr>
                      <a:xfrm rot="15600">
                        <a:off x="1099800" y="5076000"/>
                        <a:ext cx="31428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拂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481" name="Group 421"/>
                    <p:cNvGrpSpPr/>
                    <p:nvPr/>
                  </p:nvGrpSpPr>
                  <p:grpSpPr>
                    <a:xfrm>
                      <a:off x="940680" y="5181480"/>
                      <a:ext cx="380880" cy="191520"/>
                      <a:chOff x="940680" y="5181480"/>
                      <a:chExt cx="380880" cy="191520"/>
                    </a:xfrm>
                  </p:grpSpPr>
                  <p:sp>
                    <p:nvSpPr>
                      <p:cNvPr id="1482" name="AutoShape 422"/>
                      <p:cNvSpPr/>
                      <p:nvPr/>
                    </p:nvSpPr>
                    <p:spPr>
                      <a:xfrm>
                        <a:off x="940680" y="51814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3" name="WordArt 423"/>
                      <p:cNvSpPr txBox="1"/>
                      <p:nvPr/>
                    </p:nvSpPr>
                    <p:spPr>
                      <a:xfrm rot="15600">
                        <a:off x="979560" y="51966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士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484" name="Group 424"/>
                    <p:cNvGrpSpPr/>
                    <p:nvPr/>
                  </p:nvGrpSpPr>
                  <p:grpSpPr>
                    <a:xfrm>
                      <a:off x="797760" y="5325840"/>
                      <a:ext cx="380880" cy="191520"/>
                      <a:chOff x="797760" y="5325840"/>
                      <a:chExt cx="380880" cy="191520"/>
                    </a:xfrm>
                  </p:grpSpPr>
                  <p:sp>
                    <p:nvSpPr>
                      <p:cNvPr id="1485" name="AutoShape 425"/>
                      <p:cNvSpPr/>
                      <p:nvPr/>
                    </p:nvSpPr>
                    <p:spPr>
                      <a:xfrm>
                        <a:off x="797760" y="532584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6" name="WordArt 426"/>
                      <p:cNvSpPr txBox="1"/>
                      <p:nvPr/>
                    </p:nvSpPr>
                    <p:spPr>
                      <a:xfrm rot="15600">
                        <a:off x="836640" y="534096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出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487" name="Group 427"/>
                    <p:cNvGrpSpPr/>
                    <p:nvPr/>
                  </p:nvGrpSpPr>
                  <p:grpSpPr>
                    <a:xfrm>
                      <a:off x="655200" y="5469480"/>
                      <a:ext cx="380520" cy="191520"/>
                      <a:chOff x="655200" y="5469480"/>
                      <a:chExt cx="380520" cy="191520"/>
                    </a:xfrm>
                  </p:grpSpPr>
                  <p:sp>
                    <p:nvSpPr>
                      <p:cNvPr id="1488" name="AutoShape 428"/>
                      <p:cNvSpPr/>
                      <p:nvPr/>
                    </p:nvSpPr>
                    <p:spPr>
                      <a:xfrm>
                        <a:off x="655200" y="5469480"/>
                        <a:ext cx="38052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9" name="WordArt 429"/>
                      <p:cNvSpPr txBox="1"/>
                      <p:nvPr/>
                    </p:nvSpPr>
                    <p:spPr>
                      <a:xfrm rot="15600">
                        <a:off x="694800" y="5484600"/>
                        <a:ext cx="31428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則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490" name="Group 430"/>
                    <p:cNvGrpSpPr/>
                    <p:nvPr/>
                  </p:nvGrpSpPr>
                  <p:grpSpPr>
                    <a:xfrm>
                      <a:off x="512640" y="5613840"/>
                      <a:ext cx="380880" cy="191520"/>
                      <a:chOff x="512640" y="5613840"/>
                      <a:chExt cx="380880" cy="191520"/>
                    </a:xfrm>
                  </p:grpSpPr>
                  <p:sp>
                    <p:nvSpPr>
                      <p:cNvPr id="1491" name="AutoShape 431"/>
                      <p:cNvSpPr/>
                      <p:nvPr/>
                    </p:nvSpPr>
                    <p:spPr>
                      <a:xfrm>
                        <a:off x="512640" y="561384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2" name="WordArt 432"/>
                      <p:cNvSpPr txBox="1"/>
                      <p:nvPr/>
                    </p:nvSpPr>
                    <p:spPr>
                      <a:xfrm rot="15600">
                        <a:off x="551520" y="562896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無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</p:grpSp>
              <p:grpSp>
                <p:nvGrpSpPr>
                  <p:cNvPr id="1493" name="Group 433"/>
                  <p:cNvGrpSpPr/>
                  <p:nvPr/>
                </p:nvGrpSpPr>
                <p:grpSpPr>
                  <a:xfrm>
                    <a:off x="774720" y="4797360"/>
                    <a:ext cx="1189800" cy="1008000"/>
                    <a:chOff x="774720" y="4797360"/>
                    <a:chExt cx="1189800" cy="1008000"/>
                  </a:xfrm>
                </p:grpSpPr>
                <p:grpSp>
                  <p:nvGrpSpPr>
                    <p:cNvPr id="1494" name="Group 434"/>
                    <p:cNvGrpSpPr/>
                    <p:nvPr/>
                  </p:nvGrpSpPr>
                  <p:grpSpPr>
                    <a:xfrm>
                      <a:off x="1583640" y="4797360"/>
                      <a:ext cx="380880" cy="191520"/>
                      <a:chOff x="1583640" y="4797360"/>
                      <a:chExt cx="380880" cy="191520"/>
                    </a:xfrm>
                  </p:grpSpPr>
                  <p:sp>
                    <p:nvSpPr>
                      <p:cNvPr id="1495" name="AutoShape 435"/>
                      <p:cNvSpPr/>
                      <p:nvPr/>
                    </p:nvSpPr>
                    <p:spPr>
                      <a:xfrm>
                        <a:off x="1583640" y="479736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6" name="WordArt 436"/>
                      <p:cNvSpPr txBox="1"/>
                      <p:nvPr/>
                    </p:nvSpPr>
                    <p:spPr>
                      <a:xfrm rot="15600">
                        <a:off x="1622520" y="481248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聲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497" name="Group 437"/>
                    <p:cNvGrpSpPr/>
                    <p:nvPr/>
                  </p:nvGrpSpPr>
                  <p:grpSpPr>
                    <a:xfrm>
                      <a:off x="1464840" y="4916880"/>
                      <a:ext cx="380880" cy="191520"/>
                      <a:chOff x="1464840" y="4916880"/>
                      <a:chExt cx="380880" cy="191520"/>
                    </a:xfrm>
                  </p:grpSpPr>
                  <p:sp>
                    <p:nvSpPr>
                      <p:cNvPr id="1498" name="AutoShape 438"/>
                      <p:cNvSpPr/>
                      <p:nvPr/>
                    </p:nvSpPr>
                    <p:spPr>
                      <a:xfrm>
                        <a:off x="1464840" y="49168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9" name="WordArt 439"/>
                      <p:cNvSpPr txBox="1"/>
                      <p:nvPr/>
                    </p:nvSpPr>
                    <p:spPr>
                      <a:xfrm rot="15600">
                        <a:off x="1503720" y="49320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而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00" name="Group 440"/>
                    <p:cNvGrpSpPr/>
                    <p:nvPr/>
                  </p:nvGrpSpPr>
                  <p:grpSpPr>
                    <a:xfrm>
                      <a:off x="1322280" y="5060880"/>
                      <a:ext cx="380520" cy="191520"/>
                      <a:chOff x="1322280" y="5060880"/>
                      <a:chExt cx="380520" cy="191520"/>
                    </a:xfrm>
                  </p:grpSpPr>
                  <p:sp>
                    <p:nvSpPr>
                      <p:cNvPr id="1501" name="AutoShape 441"/>
                      <p:cNvSpPr/>
                      <p:nvPr/>
                    </p:nvSpPr>
                    <p:spPr>
                      <a:xfrm>
                        <a:off x="1322280" y="5060880"/>
                        <a:ext cx="38052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2" name="WordArt 442"/>
                      <p:cNvSpPr txBox="1"/>
                      <p:nvPr/>
                    </p:nvSpPr>
                    <p:spPr>
                      <a:xfrm rot="15600">
                        <a:off x="1361880" y="5076000"/>
                        <a:ext cx="31428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後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03" name="Group 443"/>
                    <p:cNvGrpSpPr/>
                    <p:nvPr/>
                  </p:nvGrpSpPr>
                  <p:grpSpPr>
                    <a:xfrm>
                      <a:off x="1202760" y="5181480"/>
                      <a:ext cx="380880" cy="191520"/>
                      <a:chOff x="1202760" y="5181480"/>
                      <a:chExt cx="380880" cy="191520"/>
                    </a:xfrm>
                  </p:grpSpPr>
                  <p:sp>
                    <p:nvSpPr>
                      <p:cNvPr id="1504" name="AutoShape 444"/>
                      <p:cNvSpPr/>
                      <p:nvPr/>
                    </p:nvSpPr>
                    <p:spPr>
                      <a:xfrm>
                        <a:off x="1202760" y="51814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5" name="WordArt 445"/>
                      <p:cNvSpPr txBox="1"/>
                      <p:nvPr/>
                    </p:nvSpPr>
                    <p:spPr>
                      <a:xfrm rot="15600">
                        <a:off x="1241640" y="51966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喩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06" name="Group 446"/>
                    <p:cNvGrpSpPr/>
                    <p:nvPr/>
                  </p:nvGrpSpPr>
                  <p:grpSpPr>
                    <a:xfrm>
                      <a:off x="1059840" y="5325840"/>
                      <a:ext cx="380880" cy="191520"/>
                      <a:chOff x="1059840" y="5325840"/>
                      <a:chExt cx="380880" cy="191520"/>
                    </a:xfrm>
                  </p:grpSpPr>
                  <p:sp>
                    <p:nvSpPr>
                      <p:cNvPr id="1507" name="AutoShape 447"/>
                      <p:cNvSpPr/>
                      <p:nvPr/>
                    </p:nvSpPr>
                    <p:spPr>
                      <a:xfrm>
                        <a:off x="1059840" y="532584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8" name="WordArt 448"/>
                      <p:cNvSpPr txBox="1"/>
                      <p:nvPr/>
                    </p:nvSpPr>
                    <p:spPr>
                      <a:xfrm rot="15600">
                        <a:off x="1098720" y="534096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入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09" name="Group 449"/>
                    <p:cNvGrpSpPr/>
                    <p:nvPr/>
                  </p:nvGrpSpPr>
                  <p:grpSpPr>
                    <a:xfrm>
                      <a:off x="917280" y="5469480"/>
                      <a:ext cx="380520" cy="191520"/>
                      <a:chOff x="917280" y="5469480"/>
                      <a:chExt cx="380520" cy="191520"/>
                    </a:xfrm>
                  </p:grpSpPr>
                  <p:sp>
                    <p:nvSpPr>
                      <p:cNvPr id="1510" name="AutoShape 450"/>
                      <p:cNvSpPr/>
                      <p:nvPr/>
                    </p:nvSpPr>
                    <p:spPr>
                      <a:xfrm>
                        <a:off x="917280" y="5469480"/>
                        <a:ext cx="38052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1" name="WordArt 451"/>
                      <p:cNvSpPr txBox="1"/>
                      <p:nvPr/>
                    </p:nvSpPr>
                    <p:spPr>
                      <a:xfrm rot="15600">
                        <a:off x="956880" y="5484600"/>
                        <a:ext cx="31428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則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12" name="Group 452"/>
                    <p:cNvGrpSpPr/>
                    <p:nvPr/>
                  </p:nvGrpSpPr>
                  <p:grpSpPr>
                    <a:xfrm>
                      <a:off x="774720" y="5613840"/>
                      <a:ext cx="380880" cy="191520"/>
                      <a:chOff x="774720" y="5613840"/>
                      <a:chExt cx="380880" cy="191520"/>
                    </a:xfrm>
                  </p:grpSpPr>
                  <p:sp>
                    <p:nvSpPr>
                      <p:cNvPr id="1513" name="AutoShape 453"/>
                      <p:cNvSpPr/>
                      <p:nvPr/>
                    </p:nvSpPr>
                    <p:spPr>
                      <a:xfrm>
                        <a:off x="774720" y="561384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4" name="WordArt 454"/>
                      <p:cNvSpPr txBox="1"/>
                      <p:nvPr/>
                    </p:nvSpPr>
                    <p:spPr>
                      <a:xfrm rot="15600">
                        <a:off x="813600" y="562896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無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</p:grpSp>
              <p:grpSp>
                <p:nvGrpSpPr>
                  <p:cNvPr id="1515" name="Group 455"/>
                  <p:cNvGrpSpPr/>
                  <p:nvPr/>
                </p:nvGrpSpPr>
                <p:grpSpPr>
                  <a:xfrm>
                    <a:off x="1036440" y="4797360"/>
                    <a:ext cx="1190160" cy="1008000"/>
                    <a:chOff x="1036440" y="4797360"/>
                    <a:chExt cx="1190160" cy="1008000"/>
                  </a:xfrm>
                </p:grpSpPr>
                <p:grpSp>
                  <p:nvGrpSpPr>
                    <p:cNvPr id="1516" name="Group 456"/>
                    <p:cNvGrpSpPr/>
                    <p:nvPr/>
                  </p:nvGrpSpPr>
                  <p:grpSpPr>
                    <a:xfrm>
                      <a:off x="1845720" y="4797360"/>
                      <a:ext cx="380880" cy="191520"/>
                      <a:chOff x="1845720" y="4797360"/>
                      <a:chExt cx="380880" cy="191520"/>
                    </a:xfrm>
                  </p:grpSpPr>
                  <p:sp>
                    <p:nvSpPr>
                      <p:cNvPr id="1517" name="AutoShape 457"/>
                      <p:cNvSpPr/>
                      <p:nvPr/>
                    </p:nvSpPr>
                    <p:spPr>
                      <a:xfrm>
                        <a:off x="1845720" y="479736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8" name="WordArt 458"/>
                      <p:cNvSpPr txBox="1"/>
                      <p:nvPr/>
                    </p:nvSpPr>
                    <p:spPr>
                      <a:xfrm rot="15600">
                        <a:off x="1884600" y="481248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後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19" name="Group 459"/>
                    <p:cNvGrpSpPr/>
                    <p:nvPr/>
                  </p:nvGrpSpPr>
                  <p:grpSpPr>
                    <a:xfrm>
                      <a:off x="1726920" y="4916880"/>
                      <a:ext cx="380880" cy="191520"/>
                      <a:chOff x="1726920" y="4916880"/>
                      <a:chExt cx="380880" cy="191520"/>
                    </a:xfrm>
                  </p:grpSpPr>
                  <p:sp>
                    <p:nvSpPr>
                      <p:cNvPr id="1520" name="AutoShape 460"/>
                      <p:cNvSpPr/>
                      <p:nvPr/>
                    </p:nvSpPr>
                    <p:spPr>
                      <a:xfrm>
                        <a:off x="1726920" y="49168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1" name="WordArt 461"/>
                      <p:cNvSpPr txBox="1"/>
                      <p:nvPr/>
                    </p:nvSpPr>
                    <p:spPr>
                      <a:xfrm rot="15600">
                        <a:off x="1765800" y="49320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作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22" name="Group 462"/>
                    <p:cNvGrpSpPr/>
                    <p:nvPr/>
                  </p:nvGrpSpPr>
                  <p:grpSpPr>
                    <a:xfrm>
                      <a:off x="1584360" y="5060880"/>
                      <a:ext cx="380880" cy="191520"/>
                      <a:chOff x="1584360" y="5060880"/>
                      <a:chExt cx="380880" cy="191520"/>
                    </a:xfrm>
                  </p:grpSpPr>
                  <p:sp>
                    <p:nvSpPr>
                      <p:cNvPr id="1523" name="AutoShape 463"/>
                      <p:cNvSpPr/>
                      <p:nvPr/>
                    </p:nvSpPr>
                    <p:spPr>
                      <a:xfrm>
                        <a:off x="1584360" y="50608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4" name="WordArt 464"/>
                      <p:cNvSpPr txBox="1"/>
                      <p:nvPr/>
                    </p:nvSpPr>
                    <p:spPr>
                      <a:xfrm rot="15600">
                        <a:off x="1623240" y="50760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徵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25" name="Group 465"/>
                    <p:cNvGrpSpPr/>
                    <p:nvPr/>
                  </p:nvGrpSpPr>
                  <p:grpSpPr>
                    <a:xfrm>
                      <a:off x="1464480" y="5181480"/>
                      <a:ext cx="380880" cy="191520"/>
                      <a:chOff x="1464480" y="5181480"/>
                      <a:chExt cx="380880" cy="191520"/>
                    </a:xfrm>
                  </p:grpSpPr>
                  <p:sp>
                    <p:nvSpPr>
                      <p:cNvPr id="1526" name="AutoShape 466"/>
                      <p:cNvSpPr/>
                      <p:nvPr/>
                    </p:nvSpPr>
                    <p:spPr>
                      <a:xfrm>
                        <a:off x="1464480" y="51814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7" name="WordArt 467"/>
                      <p:cNvSpPr txBox="1"/>
                      <p:nvPr/>
                    </p:nvSpPr>
                    <p:spPr>
                      <a:xfrm rot="15600">
                        <a:off x="1503360" y="51966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於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28" name="Group 468"/>
                    <p:cNvGrpSpPr/>
                    <p:nvPr/>
                  </p:nvGrpSpPr>
                  <p:grpSpPr>
                    <a:xfrm>
                      <a:off x="1321560" y="5325840"/>
                      <a:ext cx="380880" cy="191520"/>
                      <a:chOff x="1321560" y="5325840"/>
                      <a:chExt cx="380880" cy="191520"/>
                    </a:xfrm>
                  </p:grpSpPr>
                  <p:sp>
                    <p:nvSpPr>
                      <p:cNvPr id="1529" name="AutoShape 469"/>
                      <p:cNvSpPr/>
                      <p:nvPr/>
                    </p:nvSpPr>
                    <p:spPr>
                      <a:xfrm>
                        <a:off x="1321560" y="532584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0" name="WordArt 470"/>
                      <p:cNvSpPr txBox="1"/>
                      <p:nvPr/>
                    </p:nvSpPr>
                    <p:spPr>
                      <a:xfrm rot="15600">
                        <a:off x="1360440" y="534096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色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31" name="Group 471"/>
                    <p:cNvGrpSpPr/>
                    <p:nvPr/>
                  </p:nvGrpSpPr>
                  <p:grpSpPr>
                    <a:xfrm>
                      <a:off x="1179000" y="5469480"/>
                      <a:ext cx="380880" cy="191520"/>
                      <a:chOff x="1179000" y="5469480"/>
                      <a:chExt cx="380880" cy="191520"/>
                    </a:xfrm>
                  </p:grpSpPr>
                  <p:sp>
                    <p:nvSpPr>
                      <p:cNvPr id="1532" name="AutoShape 472"/>
                      <p:cNvSpPr/>
                      <p:nvPr/>
                    </p:nvSpPr>
                    <p:spPr>
                      <a:xfrm>
                        <a:off x="1179000" y="54694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3" name="WordArt 473"/>
                      <p:cNvSpPr txBox="1"/>
                      <p:nvPr/>
                    </p:nvSpPr>
                    <p:spPr>
                      <a:xfrm rot="15600">
                        <a:off x="1217880" y="54846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發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34" name="Group 474"/>
                    <p:cNvGrpSpPr/>
                    <p:nvPr/>
                  </p:nvGrpSpPr>
                  <p:grpSpPr>
                    <a:xfrm>
                      <a:off x="1036440" y="5613840"/>
                      <a:ext cx="380880" cy="191520"/>
                      <a:chOff x="1036440" y="5613840"/>
                      <a:chExt cx="380880" cy="191520"/>
                    </a:xfrm>
                  </p:grpSpPr>
                  <p:sp>
                    <p:nvSpPr>
                      <p:cNvPr id="1535" name="AutoShape 475"/>
                      <p:cNvSpPr/>
                      <p:nvPr/>
                    </p:nvSpPr>
                    <p:spPr>
                      <a:xfrm>
                        <a:off x="1036440" y="561384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6" name="WordArt 476"/>
                      <p:cNvSpPr txBox="1"/>
                      <p:nvPr/>
                    </p:nvSpPr>
                    <p:spPr>
                      <a:xfrm rot="15600">
                        <a:off x="1075320" y="562896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於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</p:grpSp>
              <p:grpSp>
                <p:nvGrpSpPr>
                  <p:cNvPr id="1537" name="Group 477"/>
                  <p:cNvGrpSpPr/>
                  <p:nvPr/>
                </p:nvGrpSpPr>
                <p:grpSpPr>
                  <a:xfrm>
                    <a:off x="1298520" y="4797360"/>
                    <a:ext cx="1189800" cy="1008000"/>
                    <a:chOff x="1298520" y="4797360"/>
                    <a:chExt cx="1189800" cy="1008000"/>
                  </a:xfrm>
                </p:grpSpPr>
                <p:grpSp>
                  <p:nvGrpSpPr>
                    <p:cNvPr id="1538" name="Group 478"/>
                    <p:cNvGrpSpPr/>
                    <p:nvPr/>
                  </p:nvGrpSpPr>
                  <p:grpSpPr>
                    <a:xfrm>
                      <a:off x="2107440" y="4797360"/>
                      <a:ext cx="380880" cy="191520"/>
                      <a:chOff x="2107440" y="4797360"/>
                      <a:chExt cx="380880" cy="191520"/>
                    </a:xfrm>
                  </p:grpSpPr>
                  <p:sp>
                    <p:nvSpPr>
                      <p:cNvPr id="1539" name="AutoShape 479"/>
                      <p:cNvSpPr/>
                      <p:nvPr/>
                    </p:nvSpPr>
                    <p:spPr>
                      <a:xfrm>
                        <a:off x="2107440" y="479736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0" name="WordArt 480"/>
                      <p:cNvSpPr txBox="1"/>
                      <p:nvPr/>
                    </p:nvSpPr>
                    <p:spPr>
                      <a:xfrm rot="15600">
                        <a:off x="2146320" y="481248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困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41" name="Group 481"/>
                    <p:cNvGrpSpPr/>
                    <p:nvPr/>
                  </p:nvGrpSpPr>
                  <p:grpSpPr>
                    <a:xfrm>
                      <a:off x="1988640" y="4916880"/>
                      <a:ext cx="380880" cy="191520"/>
                      <a:chOff x="1988640" y="4916880"/>
                      <a:chExt cx="380880" cy="191520"/>
                    </a:xfrm>
                  </p:grpSpPr>
                  <p:sp>
                    <p:nvSpPr>
                      <p:cNvPr id="1542" name="AutoShape 482"/>
                      <p:cNvSpPr/>
                      <p:nvPr/>
                    </p:nvSpPr>
                    <p:spPr>
                      <a:xfrm>
                        <a:off x="1988640" y="49168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3" name="WordArt 483"/>
                      <p:cNvSpPr txBox="1"/>
                      <p:nvPr/>
                    </p:nvSpPr>
                    <p:spPr>
                      <a:xfrm rot="15600">
                        <a:off x="2027520" y="49320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於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44" name="Group 484"/>
                    <p:cNvGrpSpPr/>
                    <p:nvPr/>
                  </p:nvGrpSpPr>
                  <p:grpSpPr>
                    <a:xfrm>
                      <a:off x="1846080" y="5060880"/>
                      <a:ext cx="380520" cy="191520"/>
                      <a:chOff x="1846080" y="5060880"/>
                      <a:chExt cx="380520" cy="191520"/>
                    </a:xfrm>
                  </p:grpSpPr>
                  <p:sp>
                    <p:nvSpPr>
                      <p:cNvPr id="1545" name="AutoShape 485"/>
                      <p:cNvSpPr/>
                      <p:nvPr/>
                    </p:nvSpPr>
                    <p:spPr>
                      <a:xfrm>
                        <a:off x="1846080" y="5060880"/>
                        <a:ext cx="38052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6" name="WordArt 486"/>
                      <p:cNvSpPr txBox="1"/>
                      <p:nvPr/>
                    </p:nvSpPr>
                    <p:spPr>
                      <a:xfrm rot="15600">
                        <a:off x="1885680" y="5076000"/>
                        <a:ext cx="31428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心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47" name="Group 487"/>
                    <p:cNvGrpSpPr/>
                    <p:nvPr/>
                  </p:nvGrpSpPr>
                  <p:grpSpPr>
                    <a:xfrm>
                      <a:off x="1726560" y="5181480"/>
                      <a:ext cx="380880" cy="191520"/>
                      <a:chOff x="1726560" y="5181480"/>
                      <a:chExt cx="380880" cy="191520"/>
                    </a:xfrm>
                  </p:grpSpPr>
                  <p:sp>
                    <p:nvSpPr>
                      <p:cNvPr id="1548" name="AutoShape 488"/>
                      <p:cNvSpPr/>
                      <p:nvPr/>
                    </p:nvSpPr>
                    <p:spPr>
                      <a:xfrm>
                        <a:off x="1726560" y="51814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9" name="WordArt 489"/>
                      <p:cNvSpPr txBox="1"/>
                      <p:nvPr/>
                    </p:nvSpPr>
                    <p:spPr>
                      <a:xfrm rot="15600">
                        <a:off x="1765440" y="51966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衡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50" name="Group 490"/>
                    <p:cNvGrpSpPr/>
                    <p:nvPr/>
                  </p:nvGrpSpPr>
                  <p:grpSpPr>
                    <a:xfrm>
                      <a:off x="1583640" y="5325840"/>
                      <a:ext cx="380880" cy="191520"/>
                      <a:chOff x="1583640" y="5325840"/>
                      <a:chExt cx="380880" cy="191520"/>
                    </a:xfrm>
                  </p:grpSpPr>
                  <p:sp>
                    <p:nvSpPr>
                      <p:cNvPr id="1551" name="AutoShape 491"/>
                      <p:cNvSpPr/>
                      <p:nvPr/>
                    </p:nvSpPr>
                    <p:spPr>
                      <a:xfrm>
                        <a:off x="1583640" y="532584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2" name="WordArt 492"/>
                      <p:cNvSpPr txBox="1"/>
                      <p:nvPr/>
                    </p:nvSpPr>
                    <p:spPr>
                      <a:xfrm rot="15600">
                        <a:off x="1622520" y="534096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於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53" name="Group 493"/>
                    <p:cNvGrpSpPr/>
                    <p:nvPr/>
                  </p:nvGrpSpPr>
                  <p:grpSpPr>
                    <a:xfrm>
                      <a:off x="1441080" y="5469480"/>
                      <a:ext cx="380520" cy="191520"/>
                      <a:chOff x="1441080" y="5469480"/>
                      <a:chExt cx="380520" cy="191520"/>
                    </a:xfrm>
                  </p:grpSpPr>
                  <p:sp>
                    <p:nvSpPr>
                      <p:cNvPr id="1554" name="AutoShape 494"/>
                      <p:cNvSpPr/>
                      <p:nvPr/>
                    </p:nvSpPr>
                    <p:spPr>
                      <a:xfrm>
                        <a:off x="1441080" y="5469480"/>
                        <a:ext cx="38052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5" name="WordArt 495"/>
                      <p:cNvSpPr txBox="1"/>
                      <p:nvPr/>
                    </p:nvSpPr>
                    <p:spPr>
                      <a:xfrm rot="15600">
                        <a:off x="1480680" y="5484600"/>
                        <a:ext cx="31428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虑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56" name="Group 496"/>
                    <p:cNvGrpSpPr/>
                    <p:nvPr/>
                  </p:nvGrpSpPr>
                  <p:grpSpPr>
                    <a:xfrm>
                      <a:off x="1298520" y="5613840"/>
                      <a:ext cx="380880" cy="191520"/>
                      <a:chOff x="1298520" y="5613840"/>
                      <a:chExt cx="380880" cy="191520"/>
                    </a:xfrm>
                  </p:grpSpPr>
                  <p:sp>
                    <p:nvSpPr>
                      <p:cNvPr id="1557" name="AutoShape 497"/>
                      <p:cNvSpPr/>
                      <p:nvPr/>
                    </p:nvSpPr>
                    <p:spPr>
                      <a:xfrm>
                        <a:off x="1298520" y="561384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8" name="WordArt 498"/>
                      <p:cNvSpPr txBox="1"/>
                      <p:nvPr/>
                    </p:nvSpPr>
                    <p:spPr>
                      <a:xfrm rot="15600">
                        <a:off x="1337400" y="562896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而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</p:grpSp>
              <p:grpSp>
                <p:nvGrpSpPr>
                  <p:cNvPr id="1559" name="Group 499"/>
                  <p:cNvGrpSpPr/>
                  <p:nvPr/>
                </p:nvGrpSpPr>
                <p:grpSpPr>
                  <a:xfrm>
                    <a:off x="1560240" y="4797360"/>
                    <a:ext cx="1190160" cy="1008000"/>
                    <a:chOff x="1560240" y="4797360"/>
                    <a:chExt cx="1190160" cy="1008000"/>
                  </a:xfrm>
                </p:grpSpPr>
                <p:grpSp>
                  <p:nvGrpSpPr>
                    <p:cNvPr id="1560" name="Group 500"/>
                    <p:cNvGrpSpPr/>
                    <p:nvPr/>
                  </p:nvGrpSpPr>
                  <p:grpSpPr>
                    <a:xfrm>
                      <a:off x="2369520" y="4797360"/>
                      <a:ext cx="380880" cy="191520"/>
                      <a:chOff x="2369520" y="4797360"/>
                      <a:chExt cx="380880" cy="191520"/>
                    </a:xfrm>
                  </p:grpSpPr>
                  <p:sp>
                    <p:nvSpPr>
                      <p:cNvPr id="1561" name="AutoShape 501"/>
                      <p:cNvSpPr/>
                      <p:nvPr/>
                    </p:nvSpPr>
                    <p:spPr>
                      <a:xfrm>
                        <a:off x="2369520" y="479736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2" name="WordArt 502"/>
                      <p:cNvSpPr txBox="1"/>
                      <p:nvPr/>
                    </p:nvSpPr>
                    <p:spPr>
                      <a:xfrm rot="15600">
                        <a:off x="2408400" y="481248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人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63" name="Group 503"/>
                    <p:cNvGrpSpPr/>
                    <p:nvPr/>
                  </p:nvGrpSpPr>
                  <p:grpSpPr>
                    <a:xfrm>
                      <a:off x="2250720" y="4916880"/>
                      <a:ext cx="380880" cy="191520"/>
                      <a:chOff x="2250720" y="4916880"/>
                      <a:chExt cx="380880" cy="191520"/>
                    </a:xfrm>
                  </p:grpSpPr>
                  <p:sp>
                    <p:nvSpPr>
                      <p:cNvPr id="1564" name="AutoShape 504"/>
                      <p:cNvSpPr/>
                      <p:nvPr/>
                    </p:nvSpPr>
                    <p:spPr>
                      <a:xfrm>
                        <a:off x="2250720" y="49168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5" name="WordArt 505"/>
                      <p:cNvSpPr txBox="1"/>
                      <p:nvPr/>
                    </p:nvSpPr>
                    <p:spPr>
                      <a:xfrm rot="15600">
                        <a:off x="2289600" y="49320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衡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66" name="Group 506"/>
                    <p:cNvGrpSpPr/>
                    <p:nvPr/>
                  </p:nvGrpSpPr>
                  <p:grpSpPr>
                    <a:xfrm>
                      <a:off x="2108160" y="5060880"/>
                      <a:ext cx="380880" cy="191520"/>
                      <a:chOff x="2108160" y="5060880"/>
                      <a:chExt cx="380880" cy="191520"/>
                    </a:xfrm>
                  </p:grpSpPr>
                  <p:sp>
                    <p:nvSpPr>
                      <p:cNvPr id="1567" name="AutoShape 507"/>
                      <p:cNvSpPr/>
                      <p:nvPr/>
                    </p:nvSpPr>
                    <p:spPr>
                      <a:xfrm>
                        <a:off x="2108160" y="50608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8" name="WordArt 508"/>
                      <p:cNvSpPr txBox="1"/>
                      <p:nvPr/>
                    </p:nvSpPr>
                    <p:spPr>
                      <a:xfrm rot="15600">
                        <a:off x="2147040" y="50760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69" name="Group 509"/>
                    <p:cNvGrpSpPr/>
                    <p:nvPr/>
                  </p:nvGrpSpPr>
                  <p:grpSpPr>
                    <a:xfrm>
                      <a:off x="1988280" y="5181480"/>
                      <a:ext cx="380880" cy="191520"/>
                      <a:chOff x="1988280" y="5181480"/>
                      <a:chExt cx="380880" cy="191520"/>
                    </a:xfrm>
                  </p:grpSpPr>
                  <p:sp>
                    <p:nvSpPr>
                      <p:cNvPr id="1570" name="AutoShape 510"/>
                      <p:cNvSpPr/>
                      <p:nvPr/>
                    </p:nvSpPr>
                    <p:spPr>
                      <a:xfrm>
                        <a:off x="1988280" y="51814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1" name="WordArt 511"/>
                      <p:cNvSpPr txBox="1"/>
                      <p:nvPr/>
                    </p:nvSpPr>
                    <p:spPr>
                      <a:xfrm rot="15600">
                        <a:off x="2027160" y="51966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然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72" name="Group 512"/>
                    <p:cNvGrpSpPr/>
                    <p:nvPr/>
                  </p:nvGrpSpPr>
                  <p:grpSpPr>
                    <a:xfrm>
                      <a:off x="1845360" y="5325840"/>
                      <a:ext cx="380880" cy="191520"/>
                      <a:chOff x="1845360" y="5325840"/>
                      <a:chExt cx="380880" cy="191520"/>
                    </a:xfrm>
                  </p:grpSpPr>
                  <p:sp>
                    <p:nvSpPr>
                      <p:cNvPr id="1573" name="AutoShape 513"/>
                      <p:cNvSpPr/>
                      <p:nvPr/>
                    </p:nvSpPr>
                    <p:spPr>
                      <a:xfrm>
                        <a:off x="1845360" y="532584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4" name="WordArt 514"/>
                      <p:cNvSpPr txBox="1"/>
                      <p:nvPr/>
                    </p:nvSpPr>
                    <p:spPr>
                      <a:xfrm rot="15600">
                        <a:off x="1884240" y="534096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後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75" name="Group 515"/>
                    <p:cNvGrpSpPr/>
                    <p:nvPr/>
                  </p:nvGrpSpPr>
                  <p:grpSpPr>
                    <a:xfrm>
                      <a:off x="1702800" y="5469480"/>
                      <a:ext cx="380880" cy="191520"/>
                      <a:chOff x="1702800" y="5469480"/>
                      <a:chExt cx="380880" cy="191520"/>
                    </a:xfrm>
                  </p:grpSpPr>
                  <p:sp>
                    <p:nvSpPr>
                      <p:cNvPr id="1576" name="AutoShape 516"/>
                      <p:cNvSpPr/>
                      <p:nvPr/>
                    </p:nvSpPr>
                    <p:spPr>
                      <a:xfrm>
                        <a:off x="1702800" y="54694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7" name="WordArt 517"/>
                      <p:cNvSpPr txBox="1"/>
                      <p:nvPr/>
                    </p:nvSpPr>
                    <p:spPr>
                      <a:xfrm rot="15600">
                        <a:off x="1741680" y="54846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能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78" name="Group 518"/>
                    <p:cNvGrpSpPr/>
                    <p:nvPr/>
                  </p:nvGrpSpPr>
                  <p:grpSpPr>
                    <a:xfrm>
                      <a:off x="1560240" y="5613840"/>
                      <a:ext cx="380880" cy="191520"/>
                      <a:chOff x="1560240" y="5613840"/>
                      <a:chExt cx="380880" cy="191520"/>
                    </a:xfrm>
                  </p:grpSpPr>
                  <p:sp>
                    <p:nvSpPr>
                      <p:cNvPr id="1579" name="AutoShape 519"/>
                      <p:cNvSpPr/>
                      <p:nvPr/>
                    </p:nvSpPr>
                    <p:spPr>
                      <a:xfrm>
                        <a:off x="1560240" y="561384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0" name="WordArt 520"/>
                      <p:cNvSpPr txBox="1"/>
                      <p:nvPr/>
                    </p:nvSpPr>
                    <p:spPr>
                      <a:xfrm rot="15600">
                        <a:off x="1599120" y="562896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改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</p:grpSp>
              <p:grpSp>
                <p:nvGrpSpPr>
                  <p:cNvPr id="1581" name="Group 521"/>
                  <p:cNvGrpSpPr/>
                  <p:nvPr/>
                </p:nvGrpSpPr>
                <p:grpSpPr>
                  <a:xfrm>
                    <a:off x="1822320" y="4797360"/>
                    <a:ext cx="1189800" cy="1008000"/>
                    <a:chOff x="1822320" y="4797360"/>
                    <a:chExt cx="1189800" cy="1008000"/>
                  </a:xfrm>
                </p:grpSpPr>
                <p:grpSp>
                  <p:nvGrpSpPr>
                    <p:cNvPr id="1582" name="Group 522"/>
                    <p:cNvGrpSpPr/>
                    <p:nvPr/>
                  </p:nvGrpSpPr>
                  <p:grpSpPr>
                    <a:xfrm>
                      <a:off x="2631240" y="4797360"/>
                      <a:ext cx="380880" cy="191520"/>
                      <a:chOff x="2631240" y="4797360"/>
                      <a:chExt cx="380880" cy="191520"/>
                    </a:xfrm>
                  </p:grpSpPr>
                  <p:sp>
                    <p:nvSpPr>
                      <p:cNvPr id="1583" name="AutoShape 523"/>
                      <p:cNvSpPr/>
                      <p:nvPr/>
                    </p:nvSpPr>
                    <p:spPr>
                      <a:xfrm>
                        <a:off x="2631240" y="479736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4" name="WordArt 524"/>
                      <p:cNvSpPr txBox="1"/>
                      <p:nvPr/>
                    </p:nvSpPr>
                    <p:spPr>
                      <a:xfrm rot="15600">
                        <a:off x="2670120" y="481248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所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85" name="Group 525"/>
                    <p:cNvGrpSpPr/>
                    <p:nvPr/>
                  </p:nvGrpSpPr>
                  <p:grpSpPr>
                    <a:xfrm>
                      <a:off x="2512440" y="4916880"/>
                      <a:ext cx="380880" cy="191520"/>
                      <a:chOff x="2512440" y="4916880"/>
                      <a:chExt cx="380880" cy="191520"/>
                    </a:xfrm>
                  </p:grpSpPr>
                  <p:sp>
                    <p:nvSpPr>
                      <p:cNvPr id="1586" name="AutoShape 526"/>
                      <p:cNvSpPr/>
                      <p:nvPr/>
                    </p:nvSpPr>
                    <p:spPr>
                      <a:xfrm>
                        <a:off x="2512440" y="49168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WordArt 527"/>
                      <p:cNvSpPr txBox="1"/>
                      <p:nvPr/>
                    </p:nvSpPr>
                    <p:spPr>
                      <a:xfrm rot="15600">
                        <a:off x="2551320" y="49320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不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88" name="Group 528"/>
                    <p:cNvGrpSpPr/>
                    <p:nvPr/>
                  </p:nvGrpSpPr>
                  <p:grpSpPr>
                    <a:xfrm>
                      <a:off x="2369880" y="5060880"/>
                      <a:ext cx="380520" cy="191520"/>
                      <a:chOff x="2369880" y="5060880"/>
                      <a:chExt cx="380520" cy="191520"/>
                    </a:xfrm>
                  </p:grpSpPr>
                  <p:sp>
                    <p:nvSpPr>
                      <p:cNvPr id="1589" name="AutoShape 529"/>
                      <p:cNvSpPr/>
                      <p:nvPr/>
                    </p:nvSpPr>
                    <p:spPr>
                      <a:xfrm>
                        <a:off x="2369880" y="5060880"/>
                        <a:ext cx="38052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WordArt 530"/>
                      <p:cNvSpPr txBox="1"/>
                      <p:nvPr/>
                    </p:nvSpPr>
                    <p:spPr>
                      <a:xfrm rot="15600">
                        <a:off x="2409480" y="5076000"/>
                        <a:ext cx="31428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能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91" name="Group 531"/>
                    <p:cNvGrpSpPr/>
                    <p:nvPr/>
                  </p:nvGrpSpPr>
                  <p:grpSpPr>
                    <a:xfrm>
                      <a:off x="2250360" y="5181480"/>
                      <a:ext cx="380880" cy="191520"/>
                      <a:chOff x="2250360" y="5181480"/>
                      <a:chExt cx="380880" cy="191520"/>
                    </a:xfrm>
                  </p:grpSpPr>
                  <p:sp>
                    <p:nvSpPr>
                      <p:cNvPr id="1592" name="AutoShape 532"/>
                      <p:cNvSpPr/>
                      <p:nvPr/>
                    </p:nvSpPr>
                    <p:spPr>
                      <a:xfrm>
                        <a:off x="2250360" y="51814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WordArt 533"/>
                      <p:cNvSpPr txBox="1"/>
                      <p:nvPr/>
                    </p:nvSpPr>
                    <p:spPr>
                      <a:xfrm rot="15600">
                        <a:off x="2289240" y="51966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 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94" name="Group 534"/>
                    <p:cNvGrpSpPr/>
                    <p:nvPr/>
                  </p:nvGrpSpPr>
                  <p:grpSpPr>
                    <a:xfrm>
                      <a:off x="2107440" y="5325840"/>
                      <a:ext cx="380880" cy="191520"/>
                      <a:chOff x="2107440" y="5325840"/>
                      <a:chExt cx="380880" cy="191520"/>
                    </a:xfrm>
                  </p:grpSpPr>
                  <p:sp>
                    <p:nvSpPr>
                      <p:cNvPr id="1595" name="AutoShape 535"/>
                      <p:cNvSpPr/>
                      <p:nvPr/>
                    </p:nvSpPr>
                    <p:spPr>
                      <a:xfrm>
                        <a:off x="2107440" y="532584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WordArt 536"/>
                      <p:cNvSpPr txBox="1"/>
                      <p:nvPr/>
                    </p:nvSpPr>
                    <p:spPr>
                      <a:xfrm rot="15600">
                        <a:off x="2146320" y="534096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 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597" name="Group 537"/>
                    <p:cNvGrpSpPr/>
                    <p:nvPr/>
                  </p:nvGrpSpPr>
                  <p:grpSpPr>
                    <a:xfrm>
                      <a:off x="1964880" y="5469480"/>
                      <a:ext cx="380520" cy="191520"/>
                      <a:chOff x="1964880" y="5469480"/>
                      <a:chExt cx="380520" cy="191520"/>
                    </a:xfrm>
                  </p:grpSpPr>
                  <p:sp>
                    <p:nvSpPr>
                      <p:cNvPr id="1598" name="AutoShape 538"/>
                      <p:cNvSpPr/>
                      <p:nvPr/>
                    </p:nvSpPr>
                    <p:spPr>
                      <a:xfrm>
                        <a:off x="1964880" y="5469480"/>
                        <a:ext cx="38052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WordArt 539"/>
                      <p:cNvSpPr txBox="1"/>
                      <p:nvPr/>
                    </p:nvSpPr>
                    <p:spPr>
                      <a:xfrm rot="15600">
                        <a:off x="2004480" y="5484600"/>
                        <a:ext cx="31428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 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600" name="Group 540"/>
                    <p:cNvGrpSpPr/>
                    <p:nvPr/>
                  </p:nvGrpSpPr>
                  <p:grpSpPr>
                    <a:xfrm>
                      <a:off x="1822320" y="5613840"/>
                      <a:ext cx="380880" cy="191520"/>
                      <a:chOff x="1822320" y="5613840"/>
                      <a:chExt cx="380880" cy="191520"/>
                    </a:xfrm>
                  </p:grpSpPr>
                  <p:sp>
                    <p:nvSpPr>
                      <p:cNvPr id="1601" name="AutoShape 541"/>
                      <p:cNvSpPr/>
                      <p:nvPr/>
                    </p:nvSpPr>
                    <p:spPr>
                      <a:xfrm>
                        <a:off x="1822320" y="561384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WordArt 542"/>
                      <p:cNvSpPr txBox="1"/>
                      <p:nvPr/>
                    </p:nvSpPr>
                    <p:spPr>
                      <a:xfrm rot="15600">
                        <a:off x="1861200" y="562896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 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</p:grpSp>
              <p:grpSp>
                <p:nvGrpSpPr>
                  <p:cNvPr id="1603" name="Group 543"/>
                  <p:cNvGrpSpPr/>
                  <p:nvPr/>
                </p:nvGrpSpPr>
                <p:grpSpPr>
                  <a:xfrm>
                    <a:off x="2084400" y="4797360"/>
                    <a:ext cx="1189800" cy="1008000"/>
                    <a:chOff x="2084400" y="4797360"/>
                    <a:chExt cx="1189800" cy="1008000"/>
                  </a:xfrm>
                </p:grpSpPr>
                <p:grpSp>
                  <p:nvGrpSpPr>
                    <p:cNvPr id="1604" name="Group 544"/>
                    <p:cNvGrpSpPr/>
                    <p:nvPr/>
                  </p:nvGrpSpPr>
                  <p:grpSpPr>
                    <a:xfrm>
                      <a:off x="2893320" y="4797360"/>
                      <a:ext cx="380880" cy="191520"/>
                      <a:chOff x="2893320" y="4797360"/>
                      <a:chExt cx="380880" cy="191520"/>
                    </a:xfrm>
                  </p:grpSpPr>
                  <p:sp>
                    <p:nvSpPr>
                      <p:cNvPr id="1605" name="AutoShape 545"/>
                      <p:cNvSpPr/>
                      <p:nvPr/>
                    </p:nvSpPr>
                    <p:spPr>
                      <a:xfrm>
                        <a:off x="2893320" y="479736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WordArt 546"/>
                      <p:cNvSpPr txBox="1"/>
                      <p:nvPr/>
                    </p:nvSpPr>
                    <p:spPr>
                      <a:xfrm rot="15600">
                        <a:off x="2932200" y="481248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607" name="Group 547"/>
                    <p:cNvGrpSpPr/>
                    <p:nvPr/>
                  </p:nvGrpSpPr>
                  <p:grpSpPr>
                    <a:xfrm>
                      <a:off x="2774520" y="4916880"/>
                      <a:ext cx="380880" cy="191520"/>
                      <a:chOff x="2774520" y="4916880"/>
                      <a:chExt cx="380880" cy="191520"/>
                    </a:xfrm>
                  </p:grpSpPr>
                  <p:sp>
                    <p:nvSpPr>
                      <p:cNvPr id="1608" name="AutoShape 548"/>
                      <p:cNvSpPr/>
                      <p:nvPr/>
                    </p:nvSpPr>
                    <p:spPr>
                      <a:xfrm>
                        <a:off x="2774520" y="49168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WordArt 549"/>
                      <p:cNvSpPr txBox="1"/>
                      <p:nvPr/>
                    </p:nvSpPr>
                    <p:spPr>
                      <a:xfrm rot="15600">
                        <a:off x="2813400" y="49320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610" name="Group 550"/>
                    <p:cNvGrpSpPr/>
                    <p:nvPr/>
                  </p:nvGrpSpPr>
                  <p:grpSpPr>
                    <a:xfrm>
                      <a:off x="2631960" y="5060880"/>
                      <a:ext cx="380520" cy="191520"/>
                      <a:chOff x="2631960" y="5060880"/>
                      <a:chExt cx="380520" cy="191520"/>
                    </a:xfrm>
                  </p:grpSpPr>
                  <p:sp>
                    <p:nvSpPr>
                      <p:cNvPr id="1611" name="AutoShape 551"/>
                      <p:cNvSpPr/>
                      <p:nvPr/>
                    </p:nvSpPr>
                    <p:spPr>
                      <a:xfrm>
                        <a:off x="2631960" y="5060880"/>
                        <a:ext cx="38052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WordArt 552"/>
                      <p:cNvSpPr txBox="1"/>
                      <p:nvPr/>
                    </p:nvSpPr>
                    <p:spPr>
                      <a:xfrm rot="15600">
                        <a:off x="2671560" y="5076000"/>
                        <a:ext cx="31428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613" name="Group 553"/>
                    <p:cNvGrpSpPr/>
                    <p:nvPr/>
                  </p:nvGrpSpPr>
                  <p:grpSpPr>
                    <a:xfrm>
                      <a:off x="2512440" y="5181480"/>
                      <a:ext cx="380880" cy="191520"/>
                      <a:chOff x="2512440" y="5181480"/>
                      <a:chExt cx="380880" cy="191520"/>
                    </a:xfrm>
                  </p:grpSpPr>
                  <p:sp>
                    <p:nvSpPr>
                      <p:cNvPr id="1614" name="AutoShape 554"/>
                      <p:cNvSpPr/>
                      <p:nvPr/>
                    </p:nvSpPr>
                    <p:spPr>
                      <a:xfrm>
                        <a:off x="2512440" y="518148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WordArt 555"/>
                      <p:cNvSpPr txBox="1"/>
                      <p:nvPr/>
                    </p:nvSpPr>
                    <p:spPr>
                      <a:xfrm rot="15600">
                        <a:off x="2551320" y="519660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616" name="Group 556"/>
                    <p:cNvGrpSpPr/>
                    <p:nvPr/>
                  </p:nvGrpSpPr>
                  <p:grpSpPr>
                    <a:xfrm>
                      <a:off x="2369520" y="5325840"/>
                      <a:ext cx="380880" cy="191520"/>
                      <a:chOff x="2369520" y="5325840"/>
                      <a:chExt cx="380880" cy="191520"/>
                    </a:xfrm>
                  </p:grpSpPr>
                  <p:sp>
                    <p:nvSpPr>
                      <p:cNvPr id="1617" name="AutoShape 557"/>
                      <p:cNvSpPr/>
                      <p:nvPr/>
                    </p:nvSpPr>
                    <p:spPr>
                      <a:xfrm>
                        <a:off x="2369520" y="532584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8" name="WordArt 558"/>
                      <p:cNvSpPr txBox="1"/>
                      <p:nvPr/>
                    </p:nvSpPr>
                    <p:spPr>
                      <a:xfrm rot="15600">
                        <a:off x="2408400" y="534096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619" name="Group 559"/>
                    <p:cNvGrpSpPr/>
                    <p:nvPr/>
                  </p:nvGrpSpPr>
                  <p:grpSpPr>
                    <a:xfrm>
                      <a:off x="2226960" y="5469480"/>
                      <a:ext cx="380520" cy="191520"/>
                      <a:chOff x="2226960" y="5469480"/>
                      <a:chExt cx="380520" cy="191520"/>
                    </a:xfrm>
                  </p:grpSpPr>
                  <p:sp>
                    <p:nvSpPr>
                      <p:cNvPr id="1620" name="AutoShape 560"/>
                      <p:cNvSpPr/>
                      <p:nvPr/>
                    </p:nvSpPr>
                    <p:spPr>
                      <a:xfrm>
                        <a:off x="2226960" y="5469480"/>
                        <a:ext cx="38052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WordArt 561"/>
                      <p:cNvSpPr txBox="1"/>
                      <p:nvPr/>
                    </p:nvSpPr>
                    <p:spPr>
                      <a:xfrm rot="15600">
                        <a:off x="2266560" y="5484600"/>
                        <a:ext cx="31428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622" name="Group 562"/>
                    <p:cNvGrpSpPr/>
                    <p:nvPr/>
                  </p:nvGrpSpPr>
                  <p:grpSpPr>
                    <a:xfrm>
                      <a:off x="2084400" y="5613840"/>
                      <a:ext cx="380880" cy="191520"/>
                      <a:chOff x="2084400" y="5613840"/>
                      <a:chExt cx="380880" cy="191520"/>
                    </a:xfrm>
                  </p:grpSpPr>
                  <p:sp>
                    <p:nvSpPr>
                      <p:cNvPr id="1623" name="AutoShape 563"/>
                      <p:cNvSpPr/>
                      <p:nvPr/>
                    </p:nvSpPr>
                    <p:spPr>
                      <a:xfrm>
                        <a:off x="2084400" y="561384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WordArt 564"/>
                      <p:cNvSpPr txBox="1"/>
                      <p:nvPr/>
                    </p:nvSpPr>
                    <p:spPr>
                      <a:xfrm rot="15600">
                        <a:off x="2123280" y="562896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</p:grpSp>
              <p:grpSp>
                <p:nvGrpSpPr>
                  <p:cNvPr id="1625" name="Group 565"/>
                  <p:cNvGrpSpPr/>
                  <p:nvPr/>
                </p:nvGrpSpPr>
                <p:grpSpPr>
                  <a:xfrm>
                    <a:off x="2774880" y="4797360"/>
                    <a:ext cx="761400" cy="576360"/>
                    <a:chOff x="2774880" y="4797360"/>
                    <a:chExt cx="761400" cy="576360"/>
                  </a:xfrm>
                </p:grpSpPr>
                <p:grpSp>
                  <p:nvGrpSpPr>
                    <p:cNvPr id="1626" name="Group 566"/>
                    <p:cNvGrpSpPr/>
                    <p:nvPr/>
                  </p:nvGrpSpPr>
                  <p:grpSpPr>
                    <a:xfrm>
                      <a:off x="3155400" y="4797360"/>
                      <a:ext cx="380880" cy="191880"/>
                      <a:chOff x="3155400" y="4797360"/>
                      <a:chExt cx="380880" cy="191880"/>
                    </a:xfrm>
                  </p:grpSpPr>
                  <p:sp>
                    <p:nvSpPr>
                      <p:cNvPr id="1627" name="AutoShape 567"/>
                      <p:cNvSpPr/>
                      <p:nvPr/>
                    </p:nvSpPr>
                    <p:spPr>
                      <a:xfrm>
                        <a:off x="3155400" y="4797360"/>
                        <a:ext cx="380880" cy="19188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WordArt 568"/>
                      <p:cNvSpPr txBox="1"/>
                      <p:nvPr/>
                    </p:nvSpPr>
                    <p:spPr>
                      <a:xfrm rot="15600">
                        <a:off x="3194280" y="481248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動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629" name="Group 569"/>
                    <p:cNvGrpSpPr/>
                    <p:nvPr/>
                  </p:nvGrpSpPr>
                  <p:grpSpPr>
                    <a:xfrm>
                      <a:off x="3036600" y="4916520"/>
                      <a:ext cx="380520" cy="191880"/>
                      <a:chOff x="3036600" y="4916520"/>
                      <a:chExt cx="380520" cy="191880"/>
                    </a:xfrm>
                  </p:grpSpPr>
                  <p:sp>
                    <p:nvSpPr>
                      <p:cNvPr id="1630" name="AutoShape 570"/>
                      <p:cNvSpPr/>
                      <p:nvPr/>
                    </p:nvSpPr>
                    <p:spPr>
                      <a:xfrm>
                        <a:off x="3036600" y="4916520"/>
                        <a:ext cx="380520" cy="19188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WordArt 571"/>
                      <p:cNvSpPr txBox="1"/>
                      <p:nvPr/>
                    </p:nvSpPr>
                    <p:spPr>
                      <a:xfrm rot="15600">
                        <a:off x="3076200" y="4931640"/>
                        <a:ext cx="31428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心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632" name="Group 572"/>
                    <p:cNvGrpSpPr/>
                    <p:nvPr/>
                  </p:nvGrpSpPr>
                  <p:grpSpPr>
                    <a:xfrm>
                      <a:off x="2893680" y="5060880"/>
                      <a:ext cx="380520" cy="191880"/>
                      <a:chOff x="2893680" y="5060880"/>
                      <a:chExt cx="380520" cy="191880"/>
                    </a:xfrm>
                  </p:grpSpPr>
                  <p:sp>
                    <p:nvSpPr>
                      <p:cNvPr id="1633" name="AutoShape 573"/>
                      <p:cNvSpPr/>
                      <p:nvPr/>
                    </p:nvSpPr>
                    <p:spPr>
                      <a:xfrm>
                        <a:off x="2893680" y="5060880"/>
                        <a:ext cx="380520" cy="19188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4" name="WordArt 574"/>
                      <p:cNvSpPr txBox="1"/>
                      <p:nvPr/>
                    </p:nvSpPr>
                    <p:spPr>
                      <a:xfrm rot="15600">
                        <a:off x="2933280" y="5076000"/>
                        <a:ext cx="31428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忍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635" name="Group 575"/>
                    <p:cNvGrpSpPr/>
                    <p:nvPr/>
                  </p:nvGrpSpPr>
                  <p:grpSpPr>
                    <a:xfrm>
                      <a:off x="2774880" y="5181480"/>
                      <a:ext cx="380520" cy="192240"/>
                      <a:chOff x="2774880" y="5181480"/>
                      <a:chExt cx="380520" cy="192240"/>
                    </a:xfrm>
                  </p:grpSpPr>
                  <p:sp>
                    <p:nvSpPr>
                      <p:cNvPr id="1636" name="AutoShape 576"/>
                      <p:cNvSpPr/>
                      <p:nvPr/>
                    </p:nvSpPr>
                    <p:spPr>
                      <a:xfrm>
                        <a:off x="2774880" y="5181480"/>
                        <a:ext cx="380520" cy="19224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7" name="WordArt 577"/>
                      <p:cNvSpPr txBox="1"/>
                      <p:nvPr/>
                    </p:nvSpPr>
                    <p:spPr>
                      <a:xfrm rot="15600">
                        <a:off x="2814480" y="5196600"/>
                        <a:ext cx="314280" cy="8928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840" bIns="4284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性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8" name="Rectangle 578"/>
                <p:cNvSpPr/>
                <p:nvPr/>
              </p:nvSpPr>
              <p:spPr>
                <a:xfrm>
                  <a:off x="250920" y="5734080"/>
                  <a:ext cx="4429080" cy="10764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9" name="Group 579"/>
            <p:cNvGrpSpPr/>
            <p:nvPr/>
          </p:nvGrpSpPr>
          <p:grpSpPr>
            <a:xfrm>
              <a:off x="395280" y="3284640"/>
              <a:ext cx="5400360" cy="1260000"/>
              <a:chOff x="395280" y="3284640"/>
              <a:chExt cx="5400360" cy="1260000"/>
            </a:xfrm>
          </p:grpSpPr>
          <p:grpSp>
            <p:nvGrpSpPr>
              <p:cNvPr id="1640" name="Group 580"/>
              <p:cNvGrpSpPr/>
              <p:nvPr/>
            </p:nvGrpSpPr>
            <p:grpSpPr>
              <a:xfrm>
                <a:off x="432000" y="3500280"/>
                <a:ext cx="5363640" cy="1044360"/>
                <a:chOff x="432000" y="3500280"/>
                <a:chExt cx="5363640" cy="1044360"/>
              </a:xfrm>
            </p:grpSpPr>
            <p:grpSp>
              <p:nvGrpSpPr>
                <p:cNvPr id="1641" name="Group 581"/>
                <p:cNvGrpSpPr/>
                <p:nvPr/>
              </p:nvGrpSpPr>
              <p:grpSpPr>
                <a:xfrm>
                  <a:off x="432000" y="3501720"/>
                  <a:ext cx="5331600" cy="1006200"/>
                  <a:chOff x="432000" y="3501720"/>
                  <a:chExt cx="5331600" cy="1006200"/>
                </a:xfrm>
              </p:grpSpPr>
              <p:grpSp>
                <p:nvGrpSpPr>
                  <p:cNvPr id="1642" name="Group 582"/>
                  <p:cNvGrpSpPr/>
                  <p:nvPr/>
                </p:nvGrpSpPr>
                <p:grpSpPr>
                  <a:xfrm>
                    <a:off x="432000" y="3501720"/>
                    <a:ext cx="4572000" cy="1006200"/>
                    <a:chOff x="432000" y="3501720"/>
                    <a:chExt cx="4572000" cy="1006200"/>
                  </a:xfrm>
                </p:grpSpPr>
                <p:grpSp>
                  <p:nvGrpSpPr>
                    <p:cNvPr id="1643" name="Group 583"/>
                    <p:cNvGrpSpPr/>
                    <p:nvPr/>
                  </p:nvGrpSpPr>
                  <p:grpSpPr>
                    <a:xfrm>
                      <a:off x="432000" y="3501720"/>
                      <a:ext cx="1190160" cy="1006200"/>
                      <a:chOff x="432000" y="3501720"/>
                      <a:chExt cx="1190160" cy="1006200"/>
                    </a:xfrm>
                  </p:grpSpPr>
                  <p:grpSp>
                    <p:nvGrpSpPr>
                      <p:cNvPr id="1644" name="Group 584"/>
                      <p:cNvGrpSpPr/>
                      <p:nvPr/>
                    </p:nvGrpSpPr>
                    <p:grpSpPr>
                      <a:xfrm>
                        <a:off x="1241280" y="3501720"/>
                        <a:ext cx="380880" cy="191160"/>
                        <a:chOff x="1241280" y="3501720"/>
                        <a:chExt cx="380880" cy="191160"/>
                      </a:xfrm>
                    </p:grpSpPr>
                    <p:sp>
                      <p:nvSpPr>
                        <p:cNvPr id="1645" name="AutoShape 585"/>
                        <p:cNvSpPr/>
                        <p:nvPr/>
                      </p:nvSpPr>
                      <p:spPr>
                        <a:xfrm>
                          <a:off x="1241280" y="350172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6" name="WordArt 586"/>
                        <p:cNvSpPr txBox="1"/>
                        <p:nvPr/>
                      </p:nvSpPr>
                      <p:spPr>
                        <a:xfrm rot="15600">
                          <a:off x="1280160" y="351684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敵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647" name="Group 587"/>
                      <p:cNvGrpSpPr/>
                      <p:nvPr/>
                    </p:nvGrpSpPr>
                    <p:grpSpPr>
                      <a:xfrm>
                        <a:off x="1122480" y="3621240"/>
                        <a:ext cx="380880" cy="191160"/>
                        <a:chOff x="1122480" y="3621240"/>
                        <a:chExt cx="380880" cy="191160"/>
                      </a:xfrm>
                    </p:grpSpPr>
                    <p:sp>
                      <p:nvSpPr>
                        <p:cNvPr id="1648" name="AutoShape 588"/>
                        <p:cNvSpPr/>
                        <p:nvPr/>
                      </p:nvSpPr>
                      <p:spPr>
                        <a:xfrm>
                          <a:off x="1122480" y="362124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9" name="WordArt 589"/>
                        <p:cNvSpPr txBox="1"/>
                        <p:nvPr/>
                      </p:nvSpPr>
                      <p:spPr>
                        <a:xfrm rot="15600">
                          <a:off x="1161360" y="363636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國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650" name="Group 590"/>
                      <p:cNvGrpSpPr/>
                      <p:nvPr/>
                    </p:nvGrpSpPr>
                    <p:grpSpPr>
                      <a:xfrm>
                        <a:off x="979920" y="3764880"/>
                        <a:ext cx="380880" cy="191160"/>
                        <a:chOff x="979920" y="3764880"/>
                        <a:chExt cx="380880" cy="191160"/>
                      </a:xfrm>
                    </p:grpSpPr>
                    <p:sp>
                      <p:nvSpPr>
                        <p:cNvPr id="1651" name="AutoShape 591"/>
                        <p:cNvSpPr/>
                        <p:nvPr/>
                      </p:nvSpPr>
                      <p:spPr>
                        <a:xfrm>
                          <a:off x="979920" y="37648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2" name="WordArt 592"/>
                        <p:cNvSpPr txBox="1"/>
                        <p:nvPr/>
                      </p:nvSpPr>
                      <p:spPr>
                        <a:xfrm rot="15600">
                          <a:off x="1018800" y="37800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外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653" name="Group 593"/>
                      <p:cNvGrpSpPr/>
                      <p:nvPr/>
                    </p:nvGrpSpPr>
                    <p:grpSpPr>
                      <a:xfrm>
                        <a:off x="860040" y="3885480"/>
                        <a:ext cx="380880" cy="191160"/>
                        <a:chOff x="860040" y="3885480"/>
                        <a:chExt cx="380880" cy="191160"/>
                      </a:xfrm>
                    </p:grpSpPr>
                    <p:sp>
                      <p:nvSpPr>
                        <p:cNvPr id="1654" name="AutoShape 594"/>
                        <p:cNvSpPr/>
                        <p:nvPr/>
                      </p:nvSpPr>
                      <p:spPr>
                        <a:xfrm>
                          <a:off x="860040" y="3885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5" name="WordArt 595"/>
                        <p:cNvSpPr txBox="1"/>
                        <p:nvPr/>
                      </p:nvSpPr>
                      <p:spPr>
                        <a:xfrm rot="15600">
                          <a:off x="898920" y="3900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患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656" name="Group 596"/>
                      <p:cNvGrpSpPr/>
                      <p:nvPr/>
                    </p:nvGrpSpPr>
                    <p:grpSpPr>
                      <a:xfrm>
                        <a:off x="717120" y="4029480"/>
                        <a:ext cx="380880" cy="191160"/>
                        <a:chOff x="717120" y="4029480"/>
                        <a:chExt cx="380880" cy="191160"/>
                      </a:xfrm>
                    </p:grpSpPr>
                    <p:sp>
                      <p:nvSpPr>
                        <p:cNvPr id="1657" name="AutoShape 597"/>
                        <p:cNvSpPr/>
                        <p:nvPr/>
                      </p:nvSpPr>
                      <p:spPr>
                        <a:xfrm>
                          <a:off x="717120" y="4029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8" name="WordArt 598"/>
                        <p:cNvSpPr txBox="1"/>
                        <p:nvPr/>
                      </p:nvSpPr>
                      <p:spPr>
                        <a:xfrm rot="15600">
                          <a:off x="756000" y="4044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者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659" name="Group 599"/>
                      <p:cNvGrpSpPr/>
                      <p:nvPr/>
                    </p:nvGrpSpPr>
                    <p:grpSpPr>
                      <a:xfrm>
                        <a:off x="574560" y="4173120"/>
                        <a:ext cx="380880" cy="191520"/>
                        <a:chOff x="574560" y="4173120"/>
                        <a:chExt cx="380880" cy="191520"/>
                      </a:xfrm>
                    </p:grpSpPr>
                    <p:sp>
                      <p:nvSpPr>
                        <p:cNvPr id="1660" name="AutoShape 600"/>
                        <p:cNvSpPr/>
                        <p:nvPr/>
                      </p:nvSpPr>
                      <p:spPr>
                        <a:xfrm>
                          <a:off x="574560" y="4173120"/>
                          <a:ext cx="380880" cy="19152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1" name="WordArt 601"/>
                        <p:cNvSpPr txBox="1"/>
                        <p:nvPr/>
                      </p:nvSpPr>
                      <p:spPr>
                        <a:xfrm rot="15600">
                          <a:off x="613440" y="4188240"/>
                          <a:ext cx="314640" cy="8892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480" bIns="4248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國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662" name="Group 602"/>
                      <p:cNvGrpSpPr/>
                      <p:nvPr/>
                    </p:nvGrpSpPr>
                    <p:grpSpPr>
                      <a:xfrm>
                        <a:off x="432000" y="4316760"/>
                        <a:ext cx="380880" cy="191160"/>
                        <a:chOff x="432000" y="4316760"/>
                        <a:chExt cx="380880" cy="191160"/>
                      </a:xfrm>
                    </p:grpSpPr>
                    <p:sp>
                      <p:nvSpPr>
                        <p:cNvPr id="1663" name="AutoShape 603"/>
                        <p:cNvSpPr/>
                        <p:nvPr/>
                      </p:nvSpPr>
                      <p:spPr>
                        <a:xfrm>
                          <a:off x="432000" y="431676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4" name="WordArt 604"/>
                        <p:cNvSpPr txBox="1"/>
                        <p:nvPr/>
                      </p:nvSpPr>
                      <p:spPr>
                        <a:xfrm rot="15600">
                          <a:off x="470880" y="433188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恒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65" name="Group 605"/>
                    <p:cNvGrpSpPr/>
                    <p:nvPr/>
                  </p:nvGrpSpPr>
                  <p:grpSpPr>
                    <a:xfrm>
                      <a:off x="693720" y="3501720"/>
                      <a:ext cx="1190880" cy="1006200"/>
                      <a:chOff x="693720" y="3501720"/>
                      <a:chExt cx="1190880" cy="1006200"/>
                    </a:xfrm>
                  </p:grpSpPr>
                  <p:grpSp>
                    <p:nvGrpSpPr>
                      <p:cNvPr id="1666" name="Group 606"/>
                      <p:cNvGrpSpPr/>
                      <p:nvPr/>
                    </p:nvGrpSpPr>
                    <p:grpSpPr>
                      <a:xfrm>
                        <a:off x="1503360" y="3501720"/>
                        <a:ext cx="381240" cy="191160"/>
                        <a:chOff x="1503360" y="3501720"/>
                        <a:chExt cx="381240" cy="191160"/>
                      </a:xfrm>
                    </p:grpSpPr>
                    <p:sp>
                      <p:nvSpPr>
                        <p:cNvPr id="1667" name="AutoShape 607"/>
                        <p:cNvSpPr/>
                        <p:nvPr/>
                      </p:nvSpPr>
                      <p:spPr>
                        <a:xfrm>
                          <a:off x="1503360" y="350172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8" name="WordArt 608"/>
                        <p:cNvSpPr txBox="1"/>
                        <p:nvPr/>
                      </p:nvSpPr>
                      <p:spPr>
                        <a:xfrm rot="15600">
                          <a:off x="1542960" y="351684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法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669" name="Group 609"/>
                      <p:cNvGrpSpPr/>
                      <p:nvPr/>
                    </p:nvGrpSpPr>
                    <p:grpSpPr>
                      <a:xfrm>
                        <a:off x="1384560" y="3621240"/>
                        <a:ext cx="381240" cy="191160"/>
                        <a:chOff x="1384560" y="3621240"/>
                        <a:chExt cx="381240" cy="191160"/>
                      </a:xfrm>
                    </p:grpSpPr>
                    <p:sp>
                      <p:nvSpPr>
                        <p:cNvPr id="1670" name="AutoShape 610"/>
                        <p:cNvSpPr/>
                        <p:nvPr/>
                      </p:nvSpPr>
                      <p:spPr>
                        <a:xfrm>
                          <a:off x="1384560" y="362124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1" name="WordArt 611"/>
                        <p:cNvSpPr txBox="1"/>
                        <p:nvPr/>
                      </p:nvSpPr>
                      <p:spPr>
                        <a:xfrm rot="15600">
                          <a:off x="1424160" y="363636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家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672" name="Group 612"/>
                      <p:cNvGrpSpPr/>
                      <p:nvPr/>
                    </p:nvGrpSpPr>
                    <p:grpSpPr>
                      <a:xfrm>
                        <a:off x="1241640" y="3764880"/>
                        <a:ext cx="380880" cy="191160"/>
                        <a:chOff x="1241640" y="3764880"/>
                        <a:chExt cx="380880" cy="191160"/>
                      </a:xfrm>
                    </p:grpSpPr>
                    <p:sp>
                      <p:nvSpPr>
                        <p:cNvPr id="1673" name="AutoShape 613"/>
                        <p:cNvSpPr/>
                        <p:nvPr/>
                      </p:nvSpPr>
                      <p:spPr>
                        <a:xfrm>
                          <a:off x="1241640" y="37648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4" name="WordArt 614"/>
                        <p:cNvSpPr txBox="1"/>
                        <p:nvPr/>
                      </p:nvSpPr>
                      <p:spPr>
                        <a:xfrm rot="15600">
                          <a:off x="1280520" y="37800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拂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675" name="Group 615"/>
                      <p:cNvGrpSpPr/>
                      <p:nvPr/>
                    </p:nvGrpSpPr>
                    <p:grpSpPr>
                      <a:xfrm>
                        <a:off x="1122120" y="3885480"/>
                        <a:ext cx="381240" cy="191160"/>
                        <a:chOff x="1122120" y="3885480"/>
                        <a:chExt cx="381240" cy="191160"/>
                      </a:xfrm>
                    </p:grpSpPr>
                    <p:sp>
                      <p:nvSpPr>
                        <p:cNvPr id="1676" name="AutoShape 616"/>
                        <p:cNvSpPr/>
                        <p:nvPr/>
                      </p:nvSpPr>
                      <p:spPr>
                        <a:xfrm>
                          <a:off x="1122120" y="388548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7" name="WordArt 617"/>
                        <p:cNvSpPr txBox="1"/>
                        <p:nvPr/>
                      </p:nvSpPr>
                      <p:spPr>
                        <a:xfrm rot="15600">
                          <a:off x="1161720" y="390060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士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678" name="Group 618"/>
                      <p:cNvGrpSpPr/>
                      <p:nvPr/>
                    </p:nvGrpSpPr>
                    <p:grpSpPr>
                      <a:xfrm>
                        <a:off x="979200" y="4029480"/>
                        <a:ext cx="381240" cy="191160"/>
                        <a:chOff x="979200" y="4029480"/>
                        <a:chExt cx="381240" cy="191160"/>
                      </a:xfrm>
                    </p:grpSpPr>
                    <p:sp>
                      <p:nvSpPr>
                        <p:cNvPr id="1679" name="AutoShape 619"/>
                        <p:cNvSpPr/>
                        <p:nvPr/>
                      </p:nvSpPr>
                      <p:spPr>
                        <a:xfrm>
                          <a:off x="979200" y="402948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0" name="WordArt 620"/>
                        <p:cNvSpPr txBox="1"/>
                        <p:nvPr/>
                      </p:nvSpPr>
                      <p:spPr>
                        <a:xfrm rot="15600">
                          <a:off x="1018800" y="404460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出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681" name="Group 621"/>
                      <p:cNvGrpSpPr/>
                      <p:nvPr/>
                    </p:nvGrpSpPr>
                    <p:grpSpPr>
                      <a:xfrm>
                        <a:off x="836280" y="4173120"/>
                        <a:ext cx="380880" cy="191520"/>
                        <a:chOff x="836280" y="4173120"/>
                        <a:chExt cx="380880" cy="191520"/>
                      </a:xfrm>
                    </p:grpSpPr>
                    <p:sp>
                      <p:nvSpPr>
                        <p:cNvPr id="1682" name="AutoShape 622"/>
                        <p:cNvSpPr/>
                        <p:nvPr/>
                      </p:nvSpPr>
                      <p:spPr>
                        <a:xfrm>
                          <a:off x="836280" y="4173120"/>
                          <a:ext cx="380880" cy="19152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3" name="WordArt 623"/>
                        <p:cNvSpPr txBox="1"/>
                        <p:nvPr/>
                      </p:nvSpPr>
                      <p:spPr>
                        <a:xfrm rot="15600">
                          <a:off x="875160" y="4188240"/>
                          <a:ext cx="314640" cy="8892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480" bIns="4248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則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684" name="Group 624"/>
                      <p:cNvGrpSpPr/>
                      <p:nvPr/>
                    </p:nvGrpSpPr>
                    <p:grpSpPr>
                      <a:xfrm>
                        <a:off x="693720" y="4316760"/>
                        <a:ext cx="381240" cy="191160"/>
                        <a:chOff x="693720" y="4316760"/>
                        <a:chExt cx="381240" cy="191160"/>
                      </a:xfrm>
                    </p:grpSpPr>
                    <p:sp>
                      <p:nvSpPr>
                        <p:cNvPr id="1685" name="AutoShape 625"/>
                        <p:cNvSpPr/>
                        <p:nvPr/>
                      </p:nvSpPr>
                      <p:spPr>
                        <a:xfrm>
                          <a:off x="693720" y="431676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6" name="WordArt 626"/>
                        <p:cNvSpPr txBox="1"/>
                        <p:nvPr/>
                      </p:nvSpPr>
                      <p:spPr>
                        <a:xfrm rot="15600">
                          <a:off x="733320" y="433188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無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687" name="Group 627"/>
                    <p:cNvGrpSpPr/>
                    <p:nvPr/>
                  </p:nvGrpSpPr>
                  <p:grpSpPr>
                    <a:xfrm>
                      <a:off x="955800" y="3501720"/>
                      <a:ext cx="1190160" cy="1006200"/>
                      <a:chOff x="955800" y="3501720"/>
                      <a:chExt cx="1190160" cy="1006200"/>
                    </a:xfrm>
                  </p:grpSpPr>
                  <p:grpSp>
                    <p:nvGrpSpPr>
                      <p:cNvPr id="1688" name="Group 628"/>
                      <p:cNvGrpSpPr/>
                      <p:nvPr/>
                    </p:nvGrpSpPr>
                    <p:grpSpPr>
                      <a:xfrm>
                        <a:off x="1765080" y="3501720"/>
                        <a:ext cx="380880" cy="191160"/>
                        <a:chOff x="1765080" y="3501720"/>
                        <a:chExt cx="380880" cy="191160"/>
                      </a:xfrm>
                    </p:grpSpPr>
                    <p:sp>
                      <p:nvSpPr>
                        <p:cNvPr id="1689" name="AutoShape 629"/>
                        <p:cNvSpPr/>
                        <p:nvPr/>
                      </p:nvSpPr>
                      <p:spPr>
                        <a:xfrm>
                          <a:off x="1765080" y="350172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0" name="WordArt 630"/>
                        <p:cNvSpPr txBox="1"/>
                        <p:nvPr/>
                      </p:nvSpPr>
                      <p:spPr>
                        <a:xfrm rot="15600">
                          <a:off x="1803960" y="351684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聲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691" name="Group 631"/>
                      <p:cNvGrpSpPr/>
                      <p:nvPr/>
                    </p:nvGrpSpPr>
                    <p:grpSpPr>
                      <a:xfrm>
                        <a:off x="1646280" y="3621240"/>
                        <a:ext cx="380880" cy="191160"/>
                        <a:chOff x="1646280" y="3621240"/>
                        <a:chExt cx="380880" cy="191160"/>
                      </a:xfrm>
                    </p:grpSpPr>
                    <p:sp>
                      <p:nvSpPr>
                        <p:cNvPr id="1692" name="AutoShape 632"/>
                        <p:cNvSpPr/>
                        <p:nvPr/>
                      </p:nvSpPr>
                      <p:spPr>
                        <a:xfrm>
                          <a:off x="1646280" y="362124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3" name="WordArt 633"/>
                        <p:cNvSpPr txBox="1"/>
                        <p:nvPr/>
                      </p:nvSpPr>
                      <p:spPr>
                        <a:xfrm rot="15600">
                          <a:off x="1685160" y="363636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而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694" name="Group 634"/>
                      <p:cNvGrpSpPr/>
                      <p:nvPr/>
                    </p:nvGrpSpPr>
                    <p:grpSpPr>
                      <a:xfrm>
                        <a:off x="1503720" y="3764880"/>
                        <a:ext cx="380880" cy="191160"/>
                        <a:chOff x="1503720" y="3764880"/>
                        <a:chExt cx="380880" cy="191160"/>
                      </a:xfrm>
                    </p:grpSpPr>
                    <p:sp>
                      <p:nvSpPr>
                        <p:cNvPr id="1695" name="AutoShape 635"/>
                        <p:cNvSpPr/>
                        <p:nvPr/>
                      </p:nvSpPr>
                      <p:spPr>
                        <a:xfrm>
                          <a:off x="1503720" y="37648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6" name="WordArt 636"/>
                        <p:cNvSpPr txBox="1"/>
                        <p:nvPr/>
                      </p:nvSpPr>
                      <p:spPr>
                        <a:xfrm rot="15600">
                          <a:off x="1542600" y="37800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後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697" name="Group 637"/>
                      <p:cNvGrpSpPr/>
                      <p:nvPr/>
                    </p:nvGrpSpPr>
                    <p:grpSpPr>
                      <a:xfrm>
                        <a:off x="1383840" y="3885480"/>
                        <a:ext cx="380880" cy="191160"/>
                        <a:chOff x="1383840" y="3885480"/>
                        <a:chExt cx="380880" cy="191160"/>
                      </a:xfrm>
                    </p:grpSpPr>
                    <p:sp>
                      <p:nvSpPr>
                        <p:cNvPr id="1698" name="AutoShape 638"/>
                        <p:cNvSpPr/>
                        <p:nvPr/>
                      </p:nvSpPr>
                      <p:spPr>
                        <a:xfrm>
                          <a:off x="1383840" y="3885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9" name="WordArt 639"/>
                        <p:cNvSpPr txBox="1"/>
                        <p:nvPr/>
                      </p:nvSpPr>
                      <p:spPr>
                        <a:xfrm rot="15600">
                          <a:off x="1422720" y="3900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喩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00" name="Group 640"/>
                      <p:cNvGrpSpPr/>
                      <p:nvPr/>
                    </p:nvGrpSpPr>
                    <p:grpSpPr>
                      <a:xfrm>
                        <a:off x="1240920" y="4029480"/>
                        <a:ext cx="380880" cy="191160"/>
                        <a:chOff x="1240920" y="4029480"/>
                        <a:chExt cx="380880" cy="191160"/>
                      </a:xfrm>
                    </p:grpSpPr>
                    <p:sp>
                      <p:nvSpPr>
                        <p:cNvPr id="1701" name="AutoShape 641"/>
                        <p:cNvSpPr/>
                        <p:nvPr/>
                      </p:nvSpPr>
                      <p:spPr>
                        <a:xfrm>
                          <a:off x="1240920" y="4029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2" name="WordArt 642"/>
                        <p:cNvSpPr txBox="1"/>
                        <p:nvPr/>
                      </p:nvSpPr>
                      <p:spPr>
                        <a:xfrm rot="15600">
                          <a:off x="1279800" y="4044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入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03" name="Group 643"/>
                      <p:cNvGrpSpPr/>
                      <p:nvPr/>
                    </p:nvGrpSpPr>
                    <p:grpSpPr>
                      <a:xfrm>
                        <a:off x="1098360" y="4173120"/>
                        <a:ext cx="380880" cy="191520"/>
                        <a:chOff x="1098360" y="4173120"/>
                        <a:chExt cx="380880" cy="191520"/>
                      </a:xfrm>
                    </p:grpSpPr>
                    <p:sp>
                      <p:nvSpPr>
                        <p:cNvPr id="1704" name="AutoShape 644"/>
                        <p:cNvSpPr/>
                        <p:nvPr/>
                      </p:nvSpPr>
                      <p:spPr>
                        <a:xfrm>
                          <a:off x="1098360" y="4173120"/>
                          <a:ext cx="380880" cy="19152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5" name="WordArt 645"/>
                        <p:cNvSpPr txBox="1"/>
                        <p:nvPr/>
                      </p:nvSpPr>
                      <p:spPr>
                        <a:xfrm rot="15600">
                          <a:off x="1137240" y="4188240"/>
                          <a:ext cx="314640" cy="8892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480" bIns="4248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則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06" name="Group 646"/>
                      <p:cNvGrpSpPr/>
                      <p:nvPr/>
                    </p:nvGrpSpPr>
                    <p:grpSpPr>
                      <a:xfrm>
                        <a:off x="955800" y="4316760"/>
                        <a:ext cx="380880" cy="191160"/>
                        <a:chOff x="955800" y="4316760"/>
                        <a:chExt cx="380880" cy="191160"/>
                      </a:xfrm>
                    </p:grpSpPr>
                    <p:sp>
                      <p:nvSpPr>
                        <p:cNvPr id="1707" name="AutoShape 647"/>
                        <p:cNvSpPr/>
                        <p:nvPr/>
                      </p:nvSpPr>
                      <p:spPr>
                        <a:xfrm>
                          <a:off x="955800" y="431676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8" name="WordArt 648"/>
                        <p:cNvSpPr txBox="1"/>
                        <p:nvPr/>
                      </p:nvSpPr>
                      <p:spPr>
                        <a:xfrm rot="15600">
                          <a:off x="994680" y="433188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無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09" name="Group 649"/>
                    <p:cNvGrpSpPr/>
                    <p:nvPr/>
                  </p:nvGrpSpPr>
                  <p:grpSpPr>
                    <a:xfrm>
                      <a:off x="1217880" y="3501720"/>
                      <a:ext cx="1190160" cy="1006200"/>
                      <a:chOff x="1217880" y="3501720"/>
                      <a:chExt cx="1190160" cy="1006200"/>
                    </a:xfrm>
                  </p:grpSpPr>
                  <p:grpSp>
                    <p:nvGrpSpPr>
                      <p:cNvPr id="1710" name="Group 650"/>
                      <p:cNvGrpSpPr/>
                      <p:nvPr/>
                    </p:nvGrpSpPr>
                    <p:grpSpPr>
                      <a:xfrm>
                        <a:off x="2027160" y="3501720"/>
                        <a:ext cx="380880" cy="191160"/>
                        <a:chOff x="2027160" y="3501720"/>
                        <a:chExt cx="380880" cy="191160"/>
                      </a:xfrm>
                    </p:grpSpPr>
                    <p:sp>
                      <p:nvSpPr>
                        <p:cNvPr id="1711" name="AutoShape 651"/>
                        <p:cNvSpPr/>
                        <p:nvPr/>
                      </p:nvSpPr>
                      <p:spPr>
                        <a:xfrm>
                          <a:off x="2027160" y="350172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2" name="WordArt 652"/>
                        <p:cNvSpPr txBox="1"/>
                        <p:nvPr/>
                      </p:nvSpPr>
                      <p:spPr>
                        <a:xfrm rot="15600">
                          <a:off x="2066040" y="351684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後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13" name="Group 653"/>
                      <p:cNvGrpSpPr/>
                      <p:nvPr/>
                    </p:nvGrpSpPr>
                    <p:grpSpPr>
                      <a:xfrm>
                        <a:off x="1908360" y="3621240"/>
                        <a:ext cx="380880" cy="191160"/>
                        <a:chOff x="1908360" y="3621240"/>
                        <a:chExt cx="380880" cy="191160"/>
                      </a:xfrm>
                    </p:grpSpPr>
                    <p:sp>
                      <p:nvSpPr>
                        <p:cNvPr id="1714" name="AutoShape 654"/>
                        <p:cNvSpPr/>
                        <p:nvPr/>
                      </p:nvSpPr>
                      <p:spPr>
                        <a:xfrm>
                          <a:off x="1908360" y="362124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5" name="WordArt 655"/>
                        <p:cNvSpPr txBox="1"/>
                        <p:nvPr/>
                      </p:nvSpPr>
                      <p:spPr>
                        <a:xfrm rot="15600">
                          <a:off x="1947240" y="363636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作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16" name="Group 656"/>
                      <p:cNvGrpSpPr/>
                      <p:nvPr/>
                    </p:nvGrpSpPr>
                    <p:grpSpPr>
                      <a:xfrm>
                        <a:off x="1765800" y="3764880"/>
                        <a:ext cx="380880" cy="191160"/>
                        <a:chOff x="1765800" y="3764880"/>
                        <a:chExt cx="380880" cy="191160"/>
                      </a:xfrm>
                    </p:grpSpPr>
                    <p:sp>
                      <p:nvSpPr>
                        <p:cNvPr id="1717" name="AutoShape 657"/>
                        <p:cNvSpPr/>
                        <p:nvPr/>
                      </p:nvSpPr>
                      <p:spPr>
                        <a:xfrm>
                          <a:off x="1765800" y="37648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8" name="WordArt 658"/>
                        <p:cNvSpPr txBox="1"/>
                        <p:nvPr/>
                      </p:nvSpPr>
                      <p:spPr>
                        <a:xfrm rot="15600">
                          <a:off x="1804680" y="37800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徵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19" name="Group 659"/>
                      <p:cNvGrpSpPr/>
                      <p:nvPr/>
                    </p:nvGrpSpPr>
                    <p:grpSpPr>
                      <a:xfrm>
                        <a:off x="1645920" y="3885480"/>
                        <a:ext cx="380880" cy="191160"/>
                        <a:chOff x="1645920" y="3885480"/>
                        <a:chExt cx="380880" cy="191160"/>
                      </a:xfrm>
                    </p:grpSpPr>
                    <p:sp>
                      <p:nvSpPr>
                        <p:cNvPr id="1720" name="AutoShape 660"/>
                        <p:cNvSpPr/>
                        <p:nvPr/>
                      </p:nvSpPr>
                      <p:spPr>
                        <a:xfrm>
                          <a:off x="1645920" y="3885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1" name="WordArt 661"/>
                        <p:cNvSpPr txBox="1"/>
                        <p:nvPr/>
                      </p:nvSpPr>
                      <p:spPr>
                        <a:xfrm rot="15600">
                          <a:off x="1684800" y="3900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於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22" name="Group 662"/>
                      <p:cNvGrpSpPr/>
                      <p:nvPr/>
                    </p:nvGrpSpPr>
                    <p:grpSpPr>
                      <a:xfrm>
                        <a:off x="1503000" y="4029480"/>
                        <a:ext cx="380880" cy="191160"/>
                        <a:chOff x="1503000" y="4029480"/>
                        <a:chExt cx="380880" cy="191160"/>
                      </a:xfrm>
                    </p:grpSpPr>
                    <p:sp>
                      <p:nvSpPr>
                        <p:cNvPr id="1723" name="AutoShape 663"/>
                        <p:cNvSpPr/>
                        <p:nvPr/>
                      </p:nvSpPr>
                      <p:spPr>
                        <a:xfrm>
                          <a:off x="1503000" y="4029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4" name="WordArt 664"/>
                        <p:cNvSpPr txBox="1"/>
                        <p:nvPr/>
                      </p:nvSpPr>
                      <p:spPr>
                        <a:xfrm rot="15600">
                          <a:off x="1541880" y="4044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色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25" name="Group 665"/>
                      <p:cNvGrpSpPr/>
                      <p:nvPr/>
                    </p:nvGrpSpPr>
                    <p:grpSpPr>
                      <a:xfrm>
                        <a:off x="1360440" y="4173120"/>
                        <a:ext cx="380880" cy="191520"/>
                        <a:chOff x="1360440" y="4173120"/>
                        <a:chExt cx="380880" cy="191520"/>
                      </a:xfrm>
                    </p:grpSpPr>
                    <p:sp>
                      <p:nvSpPr>
                        <p:cNvPr id="1726" name="AutoShape 666"/>
                        <p:cNvSpPr/>
                        <p:nvPr/>
                      </p:nvSpPr>
                      <p:spPr>
                        <a:xfrm>
                          <a:off x="1360440" y="4173120"/>
                          <a:ext cx="380880" cy="19152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7" name="WordArt 667"/>
                        <p:cNvSpPr txBox="1"/>
                        <p:nvPr/>
                      </p:nvSpPr>
                      <p:spPr>
                        <a:xfrm rot="15600">
                          <a:off x="1399320" y="4188240"/>
                          <a:ext cx="314640" cy="8892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480" bIns="4248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發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28" name="Group 668"/>
                      <p:cNvGrpSpPr/>
                      <p:nvPr/>
                    </p:nvGrpSpPr>
                    <p:grpSpPr>
                      <a:xfrm>
                        <a:off x="1217880" y="4316760"/>
                        <a:ext cx="380880" cy="191160"/>
                        <a:chOff x="1217880" y="4316760"/>
                        <a:chExt cx="380880" cy="191160"/>
                      </a:xfrm>
                    </p:grpSpPr>
                    <p:sp>
                      <p:nvSpPr>
                        <p:cNvPr id="1729" name="AutoShape 669"/>
                        <p:cNvSpPr/>
                        <p:nvPr/>
                      </p:nvSpPr>
                      <p:spPr>
                        <a:xfrm>
                          <a:off x="1217880" y="431676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0" name="WordArt 670"/>
                        <p:cNvSpPr txBox="1"/>
                        <p:nvPr/>
                      </p:nvSpPr>
                      <p:spPr>
                        <a:xfrm rot="15600">
                          <a:off x="1256760" y="433188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於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31" name="Group 671"/>
                    <p:cNvGrpSpPr/>
                    <p:nvPr/>
                  </p:nvGrpSpPr>
                  <p:grpSpPr>
                    <a:xfrm>
                      <a:off x="1479600" y="3501720"/>
                      <a:ext cx="1190880" cy="1006200"/>
                      <a:chOff x="1479600" y="3501720"/>
                      <a:chExt cx="1190880" cy="1006200"/>
                    </a:xfrm>
                  </p:grpSpPr>
                  <p:grpSp>
                    <p:nvGrpSpPr>
                      <p:cNvPr id="1732" name="Group 672"/>
                      <p:cNvGrpSpPr/>
                      <p:nvPr/>
                    </p:nvGrpSpPr>
                    <p:grpSpPr>
                      <a:xfrm>
                        <a:off x="2289240" y="3501720"/>
                        <a:ext cx="381240" cy="191160"/>
                        <a:chOff x="2289240" y="3501720"/>
                        <a:chExt cx="381240" cy="191160"/>
                      </a:xfrm>
                    </p:grpSpPr>
                    <p:sp>
                      <p:nvSpPr>
                        <p:cNvPr id="1733" name="AutoShape 673"/>
                        <p:cNvSpPr/>
                        <p:nvPr/>
                      </p:nvSpPr>
                      <p:spPr>
                        <a:xfrm>
                          <a:off x="2289240" y="350172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4" name="WordArt 674"/>
                        <p:cNvSpPr txBox="1"/>
                        <p:nvPr/>
                      </p:nvSpPr>
                      <p:spPr>
                        <a:xfrm rot="15600">
                          <a:off x="2328840" y="351684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困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35" name="Group 675"/>
                      <p:cNvGrpSpPr/>
                      <p:nvPr/>
                    </p:nvGrpSpPr>
                    <p:grpSpPr>
                      <a:xfrm>
                        <a:off x="2170440" y="3621240"/>
                        <a:ext cx="381240" cy="191160"/>
                        <a:chOff x="2170440" y="3621240"/>
                        <a:chExt cx="381240" cy="191160"/>
                      </a:xfrm>
                    </p:grpSpPr>
                    <p:sp>
                      <p:nvSpPr>
                        <p:cNvPr id="1736" name="AutoShape 676"/>
                        <p:cNvSpPr/>
                        <p:nvPr/>
                      </p:nvSpPr>
                      <p:spPr>
                        <a:xfrm>
                          <a:off x="2170440" y="362124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7" name="WordArt 677"/>
                        <p:cNvSpPr txBox="1"/>
                        <p:nvPr/>
                      </p:nvSpPr>
                      <p:spPr>
                        <a:xfrm rot="15600">
                          <a:off x="2210040" y="363636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於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38" name="Group 678"/>
                      <p:cNvGrpSpPr/>
                      <p:nvPr/>
                    </p:nvGrpSpPr>
                    <p:grpSpPr>
                      <a:xfrm>
                        <a:off x="2027520" y="3764880"/>
                        <a:ext cx="380880" cy="191160"/>
                        <a:chOff x="2027520" y="3764880"/>
                        <a:chExt cx="380880" cy="191160"/>
                      </a:xfrm>
                    </p:grpSpPr>
                    <p:sp>
                      <p:nvSpPr>
                        <p:cNvPr id="1739" name="AutoShape 679"/>
                        <p:cNvSpPr/>
                        <p:nvPr/>
                      </p:nvSpPr>
                      <p:spPr>
                        <a:xfrm>
                          <a:off x="2027520" y="37648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0" name="WordArt 680"/>
                        <p:cNvSpPr txBox="1"/>
                        <p:nvPr/>
                      </p:nvSpPr>
                      <p:spPr>
                        <a:xfrm rot="15600">
                          <a:off x="2066400" y="37800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心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41" name="Group 681"/>
                      <p:cNvGrpSpPr/>
                      <p:nvPr/>
                    </p:nvGrpSpPr>
                    <p:grpSpPr>
                      <a:xfrm>
                        <a:off x="1908000" y="3885480"/>
                        <a:ext cx="381240" cy="191160"/>
                        <a:chOff x="1908000" y="3885480"/>
                        <a:chExt cx="381240" cy="191160"/>
                      </a:xfrm>
                    </p:grpSpPr>
                    <p:sp>
                      <p:nvSpPr>
                        <p:cNvPr id="1742" name="AutoShape 682"/>
                        <p:cNvSpPr/>
                        <p:nvPr/>
                      </p:nvSpPr>
                      <p:spPr>
                        <a:xfrm>
                          <a:off x="1908000" y="388548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3" name="WordArt 683"/>
                        <p:cNvSpPr txBox="1"/>
                        <p:nvPr/>
                      </p:nvSpPr>
                      <p:spPr>
                        <a:xfrm rot="15600">
                          <a:off x="1947600" y="390060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衡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44" name="Group 684"/>
                      <p:cNvGrpSpPr/>
                      <p:nvPr/>
                    </p:nvGrpSpPr>
                    <p:grpSpPr>
                      <a:xfrm>
                        <a:off x="1765080" y="4029480"/>
                        <a:ext cx="381240" cy="191160"/>
                        <a:chOff x="1765080" y="4029480"/>
                        <a:chExt cx="381240" cy="191160"/>
                      </a:xfrm>
                    </p:grpSpPr>
                    <p:sp>
                      <p:nvSpPr>
                        <p:cNvPr id="1745" name="AutoShape 685"/>
                        <p:cNvSpPr/>
                        <p:nvPr/>
                      </p:nvSpPr>
                      <p:spPr>
                        <a:xfrm>
                          <a:off x="1765080" y="402948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6" name="WordArt 686"/>
                        <p:cNvSpPr txBox="1"/>
                        <p:nvPr/>
                      </p:nvSpPr>
                      <p:spPr>
                        <a:xfrm rot="15600">
                          <a:off x="1804680" y="404460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於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47" name="Group 687"/>
                      <p:cNvGrpSpPr/>
                      <p:nvPr/>
                    </p:nvGrpSpPr>
                    <p:grpSpPr>
                      <a:xfrm>
                        <a:off x="1622160" y="4173120"/>
                        <a:ext cx="380880" cy="191520"/>
                        <a:chOff x="1622160" y="4173120"/>
                        <a:chExt cx="380880" cy="191520"/>
                      </a:xfrm>
                    </p:grpSpPr>
                    <p:sp>
                      <p:nvSpPr>
                        <p:cNvPr id="1748" name="AutoShape 688"/>
                        <p:cNvSpPr/>
                        <p:nvPr/>
                      </p:nvSpPr>
                      <p:spPr>
                        <a:xfrm>
                          <a:off x="1622160" y="4173120"/>
                          <a:ext cx="380880" cy="19152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9" name="WordArt 689"/>
                        <p:cNvSpPr txBox="1"/>
                        <p:nvPr/>
                      </p:nvSpPr>
                      <p:spPr>
                        <a:xfrm rot="15600">
                          <a:off x="1661040" y="4188240"/>
                          <a:ext cx="314640" cy="8892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480" bIns="4248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虑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50" name="Group 690"/>
                      <p:cNvGrpSpPr/>
                      <p:nvPr/>
                    </p:nvGrpSpPr>
                    <p:grpSpPr>
                      <a:xfrm>
                        <a:off x="1479600" y="4316760"/>
                        <a:ext cx="381240" cy="191160"/>
                        <a:chOff x="1479600" y="4316760"/>
                        <a:chExt cx="381240" cy="191160"/>
                      </a:xfrm>
                    </p:grpSpPr>
                    <p:sp>
                      <p:nvSpPr>
                        <p:cNvPr id="1751" name="AutoShape 691"/>
                        <p:cNvSpPr/>
                        <p:nvPr/>
                      </p:nvSpPr>
                      <p:spPr>
                        <a:xfrm>
                          <a:off x="1479600" y="431676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2" name="WordArt 692"/>
                        <p:cNvSpPr txBox="1"/>
                        <p:nvPr/>
                      </p:nvSpPr>
                      <p:spPr>
                        <a:xfrm rot="15600">
                          <a:off x="1519200" y="433188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而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53" name="Group 693"/>
                    <p:cNvGrpSpPr/>
                    <p:nvPr/>
                  </p:nvGrpSpPr>
                  <p:grpSpPr>
                    <a:xfrm>
                      <a:off x="1741680" y="3501720"/>
                      <a:ext cx="1190160" cy="1006200"/>
                      <a:chOff x="1741680" y="3501720"/>
                      <a:chExt cx="1190160" cy="1006200"/>
                    </a:xfrm>
                  </p:grpSpPr>
                  <p:grpSp>
                    <p:nvGrpSpPr>
                      <p:cNvPr id="1754" name="Group 694"/>
                      <p:cNvGrpSpPr/>
                      <p:nvPr/>
                    </p:nvGrpSpPr>
                    <p:grpSpPr>
                      <a:xfrm>
                        <a:off x="2550960" y="3501720"/>
                        <a:ext cx="380880" cy="191160"/>
                        <a:chOff x="2550960" y="3501720"/>
                        <a:chExt cx="380880" cy="191160"/>
                      </a:xfrm>
                    </p:grpSpPr>
                    <p:sp>
                      <p:nvSpPr>
                        <p:cNvPr id="1755" name="AutoShape 695"/>
                        <p:cNvSpPr/>
                        <p:nvPr/>
                      </p:nvSpPr>
                      <p:spPr>
                        <a:xfrm>
                          <a:off x="2550960" y="350172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6" name="WordArt 696"/>
                        <p:cNvSpPr txBox="1"/>
                        <p:nvPr/>
                      </p:nvSpPr>
                      <p:spPr>
                        <a:xfrm rot="15600">
                          <a:off x="2589840" y="351684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人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57" name="Group 697"/>
                      <p:cNvGrpSpPr/>
                      <p:nvPr/>
                    </p:nvGrpSpPr>
                    <p:grpSpPr>
                      <a:xfrm>
                        <a:off x="2432160" y="3621240"/>
                        <a:ext cx="380880" cy="191160"/>
                        <a:chOff x="2432160" y="3621240"/>
                        <a:chExt cx="380880" cy="191160"/>
                      </a:xfrm>
                    </p:grpSpPr>
                    <p:sp>
                      <p:nvSpPr>
                        <p:cNvPr id="1758" name="AutoShape 698"/>
                        <p:cNvSpPr/>
                        <p:nvPr/>
                      </p:nvSpPr>
                      <p:spPr>
                        <a:xfrm>
                          <a:off x="2432160" y="362124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9" name="WordArt 699"/>
                        <p:cNvSpPr txBox="1"/>
                        <p:nvPr/>
                      </p:nvSpPr>
                      <p:spPr>
                        <a:xfrm rot="15600">
                          <a:off x="2471040" y="363636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衡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60" name="Group 700"/>
                      <p:cNvGrpSpPr/>
                      <p:nvPr/>
                    </p:nvGrpSpPr>
                    <p:grpSpPr>
                      <a:xfrm>
                        <a:off x="2289600" y="3764880"/>
                        <a:ext cx="380880" cy="191160"/>
                        <a:chOff x="2289600" y="3764880"/>
                        <a:chExt cx="380880" cy="191160"/>
                      </a:xfrm>
                    </p:grpSpPr>
                    <p:sp>
                      <p:nvSpPr>
                        <p:cNvPr id="1761" name="AutoShape 701"/>
                        <p:cNvSpPr/>
                        <p:nvPr/>
                      </p:nvSpPr>
                      <p:spPr>
                        <a:xfrm>
                          <a:off x="2289600" y="37648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2" name="WordArt 702"/>
                        <p:cNvSpPr txBox="1"/>
                        <p:nvPr/>
                      </p:nvSpPr>
                      <p:spPr>
                        <a:xfrm rot="15600">
                          <a:off x="2328480" y="37800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過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63" name="Group 703"/>
                      <p:cNvGrpSpPr/>
                      <p:nvPr/>
                    </p:nvGrpSpPr>
                    <p:grpSpPr>
                      <a:xfrm>
                        <a:off x="2169720" y="3885480"/>
                        <a:ext cx="380880" cy="191160"/>
                        <a:chOff x="2169720" y="3885480"/>
                        <a:chExt cx="380880" cy="191160"/>
                      </a:xfrm>
                    </p:grpSpPr>
                    <p:sp>
                      <p:nvSpPr>
                        <p:cNvPr id="1764" name="AutoShape 704"/>
                        <p:cNvSpPr/>
                        <p:nvPr/>
                      </p:nvSpPr>
                      <p:spPr>
                        <a:xfrm>
                          <a:off x="2169720" y="3885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5" name="WordArt 705"/>
                        <p:cNvSpPr txBox="1"/>
                        <p:nvPr/>
                      </p:nvSpPr>
                      <p:spPr>
                        <a:xfrm rot="15600">
                          <a:off x="2208600" y="3900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然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66" name="Group 706"/>
                      <p:cNvGrpSpPr/>
                      <p:nvPr/>
                    </p:nvGrpSpPr>
                    <p:grpSpPr>
                      <a:xfrm>
                        <a:off x="2026800" y="4029480"/>
                        <a:ext cx="380880" cy="191160"/>
                        <a:chOff x="2026800" y="4029480"/>
                        <a:chExt cx="380880" cy="191160"/>
                      </a:xfrm>
                    </p:grpSpPr>
                    <p:sp>
                      <p:nvSpPr>
                        <p:cNvPr id="1767" name="AutoShape 707"/>
                        <p:cNvSpPr/>
                        <p:nvPr/>
                      </p:nvSpPr>
                      <p:spPr>
                        <a:xfrm>
                          <a:off x="2026800" y="4029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8" name="WordArt 708"/>
                        <p:cNvSpPr txBox="1"/>
                        <p:nvPr/>
                      </p:nvSpPr>
                      <p:spPr>
                        <a:xfrm rot="15600">
                          <a:off x="2065680" y="4044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後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69" name="Group 709"/>
                      <p:cNvGrpSpPr/>
                      <p:nvPr/>
                    </p:nvGrpSpPr>
                    <p:grpSpPr>
                      <a:xfrm>
                        <a:off x="1884240" y="4173120"/>
                        <a:ext cx="380880" cy="191520"/>
                        <a:chOff x="1884240" y="4173120"/>
                        <a:chExt cx="380880" cy="191520"/>
                      </a:xfrm>
                    </p:grpSpPr>
                    <p:sp>
                      <p:nvSpPr>
                        <p:cNvPr id="1770" name="AutoShape 710"/>
                        <p:cNvSpPr/>
                        <p:nvPr/>
                      </p:nvSpPr>
                      <p:spPr>
                        <a:xfrm>
                          <a:off x="1884240" y="4173120"/>
                          <a:ext cx="380880" cy="19152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1" name="WordArt 711"/>
                        <p:cNvSpPr txBox="1"/>
                        <p:nvPr/>
                      </p:nvSpPr>
                      <p:spPr>
                        <a:xfrm rot="15600">
                          <a:off x="1923120" y="4188240"/>
                          <a:ext cx="314640" cy="8892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480" bIns="4248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能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72" name="Group 712"/>
                      <p:cNvGrpSpPr/>
                      <p:nvPr/>
                    </p:nvGrpSpPr>
                    <p:grpSpPr>
                      <a:xfrm>
                        <a:off x="1741680" y="4316760"/>
                        <a:ext cx="380880" cy="191160"/>
                        <a:chOff x="1741680" y="4316760"/>
                        <a:chExt cx="380880" cy="191160"/>
                      </a:xfrm>
                    </p:grpSpPr>
                    <p:sp>
                      <p:nvSpPr>
                        <p:cNvPr id="1773" name="AutoShape 713"/>
                        <p:cNvSpPr/>
                        <p:nvPr/>
                      </p:nvSpPr>
                      <p:spPr>
                        <a:xfrm>
                          <a:off x="1741680" y="431676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4" name="WordArt 714"/>
                        <p:cNvSpPr txBox="1"/>
                        <p:nvPr/>
                      </p:nvSpPr>
                      <p:spPr>
                        <a:xfrm rot="15600">
                          <a:off x="1780560" y="433188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改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75" name="Group 715"/>
                    <p:cNvGrpSpPr/>
                    <p:nvPr/>
                  </p:nvGrpSpPr>
                  <p:grpSpPr>
                    <a:xfrm>
                      <a:off x="2003400" y="3501720"/>
                      <a:ext cx="1190880" cy="1006200"/>
                      <a:chOff x="2003400" y="3501720"/>
                      <a:chExt cx="1190880" cy="1006200"/>
                    </a:xfrm>
                  </p:grpSpPr>
                  <p:grpSp>
                    <p:nvGrpSpPr>
                      <p:cNvPr id="1776" name="Group 716"/>
                      <p:cNvGrpSpPr/>
                      <p:nvPr/>
                    </p:nvGrpSpPr>
                    <p:grpSpPr>
                      <a:xfrm>
                        <a:off x="2813040" y="3501720"/>
                        <a:ext cx="381240" cy="191160"/>
                        <a:chOff x="2813040" y="3501720"/>
                        <a:chExt cx="381240" cy="191160"/>
                      </a:xfrm>
                    </p:grpSpPr>
                    <p:sp>
                      <p:nvSpPr>
                        <p:cNvPr id="1777" name="AutoShape 717"/>
                        <p:cNvSpPr/>
                        <p:nvPr/>
                      </p:nvSpPr>
                      <p:spPr>
                        <a:xfrm>
                          <a:off x="2813040" y="350172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8" name="WordArt 718"/>
                        <p:cNvSpPr txBox="1"/>
                        <p:nvPr/>
                      </p:nvSpPr>
                      <p:spPr>
                        <a:xfrm rot="15600">
                          <a:off x="2852640" y="351684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所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79" name="Group 719"/>
                      <p:cNvGrpSpPr/>
                      <p:nvPr/>
                    </p:nvGrpSpPr>
                    <p:grpSpPr>
                      <a:xfrm>
                        <a:off x="2694240" y="3621240"/>
                        <a:ext cx="381240" cy="191160"/>
                        <a:chOff x="2694240" y="3621240"/>
                        <a:chExt cx="381240" cy="191160"/>
                      </a:xfrm>
                    </p:grpSpPr>
                    <p:sp>
                      <p:nvSpPr>
                        <p:cNvPr id="1780" name="AutoShape 720"/>
                        <p:cNvSpPr/>
                        <p:nvPr/>
                      </p:nvSpPr>
                      <p:spPr>
                        <a:xfrm>
                          <a:off x="2694240" y="362124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1" name="WordArt 721"/>
                        <p:cNvSpPr txBox="1"/>
                        <p:nvPr/>
                      </p:nvSpPr>
                      <p:spPr>
                        <a:xfrm rot="15600">
                          <a:off x="2733840" y="363636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不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82" name="Group 722"/>
                      <p:cNvGrpSpPr/>
                      <p:nvPr/>
                    </p:nvGrpSpPr>
                    <p:grpSpPr>
                      <a:xfrm>
                        <a:off x="2551320" y="3764880"/>
                        <a:ext cx="380880" cy="191160"/>
                        <a:chOff x="2551320" y="3764880"/>
                        <a:chExt cx="380880" cy="191160"/>
                      </a:xfrm>
                    </p:grpSpPr>
                    <p:sp>
                      <p:nvSpPr>
                        <p:cNvPr id="1783" name="AutoShape 723"/>
                        <p:cNvSpPr/>
                        <p:nvPr/>
                      </p:nvSpPr>
                      <p:spPr>
                        <a:xfrm>
                          <a:off x="2551320" y="37648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4" name="WordArt 724"/>
                        <p:cNvSpPr txBox="1"/>
                        <p:nvPr/>
                      </p:nvSpPr>
                      <p:spPr>
                        <a:xfrm rot="15600">
                          <a:off x="2590200" y="37800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能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85" name="Group 725"/>
                      <p:cNvGrpSpPr/>
                      <p:nvPr/>
                    </p:nvGrpSpPr>
                    <p:grpSpPr>
                      <a:xfrm>
                        <a:off x="2431800" y="3885480"/>
                        <a:ext cx="381240" cy="191160"/>
                        <a:chOff x="2431800" y="3885480"/>
                        <a:chExt cx="381240" cy="191160"/>
                      </a:xfrm>
                    </p:grpSpPr>
                    <p:sp>
                      <p:nvSpPr>
                        <p:cNvPr id="1786" name="AutoShape 726"/>
                        <p:cNvSpPr/>
                        <p:nvPr/>
                      </p:nvSpPr>
                      <p:spPr>
                        <a:xfrm>
                          <a:off x="2431800" y="388548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7" name="WordArt 727"/>
                        <p:cNvSpPr txBox="1"/>
                        <p:nvPr/>
                      </p:nvSpPr>
                      <p:spPr>
                        <a:xfrm rot="15600">
                          <a:off x="2471400" y="390060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en-US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 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88" name="Group 728"/>
                      <p:cNvGrpSpPr/>
                      <p:nvPr/>
                    </p:nvGrpSpPr>
                    <p:grpSpPr>
                      <a:xfrm>
                        <a:off x="2288880" y="4029480"/>
                        <a:ext cx="381240" cy="191160"/>
                        <a:chOff x="2288880" y="4029480"/>
                        <a:chExt cx="381240" cy="191160"/>
                      </a:xfrm>
                    </p:grpSpPr>
                    <p:sp>
                      <p:nvSpPr>
                        <p:cNvPr id="1789" name="AutoShape 729"/>
                        <p:cNvSpPr/>
                        <p:nvPr/>
                      </p:nvSpPr>
                      <p:spPr>
                        <a:xfrm>
                          <a:off x="2288880" y="402948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0" name="WordArt 730"/>
                        <p:cNvSpPr txBox="1"/>
                        <p:nvPr/>
                      </p:nvSpPr>
                      <p:spPr>
                        <a:xfrm rot="15600">
                          <a:off x="2328480" y="404460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en-US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 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91" name="Group 731"/>
                      <p:cNvGrpSpPr/>
                      <p:nvPr/>
                    </p:nvGrpSpPr>
                    <p:grpSpPr>
                      <a:xfrm>
                        <a:off x="2145960" y="4173120"/>
                        <a:ext cx="380880" cy="191520"/>
                        <a:chOff x="2145960" y="4173120"/>
                        <a:chExt cx="380880" cy="191520"/>
                      </a:xfrm>
                    </p:grpSpPr>
                    <p:sp>
                      <p:nvSpPr>
                        <p:cNvPr id="1792" name="AutoShape 732"/>
                        <p:cNvSpPr/>
                        <p:nvPr/>
                      </p:nvSpPr>
                      <p:spPr>
                        <a:xfrm>
                          <a:off x="2145960" y="4173120"/>
                          <a:ext cx="380880" cy="19152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3" name="WordArt 733"/>
                        <p:cNvSpPr txBox="1"/>
                        <p:nvPr/>
                      </p:nvSpPr>
                      <p:spPr>
                        <a:xfrm rot="15600">
                          <a:off x="2184840" y="4188240"/>
                          <a:ext cx="314640" cy="8892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480" bIns="4248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en-US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 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794" name="Group 734"/>
                      <p:cNvGrpSpPr/>
                      <p:nvPr/>
                    </p:nvGrpSpPr>
                    <p:grpSpPr>
                      <a:xfrm>
                        <a:off x="2003400" y="4316760"/>
                        <a:ext cx="381240" cy="191160"/>
                        <a:chOff x="2003400" y="4316760"/>
                        <a:chExt cx="381240" cy="191160"/>
                      </a:xfrm>
                    </p:grpSpPr>
                    <p:sp>
                      <p:nvSpPr>
                        <p:cNvPr id="1795" name="AutoShape 735"/>
                        <p:cNvSpPr/>
                        <p:nvPr/>
                      </p:nvSpPr>
                      <p:spPr>
                        <a:xfrm>
                          <a:off x="2003400" y="431676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6" name="WordArt 736"/>
                        <p:cNvSpPr txBox="1"/>
                        <p:nvPr/>
                      </p:nvSpPr>
                      <p:spPr>
                        <a:xfrm rot="15600">
                          <a:off x="2043000" y="433188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en-US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 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97" name="Group 737"/>
                    <p:cNvGrpSpPr/>
                    <p:nvPr/>
                  </p:nvGrpSpPr>
                  <p:grpSpPr>
                    <a:xfrm>
                      <a:off x="2265480" y="3501720"/>
                      <a:ext cx="1190160" cy="1006200"/>
                      <a:chOff x="2265480" y="3501720"/>
                      <a:chExt cx="1190160" cy="1006200"/>
                    </a:xfrm>
                  </p:grpSpPr>
                  <p:grpSp>
                    <p:nvGrpSpPr>
                      <p:cNvPr id="1798" name="Group 738"/>
                      <p:cNvGrpSpPr/>
                      <p:nvPr/>
                    </p:nvGrpSpPr>
                    <p:grpSpPr>
                      <a:xfrm>
                        <a:off x="3074760" y="3501720"/>
                        <a:ext cx="380880" cy="191160"/>
                        <a:chOff x="3074760" y="3501720"/>
                        <a:chExt cx="380880" cy="191160"/>
                      </a:xfrm>
                    </p:grpSpPr>
                    <p:sp>
                      <p:nvSpPr>
                        <p:cNvPr id="1799" name="AutoShape 739"/>
                        <p:cNvSpPr/>
                        <p:nvPr/>
                      </p:nvSpPr>
                      <p:spPr>
                        <a:xfrm>
                          <a:off x="3074760" y="350172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0" name="WordArt 740"/>
                        <p:cNvSpPr txBox="1"/>
                        <p:nvPr/>
                      </p:nvSpPr>
                      <p:spPr>
                        <a:xfrm rot="15600">
                          <a:off x="3113640" y="351684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乎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01" name="Group 741"/>
                      <p:cNvGrpSpPr/>
                      <p:nvPr/>
                    </p:nvGrpSpPr>
                    <p:grpSpPr>
                      <a:xfrm>
                        <a:off x="2955960" y="3621240"/>
                        <a:ext cx="380880" cy="191160"/>
                        <a:chOff x="2955960" y="3621240"/>
                        <a:chExt cx="380880" cy="191160"/>
                      </a:xfrm>
                    </p:grpSpPr>
                    <p:sp>
                      <p:nvSpPr>
                        <p:cNvPr id="1802" name="AutoShape 742"/>
                        <p:cNvSpPr/>
                        <p:nvPr/>
                      </p:nvSpPr>
                      <p:spPr>
                        <a:xfrm>
                          <a:off x="2955960" y="362124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3" name="WordArt 743"/>
                        <p:cNvSpPr txBox="1"/>
                        <p:nvPr/>
                      </p:nvSpPr>
                      <p:spPr>
                        <a:xfrm rot="15600">
                          <a:off x="2994840" y="363636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乎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04" name="Group 744"/>
                      <p:cNvGrpSpPr/>
                      <p:nvPr/>
                    </p:nvGrpSpPr>
                    <p:grpSpPr>
                      <a:xfrm>
                        <a:off x="2813400" y="3764880"/>
                        <a:ext cx="380880" cy="191160"/>
                        <a:chOff x="2813400" y="3764880"/>
                        <a:chExt cx="380880" cy="191160"/>
                      </a:xfrm>
                    </p:grpSpPr>
                    <p:sp>
                      <p:nvSpPr>
                        <p:cNvPr id="1805" name="AutoShape 745"/>
                        <p:cNvSpPr/>
                        <p:nvPr/>
                      </p:nvSpPr>
                      <p:spPr>
                        <a:xfrm>
                          <a:off x="2813400" y="37648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6" name="WordArt 746"/>
                        <p:cNvSpPr txBox="1"/>
                        <p:nvPr/>
                      </p:nvSpPr>
                      <p:spPr>
                        <a:xfrm rot="15600">
                          <a:off x="2852280" y="37800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乎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07" name="Group 747"/>
                      <p:cNvGrpSpPr/>
                      <p:nvPr/>
                    </p:nvGrpSpPr>
                    <p:grpSpPr>
                      <a:xfrm>
                        <a:off x="2693520" y="3885480"/>
                        <a:ext cx="380880" cy="191160"/>
                        <a:chOff x="2693520" y="3885480"/>
                        <a:chExt cx="380880" cy="191160"/>
                      </a:xfrm>
                    </p:grpSpPr>
                    <p:sp>
                      <p:nvSpPr>
                        <p:cNvPr id="1808" name="AutoShape 748"/>
                        <p:cNvSpPr/>
                        <p:nvPr/>
                      </p:nvSpPr>
                      <p:spPr>
                        <a:xfrm>
                          <a:off x="2693520" y="3885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9" name="WordArt 749"/>
                        <p:cNvSpPr txBox="1"/>
                        <p:nvPr/>
                      </p:nvSpPr>
                      <p:spPr>
                        <a:xfrm rot="15600">
                          <a:off x="2732400" y="3900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乎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10" name="Group 750"/>
                      <p:cNvGrpSpPr/>
                      <p:nvPr/>
                    </p:nvGrpSpPr>
                    <p:grpSpPr>
                      <a:xfrm>
                        <a:off x="2550600" y="4029480"/>
                        <a:ext cx="380880" cy="191160"/>
                        <a:chOff x="2550600" y="4029480"/>
                        <a:chExt cx="380880" cy="191160"/>
                      </a:xfrm>
                    </p:grpSpPr>
                    <p:sp>
                      <p:nvSpPr>
                        <p:cNvPr id="1811" name="AutoShape 751"/>
                        <p:cNvSpPr/>
                        <p:nvPr/>
                      </p:nvSpPr>
                      <p:spPr>
                        <a:xfrm>
                          <a:off x="2550600" y="4029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2" name="WordArt 752"/>
                        <p:cNvSpPr txBox="1"/>
                        <p:nvPr/>
                      </p:nvSpPr>
                      <p:spPr>
                        <a:xfrm rot="15600">
                          <a:off x="2589480" y="4044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乎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13" name="Group 753"/>
                      <p:cNvGrpSpPr/>
                      <p:nvPr/>
                    </p:nvGrpSpPr>
                    <p:grpSpPr>
                      <a:xfrm>
                        <a:off x="2408040" y="4173120"/>
                        <a:ext cx="380880" cy="191520"/>
                        <a:chOff x="2408040" y="4173120"/>
                        <a:chExt cx="380880" cy="191520"/>
                      </a:xfrm>
                    </p:grpSpPr>
                    <p:sp>
                      <p:nvSpPr>
                        <p:cNvPr id="1814" name="AutoShape 754"/>
                        <p:cNvSpPr/>
                        <p:nvPr/>
                      </p:nvSpPr>
                      <p:spPr>
                        <a:xfrm>
                          <a:off x="2408040" y="4173120"/>
                          <a:ext cx="380880" cy="19152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5" name="WordArt 755"/>
                        <p:cNvSpPr txBox="1"/>
                        <p:nvPr/>
                      </p:nvSpPr>
                      <p:spPr>
                        <a:xfrm rot="15600">
                          <a:off x="2446920" y="4188240"/>
                          <a:ext cx="314640" cy="8892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480" bIns="4248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乎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16" name="Group 756"/>
                      <p:cNvGrpSpPr/>
                      <p:nvPr/>
                    </p:nvGrpSpPr>
                    <p:grpSpPr>
                      <a:xfrm>
                        <a:off x="2265480" y="4316760"/>
                        <a:ext cx="380880" cy="191160"/>
                        <a:chOff x="2265480" y="4316760"/>
                        <a:chExt cx="380880" cy="191160"/>
                      </a:xfrm>
                    </p:grpSpPr>
                    <p:sp>
                      <p:nvSpPr>
                        <p:cNvPr id="1817" name="AutoShape 757"/>
                        <p:cNvSpPr/>
                        <p:nvPr/>
                      </p:nvSpPr>
                      <p:spPr>
                        <a:xfrm>
                          <a:off x="2265480" y="431676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8" name="WordArt 758"/>
                        <p:cNvSpPr txBox="1"/>
                        <p:nvPr/>
                      </p:nvSpPr>
                      <p:spPr>
                        <a:xfrm rot="15600">
                          <a:off x="2304360" y="433188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乎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819" name="Group 759"/>
                    <p:cNvGrpSpPr/>
                    <p:nvPr/>
                  </p:nvGrpSpPr>
                  <p:grpSpPr>
                    <a:xfrm>
                      <a:off x="2527560" y="3501720"/>
                      <a:ext cx="1190160" cy="1006200"/>
                      <a:chOff x="2527560" y="3501720"/>
                      <a:chExt cx="1190160" cy="1006200"/>
                    </a:xfrm>
                  </p:grpSpPr>
                  <p:grpSp>
                    <p:nvGrpSpPr>
                      <p:cNvPr id="1820" name="Group 760"/>
                      <p:cNvGrpSpPr/>
                      <p:nvPr/>
                    </p:nvGrpSpPr>
                    <p:grpSpPr>
                      <a:xfrm>
                        <a:off x="3336840" y="3501720"/>
                        <a:ext cx="380880" cy="191160"/>
                        <a:chOff x="3336840" y="3501720"/>
                        <a:chExt cx="380880" cy="191160"/>
                      </a:xfrm>
                    </p:grpSpPr>
                    <p:sp>
                      <p:nvSpPr>
                        <p:cNvPr id="1821" name="AutoShape 761"/>
                        <p:cNvSpPr/>
                        <p:nvPr/>
                      </p:nvSpPr>
                      <p:spPr>
                        <a:xfrm>
                          <a:off x="3336840" y="350172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2" name="WordArt 762"/>
                        <p:cNvSpPr txBox="1"/>
                        <p:nvPr/>
                      </p:nvSpPr>
                      <p:spPr>
                        <a:xfrm rot="15600">
                          <a:off x="3375720" y="351684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動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23" name="Group 763"/>
                      <p:cNvGrpSpPr/>
                      <p:nvPr/>
                    </p:nvGrpSpPr>
                    <p:grpSpPr>
                      <a:xfrm>
                        <a:off x="3218040" y="3621240"/>
                        <a:ext cx="380880" cy="191160"/>
                        <a:chOff x="3218040" y="3621240"/>
                        <a:chExt cx="380880" cy="191160"/>
                      </a:xfrm>
                    </p:grpSpPr>
                    <p:sp>
                      <p:nvSpPr>
                        <p:cNvPr id="1824" name="AutoShape 764"/>
                        <p:cNvSpPr/>
                        <p:nvPr/>
                      </p:nvSpPr>
                      <p:spPr>
                        <a:xfrm>
                          <a:off x="3218040" y="362124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5" name="WordArt 765"/>
                        <p:cNvSpPr txBox="1"/>
                        <p:nvPr/>
                      </p:nvSpPr>
                      <p:spPr>
                        <a:xfrm rot="15600">
                          <a:off x="3256920" y="363636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心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26" name="Group 766"/>
                      <p:cNvGrpSpPr/>
                      <p:nvPr/>
                    </p:nvGrpSpPr>
                    <p:grpSpPr>
                      <a:xfrm>
                        <a:off x="3075480" y="3764880"/>
                        <a:ext cx="380880" cy="191160"/>
                        <a:chOff x="3075480" y="3764880"/>
                        <a:chExt cx="380880" cy="191160"/>
                      </a:xfrm>
                    </p:grpSpPr>
                    <p:sp>
                      <p:nvSpPr>
                        <p:cNvPr id="1827" name="AutoShape 767"/>
                        <p:cNvSpPr/>
                        <p:nvPr/>
                      </p:nvSpPr>
                      <p:spPr>
                        <a:xfrm>
                          <a:off x="3075480" y="37648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8" name="WordArt 768"/>
                        <p:cNvSpPr txBox="1"/>
                        <p:nvPr/>
                      </p:nvSpPr>
                      <p:spPr>
                        <a:xfrm rot="15600">
                          <a:off x="3114360" y="37800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忍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29" name="Group 769"/>
                      <p:cNvGrpSpPr/>
                      <p:nvPr/>
                    </p:nvGrpSpPr>
                    <p:grpSpPr>
                      <a:xfrm>
                        <a:off x="2955600" y="3885480"/>
                        <a:ext cx="380880" cy="191160"/>
                        <a:chOff x="2955600" y="3885480"/>
                        <a:chExt cx="380880" cy="191160"/>
                      </a:xfrm>
                    </p:grpSpPr>
                    <p:sp>
                      <p:nvSpPr>
                        <p:cNvPr id="1830" name="AutoShape 770"/>
                        <p:cNvSpPr/>
                        <p:nvPr/>
                      </p:nvSpPr>
                      <p:spPr>
                        <a:xfrm>
                          <a:off x="2955600" y="3885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1" name="WordArt 771"/>
                        <p:cNvSpPr txBox="1"/>
                        <p:nvPr/>
                      </p:nvSpPr>
                      <p:spPr>
                        <a:xfrm rot="15600">
                          <a:off x="2994480" y="3900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性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32" name="Group 772"/>
                      <p:cNvGrpSpPr/>
                      <p:nvPr/>
                    </p:nvGrpSpPr>
                    <p:grpSpPr>
                      <a:xfrm>
                        <a:off x="2812680" y="4029480"/>
                        <a:ext cx="380880" cy="191160"/>
                        <a:chOff x="2812680" y="4029480"/>
                        <a:chExt cx="380880" cy="191160"/>
                      </a:xfrm>
                    </p:grpSpPr>
                    <p:sp>
                      <p:nvSpPr>
                        <p:cNvPr id="1833" name="AutoShape 773"/>
                        <p:cNvSpPr/>
                        <p:nvPr/>
                      </p:nvSpPr>
                      <p:spPr>
                        <a:xfrm>
                          <a:off x="2812680" y="4029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4" name="WordArt 774"/>
                        <p:cNvSpPr txBox="1"/>
                        <p:nvPr/>
                      </p:nvSpPr>
                      <p:spPr>
                        <a:xfrm rot="15600">
                          <a:off x="2851560" y="4044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曾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35" name="Group 775"/>
                      <p:cNvGrpSpPr/>
                      <p:nvPr/>
                    </p:nvGrpSpPr>
                    <p:grpSpPr>
                      <a:xfrm>
                        <a:off x="2670120" y="4173120"/>
                        <a:ext cx="380880" cy="191520"/>
                        <a:chOff x="2670120" y="4173120"/>
                        <a:chExt cx="380880" cy="191520"/>
                      </a:xfrm>
                    </p:grpSpPr>
                    <p:sp>
                      <p:nvSpPr>
                        <p:cNvPr id="1836" name="AutoShape 776"/>
                        <p:cNvSpPr/>
                        <p:nvPr/>
                      </p:nvSpPr>
                      <p:spPr>
                        <a:xfrm>
                          <a:off x="2670120" y="4173120"/>
                          <a:ext cx="380880" cy="19152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7" name="WordArt 777"/>
                        <p:cNvSpPr txBox="1"/>
                        <p:nvPr/>
                      </p:nvSpPr>
                      <p:spPr>
                        <a:xfrm rot="15600">
                          <a:off x="2709000" y="4188240"/>
                          <a:ext cx="314640" cy="8892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480" bIns="4248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益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38" name="Group 778"/>
                      <p:cNvGrpSpPr/>
                      <p:nvPr/>
                    </p:nvGrpSpPr>
                    <p:grpSpPr>
                      <a:xfrm>
                        <a:off x="2527560" y="4316760"/>
                        <a:ext cx="380880" cy="191160"/>
                        <a:chOff x="2527560" y="4316760"/>
                        <a:chExt cx="380880" cy="191160"/>
                      </a:xfrm>
                    </p:grpSpPr>
                    <p:sp>
                      <p:nvSpPr>
                        <p:cNvPr id="1839" name="AutoShape 779"/>
                        <p:cNvSpPr/>
                        <p:nvPr/>
                      </p:nvSpPr>
                      <p:spPr>
                        <a:xfrm>
                          <a:off x="2527560" y="431676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0" name="WordArt 780"/>
                        <p:cNvSpPr txBox="1"/>
                        <p:nvPr/>
                      </p:nvSpPr>
                      <p:spPr>
                        <a:xfrm rot="15600">
                          <a:off x="2566440" y="433188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其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841" name="Group 781"/>
                    <p:cNvGrpSpPr/>
                    <p:nvPr/>
                  </p:nvGrpSpPr>
                  <p:grpSpPr>
                    <a:xfrm>
                      <a:off x="2789640" y="3501720"/>
                      <a:ext cx="1190880" cy="1006200"/>
                      <a:chOff x="2789640" y="3501720"/>
                      <a:chExt cx="1190880" cy="1006200"/>
                    </a:xfrm>
                  </p:grpSpPr>
                  <p:grpSp>
                    <p:nvGrpSpPr>
                      <p:cNvPr id="1842" name="Group 782"/>
                      <p:cNvGrpSpPr/>
                      <p:nvPr/>
                    </p:nvGrpSpPr>
                    <p:grpSpPr>
                      <a:xfrm>
                        <a:off x="3599280" y="3501720"/>
                        <a:ext cx="381240" cy="191160"/>
                        <a:chOff x="3599280" y="3501720"/>
                        <a:chExt cx="381240" cy="191160"/>
                      </a:xfrm>
                    </p:grpSpPr>
                    <p:sp>
                      <p:nvSpPr>
                        <p:cNvPr id="1843" name="AutoShape 783"/>
                        <p:cNvSpPr/>
                        <p:nvPr/>
                      </p:nvSpPr>
                      <p:spPr>
                        <a:xfrm>
                          <a:off x="3599280" y="350172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4" name="WordArt 784"/>
                        <p:cNvSpPr txBox="1"/>
                        <p:nvPr/>
                      </p:nvSpPr>
                      <p:spPr>
                        <a:xfrm rot="15600">
                          <a:off x="3638880" y="351684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拂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45" name="Group 785"/>
                      <p:cNvGrpSpPr/>
                      <p:nvPr/>
                    </p:nvGrpSpPr>
                    <p:grpSpPr>
                      <a:xfrm>
                        <a:off x="3480480" y="3621240"/>
                        <a:ext cx="381240" cy="191160"/>
                        <a:chOff x="3480480" y="3621240"/>
                        <a:chExt cx="381240" cy="191160"/>
                      </a:xfrm>
                    </p:grpSpPr>
                    <p:sp>
                      <p:nvSpPr>
                        <p:cNvPr id="1846" name="AutoShape 786"/>
                        <p:cNvSpPr/>
                        <p:nvPr/>
                      </p:nvSpPr>
                      <p:spPr>
                        <a:xfrm>
                          <a:off x="3480480" y="362124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7" name="WordArt 787"/>
                        <p:cNvSpPr txBox="1"/>
                        <p:nvPr/>
                      </p:nvSpPr>
                      <p:spPr>
                        <a:xfrm rot="15600">
                          <a:off x="3520080" y="363636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亂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48" name="Group 788"/>
                      <p:cNvGrpSpPr/>
                      <p:nvPr/>
                    </p:nvGrpSpPr>
                    <p:grpSpPr>
                      <a:xfrm>
                        <a:off x="3337560" y="3764880"/>
                        <a:ext cx="380880" cy="191160"/>
                        <a:chOff x="3337560" y="3764880"/>
                        <a:chExt cx="380880" cy="191160"/>
                      </a:xfrm>
                    </p:grpSpPr>
                    <p:sp>
                      <p:nvSpPr>
                        <p:cNvPr id="1849" name="AutoShape 789"/>
                        <p:cNvSpPr/>
                        <p:nvPr/>
                      </p:nvSpPr>
                      <p:spPr>
                        <a:xfrm>
                          <a:off x="3337560" y="37648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0" name="WordArt 790"/>
                        <p:cNvSpPr txBox="1"/>
                        <p:nvPr/>
                      </p:nvSpPr>
                      <p:spPr>
                        <a:xfrm rot="15600">
                          <a:off x="3376440" y="37800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其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51" name="Group 791"/>
                      <p:cNvGrpSpPr/>
                      <p:nvPr/>
                    </p:nvGrpSpPr>
                    <p:grpSpPr>
                      <a:xfrm>
                        <a:off x="3218040" y="3885480"/>
                        <a:ext cx="381240" cy="191160"/>
                        <a:chOff x="3218040" y="3885480"/>
                        <a:chExt cx="381240" cy="191160"/>
                      </a:xfrm>
                    </p:grpSpPr>
                    <p:sp>
                      <p:nvSpPr>
                        <p:cNvPr id="1852" name="AutoShape 792"/>
                        <p:cNvSpPr/>
                        <p:nvPr/>
                      </p:nvSpPr>
                      <p:spPr>
                        <a:xfrm>
                          <a:off x="3218040" y="388548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3" name="WordArt 793"/>
                        <p:cNvSpPr txBox="1"/>
                        <p:nvPr/>
                      </p:nvSpPr>
                      <p:spPr>
                        <a:xfrm rot="15600">
                          <a:off x="3257640" y="390060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所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54" name="Group 794"/>
                      <p:cNvGrpSpPr/>
                      <p:nvPr/>
                    </p:nvGrpSpPr>
                    <p:grpSpPr>
                      <a:xfrm>
                        <a:off x="3075120" y="4029480"/>
                        <a:ext cx="381240" cy="191160"/>
                        <a:chOff x="3075120" y="4029480"/>
                        <a:chExt cx="381240" cy="191160"/>
                      </a:xfrm>
                    </p:grpSpPr>
                    <p:sp>
                      <p:nvSpPr>
                        <p:cNvPr id="1855" name="AutoShape 795"/>
                        <p:cNvSpPr/>
                        <p:nvPr/>
                      </p:nvSpPr>
                      <p:spPr>
                        <a:xfrm>
                          <a:off x="3075120" y="402948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6" name="WordArt 796"/>
                        <p:cNvSpPr txBox="1"/>
                        <p:nvPr/>
                      </p:nvSpPr>
                      <p:spPr>
                        <a:xfrm rot="15600">
                          <a:off x="3114720" y="404460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爲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57" name="Group 797"/>
                      <p:cNvGrpSpPr/>
                      <p:nvPr/>
                    </p:nvGrpSpPr>
                    <p:grpSpPr>
                      <a:xfrm>
                        <a:off x="2932200" y="4173120"/>
                        <a:ext cx="380880" cy="191520"/>
                        <a:chOff x="2932200" y="4173120"/>
                        <a:chExt cx="380880" cy="191520"/>
                      </a:xfrm>
                    </p:grpSpPr>
                    <p:sp>
                      <p:nvSpPr>
                        <p:cNvPr id="1858" name="AutoShape 798"/>
                        <p:cNvSpPr/>
                        <p:nvPr/>
                      </p:nvSpPr>
                      <p:spPr>
                        <a:xfrm>
                          <a:off x="2932200" y="4173120"/>
                          <a:ext cx="380880" cy="19152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9" name="WordArt 799"/>
                        <p:cNvSpPr txBox="1"/>
                        <p:nvPr/>
                      </p:nvSpPr>
                      <p:spPr>
                        <a:xfrm rot="15600">
                          <a:off x="2971080" y="4188240"/>
                          <a:ext cx="314640" cy="8892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480" bIns="4248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所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60" name="Group 800"/>
                      <p:cNvGrpSpPr/>
                      <p:nvPr/>
                    </p:nvGrpSpPr>
                    <p:grpSpPr>
                      <a:xfrm>
                        <a:off x="2789640" y="4316760"/>
                        <a:ext cx="381240" cy="191160"/>
                        <a:chOff x="2789640" y="4316760"/>
                        <a:chExt cx="381240" cy="191160"/>
                      </a:xfrm>
                    </p:grpSpPr>
                    <p:sp>
                      <p:nvSpPr>
                        <p:cNvPr id="1861" name="AutoShape 801"/>
                        <p:cNvSpPr/>
                        <p:nvPr/>
                      </p:nvSpPr>
                      <p:spPr>
                        <a:xfrm>
                          <a:off x="2789640" y="4316760"/>
                          <a:ext cx="38124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2" name="WordArt 802"/>
                        <p:cNvSpPr txBox="1"/>
                        <p:nvPr/>
                      </p:nvSpPr>
                      <p:spPr>
                        <a:xfrm rot="15600">
                          <a:off x="2829240" y="4331880"/>
                          <a:ext cx="31500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以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863" name="Group 803"/>
                    <p:cNvGrpSpPr/>
                    <p:nvPr/>
                  </p:nvGrpSpPr>
                  <p:grpSpPr>
                    <a:xfrm>
                      <a:off x="3051720" y="3501720"/>
                      <a:ext cx="1190160" cy="1006200"/>
                      <a:chOff x="3051720" y="3501720"/>
                      <a:chExt cx="1190160" cy="1006200"/>
                    </a:xfrm>
                  </p:grpSpPr>
                  <p:grpSp>
                    <p:nvGrpSpPr>
                      <p:cNvPr id="1864" name="Group 804"/>
                      <p:cNvGrpSpPr/>
                      <p:nvPr/>
                    </p:nvGrpSpPr>
                    <p:grpSpPr>
                      <a:xfrm>
                        <a:off x="3861000" y="3501720"/>
                        <a:ext cx="380880" cy="191160"/>
                        <a:chOff x="3861000" y="3501720"/>
                        <a:chExt cx="380880" cy="191160"/>
                      </a:xfrm>
                    </p:grpSpPr>
                    <p:sp>
                      <p:nvSpPr>
                        <p:cNvPr id="1865" name="AutoShape 805"/>
                        <p:cNvSpPr/>
                        <p:nvPr/>
                      </p:nvSpPr>
                      <p:spPr>
                        <a:xfrm>
                          <a:off x="3861000" y="350172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6" name="WordArt 806"/>
                        <p:cNvSpPr txBox="1"/>
                        <p:nvPr/>
                      </p:nvSpPr>
                      <p:spPr>
                        <a:xfrm rot="15600">
                          <a:off x="3899880" y="351684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軆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67" name="Group 807"/>
                      <p:cNvGrpSpPr/>
                      <p:nvPr/>
                    </p:nvGrpSpPr>
                    <p:grpSpPr>
                      <a:xfrm>
                        <a:off x="3742200" y="3621240"/>
                        <a:ext cx="380880" cy="191160"/>
                        <a:chOff x="3742200" y="3621240"/>
                        <a:chExt cx="380880" cy="191160"/>
                      </a:xfrm>
                    </p:grpSpPr>
                    <p:sp>
                      <p:nvSpPr>
                        <p:cNvPr id="1868" name="AutoShape 808"/>
                        <p:cNvSpPr/>
                        <p:nvPr/>
                      </p:nvSpPr>
                      <p:spPr>
                        <a:xfrm>
                          <a:off x="3742200" y="362124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9" name="WordArt 809"/>
                        <p:cNvSpPr txBox="1"/>
                        <p:nvPr/>
                      </p:nvSpPr>
                      <p:spPr>
                        <a:xfrm rot="15600">
                          <a:off x="3781080" y="363636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膚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70" name="Group 810"/>
                      <p:cNvGrpSpPr/>
                      <p:nvPr/>
                    </p:nvGrpSpPr>
                    <p:grpSpPr>
                      <a:xfrm>
                        <a:off x="3599640" y="3764880"/>
                        <a:ext cx="380880" cy="191160"/>
                        <a:chOff x="3599640" y="3764880"/>
                        <a:chExt cx="380880" cy="191160"/>
                      </a:xfrm>
                    </p:grpSpPr>
                    <p:sp>
                      <p:nvSpPr>
                        <p:cNvPr id="1871" name="AutoShape 811"/>
                        <p:cNvSpPr/>
                        <p:nvPr/>
                      </p:nvSpPr>
                      <p:spPr>
                        <a:xfrm>
                          <a:off x="3599640" y="37648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2" name="WordArt 812"/>
                        <p:cNvSpPr txBox="1"/>
                        <p:nvPr/>
                      </p:nvSpPr>
                      <p:spPr>
                        <a:xfrm rot="15600">
                          <a:off x="3638520" y="37800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空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73" name="Group 813"/>
                      <p:cNvGrpSpPr/>
                      <p:nvPr/>
                    </p:nvGrpSpPr>
                    <p:grpSpPr>
                      <a:xfrm>
                        <a:off x="3479760" y="3885480"/>
                        <a:ext cx="380880" cy="191160"/>
                        <a:chOff x="3479760" y="3885480"/>
                        <a:chExt cx="380880" cy="191160"/>
                      </a:xfrm>
                    </p:grpSpPr>
                    <p:sp>
                      <p:nvSpPr>
                        <p:cNvPr id="1874" name="AutoShape 814"/>
                        <p:cNvSpPr/>
                        <p:nvPr/>
                      </p:nvSpPr>
                      <p:spPr>
                        <a:xfrm>
                          <a:off x="3479760" y="3885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5" name="WordArt 815"/>
                        <p:cNvSpPr txBox="1"/>
                        <p:nvPr/>
                      </p:nvSpPr>
                      <p:spPr>
                        <a:xfrm rot="15600">
                          <a:off x="3518640" y="3900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乏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76" name="Group 816"/>
                      <p:cNvGrpSpPr/>
                      <p:nvPr/>
                    </p:nvGrpSpPr>
                    <p:grpSpPr>
                      <a:xfrm>
                        <a:off x="3336840" y="4029480"/>
                        <a:ext cx="380880" cy="191160"/>
                        <a:chOff x="3336840" y="4029480"/>
                        <a:chExt cx="380880" cy="191160"/>
                      </a:xfrm>
                    </p:grpSpPr>
                    <p:sp>
                      <p:nvSpPr>
                        <p:cNvPr id="1877" name="AutoShape 817"/>
                        <p:cNvSpPr/>
                        <p:nvPr/>
                      </p:nvSpPr>
                      <p:spPr>
                        <a:xfrm>
                          <a:off x="3336840" y="4029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8" name="WordArt 818"/>
                        <p:cNvSpPr txBox="1"/>
                        <p:nvPr/>
                      </p:nvSpPr>
                      <p:spPr>
                        <a:xfrm rot="15600">
                          <a:off x="3375720" y="4044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其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79" name="Group 819"/>
                      <p:cNvGrpSpPr/>
                      <p:nvPr/>
                    </p:nvGrpSpPr>
                    <p:grpSpPr>
                      <a:xfrm>
                        <a:off x="3194280" y="4173120"/>
                        <a:ext cx="380880" cy="191520"/>
                        <a:chOff x="3194280" y="4173120"/>
                        <a:chExt cx="380880" cy="191520"/>
                      </a:xfrm>
                    </p:grpSpPr>
                    <p:sp>
                      <p:nvSpPr>
                        <p:cNvPr id="1880" name="AutoShape 820"/>
                        <p:cNvSpPr/>
                        <p:nvPr/>
                      </p:nvSpPr>
                      <p:spPr>
                        <a:xfrm>
                          <a:off x="3194280" y="4173120"/>
                          <a:ext cx="380880" cy="19152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1" name="WordArt 821"/>
                        <p:cNvSpPr txBox="1"/>
                        <p:nvPr/>
                      </p:nvSpPr>
                      <p:spPr>
                        <a:xfrm rot="15600">
                          <a:off x="3233160" y="4188240"/>
                          <a:ext cx="314640" cy="8892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480" bIns="4248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身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82" name="Group 822"/>
                      <p:cNvGrpSpPr/>
                      <p:nvPr/>
                    </p:nvGrpSpPr>
                    <p:grpSpPr>
                      <a:xfrm>
                        <a:off x="3051720" y="4316760"/>
                        <a:ext cx="380880" cy="191160"/>
                        <a:chOff x="3051720" y="4316760"/>
                        <a:chExt cx="380880" cy="191160"/>
                      </a:xfrm>
                    </p:grpSpPr>
                    <p:sp>
                      <p:nvSpPr>
                        <p:cNvPr id="1883" name="AutoShape 823"/>
                        <p:cNvSpPr/>
                        <p:nvPr/>
                      </p:nvSpPr>
                      <p:spPr>
                        <a:xfrm>
                          <a:off x="3051720" y="431676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4" name="WordArt 824"/>
                        <p:cNvSpPr txBox="1"/>
                        <p:nvPr/>
                      </p:nvSpPr>
                      <p:spPr>
                        <a:xfrm rot="15600">
                          <a:off x="3090600" y="433188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行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885" name="Group 825"/>
                    <p:cNvGrpSpPr/>
                    <p:nvPr/>
                  </p:nvGrpSpPr>
                  <p:grpSpPr>
                    <a:xfrm>
                      <a:off x="3313800" y="3501720"/>
                      <a:ext cx="1190160" cy="1006200"/>
                      <a:chOff x="3313800" y="3501720"/>
                      <a:chExt cx="1190160" cy="1006200"/>
                    </a:xfrm>
                  </p:grpSpPr>
                  <p:grpSp>
                    <p:nvGrpSpPr>
                      <p:cNvPr id="1886" name="Group 826"/>
                      <p:cNvGrpSpPr/>
                      <p:nvPr/>
                    </p:nvGrpSpPr>
                    <p:grpSpPr>
                      <a:xfrm>
                        <a:off x="4123080" y="3501720"/>
                        <a:ext cx="380880" cy="191160"/>
                        <a:chOff x="4123080" y="3501720"/>
                        <a:chExt cx="380880" cy="191160"/>
                      </a:xfrm>
                    </p:grpSpPr>
                    <p:sp>
                      <p:nvSpPr>
                        <p:cNvPr id="1887" name="AutoShape 827"/>
                        <p:cNvSpPr/>
                        <p:nvPr/>
                      </p:nvSpPr>
                      <p:spPr>
                        <a:xfrm>
                          <a:off x="4123080" y="350172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8" name="WordArt 828"/>
                        <p:cNvSpPr txBox="1"/>
                        <p:nvPr/>
                      </p:nvSpPr>
                      <p:spPr>
                        <a:xfrm rot="15600">
                          <a:off x="4161960" y="351684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志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89" name="Group 829"/>
                      <p:cNvGrpSpPr/>
                      <p:nvPr/>
                    </p:nvGrpSpPr>
                    <p:grpSpPr>
                      <a:xfrm>
                        <a:off x="4004280" y="3621240"/>
                        <a:ext cx="380880" cy="191160"/>
                        <a:chOff x="4004280" y="3621240"/>
                        <a:chExt cx="380880" cy="191160"/>
                      </a:xfrm>
                    </p:grpSpPr>
                    <p:sp>
                      <p:nvSpPr>
                        <p:cNvPr id="1890" name="AutoShape 830"/>
                        <p:cNvSpPr/>
                        <p:nvPr/>
                      </p:nvSpPr>
                      <p:spPr>
                        <a:xfrm>
                          <a:off x="4004280" y="362124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1" name="WordArt 831"/>
                        <p:cNvSpPr txBox="1"/>
                        <p:nvPr/>
                      </p:nvSpPr>
                      <p:spPr>
                        <a:xfrm rot="15600">
                          <a:off x="4043160" y="363636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劳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92" name="Group 832"/>
                      <p:cNvGrpSpPr/>
                      <p:nvPr/>
                    </p:nvGrpSpPr>
                    <p:grpSpPr>
                      <a:xfrm>
                        <a:off x="3861720" y="3764880"/>
                        <a:ext cx="380880" cy="191160"/>
                        <a:chOff x="3861720" y="3764880"/>
                        <a:chExt cx="380880" cy="191160"/>
                      </a:xfrm>
                    </p:grpSpPr>
                    <p:sp>
                      <p:nvSpPr>
                        <p:cNvPr id="1893" name="AutoShape 833"/>
                        <p:cNvSpPr/>
                        <p:nvPr/>
                      </p:nvSpPr>
                      <p:spPr>
                        <a:xfrm>
                          <a:off x="3861720" y="37648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4" name="WordArt 834"/>
                        <p:cNvSpPr txBox="1"/>
                        <p:nvPr/>
                      </p:nvSpPr>
                      <p:spPr>
                        <a:xfrm rot="15600">
                          <a:off x="3900600" y="37800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其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95" name="Group 835"/>
                      <p:cNvGrpSpPr/>
                      <p:nvPr/>
                    </p:nvGrpSpPr>
                    <p:grpSpPr>
                      <a:xfrm>
                        <a:off x="3741840" y="3885480"/>
                        <a:ext cx="380880" cy="191160"/>
                        <a:chOff x="3741840" y="3885480"/>
                        <a:chExt cx="380880" cy="191160"/>
                      </a:xfrm>
                    </p:grpSpPr>
                    <p:sp>
                      <p:nvSpPr>
                        <p:cNvPr id="1896" name="AutoShape 836"/>
                        <p:cNvSpPr/>
                        <p:nvPr/>
                      </p:nvSpPr>
                      <p:spPr>
                        <a:xfrm>
                          <a:off x="3741840" y="3885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7" name="WordArt 837"/>
                        <p:cNvSpPr txBox="1"/>
                        <p:nvPr/>
                      </p:nvSpPr>
                      <p:spPr>
                        <a:xfrm rot="15600">
                          <a:off x="3780720" y="3900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筋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898" name="Group 838"/>
                      <p:cNvGrpSpPr/>
                      <p:nvPr/>
                    </p:nvGrpSpPr>
                    <p:grpSpPr>
                      <a:xfrm>
                        <a:off x="3598920" y="4029480"/>
                        <a:ext cx="380880" cy="191160"/>
                        <a:chOff x="3598920" y="4029480"/>
                        <a:chExt cx="380880" cy="191160"/>
                      </a:xfrm>
                    </p:grpSpPr>
                    <p:sp>
                      <p:nvSpPr>
                        <p:cNvPr id="1899" name="AutoShape 839"/>
                        <p:cNvSpPr/>
                        <p:nvPr/>
                      </p:nvSpPr>
                      <p:spPr>
                        <a:xfrm>
                          <a:off x="3598920" y="4029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0" name="WordArt 840"/>
                        <p:cNvSpPr txBox="1"/>
                        <p:nvPr/>
                      </p:nvSpPr>
                      <p:spPr>
                        <a:xfrm rot="15600">
                          <a:off x="3637800" y="4044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骨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901" name="Group 841"/>
                      <p:cNvGrpSpPr/>
                      <p:nvPr/>
                    </p:nvGrpSpPr>
                    <p:grpSpPr>
                      <a:xfrm>
                        <a:off x="3456360" y="4173120"/>
                        <a:ext cx="380880" cy="191520"/>
                        <a:chOff x="3456360" y="4173120"/>
                        <a:chExt cx="380880" cy="191520"/>
                      </a:xfrm>
                    </p:grpSpPr>
                    <p:sp>
                      <p:nvSpPr>
                        <p:cNvPr id="1902" name="AutoShape 842"/>
                        <p:cNvSpPr/>
                        <p:nvPr/>
                      </p:nvSpPr>
                      <p:spPr>
                        <a:xfrm>
                          <a:off x="3456360" y="4173120"/>
                          <a:ext cx="380880" cy="19152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3" name="WordArt 843"/>
                        <p:cNvSpPr txBox="1"/>
                        <p:nvPr/>
                      </p:nvSpPr>
                      <p:spPr>
                        <a:xfrm rot="15600">
                          <a:off x="3495240" y="4188240"/>
                          <a:ext cx="314640" cy="8892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480" bIns="4248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饿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904" name="Group 844"/>
                      <p:cNvGrpSpPr/>
                      <p:nvPr/>
                    </p:nvGrpSpPr>
                    <p:grpSpPr>
                      <a:xfrm>
                        <a:off x="3313800" y="4316760"/>
                        <a:ext cx="380880" cy="191160"/>
                        <a:chOff x="3313800" y="4316760"/>
                        <a:chExt cx="380880" cy="191160"/>
                      </a:xfrm>
                    </p:grpSpPr>
                    <p:sp>
                      <p:nvSpPr>
                        <p:cNvPr id="1905" name="AutoShape 845"/>
                        <p:cNvSpPr/>
                        <p:nvPr/>
                      </p:nvSpPr>
                      <p:spPr>
                        <a:xfrm>
                          <a:off x="3313800" y="431676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6" name="WordArt 846"/>
                        <p:cNvSpPr txBox="1"/>
                        <p:nvPr/>
                      </p:nvSpPr>
                      <p:spPr>
                        <a:xfrm rot="15600">
                          <a:off x="3352680" y="433188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其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907" name="Group 847"/>
                    <p:cNvGrpSpPr/>
                    <p:nvPr/>
                  </p:nvGrpSpPr>
                  <p:grpSpPr>
                    <a:xfrm>
                      <a:off x="3575520" y="3501720"/>
                      <a:ext cx="1190160" cy="1006200"/>
                      <a:chOff x="3575520" y="3501720"/>
                      <a:chExt cx="1190160" cy="1006200"/>
                    </a:xfrm>
                  </p:grpSpPr>
                  <p:grpSp>
                    <p:nvGrpSpPr>
                      <p:cNvPr id="1908" name="Group 848"/>
                      <p:cNvGrpSpPr/>
                      <p:nvPr/>
                    </p:nvGrpSpPr>
                    <p:grpSpPr>
                      <a:xfrm>
                        <a:off x="4384800" y="3501720"/>
                        <a:ext cx="380880" cy="191160"/>
                        <a:chOff x="4384800" y="3501720"/>
                        <a:chExt cx="380880" cy="191160"/>
                      </a:xfrm>
                    </p:grpSpPr>
                    <p:sp>
                      <p:nvSpPr>
                        <p:cNvPr id="1909" name="AutoShape 849"/>
                        <p:cNvSpPr/>
                        <p:nvPr/>
                      </p:nvSpPr>
                      <p:spPr>
                        <a:xfrm>
                          <a:off x="4384800" y="350172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0" name="WordArt 850"/>
                        <p:cNvSpPr txBox="1"/>
                        <p:nvPr/>
                      </p:nvSpPr>
                      <p:spPr>
                        <a:xfrm rot="15600">
                          <a:off x="4423680" y="351684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人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911" name="Group 851"/>
                      <p:cNvGrpSpPr/>
                      <p:nvPr/>
                    </p:nvGrpSpPr>
                    <p:grpSpPr>
                      <a:xfrm>
                        <a:off x="4266000" y="3621240"/>
                        <a:ext cx="380880" cy="191160"/>
                        <a:chOff x="4266000" y="3621240"/>
                        <a:chExt cx="380880" cy="191160"/>
                      </a:xfrm>
                    </p:grpSpPr>
                    <p:sp>
                      <p:nvSpPr>
                        <p:cNvPr id="1912" name="AutoShape 852"/>
                        <p:cNvSpPr/>
                        <p:nvPr/>
                      </p:nvSpPr>
                      <p:spPr>
                        <a:xfrm>
                          <a:off x="4266000" y="362124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3" name="WordArt 853"/>
                        <p:cNvSpPr txBox="1"/>
                        <p:nvPr/>
                      </p:nvSpPr>
                      <p:spPr>
                        <a:xfrm rot="15600">
                          <a:off x="4304880" y="363636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也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914" name="Group 854"/>
                      <p:cNvGrpSpPr/>
                      <p:nvPr/>
                    </p:nvGrpSpPr>
                    <p:grpSpPr>
                      <a:xfrm>
                        <a:off x="4123440" y="3764880"/>
                        <a:ext cx="380880" cy="191160"/>
                        <a:chOff x="4123440" y="3764880"/>
                        <a:chExt cx="380880" cy="191160"/>
                      </a:xfrm>
                    </p:grpSpPr>
                    <p:sp>
                      <p:nvSpPr>
                        <p:cNvPr id="1915" name="AutoShape 855"/>
                        <p:cNvSpPr/>
                        <p:nvPr/>
                      </p:nvSpPr>
                      <p:spPr>
                        <a:xfrm>
                          <a:off x="4123440" y="37648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6" name="WordArt 856"/>
                        <p:cNvSpPr txBox="1"/>
                        <p:nvPr/>
                      </p:nvSpPr>
                      <p:spPr>
                        <a:xfrm rot="15600">
                          <a:off x="4162320" y="37800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必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917" name="Group 857"/>
                      <p:cNvGrpSpPr/>
                      <p:nvPr/>
                    </p:nvGrpSpPr>
                    <p:grpSpPr>
                      <a:xfrm>
                        <a:off x="4003560" y="3885480"/>
                        <a:ext cx="380880" cy="191160"/>
                        <a:chOff x="4003560" y="3885480"/>
                        <a:chExt cx="380880" cy="191160"/>
                      </a:xfrm>
                    </p:grpSpPr>
                    <p:sp>
                      <p:nvSpPr>
                        <p:cNvPr id="1918" name="AutoShape 858"/>
                        <p:cNvSpPr/>
                        <p:nvPr/>
                      </p:nvSpPr>
                      <p:spPr>
                        <a:xfrm>
                          <a:off x="4003560" y="3885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9" name="WordArt 859"/>
                        <p:cNvSpPr txBox="1"/>
                        <p:nvPr/>
                      </p:nvSpPr>
                      <p:spPr>
                        <a:xfrm rot="15600">
                          <a:off x="4042440" y="3900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先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920" name="Group 860"/>
                      <p:cNvGrpSpPr/>
                      <p:nvPr/>
                    </p:nvGrpSpPr>
                    <p:grpSpPr>
                      <a:xfrm>
                        <a:off x="3860640" y="4029480"/>
                        <a:ext cx="380880" cy="191160"/>
                        <a:chOff x="3860640" y="4029480"/>
                        <a:chExt cx="380880" cy="191160"/>
                      </a:xfrm>
                    </p:grpSpPr>
                    <p:sp>
                      <p:nvSpPr>
                        <p:cNvPr id="1921" name="AutoShape 861"/>
                        <p:cNvSpPr/>
                        <p:nvPr/>
                      </p:nvSpPr>
                      <p:spPr>
                        <a:xfrm>
                          <a:off x="3860640" y="4029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2" name="WordArt 862"/>
                        <p:cNvSpPr txBox="1"/>
                        <p:nvPr/>
                      </p:nvSpPr>
                      <p:spPr>
                        <a:xfrm rot="15600">
                          <a:off x="3899520" y="4044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苦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923" name="Group 863"/>
                      <p:cNvGrpSpPr/>
                      <p:nvPr/>
                    </p:nvGrpSpPr>
                    <p:grpSpPr>
                      <a:xfrm>
                        <a:off x="3718080" y="4173120"/>
                        <a:ext cx="380880" cy="191520"/>
                        <a:chOff x="3718080" y="4173120"/>
                        <a:chExt cx="380880" cy="191520"/>
                      </a:xfrm>
                    </p:grpSpPr>
                    <p:sp>
                      <p:nvSpPr>
                        <p:cNvPr id="1924" name="AutoShape 864"/>
                        <p:cNvSpPr/>
                        <p:nvPr/>
                      </p:nvSpPr>
                      <p:spPr>
                        <a:xfrm>
                          <a:off x="3718080" y="4173120"/>
                          <a:ext cx="380880" cy="19152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5" name="WordArt 865"/>
                        <p:cNvSpPr txBox="1"/>
                        <p:nvPr/>
                      </p:nvSpPr>
                      <p:spPr>
                        <a:xfrm rot="15600">
                          <a:off x="3756960" y="4188240"/>
                          <a:ext cx="314640" cy="8892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480" bIns="4248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其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926" name="Group 866"/>
                      <p:cNvGrpSpPr/>
                      <p:nvPr/>
                    </p:nvGrpSpPr>
                    <p:grpSpPr>
                      <a:xfrm>
                        <a:off x="3575520" y="4316760"/>
                        <a:ext cx="380880" cy="191160"/>
                        <a:chOff x="3575520" y="4316760"/>
                        <a:chExt cx="380880" cy="191160"/>
                      </a:xfrm>
                    </p:grpSpPr>
                    <p:sp>
                      <p:nvSpPr>
                        <p:cNvPr id="1927" name="AutoShape 867"/>
                        <p:cNvSpPr/>
                        <p:nvPr/>
                      </p:nvSpPr>
                      <p:spPr>
                        <a:xfrm>
                          <a:off x="3575520" y="431676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8" name="WordArt 868"/>
                        <p:cNvSpPr txBox="1"/>
                        <p:nvPr/>
                      </p:nvSpPr>
                      <p:spPr>
                        <a:xfrm rot="15600">
                          <a:off x="3614400" y="433188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心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929" name="Group 869"/>
                    <p:cNvGrpSpPr/>
                    <p:nvPr/>
                  </p:nvGrpSpPr>
                  <p:grpSpPr>
                    <a:xfrm>
                      <a:off x="3813840" y="3501720"/>
                      <a:ext cx="1190160" cy="1006200"/>
                      <a:chOff x="3813840" y="3501720"/>
                      <a:chExt cx="1190160" cy="1006200"/>
                    </a:xfrm>
                  </p:grpSpPr>
                  <p:grpSp>
                    <p:nvGrpSpPr>
                      <p:cNvPr id="1930" name="Group 870"/>
                      <p:cNvGrpSpPr/>
                      <p:nvPr/>
                    </p:nvGrpSpPr>
                    <p:grpSpPr>
                      <a:xfrm>
                        <a:off x="4623120" y="3501720"/>
                        <a:ext cx="380880" cy="191160"/>
                        <a:chOff x="4623120" y="3501720"/>
                        <a:chExt cx="380880" cy="191160"/>
                      </a:xfrm>
                    </p:grpSpPr>
                    <p:sp>
                      <p:nvSpPr>
                        <p:cNvPr id="1931" name="AutoShape 871"/>
                        <p:cNvSpPr/>
                        <p:nvPr/>
                      </p:nvSpPr>
                      <p:spPr>
                        <a:xfrm>
                          <a:off x="4623120" y="350172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2" name="WordArt 872"/>
                        <p:cNvSpPr txBox="1"/>
                        <p:nvPr/>
                      </p:nvSpPr>
                      <p:spPr>
                        <a:xfrm rot="15600">
                          <a:off x="4662000" y="351684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故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933" name="Group 873"/>
                      <p:cNvGrpSpPr/>
                      <p:nvPr/>
                    </p:nvGrpSpPr>
                    <p:grpSpPr>
                      <a:xfrm>
                        <a:off x="4504320" y="3621240"/>
                        <a:ext cx="380880" cy="191160"/>
                        <a:chOff x="4504320" y="3621240"/>
                        <a:chExt cx="380880" cy="191160"/>
                      </a:xfrm>
                    </p:grpSpPr>
                    <p:sp>
                      <p:nvSpPr>
                        <p:cNvPr id="1934" name="AutoShape 874"/>
                        <p:cNvSpPr/>
                        <p:nvPr/>
                      </p:nvSpPr>
                      <p:spPr>
                        <a:xfrm>
                          <a:off x="4504320" y="362124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5" name="WordArt 875"/>
                        <p:cNvSpPr txBox="1"/>
                        <p:nvPr/>
                      </p:nvSpPr>
                      <p:spPr>
                        <a:xfrm rot="15600">
                          <a:off x="4543200" y="363636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天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936" name="Group 876"/>
                      <p:cNvGrpSpPr/>
                      <p:nvPr/>
                    </p:nvGrpSpPr>
                    <p:grpSpPr>
                      <a:xfrm>
                        <a:off x="4361760" y="3764880"/>
                        <a:ext cx="380880" cy="191160"/>
                        <a:chOff x="4361760" y="3764880"/>
                        <a:chExt cx="380880" cy="191160"/>
                      </a:xfrm>
                    </p:grpSpPr>
                    <p:sp>
                      <p:nvSpPr>
                        <p:cNvPr id="1937" name="AutoShape 877"/>
                        <p:cNvSpPr/>
                        <p:nvPr/>
                      </p:nvSpPr>
                      <p:spPr>
                        <a:xfrm>
                          <a:off x="4361760" y="37648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8" name="WordArt 878"/>
                        <p:cNvSpPr txBox="1"/>
                        <p:nvPr/>
                      </p:nvSpPr>
                      <p:spPr>
                        <a:xfrm rot="15600">
                          <a:off x="4400640" y="37800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降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939" name="Group 879"/>
                      <p:cNvGrpSpPr/>
                      <p:nvPr/>
                    </p:nvGrpSpPr>
                    <p:grpSpPr>
                      <a:xfrm>
                        <a:off x="4241880" y="3885480"/>
                        <a:ext cx="380880" cy="191160"/>
                        <a:chOff x="4241880" y="3885480"/>
                        <a:chExt cx="380880" cy="191160"/>
                      </a:xfrm>
                    </p:grpSpPr>
                    <p:sp>
                      <p:nvSpPr>
                        <p:cNvPr id="1940" name="AutoShape 880"/>
                        <p:cNvSpPr/>
                        <p:nvPr/>
                      </p:nvSpPr>
                      <p:spPr>
                        <a:xfrm>
                          <a:off x="4241880" y="3885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1" name="WordArt 881"/>
                        <p:cNvSpPr txBox="1"/>
                        <p:nvPr/>
                      </p:nvSpPr>
                      <p:spPr>
                        <a:xfrm rot="15600">
                          <a:off x="4280760" y="3900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大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942" name="Group 882"/>
                      <p:cNvGrpSpPr/>
                      <p:nvPr/>
                    </p:nvGrpSpPr>
                    <p:grpSpPr>
                      <a:xfrm>
                        <a:off x="4098960" y="4029480"/>
                        <a:ext cx="380880" cy="191160"/>
                        <a:chOff x="4098960" y="4029480"/>
                        <a:chExt cx="380880" cy="191160"/>
                      </a:xfrm>
                    </p:grpSpPr>
                    <p:sp>
                      <p:nvSpPr>
                        <p:cNvPr id="1943" name="AutoShape 883"/>
                        <p:cNvSpPr/>
                        <p:nvPr/>
                      </p:nvSpPr>
                      <p:spPr>
                        <a:xfrm>
                          <a:off x="4098960" y="402948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4" name="WordArt 884"/>
                        <p:cNvSpPr txBox="1"/>
                        <p:nvPr/>
                      </p:nvSpPr>
                      <p:spPr>
                        <a:xfrm rot="15600">
                          <a:off x="4137840" y="404460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任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945" name="Group 885"/>
                      <p:cNvGrpSpPr/>
                      <p:nvPr/>
                    </p:nvGrpSpPr>
                    <p:grpSpPr>
                      <a:xfrm>
                        <a:off x="3956400" y="4173120"/>
                        <a:ext cx="380880" cy="191520"/>
                        <a:chOff x="3956400" y="4173120"/>
                        <a:chExt cx="380880" cy="191520"/>
                      </a:xfrm>
                    </p:grpSpPr>
                    <p:sp>
                      <p:nvSpPr>
                        <p:cNvPr id="1946" name="AutoShape 886"/>
                        <p:cNvSpPr/>
                        <p:nvPr/>
                      </p:nvSpPr>
                      <p:spPr>
                        <a:xfrm>
                          <a:off x="3956400" y="4173120"/>
                          <a:ext cx="380880" cy="19152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7" name="WordArt 887"/>
                        <p:cNvSpPr txBox="1"/>
                        <p:nvPr/>
                      </p:nvSpPr>
                      <p:spPr>
                        <a:xfrm rot="15600">
                          <a:off x="3995280" y="4188240"/>
                          <a:ext cx="314640" cy="8892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480" bIns="4248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於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  <p:grpSp>
                    <p:nvGrpSpPr>
                      <p:cNvPr id="1948" name="Group 888"/>
                      <p:cNvGrpSpPr/>
                      <p:nvPr/>
                    </p:nvGrpSpPr>
                    <p:grpSpPr>
                      <a:xfrm>
                        <a:off x="3813840" y="4316760"/>
                        <a:ext cx="380880" cy="191160"/>
                        <a:chOff x="3813840" y="4316760"/>
                        <a:chExt cx="380880" cy="191160"/>
                      </a:xfrm>
                    </p:grpSpPr>
                    <p:sp>
                      <p:nvSpPr>
                        <p:cNvPr id="1949" name="AutoShape 889"/>
                        <p:cNvSpPr/>
                        <p:nvPr/>
                      </p:nvSpPr>
                      <p:spPr>
                        <a:xfrm>
                          <a:off x="3813840" y="4316760"/>
                          <a:ext cx="380880" cy="191160"/>
                        </a:xfrm>
                        <a:prstGeom prst="cube">
                          <a:avLst>
                            <a:gd name="adj" fmla="val 66597"/>
                          </a:avLst>
                        </a:prstGeom>
                        <a:solidFill>
                          <a:srgbClr val="ffcc99"/>
                        </a:solidFill>
                        <a:ln w="9360">
                          <a:solidFill>
                            <a:srgbClr val="cc99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0" name="WordArt 890"/>
                        <p:cNvSpPr txBox="1"/>
                        <p:nvPr/>
                      </p:nvSpPr>
                      <p:spPr>
                        <a:xfrm rot="15600">
                          <a:off x="3852720" y="4331880"/>
                          <a:ext cx="314640" cy="88560"/>
                        </a:xfrm>
                        <a:prstGeom prst="rect">
                          <a:avLst/>
                        </a:prstGeom>
                      </p:spPr>
                      <p:txBody>
                        <a:bodyPr wrap="none" lIns="90000" rIns="90000" tIns="42120" bIns="42120" anchor="t" anchorCtr="1">
                          <a:prstTxWarp prst="textPlain">
                            <a:avLst>
                              <a:gd name="adj" fmla="val 69310"/>
                            </a:avLst>
                          </a:prstTxWarp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i="1" lang="zh-CN" sz="1800" spc="1" strike="noStrike">
                              <a:ln w="9360">
                                <a:solidFill>
                                  <a:srgbClr val="cc9900"/>
                                </a:solidFill>
                                <a:round/>
                              </a:ln>
                              <a:solidFill>
                                <a:srgbClr val="ffcc99"/>
                              </a:solidFill>
                              <a:effectLst>
                                <a:outerShdw dist="17819" dir="2700000" blurRad="0" rotWithShape="0">
                                  <a:srgbClr val="808080">
                                    <a:alpha val="80000"/>
                                  </a:srgbClr>
                                </a:outerShdw>
                              </a:effectLst>
                              <a:latin typeface="宋体"/>
                            </a:rPr>
                            <a:t>是</a:t>
                          </a:r>
                          <a:endParaRPr b="0" i="1" lang="en-US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  <a:ea typeface="宋体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951" name="Group 891"/>
                  <p:cNvGrpSpPr/>
                  <p:nvPr/>
                </p:nvGrpSpPr>
                <p:grpSpPr>
                  <a:xfrm>
                    <a:off x="4068000" y="3501720"/>
                    <a:ext cx="1190160" cy="1006200"/>
                    <a:chOff x="4068000" y="3501720"/>
                    <a:chExt cx="1190160" cy="1006200"/>
                  </a:xfrm>
                </p:grpSpPr>
                <p:grpSp>
                  <p:nvGrpSpPr>
                    <p:cNvPr id="1952" name="Group 892"/>
                    <p:cNvGrpSpPr/>
                    <p:nvPr/>
                  </p:nvGrpSpPr>
                  <p:grpSpPr>
                    <a:xfrm>
                      <a:off x="4877280" y="3501720"/>
                      <a:ext cx="380880" cy="191160"/>
                      <a:chOff x="4877280" y="3501720"/>
                      <a:chExt cx="380880" cy="191160"/>
                    </a:xfrm>
                  </p:grpSpPr>
                  <p:sp>
                    <p:nvSpPr>
                      <p:cNvPr id="1953" name="AutoShape 893"/>
                      <p:cNvSpPr/>
                      <p:nvPr/>
                    </p:nvSpPr>
                    <p:spPr>
                      <a:xfrm>
                        <a:off x="4877280" y="3501720"/>
                        <a:ext cx="38088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4" name="WordArt 894"/>
                      <p:cNvSpPr txBox="1"/>
                      <p:nvPr/>
                    </p:nvSpPr>
                    <p:spPr>
                      <a:xfrm rot="15600">
                        <a:off x="4916160" y="3516840"/>
                        <a:ext cx="31464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955" name="Group 895"/>
                    <p:cNvGrpSpPr/>
                    <p:nvPr/>
                  </p:nvGrpSpPr>
                  <p:grpSpPr>
                    <a:xfrm>
                      <a:off x="4758480" y="3621240"/>
                      <a:ext cx="380880" cy="191160"/>
                      <a:chOff x="4758480" y="3621240"/>
                      <a:chExt cx="380880" cy="191160"/>
                    </a:xfrm>
                  </p:grpSpPr>
                  <p:sp>
                    <p:nvSpPr>
                      <p:cNvPr id="1956" name="AutoShape 896"/>
                      <p:cNvSpPr/>
                      <p:nvPr/>
                    </p:nvSpPr>
                    <p:spPr>
                      <a:xfrm>
                        <a:off x="4758480" y="3621240"/>
                        <a:ext cx="38088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7" name="WordArt 897"/>
                      <p:cNvSpPr txBox="1"/>
                      <p:nvPr/>
                    </p:nvSpPr>
                    <p:spPr>
                      <a:xfrm rot="15600">
                        <a:off x="4797360" y="3636360"/>
                        <a:ext cx="31464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958" name="Group 898"/>
                    <p:cNvGrpSpPr/>
                    <p:nvPr/>
                  </p:nvGrpSpPr>
                  <p:grpSpPr>
                    <a:xfrm>
                      <a:off x="4615920" y="3764880"/>
                      <a:ext cx="380880" cy="191160"/>
                      <a:chOff x="4615920" y="3764880"/>
                      <a:chExt cx="380880" cy="191160"/>
                    </a:xfrm>
                  </p:grpSpPr>
                  <p:sp>
                    <p:nvSpPr>
                      <p:cNvPr id="1959" name="AutoShape 899"/>
                      <p:cNvSpPr/>
                      <p:nvPr/>
                    </p:nvSpPr>
                    <p:spPr>
                      <a:xfrm>
                        <a:off x="4615920" y="3764880"/>
                        <a:ext cx="38088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0" name="WordArt 900"/>
                      <p:cNvSpPr txBox="1"/>
                      <p:nvPr/>
                    </p:nvSpPr>
                    <p:spPr>
                      <a:xfrm rot="15600">
                        <a:off x="4654800" y="3780000"/>
                        <a:ext cx="31464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961" name="Group 901"/>
                    <p:cNvGrpSpPr/>
                    <p:nvPr/>
                  </p:nvGrpSpPr>
                  <p:grpSpPr>
                    <a:xfrm>
                      <a:off x="4496040" y="3885480"/>
                      <a:ext cx="380880" cy="191160"/>
                      <a:chOff x="4496040" y="3885480"/>
                      <a:chExt cx="380880" cy="191160"/>
                    </a:xfrm>
                  </p:grpSpPr>
                  <p:sp>
                    <p:nvSpPr>
                      <p:cNvPr id="1962" name="AutoShape 902"/>
                      <p:cNvSpPr/>
                      <p:nvPr/>
                    </p:nvSpPr>
                    <p:spPr>
                      <a:xfrm>
                        <a:off x="4496040" y="3885480"/>
                        <a:ext cx="38088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3" name="WordArt 903"/>
                      <p:cNvSpPr txBox="1"/>
                      <p:nvPr/>
                    </p:nvSpPr>
                    <p:spPr>
                      <a:xfrm rot="15600">
                        <a:off x="4534920" y="3900600"/>
                        <a:ext cx="31464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964" name="Group 904"/>
                    <p:cNvGrpSpPr/>
                    <p:nvPr/>
                  </p:nvGrpSpPr>
                  <p:grpSpPr>
                    <a:xfrm>
                      <a:off x="4353120" y="4029480"/>
                      <a:ext cx="380880" cy="191160"/>
                      <a:chOff x="4353120" y="4029480"/>
                      <a:chExt cx="380880" cy="191160"/>
                    </a:xfrm>
                  </p:grpSpPr>
                  <p:sp>
                    <p:nvSpPr>
                      <p:cNvPr id="1965" name="AutoShape 905"/>
                      <p:cNvSpPr/>
                      <p:nvPr/>
                    </p:nvSpPr>
                    <p:spPr>
                      <a:xfrm>
                        <a:off x="4353120" y="4029480"/>
                        <a:ext cx="38088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6" name="WordArt 906"/>
                      <p:cNvSpPr txBox="1"/>
                      <p:nvPr/>
                    </p:nvSpPr>
                    <p:spPr>
                      <a:xfrm rot="15600">
                        <a:off x="4392000" y="4044600"/>
                        <a:ext cx="31464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967" name="Group 907"/>
                    <p:cNvGrpSpPr/>
                    <p:nvPr/>
                  </p:nvGrpSpPr>
                  <p:grpSpPr>
                    <a:xfrm>
                      <a:off x="4210560" y="4173120"/>
                      <a:ext cx="380880" cy="191520"/>
                      <a:chOff x="4210560" y="4173120"/>
                      <a:chExt cx="380880" cy="191520"/>
                    </a:xfrm>
                  </p:grpSpPr>
                  <p:sp>
                    <p:nvSpPr>
                      <p:cNvPr id="1968" name="AutoShape 908"/>
                      <p:cNvSpPr/>
                      <p:nvPr/>
                    </p:nvSpPr>
                    <p:spPr>
                      <a:xfrm>
                        <a:off x="4210560" y="417312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9" name="WordArt 909"/>
                      <p:cNvSpPr txBox="1"/>
                      <p:nvPr/>
                    </p:nvSpPr>
                    <p:spPr>
                      <a:xfrm rot="15600">
                        <a:off x="4249440" y="418824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970" name="Group 910"/>
                    <p:cNvGrpSpPr/>
                    <p:nvPr/>
                  </p:nvGrpSpPr>
                  <p:grpSpPr>
                    <a:xfrm>
                      <a:off x="4068000" y="4316760"/>
                      <a:ext cx="380880" cy="191160"/>
                      <a:chOff x="4068000" y="4316760"/>
                      <a:chExt cx="380880" cy="191160"/>
                    </a:xfrm>
                  </p:grpSpPr>
                  <p:sp>
                    <p:nvSpPr>
                      <p:cNvPr id="1971" name="AutoShape 911"/>
                      <p:cNvSpPr/>
                      <p:nvPr/>
                    </p:nvSpPr>
                    <p:spPr>
                      <a:xfrm>
                        <a:off x="4068000" y="4316760"/>
                        <a:ext cx="38088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72" name="WordArt 912"/>
                      <p:cNvSpPr txBox="1"/>
                      <p:nvPr/>
                    </p:nvSpPr>
                    <p:spPr>
                      <a:xfrm rot="15600">
                        <a:off x="4106880" y="4331880"/>
                        <a:ext cx="31464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</p:grpSp>
              <p:grpSp>
                <p:nvGrpSpPr>
                  <p:cNvPr id="1973" name="Group 913"/>
                  <p:cNvGrpSpPr/>
                  <p:nvPr/>
                </p:nvGrpSpPr>
                <p:grpSpPr>
                  <a:xfrm>
                    <a:off x="4320360" y="3501720"/>
                    <a:ext cx="1190880" cy="1006200"/>
                    <a:chOff x="4320360" y="3501720"/>
                    <a:chExt cx="1190880" cy="1006200"/>
                  </a:xfrm>
                </p:grpSpPr>
                <p:grpSp>
                  <p:nvGrpSpPr>
                    <p:cNvPr id="1974" name="Group 914"/>
                    <p:cNvGrpSpPr/>
                    <p:nvPr/>
                  </p:nvGrpSpPr>
                  <p:grpSpPr>
                    <a:xfrm>
                      <a:off x="5130000" y="3501720"/>
                      <a:ext cx="381240" cy="191160"/>
                      <a:chOff x="5130000" y="3501720"/>
                      <a:chExt cx="381240" cy="191160"/>
                    </a:xfrm>
                  </p:grpSpPr>
                  <p:sp>
                    <p:nvSpPr>
                      <p:cNvPr id="1975" name="AutoShape 915"/>
                      <p:cNvSpPr/>
                      <p:nvPr/>
                    </p:nvSpPr>
                    <p:spPr>
                      <a:xfrm>
                        <a:off x="5130000" y="3501720"/>
                        <a:ext cx="38124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76" name="WordArt 916"/>
                      <p:cNvSpPr txBox="1"/>
                      <p:nvPr/>
                    </p:nvSpPr>
                    <p:spPr>
                      <a:xfrm rot="15600">
                        <a:off x="5169600" y="3516840"/>
                        <a:ext cx="31500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977" name="Group 917"/>
                    <p:cNvGrpSpPr/>
                    <p:nvPr/>
                  </p:nvGrpSpPr>
                  <p:grpSpPr>
                    <a:xfrm>
                      <a:off x="5011200" y="3621240"/>
                      <a:ext cx="381240" cy="191160"/>
                      <a:chOff x="5011200" y="3621240"/>
                      <a:chExt cx="381240" cy="191160"/>
                    </a:xfrm>
                  </p:grpSpPr>
                  <p:sp>
                    <p:nvSpPr>
                      <p:cNvPr id="1978" name="AutoShape 918"/>
                      <p:cNvSpPr/>
                      <p:nvPr/>
                    </p:nvSpPr>
                    <p:spPr>
                      <a:xfrm>
                        <a:off x="5011200" y="3621240"/>
                        <a:ext cx="38124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79" name="WordArt 919"/>
                      <p:cNvSpPr txBox="1"/>
                      <p:nvPr/>
                    </p:nvSpPr>
                    <p:spPr>
                      <a:xfrm rot="15600">
                        <a:off x="5050800" y="3636360"/>
                        <a:ext cx="31500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980" name="Group 920"/>
                    <p:cNvGrpSpPr/>
                    <p:nvPr/>
                  </p:nvGrpSpPr>
                  <p:grpSpPr>
                    <a:xfrm>
                      <a:off x="4868280" y="3764880"/>
                      <a:ext cx="380880" cy="191160"/>
                      <a:chOff x="4868280" y="3764880"/>
                      <a:chExt cx="380880" cy="191160"/>
                    </a:xfrm>
                  </p:grpSpPr>
                  <p:sp>
                    <p:nvSpPr>
                      <p:cNvPr id="1981" name="AutoShape 921"/>
                      <p:cNvSpPr/>
                      <p:nvPr/>
                    </p:nvSpPr>
                    <p:spPr>
                      <a:xfrm>
                        <a:off x="4868280" y="3764880"/>
                        <a:ext cx="38088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2" name="WordArt 922"/>
                      <p:cNvSpPr txBox="1"/>
                      <p:nvPr/>
                    </p:nvSpPr>
                    <p:spPr>
                      <a:xfrm rot="15600">
                        <a:off x="4907160" y="3780000"/>
                        <a:ext cx="31464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983" name="Group 923"/>
                    <p:cNvGrpSpPr/>
                    <p:nvPr/>
                  </p:nvGrpSpPr>
                  <p:grpSpPr>
                    <a:xfrm>
                      <a:off x="4748760" y="3885480"/>
                      <a:ext cx="381240" cy="191160"/>
                      <a:chOff x="4748760" y="3885480"/>
                      <a:chExt cx="381240" cy="191160"/>
                    </a:xfrm>
                  </p:grpSpPr>
                  <p:sp>
                    <p:nvSpPr>
                      <p:cNvPr id="1984" name="AutoShape 924"/>
                      <p:cNvSpPr/>
                      <p:nvPr/>
                    </p:nvSpPr>
                    <p:spPr>
                      <a:xfrm>
                        <a:off x="4748760" y="3885480"/>
                        <a:ext cx="38124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5" name="WordArt 925"/>
                      <p:cNvSpPr txBox="1"/>
                      <p:nvPr/>
                    </p:nvSpPr>
                    <p:spPr>
                      <a:xfrm rot="15600">
                        <a:off x="4788360" y="3900600"/>
                        <a:ext cx="31500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986" name="Group 926"/>
                    <p:cNvGrpSpPr/>
                    <p:nvPr/>
                  </p:nvGrpSpPr>
                  <p:grpSpPr>
                    <a:xfrm>
                      <a:off x="4605840" y="4029480"/>
                      <a:ext cx="381240" cy="191160"/>
                      <a:chOff x="4605840" y="4029480"/>
                      <a:chExt cx="381240" cy="191160"/>
                    </a:xfrm>
                  </p:grpSpPr>
                  <p:sp>
                    <p:nvSpPr>
                      <p:cNvPr id="1987" name="AutoShape 927"/>
                      <p:cNvSpPr/>
                      <p:nvPr/>
                    </p:nvSpPr>
                    <p:spPr>
                      <a:xfrm>
                        <a:off x="4605840" y="4029480"/>
                        <a:ext cx="38124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8" name="WordArt 928"/>
                      <p:cNvSpPr txBox="1"/>
                      <p:nvPr/>
                    </p:nvSpPr>
                    <p:spPr>
                      <a:xfrm rot="15600">
                        <a:off x="4645440" y="4044600"/>
                        <a:ext cx="31500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989" name="Group 929"/>
                    <p:cNvGrpSpPr/>
                    <p:nvPr/>
                  </p:nvGrpSpPr>
                  <p:grpSpPr>
                    <a:xfrm>
                      <a:off x="4462920" y="4173120"/>
                      <a:ext cx="380880" cy="191520"/>
                      <a:chOff x="4462920" y="4173120"/>
                      <a:chExt cx="380880" cy="191520"/>
                    </a:xfrm>
                  </p:grpSpPr>
                  <p:sp>
                    <p:nvSpPr>
                      <p:cNvPr id="1990" name="AutoShape 930"/>
                      <p:cNvSpPr/>
                      <p:nvPr/>
                    </p:nvSpPr>
                    <p:spPr>
                      <a:xfrm>
                        <a:off x="4462920" y="417312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1" name="WordArt 931"/>
                      <p:cNvSpPr txBox="1"/>
                      <p:nvPr/>
                    </p:nvSpPr>
                    <p:spPr>
                      <a:xfrm rot="15600">
                        <a:off x="4501800" y="418824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992" name="Group 932"/>
                    <p:cNvGrpSpPr/>
                    <p:nvPr/>
                  </p:nvGrpSpPr>
                  <p:grpSpPr>
                    <a:xfrm>
                      <a:off x="4320360" y="4316760"/>
                      <a:ext cx="381240" cy="191160"/>
                      <a:chOff x="4320360" y="4316760"/>
                      <a:chExt cx="381240" cy="191160"/>
                    </a:xfrm>
                  </p:grpSpPr>
                  <p:sp>
                    <p:nvSpPr>
                      <p:cNvPr id="1993" name="AutoShape 933"/>
                      <p:cNvSpPr/>
                      <p:nvPr/>
                    </p:nvSpPr>
                    <p:spPr>
                      <a:xfrm>
                        <a:off x="4320360" y="4316760"/>
                        <a:ext cx="38124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4" name="WordArt 934"/>
                      <p:cNvSpPr txBox="1"/>
                      <p:nvPr/>
                    </p:nvSpPr>
                    <p:spPr>
                      <a:xfrm rot="15600">
                        <a:off x="4359960" y="4331880"/>
                        <a:ext cx="31500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乎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</p:grpSp>
              <p:grpSp>
                <p:nvGrpSpPr>
                  <p:cNvPr id="1995" name="Group 935"/>
                  <p:cNvGrpSpPr/>
                  <p:nvPr/>
                </p:nvGrpSpPr>
                <p:grpSpPr>
                  <a:xfrm>
                    <a:off x="4572720" y="3501720"/>
                    <a:ext cx="1190880" cy="1006200"/>
                    <a:chOff x="4572720" y="3501720"/>
                    <a:chExt cx="1190880" cy="1006200"/>
                  </a:xfrm>
                </p:grpSpPr>
                <p:grpSp>
                  <p:nvGrpSpPr>
                    <p:cNvPr id="1996" name="Group 936"/>
                    <p:cNvGrpSpPr/>
                    <p:nvPr/>
                  </p:nvGrpSpPr>
                  <p:grpSpPr>
                    <a:xfrm>
                      <a:off x="5382360" y="3501720"/>
                      <a:ext cx="381240" cy="191160"/>
                      <a:chOff x="5382360" y="3501720"/>
                      <a:chExt cx="381240" cy="191160"/>
                    </a:xfrm>
                  </p:grpSpPr>
                  <p:sp>
                    <p:nvSpPr>
                      <p:cNvPr id="1997" name="AutoShape 937"/>
                      <p:cNvSpPr/>
                      <p:nvPr/>
                    </p:nvSpPr>
                    <p:spPr>
                      <a:xfrm>
                        <a:off x="5382360" y="3501720"/>
                        <a:ext cx="38124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8" name="WordArt 938"/>
                      <p:cNvSpPr txBox="1"/>
                      <p:nvPr/>
                    </p:nvSpPr>
                    <p:spPr>
                      <a:xfrm rot="15600">
                        <a:off x="5421960" y="3516840"/>
                        <a:ext cx="31500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困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1999" name="Group 939"/>
                    <p:cNvGrpSpPr/>
                    <p:nvPr/>
                  </p:nvGrpSpPr>
                  <p:grpSpPr>
                    <a:xfrm>
                      <a:off x="5263560" y="3621240"/>
                      <a:ext cx="381240" cy="191160"/>
                      <a:chOff x="5263560" y="3621240"/>
                      <a:chExt cx="381240" cy="191160"/>
                    </a:xfrm>
                  </p:grpSpPr>
                  <p:sp>
                    <p:nvSpPr>
                      <p:cNvPr id="2000" name="AutoShape 940"/>
                      <p:cNvSpPr/>
                      <p:nvPr/>
                    </p:nvSpPr>
                    <p:spPr>
                      <a:xfrm>
                        <a:off x="5263560" y="3621240"/>
                        <a:ext cx="38124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1" name="WordArt 941"/>
                      <p:cNvSpPr txBox="1"/>
                      <p:nvPr/>
                    </p:nvSpPr>
                    <p:spPr>
                      <a:xfrm rot="15600">
                        <a:off x="5303160" y="3636360"/>
                        <a:ext cx="31500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於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2002" name="Group 942"/>
                    <p:cNvGrpSpPr/>
                    <p:nvPr/>
                  </p:nvGrpSpPr>
                  <p:grpSpPr>
                    <a:xfrm>
                      <a:off x="5120640" y="3764880"/>
                      <a:ext cx="380880" cy="191160"/>
                      <a:chOff x="5120640" y="3764880"/>
                      <a:chExt cx="380880" cy="191160"/>
                    </a:xfrm>
                  </p:grpSpPr>
                  <p:sp>
                    <p:nvSpPr>
                      <p:cNvPr id="2003" name="AutoShape 943"/>
                      <p:cNvSpPr/>
                      <p:nvPr/>
                    </p:nvSpPr>
                    <p:spPr>
                      <a:xfrm>
                        <a:off x="5120640" y="3764880"/>
                        <a:ext cx="38088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4" name="WordArt 944"/>
                      <p:cNvSpPr txBox="1"/>
                      <p:nvPr/>
                    </p:nvSpPr>
                    <p:spPr>
                      <a:xfrm rot="15600">
                        <a:off x="5159520" y="3780000"/>
                        <a:ext cx="31464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心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2005" name="Group 945"/>
                    <p:cNvGrpSpPr/>
                    <p:nvPr/>
                  </p:nvGrpSpPr>
                  <p:grpSpPr>
                    <a:xfrm>
                      <a:off x="5001120" y="3885480"/>
                      <a:ext cx="381240" cy="191160"/>
                      <a:chOff x="5001120" y="3885480"/>
                      <a:chExt cx="381240" cy="191160"/>
                    </a:xfrm>
                  </p:grpSpPr>
                  <p:sp>
                    <p:nvSpPr>
                      <p:cNvPr id="2006" name="AutoShape 946"/>
                      <p:cNvSpPr/>
                      <p:nvPr/>
                    </p:nvSpPr>
                    <p:spPr>
                      <a:xfrm>
                        <a:off x="5001120" y="3885480"/>
                        <a:ext cx="38124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7" name="WordArt 947"/>
                      <p:cNvSpPr txBox="1"/>
                      <p:nvPr/>
                    </p:nvSpPr>
                    <p:spPr>
                      <a:xfrm rot="15600">
                        <a:off x="5040720" y="3900600"/>
                        <a:ext cx="31500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衡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2008" name="Group 948"/>
                    <p:cNvGrpSpPr/>
                    <p:nvPr/>
                  </p:nvGrpSpPr>
                  <p:grpSpPr>
                    <a:xfrm>
                      <a:off x="4858200" y="4029480"/>
                      <a:ext cx="381240" cy="191160"/>
                      <a:chOff x="4858200" y="4029480"/>
                      <a:chExt cx="381240" cy="191160"/>
                    </a:xfrm>
                  </p:grpSpPr>
                  <p:sp>
                    <p:nvSpPr>
                      <p:cNvPr id="2009" name="AutoShape 949"/>
                      <p:cNvSpPr/>
                      <p:nvPr/>
                    </p:nvSpPr>
                    <p:spPr>
                      <a:xfrm>
                        <a:off x="4858200" y="4029480"/>
                        <a:ext cx="38124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0" name="WordArt 950"/>
                      <p:cNvSpPr txBox="1"/>
                      <p:nvPr/>
                    </p:nvSpPr>
                    <p:spPr>
                      <a:xfrm rot="15600">
                        <a:off x="4897800" y="4044600"/>
                        <a:ext cx="31500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於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2011" name="Group 951"/>
                    <p:cNvGrpSpPr/>
                    <p:nvPr/>
                  </p:nvGrpSpPr>
                  <p:grpSpPr>
                    <a:xfrm>
                      <a:off x="4715280" y="4173120"/>
                      <a:ext cx="380880" cy="191520"/>
                      <a:chOff x="4715280" y="4173120"/>
                      <a:chExt cx="380880" cy="191520"/>
                    </a:xfrm>
                  </p:grpSpPr>
                  <p:sp>
                    <p:nvSpPr>
                      <p:cNvPr id="2012" name="AutoShape 952"/>
                      <p:cNvSpPr/>
                      <p:nvPr/>
                    </p:nvSpPr>
                    <p:spPr>
                      <a:xfrm>
                        <a:off x="4715280" y="4173120"/>
                        <a:ext cx="380880" cy="19152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3" name="WordArt 953"/>
                      <p:cNvSpPr txBox="1"/>
                      <p:nvPr/>
                    </p:nvSpPr>
                    <p:spPr>
                      <a:xfrm rot="15600">
                        <a:off x="4754160" y="4188240"/>
                        <a:ext cx="314640" cy="8892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480" bIns="4248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虑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  <p:grpSp>
                  <p:nvGrpSpPr>
                    <p:cNvPr id="2014" name="Group 954"/>
                    <p:cNvGrpSpPr/>
                    <p:nvPr/>
                  </p:nvGrpSpPr>
                  <p:grpSpPr>
                    <a:xfrm>
                      <a:off x="4572720" y="4316760"/>
                      <a:ext cx="381240" cy="191160"/>
                      <a:chOff x="4572720" y="4316760"/>
                      <a:chExt cx="381240" cy="191160"/>
                    </a:xfrm>
                  </p:grpSpPr>
                  <p:sp>
                    <p:nvSpPr>
                      <p:cNvPr id="2015" name="AutoShape 955"/>
                      <p:cNvSpPr/>
                      <p:nvPr/>
                    </p:nvSpPr>
                    <p:spPr>
                      <a:xfrm>
                        <a:off x="4572720" y="4316760"/>
                        <a:ext cx="381240" cy="191160"/>
                      </a:xfrm>
                      <a:prstGeom prst="cube">
                        <a:avLst>
                          <a:gd name="adj" fmla="val 66597"/>
                        </a:avLst>
                      </a:prstGeom>
                      <a:solidFill>
                        <a:srgbClr val="ffcc99"/>
                      </a:solidFill>
                      <a:ln w="9360">
                        <a:solidFill>
                          <a:srgbClr val="cc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6" name="WordArt 956"/>
                      <p:cNvSpPr txBox="1"/>
                      <p:nvPr/>
                    </p:nvSpPr>
                    <p:spPr>
                      <a:xfrm rot="15600">
                        <a:off x="4612320" y="4331880"/>
                        <a:ext cx="315000" cy="88560"/>
                      </a:xfrm>
                      <a:prstGeom prst="rect">
                        <a:avLst/>
                      </a:prstGeom>
                    </p:spPr>
                    <p:txBody>
                      <a:bodyPr wrap="none" lIns="90000" rIns="90000" tIns="42120" bIns="42120" anchor="t" anchorCtr="1">
                        <a:prstTxWarp prst="textPlain">
                          <a:avLst>
                            <a:gd name="adj" fmla="val 69310"/>
                          </a:avLst>
                        </a:prstTxWarp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1800" spc="1" strike="noStrike">
                            <a:ln w="9360">
                              <a:solidFill>
                                <a:srgbClr val="cc9900"/>
                              </a:solidFill>
                              <a:round/>
                            </a:ln>
                            <a:solidFill>
                              <a:srgbClr val="ffcc99"/>
                            </a:solidFill>
                            <a:effectLst>
                              <a:outerShdw dist="17819" dir="2700000" blurRad="0" rotWithShape="0">
                                <a:srgbClr val="808080">
                                  <a:alpha val="80000"/>
                                </a:srgbClr>
                              </a:outerShdw>
                            </a:effectLst>
                            <a:latin typeface="宋体"/>
                          </a:rPr>
                          <a:t>而</a:t>
                        </a:r>
                        <a:endParaRPr b="0" i="1" lang="en-US" sz="1800" spc="1" strike="noStrike">
                          <a:ln w="9360">
                            <a:solidFill>
                              <a:srgbClr val="cc9900"/>
                            </a:solidFill>
                            <a:round/>
                          </a:ln>
                          <a:solidFill>
                            <a:srgbClr val="ffcc99"/>
                          </a:solidFill>
                          <a:effectLst>
                            <a:outerShdw dist="17819" dir="2700000" blurRad="0" rotWithShape="0">
                              <a:srgbClr val="808080">
                                <a:alpha val="80000"/>
                              </a:srgbClr>
                            </a:outerShdw>
                          </a:effectLst>
                          <a:latin typeface="宋体"/>
                          <a:ea typeface="宋体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017" name="Rectangle 957"/>
                <p:cNvSpPr/>
                <p:nvPr/>
              </p:nvSpPr>
              <p:spPr>
                <a:xfrm>
                  <a:off x="432000" y="4437000"/>
                  <a:ext cx="4430160" cy="10764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AutoShape 958"/>
                <p:cNvSpPr/>
                <p:nvPr/>
              </p:nvSpPr>
              <p:spPr>
                <a:xfrm flipH="1" rot="16200000">
                  <a:off x="4806360" y="3552480"/>
                  <a:ext cx="1041480" cy="936720"/>
                </a:xfrm>
                <a:prstGeom prst="parallelogram">
                  <a:avLst>
                    <a:gd name="adj" fmla="val 100183"/>
                  </a:avLst>
                </a:prstGeom>
                <a:solidFill>
                  <a:srgbClr val="5f5f5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9" name="Group 959"/>
              <p:cNvGrpSpPr/>
              <p:nvPr/>
            </p:nvGrpSpPr>
            <p:grpSpPr>
              <a:xfrm>
                <a:off x="395280" y="3284640"/>
                <a:ext cx="4284720" cy="1152360"/>
                <a:chOff x="395280" y="3284640"/>
                <a:chExt cx="4284720" cy="1152360"/>
              </a:xfrm>
            </p:grpSpPr>
            <p:sp>
              <p:nvSpPr>
                <p:cNvPr id="2020" name="AutoShape 960"/>
                <p:cNvSpPr/>
                <p:nvPr/>
              </p:nvSpPr>
              <p:spPr>
                <a:xfrm>
                  <a:off x="395280" y="3500280"/>
                  <a:ext cx="4284720" cy="936720"/>
                </a:xfrm>
                <a:prstGeom prst="parallelogram">
                  <a:avLst>
                    <a:gd name="adj" fmla="val 102707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Freeform 961"/>
                <p:cNvSpPr/>
                <p:nvPr/>
              </p:nvSpPr>
              <p:spPr>
                <a:xfrm>
                  <a:off x="2916360" y="4292640"/>
                  <a:ext cx="790560" cy="142920"/>
                </a:xfrm>
                <a:custGeom>
                  <a:avLst/>
                  <a:gdLst/>
                  <a:ahLst/>
                  <a:rect l="l" t="t" r="r" b="b"/>
                  <a:pathLst>
                    <a:path w="1523" h="458">
                      <a:moveTo>
                        <a:pt x="22" y="458"/>
                      </a:moveTo>
                      <a:cubicBezTo>
                        <a:pt x="11" y="427"/>
                        <a:pt x="0" y="397"/>
                        <a:pt x="0" y="367"/>
                      </a:cubicBezTo>
                      <a:cubicBezTo>
                        <a:pt x="0" y="337"/>
                        <a:pt x="7" y="306"/>
                        <a:pt x="22" y="276"/>
                      </a:cubicBezTo>
                      <a:cubicBezTo>
                        <a:pt x="37" y="246"/>
                        <a:pt x="61" y="212"/>
                        <a:pt x="91" y="185"/>
                      </a:cubicBezTo>
                      <a:cubicBezTo>
                        <a:pt x="121" y="158"/>
                        <a:pt x="166" y="136"/>
                        <a:pt x="204" y="117"/>
                      </a:cubicBezTo>
                      <a:cubicBezTo>
                        <a:pt x="242" y="98"/>
                        <a:pt x="276" y="87"/>
                        <a:pt x="317" y="72"/>
                      </a:cubicBezTo>
                      <a:cubicBezTo>
                        <a:pt x="358" y="57"/>
                        <a:pt x="411" y="38"/>
                        <a:pt x="453" y="27"/>
                      </a:cubicBezTo>
                      <a:cubicBezTo>
                        <a:pt x="495" y="16"/>
                        <a:pt x="529" y="8"/>
                        <a:pt x="567" y="4"/>
                      </a:cubicBezTo>
                      <a:cubicBezTo>
                        <a:pt x="605" y="0"/>
                        <a:pt x="646" y="4"/>
                        <a:pt x="680" y="4"/>
                      </a:cubicBezTo>
                      <a:cubicBezTo>
                        <a:pt x="714" y="4"/>
                        <a:pt x="737" y="4"/>
                        <a:pt x="771" y="4"/>
                      </a:cubicBezTo>
                      <a:cubicBezTo>
                        <a:pt x="805" y="4"/>
                        <a:pt x="846" y="0"/>
                        <a:pt x="884" y="4"/>
                      </a:cubicBezTo>
                      <a:cubicBezTo>
                        <a:pt x="922" y="8"/>
                        <a:pt x="956" y="20"/>
                        <a:pt x="998" y="27"/>
                      </a:cubicBezTo>
                      <a:cubicBezTo>
                        <a:pt x="1040" y="34"/>
                        <a:pt x="1096" y="42"/>
                        <a:pt x="1134" y="49"/>
                      </a:cubicBezTo>
                      <a:cubicBezTo>
                        <a:pt x="1172" y="56"/>
                        <a:pt x="1195" y="61"/>
                        <a:pt x="1225" y="72"/>
                      </a:cubicBezTo>
                      <a:cubicBezTo>
                        <a:pt x="1255" y="83"/>
                        <a:pt x="1285" y="102"/>
                        <a:pt x="1315" y="117"/>
                      </a:cubicBezTo>
                      <a:cubicBezTo>
                        <a:pt x="1345" y="132"/>
                        <a:pt x="1380" y="140"/>
                        <a:pt x="1406" y="163"/>
                      </a:cubicBezTo>
                      <a:cubicBezTo>
                        <a:pt x="1432" y="186"/>
                        <a:pt x="1455" y="219"/>
                        <a:pt x="1474" y="253"/>
                      </a:cubicBezTo>
                      <a:cubicBezTo>
                        <a:pt x="1493" y="287"/>
                        <a:pt x="1515" y="333"/>
                        <a:pt x="1519" y="367"/>
                      </a:cubicBezTo>
                      <a:cubicBezTo>
                        <a:pt x="1523" y="401"/>
                        <a:pt x="1510" y="429"/>
                        <a:pt x="1497" y="458"/>
                      </a:cubicBez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Freeform 962"/>
                <p:cNvSpPr/>
                <p:nvPr/>
              </p:nvSpPr>
              <p:spPr>
                <a:xfrm>
                  <a:off x="3851280" y="3392280"/>
                  <a:ext cx="828720" cy="142920"/>
                </a:xfrm>
                <a:custGeom>
                  <a:avLst/>
                  <a:gdLst/>
                  <a:ahLst/>
                  <a:rect l="l" t="t" r="r" b="b"/>
                  <a:pathLst>
                    <a:path w="1523" h="458">
                      <a:moveTo>
                        <a:pt x="22" y="458"/>
                      </a:moveTo>
                      <a:cubicBezTo>
                        <a:pt x="11" y="427"/>
                        <a:pt x="0" y="397"/>
                        <a:pt x="0" y="367"/>
                      </a:cubicBezTo>
                      <a:cubicBezTo>
                        <a:pt x="0" y="337"/>
                        <a:pt x="7" y="306"/>
                        <a:pt x="22" y="276"/>
                      </a:cubicBezTo>
                      <a:cubicBezTo>
                        <a:pt x="37" y="246"/>
                        <a:pt x="61" y="212"/>
                        <a:pt x="91" y="185"/>
                      </a:cubicBezTo>
                      <a:cubicBezTo>
                        <a:pt x="121" y="158"/>
                        <a:pt x="166" y="136"/>
                        <a:pt x="204" y="117"/>
                      </a:cubicBezTo>
                      <a:cubicBezTo>
                        <a:pt x="242" y="98"/>
                        <a:pt x="276" y="87"/>
                        <a:pt x="317" y="72"/>
                      </a:cubicBezTo>
                      <a:cubicBezTo>
                        <a:pt x="358" y="57"/>
                        <a:pt x="411" y="38"/>
                        <a:pt x="453" y="27"/>
                      </a:cubicBezTo>
                      <a:cubicBezTo>
                        <a:pt x="495" y="16"/>
                        <a:pt x="529" y="8"/>
                        <a:pt x="567" y="4"/>
                      </a:cubicBezTo>
                      <a:cubicBezTo>
                        <a:pt x="605" y="0"/>
                        <a:pt x="646" y="4"/>
                        <a:pt x="680" y="4"/>
                      </a:cubicBezTo>
                      <a:cubicBezTo>
                        <a:pt x="714" y="4"/>
                        <a:pt x="737" y="4"/>
                        <a:pt x="771" y="4"/>
                      </a:cubicBezTo>
                      <a:cubicBezTo>
                        <a:pt x="805" y="4"/>
                        <a:pt x="846" y="0"/>
                        <a:pt x="884" y="4"/>
                      </a:cubicBezTo>
                      <a:cubicBezTo>
                        <a:pt x="922" y="8"/>
                        <a:pt x="956" y="20"/>
                        <a:pt x="998" y="27"/>
                      </a:cubicBezTo>
                      <a:cubicBezTo>
                        <a:pt x="1040" y="34"/>
                        <a:pt x="1096" y="42"/>
                        <a:pt x="1134" y="49"/>
                      </a:cubicBezTo>
                      <a:cubicBezTo>
                        <a:pt x="1172" y="56"/>
                        <a:pt x="1195" y="61"/>
                        <a:pt x="1225" y="72"/>
                      </a:cubicBezTo>
                      <a:cubicBezTo>
                        <a:pt x="1255" y="83"/>
                        <a:pt x="1285" y="102"/>
                        <a:pt x="1315" y="117"/>
                      </a:cubicBezTo>
                      <a:cubicBezTo>
                        <a:pt x="1345" y="132"/>
                        <a:pt x="1380" y="140"/>
                        <a:pt x="1406" y="163"/>
                      </a:cubicBezTo>
                      <a:cubicBezTo>
                        <a:pt x="1432" y="186"/>
                        <a:pt x="1455" y="219"/>
                        <a:pt x="1474" y="253"/>
                      </a:cubicBezTo>
                      <a:cubicBezTo>
                        <a:pt x="1493" y="287"/>
                        <a:pt x="1515" y="333"/>
                        <a:pt x="1519" y="367"/>
                      </a:cubicBezTo>
                      <a:cubicBezTo>
                        <a:pt x="1523" y="401"/>
                        <a:pt x="1510" y="429"/>
                        <a:pt x="1497" y="458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Line 963"/>
                <p:cNvSpPr/>
                <p:nvPr/>
              </p:nvSpPr>
              <p:spPr>
                <a:xfrm flipH="1">
                  <a:off x="2916000" y="3463920"/>
                  <a:ext cx="971640" cy="90000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AutoShape 964"/>
                <p:cNvSpPr/>
                <p:nvPr/>
              </p:nvSpPr>
              <p:spPr>
                <a:xfrm>
                  <a:off x="934920" y="3284640"/>
                  <a:ext cx="1152720" cy="1152360"/>
                </a:xfrm>
                <a:prstGeom prst="cube">
                  <a:avLst>
                    <a:gd name="adj" fmla="val 7748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5" name="AutoShape 965"/>
          <p:cNvSpPr/>
          <p:nvPr/>
        </p:nvSpPr>
        <p:spPr>
          <a:xfrm>
            <a:off x="5616720" y="1700280"/>
            <a:ext cx="287280" cy="1116000"/>
          </a:xfrm>
          <a:custGeom>
            <a:avLst/>
            <a:gdLst>
              <a:gd name="textAreaLeft" fmla="*/ 38520 w 287280"/>
              <a:gd name="textAreaRight" fmla="*/ 248760 w 287280"/>
              <a:gd name="textAreaTop" fmla="*/ 195120 h 1116000"/>
              <a:gd name="textAreaBottom" fmla="*/ 809280 h 11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Rectangle 966"/>
          <p:cNvSpPr/>
          <p:nvPr/>
        </p:nvSpPr>
        <p:spPr>
          <a:xfrm>
            <a:off x="6443640" y="36450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常作二铁板，一板印刷，一板已自布字。此印者才毕，则第二板已具，更互用之，瞬息可就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3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90751E-006 L 0.17343 0.23214 E">
                                      <p:cBhvr>
                                        <p:cTn id="502" dur="2000" fill="hold"/>
                                        <p:tgtEl>
                                          <p:spTgt spid="1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000"/>
                            </p:stCondLst>
                            <p:childTnLst>
                              <p:par>
                                <p:cTn id="504" dur="indefinite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5" dur="2000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"/>
                            </p:stCondLst>
                            <p:childTnLst>
                              <p:par>
                                <p:cTn id="5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3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1"/>
                            </p:stCondLst>
                            <p:childTnLst>
                              <p:par>
                                <p:cTn id="518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Text Box 2"/>
          <p:cNvSpPr/>
          <p:nvPr/>
        </p:nvSpPr>
        <p:spPr>
          <a:xfrm>
            <a:off x="431640" y="1197000"/>
            <a:ext cx="4535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</a:t>
            </a:r>
            <a:r>
              <a:rPr b="0" lang="zh-CN" sz="2500" spc="-1" strike="noStrike" u="sng">
                <a:solidFill>
                  <a:srgbClr val="ffff66"/>
                </a:solidFill>
                <a:uFillTx/>
                <a:latin typeface="楷体_GB2312"/>
                <a:ea typeface="楷体_GB2312"/>
              </a:rPr>
              <a:t>板印书籍</a:t>
            </a:r>
            <a:r>
              <a:rPr b="0" lang="zh-CN" sz="25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，唐人尚未盛为之。五代时始印五经，已后典籍皆为板本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</a:t>
            </a:r>
            <a:r>
              <a:rPr b="0" lang="zh-CN" sz="25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庆历中，有布衣毕升，</a:t>
            </a:r>
            <a:r>
              <a:rPr b="0" lang="zh-CN" sz="2500" spc="-1" strike="noStrike" u="sng">
                <a:solidFill>
                  <a:srgbClr val="ffff66"/>
                </a:solidFill>
                <a:uFillTx/>
                <a:latin typeface="楷体_GB2312"/>
                <a:ea typeface="楷体_GB2312"/>
              </a:rPr>
              <a:t>又</a:t>
            </a:r>
            <a:r>
              <a:rPr b="0" lang="zh-CN" sz="25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为活板。其法：用胶泥刻字，薄如钱唇，每字为一印，火烧令坚。先设一铁板，其上以松脂、蜡和纸灰之类冒之。欲印，则以一铁范置铁板上，乃密布字印，满铁范为一板，持就火炀之；药稍熔，则以一平板按其面，则字平如砥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Text Box 3"/>
          <p:cNvSpPr/>
          <p:nvPr/>
        </p:nvSpPr>
        <p:spPr>
          <a:xfrm>
            <a:off x="647640" y="225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  <a:ea typeface="楷体_GB2312"/>
              </a:rPr>
              <a:t>阅读 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  <a:ea typeface="楷体_GB2312"/>
              </a:rPr>
              <a:t>·</a:t>
            </a:r>
            <a:r>
              <a:rPr b="0" lang="en-US" sz="4000" spc="-1" strike="noStrike">
                <a:solidFill>
                  <a:srgbClr val="ffff66"/>
                </a:solidFill>
                <a:latin typeface="华文行楷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  <a:ea typeface="楷体_GB2312"/>
              </a:rPr>
              <a:t>思考 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  <a:ea typeface="楷体_GB2312"/>
              </a:rPr>
              <a:t>·</a:t>
            </a:r>
            <a:r>
              <a:rPr b="0" lang="en-US" sz="4000" spc="-1" strike="noStrike">
                <a:solidFill>
                  <a:srgbClr val="ffff66"/>
                </a:solidFill>
                <a:latin typeface="华文行楷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  <a:ea typeface="楷体_GB2312"/>
              </a:rPr>
              <a:t>讨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Rectangle 4"/>
          <p:cNvSpPr/>
          <p:nvPr/>
        </p:nvSpPr>
        <p:spPr>
          <a:xfrm>
            <a:off x="5738760" y="1413000"/>
            <a:ext cx="265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ffff"/>
                </a:solidFill>
                <a:latin typeface="Arial"/>
              </a:rPr>
              <a:t>1.</a:t>
            </a:r>
            <a:r>
              <a:rPr b="0" lang="zh-CN" sz="2500" spc="-1" strike="noStrike">
                <a:solidFill>
                  <a:srgbClr val="66ffff"/>
                </a:solidFill>
                <a:latin typeface="Arial"/>
              </a:rPr>
              <a:t>为什么要先介绍“板印”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Rectangle 5"/>
          <p:cNvSpPr/>
          <p:nvPr/>
        </p:nvSpPr>
        <p:spPr>
          <a:xfrm>
            <a:off x="5653080" y="2816280"/>
            <a:ext cx="22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ffff"/>
                </a:solidFill>
                <a:latin typeface="Arial"/>
              </a:rPr>
              <a:t>2.”</a:t>
            </a:r>
            <a:r>
              <a:rPr b="0" lang="zh-CN" sz="2500" spc="-1" strike="noStrike">
                <a:solidFill>
                  <a:srgbClr val="66ffff"/>
                </a:solidFill>
                <a:latin typeface="Arial"/>
              </a:rPr>
              <a:t>又”字有什么作用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Rectangle 6"/>
          <p:cNvSpPr/>
          <p:nvPr/>
        </p:nvSpPr>
        <p:spPr>
          <a:xfrm>
            <a:off x="5148360" y="4221000"/>
            <a:ext cx="3779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ffff"/>
                </a:solidFill>
                <a:latin typeface="Arial"/>
              </a:rPr>
              <a:t>3.</a:t>
            </a:r>
            <a:r>
              <a:rPr b="0" lang="zh-CN" sz="2500" spc="-1" strike="noStrike">
                <a:solidFill>
                  <a:srgbClr val="66ffff"/>
                </a:solidFill>
                <a:latin typeface="Arial"/>
              </a:rPr>
              <a:t>找出制作活板过程中的动词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Line 7"/>
          <p:cNvSpPr/>
          <p:nvPr/>
        </p:nvSpPr>
        <p:spPr>
          <a:xfrm>
            <a:off x="5003640" y="981000"/>
            <a:ext cx="0" cy="529272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Rectangle 8"/>
          <p:cNvSpPr/>
          <p:nvPr/>
        </p:nvSpPr>
        <p:spPr>
          <a:xfrm>
            <a:off x="5419440" y="5356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Rectangle 9"/>
          <p:cNvSpPr/>
          <p:nvPr/>
        </p:nvSpPr>
        <p:spPr>
          <a:xfrm>
            <a:off x="6068880" y="5356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Rectangle 10"/>
          <p:cNvSpPr/>
          <p:nvPr/>
        </p:nvSpPr>
        <p:spPr>
          <a:xfrm>
            <a:off x="6751440" y="5356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Rectangle 11"/>
          <p:cNvSpPr/>
          <p:nvPr/>
        </p:nvSpPr>
        <p:spPr>
          <a:xfrm>
            <a:off x="7435440" y="5356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Rectangle 12"/>
          <p:cNvSpPr/>
          <p:nvPr/>
        </p:nvSpPr>
        <p:spPr>
          <a:xfrm>
            <a:off x="8048520" y="5356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Rectangle 13"/>
          <p:cNvSpPr/>
          <p:nvPr/>
        </p:nvSpPr>
        <p:spPr>
          <a:xfrm>
            <a:off x="5292720" y="205272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因为写雕板是为说明雕板的不便，以便进而说明活板“神速”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Rectangle 14"/>
          <p:cNvSpPr/>
          <p:nvPr/>
        </p:nvSpPr>
        <p:spPr>
          <a:xfrm>
            <a:off x="5256360" y="3421080"/>
            <a:ext cx="35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与前文“板印”照应，说明是在“板印”基础上发展的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50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50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50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250"/>
                            </p:stCondLst>
                            <p:childTnLst>
                              <p:par>
                                <p:cTn id="53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Text Box 2"/>
          <p:cNvSpPr/>
          <p:nvPr/>
        </p:nvSpPr>
        <p:spPr>
          <a:xfrm>
            <a:off x="468360" y="692280"/>
            <a:ext cx="442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若止印三二本，未为简易；若印数十百千本，则极为神速。常作二铁板，一板印刷，一板已自布字，此印者才毕，则第二板已具，更互用之，瞬息可就。</a:t>
            </a:r>
            <a:r>
              <a:rPr b="0" lang="zh-CN" sz="2500" spc="-1" strike="noStrike">
                <a:solidFill>
                  <a:srgbClr val="ffff66"/>
                </a:solidFill>
                <a:latin typeface="Arial"/>
                <a:ea typeface="楷体_GB2312"/>
              </a:rPr>
              <a:t>每一字皆有数印，如“之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66"/>
                </a:solidFill>
                <a:latin typeface="Arial"/>
                <a:ea typeface="楷体_GB2312"/>
              </a:rPr>
              <a:t>“</a:t>
            </a:r>
            <a:r>
              <a:rPr b="0" lang="zh-CN" sz="2500" spc="-1" strike="noStrike">
                <a:solidFill>
                  <a:srgbClr val="ffff66"/>
                </a:solidFill>
                <a:latin typeface="Arial"/>
                <a:ea typeface="楷体_GB2312"/>
              </a:rPr>
              <a:t>也”等字，每字有二十余印，以备一板内有重复者。不用，则以纸帖之，每韵为一帖，木格贮之。有奇字素无备者，旋刻之，以草火烧，瞬息可成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Line 3"/>
          <p:cNvSpPr/>
          <p:nvPr/>
        </p:nvSpPr>
        <p:spPr>
          <a:xfrm>
            <a:off x="5076720" y="657360"/>
            <a:ext cx="0" cy="550836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Rectangle 4"/>
          <p:cNvSpPr/>
          <p:nvPr/>
        </p:nvSpPr>
        <p:spPr>
          <a:xfrm>
            <a:off x="5799240" y="836640"/>
            <a:ext cx="204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ffff"/>
                </a:solidFill>
                <a:latin typeface="Arial"/>
              </a:rPr>
              <a:t>4.</a:t>
            </a:r>
            <a:r>
              <a:rPr b="0" lang="zh-CN" sz="2500" spc="-1" strike="noStrike">
                <a:solidFill>
                  <a:srgbClr val="66ffff"/>
                </a:solidFill>
                <a:latin typeface="Arial"/>
              </a:rPr>
              <a:t>怎样用活板印刷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Rectangle 5"/>
          <p:cNvSpPr/>
          <p:nvPr/>
        </p:nvSpPr>
        <p:spPr>
          <a:xfrm>
            <a:off x="5327640" y="2241720"/>
            <a:ext cx="342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ffff"/>
                </a:solidFill>
                <a:latin typeface="Arial"/>
              </a:rPr>
              <a:t>5.</a:t>
            </a:r>
            <a:r>
              <a:rPr b="0" lang="zh-CN" sz="2500" spc="-1" strike="noStrike">
                <a:solidFill>
                  <a:srgbClr val="66ffff"/>
                </a:solidFill>
                <a:latin typeface="Arial"/>
              </a:rPr>
              <a:t>一版中有重复的字怎么办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Rectangle 6"/>
          <p:cNvSpPr/>
          <p:nvPr/>
        </p:nvSpPr>
        <p:spPr>
          <a:xfrm>
            <a:off x="5608800" y="3897360"/>
            <a:ext cx="1474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ffff"/>
                </a:solidFill>
                <a:latin typeface="Arial"/>
              </a:rPr>
              <a:t>6.</a:t>
            </a:r>
            <a:r>
              <a:rPr b="0" lang="zh-CN" sz="2500" spc="-1" strike="noStrike">
                <a:solidFill>
                  <a:srgbClr val="66ffff"/>
                </a:solidFill>
                <a:latin typeface="Arial"/>
              </a:rPr>
              <a:t>如何贮字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Rectangle 7"/>
          <p:cNvSpPr/>
          <p:nvPr/>
        </p:nvSpPr>
        <p:spPr>
          <a:xfrm>
            <a:off x="5799240" y="5013360"/>
            <a:ext cx="204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ffff"/>
                </a:solidFill>
                <a:latin typeface="Arial"/>
              </a:rPr>
              <a:t>7.</a:t>
            </a:r>
            <a:r>
              <a:rPr b="0" lang="zh-CN" sz="2500" spc="-1" strike="noStrike">
                <a:solidFill>
                  <a:srgbClr val="66ffff"/>
                </a:solidFill>
                <a:latin typeface="Arial"/>
              </a:rPr>
              <a:t>有生僻字怎么办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Rectangle 8"/>
          <p:cNvSpPr/>
          <p:nvPr/>
        </p:nvSpPr>
        <p:spPr>
          <a:xfrm>
            <a:off x="5923800" y="54817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旋刻之，以草火烧，瞬息可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Rectangle 9"/>
          <p:cNvSpPr/>
          <p:nvPr/>
        </p:nvSpPr>
        <p:spPr>
          <a:xfrm>
            <a:off x="6858000" y="4473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以纸帖之，每韵为一帖，木格贮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Rectangle 10"/>
          <p:cNvSpPr/>
          <p:nvPr/>
        </p:nvSpPr>
        <p:spPr>
          <a:xfrm>
            <a:off x="5292720" y="306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每一字皆有数印，以备一板内有重复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Rectangle 11"/>
          <p:cNvSpPr/>
          <p:nvPr/>
        </p:nvSpPr>
        <p:spPr>
          <a:xfrm>
            <a:off x="5364000" y="1449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制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备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排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压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印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Text Box 2"/>
          <p:cNvSpPr/>
          <p:nvPr/>
        </p:nvSpPr>
        <p:spPr>
          <a:xfrm>
            <a:off x="4098960" y="2306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Rectangle 3"/>
          <p:cNvSpPr/>
          <p:nvPr/>
        </p:nvSpPr>
        <p:spPr>
          <a:xfrm>
            <a:off x="792000" y="549360"/>
            <a:ext cx="38512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不以木为之者，文理有疏密，沾水则高下不平，兼与药相粘，不可取；不若燔土，用讫再火令药熔，以手拂之，其印自落，殊不沾污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66"/>
                </a:solidFill>
                <a:latin typeface="Arial"/>
                <a:ea typeface="楷体_GB2312"/>
              </a:rPr>
              <a:t>       </a:t>
            </a:r>
            <a:r>
              <a:rPr b="0" lang="zh-CN" sz="2500" spc="-1" strike="noStrike">
                <a:solidFill>
                  <a:srgbClr val="ffff66"/>
                </a:solidFill>
                <a:latin typeface="Arial"/>
                <a:ea typeface="楷体_GB2312"/>
              </a:rPr>
              <a:t>升死，其印为予群从所得，至今</a:t>
            </a:r>
            <a:r>
              <a:rPr b="0" lang="zh-CN" sz="2500" spc="-1" strike="noStrike" u="sng">
                <a:solidFill>
                  <a:srgbClr val="ffff66"/>
                </a:solidFill>
                <a:uFillTx/>
                <a:latin typeface="Arial"/>
                <a:ea typeface="楷体_GB2312"/>
              </a:rPr>
              <a:t>保藏</a:t>
            </a:r>
            <a:r>
              <a:rPr b="0" lang="zh-CN" sz="2500" spc="-1" strike="noStrike">
                <a:solidFill>
                  <a:srgbClr val="ffff66"/>
                </a:solidFill>
                <a:latin typeface="Arial"/>
                <a:ea typeface="楷体_GB2312"/>
              </a:rPr>
              <a:t>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Line 4"/>
          <p:cNvSpPr/>
          <p:nvPr/>
        </p:nvSpPr>
        <p:spPr>
          <a:xfrm>
            <a:off x="5003640" y="549360"/>
            <a:ext cx="0" cy="392436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Rectangle 5"/>
          <p:cNvSpPr/>
          <p:nvPr/>
        </p:nvSpPr>
        <p:spPr>
          <a:xfrm>
            <a:off x="5256360" y="549360"/>
            <a:ext cx="3495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ffff"/>
                </a:solidFill>
                <a:latin typeface="Arial"/>
              </a:rPr>
              <a:t>8.</a:t>
            </a:r>
            <a:r>
              <a:rPr b="0" lang="zh-CN" sz="2500" spc="-1" strike="noStrike">
                <a:solidFill>
                  <a:srgbClr val="66ffff"/>
                </a:solidFill>
                <a:latin typeface="Arial"/>
              </a:rPr>
              <a:t>为什么不用木头做原料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Rectangle 6"/>
          <p:cNvSpPr/>
          <p:nvPr/>
        </p:nvSpPr>
        <p:spPr>
          <a:xfrm>
            <a:off x="5219640" y="2421000"/>
            <a:ext cx="331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ffff"/>
                </a:solidFill>
                <a:latin typeface="Arial"/>
              </a:rPr>
              <a:t>9.“</a:t>
            </a:r>
            <a:r>
              <a:rPr b="0" lang="zh-CN" sz="2500" spc="-1" strike="noStrike">
                <a:solidFill>
                  <a:srgbClr val="66ffff"/>
                </a:solidFill>
                <a:latin typeface="Arial"/>
              </a:rPr>
              <a:t>保藏”一词有何作用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Rectangle 7"/>
          <p:cNvSpPr/>
          <p:nvPr/>
        </p:nvSpPr>
        <p:spPr>
          <a:xfrm>
            <a:off x="5219640" y="36957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一是与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段开头呼应，使文章结构完整，二是珍藏这些印模，说明了人们对这项技术的重视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Rectangle 8"/>
          <p:cNvSpPr/>
          <p:nvPr/>
        </p:nvSpPr>
        <p:spPr>
          <a:xfrm>
            <a:off x="5148360" y="1650240"/>
            <a:ext cx="37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不用木而用胶泥，一是刻起来方便；二是胶泥经火烧后变得坚固，可多次使用；三是拆板方便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 txBox="1"/>
          <p:nvPr/>
        </p:nvSpPr>
        <p:spPr>
          <a:xfrm>
            <a:off x="287280" y="225360"/>
            <a:ext cx="8540640" cy="60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</a:t>
            </a:r>
            <a:r>
              <a:rPr b="0" lang="zh-CN" sz="5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活   板</a:t>
            </a:r>
            <a:br>
              <a:rPr sz="5000"/>
            </a:b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                                沈括</a:t>
            </a:r>
            <a:br>
              <a:rPr sz="3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一、雕板印刷的发展情况。</a:t>
            </a:r>
            <a:br>
              <a:rPr sz="3000"/>
            </a:b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二、活板的发明、制作、作用、功效。</a:t>
            </a:r>
            <a:br>
              <a:rPr sz="3000"/>
            </a:b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                     刻字            常用字</a:t>
            </a:r>
            <a:br>
              <a:rPr sz="3000"/>
            </a:b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                     制字            再用字</a:t>
            </a:r>
            <a:br>
              <a:rPr sz="3000"/>
            </a:b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                     排版            生僻字</a:t>
            </a:r>
            <a:br>
              <a:rPr sz="3000"/>
            </a:b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   说明顺序：  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三、活板的下落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Line 3"/>
          <p:cNvSpPr/>
          <p:nvPr/>
        </p:nvSpPr>
        <p:spPr>
          <a:xfrm>
            <a:off x="2843280" y="339264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Line 4"/>
          <p:cNvSpPr/>
          <p:nvPr/>
        </p:nvSpPr>
        <p:spPr>
          <a:xfrm>
            <a:off x="6264360" y="3357720"/>
            <a:ext cx="0" cy="1188720"/>
          </a:xfrm>
          <a:prstGeom prst="line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Rectangle 5"/>
          <p:cNvSpPr/>
          <p:nvPr/>
        </p:nvSpPr>
        <p:spPr>
          <a:xfrm>
            <a:off x="1908000" y="3248640"/>
            <a:ext cx="4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时间顺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Rectangle 6"/>
          <p:cNvSpPr/>
          <p:nvPr/>
        </p:nvSpPr>
        <p:spPr>
          <a:xfrm>
            <a:off x="2153160" y="3105000"/>
            <a:ext cx="7902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（工作程序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Rectangle 7"/>
          <p:cNvSpPr/>
          <p:nvPr/>
        </p:nvSpPr>
        <p:spPr>
          <a:xfrm>
            <a:off x="6335640" y="3283560"/>
            <a:ext cx="4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逻辑顺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Rectangle 8"/>
          <p:cNvSpPr/>
          <p:nvPr/>
        </p:nvSpPr>
        <p:spPr>
          <a:xfrm>
            <a:off x="4080960" y="4559400"/>
            <a:ext cx="242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时间顺序</a:t>
            </a:r>
            <a:r>
              <a:rPr b="0" lang="en-US" sz="3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+</a:t>
            </a:r>
            <a:r>
              <a:rPr b="0" lang="zh-CN" sz="3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逻辑顺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4" name="Group 9"/>
          <p:cNvGrpSpPr/>
          <p:nvPr/>
        </p:nvGrpSpPr>
        <p:grpSpPr>
          <a:xfrm>
            <a:off x="3959280" y="3573360"/>
            <a:ext cx="755640" cy="825120"/>
            <a:chOff x="3959280" y="3573360"/>
            <a:chExt cx="755640" cy="825120"/>
          </a:xfrm>
        </p:grpSpPr>
        <p:sp>
          <p:nvSpPr>
            <p:cNvPr id="2065" name="Oval 10"/>
            <p:cNvSpPr/>
            <p:nvPr/>
          </p:nvSpPr>
          <p:spPr>
            <a:xfrm>
              <a:off x="3995640" y="3608280"/>
              <a:ext cx="719280" cy="684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Text Box 11"/>
            <p:cNvSpPr/>
            <p:nvPr/>
          </p:nvSpPr>
          <p:spPr>
            <a:xfrm>
              <a:off x="3959280" y="3573360"/>
              <a:ext cx="64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66"/>
                  </a:solidFill>
                  <a:latin typeface="Arial"/>
                  <a:ea typeface="华文行楷"/>
                </a:rPr>
                <a:t>活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2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2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2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2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"/>
                            </p:stCondLst>
                            <p:childTnLst>
                              <p:par>
                                <p:cTn id="71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1" dur="2000" fill="hold"/>
                                        <p:tgtEl>
                                          <p:spTgt spid="20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20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20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20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20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20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1000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1000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1000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58920" y="549000"/>
            <a:ext cx="5184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2500" spc="-1" strike="noStrike">
                <a:solidFill>
                  <a:srgbClr val="ff9900"/>
                </a:solidFill>
                <a:latin typeface="黑体"/>
                <a:ea typeface="黑体"/>
              </a:rPr>
              <a:t>沈括</a:t>
            </a:r>
            <a:r>
              <a:rPr b="0" lang="zh-CN" sz="25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</a:t>
            </a:r>
            <a:r>
              <a:rPr b="0" lang="en-US" sz="25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31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  <a:ea typeface="楷体_GB2312"/>
              </a:rPr>
              <a:t>—</a:t>
            </a:r>
            <a:r>
              <a:rPr b="0" lang="en-US" sz="25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95</a:t>
            </a:r>
            <a:r>
              <a:rPr b="0" lang="zh-CN" sz="25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， 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字存中，钱塘（今浙江杭州）人，</a:t>
            </a:r>
            <a:r>
              <a:rPr b="0" lang="zh-CN" sz="25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北宋时期著名的科学家、政治家和军事家。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天文学方面、物理学方面都有杰出的贡献。晚年，沈括定居</a:t>
            </a:r>
            <a:r>
              <a:rPr b="0" lang="zh-CN" sz="25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润州</a:t>
            </a:r>
            <a:r>
              <a:rPr b="0" lang="en-US" sz="25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(</a:t>
            </a:r>
            <a:r>
              <a:rPr b="0" lang="zh-CN" sz="25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今江苏镇江</a:t>
            </a:r>
            <a:r>
              <a:rPr b="0" lang="en-US" sz="25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)</a:t>
            </a:r>
            <a:r>
              <a:rPr b="0" lang="zh-CN" sz="25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梦溪园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潜心写作，将平生见闻和科学研究记载于</a:t>
            </a:r>
            <a:r>
              <a:rPr b="0" lang="en-US" sz="25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《</a:t>
            </a:r>
            <a:r>
              <a:rPr b="0" lang="zh-CN" sz="25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梦溪笔谈</a:t>
            </a:r>
            <a:r>
              <a:rPr b="0" lang="en-US" sz="25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》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中。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th0004a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5832360" y="836640"/>
            <a:ext cx="2886120" cy="3743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719280" y="5157720"/>
            <a:ext cx="80658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纪念沈括的功绩，人们将小行星</a:t>
            </a: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27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命名为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沈括小行星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 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66"/>
                </a:solidFill>
                <a:latin typeface="Arial"/>
                <a:ea typeface="黑体"/>
              </a:rPr>
              <a:t>课堂练习</a:t>
            </a:r>
            <a:endParaRPr b="0" lang="en-US" sz="35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287280" y="944280"/>
            <a:ext cx="8540640" cy="4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一、阅读课文，填写下表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9" name="Group 4"/>
          <p:cNvGrpSpPr/>
          <p:nvPr/>
        </p:nvGrpSpPr>
        <p:grpSpPr>
          <a:xfrm>
            <a:off x="576360" y="1521000"/>
            <a:ext cx="5506920" cy="4862880"/>
            <a:chOff x="576360" y="1521000"/>
            <a:chExt cx="5506920" cy="4862880"/>
          </a:xfrm>
        </p:grpSpPr>
        <p:sp>
          <p:nvSpPr>
            <p:cNvPr id="2070" name="Text Box 5"/>
            <p:cNvSpPr/>
            <p:nvPr/>
          </p:nvSpPr>
          <p:spPr>
            <a:xfrm>
              <a:off x="576360" y="3537000"/>
              <a:ext cx="43164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印刷的工作程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Text Box 6"/>
            <p:cNvSpPr/>
            <p:nvPr/>
          </p:nvSpPr>
          <p:spPr>
            <a:xfrm>
              <a:off x="1150920" y="31766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制板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Text Box 7"/>
            <p:cNvSpPr/>
            <p:nvPr/>
          </p:nvSpPr>
          <p:spPr>
            <a:xfrm>
              <a:off x="1079280" y="573408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印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Text Box 8"/>
            <p:cNvSpPr/>
            <p:nvPr/>
          </p:nvSpPr>
          <p:spPr>
            <a:xfrm>
              <a:off x="2124000" y="2097000"/>
              <a:ext cx="6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刻字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Text Box 9"/>
            <p:cNvSpPr/>
            <p:nvPr/>
          </p:nvSpPr>
          <p:spPr>
            <a:xfrm>
              <a:off x="2195640" y="4041720"/>
              <a:ext cx="6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排板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5" name="Group 10"/>
            <p:cNvGrpSpPr/>
            <p:nvPr/>
          </p:nvGrpSpPr>
          <p:grpSpPr>
            <a:xfrm>
              <a:off x="2987640" y="1521000"/>
              <a:ext cx="3060720" cy="1695600"/>
              <a:chOff x="2987640" y="1521000"/>
              <a:chExt cx="3060720" cy="1695600"/>
            </a:xfrm>
          </p:grpSpPr>
          <p:sp>
            <p:nvSpPr>
              <p:cNvPr id="2076" name="Text Box 11"/>
              <p:cNvSpPr/>
              <p:nvPr/>
            </p:nvSpPr>
            <p:spPr>
              <a:xfrm>
                <a:off x="2989440" y="1521000"/>
                <a:ext cx="21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宋体"/>
                  </a:rPr>
                  <a:t>1.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活字原料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Text Box 12"/>
              <p:cNvSpPr/>
              <p:nvPr/>
            </p:nvSpPr>
            <p:spPr>
              <a:xfrm>
                <a:off x="2987640" y="1989000"/>
                <a:ext cx="215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宋体"/>
                  </a:rPr>
                  <a:t>2.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活字形状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Text Box 13"/>
              <p:cNvSpPr/>
              <p:nvPr/>
            </p:nvSpPr>
            <p:spPr>
              <a:xfrm>
                <a:off x="2987640" y="2386080"/>
                <a:ext cx="306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宋体"/>
                  </a:rPr>
                  <a:t>3.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与雕板不同之处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Text Box 14"/>
              <p:cNvSpPr/>
              <p:nvPr/>
            </p:nvSpPr>
            <p:spPr>
              <a:xfrm>
                <a:off x="2987640" y="2817720"/>
                <a:ext cx="215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宋体"/>
                  </a:rPr>
                  <a:t>4.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活字成形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0" name="Group 15"/>
            <p:cNvGrpSpPr/>
            <p:nvPr/>
          </p:nvGrpSpPr>
          <p:grpSpPr>
            <a:xfrm>
              <a:off x="2987640" y="3284640"/>
              <a:ext cx="3095640" cy="2127240"/>
              <a:chOff x="2987640" y="3284640"/>
              <a:chExt cx="3095640" cy="2127240"/>
            </a:xfrm>
          </p:grpSpPr>
          <p:sp>
            <p:nvSpPr>
              <p:cNvPr id="2081" name="Text Box 16"/>
              <p:cNvSpPr/>
              <p:nvPr/>
            </p:nvSpPr>
            <p:spPr>
              <a:xfrm>
                <a:off x="2987640" y="3284640"/>
                <a:ext cx="21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宋体"/>
                  </a:rPr>
                  <a:t>1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2" name="Text Box 17"/>
              <p:cNvSpPr/>
              <p:nvPr/>
            </p:nvSpPr>
            <p:spPr>
              <a:xfrm>
                <a:off x="3022560" y="3752640"/>
                <a:ext cx="21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宋体"/>
                  </a:rPr>
                  <a:t>2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3" name="Text Box 18"/>
              <p:cNvSpPr/>
              <p:nvPr/>
            </p:nvSpPr>
            <p:spPr>
              <a:xfrm>
                <a:off x="3022560" y="4149360"/>
                <a:ext cx="306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宋体"/>
                  </a:rPr>
                  <a:t>3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4" name="Text Box 19"/>
              <p:cNvSpPr/>
              <p:nvPr/>
            </p:nvSpPr>
            <p:spPr>
              <a:xfrm>
                <a:off x="3022560" y="4581360"/>
                <a:ext cx="21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宋体"/>
                  </a:rPr>
                  <a:t>4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Text Box 20"/>
              <p:cNvSpPr/>
              <p:nvPr/>
            </p:nvSpPr>
            <p:spPr>
              <a:xfrm>
                <a:off x="3058920" y="5013000"/>
                <a:ext cx="215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宋体"/>
                  </a:rPr>
                  <a:t>5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6" name="Group 21"/>
            <p:cNvGrpSpPr/>
            <p:nvPr/>
          </p:nvGrpSpPr>
          <p:grpSpPr>
            <a:xfrm>
              <a:off x="2232000" y="5516640"/>
              <a:ext cx="2193840" cy="867240"/>
              <a:chOff x="2232000" y="5516640"/>
              <a:chExt cx="2193840" cy="867240"/>
            </a:xfrm>
          </p:grpSpPr>
          <p:sp>
            <p:nvSpPr>
              <p:cNvPr id="2087" name="Text Box 22"/>
              <p:cNvSpPr/>
              <p:nvPr/>
            </p:nvSpPr>
            <p:spPr>
              <a:xfrm>
                <a:off x="2232000" y="5516640"/>
                <a:ext cx="21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宋体"/>
                  </a:rPr>
                  <a:t>1.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宋体"/>
                  </a:rPr>
                  <a:t>一板单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8" name="Text Box 23"/>
              <p:cNvSpPr/>
              <p:nvPr/>
            </p:nvSpPr>
            <p:spPr>
              <a:xfrm>
                <a:off x="2266920" y="5985000"/>
                <a:ext cx="21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宋体"/>
                  </a:rPr>
                  <a:t>2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9" name="AutoShape 24"/>
            <p:cNvSpPr/>
            <p:nvPr/>
          </p:nvSpPr>
          <p:spPr>
            <a:xfrm>
              <a:off x="1079280" y="3429000"/>
              <a:ext cx="144720" cy="248436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64440 h 2484360"/>
                <a:gd name="textAreaBottom" fmla="*/ 2419920 h 24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AutoShape 25"/>
            <p:cNvSpPr/>
            <p:nvPr/>
          </p:nvSpPr>
          <p:spPr>
            <a:xfrm>
              <a:off x="1979640" y="2421000"/>
              <a:ext cx="144360" cy="1908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9680 h 1908000"/>
                <a:gd name="textAreaBottom" fmla="*/ 1858320 h 19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AutoShape 26"/>
            <p:cNvSpPr/>
            <p:nvPr/>
          </p:nvSpPr>
          <p:spPr>
            <a:xfrm>
              <a:off x="2771640" y="1844640"/>
              <a:ext cx="144720" cy="115272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29880 h 1152720"/>
                <a:gd name="textAreaBottom" fmla="*/ 112284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AutoShape 27"/>
            <p:cNvSpPr/>
            <p:nvPr/>
          </p:nvSpPr>
          <p:spPr>
            <a:xfrm>
              <a:off x="2771640" y="3537000"/>
              <a:ext cx="142920" cy="169236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43920 h 1692360"/>
                <a:gd name="textAreaBottom" fmla="*/ 1648440 h 16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AutoShape 28"/>
            <p:cNvSpPr/>
            <p:nvPr/>
          </p:nvSpPr>
          <p:spPr>
            <a:xfrm>
              <a:off x="2050920" y="5661000"/>
              <a:ext cx="108000" cy="57636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4" name="Rectangle 29"/>
          <p:cNvSpPr/>
          <p:nvPr/>
        </p:nvSpPr>
        <p:spPr>
          <a:xfrm>
            <a:off x="4680000" y="152028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胶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Rectangle 30"/>
          <p:cNvSpPr/>
          <p:nvPr/>
        </p:nvSpPr>
        <p:spPr>
          <a:xfrm>
            <a:off x="4680000" y="198828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薄如钱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Rectangle 31"/>
          <p:cNvSpPr/>
          <p:nvPr/>
        </p:nvSpPr>
        <p:spPr>
          <a:xfrm>
            <a:off x="5256360" y="2420280"/>
            <a:ext cx="35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每字为一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Rectangle 32"/>
          <p:cNvSpPr/>
          <p:nvPr/>
        </p:nvSpPr>
        <p:spPr>
          <a:xfrm>
            <a:off x="4500720" y="2851920"/>
            <a:ext cx="35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火烧令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Rectangle 33"/>
          <p:cNvSpPr/>
          <p:nvPr/>
        </p:nvSpPr>
        <p:spPr>
          <a:xfrm>
            <a:off x="3311640" y="3320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先设一铁板，以松脂、蜡和纸灰之类冒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Rectangle 34"/>
          <p:cNvSpPr/>
          <p:nvPr/>
        </p:nvSpPr>
        <p:spPr>
          <a:xfrm>
            <a:off x="3348000" y="418392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密布字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Rectangle 35"/>
          <p:cNvSpPr/>
          <p:nvPr/>
        </p:nvSpPr>
        <p:spPr>
          <a:xfrm>
            <a:off x="3348000" y="46155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持就火炀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Rectangle 36"/>
          <p:cNvSpPr/>
          <p:nvPr/>
        </p:nvSpPr>
        <p:spPr>
          <a:xfrm>
            <a:off x="3384720" y="5049000"/>
            <a:ext cx="35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以一平板按其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Rectangle 37"/>
          <p:cNvSpPr/>
          <p:nvPr/>
        </p:nvSpPr>
        <p:spPr>
          <a:xfrm>
            <a:off x="3348000" y="375228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以铁范置铁板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Rectangle 38"/>
          <p:cNvSpPr/>
          <p:nvPr/>
        </p:nvSpPr>
        <p:spPr>
          <a:xfrm>
            <a:off x="2592360" y="602064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一板已自布字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更互用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66"/>
                </a:solidFill>
                <a:latin typeface="Arial"/>
                <a:ea typeface="黑体"/>
              </a:rPr>
              <a:t>课堂练习</a:t>
            </a:r>
            <a:endParaRPr b="0" lang="en-US" sz="35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05" name=""/>
          <p:cNvSpPr txBox="1"/>
          <p:nvPr/>
        </p:nvSpPr>
        <p:spPr>
          <a:xfrm>
            <a:off x="250920" y="1052640"/>
            <a:ext cx="8540640" cy="3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二、解释下列各组中加点的字：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6" name="Group 4"/>
          <p:cNvGrpSpPr/>
          <p:nvPr/>
        </p:nvGrpSpPr>
        <p:grpSpPr>
          <a:xfrm>
            <a:off x="539640" y="1665360"/>
            <a:ext cx="6695640" cy="4366800"/>
            <a:chOff x="539640" y="1665360"/>
            <a:chExt cx="6695640" cy="4366800"/>
          </a:xfrm>
        </p:grpSpPr>
        <p:grpSp>
          <p:nvGrpSpPr>
            <p:cNvPr id="2107" name="Group 5"/>
            <p:cNvGrpSpPr/>
            <p:nvPr/>
          </p:nvGrpSpPr>
          <p:grpSpPr>
            <a:xfrm>
              <a:off x="539640" y="1665360"/>
              <a:ext cx="2592360" cy="1633320"/>
              <a:chOff x="539640" y="1665360"/>
              <a:chExt cx="2592360" cy="1633320"/>
            </a:xfrm>
          </p:grpSpPr>
          <p:sp>
            <p:nvSpPr>
              <p:cNvPr id="2108" name="Text Box 6"/>
              <p:cNvSpPr/>
              <p:nvPr/>
            </p:nvSpPr>
            <p:spPr>
              <a:xfrm>
                <a:off x="576000" y="1665360"/>
                <a:ext cx="2556000" cy="16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五代时始</a:t>
                </a:r>
                <a:r>
                  <a:rPr b="0" lang="zh-CN" sz="2500" spc="-1" strike="noStrike">
                    <a:solidFill>
                      <a:srgbClr val="ff0066"/>
                    </a:solidFill>
                    <a:latin typeface="Arial"/>
                  </a:rPr>
                  <a:t>印</a:t>
                </a: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五经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其</a:t>
                </a:r>
                <a:r>
                  <a:rPr b="0" lang="zh-CN" sz="2500" spc="-1" strike="noStrike">
                    <a:solidFill>
                      <a:srgbClr val="ff0066"/>
                    </a:solidFill>
                    <a:latin typeface="Arial"/>
                  </a:rPr>
                  <a:t>印</a:t>
                </a: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自落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密布字</a:t>
                </a:r>
                <a:r>
                  <a:rPr b="0" lang="zh-CN" sz="2500" spc="-1" strike="noStrike">
                    <a:solidFill>
                      <a:srgbClr val="ff0066"/>
                    </a:solidFill>
                    <a:latin typeface="Arial"/>
                  </a:rPr>
                  <a:t>印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9" name="AutoShape 7"/>
              <p:cNvSpPr/>
              <p:nvPr/>
            </p:nvSpPr>
            <p:spPr>
              <a:xfrm>
                <a:off x="539640" y="1917720"/>
                <a:ext cx="108000" cy="1223280"/>
              </a:xfrm>
              <a:custGeom>
                <a:avLst/>
                <a:gdLst>
                  <a:gd name="textAreaLeft" fmla="*/ 69120 w 108000"/>
                  <a:gd name="textAreaRight" fmla="*/ 108360 w 108000"/>
                  <a:gd name="textAreaTop" fmla="*/ 31680 h 1223280"/>
                  <a:gd name="textAreaBottom" fmla="*/ 1191600 h 12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10" name="Group 8"/>
            <p:cNvGrpSpPr/>
            <p:nvPr/>
          </p:nvGrpSpPr>
          <p:grpSpPr>
            <a:xfrm>
              <a:off x="4571640" y="1701720"/>
              <a:ext cx="2592360" cy="2212560"/>
              <a:chOff x="4571640" y="1701720"/>
              <a:chExt cx="2592360" cy="2212560"/>
            </a:xfrm>
          </p:grpSpPr>
          <p:sp>
            <p:nvSpPr>
              <p:cNvPr id="2111" name="Text Box 9"/>
              <p:cNvSpPr/>
              <p:nvPr/>
            </p:nvSpPr>
            <p:spPr>
              <a:xfrm>
                <a:off x="4608000" y="1701720"/>
                <a:ext cx="2556000" cy="221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唐人尚未盛</a:t>
                </a:r>
                <a:r>
                  <a:rPr b="0" lang="zh-CN" sz="2500" spc="-1" strike="noStrike">
                    <a:solidFill>
                      <a:srgbClr val="ff0066"/>
                    </a:solidFill>
                    <a:latin typeface="Arial"/>
                  </a:rPr>
                  <a:t>为</a:t>
                </a: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之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满铁范</a:t>
                </a:r>
                <a:r>
                  <a:rPr b="0" lang="zh-CN" sz="2500" spc="-1" strike="noStrike">
                    <a:solidFill>
                      <a:srgbClr val="ff0066"/>
                    </a:solidFill>
                    <a:latin typeface="Arial"/>
                  </a:rPr>
                  <a:t>为</a:t>
                </a: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一板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未</a:t>
                </a:r>
                <a:r>
                  <a:rPr b="0" lang="zh-CN" sz="2500" spc="-1" strike="noStrike">
                    <a:solidFill>
                      <a:srgbClr val="ff0066"/>
                    </a:solidFill>
                    <a:latin typeface="Arial"/>
                  </a:rPr>
                  <a:t>为</a:t>
                </a: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简易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极</a:t>
                </a:r>
                <a:r>
                  <a:rPr b="0" lang="zh-CN" sz="2500" spc="-1" strike="noStrike">
                    <a:solidFill>
                      <a:srgbClr val="ff0066"/>
                    </a:solidFill>
                    <a:latin typeface="Arial"/>
                  </a:rPr>
                  <a:t>为</a:t>
                </a: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神速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2" name="AutoShape 10"/>
              <p:cNvSpPr/>
              <p:nvPr/>
            </p:nvSpPr>
            <p:spPr>
              <a:xfrm>
                <a:off x="4571640" y="1953720"/>
                <a:ext cx="108000" cy="1726920"/>
              </a:xfrm>
              <a:custGeom>
                <a:avLst/>
                <a:gdLst>
                  <a:gd name="textAreaLeft" fmla="*/ 69120 w 108000"/>
                  <a:gd name="textAreaRight" fmla="*/ 108360 w 108000"/>
                  <a:gd name="textAreaTop" fmla="*/ 45000 h 1726920"/>
                  <a:gd name="textAreaBottom" fmla="*/ 1681920 h 172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13" name="Group 11"/>
            <p:cNvGrpSpPr/>
            <p:nvPr/>
          </p:nvGrpSpPr>
          <p:grpSpPr>
            <a:xfrm>
              <a:off x="539640" y="3609720"/>
              <a:ext cx="2628720" cy="1054080"/>
              <a:chOff x="539640" y="3609720"/>
              <a:chExt cx="2628720" cy="1054080"/>
            </a:xfrm>
          </p:grpSpPr>
          <p:sp>
            <p:nvSpPr>
              <p:cNvPr id="2114" name="Text Box 12"/>
              <p:cNvSpPr/>
              <p:nvPr/>
            </p:nvSpPr>
            <p:spPr>
              <a:xfrm>
                <a:off x="612720" y="3609720"/>
                <a:ext cx="2555640" cy="105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ff0066"/>
                    </a:solidFill>
                    <a:latin typeface="Arial"/>
                  </a:rPr>
                  <a:t>火</a:t>
                </a: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烧令坚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再</a:t>
                </a:r>
                <a:r>
                  <a:rPr b="0" lang="zh-CN" sz="2500" spc="-1" strike="noStrike">
                    <a:solidFill>
                      <a:srgbClr val="ff0066"/>
                    </a:solidFill>
                    <a:latin typeface="Arial"/>
                  </a:rPr>
                  <a:t>火</a:t>
                </a: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令药熔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5" name="AutoShape 13"/>
              <p:cNvSpPr/>
              <p:nvPr/>
            </p:nvSpPr>
            <p:spPr>
              <a:xfrm>
                <a:off x="539640" y="3861720"/>
                <a:ext cx="108000" cy="684000"/>
              </a:xfrm>
              <a:custGeom>
                <a:avLst/>
                <a:gdLst>
                  <a:gd name="textAreaLeft" fmla="*/ 69120 w 108000"/>
                  <a:gd name="textAreaRight" fmla="*/ 108360 w 108000"/>
                  <a:gd name="textAreaTop" fmla="*/ 17640 h 684000"/>
                  <a:gd name="textAreaBottom" fmla="*/ 666360 h 6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16" name="Group 14"/>
            <p:cNvGrpSpPr/>
            <p:nvPr/>
          </p:nvGrpSpPr>
          <p:grpSpPr>
            <a:xfrm>
              <a:off x="539640" y="4978080"/>
              <a:ext cx="2628720" cy="1054080"/>
              <a:chOff x="539640" y="4978080"/>
              <a:chExt cx="2628720" cy="1054080"/>
            </a:xfrm>
          </p:grpSpPr>
          <p:sp>
            <p:nvSpPr>
              <p:cNvPr id="2117" name="Text Box 15"/>
              <p:cNvSpPr/>
              <p:nvPr/>
            </p:nvSpPr>
            <p:spPr>
              <a:xfrm>
                <a:off x="612720" y="4978080"/>
                <a:ext cx="2555640" cy="105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不</a:t>
                </a:r>
                <a:r>
                  <a:rPr b="0" lang="zh-CN" sz="2500" spc="-1" strike="noStrike">
                    <a:solidFill>
                      <a:srgbClr val="ff0066"/>
                    </a:solidFill>
                    <a:latin typeface="Arial"/>
                  </a:rPr>
                  <a:t>以</a:t>
                </a: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木为之者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ff0066"/>
                    </a:solidFill>
                    <a:latin typeface="Arial"/>
                  </a:rPr>
                  <a:t>以</a:t>
                </a: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备一板内</a:t>
                </a:r>
                <a:r>
                  <a:rPr b="0" lang="en-US" sz="2500" spc="-1" strike="noStrike">
                    <a:solidFill>
                      <a:srgbClr val="ffffff"/>
                    </a:solidFill>
                    <a:latin typeface="Arial"/>
                  </a:rPr>
                  <a:t>……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8" name="AutoShape 16"/>
              <p:cNvSpPr/>
              <p:nvPr/>
            </p:nvSpPr>
            <p:spPr>
              <a:xfrm>
                <a:off x="539640" y="5230080"/>
                <a:ext cx="108000" cy="684000"/>
              </a:xfrm>
              <a:custGeom>
                <a:avLst/>
                <a:gdLst>
                  <a:gd name="textAreaLeft" fmla="*/ 69120 w 108000"/>
                  <a:gd name="textAreaRight" fmla="*/ 108360 w 108000"/>
                  <a:gd name="textAreaTop" fmla="*/ 17640 h 684000"/>
                  <a:gd name="textAreaBottom" fmla="*/ 666360 h 6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19" name="Group 17"/>
            <p:cNvGrpSpPr/>
            <p:nvPr/>
          </p:nvGrpSpPr>
          <p:grpSpPr>
            <a:xfrm>
              <a:off x="4606560" y="4329000"/>
              <a:ext cx="2628720" cy="1054080"/>
              <a:chOff x="4606560" y="4329000"/>
              <a:chExt cx="2628720" cy="1054080"/>
            </a:xfrm>
          </p:grpSpPr>
          <p:sp>
            <p:nvSpPr>
              <p:cNvPr id="2120" name="Text Box 18"/>
              <p:cNvSpPr/>
              <p:nvPr/>
            </p:nvSpPr>
            <p:spPr>
              <a:xfrm>
                <a:off x="4679640" y="4329000"/>
                <a:ext cx="2555640" cy="105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瞬息可</a:t>
                </a:r>
                <a:r>
                  <a:rPr b="0" lang="zh-CN" sz="2500" spc="-1" strike="noStrike">
                    <a:solidFill>
                      <a:srgbClr val="ff0066"/>
                    </a:solidFill>
                    <a:latin typeface="Arial"/>
                  </a:rPr>
                  <a:t>就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持</a:t>
                </a:r>
                <a:r>
                  <a:rPr b="0" lang="zh-CN" sz="2500" spc="-1" strike="noStrike">
                    <a:solidFill>
                      <a:srgbClr val="ff0066"/>
                    </a:solidFill>
                    <a:latin typeface="Arial"/>
                  </a:rPr>
                  <a:t>就</a:t>
                </a:r>
                <a:r>
                  <a:rPr b="0" lang="zh-CN" sz="2500" spc="-1" strike="noStrike">
                    <a:solidFill>
                      <a:srgbClr val="ffffff"/>
                    </a:solidFill>
                    <a:latin typeface="Arial"/>
                  </a:rPr>
                  <a:t>火炀之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1" name="AutoShape 19"/>
              <p:cNvSpPr/>
              <p:nvPr/>
            </p:nvSpPr>
            <p:spPr>
              <a:xfrm>
                <a:off x="4606560" y="4581000"/>
                <a:ext cx="108000" cy="683640"/>
              </a:xfrm>
              <a:custGeom>
                <a:avLst/>
                <a:gdLst>
                  <a:gd name="textAreaLeft" fmla="*/ 69120 w 108000"/>
                  <a:gd name="textAreaRight" fmla="*/ 108360 w 108000"/>
                  <a:gd name="textAreaTop" fmla="*/ 17640 h 683640"/>
                  <a:gd name="textAreaBottom" fmla="*/ 666000 h 68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22" name="Rectangle 20"/>
          <p:cNvSpPr/>
          <p:nvPr/>
        </p:nvSpPr>
        <p:spPr>
          <a:xfrm>
            <a:off x="3095640" y="169920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印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Rectangle 21"/>
          <p:cNvSpPr/>
          <p:nvPr/>
        </p:nvSpPr>
        <p:spPr>
          <a:xfrm>
            <a:off x="3095640" y="224064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字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Rectangle 22"/>
          <p:cNvSpPr/>
          <p:nvPr/>
        </p:nvSpPr>
        <p:spPr>
          <a:xfrm>
            <a:off x="3095640" y="281520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字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Rectangle 23"/>
          <p:cNvSpPr/>
          <p:nvPr/>
        </p:nvSpPr>
        <p:spPr>
          <a:xfrm>
            <a:off x="2664000" y="364392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用火，名用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Rectangle 24"/>
          <p:cNvSpPr/>
          <p:nvPr/>
        </p:nvSpPr>
        <p:spPr>
          <a:xfrm>
            <a:off x="2664000" y="422028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火烤，名用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Rectangle 25"/>
          <p:cNvSpPr/>
          <p:nvPr/>
        </p:nvSpPr>
        <p:spPr>
          <a:xfrm>
            <a:off x="3095640" y="504900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Rectangle 26"/>
          <p:cNvSpPr/>
          <p:nvPr/>
        </p:nvSpPr>
        <p:spPr>
          <a:xfrm>
            <a:off x="3095640" y="562356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用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Rectangle 27"/>
          <p:cNvSpPr/>
          <p:nvPr/>
        </p:nvSpPr>
        <p:spPr>
          <a:xfrm>
            <a:off x="7020000" y="177228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Rectangle 28"/>
          <p:cNvSpPr/>
          <p:nvPr/>
        </p:nvSpPr>
        <p:spPr>
          <a:xfrm>
            <a:off x="7020000" y="231192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成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Rectangle 29"/>
          <p:cNvSpPr/>
          <p:nvPr/>
        </p:nvSpPr>
        <p:spPr>
          <a:xfrm>
            <a:off x="7020000" y="288828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算得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Rectangle 30"/>
          <p:cNvSpPr/>
          <p:nvPr/>
        </p:nvSpPr>
        <p:spPr>
          <a:xfrm>
            <a:off x="7020000" y="346464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算得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Rectangle 31"/>
          <p:cNvSpPr/>
          <p:nvPr/>
        </p:nvSpPr>
        <p:spPr>
          <a:xfrm>
            <a:off x="7020000" y="432828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完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Rectangle 32"/>
          <p:cNvSpPr/>
          <p:nvPr/>
        </p:nvSpPr>
        <p:spPr>
          <a:xfrm>
            <a:off x="6985080" y="486792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靠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3000"/>
                            </p:stCondLst>
                            <p:childTnLst>
                              <p:par>
                                <p:cTn id="83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500"/>
                            </p:stCondLst>
                            <p:childTnLst>
                              <p:par>
                                <p:cTn id="84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  <a:ea typeface="华文行楷"/>
              </a:rPr>
              <a:t>课外延伸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课外查阅资料，了解印刷技术的发展历史、现代印刷技术的类型、活字印刷术在印刷史上的重要意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写成一个微型调查报告，字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左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9" dur="500"/>
                                        <p:tgtEl>
                                          <p:spTgt spid="2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0" dur="500"/>
                                        <p:tgtEl>
                                          <p:spTgt spid="2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500"/>
                                        <p:tgtEl>
                                          <p:spTgt spid="2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5" dur="500"/>
                                        <p:tgtEl>
                                          <p:spTgt spid="2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6" dur="500"/>
                                        <p:tgtEl>
                                          <p:spTgt spid="2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500"/>
                                        <p:tgtEl>
                                          <p:spTgt spid="2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68360" y="549360"/>
            <a:ext cx="5256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en-US" sz="2500" spc="-1" strike="noStrike">
                <a:solidFill>
                  <a:srgbClr val="ff9900"/>
                </a:solidFill>
                <a:latin typeface="黑体"/>
                <a:ea typeface="黑体"/>
              </a:rPr>
              <a:t>《</a:t>
            </a:r>
            <a:r>
              <a:rPr b="0" lang="zh-CN" sz="2500" spc="-1" strike="noStrike">
                <a:solidFill>
                  <a:srgbClr val="ff9900"/>
                </a:solidFill>
                <a:latin typeface="黑体"/>
                <a:ea typeface="黑体"/>
              </a:rPr>
              <a:t>梦溪笔谈</a:t>
            </a:r>
            <a:r>
              <a:rPr b="0" lang="en-US" sz="2500" spc="-1" strike="noStrike">
                <a:solidFill>
                  <a:srgbClr val="ff9900"/>
                </a:solidFill>
                <a:latin typeface="黑体"/>
                <a:ea typeface="黑体"/>
              </a:rPr>
              <a:t>》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一部</a:t>
            </a:r>
            <a:r>
              <a:rPr b="0" lang="zh-CN" sz="25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笔记体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著作，现存</a:t>
            </a: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6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卷，内容涉及天文学、数学、地理、地质、物理、生物、医学和药学、军事、文学、史学、考古及音乐等学科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梦溪笔谈</a:t>
            </a: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</a:t>
            </a:r>
            <a:r>
              <a:rPr b="0" lang="zh-CN" sz="25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国科学技术史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上的一部</a:t>
            </a:r>
            <a:r>
              <a:rPr b="0" lang="zh-CN" sz="25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百科全书式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重要文献。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   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95280" y="4545000"/>
            <a:ext cx="8209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著名科学家李约瑟称誉沉括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国整部科学史中最卓越的人物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赞许</a:t>
            </a: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梦溪笔谈</a:t>
            </a: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</a:t>
            </a:r>
            <a:r>
              <a:rPr b="0" lang="zh-CN" sz="25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国科学史的里程碑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5759280" y="441360"/>
            <a:ext cx="2779920" cy="3852000"/>
            <a:chOff x="5759280" y="441360"/>
            <a:chExt cx="2779920" cy="3852000"/>
          </a:xfrm>
        </p:grpSpPr>
        <p:pic>
          <p:nvPicPr>
            <p:cNvPr id="91" name="Picture 5" descr=" 梦溪笔谈 "/>
            <p:cNvPicPr/>
            <p:nvPr/>
          </p:nvPicPr>
          <p:blipFill>
            <a:blip r:embed="rId1">
              <a:lum contrast="40000"/>
            </a:blip>
            <a:stretch/>
          </p:blipFill>
          <p:spPr>
            <a:xfrm>
              <a:off x="5759280" y="441360"/>
              <a:ext cx="277992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6"/>
            <p:cNvSpPr/>
            <p:nvPr/>
          </p:nvSpPr>
          <p:spPr>
            <a:xfrm>
              <a:off x="5759280" y="3971160"/>
              <a:ext cx="2700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66"/>
                  </a:solidFill>
                  <a:latin typeface="Arial"/>
                </a:rPr>
                <a:t>现代</a:t>
              </a:r>
              <a:r>
                <a:rPr b="0" lang="en-US" sz="1500" spc="-1" strike="noStrike">
                  <a:solidFill>
                    <a:srgbClr val="ffff66"/>
                  </a:solidFill>
                  <a:latin typeface="Arial"/>
                </a:rPr>
                <a:t>《</a:t>
              </a:r>
              <a:r>
                <a:rPr b="0" lang="zh-CN" sz="1500" spc="-1" strike="noStrike">
                  <a:solidFill>
                    <a:srgbClr val="ffff66"/>
                  </a:solidFill>
                  <a:latin typeface="Arial"/>
                </a:rPr>
                <a:t>梦溪笔谈</a:t>
              </a:r>
              <a:r>
                <a:rPr b="0" lang="en-US" sz="1500" spc="-1" strike="noStrike">
                  <a:solidFill>
                    <a:srgbClr val="ffff66"/>
                  </a:solidFill>
                  <a:latin typeface="Arial"/>
                </a:rPr>
                <a:t>》</a:t>
              </a:r>
              <a:r>
                <a:rPr b="0" lang="zh-CN" sz="1500" spc="-1" strike="noStrike">
                  <a:solidFill>
                    <a:srgbClr val="ffff66"/>
                  </a:solidFill>
                  <a:latin typeface="Arial"/>
                </a:rPr>
                <a:t>图书封面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4400280"/>
            <a:ext cx="268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毕升像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4" name="Picture 3" descr="rw-bsx1"/>
          <p:cNvPicPr/>
          <p:nvPr/>
        </p:nvPicPr>
        <p:blipFill>
          <a:blip r:embed="rId1"/>
          <a:stretch/>
        </p:blipFill>
        <p:spPr>
          <a:xfrm>
            <a:off x="431640" y="836640"/>
            <a:ext cx="2719440" cy="342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bs-bsjng"/>
          <p:cNvPicPr/>
          <p:nvPr/>
        </p:nvPicPr>
        <p:blipFill>
          <a:blip r:embed="rId2"/>
          <a:stretch/>
        </p:blipFill>
        <p:spPr>
          <a:xfrm>
            <a:off x="3564000" y="2492280"/>
            <a:ext cx="5237280" cy="3562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564000" y="1089000"/>
            <a:ext cx="50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66"/>
                </a:solidFill>
                <a:latin typeface="Arial"/>
              </a:rPr>
              <a:t>毕升纪念馆</a:t>
            </a:r>
            <a:r>
              <a:rPr b="0" lang="en-US" sz="3500" spc="-1" strike="noStrike">
                <a:solidFill>
                  <a:srgbClr val="ffff66"/>
                </a:solidFill>
                <a:latin typeface="宋体"/>
              </a:rPr>
              <a:t>·</a:t>
            </a:r>
            <a:r>
              <a:rPr b="0" lang="zh-CN" sz="3500" spc="-1" strike="noStrike">
                <a:solidFill>
                  <a:srgbClr val="ffff66"/>
                </a:solidFill>
                <a:latin typeface="Arial"/>
              </a:rPr>
              <a:t>湖北英山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阅读全文，注音：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336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薄（        ）如钱唇                 蜡和（        ）纸灰之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持就火炀（        ）之             则字平如砥（        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更（        ）互用之                 以纸帖（        ）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木格贮（        ）之                 不若燔（        ）土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用讫（        ）再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……            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为予群从（        ）所得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280520" y="1881360"/>
            <a:ext cx="8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宋体"/>
              </a:rPr>
              <a:t>bá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876640" y="1881360"/>
            <a:ext cx="88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宋体"/>
              </a:rPr>
              <a:t>hu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211480" y="2744640"/>
            <a:ext cx="106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宋体"/>
              </a:rPr>
              <a:t>yán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973560" y="2744640"/>
            <a:ext cx="51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宋体"/>
              </a:rPr>
              <a:t>dǐ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181520" y="3608280"/>
            <a:ext cx="110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宋体"/>
              </a:rPr>
              <a:t>ɡēn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6326280" y="3645000"/>
            <a:ext cx="63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宋体"/>
              </a:rPr>
              <a:t>ti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977480" y="4508640"/>
            <a:ext cx="83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宋体"/>
              </a:rPr>
              <a:t>zh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6297840" y="4508640"/>
            <a:ext cx="76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宋体"/>
              </a:rPr>
              <a:t>fá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825560" y="5373720"/>
            <a:ext cx="51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宋体"/>
              </a:rPr>
              <a:t>qì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420960" y="5337000"/>
            <a:ext cx="106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宋体"/>
              </a:rPr>
              <a:t>cón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"/>
                            </p:stCondLst>
                            <p:childTnLst>
                              <p:par>
                                <p:cTn id="7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1"/>
                            </p:stCondLst>
                            <p:childTnLst>
                              <p:par>
                                <p:cTn id="7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1"/>
                            </p:stCondLst>
                            <p:childTnLst>
                              <p:par>
                                <p:cTn id="8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1"/>
                            </p:stCondLst>
                            <p:childTnLst>
                              <p:par>
                                <p:cTn id="9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23640" y="1700280"/>
            <a:ext cx="82436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板印书籍，唐人</a:t>
            </a:r>
            <a:r>
              <a:rPr b="0" lang="zh-CN" sz="3000" spc="-1" strike="noStrike">
                <a:solidFill>
                  <a:srgbClr val="66ffff"/>
                </a:solidFill>
                <a:latin typeface="Arial"/>
              </a:rPr>
              <a:t>尚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未</a:t>
            </a:r>
            <a:r>
              <a:rPr b="0" lang="zh-CN" sz="3000" spc="-1" strike="noStrike">
                <a:solidFill>
                  <a:srgbClr val="66ffff"/>
                </a:solidFill>
                <a:latin typeface="Arial"/>
              </a:rPr>
              <a:t>盛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为之。五代时始印</a:t>
            </a:r>
            <a:r>
              <a:rPr b="0" lang="zh-CN" sz="3000" spc="-1" strike="noStrike">
                <a:solidFill>
                  <a:srgbClr val="66ffff"/>
                </a:solidFill>
                <a:latin typeface="Arial"/>
              </a:rPr>
              <a:t>五经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，</a:t>
            </a:r>
            <a:r>
              <a:rPr b="0" lang="zh-CN" sz="3000" spc="-1" strike="noStrike">
                <a:solidFill>
                  <a:srgbClr val="66ffff"/>
                </a:solidFill>
                <a:latin typeface="Arial"/>
              </a:rPr>
              <a:t>已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后典籍</a:t>
            </a:r>
            <a:r>
              <a:rPr b="0" lang="zh-CN" sz="3000" spc="-1" strike="noStrike">
                <a:solidFill>
                  <a:srgbClr val="66ffff"/>
                </a:solidFill>
                <a:latin typeface="Arial"/>
              </a:rPr>
              <a:t>皆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为板本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庆历中，有布衣毕升，又</a:t>
            </a:r>
            <a:r>
              <a:rPr b="0" lang="zh-CN" sz="3000" spc="-1" strike="noStrike">
                <a:solidFill>
                  <a:srgbClr val="66ffff"/>
                </a:solidFill>
                <a:latin typeface="Arial"/>
              </a:rPr>
              <a:t>为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活板。其法：用胶泥刻字，薄如钱唇，每字为一印，火烧</a:t>
            </a:r>
            <a:r>
              <a:rPr b="0" lang="zh-CN" sz="3000" spc="-1" strike="noStrike">
                <a:solidFill>
                  <a:srgbClr val="66ffff"/>
                </a:solidFill>
                <a:latin typeface="Arial"/>
              </a:rPr>
              <a:t>令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坚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活    </a:t>
            </a:r>
            <a:r>
              <a:rPr b="0" lang="zh-CN" sz="4000" spc="-1" strike="noStrike">
                <a:solidFill>
                  <a:srgbClr val="66ffff"/>
                </a:solidFill>
                <a:latin typeface="Arial"/>
              </a:rPr>
              <a:t>板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5940360" y="333360"/>
            <a:ext cx="53496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68250"/>
              <a:gd name="adj5" fmla="val 95254"/>
              <a:gd name="adj6" fmla="val -12818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版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527280" y="1521000"/>
            <a:ext cx="53496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33236"/>
              <a:gd name="adj5" fmla="val 148615"/>
              <a:gd name="adj6" fmla="val 15281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4392720" y="2565360"/>
            <a:ext cx="53496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78337"/>
              <a:gd name="adj5" fmla="val 137550"/>
              <a:gd name="adj6" fmla="val -14362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335640" y="3213000"/>
            <a:ext cx="53496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60828"/>
              <a:gd name="adj5" fmla="val 178657"/>
              <a:gd name="adj6" fmla="val -10919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发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7056360" y="4437000"/>
            <a:ext cx="53496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50740"/>
              <a:gd name="adj5" fmla="val 106717"/>
              <a:gd name="adj6" fmla="val 18753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5977080" y="1557360"/>
            <a:ext cx="129060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30379"/>
              <a:gd name="adj5" fmla="val 124111"/>
              <a:gd name="adj6" fmla="val -5510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大规模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2592360" y="3537000"/>
            <a:ext cx="53496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51634"/>
              <a:gd name="adj5" fmla="val -12254"/>
              <a:gd name="adj6" fmla="val -8961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以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2016000" y="5516640"/>
            <a:ext cx="6588360" cy="900000"/>
          </a:xfrm>
          <a:prstGeom prst="borderCallout2">
            <a:avLst>
              <a:gd name="adj1" fmla="val 18750"/>
              <a:gd name="adj2" fmla="val -8333"/>
              <a:gd name="adj3" fmla="val 12699"/>
              <a:gd name="adj4" fmla="val -7925"/>
              <a:gd name="adj5" fmla="val -226629"/>
              <a:gd name="adj6" fmla="val -1472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 “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五经”是儒教的五种基本经典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易经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》《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书经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》《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诗经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》《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礼记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》《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春秋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的总称。 常与“四书”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大学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》《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中庸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》《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论语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》《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孟子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》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合称“四书五经”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8712360" y="6489720"/>
            <a:ext cx="431640" cy="368280"/>
          </a:xfrm>
          <a:custGeom>
            <a:avLst/>
            <a:gdLst>
              <a:gd name="textAreaLeft" fmla="*/ 23760 w 431640"/>
              <a:gd name="textAreaRight" fmla="*/ 407880 w 43164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5313" h="21600">
                <a:moveTo>
                  <a:pt x="0" y="0"/>
                </a:moveTo>
                <a:lnTo>
                  <a:pt x="25313" y="0"/>
                </a:lnTo>
                <a:lnTo>
                  <a:pt x="25313" y="21600"/>
                </a:lnTo>
                <a:lnTo>
                  <a:pt x="0" y="21600"/>
                </a:lnTo>
                <a:close/>
              </a:path>
              <a:path fill="lightenLess" w="25313" h="21600">
                <a:moveTo>
                  <a:pt x="0" y="0"/>
                </a:moveTo>
                <a:lnTo>
                  <a:pt x="25313" y="0"/>
                </a:lnTo>
                <a:lnTo>
                  <a:pt x="23913" y="1400"/>
                </a:lnTo>
                <a:lnTo>
                  <a:pt x="1400" y="1400"/>
                </a:lnTo>
                <a:close/>
              </a:path>
              <a:path fill="darken" w="25313" h="21600">
                <a:moveTo>
                  <a:pt x="25313" y="0"/>
                </a:moveTo>
                <a:lnTo>
                  <a:pt x="25313" y="21600"/>
                </a:lnTo>
                <a:lnTo>
                  <a:pt x="23913" y="20200"/>
                </a:lnTo>
                <a:lnTo>
                  <a:pt x="23913" y="1400"/>
                </a:lnTo>
                <a:close/>
              </a:path>
              <a:path fill="darkenLess" w="25313" h="21600">
                <a:moveTo>
                  <a:pt x="25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13" y="20200"/>
                </a:lnTo>
                <a:close/>
              </a:path>
              <a:path fill="lighten" w="25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13" h="21600">
                <a:moveTo>
                  <a:pt x="1265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313" h="21600">
                <a:moveTo>
                  <a:pt x="1265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313" h="21600">
                <a:moveTo>
                  <a:pt x="10080" y="8224"/>
                </a:moveTo>
                <a:lnTo>
                  <a:pt x="13944" y="8224"/>
                </a:lnTo>
                <a:lnTo>
                  <a:pt x="13944" y="15221"/>
                </a:lnTo>
                <a:lnTo>
                  <a:pt x="15233" y="15221"/>
                </a:lnTo>
                <a:lnTo>
                  <a:pt x="15233" y="16144"/>
                </a:lnTo>
                <a:lnTo>
                  <a:pt x="10080" y="16144"/>
                </a:lnTo>
                <a:lnTo>
                  <a:pt x="10080" y="15221"/>
                </a:lnTo>
                <a:lnTo>
                  <a:pt x="11368" y="15221"/>
                </a:lnTo>
                <a:lnTo>
                  <a:pt x="11368" y="9129"/>
                </a:lnTo>
                <a:lnTo>
                  <a:pt x="10080" y="9129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"/>
                            </p:stCondLst>
                            <p:childTnLst>
                              <p:par>
                                <p:cTn id="1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"/>
                            </p:stCondLst>
                            <p:childTnLst>
                              <p:par>
                                <p:cTn id="1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0920" y="297000"/>
            <a:ext cx="8540640" cy="62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先设一铁板，其上以松脂、蜡</a:t>
            </a:r>
            <a:r>
              <a:rPr b="0" lang="zh-CN" sz="3000" spc="-1" strike="noStrike">
                <a:solidFill>
                  <a:srgbClr val="66ffff"/>
                </a:solidFill>
                <a:latin typeface="Arial"/>
              </a:rPr>
              <a:t>和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纸灰之类</a:t>
            </a:r>
            <a:r>
              <a:rPr b="0" lang="zh-CN" sz="3000" spc="-1" strike="noStrike">
                <a:solidFill>
                  <a:srgbClr val="66ffff"/>
                </a:solidFill>
                <a:latin typeface="Arial"/>
              </a:rPr>
              <a:t>冒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之。欲印，则以一铁范置铁板上，</a:t>
            </a:r>
            <a:r>
              <a:rPr b="0" lang="zh-CN" sz="3000" spc="-1" strike="noStrike">
                <a:solidFill>
                  <a:srgbClr val="66ffff"/>
                </a:solidFill>
                <a:latin typeface="Arial"/>
              </a:rPr>
              <a:t>乃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密布字印，满铁范为一板，持</a:t>
            </a:r>
            <a:r>
              <a:rPr b="0" lang="zh-CN" sz="3000" spc="-1" strike="noStrike">
                <a:solidFill>
                  <a:srgbClr val="66ffff"/>
                </a:solidFill>
                <a:latin typeface="Arial"/>
              </a:rPr>
              <a:t>就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火</a:t>
            </a:r>
            <a:r>
              <a:rPr b="0" lang="zh-CN" sz="3000" spc="-1" strike="noStrike">
                <a:solidFill>
                  <a:srgbClr val="66ffff"/>
                </a:solidFill>
                <a:latin typeface="Arial"/>
              </a:rPr>
              <a:t>炀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之；</a:t>
            </a:r>
            <a:r>
              <a:rPr b="0" lang="zh-CN" sz="3000" spc="-1" strike="noStrike">
                <a:solidFill>
                  <a:srgbClr val="66ffff"/>
                </a:solidFill>
                <a:latin typeface="Arial"/>
              </a:rPr>
              <a:t>药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稍熔，则以一平板按其面，则字平如</a:t>
            </a:r>
            <a:r>
              <a:rPr b="0" lang="zh-CN" sz="3000" spc="-1" strike="noStrike">
                <a:solidFill>
                  <a:srgbClr val="66ffff"/>
                </a:solidFill>
                <a:latin typeface="Arial"/>
              </a:rPr>
              <a:t>砥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。若</a:t>
            </a:r>
            <a:r>
              <a:rPr b="0" lang="zh-CN" sz="3000" spc="-1" strike="noStrike">
                <a:solidFill>
                  <a:srgbClr val="66ffff"/>
                </a:solidFill>
                <a:latin typeface="Arial"/>
              </a:rPr>
              <a:t>止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印三二本，未为</a:t>
            </a:r>
            <a:r>
              <a:rPr b="0" lang="zh-CN" sz="3000" spc="-1" strike="noStrike" u="sng">
                <a:solidFill>
                  <a:srgbClr val="66ffff"/>
                </a:solidFill>
                <a:uFillTx/>
                <a:latin typeface="Arial"/>
              </a:rPr>
              <a:t>简易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；若印数十百千本，则极为神速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3816360" y="2852640"/>
            <a:ext cx="914400" cy="366840"/>
          </a:xfrm>
          <a:prstGeom prst="borderCallout2">
            <a:avLst>
              <a:gd name="adj1" fmla="val 18750"/>
              <a:gd name="adj2" fmla="val -8333"/>
              <a:gd name="adj3" fmla="val 31166"/>
              <a:gd name="adj4" fmla="val -31944"/>
              <a:gd name="adj5" fmla="val 129435"/>
              <a:gd name="adj6" fmla="val -5677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靠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6335640" y="1557360"/>
            <a:ext cx="1260720" cy="395280"/>
          </a:xfrm>
          <a:prstGeom prst="borderCallout2">
            <a:avLst>
              <a:gd name="adj1" fmla="val 18750"/>
              <a:gd name="adj2" fmla="val -8333"/>
              <a:gd name="adj3" fmla="val 28916"/>
              <a:gd name="adj4" fmla="val -21412"/>
              <a:gd name="adj5" fmla="val 151805"/>
              <a:gd name="adj6" fmla="val -3753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于是，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6227640" y="476280"/>
            <a:ext cx="9144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27953"/>
              <a:gd name="adj5" fmla="val 139208"/>
              <a:gd name="adj6" fmla="val -4861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混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7920000" y="441360"/>
            <a:ext cx="9144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20662"/>
              <a:gd name="adj5" fmla="val 139208"/>
              <a:gd name="adj6" fmla="val -3350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覆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5219640" y="4976640"/>
            <a:ext cx="64764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43870"/>
              <a:gd name="adj5" fmla="val -23347"/>
              <a:gd name="adj6" fmla="val -772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只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4572000" y="3860640"/>
            <a:ext cx="61272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58032"/>
              <a:gd name="adj5" fmla="val -47134"/>
              <a:gd name="adj6" fmla="val -10647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5616720" y="2816280"/>
            <a:ext cx="273672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9337"/>
              <a:gd name="adj5" fmla="val 139208"/>
              <a:gd name="adj6" fmla="val -1624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指蜡、纸灰之类的东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1763640" y="5049720"/>
            <a:ext cx="117468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27972"/>
              <a:gd name="adj5" fmla="val -39648"/>
              <a:gd name="adj6" fmla="val 1506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磨刀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6696000" y="4976640"/>
            <a:ext cx="9144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21009"/>
              <a:gd name="adj5" fmla="val -39648"/>
              <a:gd name="adj6" fmla="val 1345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简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8712360" y="6489720"/>
            <a:ext cx="431640" cy="368280"/>
          </a:xfrm>
          <a:custGeom>
            <a:avLst/>
            <a:gdLst>
              <a:gd name="textAreaLeft" fmla="*/ 23760 w 431640"/>
              <a:gd name="textAreaRight" fmla="*/ 407880 w 43164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5313" h="21600">
                <a:moveTo>
                  <a:pt x="0" y="0"/>
                </a:moveTo>
                <a:lnTo>
                  <a:pt x="25313" y="0"/>
                </a:lnTo>
                <a:lnTo>
                  <a:pt x="25313" y="21600"/>
                </a:lnTo>
                <a:lnTo>
                  <a:pt x="0" y="21600"/>
                </a:lnTo>
                <a:close/>
              </a:path>
              <a:path fill="lightenLess" w="25313" h="21600">
                <a:moveTo>
                  <a:pt x="0" y="0"/>
                </a:moveTo>
                <a:lnTo>
                  <a:pt x="25313" y="0"/>
                </a:lnTo>
                <a:lnTo>
                  <a:pt x="23913" y="1400"/>
                </a:lnTo>
                <a:lnTo>
                  <a:pt x="1400" y="1400"/>
                </a:lnTo>
                <a:close/>
              </a:path>
              <a:path fill="darken" w="25313" h="21600">
                <a:moveTo>
                  <a:pt x="25313" y="0"/>
                </a:moveTo>
                <a:lnTo>
                  <a:pt x="25313" y="21600"/>
                </a:lnTo>
                <a:lnTo>
                  <a:pt x="23913" y="20200"/>
                </a:lnTo>
                <a:lnTo>
                  <a:pt x="23913" y="1400"/>
                </a:lnTo>
                <a:close/>
              </a:path>
              <a:path fill="darkenLess" w="25313" h="21600">
                <a:moveTo>
                  <a:pt x="25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13" y="20200"/>
                </a:lnTo>
                <a:close/>
              </a:path>
              <a:path fill="lighten" w="25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13" h="21600">
                <a:moveTo>
                  <a:pt x="1265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313" h="21600">
                <a:moveTo>
                  <a:pt x="1265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313" h="21600">
                <a:moveTo>
                  <a:pt x="10080" y="8224"/>
                </a:moveTo>
                <a:lnTo>
                  <a:pt x="13944" y="8224"/>
                </a:lnTo>
                <a:lnTo>
                  <a:pt x="13944" y="15221"/>
                </a:lnTo>
                <a:lnTo>
                  <a:pt x="15233" y="15221"/>
                </a:lnTo>
                <a:lnTo>
                  <a:pt x="15233" y="16144"/>
                </a:lnTo>
                <a:lnTo>
                  <a:pt x="10080" y="16144"/>
                </a:lnTo>
                <a:lnTo>
                  <a:pt x="10080" y="15221"/>
                </a:lnTo>
                <a:lnTo>
                  <a:pt x="11368" y="15221"/>
                </a:lnTo>
                <a:lnTo>
                  <a:pt x="11368" y="9129"/>
                </a:lnTo>
                <a:lnTo>
                  <a:pt x="10080" y="9129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50920" y="404640"/>
            <a:ext cx="8540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常作二铁板，一板印刷，一板已自布字，此印者才毕，则第二板已</a:t>
            </a:r>
            <a:r>
              <a:rPr b="0" lang="zh-CN" sz="2800" spc="-1" strike="noStrike">
                <a:solidFill>
                  <a:srgbClr val="66ffff"/>
                </a:solidFill>
                <a:latin typeface="Arial"/>
              </a:rPr>
              <a:t>具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，</a:t>
            </a:r>
            <a:r>
              <a:rPr b="0" lang="zh-CN" sz="2800" spc="-1" strike="noStrike" u="sng">
                <a:solidFill>
                  <a:srgbClr val="66ffff"/>
                </a:solidFill>
                <a:uFillTx/>
                <a:latin typeface="Arial"/>
              </a:rPr>
              <a:t>更互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用之，瞬息可</a:t>
            </a:r>
            <a:r>
              <a:rPr b="0" lang="zh-CN" sz="2800" spc="-1" strike="noStrike">
                <a:solidFill>
                  <a:srgbClr val="66ffff"/>
                </a:solidFill>
                <a:latin typeface="Arial"/>
              </a:rPr>
              <a:t>就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。每一字皆有数印，如“之”“也”等字，每字有二十余印，以</a:t>
            </a:r>
            <a:r>
              <a:rPr b="0" lang="zh-CN" sz="2800" spc="-1" strike="noStrike">
                <a:solidFill>
                  <a:srgbClr val="66ffff"/>
                </a:solidFill>
                <a:latin typeface="Arial"/>
              </a:rPr>
              <a:t>备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一板内有重复者。不用，则以纸</a:t>
            </a:r>
            <a:r>
              <a:rPr b="0" lang="zh-CN" sz="2800" spc="-1" strike="noStrike">
                <a:solidFill>
                  <a:srgbClr val="66ffff"/>
                </a:solidFill>
                <a:latin typeface="Arial"/>
              </a:rPr>
              <a:t>帖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之，每韵为一</a:t>
            </a:r>
            <a:r>
              <a:rPr b="0" lang="zh-CN" sz="2800" spc="-1" strike="noStrike">
                <a:solidFill>
                  <a:srgbClr val="66ffff"/>
                </a:solidFill>
                <a:latin typeface="Arial"/>
              </a:rPr>
              <a:t>帖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，</a:t>
            </a:r>
            <a:r>
              <a:rPr b="0" lang="zh-CN" sz="2800" spc="-1" strike="noStrike" u="sng">
                <a:solidFill>
                  <a:srgbClr val="66ffff"/>
                </a:solidFill>
                <a:uFillTx/>
                <a:latin typeface="Arial"/>
              </a:rPr>
              <a:t>木格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贮之。有</a:t>
            </a:r>
            <a:r>
              <a:rPr b="0" lang="zh-CN" sz="2800" spc="-1" strike="noStrike">
                <a:solidFill>
                  <a:srgbClr val="66ffff"/>
                </a:solidFill>
                <a:latin typeface="Arial"/>
              </a:rPr>
              <a:t>奇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字</a:t>
            </a:r>
            <a:r>
              <a:rPr b="0" lang="zh-CN" sz="2800" spc="-1" strike="noStrike">
                <a:solidFill>
                  <a:srgbClr val="66ffff"/>
                </a:solidFill>
                <a:latin typeface="Arial"/>
              </a:rPr>
              <a:t>素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无备者，</a:t>
            </a:r>
            <a:r>
              <a:rPr b="0" lang="zh-CN" sz="2800" spc="-1" strike="noStrike">
                <a:solidFill>
                  <a:srgbClr val="66ffff"/>
                </a:solidFill>
                <a:latin typeface="Arial"/>
              </a:rPr>
              <a:t>旋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刻之，以草火烧，瞬息可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1440000" y="1341360"/>
            <a:ext cx="110808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37537"/>
              <a:gd name="adj5" fmla="val 156828"/>
              <a:gd name="adj6" fmla="val 169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准备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4932360" y="1449360"/>
            <a:ext cx="7920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46694"/>
              <a:gd name="adj5" fmla="val 114097"/>
              <a:gd name="adj6" fmla="val -8497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交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7201080" y="1376280"/>
            <a:ext cx="7920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27453"/>
              <a:gd name="adj5" fmla="val 152421"/>
              <a:gd name="adj6" fmla="val -4568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完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7093080" y="2384280"/>
            <a:ext cx="7920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34870"/>
              <a:gd name="adj5" fmla="val 106606"/>
              <a:gd name="adj6" fmla="val 16112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防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3708360" y="3321000"/>
            <a:ext cx="16113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18425"/>
              <a:gd name="adj5" fmla="val 141851"/>
              <a:gd name="adj6" fmla="val 13261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用标签标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1258920" y="4292640"/>
            <a:ext cx="7920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23046"/>
              <a:gd name="adj5" fmla="val 100000"/>
              <a:gd name="adj6" fmla="val -368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类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2195640" y="5192640"/>
            <a:ext cx="10080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25513"/>
              <a:gd name="adj5" fmla="val -40527"/>
              <a:gd name="adj6" fmla="val -4393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用木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4392720" y="4257720"/>
            <a:ext cx="230328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16060"/>
              <a:gd name="adj5" fmla="val 114097"/>
              <a:gd name="adj6" fmla="val -2922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生僻的，不常用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4788000" y="5192640"/>
            <a:ext cx="7920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28458"/>
              <a:gd name="adj5" fmla="val -38324"/>
              <a:gd name="adj6" fmla="val -476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平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6804000" y="5192640"/>
            <a:ext cx="7923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39078"/>
              <a:gd name="adj5" fmla="val -38324"/>
              <a:gd name="adj6" fmla="val -6953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立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8712360" y="6489720"/>
            <a:ext cx="431640" cy="368280"/>
          </a:xfrm>
          <a:custGeom>
            <a:avLst/>
            <a:gdLst>
              <a:gd name="textAreaLeft" fmla="*/ 23760 w 431640"/>
              <a:gd name="textAreaRight" fmla="*/ 407880 w 43164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5313" h="21600">
                <a:moveTo>
                  <a:pt x="0" y="0"/>
                </a:moveTo>
                <a:lnTo>
                  <a:pt x="25313" y="0"/>
                </a:lnTo>
                <a:lnTo>
                  <a:pt x="25313" y="21600"/>
                </a:lnTo>
                <a:lnTo>
                  <a:pt x="0" y="21600"/>
                </a:lnTo>
                <a:close/>
              </a:path>
              <a:path fill="lightenLess" w="25313" h="21600">
                <a:moveTo>
                  <a:pt x="0" y="0"/>
                </a:moveTo>
                <a:lnTo>
                  <a:pt x="25313" y="0"/>
                </a:lnTo>
                <a:lnTo>
                  <a:pt x="23913" y="1400"/>
                </a:lnTo>
                <a:lnTo>
                  <a:pt x="1400" y="1400"/>
                </a:lnTo>
                <a:close/>
              </a:path>
              <a:path fill="darken" w="25313" h="21600">
                <a:moveTo>
                  <a:pt x="25313" y="0"/>
                </a:moveTo>
                <a:lnTo>
                  <a:pt x="25313" y="21600"/>
                </a:lnTo>
                <a:lnTo>
                  <a:pt x="23913" y="20200"/>
                </a:lnTo>
                <a:lnTo>
                  <a:pt x="23913" y="1400"/>
                </a:lnTo>
                <a:close/>
              </a:path>
              <a:path fill="darkenLess" w="25313" h="21600">
                <a:moveTo>
                  <a:pt x="25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13" y="20200"/>
                </a:lnTo>
                <a:close/>
              </a:path>
              <a:path fill="lighten" w="25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13" h="21600">
                <a:moveTo>
                  <a:pt x="1265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313" h="21600">
                <a:moveTo>
                  <a:pt x="1265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313" h="21600">
                <a:moveTo>
                  <a:pt x="10080" y="8224"/>
                </a:moveTo>
                <a:lnTo>
                  <a:pt x="13944" y="8224"/>
                </a:lnTo>
                <a:lnTo>
                  <a:pt x="13944" y="15221"/>
                </a:lnTo>
                <a:lnTo>
                  <a:pt x="15233" y="15221"/>
                </a:lnTo>
                <a:lnTo>
                  <a:pt x="15233" y="16144"/>
                </a:lnTo>
                <a:lnTo>
                  <a:pt x="10080" y="16144"/>
                </a:lnTo>
                <a:lnTo>
                  <a:pt x="10080" y="15221"/>
                </a:lnTo>
                <a:lnTo>
                  <a:pt x="11368" y="15221"/>
                </a:lnTo>
                <a:lnTo>
                  <a:pt x="11368" y="9129"/>
                </a:lnTo>
                <a:lnTo>
                  <a:pt x="10080" y="9129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539640" y="512640"/>
            <a:ext cx="837576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66"/>
                </a:solidFill>
                <a:latin typeface="Times New Roman"/>
              </a:rPr>
              <a:t>不以木为之</a:t>
            </a:r>
            <a:r>
              <a:rPr b="0" lang="zh-CN" sz="3000" spc="-1" strike="noStrike">
                <a:solidFill>
                  <a:srgbClr val="66ffff"/>
                </a:solidFill>
                <a:latin typeface="Times New Roman"/>
              </a:rPr>
              <a:t>者</a:t>
            </a:r>
            <a:r>
              <a:rPr b="0" lang="zh-CN" sz="3000" spc="-1" strike="noStrike">
                <a:solidFill>
                  <a:srgbClr val="ffff66"/>
                </a:solidFill>
                <a:latin typeface="Times New Roman"/>
              </a:rPr>
              <a:t>，</a:t>
            </a:r>
            <a:r>
              <a:rPr b="0" lang="zh-CN" sz="3000" spc="-1" strike="noStrike">
                <a:solidFill>
                  <a:srgbClr val="66ffff"/>
                </a:solidFill>
                <a:latin typeface="Times New Roman"/>
              </a:rPr>
              <a:t>文理</a:t>
            </a:r>
            <a:r>
              <a:rPr b="0" lang="zh-CN" sz="3000" spc="-1" strike="noStrike">
                <a:solidFill>
                  <a:srgbClr val="ffff66"/>
                </a:solidFill>
                <a:latin typeface="Times New Roman"/>
              </a:rPr>
              <a:t>有疏密，沾水则高下不平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66ffff"/>
                </a:solidFill>
                <a:latin typeface="Times New Roman"/>
              </a:rPr>
              <a:t>兼</a:t>
            </a:r>
            <a:r>
              <a:rPr b="0" lang="zh-CN" sz="3000" spc="-1" strike="noStrike">
                <a:solidFill>
                  <a:srgbClr val="ffff66"/>
                </a:solidFill>
                <a:latin typeface="Times New Roman"/>
              </a:rPr>
              <a:t>与药相粘，不可取；</a:t>
            </a:r>
            <a:r>
              <a:rPr b="0" lang="zh-CN" sz="3000" spc="-1" strike="noStrike" u="sng">
                <a:solidFill>
                  <a:srgbClr val="66ffff"/>
                </a:solidFill>
                <a:uFillTx/>
                <a:latin typeface="Times New Roman"/>
              </a:rPr>
              <a:t>不若</a:t>
            </a:r>
            <a:r>
              <a:rPr b="0" lang="zh-CN" sz="3000" spc="-1" strike="noStrike">
                <a:solidFill>
                  <a:srgbClr val="66ffff"/>
                </a:solidFill>
                <a:latin typeface="Times New Roman"/>
              </a:rPr>
              <a:t>燔</a:t>
            </a:r>
            <a:r>
              <a:rPr b="0" lang="zh-CN" sz="3000" spc="-1" strike="noStrike">
                <a:solidFill>
                  <a:srgbClr val="ffff66"/>
                </a:solidFill>
                <a:latin typeface="Times New Roman"/>
              </a:rPr>
              <a:t>土，用</a:t>
            </a:r>
            <a:r>
              <a:rPr b="0" lang="zh-CN" sz="3000" spc="-1" strike="noStrike">
                <a:solidFill>
                  <a:srgbClr val="66ffff"/>
                </a:solidFill>
                <a:latin typeface="Times New Roman"/>
              </a:rPr>
              <a:t>讫</a:t>
            </a:r>
            <a:r>
              <a:rPr b="0" lang="zh-CN" sz="3000" spc="-1" strike="noStrike">
                <a:solidFill>
                  <a:srgbClr val="ffff66"/>
                </a:solidFill>
                <a:latin typeface="Times New Roman"/>
              </a:rPr>
              <a:t>再火令药熔，以手拂之，其印自落，</a:t>
            </a:r>
            <a:r>
              <a:rPr b="0" lang="zh-CN" sz="3000" spc="-1" strike="noStrike" u="sng">
                <a:solidFill>
                  <a:srgbClr val="66ffff"/>
                </a:solidFill>
                <a:uFillTx/>
                <a:latin typeface="Times New Roman"/>
              </a:rPr>
              <a:t>殊不</a:t>
            </a:r>
            <a:r>
              <a:rPr b="0" lang="zh-CN" sz="3000" spc="-1" strike="noStrike">
                <a:solidFill>
                  <a:srgbClr val="ffff66"/>
                </a:solidFill>
                <a:latin typeface="Times New Roman"/>
              </a:rPr>
              <a:t>沾污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升死，其印</a:t>
            </a:r>
            <a:r>
              <a:rPr b="0" lang="zh-CN" sz="3000" spc="-1" strike="noStrike">
                <a:solidFill>
                  <a:srgbClr val="66ffff"/>
                </a:solidFill>
                <a:latin typeface="Arial"/>
              </a:rPr>
              <a:t>为予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群</a:t>
            </a:r>
            <a:r>
              <a:rPr b="0" lang="zh-CN" sz="3000" spc="-1" strike="noStrike">
                <a:solidFill>
                  <a:srgbClr val="66ffff"/>
                </a:solidFill>
                <a:latin typeface="Arial"/>
              </a:rPr>
              <a:t>从</a:t>
            </a:r>
            <a:r>
              <a:rPr b="0" lang="zh-CN" sz="3000" spc="-1" strike="noStrike">
                <a:solidFill>
                  <a:srgbClr val="ffff66"/>
                </a:solidFill>
                <a:latin typeface="Arial"/>
              </a:rPr>
              <a:t>所得，至今保藏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1116000" y="728640"/>
            <a:ext cx="100008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34763"/>
              <a:gd name="adj5" fmla="val 131717"/>
              <a:gd name="adj6" fmla="val 16285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的原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427640" y="728640"/>
            <a:ext cx="162072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23703"/>
              <a:gd name="adj5" fmla="val 137884"/>
              <a:gd name="adj6" fmla="val -4329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纹理，质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1763640" y="1844640"/>
            <a:ext cx="7923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64930"/>
              <a:gd name="adj5" fmla="val 143171"/>
              <a:gd name="adj6" fmla="val -1220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加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3311640" y="1881360"/>
            <a:ext cx="10443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25986"/>
              <a:gd name="adj5" fmla="val 125550"/>
              <a:gd name="adj6" fmla="val 14528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比不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5867280" y="1881360"/>
            <a:ext cx="4320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62865"/>
              <a:gd name="adj5" fmla="val 129953"/>
              <a:gd name="adj6" fmla="val -10956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7524720" y="1881360"/>
            <a:ext cx="39528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90763"/>
              <a:gd name="adj5" fmla="val 144935"/>
              <a:gd name="adj6" fmla="val -16465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3600360" y="2997360"/>
            <a:ext cx="129564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28800"/>
              <a:gd name="adj5" fmla="val 136564"/>
              <a:gd name="adj6" fmla="val 1523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一点也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2411280" y="4041720"/>
            <a:ext cx="46044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84828"/>
              <a:gd name="adj5" fmla="val 148018"/>
              <a:gd name="adj6" fmla="val 25551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2735280" y="5157720"/>
            <a:ext cx="7920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32666"/>
              <a:gd name="adj5" fmla="val -86342"/>
              <a:gd name="adj6" fmla="val 15631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我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5364000" y="4113360"/>
            <a:ext cx="309744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11481"/>
              <a:gd name="adj5" fmla="val 137884"/>
              <a:gd name="adj6" fmla="val -2081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</a:rPr>
              <a:t>次于最亲的亲属，弟侄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8712360" y="6489720"/>
            <a:ext cx="431640" cy="368280"/>
          </a:xfrm>
          <a:custGeom>
            <a:avLst/>
            <a:gdLst>
              <a:gd name="textAreaLeft" fmla="*/ 23760 w 431640"/>
              <a:gd name="textAreaRight" fmla="*/ 407880 w 43164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5313" h="21600">
                <a:moveTo>
                  <a:pt x="0" y="0"/>
                </a:moveTo>
                <a:lnTo>
                  <a:pt x="25313" y="0"/>
                </a:lnTo>
                <a:lnTo>
                  <a:pt x="25313" y="21600"/>
                </a:lnTo>
                <a:lnTo>
                  <a:pt x="0" y="21600"/>
                </a:lnTo>
                <a:close/>
              </a:path>
              <a:path fill="lightenLess" w="25313" h="21600">
                <a:moveTo>
                  <a:pt x="0" y="0"/>
                </a:moveTo>
                <a:lnTo>
                  <a:pt x="25313" y="0"/>
                </a:lnTo>
                <a:lnTo>
                  <a:pt x="23913" y="1400"/>
                </a:lnTo>
                <a:lnTo>
                  <a:pt x="1400" y="1400"/>
                </a:lnTo>
                <a:close/>
              </a:path>
              <a:path fill="darken" w="25313" h="21600">
                <a:moveTo>
                  <a:pt x="25313" y="0"/>
                </a:moveTo>
                <a:lnTo>
                  <a:pt x="25313" y="21600"/>
                </a:lnTo>
                <a:lnTo>
                  <a:pt x="23913" y="20200"/>
                </a:lnTo>
                <a:lnTo>
                  <a:pt x="23913" y="1400"/>
                </a:lnTo>
                <a:close/>
              </a:path>
              <a:path fill="darkenLess" w="25313" h="21600">
                <a:moveTo>
                  <a:pt x="25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13" y="20200"/>
                </a:lnTo>
                <a:close/>
              </a:path>
              <a:path fill="lighten" w="25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13" h="21600">
                <a:moveTo>
                  <a:pt x="1265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313" h="21600">
                <a:moveTo>
                  <a:pt x="1265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313" h="21600">
                <a:moveTo>
                  <a:pt x="10080" y="8224"/>
                </a:moveTo>
                <a:lnTo>
                  <a:pt x="13944" y="8224"/>
                </a:lnTo>
                <a:lnTo>
                  <a:pt x="13944" y="15221"/>
                </a:lnTo>
                <a:lnTo>
                  <a:pt x="15233" y="15221"/>
                </a:lnTo>
                <a:lnTo>
                  <a:pt x="15233" y="16144"/>
                </a:lnTo>
                <a:lnTo>
                  <a:pt x="10080" y="16144"/>
                </a:lnTo>
                <a:lnTo>
                  <a:pt x="10080" y="15221"/>
                </a:lnTo>
                <a:lnTo>
                  <a:pt x="11368" y="15221"/>
                </a:lnTo>
                <a:lnTo>
                  <a:pt x="11368" y="9129"/>
                </a:lnTo>
                <a:lnTo>
                  <a:pt x="10080" y="9129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3:12:57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8T08:41:36Z</dcterms:modified>
  <cp:revision>3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